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3.png" ContentType="image/png"/>
  <Override PartName="/ppt/media/image21.png" ContentType="image/png"/>
  <Override PartName="/ppt/media/image19.jpeg" ContentType="image/jpeg"/>
  <Override PartName="/ppt/media/image28.jpeg" ContentType="image/jpeg"/>
  <Override PartName="/ppt/media/image18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png" ContentType="image/png"/>
  <Override PartName="/ppt/media/image17.jpeg" ContentType="image/jpe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DBE-F252-4CC0-967E-E0CD8B31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A54-1E24-445A-84F7-65F410B6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106-722C-4587-B140-CDD1A787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599-DCA5-4B57-8A59-F3D918D6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1A5-7E1D-489D-A3C1-B46B1390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D5B-E8D5-4470-94E5-3820CF90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C85-3CF4-48E9-BEA9-1DF91E6B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383-42CC-4A17-A2D5-DE41A45D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A18-FABB-4F84-A76E-A61C87B1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314-7C7A-46FB-8474-E9A8532F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3B9-1CC9-4F8A-B4D7-AC7682D5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4C9-5B37-449E-BBB4-C1E76F34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07F7-136D-4647-A487-94372A38AC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застав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024000" y="4436640"/>
            <a:ext cx="554004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горчаков-александр-михайлов"/>
          <p:cNvPicPr/>
          <p:nvPr/>
        </p:nvPicPr>
        <p:blipFill>
          <a:blip r:embed="rId2"/>
          <a:stretch/>
        </p:blipFill>
        <p:spPr>
          <a:xfrm>
            <a:off x="2340000" y="7920"/>
            <a:ext cx="5186160" cy="75564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9"/>
          <p:cNvGrpSpPr/>
          <p:nvPr/>
        </p:nvGrpSpPr>
        <p:grpSpPr>
          <a:xfrm>
            <a:off x="7380360" y="3689280"/>
            <a:ext cx="1584360" cy="2224440"/>
            <a:chOff x="7380360" y="3689280"/>
            <a:chExt cx="1584360" cy="2224440"/>
          </a:xfrm>
        </p:grpSpPr>
        <p:pic>
          <p:nvPicPr>
            <p:cNvPr id="108" name="Picture 4" descr=""/>
            <p:cNvPicPr/>
            <p:nvPr/>
          </p:nvPicPr>
          <p:blipFill>
            <a:blip r:embed="rId3"/>
            <a:stretch/>
          </p:blipFill>
          <p:spPr>
            <a:xfrm>
              <a:off x="7451640" y="3689280"/>
              <a:ext cx="1208160" cy="16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6"/>
            <p:cNvSpPr/>
            <p:nvPr/>
          </p:nvSpPr>
          <p:spPr>
            <a:xfrm>
              <a:off x="7380360" y="5271840"/>
              <a:ext cx="1584360" cy="641880"/>
            </a:xfrm>
            <a:prstGeom prst="rect">
              <a:avLst/>
            </a:prstGeom>
            <a:gradFill rotWithShape="0">
              <a:gsLst>
                <a:gs pos="0">
                  <a:srgbClr val="bd9481">
                    <a:alpha val="7058"/>
                  </a:srgbClr>
                </a:gs>
                <a:gs pos="100000">
                  <a:srgbClr val="ffffff">
                    <a:alpha val="2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Times New Roman"/>
                </a:rPr>
                <a:t>Профиль А. Горчакова, нарисованный Пушкиным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0"/>
          <p:cNvGrpSpPr/>
          <p:nvPr/>
        </p:nvGrpSpPr>
        <p:grpSpPr>
          <a:xfrm>
            <a:off x="7308720" y="800280"/>
            <a:ext cx="1584360" cy="2373120"/>
            <a:chOff x="7308720" y="800280"/>
            <a:chExt cx="1584360" cy="2373120"/>
          </a:xfrm>
        </p:grpSpPr>
        <p:pic>
          <p:nvPicPr>
            <p:cNvPr id="111" name="Picture 7" descr=""/>
            <p:cNvPicPr/>
            <p:nvPr/>
          </p:nvPicPr>
          <p:blipFill>
            <a:blip r:embed="rId4"/>
            <a:stretch/>
          </p:blipFill>
          <p:spPr>
            <a:xfrm>
              <a:off x="7416720" y="800280"/>
              <a:ext cx="1276560" cy="1866600"/>
            </a:xfrm>
            <a:prstGeom prst="rect">
              <a:avLst/>
            </a:prstGeom>
            <a:ln w="9360">
              <a:solidFill>
                <a:srgbClr val="bd9481"/>
              </a:solidFill>
              <a:miter/>
            </a:ln>
          </p:spPr>
        </p:pic>
        <p:sp>
          <p:nvSpPr>
            <p:cNvPr id="112" name="Rectangle 8"/>
            <p:cNvSpPr/>
            <p:nvPr/>
          </p:nvSpPr>
          <p:spPr>
            <a:xfrm>
              <a:off x="7308720" y="2744640"/>
              <a:ext cx="1584360" cy="428760"/>
            </a:xfrm>
            <a:prstGeom prst="rect">
              <a:avLst/>
            </a:prstGeom>
            <a:gradFill rotWithShape="0">
              <a:gsLst>
                <a:gs pos="0">
                  <a:srgbClr val="bd9481">
                    <a:alpha val="7058"/>
                  </a:srgbClr>
                </a:gs>
                <a:gs pos="100000">
                  <a:srgbClr val="ffffff">
                    <a:alpha val="2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Times New Roman"/>
                </a:rPr>
                <a:t>Лицейский рисунок Горчаков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13" descr="горчаков"/>
          <p:cNvPicPr/>
          <p:nvPr/>
        </p:nvPicPr>
        <p:blipFill>
          <a:blip r:embed="rId5"/>
          <a:stretch/>
        </p:blipFill>
        <p:spPr>
          <a:xfrm>
            <a:off x="576360" y="333360"/>
            <a:ext cx="2184480" cy="280836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</p:pic>
      <p:sp>
        <p:nvSpPr>
          <p:cNvPr id="114" name="AutoShape 19"/>
          <p:cNvSpPr/>
          <p:nvPr/>
        </p:nvSpPr>
        <p:spPr>
          <a:xfrm>
            <a:off x="3271680" y="2523960"/>
            <a:ext cx="2600640" cy="18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1"/>
          <p:cNvSpPr/>
          <p:nvPr/>
        </p:nvSpPr>
        <p:spPr>
          <a:xfrm>
            <a:off x="3271680" y="2523960"/>
            <a:ext cx="2600640" cy="18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22"/>
          <p:cNvGraphicFramePr/>
          <p:nvPr/>
        </p:nvGraphicFramePr>
        <p:xfrm>
          <a:off x="3276720" y="692280"/>
          <a:ext cx="3467160" cy="241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Object 2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692280"/>
                    <a:ext cx="3467160" cy="24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23"/>
          <p:cNvSpPr/>
          <p:nvPr/>
        </p:nvSpPr>
        <p:spPr>
          <a:xfrm>
            <a:off x="3166920" y="3176640"/>
            <a:ext cx="385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рчаков собирал и бережно хранил среди своих бумаг лицейские стихи и эпиграммы в том числе и произведения Пушкина. Еще в Лицее Горчаков был страстным приверженцем русского языка и родной литературы. Своему влиятельному дядюшке А.И.Пещурову Горчаков писал из Лицея, что, хотя и любит французский язык, но не столь «ослеплен» им, чтобы не чувствовать всех достоинств русского языка «сильнейшего», «благозвучнейшего», «богатейшег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611280" y="3317760"/>
            <a:ext cx="2448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и воспитанников Лицея Горчаков пользовался уважением и авторитетом. Он, кажется, был единственным из воспитанников Лицея, кто избежал едких насмешек в «национальных песнях» и каких-либо прозвищ, тем более карикатур. Правда, Алексейем Илличевским еще в 1811 году была написана эпиграмма на Горчакова в форме акростиха, начальные буквы которого образуют фамилию Горчак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51">
            <a:hlinkClick r:id="" action="ppaction://hlinkshowjump?jump=nextslide"/>
          </p:cNvPr>
          <p:cNvSpPr/>
          <p:nvPr/>
        </p:nvSpPr>
        <p:spPr>
          <a:xfrm>
            <a:off x="2394000" y="1627200"/>
            <a:ext cx="4356000" cy="399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3" descr="матюшкин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6920" y="2241720"/>
            <a:ext cx="1832040" cy="24066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5" name="Picture 42" descr="пущин"/>
          <p:cNvPicPr/>
          <p:nvPr/>
        </p:nvPicPr>
        <p:blipFill>
          <a:blip r:embed="rId5"/>
          <a:stretch/>
        </p:blipFill>
        <p:spPr>
          <a:xfrm>
            <a:off x="1332000" y="189000"/>
            <a:ext cx="2292120" cy="24843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6" name="Freeform 60"/>
          <p:cNvSpPr/>
          <p:nvPr/>
        </p:nvSpPr>
        <p:spPr>
          <a:xfrm rot="5676600">
            <a:off x="7392600" y="248760"/>
            <a:ext cx="1562040" cy="1514520"/>
          </a:xfrm>
          <a:prstGeom prst="pie">
            <a:avLst/>
          </a:prstGeom>
          <a:solidFill>
            <a:srgbClr val="6f4f48"/>
          </a:solidFill>
          <a:ln w="0">
            <a:solidFill>
              <a:srgbClr val="6f4f4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61"/>
          <p:cNvSpPr/>
          <p:nvPr/>
        </p:nvSpPr>
        <p:spPr>
          <a:xfrm>
            <a:off x="287280" y="189000"/>
            <a:ext cx="1562040" cy="1514520"/>
          </a:xfrm>
          <a:prstGeom prst="pie">
            <a:avLst/>
          </a:prstGeom>
          <a:solidFill>
            <a:srgbClr val="6f4f48">
              <a:alpha val="50000"/>
            </a:srgbClr>
          </a:solidFill>
          <a:ln w="0">
            <a:solidFill>
              <a:srgbClr val="6f4f4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62"/>
          <p:cNvSpPr/>
          <p:nvPr/>
        </p:nvSpPr>
        <p:spPr>
          <a:xfrm flipV="1" rot="15923400">
            <a:off x="7392600" y="4842360"/>
            <a:ext cx="1562040" cy="1514520"/>
          </a:xfrm>
          <a:prstGeom prst="pie">
            <a:avLst/>
          </a:prstGeom>
          <a:solidFill>
            <a:srgbClr val="6f4f48"/>
          </a:solidFill>
          <a:ln w="0">
            <a:solidFill>
              <a:srgbClr val="6f4f4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3"/>
          <p:cNvSpPr/>
          <p:nvPr/>
        </p:nvSpPr>
        <p:spPr>
          <a:xfrm flipV="1">
            <a:off x="287280" y="4760280"/>
            <a:ext cx="1562040" cy="1514520"/>
          </a:xfrm>
          <a:prstGeom prst="pie">
            <a:avLst/>
          </a:prstGeom>
          <a:solidFill>
            <a:srgbClr val="6f4f48"/>
          </a:solidFill>
          <a:ln w="0">
            <a:solidFill>
              <a:srgbClr val="6f4f4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6" descr="дельвиг-АА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1800360" y="4290840"/>
            <a:ext cx="1885680" cy="216252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969696"/>
            </a:outerShdw>
          </a:effectLst>
        </p:spPr>
      </p:pic>
      <p:pic>
        <p:nvPicPr>
          <p:cNvPr id="51" name="Picture 68" descr="илличевский"/>
          <p:cNvPicPr/>
          <p:nvPr/>
        </p:nvPicPr>
        <p:blipFill>
          <a:blip r:embed="rId7"/>
          <a:stretch/>
        </p:blipFill>
        <p:spPr>
          <a:xfrm rot="437400">
            <a:off x="5867280" y="3897360"/>
            <a:ext cx="1716120" cy="257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1" descr="горчаков"/>
          <p:cNvPicPr/>
          <p:nvPr/>
        </p:nvPicPr>
        <p:blipFill>
          <a:blip r:embed="rId8"/>
          <a:stretch/>
        </p:blipFill>
        <p:spPr>
          <a:xfrm>
            <a:off x="6659640" y="1881360"/>
            <a:ext cx="1976400" cy="254124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3" name="Picture 53" descr="кюхля"/>
          <p:cNvPicPr/>
          <p:nvPr/>
        </p:nvPicPr>
        <p:blipFill>
          <a:blip r:embed="rId9"/>
          <a:stretch/>
        </p:blipFill>
        <p:spPr>
          <a:xfrm>
            <a:off x="5364000" y="297000"/>
            <a:ext cx="2108520" cy="2455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Picture 39" descr="портрет-пушкина"/>
          <p:cNvPicPr/>
          <p:nvPr/>
        </p:nvPicPr>
        <p:blipFill>
          <a:blip r:embed="rId10"/>
          <a:stretch/>
        </p:blipFill>
        <p:spPr>
          <a:xfrm>
            <a:off x="3603600" y="36360"/>
            <a:ext cx="1976400" cy="2492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5" name="Picture 69" descr="видео"/>
          <p:cNvPicPr/>
          <p:nvPr/>
        </p:nvPicPr>
        <p:blipFill>
          <a:blip r:embed="rId11"/>
          <a:stretch/>
        </p:blipFill>
        <p:spPr>
          <a:xfrm>
            <a:off x="4248000" y="5697360"/>
            <a:ext cx="90360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7"/>
          <p:cNvGrpSpPr/>
          <p:nvPr/>
        </p:nvGrpSpPr>
        <p:grpSpPr>
          <a:xfrm>
            <a:off x="2268360" y="2108160"/>
            <a:ext cx="5399280" cy="4346640"/>
            <a:chOff x="2268360" y="2108160"/>
            <a:chExt cx="5399280" cy="4346640"/>
          </a:xfrm>
        </p:grpSpPr>
        <p:pic>
          <p:nvPicPr>
            <p:cNvPr id="57" name="Picture 4" descr="рис-лицея-из-онегина"/>
            <p:cNvPicPr/>
            <p:nvPr/>
          </p:nvPicPr>
          <p:blipFill>
            <a:blip r:embed="rId2"/>
            <a:stretch/>
          </p:blipFill>
          <p:spPr>
            <a:xfrm>
              <a:off x="2268360" y="2108160"/>
              <a:ext cx="5329440" cy="3736800"/>
            </a:xfrm>
            <a:prstGeom prst="rect">
              <a:avLst/>
            </a:prstGeom>
            <a:ln w="9360">
              <a:solidFill>
                <a:srgbClr val="5c482a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8" name="Text Box 6"/>
            <p:cNvSpPr/>
            <p:nvPr/>
          </p:nvSpPr>
          <p:spPr>
            <a:xfrm>
              <a:off x="2268360" y="5995800"/>
              <a:ext cx="5399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Лицей. Рисунок А.С. Пушкина в черновой рукописи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III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лавы романа «Евгений Онегин». 1829-18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6"/>
          <p:cNvGrpSpPr/>
          <p:nvPr/>
        </p:nvGrpSpPr>
        <p:grpSpPr>
          <a:xfrm>
            <a:off x="2771640" y="2060640"/>
            <a:ext cx="3175200" cy="3047760"/>
            <a:chOff x="2771640" y="2060640"/>
            <a:chExt cx="3175200" cy="3047760"/>
          </a:xfrm>
        </p:grpSpPr>
        <p:pic>
          <p:nvPicPr>
            <p:cNvPr id="60" name="Picture 14" descr="push15"/>
            <p:cNvPicPr/>
            <p:nvPr/>
          </p:nvPicPr>
          <p:blipFill>
            <a:blip r:embed="rId3"/>
            <a:stretch/>
          </p:blipFill>
          <p:spPr>
            <a:xfrm>
              <a:off x="2771640" y="2060640"/>
              <a:ext cx="3175200" cy="3047760"/>
            </a:xfrm>
            <a:prstGeom prst="rect">
              <a:avLst/>
            </a:prstGeom>
            <a:ln w="9360">
              <a:solidFill>
                <a:srgbClr val="5c482a"/>
              </a:solidFill>
              <a:miter/>
            </a:ln>
          </p:spPr>
        </p:pic>
        <p:sp>
          <p:nvSpPr>
            <p:cNvPr id="61" name="Text Box 15"/>
            <p:cNvSpPr/>
            <p:nvPr/>
          </p:nvSpPr>
          <p:spPr>
            <a:xfrm>
              <a:off x="2916360" y="4795920"/>
              <a:ext cx="30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.С. Пушкин. Автопортрет. 1817-18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3"/>
          <p:cNvGrpSpPr/>
          <p:nvPr/>
        </p:nvGrpSpPr>
        <p:grpSpPr>
          <a:xfrm>
            <a:off x="2771640" y="2349360"/>
            <a:ext cx="3156120" cy="2762640"/>
            <a:chOff x="2771640" y="2349360"/>
            <a:chExt cx="3156120" cy="2762640"/>
          </a:xfrm>
        </p:grpSpPr>
        <p:pic>
          <p:nvPicPr>
            <p:cNvPr id="63" name="Picture 11" descr="автопортрет"/>
            <p:cNvPicPr/>
            <p:nvPr/>
          </p:nvPicPr>
          <p:blipFill>
            <a:blip r:embed="rId4"/>
            <a:stretch/>
          </p:blipFill>
          <p:spPr>
            <a:xfrm>
              <a:off x="2771640" y="2349360"/>
              <a:ext cx="3156120" cy="2679840"/>
            </a:xfrm>
            <a:prstGeom prst="rect">
              <a:avLst/>
            </a:prstGeom>
            <a:ln w="9360">
              <a:solidFill>
                <a:srgbClr val="5c482a"/>
              </a:solidFill>
              <a:miter/>
            </a:ln>
          </p:spPr>
        </p:pic>
        <p:sp>
          <p:nvSpPr>
            <p:cNvPr id="64" name="Text Box 12"/>
            <p:cNvSpPr/>
            <p:nvPr/>
          </p:nvSpPr>
          <p:spPr>
            <a:xfrm>
              <a:off x="2987640" y="4653000"/>
              <a:ext cx="280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втопортрет в форме лицеиста. 1816-18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5"/>
          <p:cNvSpPr/>
          <p:nvPr/>
        </p:nvSpPr>
        <p:spPr>
          <a:xfrm>
            <a:off x="1042920" y="692280"/>
            <a:ext cx="792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полях  своих произведений А.С. Пушкин часто вспоминает лицейские годы, учителей и товарищей в стихотворной и графической форме.. Последняя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II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лава «Евгения Онегина» начинается воспоминанием. Завершая книгу о людях своего поколения, Пушкин обращается к началу жиз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друзья"/>
          <p:cNvPicPr/>
          <p:nvPr/>
        </p:nvPicPr>
        <p:blipFill>
          <a:blip r:embed="rId5"/>
          <a:stretch/>
        </p:blipFill>
        <p:spPr>
          <a:xfrm>
            <a:off x="539640" y="4149720"/>
            <a:ext cx="2475000" cy="219564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</p:pic>
      <p:sp>
        <p:nvSpPr>
          <p:cNvPr id="67" name="Text Box 9"/>
          <p:cNvSpPr/>
          <p:nvPr/>
        </p:nvSpPr>
        <p:spPr>
          <a:xfrm>
            <a:off x="684360" y="1754280"/>
            <a:ext cx="324000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гда французом называли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еня задорные друзья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гда педанты предрекали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то ввек повесой буду я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гда по розовому полю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езвились и бесились вволю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гда в тени густых аллей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Я слушал клики лебедей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Евгений Онегин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ранних редакций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I,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867280" y="4437000"/>
            <a:ext cx="309564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оя студенческая келья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друг озарилась: муза в ней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ткрыла пир младых затей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оспела детские веселья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И славу нашей старины,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И сердца трепетные с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«Евгений Онегин»,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VIII,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276720" y="1484280"/>
            <a:ext cx="27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те дни, когда в садах Лицея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Я безмятежно расцветал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2.65788E-006 L 0.24444 -0.1802 E">
                                      <p:cBhvr>
                                        <p:cTn id="7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65788E-006 L -0.02291 0.33403 E">
                                      <p:cBhvr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b6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" descr="фон3"/>
          <p:cNvPicPr/>
          <p:nvPr/>
        </p:nvPicPr>
        <p:blipFill>
          <a:blip r:embed="rId1"/>
          <a:stretch/>
        </p:blipFill>
        <p:spPr>
          <a:xfrm>
            <a:off x="0" y="0"/>
            <a:ext cx="9172440" cy="68785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5"/>
          <p:cNvSpPr/>
          <p:nvPr/>
        </p:nvSpPr>
        <p:spPr>
          <a:xfrm rot="16200000">
            <a:off x="3383640" y="800640"/>
            <a:ext cx="1908360" cy="3205080"/>
          </a:xfrm>
          <a:prstGeom prst="horizontalScroll">
            <a:avLst>
              <a:gd name="adj" fmla="val 12500"/>
            </a:avLst>
          </a:prstGeom>
          <a:blipFill rotWithShape="0">
            <a:blip r:embed="rId2">
              <a:alphaModFix amt="5000"/>
            </a:blip>
            <a:srcRect/>
            <a:stretch/>
          </a:blipFill>
          <a:ln w="9360">
            <a:solidFill>
              <a:srgbClr val="d2b6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друзья-прекрасен-наш-союз"/>
          <p:cNvPicPr/>
          <p:nvPr/>
        </p:nvPicPr>
        <p:blipFill>
          <a:blip r:embed="rId3"/>
          <a:stretch/>
        </p:blipFill>
        <p:spPr>
          <a:xfrm>
            <a:off x="2987640" y="-27000"/>
            <a:ext cx="5772240" cy="75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прекрасен-наш-союз"/>
          <p:cNvPicPr/>
          <p:nvPr/>
        </p:nvPicPr>
        <p:blipFill>
          <a:blip r:embed="rId4"/>
          <a:stretch/>
        </p:blipFill>
        <p:spPr>
          <a:xfrm>
            <a:off x="5651640" y="3187800"/>
            <a:ext cx="3286080" cy="3265560"/>
          </a:xfrm>
          <a:prstGeom prst="rect">
            <a:avLst/>
          </a:prstGeom>
          <a:ln w="9360">
            <a:solidFill>
              <a:srgbClr val="5c482a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4" name="Text Box 18"/>
          <p:cNvSpPr/>
          <p:nvPr/>
        </p:nvSpPr>
        <p:spPr>
          <a:xfrm>
            <a:off x="2916360" y="1628640"/>
            <a:ext cx="3492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рузья мои, прекрасен наш союз!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н как душа неразделим и вечен –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колебим, свободен и беспечен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растался он под сенью дружных муз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уда бы нас не бросила судьбина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счастие куда б не повело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се те же мы: нам целый мир чужбина;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течество нам Царское Сел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2521080" y="800280"/>
            <a:ext cx="64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й подарил А.С. Пушкину красоту мира, любовь к родине, к друзьям, с некоторыми из них соединив навсегда. Все это наполняло душу Пушкина светлым и радостным чувством, которое не угасало и через годы. Вспоминая свою лицейскую юность, он пис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5904000" y="1376280"/>
            <a:ext cx="306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о дружбы, вынесенное Пушкиным из Лицея, одушевляло его всю жизнь. Но представление о дружбе менялось с годами. В стихотворении «Пирующие студенты» (1814) дружба – счастливый и беззаботный союз вольности, свободный от уз и тягот учения и «холодных мудрецов»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826920" y="3465360"/>
            <a:ext cx="4681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ихотворении «19 октября», написанном в Михайловском в 1825 году, дружба предстает как защита от «сетей судьбы суровой». Сама мысль о друзьях помогает преодолеть замкнутость «дома опального». Дружба противостоит гонениям судьбы, раздвигает душевное «пространство челове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2" descr="друзья-пушкина"/>
          <p:cNvPicPr/>
          <p:nvPr/>
        </p:nvPicPr>
        <p:blipFill>
          <a:blip r:embed="rId5"/>
          <a:stretch/>
        </p:blipFill>
        <p:spPr>
          <a:xfrm>
            <a:off x="5688000" y="2781360"/>
            <a:ext cx="2936880" cy="3794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7.4948E-007 L -0.45295 0.08397 E">
                                      <p:cBhvr>
                                        <p:cTn id="138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b6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фон3"/>
          <p:cNvPicPr/>
          <p:nvPr/>
        </p:nvPicPr>
        <p:blipFill>
          <a:blip r:embed="rId1"/>
          <a:stretch/>
        </p:blipFill>
        <p:spPr>
          <a:xfrm>
            <a:off x="0" y="-20520"/>
            <a:ext cx="9172440" cy="6878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друзья-прекрасен-наш-союз"/>
          <p:cNvPicPr/>
          <p:nvPr/>
        </p:nvPicPr>
        <p:blipFill>
          <a:blip r:embed="rId2"/>
          <a:stretch/>
        </p:blipFill>
        <p:spPr>
          <a:xfrm>
            <a:off x="2987640" y="-27000"/>
            <a:ext cx="5772240" cy="752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друзья-пушкина"/>
          <p:cNvPicPr/>
          <p:nvPr/>
        </p:nvPicPr>
        <p:blipFill>
          <a:blip r:embed="rId3"/>
          <a:stretch/>
        </p:blipFill>
        <p:spPr>
          <a:xfrm>
            <a:off x="6207120" y="3063960"/>
            <a:ext cx="2936880" cy="379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411280" y="707760"/>
            <a:ext cx="526752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лицейских друзей Пушкина особенно близкими и дорогими – на всю жизнь стали Дельвиг, Пущин, Кухельбекер. Двое из них были поэтами. Все лицейские друзья Пушкина - и он сам прежде всего – были более всего увлечены делами литературными. Лицейское братство было не только человеческим, но и поэтическим братством. Это не могло не иметь влияния на Пушк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пущин1"/>
          <p:cNvPicPr/>
          <p:nvPr/>
        </p:nvPicPr>
        <p:blipFill>
          <a:blip r:embed="rId2"/>
          <a:stretch/>
        </p:blipFill>
        <p:spPr>
          <a:xfrm>
            <a:off x="324000" y="765000"/>
            <a:ext cx="2263680" cy="2735280"/>
          </a:xfrm>
          <a:prstGeom prst="rect">
            <a:avLst/>
          </a:prstGeom>
          <a:ln w="9360">
            <a:solidFill>
              <a:srgbClr val="5c482a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4" name="Picture 9" descr="пущин-иван-иванович"/>
          <p:cNvPicPr/>
          <p:nvPr/>
        </p:nvPicPr>
        <p:blipFill>
          <a:blip r:embed="rId3"/>
          <a:stretch/>
        </p:blipFill>
        <p:spPr>
          <a:xfrm>
            <a:off x="2808360" y="115920"/>
            <a:ext cx="3832200" cy="6476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31"/>
          <p:cNvGrpSpPr/>
          <p:nvPr/>
        </p:nvGrpSpPr>
        <p:grpSpPr>
          <a:xfrm>
            <a:off x="900000" y="844920"/>
            <a:ext cx="8244000" cy="5601960"/>
            <a:chOff x="900000" y="844920"/>
            <a:chExt cx="8244000" cy="5601960"/>
          </a:xfrm>
        </p:grpSpPr>
        <p:sp>
          <p:nvSpPr>
            <p:cNvPr id="86" name="Rectangle 26"/>
            <p:cNvSpPr/>
            <p:nvPr/>
          </p:nvSpPr>
          <p:spPr>
            <a:xfrm>
              <a:off x="2879640" y="844920"/>
              <a:ext cx="6264360" cy="21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ван Иванович Пущин - " Жанно", как его называли товарищи, - был на год старше Пушкина (он родился 4 мая 1798 г., а Пушкин- 26 мая 1799г.) Главным его свойством была рассудительность. Среди товарищей Пущин пользовался всеобщей любовью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br>
                <a:rPr sz="1200"/>
              </a:b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900000" y="3609720"/>
              <a:ext cx="82440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 Пущине с ранних лет чувствовался уже будущий общественный деятель, последовательный и убежденный сторонник свободы. Это было то общее, что роднило его с Пушкиным. Его ровный характер и благоразумие давали ему возможность играть роль старшего, и юный поэт часто поверял ему в ночных беседах через перегородку, разделявшую их комнатки, свом огорчения, и тот утешал и успокаивал чересчур впечатлительного и увлекающегося друга. Однако не надо думать, что Пущин был этакий молодой старичок, который только и делал, что читал наставления. Нет, это был живой мальчик - он умел повеселиться и пошалить, хотя и в меру. 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708000" y="1052280"/>
            <a:ext cx="5256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львиг с Пушкиным гордились тем, что родились и провели детские годы в древней столице. В лицее Дельвиг отличался только познаниями в российской словесности, да и те не склонен был проявлять в классе. Все остальные лекции и занятия проходили для него как бы в тумане: он дремал. Дельвиг, как поэт, прославился своими «Идиллиями» - стихотворениями в стиле античной  поэзии. Часто думали, что это переводы Феокрита, Горация и Вергилия. Но это были плоды воображения самого Дельвига. Он был известен также как тонко-беспощадный критик, разбирающий каждую литературную новинку: роман, поэму, повесть и особенно – переводы. Иногда он с горечью писал: «Радуешься хорошей книге, как оазису в африканской степи. А отчего в России мало книг? Более от лености учиться». 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5616720" y="584280"/>
            <a:ext cx="3240000" cy="459000"/>
          </a:xfrm>
          <a:prstGeom prst="rect">
            <a:avLst/>
          </a:prstGeom>
          <a:gradFill rotWithShape="0">
            <a:gsLst>
              <a:gs pos="0">
                <a:srgbClr val="bd9481">
                  <a:alpha val="14117"/>
                </a:srgbClr>
              </a:gs>
              <a:gs pos="100000">
                <a:srgbClr val="ffffff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удьба на вечную разлуку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Быть может, здесь сроднила н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0" descr=""/>
          <p:cNvPicPr/>
          <p:nvPr/>
        </p:nvPicPr>
        <p:blipFill>
          <a:blip r:embed="rId2"/>
          <a:stretch/>
        </p:blipFill>
        <p:spPr>
          <a:xfrm>
            <a:off x="2016000" y="981000"/>
            <a:ext cx="1285920" cy="1621080"/>
          </a:xfrm>
          <a:prstGeom prst="rect">
            <a:avLst/>
          </a:prstGeom>
          <a:ln w="9360">
            <a:solidFill>
              <a:srgbClr val="bd9481"/>
            </a:solidFill>
            <a:miter/>
          </a:ln>
        </p:spPr>
      </p:pic>
      <p:sp>
        <p:nvSpPr>
          <p:cNvPr id="91" name="Rectangle 32"/>
          <p:cNvSpPr/>
          <p:nvPr/>
        </p:nvSpPr>
        <p:spPr>
          <a:xfrm>
            <a:off x="826920" y="2816280"/>
            <a:ext cx="2916360" cy="3379320"/>
          </a:xfrm>
          <a:prstGeom prst="rect">
            <a:avLst/>
          </a:prstGeom>
          <a:gradFill rotWithShape="0">
            <a:gsLst>
              <a:gs pos="0">
                <a:srgbClr val="bd9481">
                  <a:alpha val="9019"/>
                </a:srgbClr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часто к нам слетает вдохновень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краткий миг в душе оно гор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о этот миг любимец муз цен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ак мученик с землею разлуче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друзьях обман, в любви разувере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яд во всем, чем сердце дорож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быты им: восторженный пи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Уж прочитал свое предназначень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презренный, гонимый от люде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Блуждающий один под небес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н говорит с грядущими ве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н ставит честь превыше всех честе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н клевете мстит славою сво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делится бессмертием с богами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. Дельвиг. 18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4" descr="bottomna"/>
          <p:cNvPicPr/>
          <p:nvPr/>
        </p:nvPicPr>
        <p:blipFill>
          <a:blip r:embed="rId3"/>
          <a:stretch/>
        </p:blipFill>
        <p:spPr>
          <a:xfrm>
            <a:off x="5651640" y="65736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кюхля"/>
          <p:cNvPicPr/>
          <p:nvPr/>
        </p:nvPicPr>
        <p:blipFill>
          <a:blip r:embed="rId2"/>
          <a:stretch/>
        </p:blipFill>
        <p:spPr>
          <a:xfrm>
            <a:off x="6480000" y="3105000"/>
            <a:ext cx="2340000" cy="24768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7"/>
          <p:cNvSpPr/>
          <p:nvPr/>
        </p:nvSpPr>
        <p:spPr>
          <a:xfrm>
            <a:off x="1655640" y="1099800"/>
            <a:ext cx="7093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эт-декабрист, лицейский товарищ Пушкина. Был крайне вспыльчив, самолюбив, болезнен и неловок. Пушкин, может быть один из первых, сумел разглядеть и оценить за смешной внешностью благородство и бескорыстие «Кюхли», его поразительную начитанность, его страстную приверженность поэзии, философии, всему высокому и прекрасному. Отдельные черты Кюхельбекера Пушкин воплотил в образе Ленского. По делу о восстании 14 декабря Кюхельбекер был приговорен к смертной казни, замененной потом 20 годами каторги, из которых 10 лет он провел в одиночном заключении. Пушкин не забывал своего товарищ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3059280" y="2997360"/>
            <a:ext cx="3132000" cy="3014280"/>
          </a:xfrm>
          <a:prstGeom prst="rect">
            <a:avLst/>
          </a:prstGeom>
          <a:gradFill rotWithShape="0">
            <a:gsLst>
              <a:gs pos="0">
                <a:srgbClr val="bd9481">
                  <a:alpha val="11372"/>
                </a:srgbClr>
              </a:gs>
              <a:gs pos="100000">
                <a:srgbClr val="ffffff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е известен как художник Кюхельбекер. Его рисунок был выразителен уже в лицейские годы. Как это свойственно многим поэтам и писателям, Вильгельм Кюхельбекер на полях своих рукописей часто делал различные наброски. Он был прекрасным рисовальщиком с твердой и легкой линией пера. Особенный интерес представляют рисунки Кюхельбекера из лицейской тетради 1816—1817 г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ин из центральных образов вольных стихов Кюхельбекера – поэт, борец за гражданскую свободу; этот образ сохранился и в последекабрьском творчестве, хотя и с долей траг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8"/>
          <p:cNvGrpSpPr/>
          <p:nvPr/>
        </p:nvGrpSpPr>
        <p:grpSpPr>
          <a:xfrm>
            <a:off x="1295280" y="3392640"/>
            <a:ext cx="1495440" cy="2511360"/>
            <a:chOff x="1295280" y="3392640"/>
            <a:chExt cx="1495440" cy="2511360"/>
          </a:xfrm>
        </p:grpSpPr>
        <p:pic>
          <p:nvPicPr>
            <p:cNvPr id="97" name="Picture 21" descr=""/>
            <p:cNvPicPr/>
            <p:nvPr/>
          </p:nvPicPr>
          <p:blipFill>
            <a:blip r:embed="rId3"/>
            <a:stretch/>
          </p:blipFill>
          <p:spPr>
            <a:xfrm>
              <a:off x="1368360" y="3392640"/>
              <a:ext cx="1422360" cy="19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7"/>
            <p:cNvSpPr/>
            <p:nvPr/>
          </p:nvSpPr>
          <p:spPr>
            <a:xfrm>
              <a:off x="1295280" y="5445000"/>
              <a:ext cx="147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Лицейский рисунок В. Кюхельбеке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0" descr="горчаков-александр-михайлов"/>
          <p:cNvPicPr/>
          <p:nvPr/>
        </p:nvPicPr>
        <p:blipFill>
          <a:blip r:embed="rId2"/>
          <a:stretch/>
        </p:blipFill>
        <p:spPr>
          <a:xfrm>
            <a:off x="2340000" y="7920"/>
            <a:ext cx="5186160" cy="755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4"/>
          <p:cNvSpPr/>
          <p:nvPr/>
        </p:nvSpPr>
        <p:spPr>
          <a:xfrm>
            <a:off x="3600360" y="800280"/>
            <a:ext cx="518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ександр Михайлович Горчаков происходил из старинного, знатного дворянского рода. До поступления в Лицей Александр Горчаков учился в Санкт-Петербургской губернской гимназии вместе с Алексеем Илличевским и Иваном Малиновским. У Горчакова оказалась солидная подготовка, и он блестяще выдержал экзамен в лицей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триотизм был свойствен Горчакову с юны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41"/>
          <p:cNvGrpSpPr/>
          <p:nvPr/>
        </p:nvGrpSpPr>
        <p:grpSpPr>
          <a:xfrm>
            <a:off x="142560" y="3608280"/>
            <a:ext cx="3492360" cy="2864520"/>
            <a:chOff x="142560" y="3608280"/>
            <a:chExt cx="3492360" cy="2864520"/>
          </a:xfrm>
        </p:grpSpPr>
        <p:sp>
          <p:nvSpPr>
            <p:cNvPr id="102" name="AutoShape 40"/>
            <p:cNvSpPr/>
            <p:nvPr/>
          </p:nvSpPr>
          <p:spPr>
            <a:xfrm rot="5400000">
              <a:off x="754920" y="3140280"/>
              <a:ext cx="2266920" cy="3492360"/>
            </a:xfrm>
            <a:prstGeom prst="horizontalScroll">
              <a:avLst>
                <a:gd name="adj" fmla="val 12500"/>
              </a:avLst>
            </a:prstGeom>
            <a:blipFill rotWithShape="0">
              <a:blip r:embed="rId3">
                <a:alphaModFix amt="10000"/>
              </a:blip>
              <a:srcRect/>
              <a:stretch/>
            </a:blipFill>
            <a:ln w="9360">
              <a:solidFill>
                <a:srgbClr val="d2b6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9"/>
            <p:cNvSpPr/>
            <p:nvPr/>
          </p:nvSpPr>
          <p:spPr>
            <a:xfrm>
              <a:off x="502920" y="3608280"/>
              <a:ext cx="30240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ы, Горчаков, счастливец с первых дне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Хвала тебе — фортуны блеск холод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е изменил души твоей свободной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сё тот же ты для чести и друзе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м разный путь судьбой назначен строго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тупая в жизнь, мы быстро разошлись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о невзначай проселочной дорог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ы встретились и братски обнялись.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А. Пушкин. 18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4" name="Object 42"/>
          <p:cNvGraphicFramePr/>
          <p:nvPr/>
        </p:nvGraphicFramePr>
        <p:xfrm>
          <a:off x="971640" y="692280"/>
          <a:ext cx="1928880" cy="30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Object 4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692280"/>
                    <a:ext cx="1928880" cy="3000240"/>
                  </a:xfrm>
                  <a:prstGeom prst="rect">
                    <a:avLst/>
                  </a:prstGeom>
                  <a:ln w="9360">
                    <a:solidFill>
                      <a:srgbClr val="bd9481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0T19:21:06Z</dcterms:created>
  <dc:creator>Петлицкая Светлана</dc:creator>
  <dc:description/>
  <dc:language>en-US</dc:language>
  <cp:lastModifiedBy>Школа</cp:lastModifiedBy>
  <dcterms:modified xsi:type="dcterms:W3CDTF">2022-02-08T07:09:26Z</dcterms:modified>
  <cp:revision>65</cp:revision>
  <dc:subject/>
  <dc:title>Лицейские друзьяА.С. Пушкина</dc:title>
</cp:coreProperties>
</file>