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760-57F4-4C84-B83C-F4E84CFA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EA3-6653-4CAB-B619-B47AB3B4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DE4-2E9A-403D-8D32-1D9208DF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525-6B81-4767-ACCD-C471DA36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B43-8FF0-4F86-91BF-7A9A9B96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85E-9E25-4A50-BDB7-9EC29EA6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32A-A399-403A-8902-05D62F6B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26A-C0FB-4D4A-AE4F-9E3ECC16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C44-1C08-4905-BDC1-E2CE8816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639-CAC8-438C-AF03-7CA7FD72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9A3-8BE9-4959-B094-BDDD9FD4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DC3-DCA9-4352-947E-50867E80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044F-7511-4627-B844-350A4EA7DEF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№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: «Межличностные отнош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9" descr="20100723143617_istock000005522"/>
          <p:cNvPicPr/>
          <p:nvPr/>
        </p:nvPicPr>
        <p:blipFill>
          <a:blip r:embed="rId1"/>
          <a:stretch/>
        </p:blipFill>
        <p:spPr>
          <a:xfrm>
            <a:off x="2484360" y="2852640"/>
            <a:ext cx="402588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умайт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бившись на группы, ответь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, с вашей точки зрения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пятству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ежличностному общению, а что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ствует?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вое мнение аргументируй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8" descr="i?id=136026216-10"/>
          <p:cNvPicPr/>
          <p:nvPr/>
        </p:nvPicPr>
        <p:blipFill>
          <a:blip r:embed="rId1"/>
          <a:stretch/>
        </p:blipFill>
        <p:spPr>
          <a:xfrm>
            <a:off x="7740720" y="260280"/>
            <a:ext cx="104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судит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56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. Ясенскому принадлежит выражение: «Не бойтесь друзей – в худшем случае они могут Вас предать. Не бойтесь врагов – в худшем случае они могут Вас убить. Но бойтесь равнодушных, ибо именно с их молчаливого согласия совершаются на земле все предательства и убийств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ак вы поняли смысл данного высказыв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огласны ли вы с ни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ожете ли привести примеры, подтверждающие его вернос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знак"/>
          <p:cNvPicPr/>
          <p:nvPr/>
        </p:nvPicPr>
        <p:blipFill>
          <a:blip r:embed="rId1"/>
          <a:stretch/>
        </p:blipFill>
        <p:spPr>
          <a:xfrm>
            <a:off x="8400960" y="-963720"/>
            <a:ext cx="7430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-174960"/>
            <a:ext cx="82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так, на помощь людям приходить надо. Психологи решили выяснить, при каких обстоятельствах это необходимо и оправда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я с текстом параграфа, ответьте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акие вопросы должен задать себе человек, который видит, что другому человеку нужно немедленно помо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овите и охарактеризуйте условия оказания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еред какой дилеммой встает человек при принятии реш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аково ваше мнение по данной проблеме? Свой ответ аргументируй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за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так, мы убедились, что не так-то просто строить межличностные отношения. Стоит прислушаться к заповедям древних, которые формулируются следующим образ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евние заповеди глася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му, кто хочет получить удовольствие от общения, необходим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доверие к тому, с кем общаеш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ера в то, что он хороший человек, расположен к тебе и готов обща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уважение к тому, с кем общаеш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знание того, что он равен тебе и с ним надо общаться бережно и вежл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А 56"/>
          <p:cNvPicPr/>
          <p:nvPr/>
        </p:nvPicPr>
        <p:blipFill>
          <a:blip r:embed="rId1"/>
          <a:stretch/>
        </p:blipFill>
        <p:spPr>
          <a:xfrm>
            <a:off x="7667640" y="1557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учить § 1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ьте на вопрос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огут ли дружить и понимать друг друга непохожие люди»? Свое мнение аргументируй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AG00495_"/>
          <p:cNvPicPr/>
          <p:nvPr/>
        </p:nvPicPr>
        <p:blipFill>
          <a:blip r:embed="rId1"/>
          <a:stretch/>
        </p:blipFill>
        <p:spPr>
          <a:xfrm>
            <a:off x="7596360" y="260280"/>
            <a:ext cx="133164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Понима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 межличностных отношений в формировании личности подрост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тиворечивость влияния межличностных отношений на процесс социализации подрост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Зна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коны выстраивания межличностных отнош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рмины и понятия «межличностные отношения», «комплекс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чины  затруднений при выстраивании межличностных отношений среди подрост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Уме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ботать в группе, доказывать свою точку зрения, выступать публичн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казывать суждения  на обществоведческие тем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ть  характеристику межличностным отношения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ределять факторы, воздействующие на межличностные отношения подрост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мысливать теоретический материал, решать познавательные и проблемные зад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Отношения, ценности, внутренние установ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яснять поведение людей с точки зрения обществознания и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ть оценку и выразить свое отношение к роли и влиянию межличностных отношений на формирование подрост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Рисунок122"/>
          <p:cNvPicPr/>
          <p:nvPr/>
        </p:nvPicPr>
        <p:blipFill>
          <a:blip r:embed="rId1"/>
          <a:stretch/>
        </p:blipFill>
        <p:spPr>
          <a:xfrm>
            <a:off x="7596360" y="0"/>
            <a:ext cx="13744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2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752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952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52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52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52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352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452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52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652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нятие «межличностные отношен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Законы межличностных отнош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Нравственные нормы в межличностных отноше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Практическая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detia-745"/>
          <p:cNvPicPr/>
          <p:nvPr/>
        </p:nvPicPr>
        <p:blipFill>
          <a:blip r:embed="rId1"/>
          <a:stretch/>
        </p:blipFill>
        <p:spPr>
          <a:xfrm>
            <a:off x="6588000" y="115920"/>
            <a:ext cx="20163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08000" y="115920"/>
            <a:ext cx="8928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ин мулла хвастался, что с любым человеком без слов найдет общий язык. Как-то в дороге ему представился случай продемонстрировать это своим спутникам. Встретившемуся на пути пастуху он показал указательный палец. Пастух аналогично показал ему два пальца. Далее мулла показал пастуху растопыренную ладонь с пятью пальцами. На что пастух в ответ показал ему кула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т видите – воскликнул мулла – мы прекрасно поняли друг друга. Я ему показал палец, спрашивая «Признаешь ли Аллаха, единственного творца нашего?», а он, показав два пальца, ответил «и его, и Пророка его, Мухаммеда тоже». Далее показав пять пальцев, я спросил: «А соблюдаешь ли требование пять раз на дню читать намаз?», а он, показав кулак, ответил: «Я крепко придерживаюсь канонов Ислам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утники решили узнать, так ли действительно все понял пастух. Пастух отвечал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- Он мне показал палец и я подумал, что он хочет выколоть мне глаз. На что я ему ответил, что выколю ему оба глаза. Потом он показал ладонь, видимо говоря, что ударит меня по лицу. А я ответил, что тоже дам ему кулаком по голове. Я его прекрасно поня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опросы к класс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О чем притч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Какое отношение она имеет к нашему урок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спомним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выяснили, что малая группа состоит из людей, которые хорошо знают друг др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ак происходит общение в малых групп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i?id=32121737-00"/>
          <p:cNvPicPr/>
          <p:nvPr/>
        </p:nvPicPr>
        <p:blipFill>
          <a:blip r:embed="rId1"/>
          <a:stretch/>
        </p:blipFill>
        <p:spPr>
          <a:xfrm>
            <a:off x="3492360" y="4365720"/>
            <a:ext cx="22212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дведем итоги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05228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ние в малой группе способству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местной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суждению и анализу каких-либо проблем, новос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нозированию важных событий, характеристик, оце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А 56"/>
          <p:cNvPicPr/>
          <p:nvPr/>
        </p:nvPicPr>
        <p:blipFill>
          <a:blip r:embed="rId1"/>
          <a:stretch/>
        </p:blipFill>
        <p:spPr>
          <a:xfrm>
            <a:off x="6012000" y="5084640"/>
            <a:ext cx="1511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468360" y="0"/>
            <a:ext cx="8351640" cy="11253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жличностные отношения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отношения в малой групп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зникающие между хорошо знакомыми людьм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оцессе их постоянного общ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250920" y="1341360"/>
            <a:ext cx="2736720" cy="122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сихологическ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нош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контакта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аствуют чувств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эмо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3132000" y="1268280"/>
            <a:ext cx="3024360" cy="122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равственные нор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ы ценим друзе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 преданность и верность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емимся быть честн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6300720" y="1268280"/>
            <a:ext cx="259236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лов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зникнов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6551640" y="2205000"/>
            <a:ext cx="2448000" cy="4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ношения в мало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6551640" y="2781360"/>
            <a:ext cx="244800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ношения между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хорошо  знакомы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539640" y="2708280"/>
            <a:ext cx="5688000" cy="6494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жличностное общ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3132000" y="3645000"/>
            <a:ext cx="2376720" cy="2663640"/>
          </a:xfrm>
          <a:prstGeom prst="foldedCorner">
            <a:avLst>
              <a:gd name="adj" fmla="val 12500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одержание общ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тупает как взаимный интерес к чувствам и личным особенностям партнера, готовность говорить о своих чувствах и интерес к мнениям, чувствам и желаниям партне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5651640" y="3716280"/>
            <a:ext cx="3241440" cy="2660760"/>
          </a:xfrm>
          <a:prstGeom prst="foldedCorner">
            <a:avLst>
              <a:gd name="adj" fmla="val 12500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Основа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жличностные отношения базируются на взаимном интересе, симпатиях или антипатиях. Без этого интереса, в ситуации, когда партнер глубоко безразличен, ни о каких межличностных отношениях не может быть и речи. В отсутствии фундамента, основы, любая конструкция рано или поздно рушитс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324000" y="3645000"/>
            <a:ext cx="2519280" cy="2879640"/>
          </a:xfrm>
          <a:prstGeom prst="foldedCorner">
            <a:avLst>
              <a:gd name="adj" fmla="val 12500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Межличностны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отнош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уществуют тольк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огда, когда личны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зиции и чув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заимно интересую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ртнеров, когда помим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елания говорить 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воих чувствах есть ещ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елание выслуш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ртнера, интерес к ег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ственным мнения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чувства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1332000" y="1125360"/>
            <a:ext cx="64764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4211640" y="1125360"/>
            <a:ext cx="64764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7093080" y="1125360"/>
            <a:ext cx="64764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276720" y="2492280"/>
            <a:ext cx="64764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724360" y="3357720"/>
            <a:ext cx="648000" cy="14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22"/>
          <p:cNvSpPr/>
          <p:nvPr/>
        </p:nvSpPr>
        <p:spPr>
          <a:xfrm>
            <a:off x="7451640" y="2637000"/>
            <a:ext cx="647640" cy="14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AutoShape 23"/>
          <p:cNvSpPr/>
          <p:nvPr/>
        </p:nvSpPr>
        <p:spPr>
          <a:xfrm>
            <a:off x="7380360" y="2060640"/>
            <a:ext cx="64764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1332000" y="3357720"/>
            <a:ext cx="647640" cy="14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AutoShape 25"/>
          <p:cNvSpPr/>
          <p:nvPr/>
        </p:nvSpPr>
        <p:spPr>
          <a:xfrm>
            <a:off x="3924360" y="3357720"/>
            <a:ext cx="647640" cy="14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. Закон межличностных отношени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ак же достичь баланса в отношениях между личностями? Каких правил следует придерживаться.  Сформулируйте и обсудите в группах законы межличностного общ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удите следующие вопросы и вариан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 какими людьми вам легче выстраивать отношения?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ак влияет длительность общения на характер межличностных отношени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 № 1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 обладаете завышенной самооценкой. Как будут выстраиваться ваши отношения с окружающи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 № 2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 обладаете заниженной самооценкой. Как будут выстраиваться ваши отношения с окружающи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 № 3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 обладаете средней (адекватной) самооценкой. Как будут выстраиваться ваши отношения с окружающи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4"/>
          <p:cNvSpPr/>
          <p:nvPr/>
        </p:nvSpPr>
        <p:spPr>
          <a:xfrm>
            <a:off x="500040" y="0"/>
            <a:ext cx="8413920" cy="107172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ажнейший закон межличностных отношений: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о, как другие относятся к вам, во многом определяется тем, как вы относитесь к себ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85840" y="1357200"/>
            <a:ext cx="2016000" cy="142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вы комплексуете, недовольны собой – ваше настроение и недовольство передается други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428920" y="1357200"/>
            <a:ext cx="2232000" cy="142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у вас низкая самооценка, то и окружающие будут оценивать вас низк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786200" y="1357200"/>
            <a:ext cx="2160720" cy="1438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у вас высокая самооценка, окружающие будут избегать общения с в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7093080" y="1357200"/>
            <a:ext cx="2050920" cy="142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тимальный вариант – средняя самооце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250920" y="3357720"/>
            <a:ext cx="8713800" cy="25002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. о., между принятием себя, принятием вами других людей и принятием вас другими людьми существует определенная связь. Восприятие себя и восприятие других – основа межличностных отно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1403280" y="83664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AutoShape 18"/>
          <p:cNvSpPr/>
          <p:nvPr/>
        </p:nvSpPr>
        <p:spPr>
          <a:xfrm>
            <a:off x="3132000" y="83664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AutoShape 19"/>
          <p:cNvSpPr/>
          <p:nvPr/>
        </p:nvSpPr>
        <p:spPr>
          <a:xfrm>
            <a:off x="5651640" y="836640"/>
            <a:ext cx="288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AutoShape 20"/>
          <p:cNvSpPr/>
          <p:nvPr/>
        </p:nvSpPr>
        <p:spPr>
          <a:xfrm>
            <a:off x="7667640" y="83664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1:24:32Z</dcterms:created>
  <dc:creator>Paradise</dc:creator>
  <dc:description/>
  <dc:language>en-US</dc:language>
  <cp:lastModifiedBy>Татьяна</cp:lastModifiedBy>
  <dcterms:modified xsi:type="dcterms:W3CDTF">2022-02-08T08:23:05Z</dcterms:modified>
  <cp:revision>10</cp:revision>
  <dc:subject/>
  <dc:title>Урок № 14</dc:title>
</cp:coreProperties>
</file>