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5D3-3C67-4E24-80F6-858B9CDF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174-0BEC-4CF4-BC1F-4FCE14B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F21-F98E-4362-8AAA-FD572636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4CF-191D-44AB-8AA5-CD2E721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4DF-4C93-4958-9232-9FDCE7F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1BA-E1C4-4A0B-9A4C-C3646634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D6A-29B5-49B3-9BE7-BDDC35F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D73-CA38-4B25-ACA7-F58717C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617-EC85-4A3E-9410-C33F47A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841-45C4-42E6-BCF5-18BF615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AE2-744E-4CDA-A850-0174715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7EA-7E9E-4D4A-BD24-D014A90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8FA1-14A1-4004-A250-9FE0078A20C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№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«Межличностные отнош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9" descr="20100723143617_istock000005522"/>
          <p:cNvPicPr/>
          <p:nvPr/>
        </p:nvPicPr>
        <p:blipFill>
          <a:blip r:embed="rId1"/>
          <a:stretch/>
        </p:blipFill>
        <p:spPr>
          <a:xfrm>
            <a:off x="2484360" y="2852640"/>
            <a:ext cx="40258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умай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ившись на группы, ответь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, с вашей точки зрения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пятству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жличностному общению, а что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ствует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вое мнение аргументируй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i?id=136026216-10"/>
          <p:cNvPicPr/>
          <p:nvPr/>
        </p:nvPicPr>
        <p:blipFill>
          <a:blip r:embed="rId1"/>
          <a:stretch/>
        </p:blipFill>
        <p:spPr>
          <a:xfrm>
            <a:off x="7740720" y="26028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судит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. Ясенскому принадлежит выражение: «Не бойтесь друзей – в худшем случае они могут Вас предать. Не бойтесь врагов – в худшем случае они могут Вас убить. Но бойтесь равнодушных, ибо именно с их молчаливого согласия совершаются на земле все предательства и убийст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к вы поняли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огласны ли вы с ни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жете ли привести примеры, подтверждающие его верно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знак"/>
          <p:cNvPicPr/>
          <p:nvPr/>
        </p:nvPicPr>
        <p:blipFill>
          <a:blip r:embed="rId1"/>
          <a:stretch/>
        </p:blipFill>
        <p:spPr>
          <a:xfrm>
            <a:off x="8400960" y="-963720"/>
            <a:ext cx="743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-174960"/>
            <a:ext cx="82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на помощь людям приходить надо. Психологи решили выяснить, при каких обстоятельствах это необходимо и оправд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я с текстом параграфа, ответьте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ие вопросы должен задать себе человек, который видит, что другому человеку нужно немедленно помо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овите и охарактеризуйте условия оказания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ед какой дилеммой встает человек при принятии реш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ково ваше мнение по данной проблеме? Свой ответ аргументир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мы убедились, что не так-то просто строить межличностные отношения. Стоит прислушаться к заповедям древних, которые формулируются следующим образ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евние заповеди глася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му, кто хочет получить удовольствие от общения, необходим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оверие к тому, с кем общаеш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ера в то, что он хороший человек, расположен к тебе и готов общ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важение к тому, с кем общаеш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знание того, что он равен тебе и с ним надо общаться бережно и вежл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А 56"/>
          <p:cNvPicPr/>
          <p:nvPr/>
        </p:nvPicPr>
        <p:blipFill>
          <a:blip r:embed="rId1"/>
          <a:stretch/>
        </p:blipFill>
        <p:spPr>
          <a:xfrm>
            <a:off x="766764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учить § 1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гут ли дружить и понимать друг друга непохожие люди»? Свое мнение аргументир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AG00495_"/>
          <p:cNvPicPr/>
          <p:nvPr/>
        </p:nvPicPr>
        <p:blipFill>
          <a:blip r:embed="rId1"/>
          <a:stretch/>
        </p:blipFill>
        <p:spPr>
          <a:xfrm>
            <a:off x="7596360" y="260280"/>
            <a:ext cx="1331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оним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 межличностных отношений в формировании личности подрост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тиворечивость влияния межличностных отношений на процесс социализации подрос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Зна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оны выстраивания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рмины и понятия «межличностные отношения», «комплекс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чины  затруднений при выстраивании межличностных отношений среди подрост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Уме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в группе, доказывать свою точку зрения, выступать публичн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казывать суждения  на обществоведческие тем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ть  характеристику межличностным отношени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ять факторы, воздействующие на межличностные отношения подрост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мысливать теоретический материал, решать познавательные и проблемные зад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Отношения, ценности, внутренние установ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яснять поведение людей с точки зрения обществознания и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ь оценку и выразить свое отношение к роли и влиянию межличностных отношений на формирование подрост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Рисунок122"/>
          <p:cNvPicPr/>
          <p:nvPr/>
        </p:nvPicPr>
        <p:blipFill>
          <a:blip r:embed="rId1"/>
          <a:stretch/>
        </p:blipFill>
        <p:spPr>
          <a:xfrm>
            <a:off x="7596360" y="0"/>
            <a:ext cx="1374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2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52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52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352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52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нятие «межличностные отноше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Законы межличностных отнош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Нравственные нормы в межличностных отнош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рактическая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detia-745"/>
          <p:cNvPicPr/>
          <p:nvPr/>
        </p:nvPicPr>
        <p:blipFill>
          <a:blip r:embed="rId1"/>
          <a:stretch/>
        </p:blipFill>
        <p:spPr>
          <a:xfrm>
            <a:off x="6588000" y="115920"/>
            <a:ext cx="2016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8000" y="115920"/>
            <a:ext cx="8928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ин мулла хвастался, что с любым человеком без слов найдет общий язык. Как-то в дороге ему представился случай продемонстрировать это своим спутникам. Встретившемуся на пути пастуху он показал указательный палец. Пастух аналогично показал ему два пальца. Далее мулла показал пастуху растопыренную ладонь с пятью пальцами. На что пастух в ответ показал ему кула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т видите – воскликнул мулла – мы прекрасно поняли друг друга. Я ему показал палец, спрашивая «Признаешь ли Аллаха, единственного творца нашего?», а он, показав два пальца, ответил «и его, и Пророка его, Мухаммеда тоже». Далее показав пять пальцев, я спросил: «А соблюдаешь ли требование пять раз на дню читать намаз?», а он, показав кулак, ответил: «Я крепко придерживаюсь канонов Ислам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утники решили узнать, так ли действительно все понял пастух. Пастух отвечал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- Он мне показал палец и я подумал, что он хочет выколоть мне глаз. На что я ему ответил, что выколю ему оба глаза. Потом он показал ладонь, видимо говоря, что ударит меня по лицу. А я ответил, что тоже дам ему кулаком по голове. Я его прекрасно поня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опросы к клас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 чем притч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Какое отношение она имеет к нашему урок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помни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выяснили, что малая группа состоит из людей, которые хорошо знают друг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к происходит общение в малых групп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i?id=32121737-00"/>
          <p:cNvPicPr/>
          <p:nvPr/>
        </p:nvPicPr>
        <p:blipFill>
          <a:blip r:embed="rId1"/>
          <a:stretch/>
        </p:blipFill>
        <p:spPr>
          <a:xfrm>
            <a:off x="3492360" y="4365720"/>
            <a:ext cx="2221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ведем итоги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5228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ние в малой группе способству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ждению и анализу каких-либо проблем, нов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ю важных событий, характеристик, оце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А 56"/>
          <p:cNvPicPr/>
          <p:nvPr/>
        </p:nvPicPr>
        <p:blipFill>
          <a:blip r:embed="rId1"/>
          <a:stretch/>
        </p:blipFill>
        <p:spPr>
          <a:xfrm>
            <a:off x="6012000" y="508464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468360" y="0"/>
            <a:ext cx="8351640" cy="1125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личностные отношения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отношения в малой групп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никающие между хорошо знакомыми людь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их постоянного общ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50920" y="1341360"/>
            <a:ext cx="2736720" cy="122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сихологическ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нош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контакта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вуют чувств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эмо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132000" y="1268280"/>
            <a:ext cx="3024360" cy="122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равственные нор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ценим друзе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 преданность и верность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мимся быть чест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6300720" y="1268280"/>
            <a:ext cx="2592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лов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никнов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6551640" y="220500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ношения в мал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6551640" y="2781360"/>
            <a:ext cx="244800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ношения межд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хорошо  знакомы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539640" y="2708280"/>
            <a:ext cx="5688000" cy="6494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жличностное общ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3132000" y="3645000"/>
            <a:ext cx="2376720" cy="266364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одержание об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тупает как взаимный интерес к чувствам и личным особенностям партнера, готовность говорить о своих чувствах и интерес к мнениям, чувствам и желаниям партн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5651640" y="3716280"/>
            <a:ext cx="3241440" cy="266076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снов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личностные отношения базируются на взаимном интересе, симпатиях или антипатиях. Без этого интереса, в ситуации, когда партнер глубоко безразличен, ни о каких межличностных отношениях не может быть и речи. В отсутствии фундамента, основы, любая конструкция рано или поздно рушит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24000" y="3645000"/>
            <a:ext cx="2519280" cy="2879640"/>
          </a:xfrm>
          <a:prstGeom prst="foldedCorner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Межличност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тнош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ществуют тольк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гда, когда личн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зиции и чув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аимно интересу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тнеров, когда помим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елания говорить 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воих чувствах есть ещ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елание выслуш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тнера, интерес к ег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м мнения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чувства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133200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421164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7093080" y="112536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276720" y="249228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724360" y="3357720"/>
            <a:ext cx="64800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7451640" y="263700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7380360" y="2060640"/>
            <a:ext cx="64764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1332000" y="335772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3924360" y="3357720"/>
            <a:ext cx="6476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. Закон межличностн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же достичь баланса в отношениях между личностями? Каких правил следует придерживаться.  Сформулируйте и обсудите в группах законы межличностного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дите следующие вопросы и вариа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 какими людьми вам легче выстраивать отношения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ак влияет длительность общения на характер межличностных отношен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завышенной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заниженной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 № 3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 обладаете средней (адекватной) самооценкой. Как будут выстраиваться ваши отношения с окружающи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/>
          <p:cNvSpPr/>
          <p:nvPr/>
        </p:nvSpPr>
        <p:spPr>
          <a:xfrm>
            <a:off x="500040" y="0"/>
            <a:ext cx="8413920" cy="10717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жнейший закон межличностных отношений: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, как другие относятся к вам, во многом определяется тем, как вы относитесь к себ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85840" y="1357200"/>
            <a:ext cx="201600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вы комплексуете, недовольны собой – ваше настроение и недовольство передается други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428920" y="1357200"/>
            <a:ext cx="223200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у вас низкая самооценка, то и окружающие будут оценивать вас низ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786200" y="1357200"/>
            <a:ext cx="2160720" cy="143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у вас высокая самооценка, окружающие будут избегать общения с в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7093080" y="1357200"/>
            <a:ext cx="2050920" cy="14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ый вариант – средняя самооце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250920" y="3357720"/>
            <a:ext cx="8713800" cy="25002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. о., между принятием себя, принятием вами других людей и принятием вас другими людьми существует определенная связь. Восприятие себя и восприятие других – основа межличностных отнош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140328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313200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5651640" y="8366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7667640" y="83664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1:24:32Z</dcterms:created>
  <dc:creator>Paradise</dc:creator>
  <dc:description/>
  <dc:language>en-US</dc:language>
  <cp:lastModifiedBy>Татьяна</cp:lastModifiedBy>
  <dcterms:modified xsi:type="dcterms:W3CDTF">2022-02-08T08:23:05Z</dcterms:modified>
  <cp:revision>10</cp:revision>
  <dc:subject/>
  <dc:title>Урок № 14</dc:title>
</cp:coreProperties>
</file>