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232-A5B5-42C6-BA0C-7584713C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7BD-2145-4E8D-9330-63982C8E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079-3D5D-45D9-AE6A-375B8B48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50A-B94F-40C2-B643-54095919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F27F-7EED-4700-9067-146AB623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614-E759-4D9D-B0DE-E69E602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AAF9-6237-4E06-A2AF-80E170E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5D1B-180A-46F6-A9A5-CF9F6618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1FF5-1146-4A47-8BED-21C35FE7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E946-A47E-4443-8CDD-23FD949F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8619-DBE9-480E-9855-7C6153A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1DD-996F-4602-977C-92CF6AD3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6A04-A32E-41BD-A5DE-058B5008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7C81-B54B-487F-9AC9-B8B069E0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8222-BBA3-4002-82C1-E515CE08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744-8A91-4523-B8A2-61C79C31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6A9-23EB-4680-BE14-99B78FB6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957-A5E0-4BD7-A022-E4FBE50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BBE-E8D0-48EF-841A-B58D60C2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E55-47C3-4BB3-BB93-7413274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DDA-FC10-4300-B87C-5FDCBD2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14B-826B-4AE0-A5E4-014A21B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E53-4AE9-44F4-8605-2967605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57E-9AF9-4492-BAC4-BC04A512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0AD8-C3F6-470F-B866-53201FE17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4E2-8ED8-4CC6-A2CD-441F18C7B5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8"/>
          <p:cNvSpPr txBox="1"/>
          <p:nvPr/>
        </p:nvSpPr>
        <p:spPr>
          <a:xfrm>
            <a:off x="2268360" y="333360"/>
            <a:ext cx="5686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создают мультфильм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фессия – мультипликато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395280" y="5885280"/>
            <a:ext cx="837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рый день, ребята! Как вы думает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чем мы сегодня поговорим?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О создании мультфильм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429080" cy="29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3029040" cy="3381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3000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905280" cy="40338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удожник-постановщи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8355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будут выглядеть герои мультфильма, каковы они в движении - решает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художник-постановщи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льма. Ему приходится рисовать так много, что за день стачивается несколько каранда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альше чудо совершают 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художники-мультипликато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их руками оживают рисованные персонажи будущего мультфильма. Оживить персонаж непросто. Чтобы персонаж просто шевельнулся или моргнул, надо изготовить несколько десятков рисунков или фотографи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908000" y="5516280"/>
            <a:ext cx="68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ть аниматором – сложное, но очень увлекательное занятие. Уж чем-чем, а своей усидчивостью они могут похвастаться без ложной скромности – на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4 секунд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мультика аниматоры тратят около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дели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орного тру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от, в итоге перед нами цветное ки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а экране ведь не одни герои, их окружают деревья, города. Все эти фоны создают множество других художников. А поскольку современные мультфильмы немыслимы без объёмности, в них не только рисуют, но и с помощью специальных виртуальных программ создают трёхмерных персонаж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только работа над видео - рядом начинает подходить к концу, поднимается вопрос об озвучивании мульти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689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а немого кино давно прошли, поэтому каждый персонаж говорит своим собственным голосом. Правильно подобрать его – задача не из легких, ведь голос должен отражать характер героя, быть его визитной карточкой. Задача актеров – не просто прочитать фразу, а пережить ее вместе со своим героем. Справиться с таким может тольк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фессиональный акт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едь прочувствовать рисованную сцену очень и очень непросто – в этом может помочь только богатое воображение, а заодно искренняя любовь к смешным и добрым мульти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050920" y="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Акт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Звукорежиссёр и звукооператор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режиссеру и звукооператор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тоже не приходится скучать. Думаете, можно дать актеру микрофон с наушниками и отдыхать до самой премьеры мультика? Как бы не так – ведь помимо голосов существуют еще и фоновые звуки. Шелест листьев, пение птиц, ветерок в саду – все эти звуки нужно записать, а порой и самостоятельно создать. Без них пропадет вся атмосфера мультика, да и голоса надо правильно синхронизировать с видео, так что звукооператоры работают не покладая рук иногда до самого последнего мо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онтаж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н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00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826920" y="5084640"/>
            <a:ext cx="74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дние этапы работы ничуть не легче, а от того не менее интересны. Во время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таж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все собирается воедино: кадры, музыка, голоса актеров, фоновые звуки. Вносятся последние корректировки, идет активная работа над цве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314520" cy="3057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105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799200" y="6236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рофессии людей занимающихся созданием мультфиль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723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мь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– очень волнующий день для всех тех людей, что принимали участие в создании мультфильма. Именно после премьеры они узнают, как зритель оценил их работу. От стараний и усилий каждого зависит общий результат, а зрительская оценка значит для них очень многое. Это самая главная проверка способностей, пройти которую под силу только настоящим профессионалам – люди в кинотеатрах увидят только итоговый результат их труда, который по своему качеству должен быть непревзойде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211640" y="3860640"/>
            <a:ext cx="36021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4"/>
          <p:cNvSpPr txBox="1"/>
          <p:nvPr/>
        </p:nvSpPr>
        <p:spPr>
          <a:xfrm>
            <a:off x="1476360" y="2060640"/>
            <a:ext cx="669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.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250920" y="5733360"/>
            <a:ext cx="86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льтфильмы – это удивительный мир фантазии, который оживает на экране.  Как вы называете мультфильмы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821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897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исованные , кукольные, пластилиновые 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12" descr="img12"/>
          <p:cNvPicPr/>
          <p:nvPr/>
        </p:nvPicPr>
        <p:blipFill>
          <a:blip r:embed="rId1"/>
          <a:stretch/>
        </p:blipFill>
        <p:spPr>
          <a:xfrm>
            <a:off x="1979640" y="1844640"/>
            <a:ext cx="295128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514440" y="5949360"/>
            <a:ext cx="83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ованные , кукольные, пластилиновые персонажи ведут себя как живы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радуются, грустят, действуют. С ними происходят невероятные чуд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7625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исованные персонаж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-1189080" y="1386000"/>
            <a:ext cx="5292720" cy="3779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3268800" y="2808360"/>
            <a:ext cx="5868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стилиновые персонаж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0" y="896760"/>
            <a:ext cx="6156360" cy="3461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"/>
          <p:cNvPicPr/>
          <p:nvPr/>
        </p:nvPicPr>
        <p:blipFill>
          <a:blip r:embed="rId2"/>
          <a:stretch/>
        </p:blipFill>
        <p:spPr>
          <a:xfrm>
            <a:off x="4254480" y="3639960"/>
            <a:ext cx="4859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кольные персонаж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-324000" y="765000"/>
            <a:ext cx="5580360" cy="3583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3851280" y="3063960"/>
            <a:ext cx="5580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280" y="620640"/>
            <a:ext cx="770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ой кажется, что рисовать мультики простое занятие, которое по сложности никогда не сравнится со съемками профессиональных актеров. Но на деле все обстоит иначе. Создание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юбого муль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– невероятно трудоемкий процесс, занимающий очень много времени и с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 чего начинается создание мультфиль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чно, все начинается с идеи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втор, сценарис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4920" y="11970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ценар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– основа всей дальнейшей работы, на которую будут ориентироваться художники, актеры и звукоопера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0" y="1484280"/>
            <a:ext cx="4038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4000" y="5700240"/>
            <a:ext cx="94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ценарий  тщательно согласовывается и дорабатывается для полу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есной и захватывающей истории, полной запоминающих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ментов и шу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4356000" y="1268280"/>
            <a:ext cx="42674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4057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356000" y="1700280"/>
            <a:ext cx="4330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й родитель в этом процессе - 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режисс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н создаёт будущий фильм от начала до конца и руководит съёмочной группой, которая воплощает замысел на прак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жиссёр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116000" y="57999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ценарий придумали, что дальш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20:20:27Z</dcterms:created>
  <dc:creator>Admin</dc:creator>
  <dc:description/>
  <dc:language>en-US</dc:language>
  <cp:lastModifiedBy>наташа</cp:lastModifiedBy>
  <dcterms:modified xsi:type="dcterms:W3CDTF">2021-10-12T10:46:27Z</dcterms:modified>
  <cp:revision>21</cp:revision>
  <dc:subject/>
  <dc:title>Слайд 1</dc:title>
</cp:coreProperties>
</file>