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C60-C2F7-4EED-9092-F29F717B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F80-FB8E-4E28-A253-3CCFCBD3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36D-D1B3-4185-963D-DA93BAE8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EAD-86C4-4E7C-B4EE-52D1770F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05BC-F044-4A79-8BF3-374E04B2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8F47-B504-44D6-85D5-C581C958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571E-2BB2-4072-B94E-D72F83DA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6C68-DFCF-4BDC-B63E-AC63FE1D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B77F-6565-4A4C-9DE0-5E01C70A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5224-C556-4E8D-A58C-DF0EB5F1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C2F3-3AF4-45F4-9BE4-07110D9C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4AA-17DF-4B97-B5B6-C5DD9614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C1B1-5EDA-45DC-BA9D-1AC253F7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BA2A-CD56-4FF4-A843-06642089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2B11-40A9-4819-8606-0102D7CF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28DB-023E-4854-8F4E-2D09C4F8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9FF6-F562-4D08-9ECF-552EA2A4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A61-7A11-4932-8B92-7F7764DB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B55-C105-47AA-9FC1-CF7F4E57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187-4777-4588-82DD-2AC99684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D98-6171-47C4-9194-078C3AE4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899-011D-4E2B-B0D7-0DA9875E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7F7-F85B-4189-8728-221A44A3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DE7-CFC8-45BA-B24C-2DA11CB2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EC7F-8617-4A35-B390-84BA1351B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E481-E2F1-468E-8BBB-C0FBBD1617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8"/>
          <p:cNvSpPr txBox="1"/>
          <p:nvPr/>
        </p:nvSpPr>
        <p:spPr>
          <a:xfrm>
            <a:off x="2268360" y="333360"/>
            <a:ext cx="56865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создают мультфильм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фессия – мультипликатор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395280" y="5885280"/>
            <a:ext cx="837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брый день, ребята! Как вы думает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чем мы сегодня поговорим?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О создании мультфильм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429080" cy="295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2"/>
          <a:stretch/>
        </p:blipFill>
        <p:spPr>
          <a:xfrm>
            <a:off x="5724360" y="2133720"/>
            <a:ext cx="3029040" cy="3381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3"/>
          <a:stretch/>
        </p:blipFill>
        <p:spPr>
          <a:xfrm>
            <a:off x="3203640" y="1844640"/>
            <a:ext cx="30002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905280" cy="40338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удожник-постановщи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8355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будут выглядеть герои мультфильма, каковы они в движении - решает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художник-постановщи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льма. Ему приходится рисовать так много, что за день стачивается несколько каранда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дальше чудо совершают 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художники-мультипликато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 их руками оживают рисованные персонажи будущего мультфильма. Оживить персонаж непросто. Чтобы персонаж просто шевельнулся или моргнул, надо изготовить несколько десятков рисунков или фотографи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1908000" y="5516280"/>
            <a:ext cx="689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ть аниматором – сложное, но очень увлекательное занятие. Уж чем-чем, а своей усидчивостью они могут похвастаться без ложной скромности – на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4 секунд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мультика аниматоры тратят около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дели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порного труд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вот, в итоге перед нами цветное ки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на экране ведь не одни герои, их окружают деревья, города. Все эти фоны создают множество других художников. А поскольку современные мультфильмы немыслимы без объёмности, в них не только рисуют, но и с помощью специальных виртуальных программ создают трёхмерных персонаж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только работа над видео - рядом начинает подходить к концу, поднимается вопрос об озвучивании мульти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5689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ена немого кино давно прошли, поэтому каждый персонаж говорит своим собственным голосом. Правильно подобрать его – задача не из легких, ведь голос должен отражать характер героя, быть его визитной карточкой. Задача актеров – не просто прочитать фразу, а пережить ее вместе со своим героем. Справиться с таким может тольк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фессиональный акт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едь прочувствовать рисованную сцену очень и очень непросто – в этом может помочь только богатое воображение, а заодно искренняя любовь к смешным и добрым мульти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050920" y="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Акт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Звукорежиссёр и звукооператор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вукорежиссеру и звукооператора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тоже не приходится скучать. Думаете, можно дать актеру микрофон с наушниками и отдыхать до самой премьеры мультика? Как бы не так – ведь помимо голосов существуют еще и фоновые звуки. Шелест листьев, пение птиц, ветерок в саду – все эти звуки нужно записать, а порой и самостоятельно создать. Без них пропадет вся атмосфера мультика, да и голоса надо правильно синхронизировать с видео, так что звукооператоры работают не покладая рук иногда до самого последнего моме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417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онтаж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н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71600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йч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826920" y="5084640"/>
            <a:ext cx="74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дние этапы работы ничуть не легче, а от того не менее интересны. Во время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нтаж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все собирается воедино: кадры, музыка, голоса актеров, фоновые звуки. Вносятся последние корректировки, идет активная работа над цве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314520" cy="3057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105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799200" y="6236640"/>
            <a:ext cx="76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профессии людей занимающихся созданием мультфиль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7236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мь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– очень волнующий день для всех тех людей, что принимали участие в создании мультфильма. Именно после премьеры они узнают, как зритель оценил их работу. От стараний и усилий каждого зависит общий результат, а зрительская оценка значит для них очень многое. Это самая главная проверка способностей, пройти которую под силу только настоящим профессионалам – люди в кинотеатрах увидят только итоговый результат их труда, который по своему качеству должен быть непревзойде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4211640" y="3860640"/>
            <a:ext cx="36021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4"/>
          <p:cNvSpPr txBox="1"/>
          <p:nvPr/>
        </p:nvSpPr>
        <p:spPr>
          <a:xfrm>
            <a:off x="1476360" y="2060640"/>
            <a:ext cx="6697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пасибо за внимание.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250920" y="5733360"/>
            <a:ext cx="86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льтфильмы – это удивительный мир фантазии, который оживает на экране.  Как вы называете мультфильмы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3821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897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исованные , кукольные, пластилиновые 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12" descr="img12"/>
          <p:cNvPicPr/>
          <p:nvPr/>
        </p:nvPicPr>
        <p:blipFill>
          <a:blip r:embed="rId1"/>
          <a:stretch/>
        </p:blipFill>
        <p:spPr>
          <a:xfrm>
            <a:off x="1979640" y="1844640"/>
            <a:ext cx="2951280" cy="2084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514440" y="5949360"/>
            <a:ext cx="830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сованные , кукольные, пластилиновые персонажи ведут себя как живы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и радуются, грустят, действуют. С ними происходят невероятные чуде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57625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исованные персонаж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-1189080" y="1386000"/>
            <a:ext cx="5292720" cy="37796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2"/>
          <a:stretch/>
        </p:blipFill>
        <p:spPr>
          <a:xfrm>
            <a:off x="3268800" y="2808360"/>
            <a:ext cx="58687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стилиновые персонаж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0" y="896760"/>
            <a:ext cx="6156360" cy="34610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3" descr=""/>
          <p:cNvPicPr/>
          <p:nvPr/>
        </p:nvPicPr>
        <p:blipFill>
          <a:blip r:embed="rId2"/>
          <a:stretch/>
        </p:blipFill>
        <p:spPr>
          <a:xfrm>
            <a:off x="4254480" y="3639960"/>
            <a:ext cx="4859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укольные персонаж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-324000" y="765000"/>
            <a:ext cx="5580360" cy="3583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"/>
          <p:cNvPicPr/>
          <p:nvPr/>
        </p:nvPicPr>
        <p:blipFill>
          <a:blip r:embed="rId2"/>
          <a:stretch/>
        </p:blipFill>
        <p:spPr>
          <a:xfrm>
            <a:off x="3851280" y="3063960"/>
            <a:ext cx="55800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9280" y="620640"/>
            <a:ext cx="770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ой кажется, что рисовать мультики простое занятие, которое по сложности никогда не сравнится со съемками профессиональных актеров. Но на деле все обстоит иначе. Создание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юбого мульт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– невероятно трудоемкий процесс, занимающий очень много времени и си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 чего начинается создание мультфиль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ечно, все начинается с идеи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втор, сценарист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4920" y="11970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ценар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– основа всей дальнейшей работы, на которую будут ориентироваться художники, актеры и звукоопера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0" y="1484280"/>
            <a:ext cx="40384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24000" y="5700240"/>
            <a:ext cx="94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ценарий  тщательно согласовывается и дорабатывается для получ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есной и захватывающей истории, полной запоминающих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ментов и шут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tretch/>
        </p:blipFill>
        <p:spPr>
          <a:xfrm>
            <a:off x="4356000" y="1268280"/>
            <a:ext cx="42674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40575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356000" y="1700280"/>
            <a:ext cx="4330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й родитель в этом процессе - 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режиссё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Он создаёт будущий фильм от начала до конца и руководит съёмочной группой, которая воплощает замысел на прак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жиссёр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116000" y="57999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ценарий придумали, что дальш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20:20:27Z</dcterms:created>
  <dc:creator>Admin</dc:creator>
  <dc:description/>
  <dc:language>en-US</dc:language>
  <cp:lastModifiedBy>наташа</cp:lastModifiedBy>
  <dcterms:modified xsi:type="dcterms:W3CDTF">2021-10-12T10:46:27Z</dcterms:modified>
  <cp:revision>21</cp:revision>
  <dc:subject/>
  <dc:title>Слайд 1</dc:title>
</cp:coreProperties>
</file>