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FB8-40D1-4AA7-8ACA-3A2D0104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AB7-C9C2-47F5-AF69-13F4552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42E-9A96-4D8F-99F2-755DB2DE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213-39D6-41BC-A3D6-6CD86D5A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A5E-70DF-4851-863A-D04BC1E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A6A-2C09-43BF-8FE2-DB3292B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B1E-7F4C-490A-975A-E1A7EE6E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8CD-134A-4520-B6D2-5939DC6E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926-EB06-44F6-AEA5-88A3CC9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CE8-3CD2-46F6-91D2-40808988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1B3-EF11-4C77-9653-3C4E7CD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11E-3C56-475D-9171-45F9F2B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155-8CC2-47D6-BC88-FCC942E94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xbill"/>
          <p:cNvPicPr/>
          <p:nvPr/>
        </p:nvPicPr>
        <p:blipFill>
          <a:blip r:embed="rId1"/>
          <a:stretch/>
        </p:blipFill>
        <p:spPr>
          <a:xfrm>
            <a:off x="714240" y="3214800"/>
            <a:ext cx="200052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130640" y="5494320"/>
            <a:ext cx="47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онсультация: 8 800 7008 028 (звонок бесплат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31360" y="5854680"/>
            <a:ext cx="49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ткрытое педагогическое объединение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nik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1714680" y="2143080"/>
            <a:ext cx="678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Те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libri"/>
              </a:rPr>
              <a:t>Причины подростковой агр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4000680" y="5429160"/>
            <a:ext cx="514332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Автор: Еременко Анастасия, учащаяся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Руководитель: Карпова С.С.,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:\Users\install\Desktop\знак2.png"/>
          <p:cNvPicPr/>
          <p:nvPr/>
        </p:nvPicPr>
        <p:blipFill>
          <a:blip r:embed="rId3"/>
          <a:stretch/>
        </p:blipFill>
        <p:spPr>
          <a:xfrm>
            <a:off x="401760" y="781200"/>
            <a:ext cx="4481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AutoShape 94"/>
          <p:cNvGrpSpPr/>
          <p:nvPr/>
        </p:nvGrpSpPr>
        <p:grpSpPr>
          <a:xfrm>
            <a:off x="365040" y="963720"/>
            <a:ext cx="5834160" cy="1322280"/>
            <a:chOff x="365040" y="963720"/>
            <a:chExt cx="5834160" cy="1322280"/>
          </a:xfrm>
        </p:grpSpPr>
        <p:pic>
          <p:nvPicPr>
            <p:cNvPr id="125" name="AutoShape 94" descr=""/>
            <p:cNvPicPr/>
            <p:nvPr/>
          </p:nvPicPr>
          <p:blipFill>
            <a:blip r:embed="rId1"/>
            <a:stretch/>
          </p:blipFill>
          <p:spPr>
            <a:xfrm>
              <a:off x="365040" y="963720"/>
              <a:ext cx="58341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6600" y="1177920"/>
              <a:ext cx="53593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 исслед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2928960" y="2647440"/>
            <a:ext cx="60008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Анализ; опрос; наблю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сбор информации из книг, обобщение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428760" y="2143080"/>
            <a:ext cx="7786440" cy="2838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ессия представляет собой совокупность показателей – физической, косвенной, вербальной агрессии. Агрессия может быть направлена на других или на себя, может быть открытой или скрытой, пассивной, когда она выражается в отказах, пассивном сопротивлении требованиям окружения. Агрессия является реакцией на невозможность достижения желаемого, обиду, боль. Сама проблема очень сложна и многогранна, в связи с этим существует множество определений агрессии и агрессивности от разных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94"/>
          <p:cNvGrpSpPr/>
          <p:nvPr/>
        </p:nvGrpSpPr>
        <p:grpSpPr>
          <a:xfrm>
            <a:off x="1079640" y="390600"/>
            <a:ext cx="3833640" cy="1468440"/>
            <a:chOff x="1079640" y="390600"/>
            <a:chExt cx="3833640" cy="1468440"/>
          </a:xfrm>
        </p:grpSpPr>
        <p:pic>
          <p:nvPicPr>
            <p:cNvPr id="132" name="AutoShape 94" descr=""/>
            <p:cNvPicPr/>
            <p:nvPr/>
          </p:nvPicPr>
          <p:blipFill>
            <a:blip r:embed="rId2"/>
            <a:stretch/>
          </p:blipFill>
          <p:spPr>
            <a:xfrm>
              <a:off x="1079640" y="390600"/>
              <a:ext cx="38336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41360" y="627120"/>
              <a:ext cx="33181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еоретические аспек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. Агрессия и агресси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программ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ты любишь смотре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4200" y="1862280"/>
          <a:ext cx="8929800" cy="3919320"/>
        </p:xfrm>
        <a:graphic>
          <a:graphicData uri="http://schemas.openxmlformats.org/drawingml/2006/table">
            <a:tbl>
              <a:tblPr/>
              <a:tblGrid>
                <a:gridCol w="1285920"/>
                <a:gridCol w="1265400"/>
                <a:gridCol w="1276200"/>
                <a:gridCol w="1274760"/>
                <a:gridCol w="1276560"/>
                <a:gridCol w="1274760"/>
                <a:gridCol w="1276200"/>
              </a:tblGrid>
              <a:tr h="20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ильмы уж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Ш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ка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сторические филь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руг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вуш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ебе в них нравитс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72200" y="0"/>
            <a:ext cx="19288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0040" y="2071800"/>
          <a:ext cx="8229600" cy="3421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побед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испуг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расивые люди, наря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казочная, добрая 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узнать что-то н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быть таким 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нош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ву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28640" y="1857240"/>
            <a:ext cx="6615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онтёр – э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(доброволец), участвующий (абсолютно бесплатно) в различных социально-значимых кампаниях: распространении необходимой информации, подготовке и проведении общественных а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42" name="AutoShape 94"/>
          <p:cNvGrpSpPr/>
          <p:nvPr/>
        </p:nvGrpSpPr>
        <p:grpSpPr>
          <a:xfrm>
            <a:off x="579600" y="324000"/>
            <a:ext cx="4620960" cy="1461960"/>
            <a:chOff x="579600" y="324000"/>
            <a:chExt cx="4620960" cy="1461960"/>
          </a:xfrm>
        </p:grpSpPr>
        <p:pic>
          <p:nvPicPr>
            <p:cNvPr id="143" name="AutoShape 94" descr=""/>
            <p:cNvPicPr/>
            <p:nvPr/>
          </p:nvPicPr>
          <p:blipFill>
            <a:blip r:embed="rId2"/>
            <a:stretch/>
          </p:blipFill>
          <p:spPr>
            <a:xfrm>
              <a:off x="579600" y="324000"/>
              <a:ext cx="46209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41320" y="555480"/>
              <a:ext cx="4103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еализация в практ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.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олонтерское дви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Рисунок 7" descr="G:\на сайт школы1\IMG_0449.JPG"/>
          <p:cNvPicPr/>
          <p:nvPr/>
        </p:nvPicPr>
        <p:blipFill>
          <a:blip r:embed="rId3"/>
          <a:stretch/>
        </p:blipFill>
        <p:spPr>
          <a:xfrm>
            <a:off x="142920" y="2643120"/>
            <a:ext cx="2460600" cy="1644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G:\на сайт школы1\IMG_0604.JPG"/>
          <p:cNvPicPr/>
          <p:nvPr/>
        </p:nvPicPr>
        <p:blipFill>
          <a:blip r:embed="rId4"/>
          <a:stretch/>
        </p:blipFill>
        <p:spPr>
          <a:xfrm>
            <a:off x="6724800" y="4429080"/>
            <a:ext cx="2419200" cy="160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0" descr="G:\на сайт школы1\IMG_0776.JPG"/>
          <p:cNvPicPr/>
          <p:nvPr/>
        </p:nvPicPr>
        <p:blipFill>
          <a:blip r:embed="rId5"/>
          <a:stretch/>
        </p:blipFill>
        <p:spPr>
          <a:xfrm>
            <a:off x="4286160" y="5000760"/>
            <a:ext cx="2216160" cy="14792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G:\на сайт школы1\IMG_0531.JPG"/>
          <p:cNvPicPr/>
          <p:nvPr/>
        </p:nvPicPr>
        <p:blipFill>
          <a:blip r:embed="rId6"/>
          <a:stretch/>
        </p:blipFill>
        <p:spPr>
          <a:xfrm>
            <a:off x="857160" y="4857840"/>
            <a:ext cx="24987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install\Desktop\неделя психологии 2014\акция винни пух и все все все\Слайд5.GIF"/>
          <p:cNvPicPr/>
          <p:nvPr/>
        </p:nvPicPr>
        <p:blipFill>
          <a:blip r:embed="rId1"/>
          <a:stretch/>
        </p:blipFill>
        <p:spPr>
          <a:xfrm>
            <a:off x="785880" y="0"/>
            <a:ext cx="4572000" cy="2000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install\Desktop\неделя психологии 2014\акция винни пух и все все все\Слайд6.GIF"/>
          <p:cNvPicPr/>
          <p:nvPr/>
        </p:nvPicPr>
        <p:blipFill>
          <a:blip r:embed="rId2"/>
          <a:stretch/>
        </p:blipFill>
        <p:spPr>
          <a:xfrm>
            <a:off x="585792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install\Desktop\неделя психологии 2014\акция винни пух и все все все\Слайд9.GIF"/>
          <p:cNvPicPr/>
          <p:nvPr/>
        </p:nvPicPr>
        <p:blipFill>
          <a:blip r:embed="rId3"/>
          <a:stretch/>
        </p:blipFill>
        <p:spPr>
          <a:xfrm>
            <a:off x="285840" y="2786040"/>
            <a:ext cx="20271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install\Desktop\неделя психологии 2014\акция винни пух и все все все\Слайд10.GIF"/>
          <p:cNvPicPr/>
          <p:nvPr/>
        </p:nvPicPr>
        <p:blipFill>
          <a:blip r:embed="rId4"/>
          <a:stretch/>
        </p:blipFill>
        <p:spPr>
          <a:xfrm>
            <a:off x="1357200" y="430380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install\Desktop\неделя психологии 2014\акция винни пух и все все все\Слайд13.GIF"/>
          <p:cNvPicPr/>
          <p:nvPr/>
        </p:nvPicPr>
        <p:blipFill>
          <a:blip r:embed="rId5"/>
          <a:stretch/>
        </p:blipFill>
        <p:spPr>
          <a:xfrm>
            <a:off x="2857680" y="2786040"/>
            <a:ext cx="1904760" cy="13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install\Desktop\неделя психологии 2014\акция винни пух и все все все\Слайд14.GIF"/>
          <p:cNvPicPr/>
          <p:nvPr/>
        </p:nvPicPr>
        <p:blipFill>
          <a:blip r:embed="rId6"/>
          <a:stretch/>
        </p:blipFill>
        <p:spPr>
          <a:xfrm>
            <a:off x="5429160" y="2786040"/>
            <a:ext cx="1805040" cy="135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install\Desktop\неделя психологии 2014\акция винни пух и все все все\Слайд11.GIF"/>
          <p:cNvPicPr/>
          <p:nvPr/>
        </p:nvPicPr>
        <p:blipFill>
          <a:blip r:embed="rId7"/>
          <a:stretch/>
        </p:blipFill>
        <p:spPr>
          <a:xfrm>
            <a:off x="3929040" y="435780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Users\install\Desktop\неделя психологии 2014\акция винни пух и все все все\Слайд12.GIF"/>
          <p:cNvPicPr/>
          <p:nvPr/>
        </p:nvPicPr>
        <p:blipFill>
          <a:blip r:embed="rId8"/>
          <a:stretch/>
        </p:blipFill>
        <p:spPr>
          <a:xfrm>
            <a:off x="6431040" y="4286160"/>
            <a:ext cx="20700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357120" y="1941480"/>
            <a:ext cx="7929720" cy="2620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нтерское движение: опыт, проблемы, перспективы: Рабочие материалы семинара. - Киев, 24-30 сентября 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жь для молодежи. Практ. пособ. по проведению волонтер, лагерей. - Донецк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агрессивности в современной зарубежной психологии // Вопросы психологии.- 1991.- №1.-С. 11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словарь / Под ред. В. П. Зинченко, Б. Г. Мещерякова. 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 изд., перераб. и доп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: Педагоги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с, 2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ева Г. Р.Проявление агрессии в зависимости от типов темперамента //Актуальные проблемы гуманитарного и профессионального знания: Сборник студенческих научных работ. Профессиональные знания - Нижнекамск: Нижнекамский филиал МГЭИ, 2006.-С.113-1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37"/>
          <p:cNvGrpSpPr/>
          <p:nvPr/>
        </p:nvGrpSpPr>
        <p:grpSpPr>
          <a:xfrm>
            <a:off x="1285920" y="1787400"/>
            <a:ext cx="7429320" cy="1046160"/>
            <a:chOff x="1285920" y="1787400"/>
            <a:chExt cx="7429320" cy="1046160"/>
          </a:xfrm>
        </p:grpSpPr>
        <p:grpSp>
          <p:nvGrpSpPr>
            <p:cNvPr id="51" name="AutoShape 94"/>
            <p:cNvGrpSpPr/>
            <p:nvPr/>
          </p:nvGrpSpPr>
          <p:grpSpPr>
            <a:xfrm>
              <a:off x="1285920" y="2070720"/>
              <a:ext cx="7224840" cy="762840"/>
              <a:chOff x="1285920" y="2070720"/>
              <a:chExt cx="7224840" cy="762840"/>
            </a:xfrm>
          </p:grpSpPr>
          <p:pic>
            <p:nvPicPr>
              <p:cNvPr id="52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1285920" y="2070720"/>
                <a:ext cx="722484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1451160" y="2199960"/>
                <a:ext cx="690408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7"/>
            <p:cNvGrpSpPr/>
            <p:nvPr/>
          </p:nvGrpSpPr>
          <p:grpSpPr>
            <a:xfrm>
              <a:off x="3730680" y="1787400"/>
              <a:ext cx="2207520" cy="600480"/>
              <a:chOff x="3730680" y="1787400"/>
              <a:chExt cx="2207520" cy="600480"/>
            </a:xfrm>
          </p:grpSpPr>
          <p:sp>
            <p:nvSpPr>
              <p:cNvPr id="55" name="Oval 98"/>
              <p:cNvSpPr/>
              <p:nvPr/>
            </p:nvSpPr>
            <p:spPr>
              <a:xfrm>
                <a:off x="3730680" y="1787400"/>
                <a:ext cx="2207520" cy="600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99"/>
              <p:cNvSpPr/>
              <p:nvPr/>
            </p:nvSpPr>
            <p:spPr>
              <a:xfrm>
                <a:off x="3753720" y="1792080"/>
                <a:ext cx="2134800" cy="581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04"/>
            <p:cNvSpPr/>
            <p:nvPr/>
          </p:nvSpPr>
          <p:spPr>
            <a:xfrm>
              <a:off x="1315800" y="2252880"/>
              <a:ext cx="739944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Описание проблем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7" descr="C:\Users\install\Pictures\000000002.jpg"/>
          <p:cNvPicPr/>
          <p:nvPr/>
        </p:nvPicPr>
        <p:blipFill>
          <a:blip r:embed="rId3"/>
          <a:stretch/>
        </p:blipFill>
        <p:spPr>
          <a:xfrm>
            <a:off x="4000680" y="3429000"/>
            <a:ext cx="2147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37"/>
          <p:cNvGrpSpPr/>
          <p:nvPr/>
        </p:nvGrpSpPr>
        <p:grpSpPr>
          <a:xfrm>
            <a:off x="214200" y="1428840"/>
            <a:ext cx="7429680" cy="2849760"/>
            <a:chOff x="214200" y="1428840"/>
            <a:chExt cx="7429680" cy="2849760"/>
          </a:xfrm>
        </p:grpSpPr>
        <p:grpSp>
          <p:nvGrpSpPr>
            <p:cNvPr id="62" name="AutoShape 94"/>
            <p:cNvGrpSpPr/>
            <p:nvPr/>
          </p:nvGrpSpPr>
          <p:grpSpPr>
            <a:xfrm>
              <a:off x="214200" y="1428840"/>
              <a:ext cx="7230240" cy="811800"/>
              <a:chOff x="214200" y="1428840"/>
              <a:chExt cx="7230240" cy="811800"/>
            </a:xfrm>
          </p:grpSpPr>
          <p:pic>
            <p:nvPicPr>
              <p:cNvPr id="63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1428840"/>
                <a:ext cx="7230240" cy="8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380520" y="1569240"/>
                <a:ext cx="69033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04"/>
            <p:cNvSpPr/>
            <p:nvPr/>
          </p:nvSpPr>
          <p:spPr>
            <a:xfrm>
              <a:off x="245160" y="1625040"/>
              <a:ext cx="7398720" cy="2653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Волна насилия и преступности среди учащихся не спадает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Опасность дегуманизации подрастающего поколения нарастает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Мир переживает вспышку наркомании, проституции, преступ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3" descr="C:\Users\install\Pictures\image002_66.jpg"/>
          <p:cNvPicPr/>
          <p:nvPr/>
        </p:nvPicPr>
        <p:blipFill>
          <a:blip r:embed="rId3"/>
          <a:stretch/>
        </p:blipFill>
        <p:spPr>
          <a:xfrm>
            <a:off x="5286240" y="4322880"/>
            <a:ext cx="28101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37"/>
          <p:cNvGrpSpPr/>
          <p:nvPr/>
        </p:nvGrpSpPr>
        <p:grpSpPr>
          <a:xfrm>
            <a:off x="214200" y="1428840"/>
            <a:ext cx="7429680" cy="1017720"/>
            <a:chOff x="214200" y="1428840"/>
            <a:chExt cx="7429680" cy="1017720"/>
          </a:xfrm>
        </p:grpSpPr>
        <p:grpSp>
          <p:nvGrpSpPr>
            <p:cNvPr id="70" name="AutoShape 94"/>
            <p:cNvGrpSpPr/>
            <p:nvPr/>
          </p:nvGrpSpPr>
          <p:grpSpPr>
            <a:xfrm>
              <a:off x="214200" y="1428840"/>
              <a:ext cx="7230240" cy="795240"/>
              <a:chOff x="214200" y="1428840"/>
              <a:chExt cx="7230240" cy="795240"/>
            </a:xfrm>
          </p:grpSpPr>
          <p:pic>
            <p:nvPicPr>
              <p:cNvPr id="71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1428840"/>
                <a:ext cx="723024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80520" y="1566360"/>
                <a:ext cx="690336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04"/>
            <p:cNvSpPr/>
            <p:nvPr/>
          </p:nvSpPr>
          <p:spPr>
            <a:xfrm>
              <a:off x="245160" y="1621080"/>
              <a:ext cx="7398720" cy="8254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Актуальность изучаемой темы</a:t>
              </a:r>
              <a:r>
                <a:rPr b="1" lang="ru-RU" sz="2000" spc="-1" strike="noStrike">
                  <a:solidFill>
                    <a:srgbClr val="4a452a"/>
                  </a:solidFill>
                  <a:latin typeface="Calibri"/>
                </a:rPr>
                <a:t>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"/>
          <p:cNvSpPr/>
          <p:nvPr/>
        </p:nvSpPr>
        <p:spPr>
          <a:xfrm>
            <a:off x="2313360" y="3147480"/>
            <a:ext cx="6133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Современная цивилизация порождает кризисные 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в школьной сре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Тревожат антигуманность, снижение эт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нравственных критериев у многих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78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79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Цель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"/>
          <p:cNvSpPr/>
          <p:nvPr/>
        </p:nvSpPr>
        <p:spPr>
          <a:xfrm>
            <a:off x="2786040" y="322128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системы совместной деятельности социально-психологической службы и волонтерского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84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85" name="AutoShape 9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Задачи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28760" y="4186440"/>
            <a:ext cx="60004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етить систему мероприятий для создания наиболее эффективных  условий коррекционно-профил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928960" y="222120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теоретический анализ научно-педагогической литературе по проблеме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AutoShape 94"/>
          <p:cNvGrpSpPr/>
          <p:nvPr/>
        </p:nvGrpSpPr>
        <p:grpSpPr>
          <a:xfrm>
            <a:off x="4754520" y="4395960"/>
            <a:ext cx="3889440" cy="2108160"/>
            <a:chOff x="4754520" y="4395960"/>
            <a:chExt cx="3889440" cy="2108160"/>
          </a:xfrm>
        </p:grpSpPr>
        <p:pic>
          <p:nvPicPr>
            <p:cNvPr id="92" name="AutoShape 94" descr=""/>
            <p:cNvPicPr/>
            <p:nvPr/>
          </p:nvPicPr>
          <p:blipFill>
            <a:blip r:embed="rId1"/>
            <a:stretch/>
          </p:blipFill>
          <p:spPr>
            <a:xfrm>
              <a:off x="4754520" y="4395960"/>
              <a:ext cx="388944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51600" y="4722840"/>
              <a:ext cx="309060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наиболее эффектив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 и методов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емов работы с агрессивными подросткам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00120" y="1938600"/>
            <a:ext cx="6000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ю, что коррекционно-профилактическая работа по профилактике агрессивного поведения среди подростков будет протекать наиболее успешно при соблюдении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252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94"/>
          <p:cNvGrpSpPr/>
          <p:nvPr/>
        </p:nvGrpSpPr>
        <p:grpSpPr>
          <a:xfrm>
            <a:off x="365040" y="4322880"/>
            <a:ext cx="3762360" cy="2181240"/>
            <a:chOff x="365040" y="4322880"/>
            <a:chExt cx="3762360" cy="2181240"/>
          </a:xfrm>
        </p:grpSpPr>
        <p:pic>
          <p:nvPicPr>
            <p:cNvPr id="98" name="AutoShape 94" descr=""/>
            <p:cNvPicPr/>
            <p:nvPr/>
          </p:nvPicPr>
          <p:blipFill>
            <a:blip r:embed="rId3"/>
            <a:stretch/>
          </p:blipFill>
          <p:spPr>
            <a:xfrm>
              <a:off x="365040" y="4322880"/>
              <a:ext cx="37623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31880" y="4660920"/>
              <a:ext cx="303696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есное взаимодейств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циально-психологиче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лужбы и волонтер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37"/>
          <p:cNvGrpSpPr/>
          <p:nvPr/>
        </p:nvGrpSpPr>
        <p:grpSpPr>
          <a:xfrm>
            <a:off x="642960" y="428760"/>
            <a:ext cx="2676600" cy="1357200"/>
            <a:chOff x="642960" y="428760"/>
            <a:chExt cx="2676600" cy="1357200"/>
          </a:xfrm>
        </p:grpSpPr>
        <p:grpSp>
          <p:nvGrpSpPr>
            <p:cNvPr id="101" name="AutoShape 94"/>
            <p:cNvGrpSpPr/>
            <p:nvPr/>
          </p:nvGrpSpPr>
          <p:grpSpPr>
            <a:xfrm>
              <a:off x="642960" y="428760"/>
              <a:ext cx="2676600" cy="1357200"/>
              <a:chOff x="642960" y="428760"/>
              <a:chExt cx="2676600" cy="1357200"/>
            </a:xfrm>
          </p:grpSpPr>
          <p:pic>
            <p:nvPicPr>
              <p:cNvPr id="102" name="AutoShape 94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960" y="428760"/>
                <a:ext cx="267660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893880" y="647640"/>
                <a:ext cx="218016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04"/>
            <p:cNvSpPr/>
            <p:nvPr/>
          </p:nvSpPr>
          <p:spPr>
            <a:xfrm>
              <a:off x="965160" y="794160"/>
              <a:ext cx="184500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Гипоте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25"/>
          <p:cNvSpPr/>
          <p:nvPr/>
        </p:nvSpPr>
        <p:spPr>
          <a:xfrm flipH="1">
            <a:off x="4643280" y="4071960"/>
            <a:ext cx="500400" cy="6429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c7d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4143240" y="4214880"/>
            <a:ext cx="428760" cy="785880"/>
          </a:xfrm>
          <a:prstGeom prst="pie">
            <a:avLst/>
          </a:prstGeom>
          <a:gradFill rotWithShape="0">
            <a:gsLst>
              <a:gs pos="0">
                <a:srgbClr val="33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108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109" name="AutoShape 9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Задачи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28760" y="4186440"/>
            <a:ext cx="60004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етить систему мероприятий для создания наиболее эффективных  условий коррекционно-профил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928960" y="222120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теоретический анализ научно-педагогической литературе по проблеме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AutoShape 94"/>
          <p:cNvGrpSpPr/>
          <p:nvPr/>
        </p:nvGrpSpPr>
        <p:grpSpPr>
          <a:xfrm>
            <a:off x="-60480" y="1889280"/>
            <a:ext cx="2791080" cy="1469880"/>
            <a:chOff x="-60480" y="1889280"/>
            <a:chExt cx="2791080" cy="1469880"/>
          </a:xfrm>
        </p:grpSpPr>
        <p:pic>
          <p:nvPicPr>
            <p:cNvPr id="116" name="AutoShape 94" descr=""/>
            <p:cNvPicPr/>
            <p:nvPr/>
          </p:nvPicPr>
          <p:blipFill>
            <a:blip r:embed="rId1"/>
            <a:stretch/>
          </p:blipFill>
          <p:spPr>
            <a:xfrm>
              <a:off x="-60480" y="1889280"/>
              <a:ext cx="27910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8360" y="2127240"/>
              <a:ext cx="22798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928960" y="3867480"/>
            <a:ext cx="6000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овместной работы социально-психологической службы и его волонтерского движения по профилактике агрессивного поведения в образователь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928960" y="2219040"/>
            <a:ext cx="60008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поведение среди подростков 7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AutoShape 94"/>
          <p:cNvGrpSpPr/>
          <p:nvPr/>
        </p:nvGrpSpPr>
        <p:grpSpPr>
          <a:xfrm>
            <a:off x="-60480" y="3962520"/>
            <a:ext cx="2791080" cy="1468440"/>
            <a:chOff x="-60480" y="3962520"/>
            <a:chExt cx="2791080" cy="1468440"/>
          </a:xfrm>
        </p:grpSpPr>
        <p:pic>
          <p:nvPicPr>
            <p:cNvPr id="122" name="AutoShape 94" descr=""/>
            <p:cNvPicPr/>
            <p:nvPr/>
          </p:nvPicPr>
          <p:blipFill>
            <a:blip r:embed="rId3"/>
            <a:stretch/>
          </p:blipFill>
          <p:spPr>
            <a:xfrm>
              <a:off x="-60480" y="3962520"/>
              <a:ext cx="27910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98360" y="4199040"/>
              <a:ext cx="22798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7:42:24Z</dcterms:created>
  <dc:creator>Taffy</dc:creator>
  <dc:description/>
  <dc:language>en-US</dc:language>
  <cp:lastModifiedBy>install</cp:lastModifiedBy>
  <dcterms:modified xsi:type="dcterms:W3CDTF">2014-04-16T05:20:55Z</dcterms:modified>
  <cp:revision>197</cp:revision>
  <dc:subject/>
  <dc:title>Слайд 1</dc:title>
</cp:coreProperties>
</file>