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7F1-193F-4F17-9EEF-32267639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62C-1265-4E7C-88BA-A8B546A5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3A2E-6B13-4C19-B463-8A1BAD0B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221-6BB3-42F7-8800-0D6ED59D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02D4-D460-46E2-90C9-B0F0823B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23A1-7A22-45C2-9431-B79B2777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DE78-0F71-499E-A8A9-C1932D0B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951D-CCAA-46F8-A9C0-52429C63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D9DC-1B16-4FA5-BA00-6AA2EE7A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A797-9E14-4615-A50B-BD2D019B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CFF3-6CF3-4239-AD6B-4BC768DB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2C69-AB49-4559-970C-D014481B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255B-6A51-40A6-B787-D68D09B7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247E-8CC6-483D-BD64-0464ED1E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61E9-FAE4-4E67-A0F6-965D41E5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49DF-4A91-4FB0-8E02-F291331D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2F2E-620F-42A8-B6D9-1251E70A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8B6A4-36AF-4A8C-AA9D-95D43602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CE8B0-2335-455B-9FBD-74B3B8F4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3305F-B598-4F20-9978-F66D9F26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D93CB-1483-4423-8D59-478AE843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4A5DA-18E9-4A62-A846-3A9EFC80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BC4-ACDE-4498-8FC5-A2FF2F24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B6C4E-DA19-4646-845C-155C06BC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7A293-79C4-4BAD-829D-8F4C0BA6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83942-13A6-4828-96E4-69976DC3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E2145-09D6-4D7F-90BB-77DD7FF2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393D1-AA9F-469F-9CF0-B225D519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C099E-A0A2-41D7-928A-BF458995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27F6C-F068-4479-9EA9-A8738671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F4DDE-1DCA-410B-B9E1-85BA852D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C96F5-FF6F-44A1-A102-69EDBBA9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85AFB-C79E-4932-88FA-E610742B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A0F-D0A9-4BA5-B7F2-176CCD44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ACF4C-0BF3-4216-933C-0D283201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1D761-7AC3-43D4-8E70-7247078F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4A2CD-1585-4B42-9712-4D556AAC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CD923-D915-488B-B80E-323B3A6D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BAAE1-FF67-4770-B719-E913CB4F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39727-7475-4F9E-A35F-0B91427C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8FB68-9C7F-42AF-A2EE-EC1A45CF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B539D-8AFB-4ABA-A42C-EB9D96CB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9E154-A40E-4CE6-8DEB-058805CF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C7D69-A56D-4E77-B48C-0560C2C8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24F-6F52-4E39-B883-6BB1CAA3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C511E-52E7-485E-AD06-3FC44B89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C3DE7-0519-4859-BAEA-E8C10D8E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EBCA0-49A0-4FB4-B0F5-B41D3C76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6673A-AC65-4C48-A101-2A23A1F6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D5E54-C3F3-4A20-929A-F11D77B8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71849-D08B-4C52-AFFF-6D1241FD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B2CF6-0A81-462E-B65D-B77D4B52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553BC-1CA8-44E7-9DCC-5BE529F5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BBC5B-F89F-464F-BE43-045149AE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0C0FE-B8B1-4152-A957-CB9AE71D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21CF-0DAB-4D85-B640-EB5355C8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C2CEC-9885-450E-8C26-D2D1E7B3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08D-2E4E-4FDA-9285-9C397E8D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6C6-B006-4673-93F2-10F2A99E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835-D092-4D90-A30B-02A08608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81A8-6548-4885-BD6A-4E7AF73CAB3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F335-4C23-404E-90C6-49155BA7EE4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D3A3-C137-40EB-89A7-DE845E694D5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633D-333C-4FEC-8562-0440DB11E3B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54B3-26F0-4E90-99AF-BCC19DDEAD3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549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«Образ Великой Отечественной войны в искусстве».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68000" y="501336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9766f"/>
                </a:solidFill>
                <a:latin typeface="Verdana"/>
              </a:rPr>
              <a:t>Воспитатель МАДОУ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9766f"/>
                </a:solidFill>
                <a:latin typeface="Verdana"/>
              </a:rPr>
              <a:t>МО г. Краснодар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9766f"/>
                </a:solidFill>
                <a:latin typeface="Verdana"/>
              </a:rPr>
              <a:t>«Центр – детский сад № 233»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9766f"/>
                </a:solidFill>
                <a:latin typeface="Verdana"/>
              </a:rPr>
              <a:t>Баева Светлана Борисовн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4" descr="C:\Users\User\Desktop\3da5df1b1eed696ff0c6128c6cd32d1a.jpg"/>
          <p:cNvPicPr/>
          <p:nvPr/>
        </p:nvPicPr>
        <p:blipFill>
          <a:blip r:embed="rId1"/>
          <a:stretch/>
        </p:blipFill>
        <p:spPr>
          <a:xfrm>
            <a:off x="468360" y="2805120"/>
            <a:ext cx="4541760" cy="3144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Users\User\Desktop\i.jpg"/>
          <p:cNvPicPr/>
          <p:nvPr/>
        </p:nvPicPr>
        <p:blipFill>
          <a:blip r:embed="rId2"/>
          <a:stretch/>
        </p:blipFill>
        <p:spPr>
          <a:xfrm>
            <a:off x="5330880" y="3573360"/>
            <a:ext cx="316368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3968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. Лопухов «Победа»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4" name="Picture 6" descr="3-500x366"/>
          <p:cNvPicPr/>
          <p:nvPr/>
        </p:nvPicPr>
        <p:blipFill>
          <a:blip r:embed="rId1"/>
          <a:stretch/>
        </p:blipFill>
        <p:spPr>
          <a:xfrm>
            <a:off x="611280" y="692280"/>
            <a:ext cx="4257720" cy="3097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21_mini-500x581"/>
          <p:cNvPicPr/>
          <p:nvPr/>
        </p:nvPicPr>
        <p:blipFill>
          <a:blip r:embed="rId2"/>
          <a:stretch/>
        </p:blipFill>
        <p:spPr>
          <a:xfrm>
            <a:off x="5003640" y="2133720"/>
            <a:ext cx="3603960" cy="41860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"/>
          <p:cNvSpPr/>
          <p:nvPr/>
        </p:nvSpPr>
        <p:spPr>
          <a:xfrm>
            <a:off x="5003640" y="69228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К. Антонов  «Победите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84000" y="4723920"/>
            <a:ext cx="6202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маев курган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8" name="Picture 6" descr="0017-018-Stalingradskaja"/>
          <p:cNvPicPr/>
          <p:nvPr/>
        </p:nvPicPr>
        <p:blipFill>
          <a:blip r:embed="rId1"/>
          <a:stretch/>
        </p:blipFill>
        <p:spPr>
          <a:xfrm>
            <a:off x="1258920" y="765000"/>
            <a:ext cx="67262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920" y="4986000"/>
            <a:ext cx="46418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укрыникс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80000" y="529920"/>
            <a:ext cx="3240000" cy="577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рыниксы – творческий коллектив советских художников – графиков и живописце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Куприяно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3-1991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фирий Крыло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2 –1990) 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Соколо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3 – 2000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вдоним “Кукрыниксы” составлен из первых слогов фамилий. Три художника работали методом коллективного творчества (каждый также работал и индивидуально –над портретами и пейзаж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2" descr="G:\изо\000016.jpg"/>
          <p:cNvPicPr/>
          <p:nvPr/>
        </p:nvPicPr>
        <p:blipFill>
          <a:blip r:embed="rId1"/>
          <a:stretch/>
        </p:blipFill>
        <p:spPr>
          <a:xfrm>
            <a:off x="530280" y="914400"/>
            <a:ext cx="53769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5229000"/>
            <a:ext cx="3889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“</a:t>
            </a:r>
            <a:r>
              <a:rPr b="1" lang="ru-RU" sz="29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одина – мать зовёт” </a:t>
            </a: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(1941) – И.М.Тоидзе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Picture 2" descr="G:\изо\st_003.jpg"/>
          <p:cNvPicPr/>
          <p:nvPr/>
        </p:nvPicPr>
        <p:blipFill>
          <a:blip r:embed="rId1"/>
          <a:stretch/>
        </p:blipFill>
        <p:spPr>
          <a:xfrm>
            <a:off x="826920" y="549360"/>
            <a:ext cx="2786400" cy="4376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7bc7a744bb2f1a2c5f38d7c676eb8094"/>
          <p:cNvPicPr/>
          <p:nvPr/>
        </p:nvPicPr>
        <p:blipFill>
          <a:blip r:embed="rId2"/>
          <a:stretch/>
        </p:blipFill>
        <p:spPr>
          <a:xfrm>
            <a:off x="3851280" y="692280"/>
            <a:ext cx="4699080" cy="30970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4788000" y="3789360"/>
            <a:ext cx="3898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8d3e"/>
                </a:solidFill>
                <a:latin typeface="Verdana"/>
              </a:rPr>
              <a:t>О. Ивашкевич «Родина мать»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G:\изо\106890131_3.jpg"/>
          <p:cNvPicPr/>
          <p:nvPr/>
        </p:nvPicPr>
        <p:blipFill>
          <a:blip r:embed="rId1"/>
          <a:stretch/>
        </p:blipFill>
        <p:spPr>
          <a:xfrm>
            <a:off x="611280" y="561960"/>
            <a:ext cx="3889440" cy="5708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G:\изо\10284f7b7aee.jpg"/>
          <p:cNvPicPr/>
          <p:nvPr/>
        </p:nvPicPr>
        <p:blipFill>
          <a:blip r:embed="rId2"/>
          <a:stretch/>
        </p:blipFill>
        <p:spPr>
          <a:xfrm>
            <a:off x="4859280" y="549360"/>
            <a:ext cx="367344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14080" y="529920"/>
            <a:ext cx="304956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лакат: Потеряла я колечко... (а в колечке 22 дивизии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умага, тушь, гуашь. 37 х 32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сударственная Третьяковская галерея (инв. 2582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ходе Сталинградской битвы советские войска в декабре 1942 г. окружили в районе Сталинграда 22 дивизии противника (330 тысяч человек) и ликвидировали эту группировку. 31 января - 2 февраля 1943 г. остатки 6-й немецко-фашистской армии во главе с генерал- фельдмаршалом Паулюсом сдались в пле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2" descr="G:\изо\902.jpg"/>
          <p:cNvPicPr/>
          <p:nvPr/>
        </p:nvPicPr>
        <p:blipFill>
          <a:blip r:embed="rId1"/>
          <a:stretch/>
        </p:blipFill>
        <p:spPr>
          <a:xfrm>
            <a:off x="4140360" y="692280"/>
            <a:ext cx="447012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280" y="3860640"/>
            <a:ext cx="43210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К. Васильев «Прощание славянки»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8" name="Picture 6" descr="1-500x310"/>
          <p:cNvPicPr/>
          <p:nvPr/>
        </p:nvPicPr>
        <p:blipFill>
          <a:blip r:embed="rId1"/>
          <a:stretch/>
        </p:blipFill>
        <p:spPr>
          <a:xfrm>
            <a:off x="611280" y="692280"/>
            <a:ext cx="4640040" cy="2881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5-500x323"/>
          <p:cNvPicPr/>
          <p:nvPr/>
        </p:nvPicPr>
        <p:blipFill>
          <a:blip r:embed="rId2"/>
          <a:stretch/>
        </p:blipFill>
        <p:spPr>
          <a:xfrm>
            <a:off x="4643280" y="3625920"/>
            <a:ext cx="4176720" cy="26971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5435640" y="1197000"/>
            <a:ext cx="32511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. Щербаков «Зло ми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4005000"/>
            <a:ext cx="2951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Б. Тарелкин «Товарищи»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6" descr="4-500x422"/>
          <p:cNvPicPr/>
          <p:nvPr/>
        </p:nvPicPr>
        <p:blipFill>
          <a:blip r:embed="rId1"/>
          <a:stretch/>
        </p:blipFill>
        <p:spPr>
          <a:xfrm>
            <a:off x="611280" y="765000"/>
            <a:ext cx="3668760" cy="3095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19_mini-500x274"/>
          <p:cNvPicPr/>
          <p:nvPr/>
        </p:nvPicPr>
        <p:blipFill>
          <a:blip r:embed="rId2"/>
          <a:stretch/>
        </p:blipFill>
        <p:spPr>
          <a:xfrm>
            <a:off x="3564000" y="3429000"/>
            <a:ext cx="5126040" cy="28083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4"/>
          <p:cNvSpPr/>
          <p:nvPr/>
        </p:nvSpPr>
        <p:spPr>
          <a:xfrm>
            <a:off x="4572000" y="1052640"/>
            <a:ext cx="4032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8d3e"/>
                </a:solidFill>
                <a:latin typeface="Verdana"/>
              </a:rPr>
              <a:t>П.А. Кривоногов «Защитники Брестской крепост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000" y="4149360"/>
            <a:ext cx="4033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.А.Кривоногов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«Штурм Берлина»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6" descr="14_mini-500x375"/>
          <p:cNvPicPr/>
          <p:nvPr/>
        </p:nvPicPr>
        <p:blipFill>
          <a:blip r:embed="rId1"/>
          <a:stretch/>
        </p:blipFill>
        <p:spPr>
          <a:xfrm>
            <a:off x="658800" y="836640"/>
            <a:ext cx="4059360" cy="3024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30_mini-500x476"/>
          <p:cNvPicPr/>
          <p:nvPr/>
        </p:nvPicPr>
        <p:blipFill>
          <a:blip r:embed="rId2"/>
          <a:stretch/>
        </p:blipFill>
        <p:spPr>
          <a:xfrm>
            <a:off x="5003640" y="2924280"/>
            <a:ext cx="3556080" cy="33843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5076720" y="981000"/>
            <a:ext cx="3672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Е. Фетисов «Тиши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2920" y="3860640"/>
            <a:ext cx="3629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А. Широков «За Родину»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Picture 6" descr="66"/>
          <p:cNvPicPr/>
          <p:nvPr/>
        </p:nvPicPr>
        <p:blipFill>
          <a:blip r:embed="rId1"/>
          <a:stretch/>
        </p:blipFill>
        <p:spPr>
          <a:xfrm>
            <a:off x="611280" y="620640"/>
            <a:ext cx="3889440" cy="3419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15_mini-500x375"/>
          <p:cNvPicPr/>
          <p:nvPr/>
        </p:nvPicPr>
        <p:blipFill>
          <a:blip r:embed="rId2"/>
          <a:stretch/>
        </p:blipFill>
        <p:spPr>
          <a:xfrm>
            <a:off x="4608360" y="3141720"/>
            <a:ext cx="4032360" cy="30225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4"/>
          <p:cNvSpPr/>
          <p:nvPr/>
        </p:nvSpPr>
        <p:spPr>
          <a:xfrm>
            <a:off x="4608360" y="907920"/>
            <a:ext cx="4032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8d3e"/>
                </a:solidFill>
                <a:latin typeface="Verdana"/>
              </a:rPr>
              <a:t>П. Кривоногов </a:t>
            </a:r>
            <a:br>
              <a:rPr sz="3100"/>
            </a:br>
            <a:r>
              <a:rPr b="1" lang="ru-RU" sz="3100" spc="-1" strike="noStrike">
                <a:solidFill>
                  <a:srgbClr val="ff8d3e"/>
                </a:solidFill>
                <a:latin typeface="Verdana"/>
              </a:rPr>
              <a:t>«Рейхстаг взят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6:20:10Z</dcterms:created>
  <dc:creator>Пользователь</dc:creator>
  <dc:description/>
  <dc:language>en-US</dc:language>
  <cp:lastModifiedBy>Наталья Дружаева</cp:lastModifiedBy>
  <cp:lastPrinted>2017-03-21T09:14:21Z</cp:lastPrinted>
  <dcterms:modified xsi:type="dcterms:W3CDTF">2022-02-08T11:09:45Z</dcterms:modified>
  <cp:revision>18</cp:revision>
  <dc:subject/>
  <dc:title>«Образ Великой Отечественной войны в искусстве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300000000000010250300207f7000400038000</vt:lpwstr>
  </property>
</Properties>
</file>