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B31-511D-4B11-BA1F-F0B49C06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4F6-B502-4672-B880-EAA7835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257-28B8-4217-970A-EC38EA7C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1FC-107F-4228-991E-6380C240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55F7-D86F-431B-A9FC-8FC60880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4EC7-59F4-4D55-814F-506565AF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4269-6416-4D72-922A-98B166B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98D8-C268-41E5-90A8-CAF9A72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AC52-F623-4983-84D5-9CF3A49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FD70-4EB4-4D07-AABE-449A0415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622-5CD8-4C8D-B7C7-57A677D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F59-9D6D-4527-9EC0-514ABE8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24A-A96F-42E8-80A5-84D42BE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D6FB-9A23-4FD7-A9D0-2B333B2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8B98-841E-46FC-92A2-6CDFD64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40CE-15C4-4B59-A198-F5B7867F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501-8C35-4BD7-9697-FC49680B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2ED0-6E72-47B2-B0A4-08F2A9EE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7BDA-F492-4BDC-B008-5D27C56D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79EB-B553-4F1E-B92C-6356BBF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441D-AB1C-4ECA-A36B-88B0E74D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AFBD-786F-4AE8-9412-39E9EF9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1CD-41A3-410D-8D74-F014DF7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B6A8-BEF1-4FC4-805A-5C8DC9BC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EF1C-CBB6-49B2-9531-5CF926F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F240-CB34-4E0E-86EE-077939A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9D44-E226-45A1-9DD0-6761EDC4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F464-5753-4BEE-95C4-CB123829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BDD8-950C-4F15-B51A-D78E009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97F5-02E0-4CB6-AEBF-35F8D4F7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641C-0C10-4754-9505-BD0A479E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FC8B-085D-4C10-A884-5388CED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8F45-CE3F-46D3-B83A-9A2DB16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76D-2573-42F2-A4F0-BE8CD20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849B-C4DD-42EA-89A0-5A25BA2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9738-F669-4E0E-913D-636F70B4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5F97-CBDA-432E-8F7E-E4FD41E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1D4E-A257-47DE-9C09-F8DBF5C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31A6-08B1-4156-B3BD-399181A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6B42-A616-49A5-86AE-BCF42C0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6780-4F85-4B9A-BDE9-B98D8C02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ABAA-8BEC-45FE-9B82-83AD489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18D0-84F6-42D0-A837-3AAC7241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3C07-E5B3-43A1-A860-28C786D2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84B-BADA-474F-B03C-5BE1E0A9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19A3A-D70D-487F-9110-D993F1C1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17E1-ED79-4E4D-B39E-33F3873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24AD-08D0-4954-818A-E534A38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E770-D8A8-497A-AA4B-067691E3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788BF-978A-405D-8E3F-52BA1B83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4B72-DF69-4337-8F62-6B6F4C9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E194E-8241-415D-A8EE-CBE07F5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9273-89AE-4234-859F-675A135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1D92-C73B-4453-925A-523F4E2D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20F8-89A3-457E-8DCB-7C2F95E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0F8-8AB0-4738-A899-6CCBC1E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62F1-3007-4E2F-9CE5-71893796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9B5-029D-4F6B-BD2F-8E2AD087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2B1-778D-457F-94C1-CD43E1C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477-142B-4D8F-869B-45DE99F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6BC-1922-42AA-84BD-6C415E2036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359B-536F-40C2-83BA-13E65DD2FE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804-557D-44EB-B3AD-FC2D92B370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7C9-EF04-4803-BA9C-7E74F9A016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1EE-37DF-4A57-A06D-0B7671DCEF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Образ Великой Отечественной войны в искусстве».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68000" y="501336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Воспитатель МАДОУ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МО г. Краснодар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«Центр – детский сад № 233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79766f"/>
                </a:solidFill>
                <a:latin typeface="Verdana"/>
              </a:rPr>
              <a:t>Баева Светлана Борисо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C:\Users\User\Desktop\3da5df1b1eed696ff0c6128c6cd32d1a.jpg"/>
          <p:cNvPicPr/>
          <p:nvPr/>
        </p:nvPicPr>
        <p:blipFill>
          <a:blip r:embed="rId1"/>
          <a:stretch/>
        </p:blipFill>
        <p:spPr>
          <a:xfrm>
            <a:off x="468360" y="2805120"/>
            <a:ext cx="4541760" cy="3144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User\Desktop\i.jpg"/>
          <p:cNvPicPr/>
          <p:nvPr/>
        </p:nvPicPr>
        <p:blipFill>
          <a:blip r:embed="rId2"/>
          <a:stretch/>
        </p:blipFill>
        <p:spPr>
          <a:xfrm>
            <a:off x="5330880" y="3573360"/>
            <a:ext cx="31636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3968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. Лопухов «Побед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Picture 6" descr="3-500x366"/>
          <p:cNvPicPr/>
          <p:nvPr/>
        </p:nvPicPr>
        <p:blipFill>
          <a:blip r:embed="rId1"/>
          <a:stretch/>
        </p:blipFill>
        <p:spPr>
          <a:xfrm>
            <a:off x="611280" y="692280"/>
            <a:ext cx="4257720" cy="30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21_mini-500x581"/>
          <p:cNvPicPr/>
          <p:nvPr/>
        </p:nvPicPr>
        <p:blipFill>
          <a:blip r:embed="rId2"/>
          <a:stretch/>
        </p:blipFill>
        <p:spPr>
          <a:xfrm>
            <a:off x="5003640" y="2133720"/>
            <a:ext cx="3603960" cy="4186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5003640" y="69228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. Антонов  «Победи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4723920"/>
            <a:ext cx="6202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маев курга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6" descr="0017-018-Stalingradskaja"/>
          <p:cNvPicPr/>
          <p:nvPr/>
        </p:nvPicPr>
        <p:blipFill>
          <a:blip r:embed="rId1"/>
          <a:stretch/>
        </p:blipFill>
        <p:spPr>
          <a:xfrm>
            <a:off x="1258920" y="765000"/>
            <a:ext cx="6726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4986000"/>
            <a:ext cx="46418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укрыник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80000" y="529920"/>
            <a:ext cx="3240000" cy="577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рыниксы – творческий коллектив советских художников – графиков и живописце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Куприян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-1991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й Крыл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2 –1990)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Сокол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 – 2000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ним “Кукрыниксы” составлен из первых слогов фамилий. Три художника работали методом коллективного творчества (каждый также работал и индивидуально –над портретами и пейзаж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2" descr="G:\изо\000016.jpg"/>
          <p:cNvPicPr/>
          <p:nvPr/>
        </p:nvPicPr>
        <p:blipFill>
          <a:blip r:embed="rId1"/>
          <a:stretch/>
        </p:blipFill>
        <p:spPr>
          <a:xfrm>
            <a:off x="530280" y="914400"/>
            <a:ext cx="5376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522900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“</a:t>
            </a: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Родина – мать зовёт”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(1941) – И.М.Тоидз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G:\изо\st_003.jpg"/>
          <p:cNvPicPr/>
          <p:nvPr/>
        </p:nvPicPr>
        <p:blipFill>
          <a:blip r:embed="rId1"/>
          <a:stretch/>
        </p:blipFill>
        <p:spPr>
          <a:xfrm>
            <a:off x="826920" y="549360"/>
            <a:ext cx="2786400" cy="437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7bc7a744bb2f1a2c5f38d7c676eb8094"/>
          <p:cNvPicPr/>
          <p:nvPr/>
        </p:nvPicPr>
        <p:blipFill>
          <a:blip r:embed="rId2"/>
          <a:stretch/>
        </p:blipFill>
        <p:spPr>
          <a:xfrm>
            <a:off x="3851280" y="692280"/>
            <a:ext cx="4699080" cy="3097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788000" y="3789360"/>
            <a:ext cx="3898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Verdana"/>
              </a:rPr>
              <a:t>О. Ивашкевич «Родина мать»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изо\106890131_3.jpg"/>
          <p:cNvPicPr/>
          <p:nvPr/>
        </p:nvPicPr>
        <p:blipFill>
          <a:blip r:embed="rId1"/>
          <a:stretch/>
        </p:blipFill>
        <p:spPr>
          <a:xfrm>
            <a:off x="611280" y="561960"/>
            <a:ext cx="3889440" cy="5708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G:\изо\10284f7b7aee.jpg"/>
          <p:cNvPicPr/>
          <p:nvPr/>
        </p:nvPicPr>
        <p:blipFill>
          <a:blip r:embed="rId2"/>
          <a:stretch/>
        </p:blipFill>
        <p:spPr>
          <a:xfrm>
            <a:off x="4859280" y="549360"/>
            <a:ext cx="367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080" y="529920"/>
            <a:ext cx="304956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лакат: Потеряла я колечко... (а в колечке 22 дивизии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мага, тушь, гуашь. 37 х 3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сударственная Третьяковская галерея (инв. 2582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ходе Сталинградской битвы советские войска в декабре 1942 г. окружили в районе Сталинграда 22 дивизии противника (330 тысяч человек) и ликвидировали эту группировку. 31 января - 2 февраля 1943 г. остатки 6-й немецко-фашистской армии во главе с генерал- фельдмаршалом Паулюсом сдались в пле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G:\изо\902.jpg"/>
          <p:cNvPicPr/>
          <p:nvPr/>
        </p:nvPicPr>
        <p:blipFill>
          <a:blip r:embed="rId1"/>
          <a:stretch/>
        </p:blipFill>
        <p:spPr>
          <a:xfrm>
            <a:off x="4140360" y="692280"/>
            <a:ext cx="44701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3860640"/>
            <a:ext cx="43210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К. Васильев «Прощание славянки»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6" descr="1-500x310"/>
          <p:cNvPicPr/>
          <p:nvPr/>
        </p:nvPicPr>
        <p:blipFill>
          <a:blip r:embed="rId1"/>
          <a:stretch/>
        </p:blipFill>
        <p:spPr>
          <a:xfrm>
            <a:off x="611280" y="692280"/>
            <a:ext cx="4640040" cy="2881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5-500x323"/>
          <p:cNvPicPr/>
          <p:nvPr/>
        </p:nvPicPr>
        <p:blipFill>
          <a:blip r:embed="rId2"/>
          <a:stretch/>
        </p:blipFill>
        <p:spPr>
          <a:xfrm>
            <a:off x="4643280" y="3625920"/>
            <a:ext cx="4176720" cy="2697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5435640" y="1197000"/>
            <a:ext cx="3251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. Щербаков «Зло ми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05000"/>
            <a:ext cx="29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Б. Тарелкин «Товарищи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6" descr="4-500x422"/>
          <p:cNvPicPr/>
          <p:nvPr/>
        </p:nvPicPr>
        <p:blipFill>
          <a:blip r:embed="rId1"/>
          <a:stretch/>
        </p:blipFill>
        <p:spPr>
          <a:xfrm>
            <a:off x="611280" y="765000"/>
            <a:ext cx="3668760" cy="309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19_mini-500x274"/>
          <p:cNvPicPr/>
          <p:nvPr/>
        </p:nvPicPr>
        <p:blipFill>
          <a:blip r:embed="rId2"/>
          <a:stretch/>
        </p:blipFill>
        <p:spPr>
          <a:xfrm>
            <a:off x="3564000" y="3429000"/>
            <a:ext cx="5126040" cy="2808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4572000" y="1052640"/>
            <a:ext cx="403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Verdana"/>
              </a:rPr>
              <a:t>П.А. Кривоногов «Защитники Брестской крепост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4149360"/>
            <a:ext cx="4033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.А.Кривоногов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Штурм Берлина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6" descr="14_mini-500x375"/>
          <p:cNvPicPr/>
          <p:nvPr/>
        </p:nvPicPr>
        <p:blipFill>
          <a:blip r:embed="rId1"/>
          <a:stretch/>
        </p:blipFill>
        <p:spPr>
          <a:xfrm>
            <a:off x="658800" y="836640"/>
            <a:ext cx="4059360" cy="302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30_mini-500x476"/>
          <p:cNvPicPr/>
          <p:nvPr/>
        </p:nvPicPr>
        <p:blipFill>
          <a:blip r:embed="rId2"/>
          <a:stretch/>
        </p:blipFill>
        <p:spPr>
          <a:xfrm>
            <a:off x="5003640" y="2924280"/>
            <a:ext cx="3556080" cy="3384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5076720" y="981000"/>
            <a:ext cx="36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Е. Фетисов «Тиш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3860640"/>
            <a:ext cx="362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. Широков «За Родину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6" descr="66"/>
          <p:cNvPicPr/>
          <p:nvPr/>
        </p:nvPicPr>
        <p:blipFill>
          <a:blip r:embed="rId1"/>
          <a:stretch/>
        </p:blipFill>
        <p:spPr>
          <a:xfrm>
            <a:off x="611280" y="620640"/>
            <a:ext cx="3889440" cy="3419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15_mini-500x375"/>
          <p:cNvPicPr/>
          <p:nvPr/>
        </p:nvPicPr>
        <p:blipFill>
          <a:blip r:embed="rId2"/>
          <a:stretch/>
        </p:blipFill>
        <p:spPr>
          <a:xfrm>
            <a:off x="4608360" y="314172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4608360" y="907920"/>
            <a:ext cx="403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8d3e"/>
                </a:solidFill>
                <a:latin typeface="Verdana"/>
              </a:rPr>
              <a:t>П. Кривоногов </a:t>
            </a:r>
            <a:br>
              <a:rPr sz="3100"/>
            </a:br>
            <a:r>
              <a:rPr b="1" lang="ru-RU" sz="3100" spc="-1" strike="noStrike">
                <a:solidFill>
                  <a:srgbClr val="ff8d3e"/>
                </a:solidFill>
                <a:latin typeface="Verdana"/>
              </a:rPr>
              <a:t>«Рейхстаг взят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6:20:10Z</dcterms:created>
  <dc:creator>Пользователь</dc:creator>
  <dc:description/>
  <dc:language>en-US</dc:language>
  <cp:lastModifiedBy>Наталья Дружаева</cp:lastModifiedBy>
  <cp:lastPrinted>2017-03-21T09:14:21Z</cp:lastPrinted>
  <dcterms:modified xsi:type="dcterms:W3CDTF">2022-02-08T11:09:45Z</dcterms:modified>
  <cp:revision>18</cp:revision>
  <dc:subject/>
  <dc:title>«Образ Великой Отечественной войны в искусстве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300000000000010250300207f7000400038000</vt:lpwstr>
  </property>
</Properties>
</file>