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37.gif" ContentType="image/gif"/>
  <Override PartName="/ppt/media/image28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C51-EAEB-411F-A361-2DD16722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0FD-61BE-456C-8E4D-1BECB14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D8-96E6-409A-9DF6-D541F3C3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52A-A81D-47BB-A783-4AAD95C6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91B-1577-4B24-9E82-9D96283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A88-A75E-481A-9547-6FDA73C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36D-5FD8-4FE0-9FD4-0D519D1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EEC-78AF-4D66-91E9-2678FAB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518-8CEA-4D4F-ADDF-2065B05D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478-4ADE-4529-9482-355B054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1BA-8836-4EAE-951A-6746FF8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ADF-7E69-49E1-8A34-B9F8887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0C88-0141-4826-BC8C-94863C4AB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Rounded MT Bold"/>
              </a:rPr>
              <a:t>Phonetic dr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" y="2725560"/>
            <a:ext cx="822960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7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Запом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on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w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sec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hre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thi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медвежонок с шариком"/>
          <p:cNvPicPr/>
          <p:nvPr/>
        </p:nvPicPr>
        <p:blipFill>
          <a:blip r:embed="rId1"/>
          <a:stretch/>
        </p:blipFill>
        <p:spPr>
          <a:xfrm>
            <a:off x="4952880" y="3352680"/>
            <a:ext cx="250524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зайчик2"/>
          <p:cNvPicPr/>
          <p:nvPr/>
        </p:nvPicPr>
        <p:blipFill>
          <a:blip r:embed="rId2"/>
          <a:stretch/>
        </p:blipFill>
        <p:spPr>
          <a:xfrm>
            <a:off x="7164360" y="1371600"/>
            <a:ext cx="1979640" cy="3932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слонёнок1"/>
          <p:cNvPicPr/>
          <p:nvPr/>
        </p:nvPicPr>
        <p:blipFill>
          <a:blip r:embed="rId3"/>
          <a:stretch/>
        </p:blipFill>
        <p:spPr>
          <a:xfrm>
            <a:off x="0" y="2590920"/>
            <a:ext cx="363708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зайчик с цветком"/>
          <p:cNvPicPr/>
          <p:nvPr/>
        </p:nvPicPr>
        <p:blipFill>
          <a:blip r:embed="rId4"/>
          <a:stretch/>
        </p:blipFill>
        <p:spPr>
          <a:xfrm>
            <a:off x="3429000" y="3645000"/>
            <a:ext cx="1709640" cy="3213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27"/>
          <p:cNvSpPr txBox="1"/>
          <p:nvPr/>
        </p:nvSpPr>
        <p:spPr>
          <a:xfrm>
            <a:off x="304920" y="22860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ppy Birthda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hir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the eleph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9" descr="теннисный мяч"/>
          <p:cNvPicPr/>
          <p:nvPr/>
        </p:nvPicPr>
        <p:blipFill>
          <a:blip r:embed="rId1"/>
          <a:stretch/>
        </p:blipFill>
        <p:spPr>
          <a:xfrm rot="20157600">
            <a:off x="5715000" y="2209680"/>
            <a:ext cx="571680" cy="54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волк"/>
          <p:cNvPicPr/>
          <p:nvPr/>
        </p:nvPicPr>
        <p:blipFill>
          <a:blip r:embed="rId2"/>
          <a:stretch/>
        </p:blipFill>
        <p:spPr>
          <a:xfrm>
            <a:off x="6248520" y="466884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ракетка1"/>
          <p:cNvPicPr/>
          <p:nvPr/>
        </p:nvPicPr>
        <p:blipFill>
          <a:blip r:embed="rId3"/>
          <a:stretch/>
        </p:blipFill>
        <p:spPr>
          <a:xfrm rot="2886600">
            <a:off x="7913520" y="4354200"/>
            <a:ext cx="573120" cy="131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весёлый зайчик"/>
          <p:cNvPicPr/>
          <p:nvPr/>
        </p:nvPicPr>
        <p:blipFill>
          <a:blip r:embed="rId4"/>
          <a:stretch/>
        </p:blipFill>
        <p:spPr>
          <a:xfrm>
            <a:off x="1371600" y="350532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ракетка"/>
          <p:cNvPicPr/>
          <p:nvPr/>
        </p:nvPicPr>
        <p:blipFill>
          <a:blip r:embed="rId5"/>
          <a:stretch/>
        </p:blipFill>
        <p:spPr>
          <a:xfrm rot="20987400">
            <a:off x="5334120" y="28951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gradFill rotWithShape="0">
            <a:gsLst>
              <a:gs pos="0">
                <a:srgbClr val="ffe7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 Black"/>
              </a:rPr>
              <a:t>THEY LIKE TO PLAY TENNIS !</a:t>
            </a:r>
            <a:r>
              <a:rPr b="1" lang="en-US" sz="4800" spc="-1" strike="noStrike">
                <a:solidFill>
                  <a:srgbClr val="9900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5410080"/>
            <a:ext cx="2590920" cy="1067040"/>
          </a:xfrm>
          <a:prstGeom prst="rect">
            <a:avLst/>
          </a:prstGeom>
          <a:solidFill>
            <a:srgbClr val="78d0f8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791320" y="5867280"/>
            <a:ext cx="2057400" cy="609840"/>
          </a:xfrm>
          <a:prstGeom prst="rect">
            <a:avLst/>
          </a:prstGeom>
          <a:solidFill>
            <a:srgbClr val="ffcc00">
              <a:alpha val="93000"/>
            </a:srgbClr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The 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слонёнок3"/>
          <p:cNvPicPr/>
          <p:nvPr/>
        </p:nvPicPr>
        <p:blipFill>
          <a:blip r:embed="rId6"/>
          <a:stretch/>
        </p:blipFill>
        <p:spPr>
          <a:xfrm rot="346200">
            <a:off x="3668760" y="2757240"/>
            <a:ext cx="2028600" cy="2208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7"/>
          <p:cNvSpPr/>
          <p:nvPr/>
        </p:nvSpPr>
        <p:spPr>
          <a:xfrm>
            <a:off x="3352680" y="4800600"/>
            <a:ext cx="2438640" cy="1676520"/>
          </a:xfrm>
          <a:prstGeom prst="rect">
            <a:avLst/>
          </a:prstGeom>
          <a:solidFill>
            <a:srgbClr val="98f76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7"/>
          <a:stretch/>
        </p:blipFill>
        <p:spPr>
          <a:xfrm rot="19191600">
            <a:off x="609480" y="3657600"/>
            <a:ext cx="733680" cy="131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теннисный мяч"/>
          <p:cNvPicPr/>
          <p:nvPr/>
        </p:nvPicPr>
        <p:blipFill>
          <a:blip r:embed="rId8"/>
          <a:stretch/>
        </p:blipFill>
        <p:spPr>
          <a:xfrm>
            <a:off x="8229600" y="4038480"/>
            <a:ext cx="457200" cy="4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теннисный мяч"/>
          <p:cNvPicPr/>
          <p:nvPr/>
        </p:nvPicPr>
        <p:blipFill>
          <a:blip r:embed="rId9"/>
          <a:stretch/>
        </p:blipFill>
        <p:spPr>
          <a:xfrm>
            <a:off x="380880" y="3352680"/>
            <a:ext cx="609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i?id=227920455-56-72&amp;n=21"/>
          <p:cNvPicPr/>
          <p:nvPr/>
        </p:nvPicPr>
        <p:blipFill>
          <a:blip r:embed="rId1"/>
          <a:stretch/>
        </p:blipFill>
        <p:spPr>
          <a:xfrm>
            <a:off x="5076720" y="2060640"/>
            <a:ext cx="295128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1116000" y="1700280"/>
            <a:ext cx="2448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468360" y="5013360"/>
            <a:ext cx="35272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the 1s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547640" y="1773360"/>
            <a:ext cx="20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826920" y="4869000"/>
            <a:ext cx="273708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2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3" name="Picture 8" descr="tradeboardnbLHhX_img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187280" y="1700280"/>
            <a:ext cx="1800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395280" y="5084640"/>
            <a:ext cx="288144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3r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8" descr="f4eaafe8046ee40356dce4eac5e013f8"/>
          <p:cNvPicPr/>
          <p:nvPr/>
        </p:nvPicPr>
        <p:blipFill>
          <a:blip r:embed="rId1"/>
          <a:stretch/>
        </p:blipFill>
        <p:spPr>
          <a:xfrm>
            <a:off x="4716360" y="1844640"/>
            <a:ext cx="39974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1908000" y="1844640"/>
            <a:ext cx="244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539640" y="4941720"/>
            <a:ext cx="352764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16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23" name="Picture 8" descr="62225"/>
          <p:cNvPicPr/>
          <p:nvPr/>
        </p:nvPicPr>
        <p:blipFill>
          <a:blip r:embed="rId1"/>
          <a:stretch/>
        </p:blipFill>
        <p:spPr>
          <a:xfrm>
            <a:off x="5003640" y="1844640"/>
            <a:ext cx="381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Black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9cdf"/>
                </a:solidFill>
                <a:latin typeface="Arial"/>
              </a:rPr>
              <a:t>Перейдём к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оотнесите числительны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Чем он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n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twel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el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fi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t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s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six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eigh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9490747_04"/>
          <p:cNvPicPr/>
          <p:nvPr/>
        </p:nvPicPr>
        <p:blipFill>
          <a:blip r:embed="rId1"/>
          <a:stretch/>
        </p:blipFill>
        <p:spPr>
          <a:xfrm>
            <a:off x="7020000" y="3557520"/>
            <a:ext cx="2124000" cy="330048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6"/>
          <p:cNvCxnSpPr/>
          <p:nvPr/>
        </p:nvCxnSpPr>
        <p:spPr>
          <a:xfrm>
            <a:off x="1599840" y="1676520"/>
            <a:ext cx="3048840" cy="12196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31" name="Прямая со стрелкой 8"/>
          <p:cNvCxnSpPr>
            <a:endCxn id="128" idx="1"/>
          </p:cNvCxnSpPr>
          <p:nvPr/>
        </p:nvCxnSpPr>
        <p:spPr>
          <a:xfrm>
            <a:off x="1599840" y="2286000"/>
            <a:ext cx="3048840" cy="17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1371240" y="2895480"/>
            <a:ext cx="342972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>
            <a:off x="1828440" y="3505320"/>
            <a:ext cx="304884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4"/>
          <p:cNvCxnSpPr/>
          <p:nvPr/>
        </p:nvCxnSpPr>
        <p:spPr>
          <a:xfrm>
            <a:off x="1752120" y="4038480"/>
            <a:ext cx="304884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6"/>
          <p:cNvCxnSpPr/>
          <p:nvPr/>
        </p:nvCxnSpPr>
        <p:spPr>
          <a:xfrm flipV="1">
            <a:off x="1676520" y="1904760"/>
            <a:ext cx="312480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8"/>
          <p:cNvCxnSpPr/>
          <p:nvPr/>
        </p:nvCxnSpPr>
        <p:spPr>
          <a:xfrm flipV="1">
            <a:off x="1447560" y="4723920"/>
            <a:ext cx="33534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20"/>
          <p:cNvCxnSpPr/>
          <p:nvPr/>
        </p:nvCxnSpPr>
        <p:spPr>
          <a:xfrm flipV="1">
            <a:off x="1981080" y="3580560"/>
            <a:ext cx="2820240" cy="221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22"/>
          <p:cNvCxnSpPr/>
          <p:nvPr/>
        </p:nvCxnSpPr>
        <p:spPr>
          <a:xfrm flipV="1">
            <a:off x="1905120" y="2437560"/>
            <a:ext cx="3048480" cy="396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из списка количественные числительные и перевед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first; 2.eleven; 3.forty; 4.second; 5.two hundred; 6.twenty-first; 7.nineteen; 8.seven; 9.twelfth; 10.third; 11.fourth; 12.eight; 13.seventeen; 14.fifth; 15.nine; 16.one; 17.sixteen;18.tenth; 19.fifty; 20.one hundred an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even, forty, two hundred, nineteen, seven, eight, seventeen, nine, one, 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Rounded MT Bold"/>
              </a:rPr>
              <a:t>Phonetic dr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" y="3033720"/>
            <a:ext cx="82296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из списка порядковые числительные и переве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one hundred; 2.fourteen; 3.thirteen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wo 5.ninth; 6.twenty-three; 7.thir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hundredth; 9.seventeen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forty; 11.twentieth; 12.one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sixth; 14.ninety; 15.forty-five;16.third; 17.three; 18.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teenth, ninth, hundredth, seventeenth, twentieth, sixth,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285720" y="404640"/>
            <a:ext cx="220752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04920" y="121932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276720" y="1197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34800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348000" y="19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34800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334800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x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327672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3348000" y="335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3348000" y="44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v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348000" y="40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348000" y="37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3348000" y="515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348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alendar"/>
          <p:cNvPicPr/>
          <p:nvPr/>
        </p:nvPicPr>
        <p:blipFill>
          <a:blip r:embed="rId2"/>
          <a:stretch/>
        </p:blipFill>
        <p:spPr>
          <a:xfrm>
            <a:off x="7189920" y="0"/>
            <a:ext cx="1954080" cy="396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8001000" y="4572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610480" y="4572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8686800" y="13716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7391520" y="3352680"/>
            <a:ext cx="30456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8001000" y="3352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8610480" y="3352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7391520" y="45720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391520" y="144792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8001000" y="1447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7391520" y="2438280"/>
            <a:ext cx="30456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8001000" y="24382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8686800" y="24382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одержимое 5" descr="good job.jpg"/>
          <p:cNvPicPr/>
          <p:nvPr/>
        </p:nvPicPr>
        <p:blipFill>
          <a:blip r:embed="rId1"/>
          <a:stretch/>
        </p:blipFill>
        <p:spPr>
          <a:xfrm>
            <a:off x="304920" y="457200"/>
            <a:ext cx="8718480" cy="614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7"/>
          <p:cNvSpPr/>
          <p:nvPr/>
        </p:nvSpPr>
        <p:spPr>
          <a:xfrm>
            <a:off x="4005720" y="40464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739880" y="1125360"/>
            <a:ext cx="577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 – tw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tw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 – thi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thi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 – fo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fo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 – fif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fif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 – six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six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0 – sev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sev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 – eigh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90 – nine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nine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7-конечная звезда 10"/>
          <p:cNvSpPr/>
          <p:nvPr/>
        </p:nvSpPr>
        <p:spPr>
          <a:xfrm>
            <a:off x="468360" y="4292640"/>
            <a:ext cx="1800000" cy="172872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2627280" y="5237280"/>
            <a:ext cx="360036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7-конечная звезда 12"/>
          <p:cNvSpPr/>
          <p:nvPr/>
        </p:nvSpPr>
        <p:spPr>
          <a:xfrm>
            <a:off x="6516720" y="422100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3933720" y="54936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971640" y="1700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684360" y="1844640"/>
            <a:ext cx="142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-конечная звезда 7"/>
          <p:cNvSpPr/>
          <p:nvPr/>
        </p:nvSpPr>
        <p:spPr>
          <a:xfrm>
            <a:off x="1116000" y="458136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7-конечная звезда 8"/>
          <p:cNvSpPr/>
          <p:nvPr/>
        </p:nvSpPr>
        <p:spPr>
          <a:xfrm>
            <a:off x="5867280" y="458136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132000" y="5084640"/>
            <a:ext cx="2448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7-конечная звезда 10"/>
          <p:cNvSpPr/>
          <p:nvPr/>
        </p:nvSpPr>
        <p:spPr>
          <a:xfrm>
            <a:off x="971640" y="981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7-конечная звезда 13"/>
          <p:cNvSpPr/>
          <p:nvPr/>
        </p:nvSpPr>
        <p:spPr>
          <a:xfrm>
            <a:off x="2916360" y="1557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7-конечная звезда 14"/>
          <p:cNvSpPr/>
          <p:nvPr/>
        </p:nvSpPr>
        <p:spPr>
          <a:xfrm>
            <a:off x="4932360" y="170028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-конечная звезда 15"/>
          <p:cNvSpPr/>
          <p:nvPr/>
        </p:nvSpPr>
        <p:spPr>
          <a:xfrm>
            <a:off x="6948360" y="9079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7-конечная звезда 16"/>
          <p:cNvSpPr/>
          <p:nvPr/>
        </p:nvSpPr>
        <p:spPr>
          <a:xfrm>
            <a:off x="755640" y="270828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7-конечная звезда 17"/>
          <p:cNvSpPr/>
          <p:nvPr/>
        </p:nvSpPr>
        <p:spPr>
          <a:xfrm>
            <a:off x="2556000" y="3573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7-конечная звезда 18"/>
          <p:cNvSpPr/>
          <p:nvPr/>
        </p:nvSpPr>
        <p:spPr>
          <a:xfrm>
            <a:off x="4643280" y="3645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7-конечная звезда 19"/>
          <p:cNvSpPr/>
          <p:nvPr/>
        </p:nvSpPr>
        <p:spPr>
          <a:xfrm>
            <a:off x="6588000" y="2997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4005720" y="40464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262800" y="1341360"/>
            <a:ext cx="87195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ложные числительные (35, 56, 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порядкового числ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т форму последнего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 –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-own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venty-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– thirty-three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-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– twenty-four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enty-four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1116000" y="1700280"/>
            <a:ext cx="2519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324000" y="5157720"/>
            <a:ext cx="367164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24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01" name="Picture 8" descr="x_9af310ee_enl"/>
          <p:cNvPicPr/>
          <p:nvPr/>
        </p:nvPicPr>
        <p:blipFill>
          <a:blip r:embed="rId1"/>
          <a:stretch/>
        </p:blipFill>
        <p:spPr>
          <a:xfrm>
            <a:off x="4427640" y="1557360"/>
            <a:ext cx="4284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Black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9cdf"/>
                </a:solidFill>
                <a:latin typeface="Arial"/>
              </a:rPr>
              <a:t>Перейдём к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637000" y="476280"/>
            <a:ext cx="220752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160280" y="1916280"/>
            <a:ext cx="299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 40 – the for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– the twen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the six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the nine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the fif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– the seven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the thir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– the eigh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3350160" y="22766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062160" y="33577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3350160" y="29973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3278160" y="4076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278880" y="44370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3493800" y="37162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3133440" y="2637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2639160" y="476280"/>
            <a:ext cx="406404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bers in fig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116000" y="1628640"/>
            <a:ext cx="268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the six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igh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v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igh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ne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nete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te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2924280" y="1628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е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3435840" y="198900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(восьмидеся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3419640" y="234936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(один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3138840" y="27082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(вось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503160" y="30686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(девянос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3431160" y="3500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(три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1"/>
          <p:cNvSpPr/>
          <p:nvPr/>
        </p:nvSpPr>
        <p:spPr>
          <a:xfrm>
            <a:off x="3279600" y="38606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(втор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2"/>
          <p:cNvSpPr/>
          <p:nvPr/>
        </p:nvSpPr>
        <p:spPr>
          <a:xfrm>
            <a:off x="3646080" y="42210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(девят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3"/>
          <p:cNvSpPr/>
          <p:nvPr/>
        </p:nvSpPr>
        <p:spPr>
          <a:xfrm>
            <a:off x="2998440" y="4581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рет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2853720" y="49417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(пер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5"/>
          <p:cNvSpPr/>
          <p:nvPr/>
        </p:nvSpPr>
        <p:spPr>
          <a:xfrm>
            <a:off x="3577680" y="530064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 (три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6" descr="медвежонок с шариком"/>
          <p:cNvPicPr/>
          <p:nvPr/>
        </p:nvPicPr>
        <p:blipFill>
          <a:blip r:embed="rId1"/>
          <a:stretch/>
        </p:blipFill>
        <p:spPr>
          <a:xfrm>
            <a:off x="4952880" y="3352680"/>
            <a:ext cx="250524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зайчик2"/>
          <p:cNvPicPr/>
          <p:nvPr/>
        </p:nvPicPr>
        <p:blipFill>
          <a:blip r:embed="rId2"/>
          <a:stretch/>
        </p:blipFill>
        <p:spPr>
          <a:xfrm>
            <a:off x="7164360" y="1371600"/>
            <a:ext cx="1979640" cy="393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слонёнок1"/>
          <p:cNvPicPr/>
          <p:nvPr/>
        </p:nvPicPr>
        <p:blipFill>
          <a:blip r:embed="rId3"/>
          <a:stretch/>
        </p:blipFill>
        <p:spPr>
          <a:xfrm>
            <a:off x="0" y="2590920"/>
            <a:ext cx="36370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зайчик с цветком"/>
          <p:cNvPicPr/>
          <p:nvPr/>
        </p:nvPicPr>
        <p:blipFill>
          <a:blip r:embed="rId4"/>
          <a:stretch/>
        </p:blipFill>
        <p:spPr>
          <a:xfrm>
            <a:off x="3429000" y="3645000"/>
            <a:ext cx="170964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7"/>
          <p:cNvSpPr txBox="1"/>
          <p:nvPr/>
        </p:nvSpPr>
        <p:spPr>
          <a:xfrm>
            <a:off x="304920" y="22860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ppy Birthda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hir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the eleph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2644560" y="476280"/>
            <a:ext cx="421488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se numbers in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058400" y="1557360"/>
            <a:ext cx="33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33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en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 –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 –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gh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 –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054160" y="227664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054160" y="378936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2054160" y="414972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54160" y="191628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054160" y="4869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2054160" y="3429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2050920" y="4508640"/>
            <a:ext cx="5763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2054160" y="2637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2054160" y="299736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2050920" y="5229360"/>
            <a:ext cx="5954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853800" y="1916280"/>
            <a:ext cx="633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0"/>
          <p:cNvSpPr/>
          <p:nvPr/>
        </p:nvSpPr>
        <p:spPr>
          <a:xfrm>
            <a:off x="3492360" y="2276640"/>
            <a:ext cx="9352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568320" y="2708280"/>
            <a:ext cx="9169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>
            <a:off x="3924360" y="3068640"/>
            <a:ext cx="10792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3710880" y="3429000"/>
            <a:ext cx="633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4"/>
          <p:cNvSpPr/>
          <p:nvPr/>
        </p:nvSpPr>
        <p:spPr>
          <a:xfrm>
            <a:off x="3712680" y="3789360"/>
            <a:ext cx="9169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5"/>
          <p:cNvSpPr/>
          <p:nvPr/>
        </p:nvSpPr>
        <p:spPr>
          <a:xfrm>
            <a:off x="3565800" y="4149720"/>
            <a:ext cx="648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f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3783600" y="4508640"/>
            <a:ext cx="732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7"/>
          <p:cNvSpPr/>
          <p:nvPr/>
        </p:nvSpPr>
        <p:spPr>
          <a:xfrm>
            <a:off x="3495240" y="4869000"/>
            <a:ext cx="732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8"/>
          <p:cNvSpPr/>
          <p:nvPr/>
        </p:nvSpPr>
        <p:spPr>
          <a:xfrm>
            <a:off x="3567240" y="5229360"/>
            <a:ext cx="8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igh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Содержимое 5" descr="good job 2.jpg"/>
          <p:cNvPicPr/>
          <p:nvPr/>
        </p:nvPicPr>
        <p:blipFill>
          <a:blip r:embed="rId1"/>
          <a:stretch/>
        </p:blipFill>
        <p:spPr>
          <a:xfrm>
            <a:off x="1523880" y="4572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7" descr="календари"/>
          <p:cNvPicPr/>
          <p:nvPr/>
        </p:nvPicPr>
        <p:blipFill>
          <a:blip r:embed="rId1"/>
          <a:stretch/>
        </p:blipFill>
        <p:spPr>
          <a:xfrm rot="19998600">
            <a:off x="685800" y="159984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hat date is it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04760" y="3657600"/>
            <a:ext cx="3508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oday is the…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010280" y="1371600"/>
            <a:ext cx="1905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кален"/>
          <p:cNvPicPr/>
          <p:nvPr/>
        </p:nvPicPr>
        <p:blipFill>
          <a:blip r:embed="rId2"/>
          <a:stretch/>
        </p:blipFill>
        <p:spPr>
          <a:xfrm rot="1477800">
            <a:off x="3276360" y="1752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календ"/>
          <p:cNvPicPr/>
          <p:nvPr/>
        </p:nvPicPr>
        <p:blipFill>
          <a:blip r:embed="rId3"/>
          <a:stretch/>
        </p:blipFill>
        <p:spPr>
          <a:xfrm>
            <a:off x="838080" y="449568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259" name="Line 41"/>
          <p:cNvSpPr/>
          <p:nvPr/>
        </p:nvSpPr>
        <p:spPr>
          <a:xfrm flipH="1" flipV="1">
            <a:off x="5334120" y="4114800"/>
            <a:ext cx="1752480" cy="2286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 flipH="1" flipV="1">
            <a:off x="5409720" y="4114800"/>
            <a:ext cx="1600200" cy="175248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5486400" y="3962160"/>
            <a:ext cx="144792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 flipH="1" flipV="1">
            <a:off x="5409720" y="3962160"/>
            <a:ext cx="1600200" cy="1143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5"/>
          <p:cNvSpPr/>
          <p:nvPr/>
        </p:nvSpPr>
        <p:spPr>
          <a:xfrm flipH="1" flipV="1">
            <a:off x="5409720" y="3962160"/>
            <a:ext cx="1600200" cy="6858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409720" y="4038480"/>
            <a:ext cx="1600200" cy="1447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7"/>
          <p:cNvSpPr/>
          <p:nvPr/>
        </p:nvSpPr>
        <p:spPr>
          <a:xfrm flipH="1">
            <a:off x="5410080" y="3733920"/>
            <a:ext cx="152424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8"/>
          <p:cNvSpPr/>
          <p:nvPr/>
        </p:nvSpPr>
        <p:spPr>
          <a:xfrm flipH="1">
            <a:off x="5410080" y="3352680"/>
            <a:ext cx="1524240" cy="60984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9"/>
          <p:cNvSpPr/>
          <p:nvPr/>
        </p:nvSpPr>
        <p:spPr>
          <a:xfrm flipH="1">
            <a:off x="5409720" y="2895480"/>
            <a:ext cx="1676520" cy="990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0"/>
          <p:cNvSpPr/>
          <p:nvPr/>
        </p:nvSpPr>
        <p:spPr>
          <a:xfrm flipH="1">
            <a:off x="5410080" y="2514600"/>
            <a:ext cx="1524240" cy="1371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1"/>
          <p:cNvSpPr/>
          <p:nvPr/>
        </p:nvSpPr>
        <p:spPr>
          <a:xfrm flipH="1">
            <a:off x="5409720" y="2133720"/>
            <a:ext cx="1600200" cy="167616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410080" y="1599840"/>
            <a:ext cx="1600200" cy="2133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 Black"/>
              </a:rPr>
              <a:t>I was bo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Содержимое 5" descr="лунттик.jpg"/>
          <p:cNvPicPr/>
          <p:nvPr/>
        </p:nvPicPr>
        <p:blipFill>
          <a:blip r:embed="rId1"/>
          <a:stretch/>
        </p:blipFill>
        <p:spPr>
          <a:xfrm>
            <a:off x="820800" y="1714680"/>
            <a:ext cx="73944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9528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4952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i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 born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f Ju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6019920" y="15228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ne 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2"/>
          <p:cNvSpPr/>
          <p:nvPr/>
        </p:nvSpPr>
        <p:spPr>
          <a:xfrm>
            <a:off x="6019920" y="1219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January 1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3"/>
          <p:cNvSpPr/>
          <p:nvPr/>
        </p:nvSpPr>
        <p:spPr>
          <a:xfrm>
            <a:off x="6019920" y="2362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June 2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4"/>
          <p:cNvSpPr/>
          <p:nvPr/>
        </p:nvSpPr>
        <p:spPr>
          <a:xfrm>
            <a:off x="6019920" y="3505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March 3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5"/>
          <p:cNvSpPr/>
          <p:nvPr/>
        </p:nvSpPr>
        <p:spPr>
          <a:xfrm>
            <a:off x="6019920" y="457200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October 22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6"/>
          <p:cNvSpPr/>
          <p:nvPr/>
        </p:nvSpPr>
        <p:spPr>
          <a:xfrm>
            <a:off x="6019920" y="563868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July 3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…  …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4" descr="гриб"/>
          <p:cNvPicPr/>
          <p:nvPr/>
        </p:nvPicPr>
        <p:blipFill>
          <a:blip r:embed="rId1"/>
          <a:stretch/>
        </p:blipFill>
        <p:spPr>
          <a:xfrm>
            <a:off x="5486400" y="56386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3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1222200" cy="1752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9" descr="лесные ягоды"/>
          <p:cNvPicPr/>
          <p:nvPr/>
        </p:nvPicPr>
        <p:blipFill>
          <a:blip r:embed="rId3"/>
          <a:stretch/>
        </p:blipFill>
        <p:spPr>
          <a:xfrm>
            <a:off x="5867280" y="3886200"/>
            <a:ext cx="144792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7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3" descr="подснежники"/>
          <p:cNvPicPr/>
          <p:nvPr/>
        </p:nvPicPr>
        <p:blipFill>
          <a:blip r:embed="rId5"/>
          <a:stretch/>
        </p:blipFill>
        <p:spPr>
          <a:xfrm>
            <a:off x="6172200" y="2362320"/>
            <a:ext cx="1676520" cy="1084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2" descr="скворцы прилетели"/>
          <p:cNvPicPr/>
          <p:nvPr/>
        </p:nvPicPr>
        <p:blipFill>
          <a:blip r:embed="rId6"/>
          <a:stretch/>
        </p:blipFill>
        <p:spPr>
          <a:xfrm>
            <a:off x="4038480" y="2286000"/>
            <a:ext cx="119376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7" descr="снеговик"/>
          <p:cNvPicPr/>
          <p:nvPr/>
        </p:nvPicPr>
        <p:blipFill>
          <a:blip r:embed="rId7"/>
          <a:stretch/>
        </p:blipFill>
        <p:spPr>
          <a:xfrm>
            <a:off x="5943600" y="914400"/>
            <a:ext cx="847800" cy="134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снежинка1"/>
          <p:cNvPicPr/>
          <p:nvPr/>
        </p:nvPicPr>
        <p:blipFill>
          <a:blip r:embed="rId8"/>
          <a:stretch/>
        </p:blipFill>
        <p:spPr>
          <a:xfrm>
            <a:off x="2743200" y="838080"/>
            <a:ext cx="1486080" cy="1359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6705720" y="1447920"/>
            <a:ext cx="22096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3962520" y="1447920"/>
            <a:ext cx="20574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0"/>
          <p:cNvSpPr/>
          <p:nvPr/>
        </p:nvSpPr>
        <p:spPr>
          <a:xfrm>
            <a:off x="5181480" y="25909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4"/>
          <p:cNvSpPr/>
          <p:nvPr/>
        </p:nvSpPr>
        <p:spPr>
          <a:xfrm>
            <a:off x="2514600" y="4267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7162920" y="4419720"/>
            <a:ext cx="1676160" cy="53316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0"/>
          <p:cNvSpPr/>
          <p:nvPr/>
        </p:nvSpPr>
        <p:spPr>
          <a:xfrm>
            <a:off x="380880" y="571500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1"/>
          <p:cNvSpPr/>
          <p:nvPr/>
        </p:nvSpPr>
        <p:spPr>
          <a:xfrm>
            <a:off x="3962520" y="571500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62"/>
          <p:cNvSpPr/>
          <p:nvPr/>
        </p:nvSpPr>
        <p:spPr>
          <a:xfrm>
            <a:off x="6553080" y="57150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ажи по образцу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e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english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491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3808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08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380880" y="28195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3429000" y="4724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380880" y="4724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80880" y="42670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80880" y="5181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380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34290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3429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34290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4290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34290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34290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342900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6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7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66294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66294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sks for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920" y="1219320"/>
          <a:ext cx="8534160" cy="53337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Excellen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G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B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нить количественные числительн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знать, что такое порядковые числительные и как они обра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учиться употреблять правило в ре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 Rounded MT Bold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 – Ex. 6 p.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I – Ex. 5 p. 79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II - Ex. 5 p. 79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 it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овые числительные - очень отлич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мни правило та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о совсем-совсем прос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, третий и в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признают лишь с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- (the) second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- (the) 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твертого по девятнадц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одинаковый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числам нуж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б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 порядку всех расстави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 - (the) fourth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- (the) 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- (the) sixth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 - (the) sev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- (the) eigh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- (the) ni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дцатый, тридцатый и хоть девяно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ь тоже очень про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место букв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який ра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бавля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enty - (the) twentie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9" descr="теннисный мяч"/>
          <p:cNvPicPr/>
          <p:nvPr/>
        </p:nvPicPr>
        <p:blipFill>
          <a:blip r:embed="rId1"/>
          <a:stretch/>
        </p:blipFill>
        <p:spPr>
          <a:xfrm rot="20157600">
            <a:off x="5715000" y="2209680"/>
            <a:ext cx="571680" cy="5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волк"/>
          <p:cNvPicPr/>
          <p:nvPr/>
        </p:nvPicPr>
        <p:blipFill>
          <a:blip r:embed="rId2"/>
          <a:stretch/>
        </p:blipFill>
        <p:spPr>
          <a:xfrm>
            <a:off x="6248520" y="466884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ракетка1"/>
          <p:cNvPicPr/>
          <p:nvPr/>
        </p:nvPicPr>
        <p:blipFill>
          <a:blip r:embed="rId3"/>
          <a:stretch/>
        </p:blipFill>
        <p:spPr>
          <a:xfrm rot="2886600">
            <a:off x="7913520" y="4354200"/>
            <a:ext cx="573120" cy="1312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весёлый зайчик"/>
          <p:cNvPicPr/>
          <p:nvPr/>
        </p:nvPicPr>
        <p:blipFill>
          <a:blip r:embed="rId4"/>
          <a:stretch/>
        </p:blipFill>
        <p:spPr>
          <a:xfrm>
            <a:off x="1371600" y="350532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ракетка"/>
          <p:cNvPicPr/>
          <p:nvPr/>
        </p:nvPicPr>
        <p:blipFill>
          <a:blip r:embed="rId5"/>
          <a:stretch/>
        </p:blipFill>
        <p:spPr>
          <a:xfrm rot="20987400">
            <a:off x="5334120" y="28951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gradFill rotWithShape="0">
            <a:gsLst>
              <a:gs pos="0">
                <a:srgbClr val="ffe7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 Black"/>
              </a:rPr>
              <a:t>THEY LIKE TO PLAY TENNIS !</a:t>
            </a:r>
            <a:r>
              <a:rPr b="1" lang="en-US" sz="4800" spc="-1" strike="noStrike">
                <a:solidFill>
                  <a:srgbClr val="9900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5410080"/>
            <a:ext cx="2590920" cy="1067040"/>
          </a:xfrm>
          <a:prstGeom prst="rect">
            <a:avLst/>
          </a:prstGeom>
          <a:solidFill>
            <a:srgbClr val="78d0f8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1320" y="5867280"/>
            <a:ext cx="2057400" cy="609840"/>
          </a:xfrm>
          <a:prstGeom prst="rect">
            <a:avLst/>
          </a:prstGeom>
          <a:solidFill>
            <a:srgbClr val="ffcc00">
              <a:alpha val="93000"/>
            </a:srgbClr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The 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слонёнок3"/>
          <p:cNvPicPr/>
          <p:nvPr/>
        </p:nvPicPr>
        <p:blipFill>
          <a:blip r:embed="rId6"/>
          <a:stretch/>
        </p:blipFill>
        <p:spPr>
          <a:xfrm rot="346200">
            <a:off x="3668760" y="2757240"/>
            <a:ext cx="2028600" cy="2208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3352680" y="4800600"/>
            <a:ext cx="2438640" cy="1676520"/>
          </a:xfrm>
          <a:prstGeom prst="rect">
            <a:avLst/>
          </a:prstGeom>
          <a:solidFill>
            <a:srgbClr val="98f76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"/>
          <p:cNvPicPr/>
          <p:nvPr/>
        </p:nvPicPr>
        <p:blipFill>
          <a:blip r:embed="rId7"/>
          <a:stretch/>
        </p:blipFill>
        <p:spPr>
          <a:xfrm rot="19191600">
            <a:off x="609480" y="3657600"/>
            <a:ext cx="733680" cy="131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теннисный мяч"/>
          <p:cNvPicPr/>
          <p:nvPr/>
        </p:nvPicPr>
        <p:blipFill>
          <a:blip r:embed="rId8"/>
          <a:stretch/>
        </p:blipFill>
        <p:spPr>
          <a:xfrm>
            <a:off x="8229600" y="4038480"/>
            <a:ext cx="457200" cy="4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теннисный мяч"/>
          <p:cNvPicPr/>
          <p:nvPr/>
        </p:nvPicPr>
        <p:blipFill>
          <a:blip r:embed="rId9"/>
          <a:stretch/>
        </p:blipFill>
        <p:spPr>
          <a:xfrm>
            <a:off x="380880" y="3352680"/>
            <a:ext cx="609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Documents and Settings\Пользователь\Рабочий стол\25-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Пользователь\Рабочий стол\339948058.gif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 Black"/>
              </a:rPr>
              <a:t>Ordinal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Arial"/>
              </a:rPr>
              <a:t>порядковые числ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Порядковые и количественные числ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нные числительные обозначают КОЛИЧЕСТВО и отвечают на вопрос «сколь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овые числительные обозначают ПОРЯДОК и отвечают на 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кой по порядк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200400" y="2133720"/>
            <a:ext cx="2895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819520" y="26668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838080" y="3733920"/>
            <a:ext cx="2133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33520" y="42670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c8c93"/>
                </a:solidFill>
                <a:latin typeface="Arial Rounded MT Bold"/>
              </a:rPr>
              <a:t>Tasks for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спомнить количественные числи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знать что такое порядковые числительные, как они образ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учиться употреблять правило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124080" y="1752480"/>
            <a:ext cx="3200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914400" y="22860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362320" y="2895480"/>
            <a:ext cx="4267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838080" y="3276720"/>
            <a:ext cx="6858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048120" y="38862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411280" y="765000"/>
            <a:ext cx="511344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е  числитель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187280" y="1557360"/>
            <a:ext cx="698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уются прибавлением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 артикля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который относится к определяемому существительн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–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 – девятый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–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e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тыре – четвёрт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21-11-21T12:02:5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