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A13A-FB48-44E7-8A09-8895CC5A8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ищ милый, друг пря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яхнём рукою рук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м в чаше круго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нсам сродну скук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ервый раз мы вместе пьё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дко и браним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чашу дружества нальём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тчас помирим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ы, который с детских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весельем дышиш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авный,право, ты поэ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ь плохо басни пишеш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обой тасуюсь без чин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лю тебя душ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 не пришёл, кудрявый наш пе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ишь ли ты в кругу своих дру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октября 1836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 руку, Дельвиг! Что ты спиш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нись, ленивец сонны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не под кафедрой сидиш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тынью усыплё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ты, красавец молод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ятельный повес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ы будешь Вакха жрец лих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очее – завес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75B-D4BC-43FA-8EB0-6D7FCB40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7F2-06FF-429D-95A4-CA5DE05C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4E6-3511-4772-B64A-AFBE090B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1E6-775B-4BBD-ACA7-A747BE4B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8E0-804A-4401-93E2-0C9CFAD0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6E2-9729-4EE0-894A-7C397B23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DE5-E14F-4BD4-9E51-755EC0B5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7E1-89C5-48FE-AE7E-65EBAD34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43D-CC2F-4F5A-8AF2-9D3E1E4D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607-891A-4549-A988-AD908D66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19D-06D6-448F-8895-6F284AA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DEF-E877-4114-A56A-5E192E9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05E7-51ED-43D9-BA86-BDB1F469A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838760" cy="6000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0" y="0"/>
            <a:ext cx="8785080" cy="50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Друзья мои, прекрасен наш союз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н,как душа, не разделим и вечен -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колебим, свободен и беспечен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растался он под сенью дружных муз"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ущин Иван Иван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371680" cy="3071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5516640"/>
            <a:ext cx="244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Рисунок, пастель Ф. Верне 18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2720" y="1628640"/>
            <a:ext cx="5291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Товарищ милый, друг пря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Тряхнём рукою ру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ставим в чаше круг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едантам сродну ску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 первый раз мы вместе пь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редко и браним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о чашу дружества нальём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И тотчас помир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Михаил Лукьянович ЯКОВЛ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550960" cy="288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450864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М. Л. ЯКОВЛЕ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Рисунок   неизвестного   художни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1816-18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2349360"/>
            <a:ext cx="4572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А ты, который с детски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дним весельем дышиш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бавный, право, ты поэ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Хоть плохо басни пишеш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 тобой тасуюсь без ч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Люблю тебя душо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1356" t="0" r="6489" b="7166"/>
          <a:stretch/>
        </p:blipFill>
        <p:spPr>
          <a:xfrm>
            <a:off x="5870520" y="2781360"/>
            <a:ext cx="2565360" cy="331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5493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орсаков Николай Александ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(1800-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5520" y="1773360"/>
            <a:ext cx="547956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н не пришёл, кудрявый наш певе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 огнём в очах, с гитарой сладкоглас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од митрами Италии прекра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н тихо спит, и дружеский рез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Не начертал над русскою моги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лов несколько на языке род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Чтоб некогда нашёл привет уны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ын Севера, бродя в краю чуж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Матюшкин Фёдор Фёдо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13979" b="0"/>
          <a:stretch/>
        </p:blipFill>
        <p:spPr>
          <a:xfrm>
            <a:off x="539640" y="1844640"/>
            <a:ext cx="206064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436572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Ф. Ф. МАТЮШК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Рисунок   неизвестного   художник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1816—18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2240" y="1720800"/>
            <a:ext cx="557100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идишь ли ты в кругу своих др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Чужих небес любовник беспокой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ь снова ты проходишь тропик зной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 вечный лёд полунощных морей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частливый путь!.. С лицейского п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Ты на корабль перешагнул шут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 с той поры в морях твоя доро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, волн и бурь любимое дит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519408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427640" cy="300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95280" y="1268280"/>
            <a:ext cx="69343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Роняет лес багряный свой убор,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Сребрит мороз увянувшее поле,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Проглянет день как будто поневоле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ahoma"/>
              </a:rPr>
              <a:t>И скроется за край окружных гор... 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02520" y="36910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19 октября 182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640" y="1341360"/>
            <a:ext cx="70484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ыла пора: наш праздник молодо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ял, шумел и розами венчалс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с песнями бокалов звон мешался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тесною сидели мы толпой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684360" y="4292640"/>
            <a:ext cx="3097080" cy="2306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519240" y="455436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19 октября 183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96000" y="404640"/>
            <a:ext cx="334800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Иван Пущин,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Вильгельм Кюхельбекер,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 Антон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Дельвиг –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ближайшие друзья </a:t>
            </a:r>
            <a:br>
              <a:rPr sz="3200"/>
            </a:br>
            <a:r>
              <a:rPr b="1" i="1" lang="ru-RU" sz="3200" spc="-1" strike="noStrike">
                <a:solidFill>
                  <a:srgbClr val="009900"/>
                </a:solidFill>
                <a:latin typeface="Blackadder ITC"/>
              </a:rPr>
              <a:t>Александра 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4596" t="23528" r="0" b="3137"/>
          <a:stretch/>
        </p:blipFill>
        <p:spPr>
          <a:xfrm>
            <a:off x="0" y="0"/>
            <a:ext cx="5735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60404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8200" y="5897520"/>
            <a:ext cx="26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720" y="189000"/>
            <a:ext cx="27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Художник Ю. В. Ив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426" t="0" r="57064" b="3474"/>
          <a:stretch/>
        </p:blipFill>
        <p:spPr>
          <a:xfrm>
            <a:off x="5942160" y="907920"/>
            <a:ext cx="2841480" cy="374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И. И. ПУ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</a:rPr>
              <a:t>Рисунок, пастель Ф. Берне. 1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424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«Мой </a:t>
            </a:r>
            <a:br>
              <a:rPr sz="4400"/>
            </a:b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первый друг, мой друг бесценный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2521080" cy="1714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67840" y="-14209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«Он как дитя был рад нашему свидани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50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ыне здесь, в забытой сей глуш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обители пустынных вьюг и хла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не сладкая готовилась отра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...Поэта дом опаль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 Пущин мой, ты первый посети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ы усладил изгнанья день печаль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ы в день его Лицея прев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19 октября 1825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3433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5280" y="0"/>
            <a:ext cx="51483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Никто на свете не был мне ближе Дельвиг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,- писал Пушкин П.А. Плетнёву, потрясённый известием о ранней смерти своего лицейского друга.-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мимо его прекрасного таланта, это была отлично устроенная голова и душа склада необычного. Он был лучший из нас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4823280"/>
            <a:ext cx="3885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.А. Дельв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Акварель П.Л. Яковлева 1816-1971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51359" t="2316" r="0" b="0"/>
          <a:stretch/>
        </p:blipFill>
        <p:spPr>
          <a:xfrm>
            <a:off x="539640" y="260280"/>
            <a:ext cx="3146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2511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Гениальность Пушкина Кюхельбекер признал одним из первых. Когда вышла в свет пушкинская «Полтава», прохладно встреченная критикой, Кюхельбекер оценил её восторженно. Из далёкой сибирской крепости он 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«с оказией» писал Пушкину: «Я тебя не только люблю, как всегда любил, но за твою «Полтаву» уважаю, сколько только можно уважать. Вокруг тебя люди, понимающие тебя, как я – язык китай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3192" t="2466" r="3192" b="2466"/>
          <a:stretch/>
        </p:blipFill>
        <p:spPr>
          <a:xfrm>
            <a:off x="5219640" y="836640"/>
            <a:ext cx="307332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51600" y="5157360"/>
            <a:ext cx="47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. К. КЮХЕЛЬБЕК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Гравюра И. И. Матю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 акварели П. Л. Яковлева. 1820-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11920" y="1916280"/>
            <a:ext cx="1432080" cy="1728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167004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227640" y="2781360"/>
            <a:ext cx="1785960" cy="201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971640" y="18900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Пирующие студенты"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93400" y="4797360"/>
            <a:ext cx="203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. Л. ЯКОВЛЕ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Рисунок   неизвестного   художник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16-181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6368760"/>
            <a:ext cx="175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А. М. ГОРЧАКОВ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Рисунок   неизвестного художника.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1816—18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6120" y="5445000"/>
            <a:ext cx="21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Ф. Ф. МАТЮШКИ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Рисунок   неизвестного   художника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16—181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93560" y="58770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рсак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Николай Александр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1800-182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065480" y="342252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66920" y="34502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0560" y="573372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ельвиг Антон Антон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кварель П.Л. Яковлева 1816-18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603680"/>
            <a:ext cx="16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 ущин Иван Иванови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исунок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астель Ф. Верн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18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rcRect l="57064" t="11579" r="4993" b="8106"/>
          <a:stretch/>
        </p:blipFill>
        <p:spPr>
          <a:xfrm>
            <a:off x="1258920" y="3645000"/>
            <a:ext cx="1641600" cy="2131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rcRect l="0" t="0" r="13979" b="0"/>
          <a:stretch/>
        </p:blipFill>
        <p:spPr>
          <a:xfrm>
            <a:off x="5076720" y="3429000"/>
            <a:ext cx="1603440" cy="207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rcRect l="11356" t="0" r="6489" b="7166"/>
          <a:stretch/>
        </p:blipFill>
        <p:spPr>
          <a:xfrm>
            <a:off x="3708360" y="3789360"/>
            <a:ext cx="1598760" cy="204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2843280" y="1413000"/>
            <a:ext cx="1284120" cy="1942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2627280" y="4005360"/>
            <a:ext cx="1422360" cy="221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884000" y="3645000"/>
            <a:ext cx="1480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Вильгельм Карлович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юхельбек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Акварель П. Л. Яковлев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20-е го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golian Baiti"/>
              </a:rPr>
              <a:t>Дельвиг Антон Антонови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7064" t="11579" r="4993" b="8106"/>
          <a:stretch/>
        </p:blipFill>
        <p:spPr>
          <a:xfrm>
            <a:off x="250920" y="2133720"/>
            <a:ext cx="2379600" cy="3108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5373720"/>
            <a:ext cx="237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Акварель П.Л. Яковле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1816-18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2708280"/>
            <a:ext cx="6553440" cy="222696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Дай руку, Дельвиг! Что ты спи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роснись, ленивец сонны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Ты не под кафедрой сиди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Латынью усыплё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812000" y="5373720"/>
            <a:ext cx="981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Александр  Михайлович ГОРЧА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214720" cy="3457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5013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Рисунок   неизвестного художника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1816—181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2637000"/>
            <a:ext cx="61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А ты, красавец молод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Сиятельный пов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Ты будешь Вакха жрец ли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На прочее – зав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3:57:33Z</dcterms:created>
  <dc:creator>Nina</dc:creator>
  <dc:description/>
  <dc:language>en-US</dc:language>
  <cp:lastModifiedBy>Нина</cp:lastModifiedBy>
  <dcterms:modified xsi:type="dcterms:W3CDTF">2013-02-13T04:35:27Z</dcterms:modified>
  <cp:revision>9</cp:revision>
  <dc:subject/>
  <dc:title>Слайд 1</dc:title>
</cp:coreProperties>
</file>