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C495-760E-4AA2-809F-7BA7FE34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9909-4F44-41D7-9D1B-621F3F03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8F76-3D14-430E-A360-355AE9A3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7713-2734-421E-97F9-7B42FA9E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B52B-7D38-4988-854E-F8A22FB3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3A45-4CBF-41C6-8E41-66D2A473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3571-957B-4CFA-A1A3-B73EA638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FE6D-C1A9-4851-9ECE-81EB454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CB65-B90A-46D6-95B8-DD8DFE71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331-F3A0-426C-A361-511B47F5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FAFC-C872-4FC4-8FA7-919EFFC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50B6-9D0F-4BBF-B327-C65CE15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0AC9-84DC-48CE-9A2C-6675CCA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5457-515C-480D-9BA4-ABAB2BD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225D-AA27-4950-A917-63F36AB7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CDAD-DB64-4DBC-9C5A-12FF5DC3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FE7A-BCEF-4C26-9F83-E1D38D73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793C-A03B-4D13-8D89-65E1C7EF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3952-6DBE-4980-9A35-0088D1E2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6CF8-49A9-4590-9A51-DCB94BE6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0903-5412-4551-BFA1-2A356E2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D366-79B1-4AB9-8CFF-7D50B6EE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AC50-5219-4954-BFCD-1A94A467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A757-9F1E-4A6E-96D8-154F990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E556-386F-45ED-8C13-EA5B6CF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FF9C-12D5-4A1C-A542-4EA6016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924F-4346-4264-885C-259E05F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ADC9-0DB1-4D57-96CD-8D396976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5742-E722-4785-B8A3-DCC0981F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E98C-884E-4AA8-824A-277A50DB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BAAA-186B-4664-9E74-B24801D9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8618-1A44-4736-832E-3EFB8EE0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35060-E4CA-4C89-9C95-945CDECA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60E3-C431-4A31-9CA1-BBC1F7C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24AA-15A6-4A11-B0F2-7C507826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81B6-52FB-4FA1-8D5C-28E80048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0DC4-1E19-4992-94CC-C8E922D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FDE8-9411-4AE7-9F07-BF8AFE43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A8E0-8FA2-4EA3-BD5B-7B30EB8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448D9-84F7-4C91-834A-1CD0393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A6FB0-6758-4B3C-B47C-C3C96619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836B-C716-4181-AACB-28A6200F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5AFD-372B-48C4-B085-6E0B3D9A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0574-6AE1-4B78-B4D2-70535D6B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BCC9-B44F-4BCE-9828-3155203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138B-2262-42B1-9DBD-7E8C23F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C992-A292-4527-9C7E-27E3EA7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63D9-880B-41BC-BB6F-B1458910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65FC-53D4-4C08-AFD1-9C52E6308F8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013E-5DF4-4085-A33A-E683F36A8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D2D2-ACA2-4DA8-984E-99F7845D122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6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6695-05DC-4A14-96FF-6509AB5D40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Заголовок 1"/>
          <p:cNvSpPr/>
          <p:nvPr/>
        </p:nvSpPr>
        <p:spPr>
          <a:xfrm>
            <a:off x="500040" y="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одзаголовок 2"/>
          <p:cNvSpPr/>
          <p:nvPr/>
        </p:nvSpPr>
        <p:spPr>
          <a:xfrm>
            <a:off x="1285920" y="1844640"/>
            <a:ext cx="6400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ahoma"/>
              </a:rPr>
              <a:t>Женщины в жизн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00"/>
                </a:solidFill>
                <a:latin typeface="Arial"/>
              </a:rPr>
              <a:t>Александра Сергеевича Пушк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1.4. Ольга Сергеевна Павлищив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97-186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льга Сергеевна Павлищева – сестра поэта. Именно сестра поэта была «опорным образцом» главной героини «Евгения Онегина». «Друг бесценный», как называл её брат в стихотворе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11" descr="Павлищева"/>
          <p:cNvPicPr/>
          <p:nvPr/>
        </p:nvPicPr>
        <p:blipFill>
          <a:blip r:embed="rId1"/>
          <a:stretch/>
        </p:blipFill>
        <p:spPr>
          <a:xfrm>
            <a:off x="4643280" y="1557360"/>
            <a:ext cx="376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4"/>
          <p:cNvSpPr/>
          <p:nvPr/>
        </p:nvSpPr>
        <p:spPr>
          <a:xfrm>
            <a:off x="2268360" y="981000"/>
            <a:ext cx="4680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ы хочешь, друг бесцен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б я, поэт млад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седовал с тоб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 лирою забв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чтами окрилен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тавил монасты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край уединен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де непрерывный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мраке опустил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в пустыни глух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змолвно воцарил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 угрюмой тиш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2.Мимолетные увлеч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" descr="bakunina_ekpav.jpg"/>
          <p:cNvPicPr/>
          <p:nvPr/>
        </p:nvPicPr>
        <p:blipFill>
          <a:blip r:embed="rId1"/>
          <a:stretch/>
        </p:blipFill>
        <p:spPr>
          <a:xfrm>
            <a:off x="285840" y="1500120"/>
            <a:ext cx="2381040" cy="30193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3" descr="Потоцкая.jpg"/>
          <p:cNvPicPr/>
          <p:nvPr/>
        </p:nvPicPr>
        <p:blipFill>
          <a:blip r:embed="rId2"/>
          <a:stretch/>
        </p:blipFill>
        <p:spPr>
          <a:xfrm>
            <a:off x="6143760" y="1500120"/>
            <a:ext cx="2671560" cy="378000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4" descr="Мария Николаевна Раевская.jpg"/>
          <p:cNvPicPr/>
          <p:nvPr/>
        </p:nvPicPr>
        <p:blipFill>
          <a:blip r:embed="rId3"/>
          <a:stretch/>
        </p:blipFill>
        <p:spPr>
          <a:xfrm>
            <a:off x="1214280" y="3657600"/>
            <a:ext cx="2381400" cy="32004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5" descr="Хитрово.jpg"/>
          <p:cNvPicPr/>
          <p:nvPr/>
        </p:nvPicPr>
        <p:blipFill>
          <a:blip r:embed="rId4"/>
          <a:stretch/>
        </p:blipFill>
        <p:spPr>
          <a:xfrm>
            <a:off x="4643280" y="3687840"/>
            <a:ext cx="2345040" cy="317016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6" descr="Вульф.jpg"/>
          <p:cNvPicPr/>
          <p:nvPr/>
        </p:nvPicPr>
        <p:blipFill>
          <a:blip r:embed="rId5"/>
          <a:stretch/>
        </p:blipFill>
        <p:spPr>
          <a:xfrm>
            <a:off x="2928960" y="1500120"/>
            <a:ext cx="2619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2. 1. Екатерина Павловна Бакунина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1795-186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катерина Павловна Бакунина – фрейлина, сестра его однокашника по лицею. Чувство к ней вспыхнуло осенью 1815 года и продолжалось несколько лет. Одно из стихотворений, посвященных первой платонической любви А.С. Пушк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6" descr="bakunina_ekpav"/>
          <p:cNvPicPr/>
          <p:nvPr/>
        </p:nvPicPr>
        <p:blipFill>
          <a:blip r:embed="rId1"/>
          <a:stretch/>
        </p:blipFill>
        <p:spPr>
          <a:xfrm>
            <a:off x="900000" y="1700280"/>
            <a:ext cx="3179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684360" y="1916280"/>
            <a:ext cx="763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так, я счастлив был, итак я наслаждал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радой тихою, восторгом упивалс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где веселья быстрый ден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чался лётом сновид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вяла прелесть наслажд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нова вкруг меня угрюмой скуки тень!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2.2. Софья Потоц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фья Потоцкая. Незадолго до ссылки в Кишинев Пушкин испытал сильное чувство к «похотливой Минерве». Увлечен ею он был без взаимности и без надеж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7" descr="Потоцкая"/>
          <p:cNvPicPr/>
          <p:nvPr/>
        </p:nvPicPr>
        <p:blipFill>
          <a:blip r:embed="rId1"/>
          <a:stretch/>
        </p:blipFill>
        <p:spPr>
          <a:xfrm>
            <a:off x="5292720" y="1628640"/>
            <a:ext cx="3052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2.3. Мария Николаевна Раевская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805-186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ия Николаевна Раевская – «утаенная любовь» А.С. Пушкина. С лета 1820 года, когда Пушкин познакомился с ней, он испытал неподдельное волнение. Образ её долго хранила память поэта, вдохновляя его творчество. Пушкин посвятил ей стихотвор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7" descr="Мария Николаевна Раевская"/>
          <p:cNvPicPr/>
          <p:nvPr/>
        </p:nvPicPr>
        <p:blipFill>
          <a:blip r:embed="rId1"/>
          <a:stretch/>
        </p:blipFill>
        <p:spPr>
          <a:xfrm>
            <a:off x="1116000" y="1628640"/>
            <a:ext cx="31608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900000" y="1052640"/>
            <a:ext cx="799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холмах Грузии лежит ночная мг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Шумит Арагва предо мн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не грустно и легко; печаль моя полна тобо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обой, одной тобой… Унынья мо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ичто не мучит, не тревож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ердце вновь горит и любит – отт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не любить оно не мо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2.4.  Елизавета Михайловна Хитрово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1783-183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Клип 4" descr="Хитрово.jpg"/>
          <p:cNvPicPr/>
          <p:nvPr/>
        </p:nvPicPr>
        <p:blipFill>
          <a:blip r:embed="rId1"/>
          <a:stretch/>
        </p:blipFill>
        <p:spPr>
          <a:xfrm>
            <a:off x="571680" y="1500120"/>
            <a:ext cx="3500280" cy="4730760"/>
          </a:xfrm>
          <a:prstGeom prst="rect">
            <a:avLst/>
          </a:prstGeom>
          <a:ln w="0">
            <a:noFill/>
          </a:ln>
        </p:spPr>
      </p:pic>
      <p:sp>
        <p:nvSpPr>
          <p:cNvPr id="469" name="Текст 3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лизавета Михайловна Хитрово – дочь фельдмаршала М.И. Кутузова. Пушкин познакомился с Е.М. Хитрово, вероятно, в 1827г., когда, впервые после ссылки, приехал в Петербург. Полюбила она его восторженно, страстно, самоотверженно, горестной любовью стареющей женщины, не ждущей и не смеющей ждать ответного чув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2.5. Анна Николаевна Вульф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99-1857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Содержимое 3" descr="Вульф.jpg"/>
          <p:cNvPicPr/>
          <p:nvPr/>
        </p:nvPicPr>
        <p:blipFill>
          <a:blip r:embed="rId1"/>
          <a:stretch/>
        </p:blipFill>
        <p:spPr>
          <a:xfrm>
            <a:off x="5143680" y="1714680"/>
            <a:ext cx="3357360" cy="452088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285840" y="1714680"/>
            <a:ext cx="442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на Вульф – милая, скромная провинциальная барышня. У Пушкина был с нею самый вялый и прозаический из всех его романов, и в одном письме к ней он сам назвал себя ее «прозаическим обожателем». Холодно-чувствительное увлечение Анной Николаевной не мешало Пушкину одновременно увлекаться и другими женщинами – Нетти Вульф, Анной Петровной Кер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684360" y="476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Цель работы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узнать как можно больше о первых женщинах в жизни А.С. Пушкина, мимолетных увлечениях А.С. Пушкина, о серьёзных увлечениях А.С. Пушкина и узнать какие творческие последствия имели данные увл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3. Серьёзные увлечения 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Содержимое 3" descr="Ризнич.jpg"/>
          <p:cNvPicPr/>
          <p:nvPr/>
        </p:nvPicPr>
        <p:blipFill>
          <a:blip r:embed="rId1"/>
          <a:stretch/>
        </p:blipFill>
        <p:spPr>
          <a:xfrm>
            <a:off x="6643800" y="1643040"/>
            <a:ext cx="1904760" cy="381168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4" descr="Воронцова1.jpg"/>
          <p:cNvPicPr/>
          <p:nvPr/>
        </p:nvPicPr>
        <p:blipFill>
          <a:blip r:embed="rId2"/>
          <a:stretch/>
        </p:blipFill>
        <p:spPr>
          <a:xfrm>
            <a:off x="500040" y="1643040"/>
            <a:ext cx="2422440" cy="323064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5" descr="Анна Керн.jpg"/>
          <p:cNvPicPr/>
          <p:nvPr/>
        </p:nvPicPr>
        <p:blipFill>
          <a:blip r:embed="rId3"/>
          <a:stretch/>
        </p:blipFill>
        <p:spPr>
          <a:xfrm>
            <a:off x="1714680" y="3683160"/>
            <a:ext cx="2381040" cy="317484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6" descr="Ушакова.jpg"/>
          <p:cNvPicPr/>
          <p:nvPr/>
        </p:nvPicPr>
        <p:blipFill>
          <a:blip r:embed="rId4"/>
          <a:stretch/>
        </p:blipFill>
        <p:spPr>
          <a:xfrm>
            <a:off x="4714920" y="3451320"/>
            <a:ext cx="2584440" cy="340668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7" descr="Оленина.jpg"/>
          <p:cNvPicPr/>
          <p:nvPr/>
        </p:nvPicPr>
        <p:blipFill>
          <a:blip r:embed="rId5"/>
          <a:stretch/>
        </p:blipFill>
        <p:spPr>
          <a:xfrm>
            <a:off x="4572000" y="1428840"/>
            <a:ext cx="2324160" cy="32144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8" descr="Софья Пшкина.jpg"/>
          <p:cNvPicPr/>
          <p:nvPr/>
        </p:nvPicPr>
        <p:blipFill>
          <a:blip r:embed="rId6"/>
          <a:stretch/>
        </p:blipFill>
        <p:spPr>
          <a:xfrm>
            <a:off x="1500120" y="1500120"/>
            <a:ext cx="2714760" cy="353700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9" descr="Закревская.jpg"/>
          <p:cNvPicPr/>
          <p:nvPr/>
        </p:nvPicPr>
        <p:blipFill>
          <a:blip r:embed="rId7"/>
          <a:stretch/>
        </p:blipFill>
        <p:spPr>
          <a:xfrm>
            <a:off x="3214800" y="2643120"/>
            <a:ext cx="26906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3. 1. Амалия Ризн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803-18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есская дива- Амалия Ризнич. Пушкин познакомился с ней в июле 1823 года и пережил к ней сильное, хотя, видимо непродолжительное чувство. В мае они расстались – у красавицы обнаружили чахотку и назначили лечение целебным воздухом Италии. И ещё осенью 1830 года, в болдинском уединении, перед ним возникает её «мучительная тень» он пишет, посвящая ей, знаменитые стро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6" descr="Ризнич"/>
          <p:cNvPicPr/>
          <p:nvPr/>
        </p:nvPicPr>
        <p:blipFill>
          <a:blip r:embed="rId1"/>
          <a:stretch/>
        </p:blipFill>
        <p:spPr>
          <a:xfrm>
            <a:off x="5219640" y="1700280"/>
            <a:ext cx="23558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826920" y="1341360"/>
            <a:ext cx="7345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берегов Отчизны д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ы покидала край чуж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час незабвенной, в час печ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долго плакал пред тоб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и хладеющие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бя старались удерж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омленья страшною разл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й стон молил не преры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3.2. Елизавета Ксавериевна Воронцова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(1792-18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57200" y="1600200"/>
            <a:ext cx="4402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лизавета Ксавериевна Воронцова. Пушкин познакомился с ней осенью 1823 года. Привычное внимание к молодой и красивой женщине скоро перешло в глубокое и серьезное чувство. Поэт восхищался не только внешностью Воронцовой, но и её благородными возвышенными качествами души, благотворил её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13" descr="Воронцова1"/>
          <p:cNvPicPr/>
          <p:nvPr/>
        </p:nvPicPr>
        <p:blipFill>
          <a:blip r:embed="rId1"/>
          <a:stretch/>
        </p:blipFill>
        <p:spPr>
          <a:xfrm>
            <a:off x="5364000" y="1989000"/>
            <a:ext cx="27082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611280" y="1413000"/>
            <a:ext cx="80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1116000" y="1341360"/>
            <a:ext cx="7343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ё в жертву памяти тво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голос лиры вдохнов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лёзы девы воспал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трепет ревности мо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лавы блеск, и мрак изгна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ветлых мыслей красо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мщенье, бурная меч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жесточенного страдан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3.4. Анна Петровна Керн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(1800-187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дным мгновеньем промелькнула перед Пушкиным очаровательная Анна Петровна Керн. Они встретились летом 1825 года в Тригорском, куда Пушкин приходил из Михайловского чуть ли не каждый день, именно здесь у Керн произошел, хотя и кратковременный роман с Пушкиным. Ей он посвятил стихотвор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10" descr="Анна Керн"/>
          <p:cNvPicPr/>
          <p:nvPr/>
        </p:nvPicPr>
        <p:blipFill>
          <a:blip r:embed="rId1"/>
          <a:stretch/>
        </p:blipFill>
        <p:spPr>
          <a:xfrm>
            <a:off x="5076720" y="1628640"/>
            <a:ext cx="32418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1258920" y="1628640"/>
            <a:ext cx="7129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ас любил: любовь ещё быть мож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 пусть она вас больше не тревожи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не хочу печалить вас нич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ас любил безмолвно, безнадёж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о робостью, то ревностью томи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ас любил так искренно, так неж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дай вам бог любимой быть друг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3.5. Екатерина Николаевна Ушакова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1809-187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Клип 4" descr="Ушакова.jpg"/>
          <p:cNvPicPr/>
          <p:nvPr/>
        </p:nvPicPr>
        <p:blipFill>
          <a:blip r:embed="rId1"/>
          <a:stretch/>
        </p:blipFill>
        <p:spPr>
          <a:xfrm>
            <a:off x="571680" y="1714680"/>
            <a:ext cx="3286080" cy="4333680"/>
          </a:xfrm>
          <a:prstGeom prst="rect">
            <a:avLst/>
          </a:prstGeom>
          <a:ln w="0">
            <a:noFill/>
          </a:ln>
        </p:spPr>
      </p:pic>
      <p:sp>
        <p:nvSpPr>
          <p:cNvPr id="496" name="Текст 3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жду Екатериной Николаевной Ушаковой и Пушкиным завязывается тесная сердечная дружба и, наконец после продолжительной переписки, Екатерина Ушакова соглашается выйти за него замуж. Но узнав о неповиновение  отказ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2"/>
          <p:cNvSpPr/>
          <p:nvPr/>
        </p:nvSpPr>
        <p:spPr>
          <a:xfrm>
            <a:off x="500040" y="64296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3.8 Софья Фёдоровна Пушк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1806-186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Рисунок 4" descr="Софья Пшкина.jpg"/>
          <p:cNvPicPr/>
          <p:nvPr/>
        </p:nvPicPr>
        <p:blipFill>
          <a:blip r:embed="rId1"/>
          <a:stretch/>
        </p:blipFill>
        <p:spPr>
          <a:xfrm>
            <a:off x="428760" y="2143080"/>
            <a:ext cx="3000240" cy="40147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4214880" y="2071800"/>
            <a:ext cx="378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на высоком гребне своей славы в 1826 году, поэт, пробыв всего полтора месяца в Москве, успел влюбиться в юную Софью Пушкину – это его дальняя родственница. Влюбился страстно в «фарфоровую  статуэтку», как он её называл за тонкий стан и прелестный цвет лица и даже сделал ей предло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3.9. Аграфена Фёдоровна Закревская</a:t>
            </a:r>
            <a:br>
              <a:rPr sz="3400"/>
            </a:b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(1799-1879)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1" name="Содержимое 6" descr="Закревская.jpg"/>
          <p:cNvPicPr/>
          <p:nvPr/>
        </p:nvPicPr>
        <p:blipFill>
          <a:blip r:embed="rId1"/>
          <a:stretch/>
        </p:blipFill>
        <p:spPr>
          <a:xfrm>
            <a:off x="395280" y="1916280"/>
            <a:ext cx="3286080" cy="453852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4500720" y="2060640"/>
            <a:ext cx="4103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828, незадолго до знакомства с Натали, у Пушкина была любовная связь, с женой генерала, полная страсти и мучений. Любовная интрига развивалась в Петербур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енщины в жизни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Клип 4" descr="IMG_3241.jpg"/>
          <p:cNvPicPr/>
          <p:nvPr/>
        </p:nvPicPr>
        <p:blipFill>
          <a:blip r:embed="rId1"/>
          <a:stretch/>
        </p:blipFill>
        <p:spPr>
          <a:xfrm>
            <a:off x="571680" y="1500120"/>
            <a:ext cx="3722400" cy="4964040"/>
          </a:xfrm>
          <a:prstGeom prst="rect">
            <a:avLst/>
          </a:prstGeom>
          <a:ln w="0">
            <a:noFill/>
          </a:ln>
        </p:spPr>
      </p:pic>
      <p:sp>
        <p:nvSpPr>
          <p:cNvPr id="429" name="Текст 3"/>
          <p:cNvSpPr/>
          <p:nvPr/>
        </p:nvSpPr>
        <p:spPr>
          <a:xfrm>
            <a:off x="4643280" y="164304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шкин пережил и представ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ь возможный челове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ыт люб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особность чувствовать глуб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о, широкий взгляд на жиз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о огненный темперамент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ылкость побуждала поэ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зываться на каждую встречу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отой прекрасными стих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bf25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. Жена А.С. Пушкина, Наталья Николаевна Гончарова. (1812-18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427640" y="1600200"/>
            <a:ext cx="425916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алья Николаевна Гончарова – жена А.С. Пушкина. Они познакомились зимой, 1828 года на балу, знаменитого танцейсместера Йогеля. Наталья Николаевна была скромна до болезненности, она поразила поэта своей классической и царственной красотой, Александр Сергеевич не мог оторвать от неё глаз, испытав на себе натиск чувств, названных французами, буквально: удар грома. Вскоре после первого знакомства вспыхнувшая любовь излилась в известном стихотворении, оканчивающемся шутливым призна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7" descr="gjncharova"/>
          <p:cNvPicPr/>
          <p:nvPr/>
        </p:nvPicPr>
        <p:blipFill>
          <a:blip r:embed="rId1"/>
          <a:stretch/>
        </p:blipFill>
        <p:spPr>
          <a:xfrm>
            <a:off x="611280" y="1700280"/>
            <a:ext cx="34606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642960" y="35712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. Первые женщины в жизни 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" descr="мать.jpg"/>
          <p:cNvPicPr/>
          <p:nvPr/>
        </p:nvPicPr>
        <p:blipFill>
          <a:blip r:embed="rId1"/>
          <a:stretch/>
        </p:blipFill>
        <p:spPr>
          <a:xfrm>
            <a:off x="428760" y="1785960"/>
            <a:ext cx="2500200" cy="28004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3" descr="бабушка.jpg"/>
          <p:cNvPicPr/>
          <p:nvPr/>
        </p:nvPicPr>
        <p:blipFill>
          <a:blip r:embed="rId2"/>
          <a:stretch/>
        </p:blipFill>
        <p:spPr>
          <a:xfrm>
            <a:off x="4286160" y="1785960"/>
            <a:ext cx="2255760" cy="285732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Няня.gif"/>
          <p:cNvPicPr/>
          <p:nvPr/>
        </p:nvPicPr>
        <p:blipFill>
          <a:blip r:embed="rId3"/>
          <a:stretch/>
        </p:blipFill>
        <p:spPr>
          <a:xfrm>
            <a:off x="2143080" y="3930480"/>
            <a:ext cx="2381400" cy="29275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5" descr="Павлищева.jpg"/>
          <p:cNvPicPr/>
          <p:nvPr/>
        </p:nvPicPr>
        <p:blipFill>
          <a:blip r:embed="rId4"/>
          <a:stretch/>
        </p:blipFill>
        <p:spPr>
          <a:xfrm>
            <a:off x="6215040" y="3745080"/>
            <a:ext cx="27147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1.1. Надежда Осиповна Пушкин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75-183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дежда Осиповна – мать поэта. С малолетства была окружена угодливостью, потворством и лестью окружающих, выросла балованной и капризной. Была хороша в свете ее прозвали «прекрасною креолкою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шкин не был любим матерью, нежность матери, он испытал лишь в последний год её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8" descr="мать"/>
          <p:cNvPicPr/>
          <p:nvPr/>
        </p:nvPicPr>
        <p:blipFill>
          <a:blip r:embed="rId1"/>
          <a:stretch/>
        </p:blipFill>
        <p:spPr>
          <a:xfrm>
            <a:off x="395280" y="1557360"/>
            <a:ext cx="3921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1.2. Мария Алексеевна Ганнибал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45-181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ия Алексеевна Ганнибал – бабушка поэта. Умная, рассудительная. Она читала Пушкину книги, развивая его бурную фантазию. Ей он посвятил одно из своих стихотвор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7" descr="бабушка"/>
          <p:cNvPicPr/>
          <p:nvPr/>
        </p:nvPicPr>
        <p:blipFill>
          <a:blip r:embed="rId1"/>
          <a:stretch/>
        </p:blipFill>
        <p:spPr>
          <a:xfrm>
            <a:off x="611280" y="1484280"/>
            <a:ext cx="3693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468360" y="1773360"/>
            <a:ext cx="813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персница волшебной стари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руг вымыслов игривых и печальны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бя я знал во дни моей вес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дни утех и снов первонача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ждал тебя; в вечерней тиш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влялась ты весёлой старушко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1.3. Арина Родионовна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(1754-182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ина Родионовна Матвеева – няня А.С. Пушкина. Её неторопливые рассказы по вечерам очаровывали маленького Александра и через многие годы помогли ему создать свои неповторимые сказки. Любимой няне посвящены стих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7" descr="Няня"/>
          <p:cNvPicPr/>
          <p:nvPr/>
        </p:nvPicPr>
        <p:blipFill>
          <a:blip r:embed="rId1"/>
          <a:stretch/>
        </p:blipFill>
        <p:spPr>
          <a:xfrm>
            <a:off x="5076720" y="1700280"/>
            <a:ext cx="3456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684360" y="162864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руга дней моих сур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лубка дряхлая мо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дна в глуши лесов сосно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авно, давно ты ждешь мен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19:42Z</dcterms:created>
  <dc:creator>FoM</dc:creator>
  <dc:description/>
  <dc:language>en-US</dc:language>
  <cp:lastModifiedBy>user</cp:lastModifiedBy>
  <dcterms:modified xsi:type="dcterms:W3CDTF">2019-09-23T19:33:38Z</dcterms:modified>
  <cp:revision>5</cp:revision>
  <dc:subject/>
  <dc:title>Слайд 1</dc:title>
</cp:coreProperties>
</file>