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FB006-CFE2-4925-8FF5-239325D7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30273-0FCD-4B7D-88C7-A96F6D09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6B575-EECE-43F7-B826-0D8A9CD4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6307C-B2A5-4EDE-B23F-FD46EC39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C759-2481-4425-AC5E-EAFB9B1A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2E0B-E1A2-44BB-A12E-571E7337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21E4-8DA2-4F76-AAD5-513643B7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02EF-4542-4AB3-8E1E-BC706CE9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03B4-9185-4ECE-A364-712D7C62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7878-9DA2-4B39-9FC0-DF62E73D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0690-BD7D-43DA-BCD3-E17F32DC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86CBB-A20F-4940-A454-F0117365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D5B5-3706-4684-817A-B1594034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493E-0C42-4D2D-9C0E-01ACD039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E0D0-A705-4C9D-B90C-12A4CDC8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E4DA-D8D2-48FF-8EFA-3001100E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AB45-4361-4C00-A9AE-27B0597B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AC851-6E7F-47A2-A60C-E743E53B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A3C5B-5B1E-4E73-AF45-F3F97381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DE8C6-1B92-4352-8D39-FB5F2EC4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18818-C055-4A04-9A78-F236F459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8894B-4D6B-439B-A779-646C33CE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DCD44-26C6-4D09-9567-2D040F9F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BD0EC-87FB-4B7C-A92F-8F158D18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92933-BCB1-43AA-95E1-50EDF23B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EB92C-329D-4918-852B-5E4F1CA2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42861-3D0D-43DA-85C8-EB32935D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64323-94FF-4D87-8138-A7B41098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93459-4B7E-4C7D-9454-901C6CD7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CB170-66B3-49F1-99F4-2103537B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39BA4-5B0E-4996-8DE2-C168E906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E71F5-1B8B-4718-A006-691D4C9B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9F681-2162-465B-8E87-C19ACB0E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51636-6297-458F-8116-7058B838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BD06B-52F9-440D-A3BA-67C43EE4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19AEF-E612-4228-88CC-FE45211A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8C402-CCA8-41F0-976F-C403FB67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B66DE-2948-4BB2-8962-DDCF66EC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F539F-CD84-4E06-9011-47F89CD6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83456-5894-42B4-A984-38E09A81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739B6-FD4C-4F09-BB77-49349C12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C2B25-9533-4F40-9303-C488A774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B0439-5B45-4A25-B209-CDB45F5E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76C2-A13E-4466-BEF5-E07DCDDB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65EFF-955F-4311-A048-021E1CF8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1E19-7877-4666-BDF0-634C5CF8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1441D-9A55-4B9F-9B4E-3A9F3AAA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6BDA3-D3CC-4CFF-AD2C-96FE9785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D3A0-F41A-454E-A2C4-298A6C50D0C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DE3A-9F26-4CDC-8C7C-629F1F8F98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54F2-B2AB-4A75-9974-EE681F63E7E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16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1926-4FB5-4FEC-BFBB-7B6C2A2951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Заголовок 1"/>
          <p:cNvSpPr/>
          <p:nvPr/>
        </p:nvSpPr>
        <p:spPr>
          <a:xfrm>
            <a:off x="500040" y="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Подзаголовок 2"/>
          <p:cNvSpPr/>
          <p:nvPr/>
        </p:nvSpPr>
        <p:spPr>
          <a:xfrm>
            <a:off x="1285920" y="1844640"/>
            <a:ext cx="6400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ahoma"/>
              </a:rPr>
              <a:t>Женщины в жизни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00"/>
                </a:solidFill>
                <a:latin typeface="Arial"/>
              </a:rPr>
              <a:t>Александра Сергеевича Пушки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1.4. Ольга Сергеевна Павлищива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(1797-1868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льга Сергеевна Павлищева – сестра поэта. Именно сестра поэта была «опорным образцом» главной героини «Евгения Онегина». «Друг бесценный», как называл её брат в стихотворе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11" descr="Павлищева"/>
          <p:cNvPicPr/>
          <p:nvPr/>
        </p:nvPicPr>
        <p:blipFill>
          <a:blip r:embed="rId1"/>
          <a:stretch/>
        </p:blipFill>
        <p:spPr>
          <a:xfrm>
            <a:off x="4643280" y="1557360"/>
            <a:ext cx="3768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4"/>
          <p:cNvSpPr/>
          <p:nvPr/>
        </p:nvSpPr>
        <p:spPr>
          <a:xfrm>
            <a:off x="2268360" y="981000"/>
            <a:ext cx="4680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ы хочешь, друг бесценны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тоб я, поэт млад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еседовал с тоб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с лирою забвенн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ечтами окриленны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ставил монасты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край уединенны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де непрерывный м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 мраке опустил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в пустыни глух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езмолвно воцарил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 угрюмой тиши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2.Мимолетные увлечения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.С. Пушк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Рисунок 2" descr="bakunina_ekpav.jpg"/>
          <p:cNvPicPr/>
          <p:nvPr/>
        </p:nvPicPr>
        <p:blipFill>
          <a:blip r:embed="rId1"/>
          <a:stretch/>
        </p:blipFill>
        <p:spPr>
          <a:xfrm>
            <a:off x="285840" y="1500120"/>
            <a:ext cx="2381040" cy="301932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3" descr="Потоцкая.jpg"/>
          <p:cNvPicPr/>
          <p:nvPr/>
        </p:nvPicPr>
        <p:blipFill>
          <a:blip r:embed="rId2"/>
          <a:stretch/>
        </p:blipFill>
        <p:spPr>
          <a:xfrm>
            <a:off x="6143760" y="1500120"/>
            <a:ext cx="2671560" cy="378000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4" descr="Мария Николаевна Раевская.jpg"/>
          <p:cNvPicPr/>
          <p:nvPr/>
        </p:nvPicPr>
        <p:blipFill>
          <a:blip r:embed="rId3"/>
          <a:stretch/>
        </p:blipFill>
        <p:spPr>
          <a:xfrm>
            <a:off x="1214280" y="3657600"/>
            <a:ext cx="2381400" cy="320040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5" descr="Хитрово.jpg"/>
          <p:cNvPicPr/>
          <p:nvPr/>
        </p:nvPicPr>
        <p:blipFill>
          <a:blip r:embed="rId4"/>
          <a:stretch/>
        </p:blipFill>
        <p:spPr>
          <a:xfrm>
            <a:off x="4643280" y="3687840"/>
            <a:ext cx="2345040" cy="317016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6" descr="Вульф.jpg"/>
          <p:cNvPicPr/>
          <p:nvPr/>
        </p:nvPicPr>
        <p:blipFill>
          <a:blip r:embed="rId5"/>
          <a:stretch/>
        </p:blipFill>
        <p:spPr>
          <a:xfrm>
            <a:off x="2928960" y="1500120"/>
            <a:ext cx="261936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2. 1. Екатерина Павловна Бакунина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(1795-1869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катерина Павловна Бакунина – фрейлина, сестра его однокашника по лицею. Чувство к ней вспыхнуло осенью 1815 года и продолжалось несколько лет. Одно из стихотворений, посвященных первой платонической любви А.С. Пушки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6" descr="bakunina_ekpav"/>
          <p:cNvPicPr/>
          <p:nvPr/>
        </p:nvPicPr>
        <p:blipFill>
          <a:blip r:embed="rId1"/>
          <a:stretch/>
        </p:blipFill>
        <p:spPr>
          <a:xfrm>
            <a:off x="900000" y="1700280"/>
            <a:ext cx="31798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4"/>
          <p:cNvSpPr/>
          <p:nvPr/>
        </p:nvSpPr>
        <p:spPr>
          <a:xfrm>
            <a:off x="684360" y="1916280"/>
            <a:ext cx="7632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так, я счастлив был, итак я наслаждал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радой тихою, восторгом упивался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где веселья быстрый ден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мчался лётом сновидень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Увяла прелесть наслаждень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снова вкруг меня угрюмой скуки тень!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2.2. Софья Потоцк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9"/>
          <p:cNvSpPr/>
          <p:nvPr/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фья Потоцкая. Незадолго до ссылки в Кишинев Пушкин испытал сильное чувство к «похотливой Минерве». Увлечен ею он был без взаимности и без надеж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7" descr="Потоцкая"/>
          <p:cNvPicPr/>
          <p:nvPr/>
        </p:nvPicPr>
        <p:blipFill>
          <a:blip r:embed="rId1"/>
          <a:stretch/>
        </p:blipFill>
        <p:spPr>
          <a:xfrm>
            <a:off x="5292720" y="1628640"/>
            <a:ext cx="30528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2.3. Мария Николаевна Раевская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(1805-186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рия Николаевна Раевская – «утаенная любовь» А.С. Пушкина. С лета 1820 года, когда Пушкин познакомился с ней, он испытал неподдельное волнение. Образ её долго хранила память поэта, вдохновляя его творчество. Пушкин посвятил ей стихотвор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7" descr="Мария Николаевна Раевская"/>
          <p:cNvPicPr/>
          <p:nvPr/>
        </p:nvPicPr>
        <p:blipFill>
          <a:blip r:embed="rId1"/>
          <a:stretch/>
        </p:blipFill>
        <p:spPr>
          <a:xfrm>
            <a:off x="1116000" y="1628640"/>
            <a:ext cx="3160800" cy="42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4"/>
          <p:cNvSpPr/>
          <p:nvPr/>
        </p:nvSpPr>
        <p:spPr>
          <a:xfrm>
            <a:off x="900000" y="1052640"/>
            <a:ext cx="7993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 холмах Грузии лежит ночная мгл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Шумит Арагва предо мно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не грустно и легко; печаль моя полна тобо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обой, одной тобой… Унынья мо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ичто не мучит, не тревожи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сердце вновь горит и любит – оттог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то не любить оно не мож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2.4.  Елизавета Михайловна Хитрово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(1783-1839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Клип 4" descr="Хитрово.jpg"/>
          <p:cNvPicPr/>
          <p:nvPr/>
        </p:nvPicPr>
        <p:blipFill>
          <a:blip r:embed="rId1"/>
          <a:stretch/>
        </p:blipFill>
        <p:spPr>
          <a:xfrm>
            <a:off x="571680" y="1500120"/>
            <a:ext cx="3500280" cy="4730760"/>
          </a:xfrm>
          <a:prstGeom prst="rect">
            <a:avLst/>
          </a:prstGeom>
          <a:ln w="0">
            <a:noFill/>
          </a:ln>
        </p:spPr>
      </p:pic>
      <p:sp>
        <p:nvSpPr>
          <p:cNvPr id="469" name="Текст 3"/>
          <p:cNvSpPr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лизавета Михайловна Хитрово – дочь фельдмаршала М.И. Кутузова. Пушкин познакомился с Е.М. Хитрово, вероятно, в 1827г., когда, впервые после ссылки, приехал в Петербург. Полюбила она его восторженно, страстно, самоотверженно, горестной любовью стареющей женщины, не ждущей и не смеющей ждать ответного чув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2.5. Анна Николаевна Вульф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(1799-1857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Содержимое 3" descr="Вульф.jpg"/>
          <p:cNvPicPr/>
          <p:nvPr/>
        </p:nvPicPr>
        <p:blipFill>
          <a:blip r:embed="rId1"/>
          <a:stretch/>
        </p:blipFill>
        <p:spPr>
          <a:xfrm>
            <a:off x="5143680" y="1714680"/>
            <a:ext cx="3357360" cy="4520880"/>
          </a:xfrm>
          <a:prstGeom prst="rect">
            <a:avLst/>
          </a:prstGeom>
          <a:ln w="0">
            <a:noFill/>
          </a:ln>
        </p:spPr>
      </p:pic>
      <p:sp>
        <p:nvSpPr>
          <p:cNvPr id="472" name="TextBox 4"/>
          <p:cNvSpPr/>
          <p:nvPr/>
        </p:nvSpPr>
        <p:spPr>
          <a:xfrm>
            <a:off x="285840" y="1714680"/>
            <a:ext cx="4429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нна Вульф – милая, скромная провинциальная барышня. У Пушкина был с нею самый вялый и прозаический из всех его романов, и в одном письме к ней он сам назвал себя ее «прозаическим обожателем». Холодно-чувствительное увлечение Анной Николаевной не мешало Пушкину одновременно увлекаться и другими женщинами – Нетти Вульф, Анной Петровной Кер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8"/>
          <p:cNvSpPr/>
          <p:nvPr/>
        </p:nvSpPr>
        <p:spPr>
          <a:xfrm>
            <a:off x="684360" y="47628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Цель работы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узнать как можно больше о первых женщинах в жизни А.С. Пушкина, мимолетных увлечениях А.С. Пушкина, о серьёзных увлечениях А.С. Пушкина и узнать какие творческие последствия имели данные увле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3. Серьёзные увлечения А.С. Пушк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Содержимое 3" descr="Ризнич.jpg"/>
          <p:cNvPicPr/>
          <p:nvPr/>
        </p:nvPicPr>
        <p:blipFill>
          <a:blip r:embed="rId1"/>
          <a:stretch/>
        </p:blipFill>
        <p:spPr>
          <a:xfrm>
            <a:off x="6643800" y="1643040"/>
            <a:ext cx="1904760" cy="3811680"/>
          </a:xfrm>
          <a:prstGeom prst="rect">
            <a:avLst/>
          </a:prstGeom>
          <a:ln w="0">
            <a:noFill/>
          </a:ln>
        </p:spPr>
      </p:pic>
      <p:pic>
        <p:nvPicPr>
          <p:cNvPr id="475" name="Рисунок 4" descr="Воронцова1.jpg"/>
          <p:cNvPicPr/>
          <p:nvPr/>
        </p:nvPicPr>
        <p:blipFill>
          <a:blip r:embed="rId2"/>
          <a:stretch/>
        </p:blipFill>
        <p:spPr>
          <a:xfrm>
            <a:off x="500040" y="1643040"/>
            <a:ext cx="2422440" cy="3230640"/>
          </a:xfrm>
          <a:prstGeom prst="rect">
            <a:avLst/>
          </a:prstGeom>
          <a:ln w="0">
            <a:noFill/>
          </a:ln>
        </p:spPr>
      </p:pic>
      <p:pic>
        <p:nvPicPr>
          <p:cNvPr id="476" name="Рисунок 5" descr="Анна Керн.jpg"/>
          <p:cNvPicPr/>
          <p:nvPr/>
        </p:nvPicPr>
        <p:blipFill>
          <a:blip r:embed="rId3"/>
          <a:stretch/>
        </p:blipFill>
        <p:spPr>
          <a:xfrm>
            <a:off x="1714680" y="3683160"/>
            <a:ext cx="2381040" cy="317484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6" descr="Ушакова.jpg"/>
          <p:cNvPicPr/>
          <p:nvPr/>
        </p:nvPicPr>
        <p:blipFill>
          <a:blip r:embed="rId4"/>
          <a:stretch/>
        </p:blipFill>
        <p:spPr>
          <a:xfrm>
            <a:off x="4714920" y="3451320"/>
            <a:ext cx="2584440" cy="3406680"/>
          </a:xfrm>
          <a:prstGeom prst="rect">
            <a:avLst/>
          </a:prstGeom>
          <a:ln w="0">
            <a:noFill/>
          </a:ln>
        </p:spPr>
      </p:pic>
      <p:pic>
        <p:nvPicPr>
          <p:cNvPr id="478" name="Рисунок 7" descr="Оленина.jpg"/>
          <p:cNvPicPr/>
          <p:nvPr/>
        </p:nvPicPr>
        <p:blipFill>
          <a:blip r:embed="rId5"/>
          <a:stretch/>
        </p:blipFill>
        <p:spPr>
          <a:xfrm>
            <a:off x="4572000" y="1428840"/>
            <a:ext cx="2324160" cy="3214440"/>
          </a:xfrm>
          <a:prstGeom prst="rect">
            <a:avLst/>
          </a:prstGeom>
          <a:ln w="0">
            <a:noFill/>
          </a:ln>
        </p:spPr>
      </p:pic>
      <p:pic>
        <p:nvPicPr>
          <p:cNvPr id="479" name="Рисунок 8" descr="Софья Пшкина.jpg"/>
          <p:cNvPicPr/>
          <p:nvPr/>
        </p:nvPicPr>
        <p:blipFill>
          <a:blip r:embed="rId6"/>
          <a:stretch/>
        </p:blipFill>
        <p:spPr>
          <a:xfrm>
            <a:off x="1500120" y="1500120"/>
            <a:ext cx="2714760" cy="3537000"/>
          </a:xfrm>
          <a:prstGeom prst="rect">
            <a:avLst/>
          </a:prstGeom>
          <a:ln w="0">
            <a:noFill/>
          </a:ln>
        </p:spPr>
      </p:pic>
      <p:pic>
        <p:nvPicPr>
          <p:cNvPr id="480" name="Рисунок 9" descr="Закревская.jpg"/>
          <p:cNvPicPr/>
          <p:nvPr/>
        </p:nvPicPr>
        <p:blipFill>
          <a:blip r:embed="rId7"/>
          <a:stretch/>
        </p:blipFill>
        <p:spPr>
          <a:xfrm>
            <a:off x="3214800" y="2643120"/>
            <a:ext cx="269064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3. 1. Амалия Ризнич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(1803-18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есская дива- Амалия Ризнич. Пушкин познакомился с ней в июле 1823 года и пережил к ней сильное, хотя, видимо непродолжительное чувство. В мае они расстались – у красавицы обнаружили чахотку и назначили лечение целебным воздухом Италии. И ещё осенью 1830 года, в болдинском уединении, перед ним возникает её «мучительная тень» он пишет, посвящая ей, знаменитые стро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Picture 6" descr="Ризнич"/>
          <p:cNvPicPr/>
          <p:nvPr/>
        </p:nvPicPr>
        <p:blipFill>
          <a:blip r:embed="rId1"/>
          <a:stretch/>
        </p:blipFill>
        <p:spPr>
          <a:xfrm>
            <a:off x="5219640" y="1700280"/>
            <a:ext cx="23558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/>
          <p:cNvSpPr/>
          <p:nvPr/>
        </p:nvSpPr>
        <p:spPr>
          <a:xfrm>
            <a:off x="826920" y="1341360"/>
            <a:ext cx="73454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ля берегов Отчизны да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ы покидала край чуж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час незабвенной, в час печа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Я долго плакал пред тоб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ои хладеющие ру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бя старались удержа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омленья страшною разлу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ой стон молил не прерыв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0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3.2. Елизавета Ксавериевна Воронцова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(1792-188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457200" y="1600200"/>
            <a:ext cx="440208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лизавета Ксавериевна Воронцова. Пушкин познакомился с ней осенью 1823 года. Привычное внимание к молодой и красивой женщине скоро перешло в глубокое и серьезное чувство. Поэт восхищался не только внешностью Воронцовой, но и её благородными возвышенными качествами души, благотворил её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7" name="Picture 13" descr="Воронцова1"/>
          <p:cNvPicPr/>
          <p:nvPr/>
        </p:nvPicPr>
        <p:blipFill>
          <a:blip r:embed="rId1"/>
          <a:stretch/>
        </p:blipFill>
        <p:spPr>
          <a:xfrm>
            <a:off x="5364000" y="1989000"/>
            <a:ext cx="270828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4"/>
          <p:cNvSpPr/>
          <p:nvPr/>
        </p:nvSpPr>
        <p:spPr>
          <a:xfrm>
            <a:off x="611280" y="1413000"/>
            <a:ext cx="802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1116000" y="1341360"/>
            <a:ext cx="73436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сё в жертву памяти тво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голос лиры вдохновенн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слёзы девы воспаленн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трепет ревности мо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славы блеск, и мрак изгнань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светлых мыслей красот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мщенье, бурная меч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жесточенного страдан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3.4. Анна Петровна Керн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(1800-187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12"/>
          <p:cNvSpPr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удным мгновеньем промелькнула перед Пушкиным очаровательная Анна Петровна Керн. Они встретились летом 1825 года в Тригорском, куда Пушкин приходил из Михайловского чуть ли не каждый день, именно здесь у Керн произошел, хотя и кратковременный роман с Пушкиным. Ей он посвятил стихотвор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10" descr="Анна Керн"/>
          <p:cNvPicPr/>
          <p:nvPr/>
        </p:nvPicPr>
        <p:blipFill>
          <a:blip r:embed="rId1"/>
          <a:stretch/>
        </p:blipFill>
        <p:spPr>
          <a:xfrm>
            <a:off x="5076720" y="1628640"/>
            <a:ext cx="32418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4"/>
          <p:cNvSpPr/>
          <p:nvPr/>
        </p:nvSpPr>
        <p:spPr>
          <a:xfrm>
            <a:off x="1258920" y="1628640"/>
            <a:ext cx="71294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Я вас любил: любовь ещё быть мож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душе моей угасла не совсе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о пусть она вас больше не тревожи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Я не хочу печалить вас нич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Я вас любил безмолвно, безнадёж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о робостью, то ревностью томи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Я вас любил так искренно, так неж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ак дай вам бог любимой быть друг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3.5. Екатерина Николаевна Ушакова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(1809-187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Клип 4" descr="Ушакова.jpg"/>
          <p:cNvPicPr/>
          <p:nvPr/>
        </p:nvPicPr>
        <p:blipFill>
          <a:blip r:embed="rId1"/>
          <a:stretch/>
        </p:blipFill>
        <p:spPr>
          <a:xfrm>
            <a:off x="571680" y="1714680"/>
            <a:ext cx="3286080" cy="4333680"/>
          </a:xfrm>
          <a:prstGeom prst="rect">
            <a:avLst/>
          </a:prstGeom>
          <a:ln w="0">
            <a:noFill/>
          </a:ln>
        </p:spPr>
      </p:pic>
      <p:sp>
        <p:nvSpPr>
          <p:cNvPr id="496" name="Текст 3"/>
          <p:cNvSpPr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жду Екатериной Николаевной Ушаковой и Пушкиным завязывается тесная сердечная дружба и, наконец после продолжительной переписки, Екатерина Ушакова соглашается выйти за него замуж. Но узнав о неповиновение  отказа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Box 2"/>
          <p:cNvSpPr/>
          <p:nvPr/>
        </p:nvSpPr>
        <p:spPr>
          <a:xfrm>
            <a:off x="500040" y="642960"/>
            <a:ext cx="82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3.8 Софья Фёдоровна Пушки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(1806-186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Рисунок 4" descr="Софья Пшкина.jpg"/>
          <p:cNvPicPr/>
          <p:nvPr/>
        </p:nvPicPr>
        <p:blipFill>
          <a:blip r:embed="rId1"/>
          <a:stretch/>
        </p:blipFill>
        <p:spPr>
          <a:xfrm>
            <a:off x="428760" y="2143080"/>
            <a:ext cx="3000240" cy="4014720"/>
          </a:xfrm>
          <a:prstGeom prst="rect">
            <a:avLst/>
          </a:prstGeom>
          <a:ln w="0">
            <a:noFill/>
          </a:ln>
        </p:spPr>
      </p:pic>
      <p:sp>
        <p:nvSpPr>
          <p:cNvPr id="499" name="TextBox 5"/>
          <p:cNvSpPr/>
          <p:nvPr/>
        </p:nvSpPr>
        <p:spPr>
          <a:xfrm>
            <a:off x="4214880" y="2071800"/>
            <a:ext cx="3786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ходясь на высоком гребне своей славы в 1826 году, поэт, пробыв всего полтора месяца в Москве, успел влюбиться в юную Софью Пушкину – это его дальняя родственница. Влюбился страстно в «фарфоровую  статуэтку», как он её называл за тонкий стан и прелестный цвет лица и даже сделал ей предлож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3.9. Аграфена Фёдоровна Закревская</a:t>
            </a:r>
            <a:br>
              <a:rPr sz="3400"/>
            </a:b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(1799-1879)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01" name="Содержимое 6" descr="Закревская.jpg"/>
          <p:cNvPicPr/>
          <p:nvPr/>
        </p:nvPicPr>
        <p:blipFill>
          <a:blip r:embed="rId1"/>
          <a:stretch/>
        </p:blipFill>
        <p:spPr>
          <a:xfrm>
            <a:off x="395280" y="1916280"/>
            <a:ext cx="3286080" cy="453852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6"/>
          <p:cNvSpPr/>
          <p:nvPr/>
        </p:nvSpPr>
        <p:spPr>
          <a:xfrm>
            <a:off x="4500720" y="2060640"/>
            <a:ext cx="41036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1828, незадолго до знакомства с Натали, у Пушкина была любовная связь, с женой генерала, полная страсти и мучений. Любовная интрига развивалась в Петербур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енщины в жизни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.С. Пушк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Клип 4" descr="IMG_3241.jpg"/>
          <p:cNvPicPr/>
          <p:nvPr/>
        </p:nvPicPr>
        <p:blipFill>
          <a:blip r:embed="rId1"/>
          <a:stretch/>
        </p:blipFill>
        <p:spPr>
          <a:xfrm>
            <a:off x="571680" y="1500120"/>
            <a:ext cx="3722400" cy="4964040"/>
          </a:xfrm>
          <a:prstGeom prst="rect">
            <a:avLst/>
          </a:prstGeom>
          <a:ln w="0">
            <a:noFill/>
          </a:ln>
        </p:spPr>
      </p:pic>
      <p:sp>
        <p:nvSpPr>
          <p:cNvPr id="429" name="Текст 3"/>
          <p:cNvSpPr/>
          <p:nvPr/>
        </p:nvSpPr>
        <p:spPr>
          <a:xfrm>
            <a:off x="4643280" y="1643040"/>
            <a:ext cx="40388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ушкин пережил и представ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сь возможный человече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ыт любв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пособность чувствовать глубо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ярко, широкий взгляд на жизн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го огненный темперамент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ылкость побуждала поэ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зываться на каждую встречу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расотой прекрасными стих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bf25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4. Жена А.С. Пушкина, Наталья Николаевна Гончарова. (1812-186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4427640" y="1600200"/>
            <a:ext cx="425916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талья Николаевна Гончарова – жена А.С. Пушкина. Они познакомились зимой, 1828 года на балу, знаменитого танцейсместера Йогеля. Наталья Николаевна была скромна до болезненности, она поразила поэта своей классической и царственной красотой, Александр Сергеевич не мог оторвать от неё глаз, испытав на себе натиск чувств, названных французами, буквально: удар грома. Вскоре после первого знакомства вспыхнувшая любовь излилась в известном стихотворении, оканчивающемся шутливым признани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7" descr="gjncharova"/>
          <p:cNvPicPr/>
          <p:nvPr/>
        </p:nvPicPr>
        <p:blipFill>
          <a:blip r:embed="rId1"/>
          <a:stretch/>
        </p:blipFill>
        <p:spPr>
          <a:xfrm>
            <a:off x="611280" y="1700280"/>
            <a:ext cx="346068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Box 1"/>
          <p:cNvSpPr/>
          <p:nvPr/>
        </p:nvSpPr>
        <p:spPr>
          <a:xfrm>
            <a:off x="642960" y="357120"/>
            <a:ext cx="77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. Первые женщины в жизни А.С. Пушк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Рисунок 2" descr="мать.jpg"/>
          <p:cNvPicPr/>
          <p:nvPr/>
        </p:nvPicPr>
        <p:blipFill>
          <a:blip r:embed="rId1"/>
          <a:stretch/>
        </p:blipFill>
        <p:spPr>
          <a:xfrm>
            <a:off x="428760" y="1785960"/>
            <a:ext cx="2500200" cy="280044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3" descr="бабушка.jpg"/>
          <p:cNvPicPr/>
          <p:nvPr/>
        </p:nvPicPr>
        <p:blipFill>
          <a:blip r:embed="rId2"/>
          <a:stretch/>
        </p:blipFill>
        <p:spPr>
          <a:xfrm>
            <a:off x="4286160" y="1785960"/>
            <a:ext cx="2255760" cy="285732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4" descr="Няня.gif"/>
          <p:cNvPicPr/>
          <p:nvPr/>
        </p:nvPicPr>
        <p:blipFill>
          <a:blip r:embed="rId3"/>
          <a:stretch/>
        </p:blipFill>
        <p:spPr>
          <a:xfrm>
            <a:off x="2143080" y="3930480"/>
            <a:ext cx="2381400" cy="292752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5" descr="Павлищева.jpg"/>
          <p:cNvPicPr/>
          <p:nvPr/>
        </p:nvPicPr>
        <p:blipFill>
          <a:blip r:embed="rId4"/>
          <a:stretch/>
        </p:blipFill>
        <p:spPr>
          <a:xfrm>
            <a:off x="6215040" y="3745080"/>
            <a:ext cx="27147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2120" indent="-76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1.1. Надежда Осиповна Пушкина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(1775-1836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дежда Осиповна – мать поэта. С малолетства была окружена угодливостью, потворством и лестью окружающих, выросла балованной и капризной. Была хороша в свете ее прозвали «прекрасною креолкою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ушкин не был любим матерью, нежность матери, он испытал лишь в последний год её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8" descr="мать"/>
          <p:cNvPicPr/>
          <p:nvPr/>
        </p:nvPicPr>
        <p:blipFill>
          <a:blip r:embed="rId1"/>
          <a:stretch/>
        </p:blipFill>
        <p:spPr>
          <a:xfrm>
            <a:off x="395280" y="1557360"/>
            <a:ext cx="3921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1.2. Мария Алексеевна Ганнибал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(1745-1818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рия Алексеевна Ганнибал – бабушка поэта. Умная, рассудительная. Она читала Пушкину книги, развивая его бурную фантазию. Ей он посвятил одно из своих стихотворен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Picture 7" descr="бабушка"/>
          <p:cNvPicPr/>
          <p:nvPr/>
        </p:nvPicPr>
        <p:blipFill>
          <a:blip r:embed="rId1"/>
          <a:stretch/>
        </p:blipFill>
        <p:spPr>
          <a:xfrm>
            <a:off x="611280" y="1484280"/>
            <a:ext cx="36939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4"/>
          <p:cNvSpPr/>
          <p:nvPr/>
        </p:nvSpPr>
        <p:spPr>
          <a:xfrm>
            <a:off x="468360" y="1773360"/>
            <a:ext cx="8136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персница волшебной старин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руг вымыслов игривых и печальны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бя я знал во дни моей вес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 дни утех и снов первоначаль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Я ждал тебя; в вечерней тиш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Являлась ты весёлой старушкой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1.3. Арина Родионовна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(1754-182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рина Родионовна Матвеева – няня А.С. Пушкина. Её неторопливые рассказы по вечерам очаровывали маленького Александра и через многие годы помогли ему создать свои неповторимые сказки. Любимой няне посвящены стих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7" descr="Няня"/>
          <p:cNvPicPr/>
          <p:nvPr/>
        </p:nvPicPr>
        <p:blipFill>
          <a:blip r:embed="rId1"/>
          <a:stretch/>
        </p:blipFill>
        <p:spPr>
          <a:xfrm>
            <a:off x="5076720" y="1700280"/>
            <a:ext cx="34560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684360" y="1628640"/>
            <a:ext cx="770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друга дней моих суров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олубка дряхлая мо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дна в глуши лесов соснов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авно, давно ты ждешь меня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19:42Z</dcterms:created>
  <dc:creator>FoM</dc:creator>
  <dc:description/>
  <dc:language>en-US</dc:language>
  <cp:lastModifiedBy>user</cp:lastModifiedBy>
  <dcterms:modified xsi:type="dcterms:W3CDTF">2019-09-23T19:33:38Z</dcterms:modified>
  <cp:revision>5</cp:revision>
  <dc:subject/>
  <dc:title>Слайд 1</dc:title>
</cp:coreProperties>
</file>