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0E16D-59D2-4A4C-88BF-A48529BFC3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E8EEE-B7A3-4EA4-9E8F-B928B14427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5D3E4-3EEA-438A-AAAD-DA6FCFE130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2D283D-340A-4D88-97B8-09CEEB37D3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73D2A-C304-473E-BF80-2E4DE08186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E6B01-25E1-434C-AD0F-0B5DB35B4A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AB5BE-EDF2-4D85-A117-A6016691AF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8C7F0-2A37-4086-8521-90EDBAC55D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7BC45-CD0D-47A6-AF4E-BFD93B3699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7C900-052C-4337-93AD-04B9BC322D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19E878-0974-4701-823F-F3AA58E81F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CBF81-2C41-4832-BF6B-BCD649F9E1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61528-A35C-4C9F-B05E-7D07E3B8B1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C864F-31CE-4103-9B8B-27C356AC61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225F0-1CAE-456B-8245-4E22AE91C0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7B216B-FB73-4ED7-BCB2-687DEACFB9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360FD-4ED5-44EF-B053-A22A2FAAC6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331CC-9F96-4721-B3BE-6BFB1BCC76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A18FB-AB0F-47B2-AF6A-1D32E5E945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8AC697-6D17-4BE2-9161-8405AC0000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EE3EA-D047-454F-9F8B-0804602818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28D7-BA2B-4110-B846-7D4398FDE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77C7-A13F-4C2F-9A05-ED15A4E0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2DC1-FDF7-4B08-AE50-955561BDA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593C-4710-48DB-BD3D-79333310C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DB1F-7A0A-404B-B5D9-F422C0C7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CA5D-6118-4954-B2BC-2D07F650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2EC3-0173-4718-B817-7AF0D6C4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6645-F79B-4099-A0E5-B67C6A3E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0E2B-F74C-4712-A525-7AD999C7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6A0E-8960-4042-AE6D-23173EAD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BA78-E79B-40EB-AF0E-E94BA8A5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515A-6013-443D-AA54-2D63CFE2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487F5D-1776-4EE6-8EE1-63CFC18D72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ин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39640" y="1979640"/>
            <a:ext cx="54007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ые жан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879640" y="3240000"/>
            <a:ext cx="7020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ня, танец, мар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39640" y="4648320"/>
            <a:ext cx="54007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жные жан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60360" y="6119640"/>
            <a:ext cx="98996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, балет, симфония, концер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60360" y="720360"/>
            <a:ext cx="943128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ет — от итальянского «танцева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ет — сложный жан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ет — музыкально-театральный жанр, который возник из простого жанра «танец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7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ет — музыкально-драматическое произведение, действие которого передается средствами танца и пантоми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539640" y="2052720"/>
            <a:ext cx="918072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ет — музыкально-драматическое произведение, действие которого передается средствами танца и пантомим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-4680"/>
            <a:ext cx="907092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матике балеты бывают разные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рическ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амат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рико-драмат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ико-драмат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ет-поэ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ет-сказ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-ба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ы танца в бале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1260360" y="2160720"/>
            <a:ext cx="774072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ный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ческий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260360" y="4500720"/>
            <a:ext cx="774072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мопластический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й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танц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60360" y="1618920"/>
            <a:ext cx="4500720" cy="3040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 fontScale="98000"/>
          </a:bodyPr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-де-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-де-тру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-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жи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00720" y="1495440"/>
            <a:ext cx="5219640" cy="44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нец вдво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нец втро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й тан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ленный танец главных геро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9070920" cy="6543720"/>
          </a:xfrm>
          <a:prstGeom prst="rect">
            <a:avLst/>
          </a:prstGeom>
          <a:noFill/>
          <a:ln w="0">
            <a:noFill/>
          </a:ln>
        </p:spPr>
        <p:txBody>
          <a:bodyPr lIns="0" rIns="0" tIns="48600" bIns="0" anchor="t">
            <a:normAutofit fontScale="99000"/>
          </a:bodyPr>
          <a:p>
            <a:pPr marL="653400" indent="-5450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на Павлова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53400" indent="-5450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ина Уланова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53400" indent="-5450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иса Стручкова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53400" indent="-5450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йя Плисецкая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53400" indent="-5450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цлав Нижинский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53400" indent="-5450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хаил Барышников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653400" indent="-5450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дольф Нуреев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Слово о полку Игорев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9280" y="1979640"/>
            <a:ext cx="9070920" cy="3844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 fontScale="99000"/>
          </a:bodyPr>
          <a:p>
            <a:pPr marL="42732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йствующие лиц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732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нязь Иго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нягиня Яросла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ан Конч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ис Иванович Тищен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000" y="1669680"/>
            <a:ext cx="9070920" cy="84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39 — 20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430200" y="2519280"/>
            <a:ext cx="4789440" cy="43196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5580000" y="2160720"/>
            <a:ext cx="3959280" cy="16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ет «Ярославн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400720" y="4140360"/>
            <a:ext cx="454968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416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«Хореографические размышления в трех действиях по мотивам «Слова о полку Игореве»)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уп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60000" y="1669680"/>
            <a:ext cx="907092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ты какого простого жанра слышатся в главном инструментальном напеве вступлен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уп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инструмент солируе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1619280" y="2340000"/>
            <a:ext cx="5824440" cy="40989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"/>
          <p:cNvSpPr/>
          <p:nvPr/>
        </p:nvSpPr>
        <p:spPr>
          <a:xfrm>
            <a:off x="1440000" y="6480000"/>
            <a:ext cx="7920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ейта-пикко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 «Стон Русской земл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32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м тип хо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ский, мужской, детский, смешанны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680000" y="5764320"/>
            <a:ext cx="450036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ской х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ин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554040" y="1979640"/>
            <a:ext cx="77407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Что такое душа музык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0360" y="3060720"/>
            <a:ext cx="3780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од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39640" y="4319640"/>
            <a:ext cx="93600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скорость исполнения музыкального произведен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580000" y="6303960"/>
            <a:ext cx="3780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000" y="26676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Ярославны — это символ Родины-матери, святой веры, любви, самоотверженности и верности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2519280" y="3959280"/>
            <a:ext cx="5219640" cy="32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5047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8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ин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720720" y="1800360"/>
            <a:ext cx="918036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Назовите русских композиторов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900000" y="3959280"/>
            <a:ext cx="918072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П. Бородин, П. И. Чайковский, М. И. Глин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лишнее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1850760"/>
            <a:ext cx="907092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60240" indent="-55080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услан и Людмила»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60240" indent="-550800" algn="ctr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нязь Игорь»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60240" indent="-550800" algn="ctr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Щелкунчик»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60240" indent="-550800" algn="ctr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ван Сусанин»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"/>
          <p:cNvSpPr/>
          <p:nvPr/>
        </p:nvSpPr>
        <p:spPr>
          <a:xfrm flipH="1">
            <a:off x="2626920" y="3600360"/>
            <a:ext cx="486252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лишнее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60240" indent="-55080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ебединое озеро»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60240" indent="-550800" algn="ctr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пящая красавица»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60240" indent="-550800" algn="ctr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Жизнь за царя»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60240" indent="-550800" algn="ctr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Щелкунчик»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"/>
          <p:cNvSpPr/>
          <p:nvPr/>
        </p:nvSpPr>
        <p:spPr>
          <a:xfrm flipH="1">
            <a:off x="2519280" y="3600360"/>
            <a:ext cx="5762880" cy="12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лишнее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60240" indent="-55080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м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60240" indent="-550800" algn="ctr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к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60240" indent="-550800" algn="ctr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ьс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60240" indent="-550800" algn="ctr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одия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 flipV="1">
            <a:off x="3419640" y="3598560"/>
            <a:ext cx="4679640" cy="10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лишнее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60240" indent="-55080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б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60240" indent="-550800" algn="ctr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ейт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60240" indent="-550800" algn="ctr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олончель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60240" indent="-550800" algn="ctr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бой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"/>
          <p:cNvSpPr/>
          <p:nvPr/>
        </p:nvSpPr>
        <p:spPr>
          <a:xfrm flipV="1">
            <a:off x="3419640" y="3417480"/>
            <a:ext cx="4679640" cy="14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лишнее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60240" indent="-55080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 Сен-Санс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60240" indent="-550800" algn="ctr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 И. Чайковский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60240" indent="-550800" algn="ctr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И. Глинкк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60240" indent="-550800" algn="ctr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П. Бородин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"/>
          <p:cNvSpPr/>
          <p:nvPr/>
        </p:nvSpPr>
        <p:spPr>
          <a:xfrm flipV="1">
            <a:off x="2519280" y="1617480"/>
            <a:ext cx="5400720" cy="90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289080" y="720720"/>
            <a:ext cx="9431280" cy="58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3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тр уж полон; ложи блещ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ер и кресла, всё кип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йке нетерпеливо плещ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взвившись, занавес шум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Евгений Онегин» А. С. Пушк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21:21:50Z</dcterms:created>
  <dc:creator/>
  <dc:description/>
  <dc:language>en-US</dc:language>
  <cp:lastModifiedBy>777</cp:lastModifiedBy>
  <dcterms:modified xsi:type="dcterms:W3CDTF">2014-02-16T19:09:02Z</dcterms:modified>
  <cp:revision>2</cp:revision>
  <dc:subject/>
  <dc:title>Разминка</dc:title>
</cp:coreProperties>
</file>