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D38BD-6C37-46D8-9CC3-F24BCB8777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37C2B-9F8A-4018-8393-B9B74316E7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9FF4A-54EB-4FD8-87CB-C3BF7C9047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1F00D-67C5-449F-9AB0-C1E15B0552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C0DE3-6EA4-4F75-B24D-7514D3F69F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E8922-AF51-48C0-8CCE-0543D1AB2F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2284E-8BD5-4522-A63D-AFBA1DDFFA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722B8-225C-4C36-B918-92F20B3047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AB4C8-3ABC-403E-821E-BEB5879AB7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C89A0-6061-48A5-A577-2D32B4034B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19D6C-2E57-4FE2-9D5F-E6F0F0809C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B0752-B3F8-4E48-8A5A-57BEC25733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6E493-3B27-42DA-9A41-62F42D9F4A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50954-62C8-4B1C-BC51-A421D77722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6ECCE-A7BC-4339-90F5-B9F2B6066A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9966F-375D-423B-B88F-2F08E4F0E1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784FA-E880-4AA3-A010-A053F827E7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B36A2-8EDA-401F-8CAB-DF6C378B98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5B29C9-FB97-4EE6-873D-90B056CD0C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C9598-0164-437B-B31A-551DDD32CD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DE03D-3137-49B5-A893-594F40FD11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C3CF-D3AE-4F4A-A58C-667CDD999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9727-6CD8-4B22-9ABE-5FC5EEF0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A93F-3FFC-4004-A646-E21D3F4B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BAE9-6A53-43D3-B311-1F08BA0F3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5B51-9C43-4259-8E65-E8E8E75B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A8F9-2D31-450C-BC5D-D67C1B12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EF07-B81B-43AB-A96E-21AF67C1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825B-4FA6-4ECD-9981-F4A125CF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A286-F6A5-4795-9EFF-77C7BE3D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6CB2-3C95-41CE-9CCD-8012EC8B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7ABB-5C5B-42C3-A23D-5D02203A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84C0-4194-40EF-B9D4-B639A49A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666C71-C870-4CC9-A01C-0DC75C7F3B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ин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39640" y="1979640"/>
            <a:ext cx="54007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ые жан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879640" y="3240000"/>
            <a:ext cx="7020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ня, танец, мар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39640" y="4648320"/>
            <a:ext cx="54007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жные жан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60360" y="6119640"/>
            <a:ext cx="98996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, балет, симфония, концер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60360" y="720360"/>
            <a:ext cx="943128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ет — от итальянского «танцева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ет — сложный жан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ет — музыкально-театральный жанр, который возник из простого жанра «танец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ет — музыкально-драматическое произведение, действие которого передается средствами танца и пантоми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39640" y="2052720"/>
            <a:ext cx="918072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ет — музыкально-драматическое произведение, действие которого передается средствами танца и пантомим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-4680"/>
            <a:ext cx="907092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матике балеты бывают разные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рическ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мат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рико-драмат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ико-драмат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ет-поэ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ет-ска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-ба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ы танца в бале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1260360" y="2160720"/>
            <a:ext cx="77407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ный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ческий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260360" y="4500720"/>
            <a:ext cx="77407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мопластический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й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танц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60360" y="1618920"/>
            <a:ext cx="450072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 fontScale="98000"/>
          </a:bodyPr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-де-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-де-тру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-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жи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00720" y="1495440"/>
            <a:ext cx="521964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ец вдво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ец втро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й тан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ленный танец главных геро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9070920" cy="6543720"/>
          </a:xfrm>
          <a:prstGeom prst="rect">
            <a:avLst/>
          </a:prstGeom>
          <a:noFill/>
          <a:ln w="0">
            <a:noFill/>
          </a:ln>
        </p:spPr>
        <p:txBody>
          <a:bodyPr lIns="0" rIns="0" tIns="48600" bIns="0" anchor="t">
            <a:normAutofit fontScale="99000"/>
          </a:bodyPr>
          <a:p>
            <a:pPr marL="653400" indent="-5450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на Павлова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53400" indent="-5450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ина Уланова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53400" indent="-5450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иса Стручкова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53400" indent="-5450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йя Плисецкая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53400" indent="-5450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цлав Нижинский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53400" indent="-5450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ил Барышников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53400" indent="-5450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дольф Нуреев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Слово о полку Игорев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280" y="1979640"/>
            <a:ext cx="9070920" cy="3844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 fontScale="99000"/>
          </a:bodyPr>
          <a:p>
            <a:pPr marL="42732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йствующие лиц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732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нязь Иго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нягиня Яросла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ан Конч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ис Иванович Тищен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000" y="1669680"/>
            <a:ext cx="9070920" cy="84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39 — 20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430200" y="2519280"/>
            <a:ext cx="4789440" cy="43196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5580000" y="2160720"/>
            <a:ext cx="395928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ет «Ярославн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400720" y="4140360"/>
            <a:ext cx="454968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416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Хореографические размышления в трех действиях по мотивам «Слова о полку Игореве»)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уп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60000" y="1669680"/>
            <a:ext cx="907092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ы какого простого жанра слышатся в главном инструментальном напеве вступле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уп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инструмент солируе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1619280" y="2340000"/>
            <a:ext cx="5824440" cy="40989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1440000" y="6480000"/>
            <a:ext cx="7920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ейта-пикко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 «Стон Русской земл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32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м тип хо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ский, мужской, детский, смешанны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680000" y="5764320"/>
            <a:ext cx="450036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ской х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ин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554040" y="1979640"/>
            <a:ext cx="77407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Что такое душа музык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0360" y="3060720"/>
            <a:ext cx="3780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од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39640" y="4319640"/>
            <a:ext cx="93600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скорость исполнения музыкального произведе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580000" y="6303960"/>
            <a:ext cx="3780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000" y="26676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Ярославны — это символ Родины-матери, святой веры, любви, самоотверженности и верности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519280" y="3959280"/>
            <a:ext cx="5219640" cy="32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5047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8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ин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720720" y="1800360"/>
            <a:ext cx="918036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Назовите русских композиторов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900000" y="3959280"/>
            <a:ext cx="918072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П. Бородин, П. И. Чайковский, М. И. Глин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лишнее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850760"/>
            <a:ext cx="907092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60240" indent="-55080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услан и Людмила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60240" indent="-550800" algn="ctr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нязь Игорь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60240" indent="-550800" algn="ctr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Щелкунчик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60240" indent="-550800" algn="ctr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ван Сусанин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"/>
          <p:cNvSpPr/>
          <p:nvPr/>
        </p:nvSpPr>
        <p:spPr>
          <a:xfrm flipH="1">
            <a:off x="2626920" y="3600360"/>
            <a:ext cx="486252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лишнее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60240" indent="-55080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ебединое озеро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60240" indent="-550800" algn="ctr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пящая красавица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60240" indent="-550800" algn="ctr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Жизнь за царя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60240" indent="-550800" algn="ctr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Щелкунчик»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 flipH="1">
            <a:off x="2519280" y="3600360"/>
            <a:ext cx="5762880" cy="12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лишнее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60240" indent="-55080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м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60240" indent="-550800" algn="ctr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к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60240" indent="-550800" algn="ctr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ьс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60240" indent="-550800" algn="ctr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одия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 flipV="1">
            <a:off x="3419640" y="3598560"/>
            <a:ext cx="4679640" cy="10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лишнее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60240" indent="-55080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б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60240" indent="-550800" algn="ctr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ейт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60240" indent="-550800" algn="ctr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олончель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60240" indent="-550800" algn="ctr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бой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"/>
          <p:cNvSpPr/>
          <p:nvPr/>
        </p:nvSpPr>
        <p:spPr>
          <a:xfrm flipV="1">
            <a:off x="3419640" y="3417480"/>
            <a:ext cx="4679640" cy="14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лишнее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60240" indent="-55080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 Сен-Санс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60240" indent="-550800" algn="ctr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И. Чайковский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60240" indent="-550800" algn="ctr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И. Глинкк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60240" indent="-550800" algn="ctr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П. Бородин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"/>
          <p:cNvSpPr/>
          <p:nvPr/>
        </p:nvSpPr>
        <p:spPr>
          <a:xfrm flipV="1">
            <a:off x="2519280" y="1617480"/>
            <a:ext cx="5400720" cy="90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89080" y="720720"/>
            <a:ext cx="9431280" cy="58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3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 уж полон; ложи блещ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ер и кресла, всё кип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йке нетерпеливо плещ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взвившись, занавес шум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вгений Онегин» А. С. Пушк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21:21:50Z</dcterms:created>
  <dc:creator/>
  <dc:description/>
  <dc:language>en-US</dc:language>
  <cp:lastModifiedBy>777</cp:lastModifiedBy>
  <dcterms:modified xsi:type="dcterms:W3CDTF">2014-02-16T19:09:02Z</dcterms:modified>
  <cp:revision>2</cp:revision>
  <dc:subject/>
  <dc:title>Разминка</dc:title>
</cp:coreProperties>
</file>