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32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1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4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300-0054-4DEB-B121-95224502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F88-8C75-4715-89AE-A51E47B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BC8-A699-4E8A-9552-8C623158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916-AEA0-4C9D-BE7D-B43E418F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A8F-DF86-41DE-BE64-7725ED18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15B-D4F2-4F76-AAC4-FE5F3F39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F0A-B577-4C2C-87AE-A3F6A52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72D-2A0D-4145-8E25-45B058D8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ED4-1B78-4A5B-8FFB-5C5D130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C20-B503-408C-B939-56844E71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D67-1FE4-48B8-A366-F46D587D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456-16F8-44BD-8586-21B35B4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8DD1-9354-43DD-9B5C-17F82CCB8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е условия формирования основ безопасного поведения у детей старшего дошкольного возраста».                   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Егорова А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ов и пособий для иг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4" descr="IMG_20181026_181929.jpg"/>
          <p:cNvPicPr/>
          <p:nvPr/>
        </p:nvPicPr>
        <p:blipFill>
          <a:blip r:embed="rId1"/>
          <a:stretch/>
        </p:blipFill>
        <p:spPr>
          <a:xfrm>
            <a:off x="755640" y="1484280"/>
            <a:ext cx="355932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5" descr="IMG_20201106_170721.jpg"/>
          <p:cNvPicPr/>
          <p:nvPr/>
        </p:nvPicPr>
        <p:blipFill>
          <a:blip r:embed="rId2"/>
          <a:stretch/>
        </p:blipFill>
        <p:spPr>
          <a:xfrm>
            <a:off x="4859280" y="4005360"/>
            <a:ext cx="4038480" cy="227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IMG_20200622_093829.jpg"/>
          <p:cNvPicPr/>
          <p:nvPr/>
        </p:nvPicPr>
        <p:blipFill>
          <a:blip r:embed="rId3"/>
          <a:stretch/>
        </p:blipFill>
        <p:spPr>
          <a:xfrm>
            <a:off x="324000" y="3933720"/>
            <a:ext cx="4047840" cy="2276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9"/>
          <p:cNvSpPr/>
          <p:nvPr/>
        </p:nvSpPr>
        <p:spPr>
          <a:xfrm>
            <a:off x="900000" y="3357720"/>
            <a:ext cx="34560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кет проезжей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5076720" y="6165720"/>
            <a:ext cx="3598920" cy="503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кет станции ме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395280" y="6237360"/>
            <a:ext cx="360036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готовление дорожных 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Алексей\Desktop\Егорова ОБЖ\IMG_20201109_102338.jpg"/>
          <p:cNvPicPr/>
          <p:nvPr/>
        </p:nvPicPr>
        <p:blipFill>
          <a:blip r:embed="rId4"/>
          <a:stretch/>
        </p:blipFill>
        <p:spPr>
          <a:xfrm>
            <a:off x="4756320" y="1484280"/>
            <a:ext cx="41605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32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е педагогическое усло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вокупность форм, методов и средств, направленная на формирование безопасного поведения детей и обеспечивающая успешное решение задач образовательного процесс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7" descr="IMG_20200302_093441.jpg"/>
          <p:cNvPicPr/>
          <p:nvPr/>
        </p:nvPicPr>
        <p:blipFill>
          <a:blip r:embed="rId1"/>
          <a:stretch/>
        </p:blipFill>
        <p:spPr>
          <a:xfrm>
            <a:off x="395280" y="3141720"/>
            <a:ext cx="4035600" cy="3025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468360" y="6021360"/>
            <a:ext cx="3743280" cy="692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торение правил противопожарной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Алексей\Desktop\Егорова ОБЖ\IMG_20190924_120852.jpg"/>
          <p:cNvPicPr/>
          <p:nvPr/>
        </p:nvPicPr>
        <p:blipFill>
          <a:blip r:embed="rId2"/>
          <a:stretch/>
        </p:blipFill>
        <p:spPr>
          <a:xfrm>
            <a:off x="5940360" y="299736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5867280" y="6093000"/>
            <a:ext cx="2737080" cy="57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мотр видео роликов по теме П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4" descr="IMG_20201109_093440.jpg"/>
          <p:cNvPicPr/>
          <p:nvPr/>
        </p:nvPicPr>
        <p:blipFill>
          <a:blip r:embed="rId1"/>
          <a:stretch/>
        </p:blipFill>
        <p:spPr>
          <a:xfrm>
            <a:off x="395280" y="141300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5" descr="IMG_20201109_093406.jpg"/>
          <p:cNvPicPr/>
          <p:nvPr/>
        </p:nvPicPr>
        <p:blipFill>
          <a:blip r:embed="rId2"/>
          <a:stretch/>
        </p:blipFill>
        <p:spPr>
          <a:xfrm>
            <a:off x="4716360" y="14130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Алексей\Desktop\Егорова ОБЖ\IMG_20201109_093605.jpg"/>
          <p:cNvPicPr/>
          <p:nvPr/>
        </p:nvPicPr>
        <p:blipFill>
          <a:blip r:embed="rId3"/>
          <a:stretch/>
        </p:blipFill>
        <p:spPr>
          <a:xfrm>
            <a:off x="395280" y="4254480"/>
            <a:ext cx="4105440" cy="2309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Алексей\Desktop\Егорова ОБЖ\IMG_20201109_094422.jpg"/>
          <p:cNvPicPr/>
          <p:nvPr/>
        </p:nvPicPr>
        <p:blipFill>
          <a:blip r:embed="rId4"/>
          <a:stretch/>
        </p:blipFill>
        <p:spPr>
          <a:xfrm>
            <a:off x="4788000" y="4292640"/>
            <a:ext cx="396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их видах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IMG_20190529_161340.jpg"/>
          <p:cNvPicPr/>
          <p:nvPr/>
        </p:nvPicPr>
        <p:blipFill>
          <a:blip r:embed="rId1"/>
          <a:stretch/>
        </p:blipFill>
        <p:spPr>
          <a:xfrm>
            <a:off x="395280" y="119700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5" descr="IMG_20191108_093914.jpg"/>
          <p:cNvPicPr/>
          <p:nvPr/>
        </p:nvPicPr>
        <p:blipFill>
          <a:blip r:embed="rId2"/>
          <a:stretch/>
        </p:blipFill>
        <p:spPr>
          <a:xfrm>
            <a:off x="4643280" y="371628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Алексей\Desktop\Егорова ОБЖ\IMG_20190909_180427.jpg"/>
          <p:cNvPicPr/>
          <p:nvPr/>
        </p:nvPicPr>
        <p:blipFill>
          <a:blip r:embed="rId3"/>
          <a:stretch/>
        </p:blipFill>
        <p:spPr>
          <a:xfrm>
            <a:off x="324000" y="3500280"/>
            <a:ext cx="3887640" cy="231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Алексей\Desktop\Егорова ОБЖ\IMG_20201109_093815.jpg"/>
          <p:cNvPicPr/>
          <p:nvPr/>
        </p:nvPicPr>
        <p:blipFill>
          <a:blip r:embed="rId4"/>
          <a:stretch/>
        </p:blipFill>
        <p:spPr>
          <a:xfrm>
            <a:off x="4788000" y="907920"/>
            <a:ext cx="3968640" cy="22338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755640" y="2997360"/>
            <a:ext cx="3311640" cy="79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ЛОР повторялись правила безопасного поведения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395280" y="5732640"/>
            <a:ext cx="3852720" cy="865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занятиях лепки и аппликации повторялись съедобные и несъедобные 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5076720" y="3141720"/>
            <a:ext cx="3527640" cy="547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и рассматрива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5364000" y="6021360"/>
            <a:ext cx="324036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исунках отражали свои 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спектаклей о важности знаний ПД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4" descr="IMG_20190425_091204.jpg"/>
          <p:cNvPicPr/>
          <p:nvPr/>
        </p:nvPicPr>
        <p:blipFill>
          <a:blip r:embed="rId1"/>
          <a:stretch/>
        </p:blipFill>
        <p:spPr>
          <a:xfrm>
            <a:off x="3780000" y="3789360"/>
            <a:ext cx="5121000" cy="28796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IMG_20190822_092112.jpg"/>
          <p:cNvPicPr/>
          <p:nvPr/>
        </p:nvPicPr>
        <p:blipFill>
          <a:blip r:embed="rId2"/>
          <a:stretch/>
        </p:blipFill>
        <p:spPr>
          <a:xfrm>
            <a:off x="179280" y="1773360"/>
            <a:ext cx="50403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4" descr="IMG_20201109_100336.jpg"/>
          <p:cNvPicPr/>
          <p:nvPr/>
        </p:nvPicPr>
        <p:blipFill>
          <a:blip r:embed="rId1"/>
          <a:stretch/>
        </p:blipFill>
        <p:spPr>
          <a:xfrm>
            <a:off x="250920" y="1197000"/>
            <a:ext cx="4352760" cy="244800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IMG_20201109_121107.jpg"/>
          <p:cNvPicPr/>
          <p:nvPr/>
        </p:nvPicPr>
        <p:blipFill>
          <a:blip r:embed="rId2"/>
          <a:stretch/>
        </p:blipFill>
        <p:spPr>
          <a:xfrm>
            <a:off x="4643280" y="1197000"/>
            <a:ext cx="4302360" cy="24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Алексей\Desktop\Егорова ОБЖ\IMG_20201109_120501.jpg"/>
          <p:cNvPicPr/>
          <p:nvPr/>
        </p:nvPicPr>
        <p:blipFill>
          <a:blip r:embed="rId3"/>
          <a:stretch/>
        </p:blipFill>
        <p:spPr>
          <a:xfrm>
            <a:off x="2916360" y="4292640"/>
            <a:ext cx="3840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 ролевые иг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Алексей\Desktop\Егорова ОБЖ\ПДД\IMG_20180620_093059.jpg"/>
          <p:cNvPicPr/>
          <p:nvPr/>
        </p:nvPicPr>
        <p:blipFill>
          <a:blip r:embed="rId1"/>
          <a:stretch/>
        </p:blipFill>
        <p:spPr>
          <a:xfrm>
            <a:off x="250920" y="1125360"/>
            <a:ext cx="4140000" cy="266400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8" descr="IMG_20180620_094149.jpg"/>
          <p:cNvPicPr/>
          <p:nvPr/>
        </p:nvPicPr>
        <p:blipFill>
          <a:blip r:embed="rId2"/>
          <a:stretch/>
        </p:blipFill>
        <p:spPr>
          <a:xfrm>
            <a:off x="4572000" y="1197000"/>
            <a:ext cx="4414680" cy="2482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Алексей\Desktop\Егорова ОБЖ\IMG_20201109_115835.jpg"/>
          <p:cNvPicPr/>
          <p:nvPr/>
        </p:nvPicPr>
        <p:blipFill>
          <a:blip r:embed="rId3"/>
          <a:stretch/>
        </p:blipFill>
        <p:spPr>
          <a:xfrm>
            <a:off x="4716360" y="4149720"/>
            <a:ext cx="4135680" cy="23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Алексей\Desktop\Егорова ОБЖ\IMG_20201109_095218.jpg"/>
          <p:cNvPicPr/>
          <p:nvPr/>
        </p:nvPicPr>
        <p:blipFill>
          <a:blip r:embed="rId4"/>
          <a:stretch/>
        </p:blipFill>
        <p:spPr>
          <a:xfrm>
            <a:off x="324000" y="4221000"/>
            <a:ext cx="41749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а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20201019_164202.jpg"/>
          <p:cNvPicPr/>
          <p:nvPr/>
        </p:nvPicPr>
        <p:blipFill>
          <a:blip r:embed="rId1"/>
          <a:stretch/>
        </p:blipFill>
        <p:spPr>
          <a:xfrm>
            <a:off x="250920" y="1197000"/>
            <a:ext cx="4705200" cy="264636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8" descr="IMG_20191107_110756.jpg"/>
          <p:cNvPicPr/>
          <p:nvPr/>
        </p:nvPicPr>
        <p:blipFill>
          <a:blip r:embed="rId2"/>
          <a:stretch/>
        </p:blipFill>
        <p:spPr>
          <a:xfrm>
            <a:off x="6588000" y="1268280"/>
            <a:ext cx="2556000" cy="454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Алексей\Desktop\Егорова ОБЖ\IMG_20201109_110224.jpg"/>
          <p:cNvPicPr/>
          <p:nvPr/>
        </p:nvPicPr>
        <p:blipFill>
          <a:blip r:embed="rId3"/>
          <a:stretch/>
        </p:blipFill>
        <p:spPr>
          <a:xfrm>
            <a:off x="4643280" y="3357720"/>
            <a:ext cx="1878120" cy="33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Алексей\Desktop\Егорова ОБЖ\IMG_20201109_110254.jpg"/>
          <p:cNvPicPr/>
          <p:nvPr/>
        </p:nvPicPr>
        <p:blipFill>
          <a:blip r:embed="rId4"/>
          <a:stretch/>
        </p:blipFill>
        <p:spPr>
          <a:xfrm>
            <a:off x="250920" y="4149720"/>
            <a:ext cx="430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афеты и соревн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4" descr="IMG_20180625_092308.jpg"/>
          <p:cNvPicPr/>
          <p:nvPr/>
        </p:nvPicPr>
        <p:blipFill>
          <a:blip r:embed="rId1"/>
          <a:stretch/>
        </p:blipFill>
        <p:spPr>
          <a:xfrm>
            <a:off x="395280" y="1052640"/>
            <a:ext cx="396864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5" descr="IMG_20180625_092755.jpg"/>
          <p:cNvPicPr/>
          <p:nvPr/>
        </p:nvPicPr>
        <p:blipFill>
          <a:blip r:embed="rId2"/>
          <a:stretch/>
        </p:blipFill>
        <p:spPr>
          <a:xfrm>
            <a:off x="2268360" y="3402000"/>
            <a:ext cx="575964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Алексей\Desktop\Егорова ОБЖ\ПДД\IMG_20180625_093423.jpg"/>
          <p:cNvPicPr/>
          <p:nvPr/>
        </p:nvPicPr>
        <p:blipFill>
          <a:blip r:embed="rId3"/>
          <a:stretch/>
        </p:blipFill>
        <p:spPr>
          <a:xfrm>
            <a:off x="4859280" y="981000"/>
            <a:ext cx="3841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на знание ПД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4" descr="IMG_20190924_100402.jpg"/>
          <p:cNvPicPr/>
          <p:nvPr/>
        </p:nvPicPr>
        <p:blipFill>
          <a:blip r:embed="rId1"/>
          <a:stretch/>
        </p:blipFill>
        <p:spPr>
          <a:xfrm>
            <a:off x="4788000" y="371628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7" descr="IMG_20190924_095344.jpg"/>
          <p:cNvPicPr/>
          <p:nvPr/>
        </p:nvPicPr>
        <p:blipFill>
          <a:blip r:embed="rId2"/>
          <a:stretch/>
        </p:blipFill>
        <p:spPr>
          <a:xfrm>
            <a:off x="4730760" y="981000"/>
            <a:ext cx="4095720" cy="230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Алексей\Desktop\Егорова ОБЖ\IMG_20190924_093952.jpg"/>
          <p:cNvPicPr/>
          <p:nvPr/>
        </p:nvPicPr>
        <p:blipFill>
          <a:blip r:embed="rId3"/>
          <a:stretch/>
        </p:blipFill>
        <p:spPr>
          <a:xfrm>
            <a:off x="179280" y="981000"/>
            <a:ext cx="4105440" cy="234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Алексей\Desktop\Егорова ОБЖ\IMG_20190924_095516.jpg"/>
          <p:cNvPicPr/>
          <p:nvPr/>
        </p:nvPicPr>
        <p:blipFill>
          <a:blip r:embed="rId4"/>
          <a:stretch/>
        </p:blipFill>
        <p:spPr>
          <a:xfrm>
            <a:off x="250920" y="3645000"/>
            <a:ext cx="4152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уменьшает число опаснос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ающих нашей жизни, уменьшает число причин страха 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я возможность измерить опасность 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ее последствия, уменьшает напряжен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 этих опасностей"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 «БЕЗОПАСНОСТЬ РЕБЁНКА ДОМ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5" descr="IMG_20201029_161431.jpg"/>
          <p:cNvPicPr/>
          <p:nvPr/>
        </p:nvPicPr>
        <p:blipFill>
          <a:blip r:embed="rId1"/>
          <a:stretch/>
        </p:blipFill>
        <p:spPr>
          <a:xfrm>
            <a:off x="4859280" y="112536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5" descr="IMG_20201029_160742.jpg"/>
          <p:cNvPicPr/>
          <p:nvPr/>
        </p:nvPicPr>
        <p:blipFill>
          <a:blip r:embed="rId2"/>
          <a:stretch/>
        </p:blipFill>
        <p:spPr>
          <a:xfrm>
            <a:off x="468360" y="1268280"/>
            <a:ext cx="4038480" cy="183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Алексей\Desktop\Егорова ОБЖ\IMG_20201029_163015.jpg"/>
          <p:cNvPicPr/>
          <p:nvPr/>
        </p:nvPicPr>
        <p:blipFill>
          <a:blip r:embed="rId3"/>
          <a:stretch/>
        </p:blipFill>
        <p:spPr>
          <a:xfrm>
            <a:off x="395280" y="3789360"/>
            <a:ext cx="4016520" cy="225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Алексей\Desktop\Егорова ОБЖ\IMG_20201029_164115.jpg"/>
          <p:cNvPicPr/>
          <p:nvPr/>
        </p:nvPicPr>
        <p:blipFill>
          <a:blip r:embed="rId4"/>
          <a:stretch/>
        </p:blipFill>
        <p:spPr>
          <a:xfrm>
            <a:off x="4643280" y="3933720"/>
            <a:ext cx="4137120" cy="2325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684360" y="3068640"/>
            <a:ext cx="295092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гадывали загадки п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о- при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5219640" y="3141720"/>
            <a:ext cx="309744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лись оказывать первую медицинскую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611280" y="6021360"/>
            <a:ext cx="3240000" cy="647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ходили не выключенные  электро-при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4788000" y="6165720"/>
            <a:ext cx="3744720" cy="3319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мотрели видеорол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«Станция метр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4" descr="IMG_20201109_102806.jpg"/>
          <p:cNvPicPr/>
          <p:nvPr/>
        </p:nvPicPr>
        <p:blipFill>
          <a:blip r:embed="rId1"/>
          <a:stretch/>
        </p:blipFill>
        <p:spPr>
          <a:xfrm>
            <a:off x="250920" y="1484280"/>
            <a:ext cx="4403520" cy="247644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5" descr="IMG_20201109_102339.jpg"/>
          <p:cNvPicPr/>
          <p:nvPr/>
        </p:nvPicPr>
        <p:blipFill>
          <a:blip r:embed="rId2"/>
          <a:stretch/>
        </p:blipFill>
        <p:spPr>
          <a:xfrm>
            <a:off x="4788000" y="1628640"/>
            <a:ext cx="4038480" cy="227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Алексей\Desktop\Егорова ОБЖ\IMG_20201106_174512.jpg"/>
          <p:cNvPicPr/>
          <p:nvPr/>
        </p:nvPicPr>
        <p:blipFill>
          <a:blip r:embed="rId3"/>
          <a:stretch/>
        </p:blipFill>
        <p:spPr>
          <a:xfrm>
            <a:off x="539640" y="4221000"/>
            <a:ext cx="3969000" cy="223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Алексей\Desktop\Егорова ОБЖ\IMG_20201106_170239.jpg"/>
          <p:cNvPicPr/>
          <p:nvPr/>
        </p:nvPicPr>
        <p:blipFill>
          <a:blip r:embed="rId4"/>
          <a:stretch/>
        </p:blipFill>
        <p:spPr>
          <a:xfrm>
            <a:off x="5076720" y="4365720"/>
            <a:ext cx="38847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экскурсии в Центр противопожарной безопасности с помощью макетов дети и родители более наглядно увидели причины и последствия лесных и бытовых  пож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IMG_20191114_102113.jpg"/>
          <p:cNvPicPr/>
          <p:nvPr/>
        </p:nvPicPr>
        <p:blipFill>
          <a:blip r:embed="rId1"/>
          <a:stretch/>
        </p:blipFill>
        <p:spPr>
          <a:xfrm>
            <a:off x="179280" y="278136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12" descr="IMG_20191114_102722.jpg"/>
          <p:cNvPicPr/>
          <p:nvPr/>
        </p:nvPicPr>
        <p:blipFill>
          <a:blip r:embed="rId2"/>
          <a:stretch/>
        </p:blipFill>
        <p:spPr>
          <a:xfrm>
            <a:off x="4572000" y="278136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IMG_20191114_104221.jpg"/>
          <p:cNvPicPr/>
          <p:nvPr/>
        </p:nvPicPr>
        <p:blipFill>
          <a:blip r:embed="rId3"/>
          <a:stretch/>
        </p:blipFill>
        <p:spPr>
          <a:xfrm>
            <a:off x="2843280" y="4797360"/>
            <a:ext cx="3313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жарной части дети познакомились с пожарным, его снаряжением, устройством пожарной машины поблагодарили за нелегкий 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7" descr="IMG_20191114_110514.jpg"/>
          <p:cNvPicPr/>
          <p:nvPr/>
        </p:nvPicPr>
        <p:blipFill>
          <a:blip r:embed="rId1"/>
          <a:stretch/>
        </p:blipFill>
        <p:spPr>
          <a:xfrm>
            <a:off x="971640" y="4653000"/>
            <a:ext cx="3384360" cy="190332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6" descr="IMG_20191114_110301.jpg"/>
          <p:cNvPicPr/>
          <p:nvPr/>
        </p:nvPicPr>
        <p:blipFill>
          <a:blip r:embed="rId2"/>
          <a:stretch/>
        </p:blipFill>
        <p:spPr>
          <a:xfrm>
            <a:off x="179280" y="2133720"/>
            <a:ext cx="4037040" cy="227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Алексей\Desktop\разобрать вайбер\IMG-3d0e1755014f8a1da78860346e0a419f-V.jpg"/>
          <p:cNvPicPr/>
          <p:nvPr/>
        </p:nvPicPr>
        <p:blipFill>
          <a:blip r:embed="rId3"/>
          <a:stretch/>
        </p:blipFill>
        <p:spPr>
          <a:xfrm>
            <a:off x="5219640" y="2205000"/>
            <a:ext cx="33098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ка в метро закрепила знания правил безопас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14" descr="IMG_20200216_102716.jpg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227196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12" descr="IMG_20200216_101356.jpg"/>
          <p:cNvPicPr/>
          <p:nvPr/>
        </p:nvPicPr>
        <p:blipFill>
          <a:blip r:embed="rId2"/>
          <a:stretch/>
        </p:blipFill>
        <p:spPr>
          <a:xfrm>
            <a:off x="539640" y="1700280"/>
            <a:ext cx="4037040" cy="227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Алексей\Desktop\Егорова ОБЖ\IMG_20200216_102042.jpg"/>
          <p:cNvPicPr/>
          <p:nvPr/>
        </p:nvPicPr>
        <p:blipFill>
          <a:blip r:embed="rId3"/>
          <a:stretch/>
        </p:blipFill>
        <p:spPr>
          <a:xfrm>
            <a:off x="2771640" y="4292640"/>
            <a:ext cx="4095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по городу позволили более наглядно показать детям светофор, пешеходный переход, перекресток, дорожные знаки,  транспорт го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5" descr="IMG_20191012_102632.jpg"/>
          <p:cNvPicPr/>
          <p:nvPr/>
        </p:nvPicPr>
        <p:blipFill>
          <a:blip r:embed="rId1"/>
          <a:stretch/>
        </p:blipFill>
        <p:spPr>
          <a:xfrm>
            <a:off x="468360" y="2276640"/>
            <a:ext cx="4037040" cy="227160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0" descr="IMG_20191012_103147.jpg"/>
          <p:cNvPicPr/>
          <p:nvPr/>
        </p:nvPicPr>
        <p:blipFill>
          <a:blip r:embed="rId2"/>
          <a:stretch/>
        </p:blipFill>
        <p:spPr>
          <a:xfrm>
            <a:off x="4859280" y="227664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Алексей\Desktop\Егорова ОБЖ\IMG_20191012_104348.jpg"/>
          <p:cNvPicPr/>
          <p:nvPr/>
        </p:nvPicPr>
        <p:blipFill>
          <a:blip r:embed="rId3"/>
          <a:stretch/>
        </p:blipFill>
        <p:spPr>
          <a:xfrm>
            <a:off x="2771640" y="4653000"/>
            <a:ext cx="35528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ёртое педагогическ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заимодействие дошкольного образовательного учреждения и семьи, направленное на формирование безопасного поведения детей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  проводятся консультации, выставляются папки-передвижки по ПДД, противопожарной безопасности и д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5" descr="IMG_20201020_135706.jpg"/>
          <p:cNvPicPr/>
          <p:nvPr/>
        </p:nvPicPr>
        <p:blipFill>
          <a:blip r:embed="rId1"/>
          <a:stretch/>
        </p:blipFill>
        <p:spPr>
          <a:xfrm>
            <a:off x="4803840" y="4221000"/>
            <a:ext cx="4165560" cy="234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7" descr="IMG_20180625_145149.jpg"/>
          <p:cNvPicPr/>
          <p:nvPr/>
        </p:nvPicPr>
        <p:blipFill>
          <a:blip r:embed="rId2"/>
          <a:stretch/>
        </p:blipFill>
        <p:spPr>
          <a:xfrm>
            <a:off x="179280" y="4089240"/>
            <a:ext cx="43927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2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принимают  активное  участие в выставке светофоров, Елочных игрушек, плакатов и рисунков на темы «Безопасность глазами детей», «Противопожарная безопасность», помогают в изготовлении макетов и игры для уголка «Безопас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Алексей\Desktop\Егорова ОБЖ\IMG_20201102_152518.jpg"/>
          <p:cNvPicPr/>
          <p:nvPr/>
        </p:nvPicPr>
        <p:blipFill>
          <a:blip r:embed="rId1"/>
          <a:stretch/>
        </p:blipFill>
        <p:spPr>
          <a:xfrm>
            <a:off x="5724360" y="4581360"/>
            <a:ext cx="3264120" cy="183528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8" descr="IMG_20190823_092254.jpg"/>
          <p:cNvPicPr/>
          <p:nvPr/>
        </p:nvPicPr>
        <p:blipFill>
          <a:blip r:embed="rId2"/>
          <a:stretch/>
        </p:blipFill>
        <p:spPr>
          <a:xfrm>
            <a:off x="3492360" y="5516640"/>
            <a:ext cx="2448000" cy="13413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10" descr="IMG_20191213_181013.jpg"/>
          <p:cNvPicPr/>
          <p:nvPr/>
        </p:nvPicPr>
        <p:blipFill>
          <a:blip r:embed="rId3"/>
          <a:stretch/>
        </p:blipFill>
        <p:spPr>
          <a:xfrm>
            <a:off x="4932360" y="2492280"/>
            <a:ext cx="3465360" cy="1949400"/>
          </a:xfrm>
          <a:prstGeom prst="rect">
            <a:avLst/>
          </a:prstGeom>
          <a:ln w="0">
            <a:noFill/>
          </a:ln>
        </p:spPr>
      </p:pic>
      <p:pic>
        <p:nvPicPr>
          <p:cNvPr id="151" name="Содержимое 7" descr="IMG_20180625_144835.jpg"/>
          <p:cNvPicPr/>
          <p:nvPr/>
        </p:nvPicPr>
        <p:blipFill>
          <a:blip r:embed="rId4"/>
          <a:stretch/>
        </p:blipFill>
        <p:spPr>
          <a:xfrm>
            <a:off x="179280" y="2421000"/>
            <a:ext cx="4002120" cy="225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Алексей\Desktop\Егорова ОБЖ\IMG_20191118_180840.jpg"/>
          <p:cNvPicPr/>
          <p:nvPr/>
        </p:nvPicPr>
        <p:blipFill>
          <a:blip r:embed="rId5"/>
          <a:stretch/>
        </p:blipFill>
        <p:spPr>
          <a:xfrm>
            <a:off x="250920" y="4869000"/>
            <a:ext cx="30970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помогают в изготовлении макетов и игры для уголка «Безопас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IMG_20201110_073101.jpg"/>
          <p:cNvPicPr/>
          <p:nvPr/>
        </p:nvPicPr>
        <p:blipFill>
          <a:blip r:embed="rId1"/>
          <a:stretch/>
        </p:blipFill>
        <p:spPr>
          <a:xfrm>
            <a:off x="324000" y="2637000"/>
            <a:ext cx="5343480" cy="367164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5" descr="IMG_20201110_074717.jpg"/>
          <p:cNvPicPr/>
          <p:nvPr/>
        </p:nvPicPr>
        <p:blipFill>
          <a:blip r:embed="rId2"/>
          <a:stretch/>
        </p:blipFill>
        <p:spPr>
          <a:xfrm>
            <a:off x="6012000" y="1773360"/>
            <a:ext cx="25444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я экскурсии по городу и в Центр противопожарной подготовки  родители становились активными участниками формирования безопасного поведения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IMG_20200216_101356.jpg"/>
          <p:cNvPicPr/>
          <p:nvPr/>
        </p:nvPicPr>
        <p:blipFill>
          <a:blip r:embed="rId1"/>
          <a:stretch/>
        </p:blipFill>
        <p:spPr>
          <a:xfrm>
            <a:off x="395280" y="4437000"/>
            <a:ext cx="3894120" cy="219096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5" descr="IMG_20191114_100944.jpg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270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IMG_20191012_102632.jpg"/>
          <p:cNvPicPr/>
          <p:nvPr/>
        </p:nvPicPr>
        <p:blipFill>
          <a:blip r:embed="rId3"/>
          <a:stretch/>
        </p:blipFill>
        <p:spPr>
          <a:xfrm>
            <a:off x="2771640" y="2276640"/>
            <a:ext cx="37609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2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самого раннего возраста должны знать правила безопасности, так как могут оказаться в непредсказуемой ситуации на улице, дома, на природе, на дороге, поэтому главная задача взрослых развитие самостоятельности и ответствен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 по теме «Безопасность» показало, что родители осознано относятся к необходимости специального ознакомления своих детей с правилами безопасности жизнедеятельности не только в быту, но и на улице,  отмечают важность формирования  бережного отношения к своему здоровью и здоровью окружающих, выделяют  необходимость знакомства с источниками опасности с целью формирования представлений об опасных предметах и возможности осознанного действия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6160" y="1600200"/>
            <a:ext cx="4038840" cy="452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  по теме «Безопасность» показало, что родители осознано относятся к необходимости специального ознакомления своих детей с правилами безопасности жизнедеятельности не только в быту, но и на улице,  отмечают важность формирования  бережного отношения к своему здоровью и здоровью окружающих, выделяют  необходимость знакомства с источниками опасности с целью формирования представлений об опасных предметах и возможности осознанного действия с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5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детей вырос устойчивый интерес к занятиям по ОБЖ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полнился опыт безопасного поведе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яется самостоятельность, ответственность и осознанное отношение к правилам и нормам безопасного поведения в различных ситуациях в быту, на улиц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полняется словарный запас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ладился тесный контакт с родителям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Содержимое 3" descr="IMG-55a56cab36a0a99f6f068a606f0ce418-V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2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наиболее значимые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общения детей старшего дошкольного возраста к правилам безопасного по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ышение компетентности педагогов по проблеме формирования безопасного поведения у дошкольни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. Создание предметно-пространственной развивающей среды, отвечающей современным требованиям и задачам формирования безопасного поведения детей, обеспечивающей эффективность образовательного процес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3. Совокупность форм, методов и средств, направленная на формирование безопасного поведения детей и обеспечивающая успешное решение задач образовательного процес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4. Взаимодействие дошкольного образовательного учреждения и семьи, направленное на формирование безопасного поведени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едагогическое услов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вышение компетентности педагогов по проблеме формирования безопасного поведения у дошкольник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8" descr="IMG_20201029_162601.jpg"/>
          <p:cNvPicPr/>
          <p:nvPr/>
        </p:nvPicPr>
        <p:blipFill>
          <a:blip r:embed="rId1"/>
          <a:stretch/>
        </p:blipFill>
        <p:spPr>
          <a:xfrm>
            <a:off x="4859280" y="4437000"/>
            <a:ext cx="4038480" cy="22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Алексей\Desktop\Егорова ОБЖ\IMG_20201109_105222.jpg"/>
          <p:cNvPicPr/>
          <p:nvPr/>
        </p:nvPicPr>
        <p:blipFill>
          <a:blip r:embed="rId2"/>
          <a:stretch/>
        </p:blipFill>
        <p:spPr>
          <a:xfrm>
            <a:off x="971640" y="1844640"/>
            <a:ext cx="72961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педагогическое услов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здание предметно-пространственной развивающей среды, отвечающей современным требованиям и задачам формирования безопасного поведения детей; обеспечивающей эффективность образовательного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17" descr="IMG_20201106_174711.jpg"/>
          <p:cNvPicPr/>
          <p:nvPr/>
        </p:nvPicPr>
        <p:blipFill>
          <a:blip r:embed="rId1"/>
          <a:stretch/>
        </p:blipFill>
        <p:spPr>
          <a:xfrm>
            <a:off x="468360" y="2349360"/>
            <a:ext cx="5118120" cy="288000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13" descr="IMG_20200213_133908.jpg"/>
          <p:cNvPicPr/>
          <p:nvPr/>
        </p:nvPicPr>
        <p:blipFill>
          <a:blip r:embed="rId2"/>
          <a:stretch/>
        </p:blipFill>
        <p:spPr>
          <a:xfrm>
            <a:off x="4356000" y="4149720"/>
            <a:ext cx="4500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торой имеются познавательная и художественная литература, фотоальбомы, иллюстрации для рассматривания  и обсуждения различных ситуац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IMG_20201109_150945.jpg"/>
          <p:cNvPicPr/>
          <p:nvPr/>
        </p:nvPicPr>
        <p:blipFill>
          <a:blip r:embed="rId1"/>
          <a:stretch/>
        </p:blipFill>
        <p:spPr>
          <a:xfrm>
            <a:off x="179280" y="3789360"/>
            <a:ext cx="4943520" cy="278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ей\Desktop\Егорова ОБЖ\IMG_20201109_151155.jpg"/>
          <p:cNvPicPr/>
          <p:nvPr/>
        </p:nvPicPr>
        <p:blipFill>
          <a:blip r:embed="rId2"/>
          <a:stretch/>
        </p:blipFill>
        <p:spPr>
          <a:xfrm>
            <a:off x="4362480" y="2637000"/>
            <a:ext cx="46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збука безопасности», «Знаки на дорогах», «Дорожные знаки», «Опасные ситуации», «Собери знак», « Собери светофор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Сложи картинку», «Лото стихийные явления природы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000" y="3933360"/>
            <a:ext cx="1368360" cy="5749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7" descr="IMG_20201109_151838.jpg"/>
          <p:cNvPicPr/>
          <p:nvPr/>
        </p:nvPicPr>
        <p:blipFill>
          <a:blip r:embed="rId2"/>
          <a:stretch/>
        </p:blipFill>
        <p:spPr>
          <a:xfrm>
            <a:off x="1979640" y="3068640"/>
            <a:ext cx="58370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 для    сюжетно - ролевых 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5" descr="IMG_20201109_152443.jpg"/>
          <p:cNvPicPr/>
          <p:nvPr/>
        </p:nvPicPr>
        <p:blipFill>
          <a:blip r:embed="rId1"/>
          <a:stretch/>
        </p:blipFill>
        <p:spPr>
          <a:xfrm>
            <a:off x="3298680" y="1600200"/>
            <a:ext cx="2544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6:17:39Z</dcterms:created>
  <dc:creator>***</dc:creator>
  <dc:description/>
  <dc:language>en-US</dc:language>
  <cp:lastModifiedBy>Алексей</cp:lastModifiedBy>
  <dcterms:modified xsi:type="dcterms:W3CDTF">2022-02-08T17:19:22Z</dcterms:modified>
  <cp:revision>259</cp:revision>
  <dc:subject/>
  <dc:title>Актуальность работы по ОБЖ в дошкольных учреждениях</dc:title>
</cp:coreProperties>
</file>