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F4AE-9542-4CFF-A604-67573E05A5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E58B-3CB4-45A8-A798-538F7DAACE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020-427D-494B-B456-E0E40941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549-1BBF-4C35-80AC-8AE900D2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7152-62BE-4C13-B9A6-A902F55E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F4A-B686-4FD5-B571-36FB1B5B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A89-CD05-404C-91B5-38BD2558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BE73-0292-4812-BED0-F260D250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248-CC82-4617-9031-C6776DD4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0E6C-BA06-4DC9-B3FE-B6209D90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84B-87A7-4C61-B3D8-28C98F11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4AB4-3DDB-46FA-A3A4-9BC43ADE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089-AD89-4EC4-B3F0-08B7F44D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EEC-68C1-4B84-A1D2-E82030D0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C2E0-1110-4E68-9319-E0D7542811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19320" y="4495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ова Екатерина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294920" y="60120"/>
            <a:ext cx="6629400" cy="46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БДОУ детский сад «Алёнушка»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 Тема по самообразованию: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«Экологическое воспитание детей дошкольного возраста»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         </a:t>
            </a:r>
            <a:br>
              <a:rPr sz="7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4"/>
          <p:cNvSpPr/>
          <p:nvPr/>
        </p:nvSpPr>
        <p:spPr>
          <a:xfrm>
            <a:off x="2362320" y="2286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частие в экологических  конкур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6" descr="025.jpg"/>
          <p:cNvPicPr/>
          <p:nvPr/>
        </p:nvPicPr>
        <p:blipFill>
          <a:blip r:embed="rId1"/>
          <a:stretch/>
        </p:blipFill>
        <p:spPr>
          <a:xfrm>
            <a:off x="228600" y="533520"/>
            <a:ext cx="2184480" cy="30304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4" descr="4427421549.jpg"/>
          <p:cNvPicPr/>
          <p:nvPr/>
        </p:nvPicPr>
        <p:blipFill>
          <a:blip r:embed="rId2"/>
          <a:stretch/>
        </p:blipFill>
        <p:spPr>
          <a:xfrm>
            <a:off x="3505320" y="4694400"/>
            <a:ext cx="3057480" cy="21636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5" descr="2701_1.jpg"/>
          <p:cNvPicPr/>
          <p:nvPr/>
        </p:nvPicPr>
        <p:blipFill>
          <a:blip r:embed="rId3"/>
          <a:stretch/>
        </p:blipFill>
        <p:spPr>
          <a:xfrm>
            <a:off x="6858000" y="3624120"/>
            <a:ext cx="2286000" cy="3233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6" descr="032.jpg"/>
          <p:cNvPicPr/>
          <p:nvPr/>
        </p:nvPicPr>
        <p:blipFill>
          <a:blip r:embed="rId4"/>
          <a:stretch/>
        </p:blipFill>
        <p:spPr>
          <a:xfrm>
            <a:off x="6891480" y="457200"/>
            <a:ext cx="2252520" cy="3124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7" descr="0e7d8b6cc0a447222d61cff6f960925a.jpg"/>
          <p:cNvPicPr/>
          <p:nvPr/>
        </p:nvPicPr>
        <p:blipFill>
          <a:blip r:embed="rId5"/>
          <a:stretch/>
        </p:blipFill>
        <p:spPr>
          <a:xfrm>
            <a:off x="270000" y="3716280"/>
            <a:ext cx="2209680" cy="31240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8" descr="2704_1.jpg"/>
          <p:cNvPicPr/>
          <p:nvPr/>
        </p:nvPicPr>
        <p:blipFill>
          <a:blip r:embed="rId6"/>
          <a:stretch/>
        </p:blipFill>
        <p:spPr>
          <a:xfrm>
            <a:off x="4724280" y="1219320"/>
            <a:ext cx="2154240" cy="30477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8" descr="4428108805.jpg"/>
          <p:cNvPicPr/>
          <p:nvPr/>
        </p:nvPicPr>
        <p:blipFill>
          <a:blip r:embed="rId7"/>
          <a:stretch/>
        </p:blipFill>
        <p:spPr>
          <a:xfrm>
            <a:off x="2514600" y="1676520"/>
            <a:ext cx="21448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4114800" y="1433880"/>
            <a:ext cx="472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Результатом такой работы должно быть не только овладение определенными знаниями и умениями, но развитие отзывчивости, желания активно защищать, облагораживать природную среду. Необходимость её диктуется всей нашей жиз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авильное экологическое воспитание позволит в дальнейшем предотвратить многие экологические проблемы. Именно в дошкольном возрасте формируются особенности характера человека, его нравственный обли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2" descr="20210323_115606.jpg"/>
          <p:cNvPicPr/>
          <p:nvPr/>
        </p:nvPicPr>
        <p:blipFill>
          <a:blip r:embed="rId1"/>
          <a:stretch/>
        </p:blipFill>
        <p:spPr>
          <a:xfrm>
            <a:off x="380880" y="1447920"/>
            <a:ext cx="363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319040" y="22590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447920" y="228600"/>
            <a:ext cx="7238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кологические проблемы носят глобальный характер и затрагивают все человечество. Они несут угрозу жизни и человеческой цивилизации. Самая волнующая из них – это проблема, связанная с загрязнением окружающей среды. Загрязняется всё: воздух, вода, почва. А это губительно сказывается на растениях, животных, на здоровье людей. Поэтому вопрос экологического воспитания приобретает особую острот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– наука о связях в природе между живыми существами и окружающей средо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нать о природе мало – стыдно, а не знать совсем просто невозможно. Экологическая грамотность, бережное отношение к природе стали залогом выживания человека на нашей планете. Дошкольный возраст стал первым этапом в развитии экологической культуры человека.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 этапе дошкольного детства складывается начальное ощущение окружающего мира: ребенок получает эмоциональное впечатления о природе, накапливает представления о разных формах жизни. Таким образом, уже в этот период формируются первоосновы экологического мышления, сознания, экологической культуры. Но только при одном условии - если взрослые, воспитывающие ребенка, сами обладают экологической культурой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981080" y="2361960"/>
            <a:ext cx="6096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и экологического воспитания в детском саду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убить и расширить экологические зн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ивить начальные навыки и умения: поведенческие, познавательные, преобразователь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звить познавательную, творческую, общественную активность дошкольников в ходе экологической деятель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оспитать чувства бережного отношения к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новная цель экологического воспитания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епить у детей начала экологической культуры- осознанно правильного отношения к обьетам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Сентябрь- М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Грибы обл.png"/>
          <p:cNvPicPr/>
          <p:nvPr/>
        </p:nvPicPr>
        <p:blipFill>
          <a:blip r:embed="rId1"/>
          <a:stretch/>
        </p:blipFill>
        <p:spPr>
          <a:xfrm>
            <a:off x="6058080" y="838080"/>
            <a:ext cx="2730240" cy="19321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Овощи обл.png"/>
          <p:cNvPicPr/>
          <p:nvPr/>
        </p:nvPicPr>
        <p:blipFill>
          <a:blip r:embed="rId2"/>
          <a:stretch/>
        </p:blipFill>
        <p:spPr>
          <a:xfrm>
            <a:off x="2971800" y="838080"/>
            <a:ext cx="2705040" cy="1913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Осень обл.png"/>
          <p:cNvPicPr/>
          <p:nvPr/>
        </p:nvPicPr>
        <p:blipFill>
          <a:blip r:embed="rId3"/>
          <a:stretch/>
        </p:blipFill>
        <p:spPr>
          <a:xfrm>
            <a:off x="114480" y="838080"/>
            <a:ext cx="2678040" cy="1893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4"/>
          <a:stretch/>
        </p:blipFill>
        <p:spPr>
          <a:xfrm>
            <a:off x="158760" y="3014640"/>
            <a:ext cx="2590920" cy="1830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5"/>
          <a:stretch/>
        </p:blipFill>
        <p:spPr>
          <a:xfrm>
            <a:off x="3067200" y="2990880"/>
            <a:ext cx="2514600" cy="1776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6"/>
          <a:stretch/>
        </p:blipFill>
        <p:spPr>
          <a:xfrm>
            <a:off x="6058080" y="2990880"/>
            <a:ext cx="2527200" cy="178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7"/>
          <a:stretch/>
        </p:blipFill>
        <p:spPr>
          <a:xfrm>
            <a:off x="304920" y="5029200"/>
            <a:ext cx="23986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00000"/>
                </a:solidFill>
                <a:latin typeface="Arial"/>
              </a:rPr>
              <a:t>Работа с родителями.</a:t>
            </a:r>
            <a:br>
              <a:rPr sz="3400"/>
            </a:br>
            <a:r>
              <a:rPr b="0" lang="ru-RU" sz="3400" spc="-1" strike="noStrike">
                <a:solidFill>
                  <a:srgbClr val="c00000"/>
                </a:solidFill>
                <a:latin typeface="Arial"/>
              </a:rPr>
              <a:t>Акция «Посади дерево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4" descr="IMG-20200904-WA0040.jpg"/>
          <p:cNvPicPr/>
          <p:nvPr/>
        </p:nvPicPr>
        <p:blipFill>
          <a:blip r:embed="rId1"/>
          <a:stretch/>
        </p:blipFill>
        <p:spPr>
          <a:xfrm>
            <a:off x="1181160" y="1752480"/>
            <a:ext cx="3564000" cy="4724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IMG-20200904-WA0028.jpg"/>
          <p:cNvPicPr/>
          <p:nvPr/>
        </p:nvPicPr>
        <p:blipFill>
          <a:blip r:embed="rId2"/>
          <a:stretch/>
        </p:blipFill>
        <p:spPr>
          <a:xfrm>
            <a:off x="4917960" y="1803240"/>
            <a:ext cx="350532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Рисование «Птицы на кормушке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20210319_155439.jpg"/>
          <p:cNvPicPr/>
          <p:nvPr/>
        </p:nvPicPr>
        <p:blipFill>
          <a:blip r:embed="rId1"/>
          <a:stretch/>
        </p:blipFill>
        <p:spPr>
          <a:xfrm>
            <a:off x="1143000" y="9907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20210319_160245.jpg"/>
          <p:cNvPicPr/>
          <p:nvPr/>
        </p:nvPicPr>
        <p:blipFill>
          <a:blip r:embed="rId2"/>
          <a:stretch/>
        </p:blipFill>
        <p:spPr>
          <a:xfrm>
            <a:off x="2590920" y="3790800"/>
            <a:ext cx="4089240" cy="30672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20210319_160326.jpg"/>
          <p:cNvPicPr/>
          <p:nvPr/>
        </p:nvPicPr>
        <p:blipFill>
          <a:blip r:embed="rId3"/>
          <a:stretch/>
        </p:blipFill>
        <p:spPr>
          <a:xfrm>
            <a:off x="5181480" y="91440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35812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00000"/>
                </a:solidFill>
                <a:latin typeface="Arial"/>
              </a:rPr>
              <a:t>Дидактическая игра «Огород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20210203_103416.jpg"/>
          <p:cNvPicPr/>
          <p:nvPr/>
        </p:nvPicPr>
        <p:blipFill>
          <a:blip r:embed="rId1"/>
          <a:stretch/>
        </p:blipFill>
        <p:spPr>
          <a:xfrm>
            <a:off x="204840" y="304812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5410080" y="16002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«Огород на ок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5" descr="20210322_160905.jpg"/>
          <p:cNvPicPr/>
          <p:nvPr/>
        </p:nvPicPr>
        <p:blipFill>
          <a:blip r:embed="rId2"/>
          <a:stretch/>
        </p:blipFill>
        <p:spPr>
          <a:xfrm>
            <a:off x="4673520" y="3067200"/>
            <a:ext cx="4470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ращиваем фас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3" descr="20210319_163755.jpg"/>
          <p:cNvPicPr/>
          <p:nvPr/>
        </p:nvPicPr>
        <p:blipFill>
          <a:blip r:embed="rId1"/>
          <a:stretch/>
        </p:blipFill>
        <p:spPr>
          <a:xfrm>
            <a:off x="1447920" y="129528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20210322_160905.jpg"/>
          <p:cNvPicPr/>
          <p:nvPr/>
        </p:nvPicPr>
        <p:blipFill>
          <a:blip r:embed="rId2"/>
          <a:stretch/>
        </p:blipFill>
        <p:spPr>
          <a:xfrm>
            <a:off x="5054760" y="1295280"/>
            <a:ext cx="2946240" cy="22100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20210412_161112.jpg"/>
          <p:cNvPicPr/>
          <p:nvPr/>
        </p:nvPicPr>
        <p:blipFill>
          <a:blip r:embed="rId3"/>
          <a:stretch/>
        </p:blipFill>
        <p:spPr>
          <a:xfrm>
            <a:off x="3429000" y="3733920"/>
            <a:ext cx="21337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1676520" y="265320"/>
            <a:ext cx="74674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Трудовая деятельность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уществляя экологическое воспитание необходимо помнить о роли положительного отношения к труду на природе. Разъясняю детям значимость их труда, поощряю тех, кто проявил инициативу и добился хороших результатов. Дети зимой подкармливают птиц на кормушках, ухаживают за цветами на клумбах и в групп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5" descr="IMG-20210205-WA0014.jpg"/>
          <p:cNvPicPr/>
          <p:nvPr/>
        </p:nvPicPr>
        <p:blipFill>
          <a:blip r:embed="rId1"/>
          <a:stretch/>
        </p:blipFill>
        <p:spPr>
          <a:xfrm>
            <a:off x="2286000" y="3124080"/>
            <a:ext cx="2914560" cy="350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5791320" y="2362320"/>
            <a:ext cx="27352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1</cp:lastModifiedBy>
  <dcterms:modified xsi:type="dcterms:W3CDTF">2022-02-08T12:54:48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