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E094-2009-4E2E-9A0E-61EAF6471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AC24-7DA3-4BA1-A68E-3F975FE38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34F-777F-486C-B795-FCE204EE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E08-3735-4DE3-99F8-BFEDF882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10A-AAE7-4783-B557-281042BE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5B8-4045-4F6A-AF22-BCE202C1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00F-2B3D-492B-8C3C-8AAB740F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13B-ED3F-4D18-88D7-355EA427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FE0-61B0-40EA-B73A-10D3492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CC5-CB64-450B-9588-DB4815F3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A83-C0ED-442B-9AAC-50401A8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E1D-3BF2-4D24-ADC9-E15A72E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1DE-C86A-455E-9747-41D2F7FD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2E3-FC1B-47D3-8056-F578A0EA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712B-8E83-4E50-8707-59ABDAAFC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ова Екатерин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94920" y="60120"/>
            <a:ext cx="6629400" cy="46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ДОУ детский сад «Алёнушка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Тема по самообразованию: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«Экологическое воспитание детей дошкольного возраста»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</a:t>
            </a:r>
            <a:br>
              <a:rPr sz="7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4"/>
          <p:cNvSpPr/>
          <p:nvPr/>
        </p:nvSpPr>
        <p:spPr>
          <a:xfrm>
            <a:off x="2362320" y="2286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частие в экологических  конкур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025.jpg"/>
          <p:cNvPicPr/>
          <p:nvPr/>
        </p:nvPicPr>
        <p:blipFill>
          <a:blip r:embed="rId1"/>
          <a:stretch/>
        </p:blipFill>
        <p:spPr>
          <a:xfrm>
            <a:off x="228600" y="533520"/>
            <a:ext cx="2184480" cy="30304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4" descr="4427421549.jpg"/>
          <p:cNvPicPr/>
          <p:nvPr/>
        </p:nvPicPr>
        <p:blipFill>
          <a:blip r:embed="rId2"/>
          <a:stretch/>
        </p:blipFill>
        <p:spPr>
          <a:xfrm>
            <a:off x="3505320" y="4694400"/>
            <a:ext cx="3057480" cy="2163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5" descr="2701_1.jpg"/>
          <p:cNvPicPr/>
          <p:nvPr/>
        </p:nvPicPr>
        <p:blipFill>
          <a:blip r:embed="rId3"/>
          <a:stretch/>
        </p:blipFill>
        <p:spPr>
          <a:xfrm>
            <a:off x="6858000" y="3624120"/>
            <a:ext cx="2286000" cy="3233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032.jpg"/>
          <p:cNvPicPr/>
          <p:nvPr/>
        </p:nvPicPr>
        <p:blipFill>
          <a:blip r:embed="rId4"/>
          <a:stretch/>
        </p:blipFill>
        <p:spPr>
          <a:xfrm>
            <a:off x="6891480" y="457200"/>
            <a:ext cx="2252520" cy="3124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7" descr="0e7d8b6cc0a447222d61cff6f960925a.jpg"/>
          <p:cNvPicPr/>
          <p:nvPr/>
        </p:nvPicPr>
        <p:blipFill>
          <a:blip r:embed="rId5"/>
          <a:stretch/>
        </p:blipFill>
        <p:spPr>
          <a:xfrm>
            <a:off x="270000" y="371628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8" descr="2704_1.jpg"/>
          <p:cNvPicPr/>
          <p:nvPr/>
        </p:nvPicPr>
        <p:blipFill>
          <a:blip r:embed="rId6"/>
          <a:stretch/>
        </p:blipFill>
        <p:spPr>
          <a:xfrm>
            <a:off x="4724280" y="1219320"/>
            <a:ext cx="2154240" cy="3047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4428108805.jpg"/>
          <p:cNvPicPr/>
          <p:nvPr/>
        </p:nvPicPr>
        <p:blipFill>
          <a:blip r:embed="rId7"/>
          <a:stretch/>
        </p:blipFill>
        <p:spPr>
          <a:xfrm>
            <a:off x="2514600" y="1676520"/>
            <a:ext cx="21448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114800" y="1433880"/>
            <a:ext cx="472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ультатом такой работы должно быть не только овладение определенными знаниями и умениями, но развитие отзывчивости, желания активно защищать, облагораживать природную среду. Необходимость её диктуется всей нашей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вильное экологическое воспитание позволит в дальнейшем предотвратить многие экологические проблемы. Именно в дошкольном возрасте формируются особенности характера человека, его нравственный обл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20210323_115606.jpg"/>
          <p:cNvPicPr/>
          <p:nvPr/>
        </p:nvPicPr>
        <p:blipFill>
          <a:blip r:embed="rId1"/>
          <a:stretch/>
        </p:blipFill>
        <p:spPr>
          <a:xfrm>
            <a:off x="380880" y="1447920"/>
            <a:ext cx="363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319040" y="22590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47920" y="228600"/>
            <a:ext cx="7238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кологические проблемы носят глобальный характер и затрагивают все человечество. Они несут угрозу жизни и человеческой цивилизации. Самая волнующая из них – это проблема, связанная с загрязнением окружающей среды. Загрязняется всё: воздух, вода, почва. А это губительно сказывается на растениях, животных, на здоровье людей. Поэтому вопрос экологического воспитания приобретает особую острот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 наука о связях в природе между живыми существами и окружающей сред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нать о природе мало – стыдно, а не знать совсем просто невозможно. Экологическая грамотность, бережное отношение к природе стали залогом выживания человека на нашей планете. Дошкольный возраст стал первым этапом в развитии экологической культуры человека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этапе дошкольного детства складывается начальное ощущение окружающего мира: ребенок получает эмоциональное впечатления о природе, накапливает представления о разных формах жизни. Таким образом, уже в этот период формируются первоосновы экологического мышления, сознания, экологической культуры. Но только при одном условии - если взрослые, воспитывающие ребенка, сами обладают экологической культурой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81080" y="236196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 экологического воспитания в детском сад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убить и расширить экологические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вить начальные навыки и умения: поведенческие, познавательные, преобразовате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вить познавательную, творческую, общественную активность дошкольников в ходе экологическ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оспитать чувства бережного отношения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ая цель экологического воспитания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ить у детей начала экологической культуры- осознанно правильного отношения к обьета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Сентябрь- 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Грибы обл.png"/>
          <p:cNvPicPr/>
          <p:nvPr/>
        </p:nvPicPr>
        <p:blipFill>
          <a:blip r:embed="rId1"/>
          <a:stretch/>
        </p:blipFill>
        <p:spPr>
          <a:xfrm>
            <a:off x="6058080" y="838080"/>
            <a:ext cx="2730240" cy="1932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Овощи обл.png"/>
          <p:cNvPicPr/>
          <p:nvPr/>
        </p:nvPicPr>
        <p:blipFill>
          <a:blip r:embed="rId2"/>
          <a:stretch/>
        </p:blipFill>
        <p:spPr>
          <a:xfrm>
            <a:off x="2971800" y="838080"/>
            <a:ext cx="2705040" cy="1913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Осень обл.png"/>
          <p:cNvPicPr/>
          <p:nvPr/>
        </p:nvPicPr>
        <p:blipFill>
          <a:blip r:embed="rId3"/>
          <a:stretch/>
        </p:blipFill>
        <p:spPr>
          <a:xfrm>
            <a:off x="114480" y="838080"/>
            <a:ext cx="2678040" cy="189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158760" y="3014640"/>
            <a:ext cx="2590920" cy="183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3067200" y="299088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6"/>
          <a:stretch/>
        </p:blipFill>
        <p:spPr>
          <a:xfrm>
            <a:off x="6058080" y="2990880"/>
            <a:ext cx="2527200" cy="17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7"/>
          <a:stretch/>
        </p:blipFill>
        <p:spPr>
          <a:xfrm>
            <a:off x="304920" y="5029200"/>
            <a:ext cx="2398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Arial"/>
              </a:rPr>
              <a:t>Работа с родителями.</a:t>
            </a:r>
            <a:br>
              <a:rPr sz="3400"/>
            </a:br>
            <a:r>
              <a:rPr b="0" lang="ru-RU" sz="3400" spc="-1" strike="noStrike">
                <a:solidFill>
                  <a:srgbClr val="c00000"/>
                </a:solidFill>
                <a:latin typeface="Arial"/>
              </a:rPr>
              <a:t>Акция «Посади дерево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IMG-20200904-WA0040.jpg"/>
          <p:cNvPicPr/>
          <p:nvPr/>
        </p:nvPicPr>
        <p:blipFill>
          <a:blip r:embed="rId1"/>
          <a:stretch/>
        </p:blipFill>
        <p:spPr>
          <a:xfrm>
            <a:off x="1181160" y="1752480"/>
            <a:ext cx="3564000" cy="4724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IMG-20200904-WA0028.jpg"/>
          <p:cNvPicPr/>
          <p:nvPr/>
        </p:nvPicPr>
        <p:blipFill>
          <a:blip r:embed="rId2"/>
          <a:stretch/>
        </p:blipFill>
        <p:spPr>
          <a:xfrm>
            <a:off x="4917960" y="1803240"/>
            <a:ext cx="35053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исование «Птицы на кормушк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20210319_155439.jpg"/>
          <p:cNvPicPr/>
          <p:nvPr/>
        </p:nvPicPr>
        <p:blipFill>
          <a:blip r:embed="rId1"/>
          <a:stretch/>
        </p:blipFill>
        <p:spPr>
          <a:xfrm>
            <a:off x="1143000" y="9907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20210319_160245.jpg"/>
          <p:cNvPicPr/>
          <p:nvPr/>
        </p:nvPicPr>
        <p:blipFill>
          <a:blip r:embed="rId2"/>
          <a:stretch/>
        </p:blipFill>
        <p:spPr>
          <a:xfrm>
            <a:off x="2590920" y="3790800"/>
            <a:ext cx="4089240" cy="3067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20210319_160326.jpg"/>
          <p:cNvPicPr/>
          <p:nvPr/>
        </p:nvPicPr>
        <p:blipFill>
          <a:blip r:embed="rId3"/>
          <a:stretch/>
        </p:blipFill>
        <p:spPr>
          <a:xfrm>
            <a:off x="5181480" y="9144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3581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Arial"/>
              </a:rPr>
              <a:t>Дидактическая игра «Огород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20210203_103416.jpg"/>
          <p:cNvPicPr/>
          <p:nvPr/>
        </p:nvPicPr>
        <p:blipFill>
          <a:blip r:embed="rId1"/>
          <a:stretch/>
        </p:blipFill>
        <p:spPr>
          <a:xfrm>
            <a:off x="204840" y="30481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410080" y="1600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«Огород на ок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20210322_160905.jpg"/>
          <p:cNvPicPr/>
          <p:nvPr/>
        </p:nvPicPr>
        <p:blipFill>
          <a:blip r:embed="rId2"/>
          <a:stretch/>
        </p:blipFill>
        <p:spPr>
          <a:xfrm>
            <a:off x="4673520" y="306720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ращиваем фас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20210319_163755.jpg"/>
          <p:cNvPicPr/>
          <p:nvPr/>
        </p:nvPicPr>
        <p:blipFill>
          <a:blip r:embed="rId1"/>
          <a:stretch/>
        </p:blipFill>
        <p:spPr>
          <a:xfrm>
            <a:off x="1447920" y="12952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0210322_160905.jpg"/>
          <p:cNvPicPr/>
          <p:nvPr/>
        </p:nvPicPr>
        <p:blipFill>
          <a:blip r:embed="rId2"/>
          <a:stretch/>
        </p:blipFill>
        <p:spPr>
          <a:xfrm>
            <a:off x="5054760" y="1295280"/>
            <a:ext cx="2946240" cy="2210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20210412_161112.jpg"/>
          <p:cNvPicPr/>
          <p:nvPr/>
        </p:nvPicPr>
        <p:blipFill>
          <a:blip r:embed="rId3"/>
          <a:stretch/>
        </p:blipFill>
        <p:spPr>
          <a:xfrm>
            <a:off x="3429000" y="3733920"/>
            <a:ext cx="21337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676520" y="265320"/>
            <a:ext cx="74674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Трудовая деятель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уществляя экологическое воспитание необходимо помнить о роли положительного отношения к труду на природе. Разъясняю детям значимость их труда, поощряю тех, кто проявил инициативу и добился хороших результатов. Дети зимой подкармливают птиц на кормушках, ухаживают за цветами на клумбах и в груп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IMG-20210205-WA0014.jpg"/>
          <p:cNvPicPr/>
          <p:nvPr/>
        </p:nvPicPr>
        <p:blipFill>
          <a:blip r:embed="rId1"/>
          <a:stretch/>
        </p:blipFill>
        <p:spPr>
          <a:xfrm>
            <a:off x="2286000" y="3124080"/>
            <a:ext cx="2914560" cy="350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5791320" y="2362320"/>
            <a:ext cx="27352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1</cp:lastModifiedBy>
  <dcterms:modified xsi:type="dcterms:W3CDTF">2022-02-08T12:54:48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