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AD3-54FA-4C8B-84AD-D4776AEA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2FE-A4F8-4D19-8E14-1C1FA07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B88E-4127-4BDD-937A-D78087EF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4647D-9536-439D-B601-C36435A0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20A4-1099-4BF0-8941-CF8DBA3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CF995-2972-4C1B-ACAE-107AB85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E4C1D-0D6F-4AE5-9B73-A5D6F1D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B3CCF-4856-418D-91C4-CE340697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A445-8DEB-4E1F-8D83-3D65C3EC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8DB03-AC7B-4E87-A699-541E360C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1DD24-07F2-4D8F-AF82-FF227D87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C7FAD-3963-4594-84B7-7A1ED8EC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B82-332A-4D04-B606-573F5634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04CA0-F6E7-4584-9264-8CD183AB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4CE6C-5960-4FB8-9CF3-301BCF88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DB61C-6941-4408-8DDC-FA3E2933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25ABC-4175-4C9C-9CDA-72FBA7C0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4FEAE-1723-4DC7-874A-E2D3DD36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D91EA-0FA2-44BF-AD26-B50FE41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FDB89-910B-4729-98A3-EAFF33F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60CD3-D8BB-4C3F-94AE-A4FD276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7EA6E-B035-46E0-B392-1AA13BC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DAE5B-8671-4CD9-A11F-D927C290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CEE-2D4D-4ADF-AB55-2B5058E3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4777D-E454-46B7-8258-9527CD1E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FFCEE-9C64-47FE-B149-0C0A9D4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69959-50A6-4A24-A2EA-C6DBAAE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D370D-C163-4A64-A824-68B00620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C44EB-DBA3-47AE-892F-02CF9F83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4F4B0-D231-4FD6-9C85-E30999B1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8C589-63FB-4A58-94E2-59BDEAC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6FCAD-107B-480A-A515-CB62FA4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573E-10E8-4197-97A7-BF87F34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CAD4D-472A-4524-A547-B80B774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CA6B-6D9F-4ED8-9975-25D008BF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DEE65-145F-42DF-AF87-0FD75EA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69378-2F73-4B7C-988E-18A765AC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143D1-495E-4CEC-A11E-CE9E79F0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F71BC-56BF-4FBE-AB91-31170254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A76ED-BFC2-4CC2-B13C-44B8A95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1DEF7-55AD-4B1A-A5B4-A356D01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80FEF-7A70-4F22-B245-346DA1B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8848D-21EF-45BA-8FD8-42ED22F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B6D7A-0D14-49E3-8E59-2416CD25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CA10C-C192-40EF-9184-B46DD51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D5F1-9353-4A5B-B6B1-42ED1D04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55CCB-BA38-42F1-82A8-96E22B28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13A8F-4619-4A83-801D-068E43D6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3754E-5EA0-4A69-AC31-704B382C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F1709-DE27-4AA1-A259-6234676C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524C6-530C-485D-B138-50298131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AA2B-5263-4628-8A11-C92A12D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90BB-10C2-468C-93A1-29DCC4D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BBC4-104B-40A1-92A5-68B62EEF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7665-280D-4150-BC0D-34044D4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18F5-9DB9-4366-B88C-52F2410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943-72D3-4C3F-AEF7-E0491B56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AB2D-8788-47EC-BC2E-EA9E3EE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CD02-80D6-41FC-BA58-771FA9D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C862-18C7-43BA-B1FF-FEFF61F3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06AB-CE41-43E2-85FD-E3BF4BE5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06B6-57A0-48C3-A25A-107D0A19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163B-9C88-4FA7-B8B8-9F3309EB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4043-42DE-4A01-B82C-03076338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EBC7-7CC4-40FF-8295-5B48717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B5F3-9A9D-4E8D-B369-6E5CBC4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0E00-945A-473F-BD21-3C36FC76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040-6D1B-4E52-996E-4B1C30D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F585-781D-4852-8166-E3D0655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9D03-9B56-40AB-97D0-49D16DD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0B88-8514-48E7-A6A8-4689BE54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4F7D-0FAF-45AA-A52D-8679497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8C8B-DF01-4437-9937-0771B22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C5BD-8364-4C5E-BB6F-A1D0EAE9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C533-685A-4791-B7C4-CCECAFDA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C138-6796-48CE-A603-5D79345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811A-DA28-406C-8A07-C8FAF83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AACF-D86E-4DAF-BC5F-F311F04E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891-AE5E-4058-8745-148B0680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DC29-8B78-4A31-9F4C-66F459C1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05F99-9ACD-4342-9D80-EE36BF41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31BB-5C49-4F4A-912E-E17ABFB5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A796-D370-458F-9DE6-93BB69B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D833-6318-4FBB-9364-0B06C953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82BA-69D5-4153-B890-E38171D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31F7-AFBD-43BC-9C95-B260FC32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F011-1A8B-46C5-995A-30F85C33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76B1-0272-4406-A19E-443B40E6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15E5-37BA-4207-AFE8-405DB8E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AA8-1BF2-48C6-A7AB-3CA0310A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D0FF-C05E-47F1-A561-B16C0E9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BFBF-1E0D-4936-845D-F89FEB7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8EA7-52FB-45B7-A8D1-9611C3AB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E93B-9206-49FA-AB6C-B5ADE7A1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7FA7-0C1D-403D-BF67-E965A87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0458-B33E-47B0-8EF1-61B3EC9E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3CF7-A88A-4C22-B528-4DD3E5BB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83AE-099D-4613-8A94-D9A2064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273E-8E31-48B6-9F26-EFB01B5D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2EA4-E997-419E-83A5-A589249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DD6-933D-4E1A-A7A1-7705909C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F7A67-61D9-43B1-A3F7-B8FFEC46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CB06F-7D95-4F37-8613-FC19647A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A868-FA41-48F1-92BB-DB6FB03F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94AE-0279-4132-A839-3745C3B8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1931-F46C-4A8A-9E21-A7F8AA9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8D06-906E-47E0-968B-5003EDCF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1650-1A25-40D6-B80B-9AAD243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B32B-D0DA-4FD5-8C0D-8AD5721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36D72-EBF5-4D25-8920-F0B6C71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A3EC-1DA6-4160-A7CA-522FE19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EDA-B0C6-4F32-A41B-20CDE8E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C4B0-4798-4F92-95D4-03352D0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4306-EA24-496B-B475-E6D9AAAB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CE715-55D7-426B-B730-2DE01698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21C4-F435-4B82-8058-60B804D0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A80E-F356-45E3-AED6-B247009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FE89F-F476-4825-AB67-0C67049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F93F-B262-4ABB-8D32-114547CD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A0AFE-529B-4364-AEF5-D88EEE6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C55CA-371F-4187-A0F0-ED3CEB3F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61778-756E-4EE8-BF2D-11DA573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2FF-0748-4593-A94F-DA4E38B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D741-914C-4697-97DA-EB8B3D5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8E17-ED2A-43B8-9D36-B11F2EF5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2A8B1-D55F-4826-B4D2-C79AA8C5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10700-E057-4469-AEBF-639379CD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803F9-C6A2-4F0D-A15B-EE194434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0A99-FDB4-4ECA-BD20-5FDAE130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1A5B-6FEA-4E83-8D2E-3D1885B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4F2BB-DADA-4F9A-A608-A0DC424C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2C4BF-EEB2-4D2F-8C97-CF52B3B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64DF-B9CE-4203-988F-834D251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82B-E58E-454A-ADFD-3EE25D09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79E1-10F0-48FB-9230-9D029380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CC29-2EBC-4530-AFB1-3669E90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432E-5238-4EC4-8DF4-2C77563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C2017-2911-4EB0-9719-25DD00F7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832E-25F1-4C9B-B4DA-92C14935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8BBB-3F08-4D4C-84EA-285E1919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02858-B442-4905-BDD2-4DD3FAB7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34ADC-EEDF-4434-A0C9-11F0352B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CF28C-1C2A-4520-969D-EAE044E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A01DB-0451-4550-89D2-10631C2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6277-4EB9-4E92-A28C-310EE3D9AA0A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1E6-8203-42C6-A621-B74764910EF7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A568-D101-4F5E-8CB4-361FFFB81FBD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BA3-8903-4BB2-9627-049B67156DDE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9B1-4EBB-4FE5-B962-72A9DF5732D8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938A-07F7-43A0-9FB3-9240C276789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3DD8-D523-4C1E-8EA1-40B4EFC00478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DEB9-D38B-44EA-8604-711ABFB6C1D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F76E-B85A-4752-B6AE-3BB28694A024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B964-2A37-4312-BE1C-321F65EE42CB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20B-656C-4EB3-AF4D-B60D66D30E5B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0758-8168-4641-9BD7-5C7C633C1E2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4F9-C4AB-4A1F-B9F0-7AB98CA2DCB3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9FB2-2CCE-441E-B51C-B6DF1D1F15F1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280F-C96D-49A8-B98B-FA427EC9AD15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DFE3-F3A2-4848-AB03-E08612C704C2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CB23-FA35-4BDD-B33D-7E7166C9349B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BE5A-5896-4D30-A16E-CF5200DF47D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D45-79A4-406E-8473-049438470520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7DED-8D61-4460-983B-D13601898999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9138-C17E-4817-B016-78B6AE013B74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6745-D72D-43E8-8F79-CC71D9EF078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6CF2-FEFF-4D20-B096-D646E8944FBF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8A25-7FE7-4BFE-A6C7-B49E20ED9AE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229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0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1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2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3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4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5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6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37" name="WordArt 13"/>
          <p:cNvSpPr txBox="1"/>
          <p:nvPr/>
        </p:nvSpPr>
        <p:spPr>
          <a:xfrm>
            <a:off x="739800" y="1857240"/>
            <a:ext cx="777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мма углов 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4" name="Прямоугольный треугольник 3"/>
          <p:cNvSpPr/>
          <p:nvPr/>
        </p:nvSpPr>
        <p:spPr>
          <a:xfrm>
            <a:off x="2484360" y="1052640"/>
            <a:ext cx="4248360" cy="49687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2484360" y="1773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0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cxnSp>
        <p:nvCxnSpPr>
          <p:cNvPr id="1366" name="Соединительная линия уступом 16"/>
          <p:cNvCxnSpPr/>
          <p:nvPr/>
        </p:nvCxnSpPr>
        <p:spPr>
          <a:xfrm flipV="1" rot="16200000">
            <a:off x="2374920" y="5553000"/>
            <a:ext cx="577080" cy="35964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</a:ln>
        </p:spPr>
      </p:cxnSp>
      <p:sp>
        <p:nvSpPr>
          <p:cNvPr id="1367" name="TextBox 20"/>
          <p:cNvSpPr/>
          <p:nvPr/>
        </p:nvSpPr>
        <p:spPr>
          <a:xfrm>
            <a:off x="2646360" y="5284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6732720" y="556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2052720" y="5649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Равнобедренный треугольник 3"/>
          <p:cNvSpPr/>
          <p:nvPr/>
        </p:nvSpPr>
        <p:spPr>
          <a:xfrm>
            <a:off x="1547640" y="1628640"/>
            <a:ext cx="4896000" cy="396108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2556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9" name="TextBox 4"/>
          <p:cNvSpPr/>
          <p:nvPr/>
        </p:nvSpPr>
        <p:spPr>
          <a:xfrm>
            <a:off x="900000" y="54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0" name="TextBox 5"/>
          <p:cNvSpPr/>
          <p:nvPr/>
        </p:nvSpPr>
        <p:spPr>
          <a:xfrm>
            <a:off x="414036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04560" y="836280"/>
            <a:ext cx="873108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2" name="TextBox 10"/>
          <p:cNvSpPr/>
          <p:nvPr/>
        </p:nvSpPr>
        <p:spPr>
          <a:xfrm>
            <a:off x="6516720" y="50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2"/>
          <p:cNvGrpSpPr/>
          <p:nvPr/>
        </p:nvGrpSpPr>
        <p:grpSpPr>
          <a:xfrm>
            <a:off x="1692360" y="2935440"/>
            <a:ext cx="1436760" cy="1492200"/>
            <a:chOff x="1692360" y="2935440"/>
            <a:chExt cx="1436760" cy="1492200"/>
          </a:xfrm>
        </p:grpSpPr>
        <p:sp>
          <p:nvSpPr>
            <p:cNvPr id="1244" name="Freeform 3"/>
            <p:cNvSpPr/>
            <p:nvPr/>
          </p:nvSpPr>
          <p:spPr>
            <a:xfrm>
              <a:off x="2268360" y="2935440"/>
              <a:ext cx="860760" cy="493560"/>
            </a:xfrm>
            <a:custGeom>
              <a:avLst/>
              <a:gdLst/>
              <a:ahLst/>
              <a:rect l="l" t="t" r="r" b="b"/>
              <a:pathLst>
                <a:path w="542" h="311">
                  <a:moveTo>
                    <a:pt x="0" y="42"/>
                  </a:moveTo>
                  <a:lnTo>
                    <a:pt x="542" y="0"/>
                  </a:lnTo>
                  <a:lnTo>
                    <a:pt x="322" y="311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5" name="Freeform 4"/>
            <p:cNvSpPr/>
            <p:nvPr/>
          </p:nvSpPr>
          <p:spPr>
            <a:xfrm>
              <a:off x="1692360" y="3970440"/>
              <a:ext cx="774720" cy="457200"/>
            </a:xfrm>
            <a:custGeom>
              <a:avLst/>
              <a:gdLst/>
              <a:ahLst/>
              <a:rect l="l" t="t" r="r" b="b"/>
              <a:pathLst>
                <a:path w="488" h="288">
                  <a:moveTo>
                    <a:pt x="0" y="19"/>
                  </a:moveTo>
                  <a:lnTo>
                    <a:pt x="488" y="0"/>
                  </a:lnTo>
                  <a:lnTo>
                    <a:pt x="322" y="288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46" name="Group 5"/>
          <p:cNvGrpSpPr/>
          <p:nvPr/>
        </p:nvGrpSpPr>
        <p:grpSpPr>
          <a:xfrm>
            <a:off x="2141640" y="2814480"/>
            <a:ext cx="1805040" cy="1733760"/>
            <a:chOff x="2141640" y="2814480"/>
            <a:chExt cx="1805040" cy="1733760"/>
          </a:xfrm>
        </p:grpSpPr>
        <p:sp>
          <p:nvSpPr>
            <p:cNvPr id="1247" name="Freeform 6"/>
            <p:cNvSpPr/>
            <p:nvPr/>
          </p:nvSpPr>
          <p:spPr>
            <a:xfrm>
              <a:off x="2141640" y="3828960"/>
              <a:ext cx="1220760" cy="719280"/>
            </a:xfrm>
            <a:custGeom>
              <a:avLst/>
              <a:gdLst/>
              <a:ahLst/>
              <a:rect l="l" t="t" r="r" b="b"/>
              <a:pathLst>
                <a:path w="769" h="453">
                  <a:moveTo>
                    <a:pt x="585" y="372"/>
                  </a:moveTo>
                  <a:lnTo>
                    <a:pt x="769" y="0"/>
                  </a:lnTo>
                  <a:lnTo>
                    <a:pt x="289" y="73"/>
                  </a:lnTo>
                  <a:lnTo>
                    <a:pt x="239" y="75"/>
                  </a:lnTo>
                  <a:lnTo>
                    <a:pt x="0" y="453"/>
                  </a:lnTo>
                  <a:lnTo>
                    <a:pt x="585" y="372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8" name="Freeform 7"/>
            <p:cNvSpPr/>
            <p:nvPr/>
          </p:nvSpPr>
          <p:spPr>
            <a:xfrm>
              <a:off x="2787480" y="2814480"/>
              <a:ext cx="1159200" cy="633600"/>
            </a:xfrm>
            <a:custGeom>
              <a:avLst/>
              <a:gdLst/>
              <a:ahLst/>
              <a:rect l="l" t="t" r="r" b="b"/>
              <a:pathLst>
                <a:path w="730" h="399">
                  <a:moveTo>
                    <a:pt x="541" y="331"/>
                  </a:moveTo>
                  <a:lnTo>
                    <a:pt x="730" y="0"/>
                  </a:lnTo>
                  <a:lnTo>
                    <a:pt x="245" y="46"/>
                  </a:lnTo>
                  <a:lnTo>
                    <a:pt x="230" y="54"/>
                  </a:lnTo>
                  <a:lnTo>
                    <a:pt x="0" y="399"/>
                  </a:lnTo>
                  <a:lnTo>
                    <a:pt x="541" y="331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49" name="Group 8"/>
          <p:cNvGrpSpPr/>
          <p:nvPr/>
        </p:nvGrpSpPr>
        <p:grpSpPr>
          <a:xfrm>
            <a:off x="1617840" y="2343600"/>
            <a:ext cx="1838880" cy="1645920"/>
            <a:chOff x="1617840" y="2343600"/>
            <a:chExt cx="1838880" cy="1645920"/>
          </a:xfrm>
        </p:grpSpPr>
        <p:sp>
          <p:nvSpPr>
            <p:cNvPr id="1250" name="Freeform 9"/>
            <p:cNvSpPr/>
            <p:nvPr/>
          </p:nvSpPr>
          <p:spPr>
            <a:xfrm>
              <a:off x="1617840" y="3363840"/>
              <a:ext cx="1190520" cy="625680"/>
            </a:xfrm>
            <a:custGeom>
              <a:avLst/>
              <a:gdLst/>
              <a:ahLst/>
              <a:rect l="l" t="t" r="r" b="b"/>
              <a:pathLst>
                <a:path w="750" h="394">
                  <a:moveTo>
                    <a:pt x="207" y="34"/>
                  </a:moveTo>
                  <a:lnTo>
                    <a:pt x="0" y="394"/>
                  </a:lnTo>
                  <a:lnTo>
                    <a:pt x="489" y="374"/>
                  </a:lnTo>
                  <a:lnTo>
                    <a:pt x="550" y="374"/>
                  </a:lnTo>
                  <a:lnTo>
                    <a:pt x="750" y="0"/>
                  </a:lnTo>
                  <a:lnTo>
                    <a:pt x="207" y="34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 rot="10830000">
              <a:off x="2267640" y="2348640"/>
              <a:ext cx="1186200" cy="636840"/>
            </a:xfrm>
            <a:custGeom>
              <a:avLst/>
              <a:gdLst/>
              <a:ahLst/>
              <a:rect l="l" t="t" r="r" b="b"/>
              <a:pathLst>
                <a:path w="667" h="394">
                  <a:moveTo>
                    <a:pt x="485" y="356"/>
                  </a:moveTo>
                  <a:lnTo>
                    <a:pt x="667" y="0"/>
                  </a:lnTo>
                  <a:lnTo>
                    <a:pt x="235" y="46"/>
                  </a:lnTo>
                  <a:lnTo>
                    <a:pt x="190" y="46"/>
                  </a:lnTo>
                  <a:lnTo>
                    <a:pt x="0" y="394"/>
                  </a:lnTo>
                  <a:lnTo>
                    <a:pt x="485" y="356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52" name="Group 11"/>
          <p:cNvGrpSpPr/>
          <p:nvPr/>
        </p:nvGrpSpPr>
        <p:grpSpPr>
          <a:xfrm>
            <a:off x="2514600" y="2178000"/>
            <a:ext cx="1371600" cy="1779480"/>
            <a:chOff x="2514600" y="2178000"/>
            <a:chExt cx="1371600" cy="1779480"/>
          </a:xfrm>
        </p:grpSpPr>
        <p:sp>
          <p:nvSpPr>
            <p:cNvPr id="1253" name="Freeform 12"/>
            <p:cNvSpPr/>
            <p:nvPr/>
          </p:nvSpPr>
          <p:spPr>
            <a:xfrm>
              <a:off x="3152880" y="2178000"/>
              <a:ext cx="733320" cy="733320"/>
            </a:xfrm>
            <a:custGeom>
              <a:avLst/>
              <a:gdLst/>
              <a:ahLst/>
              <a:rect l="l" t="t" r="r" b="b"/>
              <a:pathLst>
                <a:path w="462" h="462">
                  <a:moveTo>
                    <a:pt x="462" y="401"/>
                  </a:moveTo>
                  <a:lnTo>
                    <a:pt x="0" y="462"/>
                  </a:lnTo>
                  <a:lnTo>
                    <a:pt x="280" y="0"/>
                  </a:lnTo>
                  <a:lnTo>
                    <a:pt x="462" y="401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514600" y="3405240"/>
              <a:ext cx="701640" cy="552240"/>
            </a:xfrm>
            <a:custGeom>
              <a:avLst/>
              <a:gdLst/>
              <a:ahLst/>
              <a:rect l="l" t="t" r="r" b="b"/>
              <a:pathLst>
                <a:path w="442" h="348">
                  <a:moveTo>
                    <a:pt x="442" y="317"/>
                  </a:moveTo>
                  <a:lnTo>
                    <a:pt x="0" y="348"/>
                  </a:lnTo>
                  <a:lnTo>
                    <a:pt x="212" y="0"/>
                  </a:lnTo>
                  <a:lnTo>
                    <a:pt x="442" y="31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255" name="Text Box 14"/>
          <p:cNvSpPr/>
          <p:nvPr/>
        </p:nvSpPr>
        <p:spPr>
          <a:xfrm>
            <a:off x="3059280" y="285264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6" name="Line 16"/>
          <p:cNvSpPr/>
          <p:nvPr/>
        </p:nvSpPr>
        <p:spPr>
          <a:xfrm flipV="1">
            <a:off x="1042920" y="2724120"/>
            <a:ext cx="3800520" cy="41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7" name="Line 17"/>
          <p:cNvSpPr/>
          <p:nvPr/>
        </p:nvSpPr>
        <p:spPr>
          <a:xfrm>
            <a:off x="1116000" y="3957480"/>
            <a:ext cx="35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8" name="Line 18"/>
          <p:cNvSpPr/>
          <p:nvPr/>
        </p:nvSpPr>
        <p:spPr>
          <a:xfrm flipH="1">
            <a:off x="2045880" y="1857240"/>
            <a:ext cx="1731960" cy="284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9" name="Text Box 19"/>
          <p:cNvSpPr/>
          <p:nvPr/>
        </p:nvSpPr>
        <p:spPr>
          <a:xfrm>
            <a:off x="4486320" y="2444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0" name="Text Box 20"/>
          <p:cNvSpPr/>
          <p:nvPr/>
        </p:nvSpPr>
        <p:spPr>
          <a:xfrm>
            <a:off x="4327560" y="3668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1" name="Text Box 21"/>
          <p:cNvSpPr/>
          <p:nvPr/>
        </p:nvSpPr>
        <p:spPr>
          <a:xfrm>
            <a:off x="3526560" y="157968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2" name="Text Box 22"/>
          <p:cNvSpPr/>
          <p:nvPr/>
        </p:nvSpPr>
        <p:spPr>
          <a:xfrm>
            <a:off x="285192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3" name="Text Box 23"/>
          <p:cNvSpPr/>
          <p:nvPr/>
        </p:nvSpPr>
        <p:spPr>
          <a:xfrm>
            <a:off x="3212280" y="2587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4" name="Text Box 24"/>
          <p:cNvSpPr/>
          <p:nvPr/>
        </p:nvSpPr>
        <p:spPr>
          <a:xfrm>
            <a:off x="2709000" y="2924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5" name="Text Box 25"/>
          <p:cNvSpPr/>
          <p:nvPr/>
        </p:nvSpPr>
        <p:spPr>
          <a:xfrm>
            <a:off x="227736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6" name="Text Box 26"/>
          <p:cNvSpPr/>
          <p:nvPr/>
        </p:nvSpPr>
        <p:spPr>
          <a:xfrm>
            <a:off x="2564640" y="3645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7" name="Text Box 27"/>
          <p:cNvSpPr/>
          <p:nvPr/>
        </p:nvSpPr>
        <p:spPr>
          <a:xfrm>
            <a:off x="249300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8" name="Text Box 28"/>
          <p:cNvSpPr/>
          <p:nvPr/>
        </p:nvSpPr>
        <p:spPr>
          <a:xfrm>
            <a:off x="2132640" y="39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457200" y="476280"/>
            <a:ext cx="8362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ahoma"/>
              </a:rPr>
              <a:t>Какие треугольники называются равнобедренными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ahoma"/>
              </a:rPr>
              <a:t>Какие треугольники называются равносторонними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58c"/>
                </a:solidFill>
                <a:latin typeface="Tahoma"/>
              </a:rPr>
              <a:t>Какие треугольники называются разносторонними?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304920" y="981000"/>
            <a:ext cx="86868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ahoma"/>
              </a:rPr>
              <a:t>Что называют аксиомой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ahoma"/>
              </a:rPr>
              <a:t>Сформулируйте аксиому параллельных.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58c"/>
                </a:solidFill>
                <a:latin typeface="Tahoma"/>
              </a:rPr>
              <a:t>Что называют теоремой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110"/>
          <p:cNvGrpSpPr/>
          <p:nvPr/>
        </p:nvGrpSpPr>
        <p:grpSpPr>
          <a:xfrm>
            <a:off x="252360" y="5141880"/>
            <a:ext cx="7488000" cy="520560"/>
            <a:chOff x="252360" y="5141880"/>
            <a:chExt cx="7488000" cy="520560"/>
          </a:xfrm>
        </p:grpSpPr>
        <p:sp>
          <p:nvSpPr>
            <p:cNvPr id="1272" name="Rectangle 99"/>
            <p:cNvSpPr/>
            <p:nvPr/>
          </p:nvSpPr>
          <p:spPr>
            <a:xfrm>
              <a:off x="252360" y="5141880"/>
              <a:ext cx="74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Из чертежа видим, что   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4 +   2 +   5  = 180</a:t>
              </a:r>
              <a:r>
                <a:rPr b="1" lang="ru-RU" sz="2800" spc="-1" strike="noStrike" baseline="30000">
                  <a:solidFill>
                    <a:srgbClr val="000066"/>
                  </a:solidFill>
                  <a:latin typeface="Times New Roman"/>
                </a:rPr>
                <a:t>0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3" name="Object 104"/>
                <p:cNvSpPr txBox="1"/>
                <p:nvPr/>
              </p:nvSpPr>
              <p:spPr>
                <a:xfrm>
                  <a:off x="4057560" y="52149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4" name="Object 105"/>
                <p:cNvSpPr txBox="1"/>
                <p:nvPr/>
              </p:nvSpPr>
              <p:spPr>
                <a:xfrm>
                  <a:off x="477828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5" name="Object 106"/>
                <p:cNvSpPr txBox="1"/>
                <p:nvPr/>
              </p:nvSpPr>
              <p:spPr>
                <a:xfrm>
                  <a:off x="551016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6" name="Group 2"/>
          <p:cNvGrpSpPr/>
          <p:nvPr/>
        </p:nvGrpSpPr>
        <p:grpSpPr>
          <a:xfrm>
            <a:off x="2808000" y="1646280"/>
            <a:ext cx="395280" cy="561240"/>
            <a:chOff x="2808000" y="1646280"/>
            <a:chExt cx="395280" cy="561240"/>
          </a:xfrm>
        </p:grpSpPr>
        <p:grpSp>
          <p:nvGrpSpPr>
            <p:cNvPr id="1277" name="Group 3"/>
            <p:cNvGrpSpPr/>
            <p:nvPr/>
          </p:nvGrpSpPr>
          <p:grpSpPr>
            <a:xfrm>
              <a:off x="2815920" y="1646280"/>
              <a:ext cx="387360" cy="182160"/>
              <a:chOff x="2815920" y="1646280"/>
              <a:chExt cx="387360" cy="182160"/>
            </a:xfrm>
          </p:grpSpPr>
          <p:sp>
            <p:nvSpPr>
              <p:cNvPr id="1278" name="Freeform 4"/>
              <p:cNvSpPr/>
              <p:nvPr/>
            </p:nvSpPr>
            <p:spPr>
              <a:xfrm>
                <a:off x="2815920" y="1753920"/>
                <a:ext cx="387360" cy="74520"/>
              </a:xfrm>
              <a:custGeom>
                <a:avLst/>
                <a:gdLst/>
                <a:ahLst/>
                <a:rect l="l" t="t" r="r" b="b"/>
                <a:pathLst>
                  <a:path w="244" h="47">
                    <a:moveTo>
                      <a:pt x="244" y="20"/>
                    </a:moveTo>
                    <a:cubicBezTo>
                      <a:pt x="223" y="24"/>
                      <a:pt x="157" y="47"/>
                      <a:pt x="116" y="44"/>
                    </a:cubicBezTo>
                    <a:cubicBezTo>
                      <a:pt x="75" y="41"/>
                      <a:pt x="24" y="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79" name="Freeform 5"/>
              <p:cNvSpPr/>
              <p:nvPr/>
            </p:nvSpPr>
            <p:spPr>
              <a:xfrm>
                <a:off x="2866680" y="1703160"/>
                <a:ext cx="330120" cy="53640"/>
              </a:xfrm>
              <a:custGeom>
                <a:avLst/>
                <a:gdLst/>
                <a:ahLst/>
                <a:rect l="l" t="t" r="r" b="b"/>
                <a:pathLst>
                  <a:path w="208" h="34">
                    <a:moveTo>
                      <a:pt x="208" y="12"/>
                    </a:moveTo>
                    <a:cubicBezTo>
                      <a:pt x="192" y="15"/>
                      <a:pt x="139" y="34"/>
                      <a:pt x="104" y="32"/>
                    </a:cubicBezTo>
                    <a:cubicBezTo>
                      <a:pt x="69" y="30"/>
                      <a:pt x="22" y="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0" name="Freeform 6"/>
              <p:cNvSpPr/>
              <p:nvPr/>
            </p:nvSpPr>
            <p:spPr>
              <a:xfrm>
                <a:off x="2917440" y="1646280"/>
                <a:ext cx="241200" cy="47520"/>
              </a:xfrm>
              <a:custGeom>
                <a:avLst/>
                <a:gdLst/>
                <a:ahLst/>
                <a:rect l="l" t="t" r="r" b="b"/>
                <a:pathLst>
                  <a:path w="152" h="30">
                    <a:moveTo>
                      <a:pt x="152" y="12"/>
                    </a:moveTo>
                    <a:cubicBezTo>
                      <a:pt x="138" y="15"/>
                      <a:pt x="93" y="30"/>
                      <a:pt x="68" y="28"/>
                    </a:cubicBezTo>
                    <a:cubicBezTo>
                      <a:pt x="43" y="26"/>
                      <a:pt x="14" y="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81" name="Text Box 7"/>
            <p:cNvSpPr/>
            <p:nvPr/>
          </p:nvSpPr>
          <p:spPr>
            <a:xfrm>
              <a:off x="2808000" y="174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82" name="Group 8"/>
          <p:cNvGrpSpPr/>
          <p:nvPr/>
        </p:nvGrpSpPr>
        <p:grpSpPr>
          <a:xfrm>
            <a:off x="3060720" y="1473480"/>
            <a:ext cx="952560" cy="2109240"/>
            <a:chOff x="3060720" y="1473480"/>
            <a:chExt cx="952560" cy="2109240"/>
          </a:xfrm>
        </p:grpSpPr>
        <p:grpSp>
          <p:nvGrpSpPr>
            <p:cNvPr id="1283" name="Group 9"/>
            <p:cNvGrpSpPr/>
            <p:nvPr/>
          </p:nvGrpSpPr>
          <p:grpSpPr>
            <a:xfrm>
              <a:off x="3060720" y="1473480"/>
              <a:ext cx="952560" cy="2109240"/>
              <a:chOff x="3060720" y="1473480"/>
              <a:chExt cx="952560" cy="2109240"/>
            </a:xfrm>
          </p:grpSpPr>
          <p:sp>
            <p:nvSpPr>
              <p:cNvPr id="1284" name="Freeform 10"/>
              <p:cNvSpPr/>
              <p:nvPr/>
            </p:nvSpPr>
            <p:spPr>
              <a:xfrm rot="10800000">
                <a:off x="3132000" y="2781360"/>
                <a:ext cx="881280" cy="79200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5" name="Freeform 11"/>
              <p:cNvSpPr/>
              <p:nvPr/>
            </p:nvSpPr>
            <p:spPr>
              <a:xfrm>
                <a:off x="3060720" y="1484280"/>
                <a:ext cx="880920" cy="79236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286" name="Group 12"/>
              <p:cNvGrpSpPr/>
              <p:nvPr/>
            </p:nvGrpSpPr>
            <p:grpSpPr>
              <a:xfrm>
                <a:off x="3534480" y="3201840"/>
                <a:ext cx="419040" cy="380880"/>
                <a:chOff x="3534480" y="3201840"/>
                <a:chExt cx="419040" cy="380880"/>
              </a:xfrm>
            </p:grpSpPr>
            <p:sp>
              <p:nvSpPr>
                <p:cNvPr id="1287" name="Freeform 13"/>
                <p:cNvSpPr/>
                <p:nvPr/>
              </p:nvSpPr>
              <p:spPr>
                <a:xfrm rot="14145000">
                  <a:off x="3636000" y="321192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8" name="Freeform 14"/>
                <p:cNvSpPr/>
                <p:nvPr/>
              </p:nvSpPr>
              <p:spPr>
                <a:xfrm>
                  <a:off x="3713400" y="327168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15"/>
              <p:cNvGrpSpPr/>
              <p:nvPr/>
            </p:nvGrpSpPr>
            <p:grpSpPr>
              <a:xfrm>
                <a:off x="3099240" y="1473480"/>
                <a:ext cx="419760" cy="369360"/>
                <a:chOff x="3099240" y="1473480"/>
                <a:chExt cx="419760" cy="369360"/>
              </a:xfrm>
            </p:grpSpPr>
            <p:sp>
              <p:nvSpPr>
                <p:cNvPr id="1290" name="Freeform 16"/>
                <p:cNvSpPr/>
                <p:nvPr/>
              </p:nvSpPr>
              <p:spPr>
                <a:xfrm rot="3676200">
                  <a:off x="3201120" y="148140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1" name="Freeform 17"/>
                <p:cNvSpPr/>
                <p:nvPr/>
              </p:nvSpPr>
              <p:spPr>
                <a:xfrm rot="11131200">
                  <a:off x="3196800" y="147960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292" name="Text Box 18"/>
            <p:cNvSpPr/>
            <p:nvPr/>
          </p:nvSpPr>
          <p:spPr>
            <a:xfrm>
              <a:off x="3445200" y="304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3" name="Text Box 19"/>
            <p:cNvSpPr/>
            <p:nvPr/>
          </p:nvSpPr>
          <p:spPr>
            <a:xfrm>
              <a:off x="3300480" y="15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294" name="Group 20"/>
          <p:cNvGrpSpPr/>
          <p:nvPr/>
        </p:nvGrpSpPr>
        <p:grpSpPr>
          <a:xfrm>
            <a:off x="1274760" y="1483920"/>
            <a:ext cx="1758960" cy="2105280"/>
            <a:chOff x="1274760" y="1483920"/>
            <a:chExt cx="1758960" cy="2105280"/>
          </a:xfrm>
        </p:grpSpPr>
        <p:grpSp>
          <p:nvGrpSpPr>
            <p:cNvPr id="1295" name="Group 21"/>
            <p:cNvGrpSpPr/>
            <p:nvPr/>
          </p:nvGrpSpPr>
          <p:grpSpPr>
            <a:xfrm>
              <a:off x="1274760" y="1483920"/>
              <a:ext cx="1758960" cy="2105280"/>
              <a:chOff x="1274760" y="1483920"/>
              <a:chExt cx="1758960" cy="2105280"/>
            </a:xfrm>
          </p:grpSpPr>
          <p:sp>
            <p:nvSpPr>
              <p:cNvPr id="1296" name="Freeform 22"/>
              <p:cNvSpPr/>
              <p:nvPr/>
            </p:nvSpPr>
            <p:spPr>
              <a:xfrm>
                <a:off x="1274760" y="2973240"/>
                <a:ext cx="1031760" cy="615960"/>
              </a:xfrm>
              <a:custGeom>
                <a:avLst/>
                <a:gdLst/>
                <a:ahLst/>
                <a:rect l="l" t="t" r="r" b="b"/>
                <a:pathLst>
                  <a:path w="650" h="388">
                    <a:moveTo>
                      <a:pt x="0" y="376"/>
                    </a:moveTo>
                    <a:lnTo>
                      <a:pt x="304" y="0"/>
                    </a:lnTo>
                    <a:lnTo>
                      <a:pt x="571" y="81"/>
                    </a:lnTo>
                    <a:lnTo>
                      <a:pt x="650" y="271"/>
                    </a:lnTo>
                    <a:lnTo>
                      <a:pt x="556" y="388"/>
                    </a:lnTo>
                    <a:lnTo>
                      <a:pt x="0" y="37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7" name="Freeform 23"/>
              <p:cNvSpPr/>
              <p:nvPr/>
            </p:nvSpPr>
            <p:spPr>
              <a:xfrm>
                <a:off x="1986120" y="1494000"/>
                <a:ext cx="1047600" cy="634680"/>
              </a:xfrm>
              <a:custGeom>
                <a:avLst/>
                <a:gdLst/>
                <a:ahLst/>
                <a:rect l="l" t="t" r="r" b="b"/>
                <a:pathLst>
                  <a:path w="660" h="400">
                    <a:moveTo>
                      <a:pt x="660" y="4"/>
                    </a:moveTo>
                    <a:lnTo>
                      <a:pt x="324" y="400"/>
                    </a:lnTo>
                    <a:lnTo>
                      <a:pt x="79" y="334"/>
                    </a:lnTo>
                    <a:lnTo>
                      <a:pt x="0" y="144"/>
                    </a:lnTo>
                    <a:lnTo>
                      <a:pt x="96" y="0"/>
                    </a:lnTo>
                    <a:lnTo>
                      <a:pt x="660" y="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8" name="Freeform 24"/>
              <p:cNvSpPr/>
              <p:nvPr/>
            </p:nvSpPr>
            <p:spPr>
              <a:xfrm>
                <a:off x="1547640" y="3213000"/>
                <a:ext cx="21600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99" name="Freeform 25"/>
              <p:cNvSpPr/>
              <p:nvPr/>
            </p:nvSpPr>
            <p:spPr>
              <a:xfrm rot="10800000">
                <a:off x="2555640" y="1483920"/>
                <a:ext cx="21564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300" name="Text Box 26"/>
            <p:cNvSpPr/>
            <p:nvPr/>
          </p:nvSpPr>
          <p:spPr>
            <a:xfrm>
              <a:off x="164484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1" name="Text Box 27"/>
            <p:cNvSpPr/>
            <p:nvPr/>
          </p:nvSpPr>
          <p:spPr>
            <a:xfrm>
              <a:off x="234180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02" name="Rectangle 28"/>
          <p:cNvSpPr/>
          <p:nvPr/>
        </p:nvSpPr>
        <p:spPr>
          <a:xfrm>
            <a:off x="395280" y="260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а углов треугольника равна 180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3" name="Freeform 29"/>
          <p:cNvSpPr/>
          <p:nvPr/>
        </p:nvSpPr>
        <p:spPr>
          <a:xfrm>
            <a:off x="1260360" y="1484280"/>
            <a:ext cx="2737080" cy="2089080"/>
          </a:xfrm>
          <a:custGeom>
            <a:avLst/>
            <a:gdLst/>
            <a:ahLst/>
            <a:rect l="l" t="t" r="r" b="b"/>
            <a:pathLst>
              <a:path w="1724" h="1316">
                <a:moveTo>
                  <a:pt x="0" y="1316"/>
                </a:moveTo>
                <a:lnTo>
                  <a:pt x="1134" y="0"/>
                </a:lnTo>
                <a:lnTo>
                  <a:pt x="1724" y="1316"/>
                </a:lnTo>
                <a:lnTo>
                  <a:pt x="0" y="1316"/>
                </a:ln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4" name="Freeform 30"/>
          <p:cNvSpPr/>
          <p:nvPr/>
        </p:nvSpPr>
        <p:spPr>
          <a:xfrm>
            <a:off x="1054080" y="1498680"/>
            <a:ext cx="3733920" cy="1440"/>
          </a:xfrm>
          <a:custGeom>
            <a:avLst/>
            <a:gdLst/>
            <a:ahLst/>
            <a:rect l="l" t="t" r="r" b="b"/>
            <a:pathLst>
              <a:path w="2352" h="1">
                <a:moveTo>
                  <a:pt x="0" y="0"/>
                </a:moveTo>
                <a:lnTo>
                  <a:pt x="2352" y="0"/>
                </a:ln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5" name="Text Box 31"/>
          <p:cNvSpPr/>
          <p:nvPr/>
        </p:nvSpPr>
        <p:spPr>
          <a:xfrm>
            <a:off x="901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Text Box 32"/>
          <p:cNvSpPr/>
          <p:nvPr/>
        </p:nvSpPr>
        <p:spPr>
          <a:xfrm>
            <a:off x="277344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7" name="Text Box 33"/>
          <p:cNvSpPr/>
          <p:nvPr/>
        </p:nvSpPr>
        <p:spPr>
          <a:xfrm>
            <a:off x="392580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8" name="Text Box 34"/>
          <p:cNvSpPr/>
          <p:nvPr/>
        </p:nvSpPr>
        <p:spPr>
          <a:xfrm>
            <a:off x="4141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9" name="Group 35"/>
          <p:cNvGrpSpPr/>
          <p:nvPr/>
        </p:nvGrpSpPr>
        <p:grpSpPr>
          <a:xfrm>
            <a:off x="3099240" y="1473480"/>
            <a:ext cx="419760" cy="369360"/>
            <a:chOff x="3099240" y="1473480"/>
            <a:chExt cx="419760" cy="369360"/>
          </a:xfrm>
        </p:grpSpPr>
        <p:sp>
          <p:nvSpPr>
            <p:cNvPr id="1310" name="Freeform 36"/>
            <p:cNvSpPr/>
            <p:nvPr/>
          </p:nvSpPr>
          <p:spPr>
            <a:xfrm rot="3676200">
              <a:off x="3201120" y="1481400"/>
              <a:ext cx="215640" cy="360360"/>
            </a:xfrm>
            <a:custGeom>
              <a:avLst/>
              <a:gdLst/>
              <a:ahLst/>
              <a:rect l="l" t="t" r="r" b="b"/>
              <a:pathLst>
                <a:path w="136" h="227">
                  <a:moveTo>
                    <a:pt x="0" y="0"/>
                  </a:moveTo>
                  <a:cubicBezTo>
                    <a:pt x="34" y="26"/>
                    <a:pt x="68" y="52"/>
                    <a:pt x="91" y="90"/>
                  </a:cubicBezTo>
                  <a:cubicBezTo>
                    <a:pt x="114" y="128"/>
                    <a:pt x="125" y="177"/>
                    <a:pt x="136" y="22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1" name="Freeform 37"/>
            <p:cNvSpPr/>
            <p:nvPr/>
          </p:nvSpPr>
          <p:spPr>
            <a:xfrm rot="11131200">
              <a:off x="3196800" y="1479600"/>
              <a:ext cx="145800" cy="29844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0" y="188"/>
                  </a:moveTo>
                  <a:cubicBezTo>
                    <a:pt x="3" y="171"/>
                    <a:pt x="5" y="115"/>
                    <a:pt x="20" y="84"/>
                  </a:cubicBezTo>
                  <a:cubicBezTo>
                    <a:pt x="35" y="53"/>
                    <a:pt x="77" y="18"/>
                    <a:pt x="9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12" name="Rectangle 38"/>
          <p:cNvSpPr/>
          <p:nvPr/>
        </p:nvSpPr>
        <p:spPr>
          <a:xfrm>
            <a:off x="5148360" y="907920"/>
            <a:ext cx="3384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∆АВС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=180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c00000"/>
                </a:solidFill>
                <a:latin typeface="Times New Roman"/>
              </a:rPr>
              <a:t>Доказательство: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ДП</a:t>
            </a: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:  </a:t>
            </a:r>
            <a:r>
              <a:rPr b="1" i="1" lang="ru-RU" sz="2800" spc="-1" strike="noStrike">
                <a:solidFill>
                  <a:srgbClr val="3366cc"/>
                </a:solidFill>
                <a:latin typeface="Times New Roman"/>
              </a:rPr>
              <a:t>а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А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13" name="Group 41"/>
          <p:cNvGrpSpPr/>
          <p:nvPr/>
        </p:nvGrpSpPr>
        <p:grpSpPr>
          <a:xfrm>
            <a:off x="3455280" y="79560"/>
            <a:ext cx="1392840" cy="1404720"/>
            <a:chOff x="3455280" y="79560"/>
            <a:chExt cx="1392840" cy="1404720"/>
          </a:xfrm>
        </p:grpSpPr>
        <p:sp>
          <p:nvSpPr>
            <p:cNvPr id="1314" name="Freeform 42"/>
            <p:cNvSpPr/>
            <p:nvPr/>
          </p:nvSpPr>
          <p:spPr>
            <a:xfrm flipH="1" rot="195000">
              <a:off x="3491280" y="115920"/>
              <a:ext cx="1319400" cy="133200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5" name="Freeform 43"/>
            <p:cNvSpPr/>
            <p:nvPr/>
          </p:nvSpPr>
          <p:spPr>
            <a:xfrm flipH="1" rot="195000">
              <a:off x="4467960" y="1184400"/>
              <a:ext cx="306360" cy="28224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6" name="Freeform 44"/>
            <p:cNvSpPr/>
            <p:nvPr/>
          </p:nvSpPr>
          <p:spPr>
            <a:xfrm flipH="1" rot="195000">
              <a:off x="4636800" y="1348920"/>
              <a:ext cx="132840" cy="1188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40458c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7" name="Freeform 45"/>
            <p:cNvSpPr/>
            <p:nvPr/>
          </p:nvSpPr>
          <p:spPr>
            <a:xfrm flipH="1" rot="195000">
              <a:off x="3579120" y="140400"/>
              <a:ext cx="1021320" cy="104040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8" name="Freeform 46"/>
            <p:cNvSpPr/>
            <p:nvPr/>
          </p:nvSpPr>
          <p:spPr>
            <a:xfrm flipH="1" rot="195000">
              <a:off x="3538440" y="174600"/>
              <a:ext cx="1021320" cy="103572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19" name="Oval 48"/>
          <p:cNvSpPr/>
          <p:nvPr/>
        </p:nvSpPr>
        <p:spPr>
          <a:xfrm>
            <a:off x="2987640" y="1413000"/>
            <a:ext cx="1443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0" name="AutoShape 49"/>
          <p:cNvSpPr/>
          <p:nvPr/>
        </p:nvSpPr>
        <p:spPr>
          <a:xfrm rot="16200000">
            <a:off x="2591640" y="1087920"/>
            <a:ext cx="79236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74" y="708"/>
                  <a:pt x="3948" y="5080"/>
                  <a:pt x="3948" y="10800"/>
                </a:cubicBezTo>
                <a:cubicBezTo>
                  <a:pt x="3948" y="16520"/>
                  <a:pt x="12774" y="20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Object 54"/>
              <p:cNvSpPr txBox="1"/>
              <p:nvPr/>
            </p:nvSpPr>
            <p:spPr>
              <a:xfrm>
                <a:off x="521964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Object 55"/>
              <p:cNvSpPr txBox="1"/>
              <p:nvPr/>
            </p:nvSpPr>
            <p:spPr>
              <a:xfrm>
                <a:off x="594036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56"/>
              <p:cNvSpPr txBox="1"/>
              <p:nvPr/>
            </p:nvSpPr>
            <p:spPr>
              <a:xfrm>
                <a:off x="673272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4" name="Group 84"/>
          <p:cNvGrpSpPr/>
          <p:nvPr/>
        </p:nvGrpSpPr>
        <p:grpSpPr>
          <a:xfrm>
            <a:off x="179280" y="4005360"/>
            <a:ext cx="8964720" cy="520560"/>
            <a:chOff x="179280" y="4005360"/>
            <a:chExt cx="8964720" cy="520560"/>
          </a:xfrm>
        </p:grpSpPr>
        <p:sp>
          <p:nvSpPr>
            <p:cNvPr id="1325" name="Rectangle 39"/>
            <p:cNvSpPr/>
            <p:nvPr/>
          </p:nvSpPr>
          <p:spPr>
            <a:xfrm>
              <a:off x="179280" y="4005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=    4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바탕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АВ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6" name="Object 60"/>
                <p:cNvSpPr txBox="1"/>
                <p:nvPr/>
              </p:nvSpPr>
              <p:spPr>
                <a:xfrm>
                  <a:off x="179280" y="407664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7" name="Object 63"/>
                <p:cNvSpPr txBox="1"/>
                <p:nvPr/>
              </p:nvSpPr>
              <p:spPr>
                <a:xfrm>
                  <a:off x="1033560" y="407664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8" name="Group 111"/>
          <p:cNvGrpSpPr/>
          <p:nvPr/>
        </p:nvGrpSpPr>
        <p:grpSpPr>
          <a:xfrm>
            <a:off x="3564000" y="5950080"/>
            <a:ext cx="3600360" cy="520560"/>
            <a:chOff x="3564000" y="5950080"/>
            <a:chExt cx="3600360" cy="520560"/>
          </a:xfrm>
        </p:grpSpPr>
        <p:sp>
          <p:nvSpPr>
            <p:cNvPr id="1329" name="Rectangle 73"/>
            <p:cNvSpPr/>
            <p:nvPr/>
          </p:nvSpPr>
          <p:spPr>
            <a:xfrm>
              <a:off x="3635280" y="59500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А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В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С=180</a:t>
              </a:r>
              <a:r>
                <a:rPr b="1" lang="ru-RU" sz="2800" spc="-1" strike="noStrike" baseline="30000">
                  <a:solidFill>
                    <a:srgbClr val="cc0066"/>
                  </a:solidFill>
                  <a:latin typeface="Times New Roman"/>
                </a:rPr>
                <a:t>0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0" name="Object 78"/>
                <p:cNvSpPr txBox="1"/>
                <p:nvPr/>
              </p:nvSpPr>
              <p:spPr>
                <a:xfrm>
                  <a:off x="3564000" y="604368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1" name="Object 79"/>
                <p:cNvSpPr txBox="1"/>
                <p:nvPr/>
              </p:nvSpPr>
              <p:spPr>
                <a:xfrm>
                  <a:off x="4284720" y="60199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2" name="Object 80"/>
                <p:cNvSpPr txBox="1"/>
                <p:nvPr/>
              </p:nvSpPr>
              <p:spPr>
                <a:xfrm>
                  <a:off x="5076720" y="601992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3" name="Object 81"/>
              <p:cNvSpPr txBox="1"/>
              <p:nvPr/>
            </p:nvSpPr>
            <p:spPr>
              <a:xfrm>
                <a:off x="4800600" y="7316640"/>
                <a:ext cx="442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Object 82"/>
              <p:cNvSpPr txBox="1"/>
              <p:nvPr/>
            </p:nvSpPr>
            <p:spPr>
              <a:xfrm>
                <a:off x="5592600" y="7316640"/>
                <a:ext cx="443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Object 83"/>
              <p:cNvSpPr txBox="1"/>
              <p:nvPr/>
            </p:nvSpPr>
            <p:spPr>
              <a:xfrm>
                <a:off x="6384960" y="7267680"/>
                <a:ext cx="442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36" name="Group 97"/>
          <p:cNvGrpSpPr/>
          <p:nvPr/>
        </p:nvGrpSpPr>
        <p:grpSpPr>
          <a:xfrm>
            <a:off x="179280" y="4494240"/>
            <a:ext cx="6589800" cy="520560"/>
            <a:chOff x="179280" y="4494240"/>
            <a:chExt cx="6589800" cy="520560"/>
          </a:xfrm>
        </p:grpSpPr>
        <p:sp>
          <p:nvSpPr>
            <p:cNvPr id="1337" name="Rectangle 86"/>
            <p:cNvSpPr/>
            <p:nvPr/>
          </p:nvSpPr>
          <p:spPr>
            <a:xfrm>
              <a:off x="468360" y="4494240"/>
              <a:ext cx="63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3 =    5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В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8" name="Object 88"/>
                <p:cNvSpPr txBox="1"/>
                <p:nvPr/>
              </p:nvSpPr>
              <p:spPr>
                <a:xfrm>
                  <a:off x="179280" y="453240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9" name="Object 90"/>
                <p:cNvSpPr txBox="1"/>
                <p:nvPr/>
              </p:nvSpPr>
              <p:spPr>
                <a:xfrm>
                  <a:off x="1033560" y="45324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0" name="Text Box 47"/>
          <p:cNvSpPr/>
          <p:nvPr/>
        </p:nvSpPr>
        <p:spPr>
          <a:xfrm>
            <a:off x="466560" y="400536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1" name="Text Box 40"/>
          <p:cNvSpPr/>
          <p:nvPr/>
        </p:nvSpPr>
        <p:spPr>
          <a:xfrm>
            <a:off x="469800" y="449424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38715 -0.00232 E">
                                      <p:cBhvr>
                                        <p:cTn id="93" dur="2000" fill="hold"/>
                                        <p:tgtEl>
                                          <p:spTgt spid="1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35 0.16805 E">
                                      <p:cBhvr>
                                        <p:cTn id="155" dur="2000" fill="hold"/>
                                        <p:tgtEl>
                                          <p:spTgt spid="1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58646 0.10092 E">
                                      <p:cBhvr>
                                        <p:cTn id="163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Oval 2"/>
          <p:cNvGrpSpPr/>
          <p:nvPr/>
        </p:nvGrpSpPr>
        <p:grpSpPr>
          <a:xfrm>
            <a:off x="469800" y="2779560"/>
            <a:ext cx="1005120" cy="938520"/>
            <a:chOff x="469800" y="2779560"/>
            <a:chExt cx="1005120" cy="938520"/>
          </a:xfrm>
        </p:grpSpPr>
        <p:pic>
          <p:nvPicPr>
            <p:cNvPr id="1343" name="Oval 2" descr=""/>
            <p:cNvPicPr/>
            <p:nvPr/>
          </p:nvPicPr>
          <p:blipFill>
            <a:blip r:embed="rId1"/>
            <a:stretch/>
          </p:blipFill>
          <p:spPr>
            <a:xfrm>
              <a:off x="469800" y="2779560"/>
              <a:ext cx="10051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615960" y="2917800"/>
              <a:ext cx="712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advTm="1000"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181" dur="3000" fill="hold"/>
                                        <p:tgtEl>
                                          <p:spTgt spid="1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Равнобедренный треугольник 3"/>
          <p:cNvSpPr/>
          <p:nvPr/>
        </p:nvSpPr>
        <p:spPr>
          <a:xfrm>
            <a:off x="2268360" y="1197000"/>
            <a:ext cx="4319640" cy="489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6" name="TextBox 4"/>
          <p:cNvSpPr/>
          <p:nvPr/>
        </p:nvSpPr>
        <p:spPr>
          <a:xfrm>
            <a:off x="1547640" y="58626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468360" y="692280"/>
            <a:ext cx="85233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8" name="TextBox 6"/>
          <p:cNvSpPr/>
          <p:nvPr/>
        </p:nvSpPr>
        <p:spPr>
          <a:xfrm>
            <a:off x="4572000" y="7779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9" name="TextBox 7"/>
          <p:cNvSpPr/>
          <p:nvPr/>
        </p:nvSpPr>
        <p:spPr>
          <a:xfrm>
            <a:off x="6572160" y="557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0" name="Дуга 8"/>
          <p:cNvSpPr/>
          <p:nvPr/>
        </p:nvSpPr>
        <p:spPr>
          <a:xfrm>
            <a:off x="4211640" y="1700280"/>
            <a:ext cx="504720" cy="216000"/>
          </a:xfrm>
          <a:custGeom>
            <a:avLst/>
            <a:gdLst/>
            <a:ahLst/>
            <a:rect l="l" t="t" r="r" b="b"/>
            <a:pathLst>
              <a:path stroke="0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  <a:lnTo>
                  <a:pt x="252413" y="107950"/>
                </a:lnTo>
                <a:cubicBezTo>
                  <a:pt x="252413" y="71967"/>
                  <a:pt x="252412" y="35983"/>
                  <a:pt x="252412" y="0"/>
                </a:cubicBezTo>
                <a:close/>
              </a:path>
              <a:path fill="none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</a:path>
            </a:pathLst>
          </a:custGeom>
          <a:noFill/>
          <a:ln w="9360">
            <a:solidFill>
              <a:srgbClr val="e9d5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1" name="TextBox 11"/>
          <p:cNvSpPr/>
          <p:nvPr/>
        </p:nvSpPr>
        <p:spPr>
          <a:xfrm>
            <a:off x="4067280" y="22003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70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2" name="Прямая соединительная линия 13"/>
          <p:cNvSpPr/>
          <p:nvPr/>
        </p:nvSpPr>
        <p:spPr>
          <a:xfrm>
            <a:off x="3276720" y="3429000"/>
            <a:ext cx="287280" cy="2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3" name="Прямая соединительная линия 14"/>
          <p:cNvSpPr/>
          <p:nvPr/>
        </p:nvSpPr>
        <p:spPr>
          <a:xfrm flipV="1">
            <a:off x="5235480" y="3497040"/>
            <a:ext cx="287280" cy="236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Равнобедренный треугольник 3"/>
          <p:cNvSpPr/>
          <p:nvPr/>
        </p:nvSpPr>
        <p:spPr>
          <a:xfrm>
            <a:off x="2268360" y="1197000"/>
            <a:ext cx="4319640" cy="489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5" name="TextBox 4"/>
          <p:cNvSpPr/>
          <p:nvPr/>
        </p:nvSpPr>
        <p:spPr>
          <a:xfrm>
            <a:off x="1467000" y="58626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468360" y="692280"/>
            <a:ext cx="85233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7" name="TextBox 6"/>
          <p:cNvSpPr/>
          <p:nvPr/>
        </p:nvSpPr>
        <p:spPr>
          <a:xfrm>
            <a:off x="4572000" y="7779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8" name="TextBox 7"/>
          <p:cNvSpPr/>
          <p:nvPr/>
        </p:nvSpPr>
        <p:spPr>
          <a:xfrm>
            <a:off x="6572160" y="557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9" name="Дуга 8"/>
          <p:cNvSpPr/>
          <p:nvPr/>
        </p:nvSpPr>
        <p:spPr>
          <a:xfrm>
            <a:off x="4211640" y="1700280"/>
            <a:ext cx="504720" cy="216000"/>
          </a:xfrm>
          <a:custGeom>
            <a:avLst/>
            <a:gdLst/>
            <a:ahLst/>
            <a:rect l="l" t="t" r="r" b="b"/>
            <a:pathLst>
              <a:path stroke="0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  <a:lnTo>
                  <a:pt x="252413" y="107950"/>
                </a:lnTo>
                <a:cubicBezTo>
                  <a:pt x="252413" y="71967"/>
                  <a:pt x="252412" y="35983"/>
                  <a:pt x="252412" y="0"/>
                </a:cubicBezTo>
                <a:close/>
              </a:path>
              <a:path fill="none" w="504825" h="215900">
                <a:moveTo>
                  <a:pt x="252412" y="0"/>
                </a:moveTo>
                <a:cubicBezTo>
                  <a:pt x="391816" y="0"/>
                  <a:pt x="504825" y="48331"/>
                  <a:pt x="504825" y="107950"/>
                </a:cubicBezTo>
              </a:path>
            </a:pathLst>
          </a:custGeom>
          <a:noFill/>
          <a:ln w="9360">
            <a:solidFill>
              <a:srgbClr val="e9d5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0" name="TextBox 11"/>
          <p:cNvSpPr/>
          <p:nvPr/>
        </p:nvSpPr>
        <p:spPr>
          <a:xfrm>
            <a:off x="2690640" y="54100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0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1" name="Прямая соединительная линия 13"/>
          <p:cNvSpPr/>
          <p:nvPr/>
        </p:nvSpPr>
        <p:spPr>
          <a:xfrm>
            <a:off x="3276720" y="3429000"/>
            <a:ext cx="287280" cy="2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2" name="Прямая соединительная линия 14"/>
          <p:cNvSpPr/>
          <p:nvPr/>
        </p:nvSpPr>
        <p:spPr>
          <a:xfrm flipV="1">
            <a:off x="5235480" y="3497040"/>
            <a:ext cx="287280" cy="236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/>
  <dcterms:modified xsi:type="dcterms:W3CDTF">2022-02-07T15:46:47Z</dcterms:modified>
  <cp:revision>141</cp:revision>
  <dc:subject/>
  <dc:title>Презентация PowerPoint</dc:title>
</cp:coreProperties>
</file>