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FFD-7883-4E03-88F7-209C00DF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1AA-FEBA-403F-B632-25808BB6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146-9198-43E1-9765-30365C40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253-C2ED-4166-B2E9-C6E9BD6C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4BC-6C97-4EC9-99E8-38D3E742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353-D8E3-43B8-838B-9E732B29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914-6663-4EA1-86EC-4889F9AC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828-9CD5-4581-B6EA-D3D2803D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0FD-A717-4C06-A494-D11569B8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C6F-24EE-40D2-9CF6-9D82D027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91D-939D-4178-8889-404F03EF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88E-C7AD-4285-BF26-48399A15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321D-D76B-4581-9CC9-FE1A3C5F3C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text=&#1082;&#1072;&#1088;&#1090;&#1080;&#1085;&#1082;&#1080;%20&#1046;&#1080;&#1074;&#1086;&#1087;&#1080;&#1089;&#1080;&amp;img_url=https%3A%2F%2Famady-sp.ru%2Fupload%2Fusers%2F82%2F82309%2Fall%2F81%2F1449258815.1734.jpeg&amp;pos=10&amp;rpt=simage&amp;lr=213" TargetMode="External"/><Relationship Id="rId2" Type="http://schemas.openxmlformats.org/officeDocument/2006/relationships/hyperlink" Target="https://yandex.ru/images/search?p=1&amp;text=&#1082;&#1072;&#1088;&#1090;&#1080;&#1085;&#1082;&#1080;%20&#1046;&#1080;&#1074;&#1086;&#1087;&#1080;&#1089;&#1080;&amp;img_url=https%3A%2F%2Fimg3.goodfon.com%2Foriginal%2F6947x5017%2F4%2F1d%2Fvsevolod-ivanov-noch-nakanune.jpg&amp;pos=36&amp;rpt=simage&amp;lr=213" TargetMode="External"/><Relationship Id="rId3" Type="http://schemas.openxmlformats.org/officeDocument/2006/relationships/hyperlink" Target="https://yandex.ru/images/search?p=4&amp;text=&#1082;&#1072;&#1088;&#1090;&#1080;&#1085;&#1082;&#1080;%20&#1075;&#1088;&#1072;&#1092;&#1080;&#1082;&#1072;&amp;img_url=https%3A%2F%2Fotvet.imgsmail.ru%2Fdownload%2F2b2cea0b05f521e0c969cd1d3f06b941_i-9327.jpg&amp;pos=143&amp;rpt=simage&amp;lr=213" TargetMode="External"/><Relationship Id="rId4" Type="http://schemas.openxmlformats.org/officeDocument/2006/relationships/hyperlink" Target="https://yandex.ru/images/search?p=4&amp;text=&#1082;&#1072;&#1088;&#1090;&#1080;&#1085;&#1082;&#1080;%20&#1075;&#1088;&#1072;&#1092;&#1080;&#1082;&#1072;&amp;img_url=https%3A%2F%2Fcf.ppt-online.org%2Ffiles%2Fslide%2Fi%2FizVw2SnqQHaAZB1RD6NmgJl3OMLcE74U0YGkXt%2Fslide-9.jpg&amp;pos=133&amp;rpt=simage&amp;lr=213" TargetMode="External"/><Relationship Id="rId5" Type="http://schemas.openxmlformats.org/officeDocument/2006/relationships/hyperlink" Target="https://yandex.ru/images/search?text=&#1082;&#1072;&#1088;&#1090;&#1080;&#1085;&#1082;&#1080;%20&#1089;&#1082;&#1091;&#1083;&#1100;&#1087;&#1090;&#1091;&#1088;&#1072;&amp;img_url=https%3A%2F%2Fotveklik.com%2Fuploads%2Fposts%2F2013-07%2Fskazki-iz-peska_5.jpeg&amp;pos=11&amp;rpt=simage&amp;lr=213" TargetMode="External"/><Relationship Id="rId6" Type="http://schemas.openxmlformats.org/officeDocument/2006/relationships/hyperlink" Target="https://yandex.ru/images/search?p=10&amp;text=&#1082;&#1072;&#1088;&#1090;&#1080;&#1085;&#1082;&#1080;%20&#1089;&#1082;&#1091;&#1083;&#1100;&#1087;&#1090;&#1091;&#1088;&#1072;&amp;img_url=https%3A%2F%2Fotvet.imgsmail.ru%2Fdownload%2Fec8c61abcc81d2e01fb4f0cd8074128e_i-2505.jpg&amp;pos=312&amp;rpt=simage&amp;lr=213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907560"/>
            <a:ext cx="6562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 гости к Фее изобразительных искусст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Цель: формирование представления детей о видах изобразительного  искус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235390901.gif"/>
          <p:cNvPicPr/>
          <p:nvPr/>
        </p:nvPicPr>
        <p:blipFill>
          <a:blip r:embed="rId1"/>
          <a:stretch/>
        </p:blipFill>
        <p:spPr>
          <a:xfrm>
            <a:off x="1619280" y="3141720"/>
            <a:ext cx="3529080" cy="3333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284720" y="18900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500720" y="476280"/>
            <a:ext cx="43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КОУ Хреновская СОШ № 2 им. Лева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руктурное подразде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148360" y="5732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полнила воспита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алушина Ирина Васи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691920"/>
            <a:ext cx="2736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Живо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0_a5d5f_ccf98ec8_orig.jpg"/>
          <p:cNvPicPr/>
          <p:nvPr/>
        </p:nvPicPr>
        <p:blipFill>
          <a:blip r:embed="rId1"/>
          <a:stretch/>
        </p:blipFill>
        <p:spPr>
          <a:xfrm>
            <a:off x="4643280" y="620640"/>
            <a:ext cx="392616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118286_78380.jpg"/>
          <p:cNvPicPr/>
          <p:nvPr/>
        </p:nvPicPr>
        <p:blipFill>
          <a:blip r:embed="rId2"/>
          <a:stretch/>
        </p:blipFill>
        <p:spPr>
          <a:xfrm>
            <a:off x="611280" y="2781360"/>
            <a:ext cx="3960720" cy="3578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j137786_1318328724.jpg"/>
          <p:cNvPicPr/>
          <p:nvPr/>
        </p:nvPicPr>
        <p:blipFill>
          <a:blip r:embed="rId1"/>
          <a:stretch/>
        </p:blipFill>
        <p:spPr>
          <a:xfrm>
            <a:off x="468360" y="2781360"/>
            <a:ext cx="4705200" cy="3632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57965f5d9abab (1).png"/>
          <p:cNvPicPr/>
          <p:nvPr/>
        </p:nvPicPr>
        <p:blipFill>
          <a:blip r:embed="rId2"/>
          <a:stretch/>
        </p:blipFill>
        <p:spPr>
          <a:xfrm>
            <a:off x="5148360" y="476280"/>
            <a:ext cx="3552840" cy="38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кульп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B3.jpg"/>
          <p:cNvPicPr/>
          <p:nvPr/>
        </p:nvPicPr>
        <p:blipFill>
          <a:blip r:embed="rId1"/>
          <a:stretch/>
        </p:blipFill>
        <p:spPr>
          <a:xfrm>
            <a:off x="539640" y="2781360"/>
            <a:ext cx="2880000" cy="3625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Skazochnyie_pesochnyie_skulpturyi_5.jpg"/>
          <p:cNvPicPr/>
          <p:nvPr/>
        </p:nvPicPr>
        <p:blipFill>
          <a:blip r:embed="rId2"/>
          <a:stretch/>
        </p:blipFill>
        <p:spPr>
          <a:xfrm>
            <a:off x="3500280" y="1125360"/>
            <a:ext cx="5104080" cy="388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4032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Архитек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924_9041big.jpg"/>
          <p:cNvPicPr/>
          <p:nvPr/>
        </p:nvPicPr>
        <p:blipFill>
          <a:blip r:embed="rId1"/>
          <a:stretch/>
        </p:blipFill>
        <p:spPr>
          <a:xfrm>
            <a:off x="539640" y="2708280"/>
            <a:ext cx="3687840" cy="3674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47bc5547e9d0b2a69712a386b2e2a119.jpg"/>
          <p:cNvPicPr/>
          <p:nvPr/>
        </p:nvPicPr>
        <p:blipFill>
          <a:blip r:embed="rId2"/>
          <a:stretch/>
        </p:blipFill>
        <p:spPr>
          <a:xfrm>
            <a:off x="4356000" y="1125360"/>
            <a:ext cx="4284720" cy="311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сылки на картин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yandex.ru/images/search?text=картинки%20Живописи&amp;img_url=https%3A%2F%2Famady-sp.ru%2Fupload%2Fusers%2F82%2F82309%2Fall%2F81%2F1449258815.1734.jpeg&amp;pos=10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yandex.ru/images/search?p=1&amp;text=картинки%20Живописи&amp;img_url=https%3A%2F%2Fimg3.goodfon.com%2Foriginal%2F6947x5017%2F4%2F1d%2Fvsevolod-ivanov-noch-nakanune.jpg&amp;pos=36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yandex.ru/images/search?p=4&amp;text=картинки%20графика&amp;img_url=https%3A%2F%2Fotvet.imgsmail.ru%2Fdownload%2F2b2cea0b05f521e0c969cd1d3f06b941_i-9327.jpg&amp;pos=143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yandex.ru/images/search?p=4&amp;text=картинки%20графика&amp;img_url=https%3A%2F%2Fcf.ppt-online.org%2Ffiles%2Fslide%2Fi%2FizVw2SnqQHaAZB1RD6NmgJl3OMLcE74U0YGkXt%2Fslide-9.jpg&amp;pos=133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s://yandex.ru/images/search?text=картинки%20скульптура&amp;img_url=https%3A%2F%2Fotveklik.com%2Fuploads%2Fposts%2F2013-07%2Fskazki-iz-peska_5.jpeg&amp;pos=11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s://yandex.ru/images/search?p=10&amp;text=картинки%20скульптура&amp;img_url=https%3A%2F%2Fotvet.imgsmail.ru%2Fdownload%2Fec8c61abcc81d2e01fb4f0cd8074128e_i-2505.jpg&amp;pos=312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s://yandex.ru/images/search?text=картинки%20архитектура&amp;img_url=https%3A%2F%2Flivelyplanet.ru%2Fuploads%2Fposts%2F2013-01%2F1359477226_468-1.jpg&amp;pos=20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s://yandex.ru/images/search?p=1&amp;text=картинки%20архитектура&amp;img_url=https%3A%2F%2Fimages.bankoboev.ru%2Fbig%2Fbankoboev.ru-arhitekturnyi_pamyatnik-353584.jpg&amp;pos=33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2:39:38Z</dcterms:created>
  <dc:creator>User</dc:creator>
  <dc:description/>
  <dc:language>en-US</dc:language>
  <cp:lastModifiedBy>Евросеть</cp:lastModifiedBy>
  <dcterms:modified xsi:type="dcterms:W3CDTF">2022-02-08T14:01:50Z</dcterms:modified>
  <cp:revision>159</cp:revision>
  <dc:subject/>
  <dc:title>С днём рождения  Алёнушка</dc:title>
</cp:coreProperties>
</file>