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832-2767-402E-9CCA-3DDDCBE8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3261-E3AD-4E2A-805B-76283D4B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47DF-BF2F-42C3-9D81-1D95375D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52D3-4DAC-4363-96D7-E2DE8699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917E-CFC6-4CA8-A536-CC6A2877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21A7-088D-49F4-9EEF-9C8826CA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8238-5ED2-48CE-8B53-5ACA91E7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B28C-1F1E-4C87-82A1-24267613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4E8F-CCD4-4C8D-AE86-DBE2FC20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55C8-8DF8-4819-BFB2-5B5101A6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4446-E4B8-4ADD-BAC6-39F0D22B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47B-29EB-4F4D-88B5-AC3550A3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BEF6-F5C9-4596-8AE7-0D6F92A9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A1C1-F599-483A-8C5A-E44AF0A2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2686-AEA0-41D0-8801-567E1DC7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7B90-B996-4AD7-8B79-4D5A42EA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7668-1A9B-48A8-A9CB-81A0AC66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0FF3-AC76-46AE-9665-034BDC62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3F14-629E-4798-9D1D-E5C596CA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208-849F-4CB3-B1C4-FCEA3E6B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52A-DBFE-4F51-861E-D3AE5A00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989E-DBA3-4038-98A7-89A6F071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C0E-FFB7-43BF-911D-7E87BC02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DD66-AA50-49DB-838D-C2DFAE89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E1F4-0DF2-4323-A6BE-48814E2C97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4071-DC1F-4B25-99C6-2F6C8F9816F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Mangal"/>
              </a:rPr>
              <a:t>«Я была тогда с моим народом…»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Mangal"/>
              </a:rPr>
              <a:t>(Жизнь и творчество Анны Ахматовой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Я – голос ваш, жар вашего     дыхань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Я – отраженье вашего лица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может быть, поэзия сама – одна великолепная   цит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500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амятники Анне Ахматово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559400" cy="5805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0" y="1052640"/>
            <a:ext cx="4572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448160" y="3243960"/>
            <a:ext cx="2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53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59920"/>
            <a:ext cx="540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3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Нет, и не под чуждым небосвод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3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И не под защитой чуждых крыл,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3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Я была тогда с моим народ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3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Там, где мой народ, к несчастью, бы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92720" y="0"/>
            <a:ext cx="3851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эзия Ахматовой не только исповедь влюблённой женщины, это прежде всего исповедь человека, живущего всеми бедами, болями и страстями своего времени и своей земл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-36360" y="0"/>
          <a:ext cx="9180360" cy="6858000"/>
        </p:xfrm>
        <a:graphic>
          <a:graphicData uri="http://schemas.openxmlformats.org/drawingml/2006/table">
            <a:tbl>
              <a:tblPr/>
              <a:tblGrid>
                <a:gridCol w="2711160"/>
                <a:gridCol w="2868840"/>
                <a:gridCol w="360036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19240"/>
                          <a:tab algn="l" pos="4143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19240"/>
                          <a:tab algn="l" pos="4143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фос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19240"/>
                          <a:tab algn="l" pos="4143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иль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cc"/>
                          </a:solidFill>
                          <a:latin typeface="Times New Roman"/>
                          <a:ea typeface="Times New Roman"/>
                        </a:rPr>
                        <a:t>неразделённая трагическая любов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гражданствен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ffcc"/>
                          </a:solidFill>
                          <a:latin typeface="Times New Roman"/>
                          <a:ea typeface="Times New Roman"/>
                        </a:rPr>
                        <a:t>просто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cc"/>
                          </a:solidFill>
                          <a:latin typeface="Times New Roman"/>
                          <a:ea typeface="Times New Roman"/>
                        </a:rPr>
                        <a:t>тема поэта и поэз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патриотиз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ffcc"/>
                          </a:solidFill>
                          <a:latin typeface="Times New Roman"/>
                          <a:ea typeface="Times New Roman"/>
                        </a:rPr>
                        <a:t>правдив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cc"/>
                          </a:solidFill>
                          <a:latin typeface="Times New Roman"/>
                          <a:ea typeface="Times New Roman"/>
                        </a:rPr>
                        <a:t>тема Пушк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искрен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ffcc"/>
                          </a:solidFill>
                          <a:latin typeface="Times New Roman"/>
                          <a:ea typeface="Times New Roman"/>
                        </a:rPr>
                        <a:t>точный обра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cc"/>
                          </a:solidFill>
                          <a:latin typeface="Times New Roman"/>
                          <a:ea typeface="Times New Roman"/>
                        </a:rPr>
                        <a:t>осуждение войн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сопричастность к судьбе страны и наро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ffcc"/>
                          </a:solidFill>
                          <a:latin typeface="Times New Roman"/>
                          <a:ea typeface="Times New Roman"/>
                        </a:rPr>
                        <a:t>чёткость мыслей и выраже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cc"/>
                          </a:solidFill>
                          <a:latin typeface="Times New Roman"/>
                          <a:ea typeface="Times New Roman"/>
                        </a:rPr>
                        <a:t>судьба Родины и наро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4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ffcc"/>
                          </a:solidFill>
                          <a:latin typeface="Times New Roman"/>
                          <a:ea typeface="Times New Roman"/>
                        </a:rPr>
                        <a:t>экономия выразительных средст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зкий, нерусский стан 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д фолиантами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Шаль из турецких стран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ала, как мант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ас передашь одной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оманой чёткой линией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олод - в веселье, зной 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Вашем унын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ся Ваша жизнь - озноб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завершится - чем она?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лачный - темен - лоб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Юного демо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ждого из земных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ам заиграть - безделица!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безоружный стих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сердце нам целит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утренний сонный час, 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жется, четверть пятого,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Я полюбила Вас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нна Ахмато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Марина Цветае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1 февраля 191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1600" spc="-1" strike="noStrike">
                <a:solidFill>
                  <a:srgbClr val="ffcc66"/>
                </a:solidFill>
                <a:latin typeface="Tahoma"/>
              </a:rPr>
              <a:t>Я родилась 11 июня 1889 года под Одессой, в селении Большой Фонтан на даче Саракани. Назвали меня Анной в честь бабушки, а её мать была чингизидкой, татарской княжной Ахматовой, чью фамилию я, не сообразив, что собираюсь быть русским поэтом, сделала своим литературным именем. Мой отец был в то время отставной инженер-механик флота. Годовалым ребёнком я была перевезена на север – в Царское Село. Там я прожила до 16 лет. Мои первые воспоминания – царскосельск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Tahoma"/>
              </a:rPr>
              <a:t>         </a:t>
            </a:r>
            <a:r>
              <a:rPr b="1" lang="ru-RU" sz="1600" spc="-1" strike="noStrike">
                <a:solidFill>
                  <a:srgbClr val="ffcc66"/>
                </a:solidFill>
                <a:latin typeface="Tahoma"/>
              </a:rPr>
              <a:t>Училась я в Царскосельской женской гимназии. Сначала плохо, потом гораздо лучше, но всегда неохотно. Лето проводила под Севастополем, получила прозвище «дикая девочка», потому что ходила босиком, бродила без шляпы, бросалась с лодки в открытое море, купалась во время шторма и загорала до того, что сходила кожа и всем этим шокировала провинциальных севастопольских барышен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Tahoma"/>
              </a:rPr>
              <a:t>         </a:t>
            </a:r>
            <a:r>
              <a:rPr b="1" lang="ru-RU" sz="1600" spc="-1" strike="noStrike">
                <a:solidFill>
                  <a:srgbClr val="ffcc66"/>
                </a:solidFill>
                <a:latin typeface="Tahoma"/>
              </a:rPr>
              <a:t>В 1907 году гимназический курс закончила в Киеве, В Фундуклеевской гимназии. В 1908 г. поступила на  юридический факультет Высших женских курсов в Киев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600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Весной 1910  Ахматова согласилась стать женой Гумилева (в 1910-16 жила у него в Царском Селе, на лето выезжала в имение Гумилевых Слепнево в Тверской губернии); совершила первое путешествие за границу, в Париж (вторично побывала там весной 1911). Весной 1912 Гумилевы путешествовали по Италии; в сентябре родился их сын Лев.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6000" y="-360"/>
            <a:ext cx="4427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ервая книга стихов А.Ахматовой «Вечер» вышла в марте 1912 года тиражом 300 зкз. и содержала 46 стихотворений. Дебют встречен критикой сочувственно. Рецензенты отмечали, что «Ахматова – уже сложившийся художник, поэт, соединяющий в себе два положительных качества: совершенство женственности с трогательно-изысканной интимностью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е голос был. Он звал утешн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 говорил: «Иди сюд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тавь свой край глухой грешны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тавь Россию навсег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 кровь от рук твоих отмою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 сердца выну чёрный стыд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 новым именем покро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ь поражений и обид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равнодушно и спокой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ками я замкнула слух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б этой речью недостой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осквернился скорбный ду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с теми я, кто бросил земл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а растерзание враг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х грубой лести я не внемлю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м песен я своих не д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4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84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80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Нам свежесть слов и чувства просто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Терять не то ль, что живописцу – зрень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Или актёру – голос и движень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А женщине прекрасной – красоту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Но не пытайся для себя храни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Тебе дарованное небесам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Осуждены – и это знаем сами 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Mangal"/>
              </a:rPr>
              <a:t>Мы расточать, а не копить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62560" y="0"/>
            <a:ext cx="468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32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68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72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84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88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84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7800"/>
                            </p:stCondLst>
                            <p:childTnLst>
                              <p:par>
                                <p:cTn id="2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хматова- самая характерная героиня своего времени, явленная в бесконечном разнообразии женских судеб: любовницы и жены, вдовы и матери, изменявшей и оставляем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1:10:08Z</dcterms:created>
  <dc:creator>Admin</dc:creator>
  <dc:description/>
  <dc:language>en-US</dc:language>
  <cp:lastModifiedBy>Admin</cp:lastModifiedBy>
  <dcterms:modified xsi:type="dcterms:W3CDTF">2009-06-04T14:49:51Z</dcterms:modified>
  <cp:revision>2</cp:revision>
  <dc:subject/>
  <dc:title>«Я была тогда с моим народом…» (Жизнь и творчество Анны Ахматовой)</dc:title>
</cp:coreProperties>
</file>