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9DC9-378C-4C09-98DD-5F60F424B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CEF3-1A47-4CAB-A8E2-39BAB9D4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68E1-19FA-4209-9961-685B5D818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77B7-62C1-4D01-A216-A716A274B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38F5-1844-4137-8A46-F4D59F8EE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649F-7E60-41BC-824C-74DC0264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8EC1-37C7-4705-AC98-CAB30281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AC057-9F8B-4777-AFF8-7049B5F3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8E95-C867-46B8-86AF-58BD7A75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A33F-9C96-491A-B2DE-96EE3192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FCA8-4FC1-4DCB-BB99-F6D0F4F1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6514-58B1-4AB7-B4E4-3DC5686D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9D67-00DF-4FA1-95EC-B920982E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9049-FFE1-4A30-8A67-A3CDC281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6EBE4-D628-4D23-BB16-3E42E890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589E-03D6-42F7-A5E1-8B1E43A5A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E60D0-1EA2-4DDB-B8AD-BE7FC557F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DB0D-C692-4095-B360-6251FB40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1C82-2405-4AE6-82F6-C96AB3F4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69BF-EE04-465E-9FD1-97944EAF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5260-E1CF-4FE2-BB2D-39557F7A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F20A-9CFD-4037-8653-9B44EDEF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5228-345A-4B83-83FF-81694C7F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035E-02CF-46D5-9231-490A18C1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D053-90C7-4F24-8A24-4F68DCD9387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03B6-A2FB-4323-B5CF-EDA24E2B2E8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Mangal"/>
              </a:rPr>
              <a:t>«Я была тогда с моим народом…»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Mangal"/>
              </a:rPr>
              <a:t>(Жизнь и творчество Анны Ахматовой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Я – голос ваш, жар вашего     дыханья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Я – отраженье вашего лица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 может быть, поэзия сама – одна великолепная   цита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45007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амятники Анне Ахматово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4559400" cy="5805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572000" y="1052640"/>
            <a:ext cx="4572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448160" y="3243960"/>
            <a:ext cx="2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533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259920"/>
            <a:ext cx="540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33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ahoma"/>
              </a:rPr>
              <a:t>Нет, и не под чуждым небосводом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33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ahoma"/>
              </a:rPr>
              <a:t>И не под защитой чуждых крыл, 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33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ahoma"/>
              </a:rPr>
              <a:t>Я была тогда с моим народом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33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ahoma"/>
              </a:rPr>
              <a:t>Там, где мой народ, к несчастью, бы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92720" y="0"/>
            <a:ext cx="38512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эзия Ахматовой не только исповедь влюблённой женщины, это прежде всего исповедь человека, живущего всеми бедами, болями и страстями своего времени и своей земл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2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500"/>
                            </p:stCondLst>
                            <p:childTnLst>
                              <p:par>
                                <p:cTn id="3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-36360" y="0"/>
          <a:ext cx="9180360" cy="6858000"/>
        </p:xfrm>
        <a:graphic>
          <a:graphicData uri="http://schemas.openxmlformats.org/drawingml/2006/table">
            <a:tbl>
              <a:tblPr/>
              <a:tblGrid>
                <a:gridCol w="2711160"/>
                <a:gridCol w="2868840"/>
                <a:gridCol w="3600360"/>
              </a:tblGrid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19240"/>
                          <a:tab algn="l" pos="4143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19240"/>
                          <a:tab algn="l" pos="4143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фос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19240"/>
                          <a:tab algn="l" pos="4143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иль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3432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cc"/>
                          </a:solidFill>
                          <a:latin typeface="Times New Roman"/>
                          <a:ea typeface="Times New Roman"/>
                        </a:rPr>
                        <a:t>неразделённая трагическая любов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3432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66"/>
                          </a:solidFill>
                          <a:latin typeface="Times New Roman"/>
                          <a:ea typeface="Times New Roman"/>
                        </a:rPr>
                        <a:t>гражданственн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3432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ffcc"/>
                          </a:solidFill>
                          <a:latin typeface="Times New Roman"/>
                          <a:ea typeface="Times New Roman"/>
                        </a:rPr>
                        <a:t>просто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3432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cc"/>
                          </a:solidFill>
                          <a:latin typeface="Times New Roman"/>
                          <a:ea typeface="Times New Roman"/>
                        </a:rPr>
                        <a:t>тема поэта и поэз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3432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66"/>
                          </a:solidFill>
                          <a:latin typeface="Times New Roman"/>
                          <a:ea typeface="Times New Roman"/>
                        </a:rPr>
                        <a:t>патриотиз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3432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ffcc"/>
                          </a:solidFill>
                          <a:latin typeface="Times New Roman"/>
                          <a:ea typeface="Times New Roman"/>
                        </a:rPr>
                        <a:t>правдив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3432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cc"/>
                          </a:solidFill>
                          <a:latin typeface="Times New Roman"/>
                          <a:ea typeface="Times New Roman"/>
                        </a:rPr>
                        <a:t>тема Пушки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3432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66"/>
                          </a:solidFill>
                          <a:latin typeface="Times New Roman"/>
                          <a:ea typeface="Times New Roman"/>
                        </a:rPr>
                        <a:t>искренн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3432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ffcc"/>
                          </a:solidFill>
                          <a:latin typeface="Times New Roman"/>
                          <a:ea typeface="Times New Roman"/>
                        </a:rPr>
                        <a:t>точный образ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3432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cc"/>
                          </a:solidFill>
                          <a:latin typeface="Times New Roman"/>
                          <a:ea typeface="Times New Roman"/>
                        </a:rPr>
                        <a:t>осуждение войн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3432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66"/>
                          </a:solidFill>
                          <a:latin typeface="Times New Roman"/>
                          <a:ea typeface="Times New Roman"/>
                        </a:rPr>
                        <a:t>сопричастность к судьбе страны и народ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3432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ffcc"/>
                          </a:solidFill>
                          <a:latin typeface="Times New Roman"/>
                          <a:ea typeface="Times New Roman"/>
                        </a:rPr>
                        <a:t>чёткость мыслей и выражен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3432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cc"/>
                          </a:solidFill>
                          <a:latin typeface="Times New Roman"/>
                          <a:ea typeface="Times New Roman"/>
                        </a:rPr>
                        <a:t>судьба Родины и народ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3432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ffcc"/>
                          </a:solidFill>
                          <a:latin typeface="Times New Roman"/>
                          <a:ea typeface="Times New Roman"/>
                        </a:rPr>
                        <a:t>экономия выразительных средст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4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0" y="0"/>
            <a:ext cx="4572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зкий, нерусский стан 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д фолиантами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Шаль из турецких стран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ала, как мант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ас передашь одной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Ломаной чёткой линией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Холод - в веселье, зной 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 Вашем унын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ся Ваша жизнь - озноб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 завершится - чем она?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блачный - темен - лоб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Юного демо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аждого из земных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ам заиграть - безделица!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 безоружный стих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 сердце нам целитс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 утренний сонный час, 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ажется, четверть пятого,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Я полюбила Вас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нна Ахматов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Марина Цветаев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1 февраля 1915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 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000"/>
                            </p:stCondLst>
                            <p:childTnLst>
                              <p:par>
                                <p:cTn id="7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8000"/>
                            </p:stCondLst>
                            <p:childTnLst>
                              <p:par>
                                <p:cTn id="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1600" spc="-1" strike="noStrike">
                <a:solidFill>
                  <a:srgbClr val="ffcc66"/>
                </a:solidFill>
                <a:latin typeface="Tahoma"/>
              </a:rPr>
              <a:t>Я родилась 11 июня 1889 года под Одессой, в селении Большой Фонтан на даче Саракани. Назвали меня Анной в честь бабушки, а её мать была чингизидкой, татарской княжной Ахматовой, чью фамилию я, не сообразив, что собираюсь быть русским поэтом, сделала своим литературным именем. Мой отец был в то время отставной инженер-механик флота. Годовалым ребёнком я была перевезена на север – в Царское Село. Там я прожила до 16 лет. Мои первые воспоминания – царскосельски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66"/>
                </a:solidFill>
                <a:latin typeface="Tahoma"/>
              </a:rPr>
              <a:t>         </a:t>
            </a:r>
            <a:r>
              <a:rPr b="1" lang="ru-RU" sz="1600" spc="-1" strike="noStrike">
                <a:solidFill>
                  <a:srgbClr val="ffcc66"/>
                </a:solidFill>
                <a:latin typeface="Tahoma"/>
              </a:rPr>
              <a:t>Училась я в Царскосельской женской гимназии. Сначала плохо, потом гораздо лучше, но всегда неохотно. Лето проводила под Севастополем, получила прозвище «дикая девочка», потому что ходила босиком, бродила без шляпы, бросалась с лодки в открытое море, купалась во время шторма и загорала до того, что сходила кожа и всем этим шокировала провинциальных севастопольских барышень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66"/>
                </a:solidFill>
                <a:latin typeface="Tahoma"/>
              </a:rPr>
              <a:t>         </a:t>
            </a:r>
            <a:r>
              <a:rPr b="1" lang="ru-RU" sz="1600" spc="-1" strike="noStrike">
                <a:solidFill>
                  <a:srgbClr val="ffcc66"/>
                </a:solidFill>
                <a:latin typeface="Tahoma"/>
              </a:rPr>
              <a:t>В 1907 году гимназический курс закончила в Киеве, В Фундуклеевской гимназии. В 1908 г. поступила на  юридический факультет Высших женских курсов в Киеве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6000" y="0"/>
            <a:ext cx="4427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Весной 1910  Ахматова согласилась стать женой Гумилева (в 1910-16 жила у него в Царском Селе, на лето выезжала в имение Гумилевых Слепнево в Тверской губернии); совершила первое путешествие за границу, в Париж (вторично побывала там весной 1911). Весной 1912 Гумилевы путешествовали по Италии; в сентябре родился их сын Лев.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16000" y="-360"/>
            <a:ext cx="44276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Первая книга стихов А.Ахматовой «Вечер» вышла в марте 1912 года тиражом 300 зкз. и содержала 46 стихотворений. Дебют встречен критикой сочувственно. Рецензенты отмечали, что «Ахматова – уже сложившийся художник, поэт, соединяющий в себе два положительных качества: совершенство женственности с трогательно-изысканной интимностью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не голос был. Он звал утешно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 говорил: «Иди сюд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тавь свой край глухой грешный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тавь Россию навсег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 кровь от рук твоих отмою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з сердца выну чёрный стыд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 новым именем покро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ль поражений и обид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 равнодушно и спокойн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уками я замкнула слух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тоб этой речью недостой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 осквернился скорбный ду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000"/>
                            </p:stCondLst>
                            <p:childTnLst>
                              <p:par>
                                <p:cTn id="1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7000"/>
                            </p:stCondLst>
                            <p:childTnLst>
                              <p:par>
                                <p:cTn id="1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000"/>
                            </p:stCondLst>
                            <p:childTnLst>
                              <p:par>
                                <p:cTn id="1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9000"/>
                            </p:stCondLst>
                            <p:childTnLst>
                              <p:par>
                                <p:cTn id="1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1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832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Не с теми я, кто бросил земл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На растерзание врагам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Их грубой лести я не внемлю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Им песен я своих не да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40"/>
                            </p:stCondLst>
                            <p:childTnLst>
                              <p:par>
                                <p:cTn id="2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840"/>
                            </p:stCondLst>
                            <p:childTnLst>
                              <p:par>
                                <p:cTn id="2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800"/>
                            </p:stCondLst>
                            <p:childTnLst>
                              <p:par>
                                <p:cTn id="2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-360" y="0"/>
            <a:ext cx="4427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Mangal"/>
              </a:rPr>
              <a:t>Нам свежесть слов и чувства простот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ang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Mangal"/>
              </a:rPr>
              <a:t>Терять не то ль, что живописцу – зрень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ang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Mangal"/>
              </a:rPr>
              <a:t>Или актёру – голос и движень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ang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Mangal"/>
              </a:rPr>
              <a:t>А женщине прекрасной – красоту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ang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Mangal"/>
              </a:rPr>
              <a:t>Но не пытайся для себя храни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ang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Mangal"/>
              </a:rPr>
              <a:t>Тебе дарованное небесам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ang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Mangal"/>
              </a:rPr>
              <a:t>Осуждены – и это знаем сами -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ang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Mangal"/>
              </a:rPr>
              <a:t>Мы расточать, а не копить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462560" y="0"/>
            <a:ext cx="468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320"/>
                            </p:stCondLst>
                            <p:childTnLst>
                              <p:par>
                                <p:cTn id="2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680"/>
                            </p:stCondLst>
                            <p:childTnLst>
                              <p:par>
                                <p:cTn id="2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720"/>
                            </p:stCondLst>
                            <p:childTnLst>
                              <p:par>
                                <p:cTn id="2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840"/>
                            </p:stCondLst>
                            <p:childTnLst>
                              <p:par>
                                <p:cTn id="2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880"/>
                            </p:stCondLst>
                            <p:childTnLst>
                              <p:par>
                                <p:cTn id="2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6840"/>
                            </p:stCondLst>
                            <p:childTnLst>
                              <p:par>
                                <p:cTn id="2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7800"/>
                            </p:stCondLst>
                            <p:childTnLst>
                              <p:par>
                                <p:cTn id="2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832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хматова- самая характерная героиня своего времени, явленная в бесконечном разнообразии женских судеб: любовницы и жены, вдовы и матери, изменявшей и оставляемо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4T11:10:08Z</dcterms:created>
  <dc:creator>Admin</dc:creator>
  <dc:description/>
  <dc:language>en-US</dc:language>
  <cp:lastModifiedBy>Admin</cp:lastModifiedBy>
  <dcterms:modified xsi:type="dcterms:W3CDTF">2009-06-04T14:49:51Z</dcterms:modified>
  <cp:revision>2</cp:revision>
  <dc:subject/>
  <dc:title>«Я была тогда с моим народом…» (Жизнь и творчество Анны Ахматовой)</dc:title>
</cp:coreProperties>
</file>