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8353-8890-4D43-BE4E-05B163A2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3900-213C-4D84-B7BA-59FC6E9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5C9E5-724D-495F-B10E-48B5274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B0735-5538-4741-85B7-79FB881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DDD10-2E60-4111-B1D4-119A437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B9F73-FFEB-4E83-87ED-B2EE308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110C2-53DB-4917-BD07-8004FD4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000AF-87A5-48DD-B4B8-7FA9B17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BC144-9826-4D4E-8D81-F4B8C14E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EFF2D-2F9E-40FC-B187-DF5C05B9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2E6E8-75FD-47A4-B42F-A5525E01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DC667C-2877-4264-A6F0-07C447F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6AF0-848A-4927-AEAE-69E519FA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DA8D45-4270-437B-BE5F-DB7B43A1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46589D-D201-4D85-BC65-740E188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45E9D-5BDC-4930-8B3C-5351ECF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56643C-BDE3-4195-AD5A-40927B6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E9BF3-4863-41D9-9121-206769C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2209F7-33BC-4265-9F60-DDA845C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3E608-4C19-45AD-8129-1CCB308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2E6D6-CB9D-42F9-8C4A-B02B010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8493B-4F45-443F-AF41-EA9D7D3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6A1738-6D2F-491F-B9F0-A1E21BFA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C3C7-4C1F-47C8-8EAA-06196DB0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037A2-FA1E-4A33-ABEE-FE120BB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899D4-F5D6-424B-83DB-7309D37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E77098-10A2-4DB0-B12F-8A816D3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BCD4FD-E244-41FA-A4A4-A955F090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FBB6BF-81E0-49B3-AD39-EE7A19F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7761DA-3D2E-4BFF-9273-1B6845A0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7B268F-C1FD-4FBD-9499-C20BCF9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F9CC77-F7D7-4E24-B9B5-F265783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CC2721-B2FE-44FE-A2E1-96410BC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58846B-2829-4514-B724-549D5C9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C08-0608-4F7B-904C-14F58128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67788-CBC2-4721-9298-5A46E3D5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2C084-D0E6-4D4A-9AD8-41DCB2B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F2308C-D70E-493C-B1FD-150CB570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AFF379-B279-4DFE-840C-4BE6BA7D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D6D925-F1D8-40DF-BB9D-7FA72ECF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74297A-A748-4C20-A8D5-CED55C42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8C31DC-74AD-4DD7-A9F8-52CC559F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F20E82-4BBA-4205-A075-1777C25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F49DC-C147-4F29-944F-B418B2C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25D99D-309A-4E75-A453-E8219F5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BA5E-B670-4B0D-90A5-F141F5B3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B4BA8D-3AC4-4740-A15E-883F7A5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6E6A48-4928-45DE-9C4A-E2E0A41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5F4066-CCC9-4222-B7FB-526D88A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A69140-73E3-4204-94E4-22F1063F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FC07E-3CE5-4861-882A-938091A5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8E2B-5C1B-43E9-9340-68CB97BC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CED3-31CA-4DEB-9D44-1D72411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99E-7058-439F-83B4-E4E447AC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473F-A5A0-4E9D-BE1D-E380559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45B-1762-4919-A522-0D71C735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CDFE-500C-4EE9-A178-9A5B967E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CC7-503D-47A6-9AF6-8C6B188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506-D2F8-4BBF-B941-E9AC97F7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D55-79F3-4A8D-BE45-A1D46CA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A549-8FE5-4C6C-8B8F-1E4D4EB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DF9-392E-4CEE-AD99-86E59E4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3F91A-7263-4DD0-B760-2D73605B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9DB4D-33C0-47B5-BBC7-762875D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1A085-7CF6-4A37-A685-C068CA3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370B5-70B7-4DF0-AFC6-21A459D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DB4A2-F3D8-4C44-94DC-BAA6754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D16C-BD54-46B5-89D9-372B898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7D252-1A58-4D8C-81E3-B51CBC7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A245D-6A0F-45AB-AAD4-0175B22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C7187-7687-4927-97D3-61E9966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11474-0365-43B4-BF62-BBD83BC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22901-6A78-403F-898D-BF852360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C5765-53BF-44AC-BCA8-75B97B36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AB46E-D17D-4C05-A58E-D970F977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84294-C9EF-41E6-924F-C24B9C80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76885-3F2F-4F58-A419-873C6342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BA607-190E-4A74-B04C-5CAC3DDB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E408-ED63-4E79-8909-28CE8A6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22718-716E-4BD4-A498-9EC15AB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E6B92-2832-431B-8844-71780F62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DAE4E-E577-4B87-88A7-AAF356FA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FD38C-9762-493D-A8A5-823908A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FB124-DB7D-4C08-B3AF-B9825FC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41803-74F6-4987-964A-6E5C8A1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B62BA-1471-4089-878A-88BDA51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BDC76-7BC0-40AC-AE52-476B05EF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BCECB-11C8-416A-A1E9-50448B9F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CF8B4-E562-495B-BDDD-2F759D00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4F68-F0AC-4436-816A-956E0B7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9DDA4-EC29-44F1-87E6-EC3438D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1F714-F979-4C7D-8651-0DD77AB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F4FCE-A5ED-41FB-BD52-19F366B4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1B112-DAF1-47A0-B25B-F795049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D502A-9AF3-4A3C-AB5E-A69B25C2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83C5F-6CA9-4F67-B223-308CC817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37E82-14DF-4084-9F46-085FF1E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E1CFC-FED7-4C59-9904-ADD15FBF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88C9E-37B5-4CF7-B38E-FD05FEE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D21F5-608B-4DF4-89D6-BA77055E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D3FC-A467-4B8B-909C-426AE86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54C45-D414-4EFA-9936-D448250F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CC8FA-2DE2-4E32-AA55-81428A2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0DF0C-EC07-4D7F-91D4-521C18E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36AAD-E931-47F9-A1B1-C9C7B9F7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9C43C-A3C5-487D-A10D-12E152A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B035F-DF66-4E62-B2A2-B523577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2EFA9-D03C-4BD7-9398-EE15A74A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EFAB3-AE4C-4465-A103-9BCC821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07081-FEDB-4729-811F-C34EA34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6F472-17A4-4A24-96B1-8336670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3B0F-73A6-44CC-BFBF-FC54D3E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642F0-DE54-4026-8CC6-18579C97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69013-F68C-462C-8908-4F72C9A3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237A4-712E-4390-83ED-DEEC993D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CFBFF-78AC-4F7C-BEF8-4C67E684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B29A3-FFF5-4471-9BF8-66AC2E18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0AAC7-CE8B-4C8F-A97F-BED6602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2BB82-74C1-468F-8DA8-42FFDF96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1692B-2856-41A8-A0A8-FC92BB63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84FC9-5B87-4F62-A2B2-ED15D597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26A92-1F6F-4D9D-A1FB-4E73BF1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FB11-FC71-42C6-9892-BA99BE9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091B5-A44A-49A7-9370-BE21F20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016FB-0A87-4DD9-9717-08CA5278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90892-4974-46BC-8A24-2B22E3AD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E3B99-1D81-422A-9CA2-B47E0FD2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50A98-FC9B-4769-AD6F-394D073F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16795-62A4-4424-9650-EA4781B8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E7914-C960-43EE-882A-679756D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705C6-5106-4382-AE71-E55C5BC1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D3094-8DD6-40F3-963C-6F2B20C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6426C-A9FB-496D-ACD2-D64F6A69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54B4-DF7C-4079-9133-D2BD128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66EF9-0A3F-45B3-BA1F-961F609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32F67-E54F-4949-8BB1-4C6EB2B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815A9-0636-4E82-8DF3-AD8353A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31DFB-ED8E-4C78-AA8E-63A9FDA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3B15A-C749-4177-9A2F-1680FCF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384E7-DEED-4523-86DB-A6C82D60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9C830-5A82-4BAA-A7EF-D751604E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1A6A5-C4BA-4348-8C25-1CBEC2E4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F4E9C-74D6-45F5-B6E4-741C69D7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43488-9E3C-4509-849B-0435D2F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00D-931B-461D-B8F3-6E8D5153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6A10-79B0-4475-B296-27091BA7E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EB1-0A21-4DE9-9583-44A2478B7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A012-FADE-42EF-89A2-C0FEC2274F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93F-9BBC-4BC4-A863-9D905B785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4DB2-A64F-4328-AD75-F99BA16DC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E40F-83E9-489B-9E29-DFB69579A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6F2-A551-405A-86AD-6F909A5F4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B14-4252-40FE-B297-9936D6600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61D-CFEE-48BA-857E-87FFBA67F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EAB-DBD0-478D-B0CC-832AAF3A6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393-B79A-4034-89E2-6CCC374DE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билет134"/>
          <p:cNvPicPr/>
          <p:nvPr/>
        </p:nvPicPr>
        <p:blipFill>
          <a:blip r:embed="rId1"/>
          <a:stretch/>
        </p:blipFill>
        <p:spPr>
          <a:xfrm>
            <a:off x="762120" y="1447920"/>
            <a:ext cx="3835440" cy="49384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d1d29"/>
                </a:solidFill>
                <a:latin typeface="Garamond"/>
              </a:rPr>
              <a:t>АННА АХМАТОВА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952520" y="46479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2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1914г- СБОРНИК «ЧЁТКИ»,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К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А.АХМАТОВОЙ ПРИШЛА ПОДЛИННАЯ ИЗВЕСТНОСТЬ.</a:t>
            </a:r>
            <a:br>
              <a:rPr sz="2800"/>
            </a:b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1917г- КНИГА «БЕЛАЯ СТАЯ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7" name="Picture 9" descr="g_2"/>
          <p:cNvPicPr/>
          <p:nvPr/>
        </p:nvPicPr>
        <p:blipFill>
          <a:blip r:embed="rId1"/>
          <a:stretch/>
        </p:blipFill>
        <p:spPr>
          <a:xfrm>
            <a:off x="4800600" y="457200"/>
            <a:ext cx="3827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51055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1918-1923г- ПОЭЗИЯ АХМАТОВОЙ ИМЕЕТ БОЛЬШОЙ УСПЕХ: СБОРНИКИ «ПОДОРОЖНИК», «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ANNO DOMINI</a:t>
            </a: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».</a:t>
            </a:r>
            <a:br>
              <a:rPr sz="2400"/>
            </a:b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С СЕРЕДИНЫ 20-х ГОДОВ – МНОГОЛЕТНЕЕ МОЛЧАНИЕ.</a:t>
            </a:r>
            <a:br>
              <a:rPr sz="2400"/>
            </a:b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1936 -1940 – СТИХИ В РАЗНЫХ ИЗДАНИЯХ, СБОРНИК «ИЗ ШЕСТИ КНИГ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9" name="Picture 4" descr="Ahm2"/>
          <p:cNvPicPr/>
          <p:nvPr/>
        </p:nvPicPr>
        <p:blipFill>
          <a:blip r:embed="rId1"/>
          <a:stretch/>
        </p:blipFill>
        <p:spPr>
          <a:xfrm>
            <a:off x="304920" y="914400"/>
            <a:ext cx="495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2097089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Фотография Анны Ахматово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З.Серебрякова. Портрет А.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33" name="Rectangle 15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1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ahm3"/>
          <p:cNvPicPr/>
          <p:nvPr/>
        </p:nvPicPr>
        <p:blipFill>
          <a:blip r:embed="rId1"/>
          <a:stretch/>
        </p:blipFill>
        <p:spPr>
          <a:xfrm>
            <a:off x="2209680" y="1066680"/>
            <a:ext cx="4368960" cy="54864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Анна Ахматова с семьё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1055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1921 году арестован Николай Гумилё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30-е годы арестован сын Анны Ахматовой, Лев Гумилё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7" name="Picture 4" descr="ahmatova_01"/>
          <p:cNvPicPr/>
          <p:nvPr/>
        </p:nvPicPr>
        <p:blipFill>
          <a:blip r:embed="rId1"/>
          <a:stretch/>
        </p:blipFill>
        <p:spPr>
          <a:xfrm>
            <a:off x="533520" y="533520"/>
            <a:ext cx="411480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6483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о время Великой Отечественной войны Анна Ахматова оставалась в блокадном Ленингра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Эвакуация в Ташк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1944 году вернулась в освобождённый Ленингра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9" name="Picture 5" descr="Ahmatova"/>
          <p:cNvPicPr/>
          <p:nvPr/>
        </p:nvPicPr>
        <p:blipFill>
          <a:blip r:embed="rId1"/>
          <a:stretch/>
        </p:blipFill>
        <p:spPr>
          <a:xfrm>
            <a:off x="4724280" y="380880"/>
            <a:ext cx="4025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41-1945 – ЦИКЛ СТИХОТВОРЕНИЙ «МУЖЕСТВО», ПОСВЯЩЁННЫЙ ЗАЩИТНИКАМ ЛЕНИНГРАДА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Picture 4" descr="ahmatova2"/>
          <p:cNvPicPr/>
          <p:nvPr/>
        </p:nvPicPr>
        <p:blipFill>
          <a:blip r:embed="rId1"/>
          <a:stretch/>
        </p:blipFill>
        <p:spPr>
          <a:xfrm>
            <a:off x="4267080" y="380880"/>
            <a:ext cx="442296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ПРИЧИТА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Ленинградскую бе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Руками не развед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Слезами не смою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В землю не заро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За версту я обой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Ленинградскую бе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не взглядом, не намёк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не словом, на попрёк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земным поклон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В поле зелён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Помя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  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44. Ленингра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110"/>
          <p:cNvPicPr/>
          <p:nvPr/>
        </p:nvPicPr>
        <p:blipFill>
          <a:blip r:embed="rId1"/>
          <a:stretch/>
        </p:blipFill>
        <p:spPr>
          <a:xfrm>
            <a:off x="304920" y="304920"/>
            <a:ext cx="4197240" cy="60958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1946  год – НЕСПРАВЕД-  ЛИВАЯ КРИТИКА, ОТЛУЧЕНИЕ ОТ ЛИТЕРАТУРЫ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3131b"/>
                </a:solidFill>
                <a:latin typeface="Garamond"/>
              </a:rPr>
              <a:t>АННА  АНДРЕЕВНА  ГОРЕНКО.</a:t>
            </a:r>
            <a:br>
              <a:rPr sz="3200"/>
            </a:br>
            <a:r>
              <a:rPr b="0" i="1" lang="en-US" sz="3200" spc="-1" strike="noStrike">
                <a:solidFill>
                  <a:srgbClr val="13131b"/>
                </a:solidFill>
                <a:latin typeface="Garamond"/>
              </a:rPr>
              <a:t>ЛИТЕРАТУРНЫЙ ПСЕВДОНИМ АХМАТОВА</a:t>
            </a: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1889 –  ПОД  ОДЕССОЙ  В СЕМЬЕ МОРСКОГО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ИНЖЕНЕРА-МЕХАНИКА РОДИЛАСЬ ДОЧЬ .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1907 – ОКОНЧИЛА ГИМНАЗИЮ В КИЕВЕ, УЧИЛАСЬ НА ВЫСШИХ ИСТОРИКО-ЛИТЕРАТУРНЫХ КУРСАХ РАЕВА В ПЕТЕРБУРГЕ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50  год  -  ВОЗВРАЩЕНИЕ           А. АХМАТОВОЙ В ЛИТЕРАТУРУ, ПУБЛИКА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56  год – ПОЧЁТНАЯ СТЕПЕНЬ ДОКТОРА ЛИТЕРАТУРЫ ОКСФОРДСКОГО УНИВЕРСИТЕТА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64 год –  лауреат Итальянской премии « ЭТНА – ТАОРМИНА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6" name="Picture 4" descr="g_4"/>
          <p:cNvPicPr/>
          <p:nvPr/>
        </p:nvPicPr>
        <p:blipFill>
          <a:blip r:embed="rId1"/>
          <a:stretch/>
        </p:blipFill>
        <p:spPr>
          <a:xfrm>
            <a:off x="4495680" y="457200"/>
            <a:ext cx="4148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50-е – «ПОЭМА БЕЗ ГЕРО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«ПУТЁМ ВСЕЯ ЗЕМЛ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ЦИКЛ «СЕВЕРНЫЕ ЭЛЕГИ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«РЕКВИЕ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8" name="Picture 4" descr="g_3"/>
          <p:cNvPicPr/>
          <p:nvPr/>
        </p:nvPicPr>
        <p:blipFill>
          <a:blip r:embed="rId1"/>
          <a:stretch/>
        </p:blipFill>
        <p:spPr>
          <a:xfrm>
            <a:off x="4343400" y="228600"/>
            <a:ext cx="452916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d1d29"/>
                </a:solidFill>
                <a:latin typeface="Garamond"/>
              </a:rPr>
              <a:t>В 1961 году поэме «Реквием» был предпослан эпиграф: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-380880" y="205704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Нет, и не под чуждым небосводом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И не под защитой чуждых крыл, 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Я была тогда с моим народом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Там, где мой народ, к несчастью, бы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1148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В  80-е  годы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XX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 века творчество А.Ахматовой стало широко известно на Род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Массовыми тиражами издавались сборники стихотворе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Вышел из забвения «Реквие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2" name="Picture 4" descr="17_104"/>
          <p:cNvPicPr/>
          <p:nvPr/>
        </p:nvPicPr>
        <p:blipFill>
          <a:blip r:embed="rId1"/>
          <a:srcRect l="0" t="0" r="0" b="8399"/>
          <a:stretch/>
        </p:blipFill>
        <p:spPr>
          <a:xfrm>
            <a:off x="4495680" y="304920"/>
            <a:ext cx="4394160" cy="617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17300b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0482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d1d29"/>
                </a:solidFill>
                <a:latin typeface="Garamond"/>
              </a:rPr>
              <a:t>Конверт с изображением А.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1d1d29"/>
                </a:solidFill>
                <a:latin typeface="Garamond"/>
              </a:rPr>
              <a:t>«… </a:t>
            </a:r>
            <a:r>
              <a:rPr b="1" i="1" lang="en-US" sz="4000" spc="-1" strike="noStrike">
                <a:solidFill>
                  <a:srgbClr val="1d1d29"/>
                </a:solidFill>
                <a:latin typeface="Garamond"/>
              </a:rPr>
              <a:t>Я не переставала писать стихи. Для меня в них – моя связь с временем, с новой жизнью моего народа…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6" name="Picture 5" descr="g_10"/>
          <p:cNvPicPr/>
          <p:nvPr/>
        </p:nvPicPr>
        <p:blipFill>
          <a:blip r:embed="rId1"/>
          <a:stretch/>
        </p:blipFill>
        <p:spPr>
          <a:xfrm>
            <a:off x="4800600" y="838080"/>
            <a:ext cx="4114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20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 1965 году вышел последний прижизненный сборник стихов Ахматовой « Бег времени», вызвавший восторг многочисленных почитателей – к тому времени она была уже живой легендой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За рубежом её встречали как «Сафо из Росс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g_9"/>
          <p:cNvPicPr/>
          <p:nvPr/>
        </p:nvPicPr>
        <p:blipFill>
          <a:blip r:embed="rId1"/>
          <a:stretch/>
        </p:blipFill>
        <p:spPr>
          <a:xfrm>
            <a:off x="3421080" y="304920"/>
            <a:ext cx="5443560" cy="60195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048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« …</a:t>
            </a: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Поэзия Ахматовой – это свет, светящий во тьме, и которого тьме не объять..»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А.Шмеман</a:t>
            </a: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                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УЕДИН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Так много камней брошено в мен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Что ни один из них уже не страшен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стройной башней стала западня, Высокою среди высоких баш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Строителей её благодар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Пусть их забота и печаль мину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Отсюда раньше вижу я зар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Здесь солнца луч последний торжеству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часто в окна комнаты мо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Влетают ветры северных море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голубь ест из рук моих пшеницу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А недописанную мной страницу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Божественно- спокойна и легк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Допишет Музы смуглая ру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                                    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1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ВОРЧЕСТВ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Бывает так: какая-то истом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 ушах не умолкает бой час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дали раскат стихающего гро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еузнанных и пленных голос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Мне чудятся и жалобы и стоны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Сужается какой-то тайный круг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о в этой бездне шёпотов и звон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стаёт один, всё победивший зву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ак вкруг него непоправимо тих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Что слышно, как растёт в лесу трав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Как по земле идёт с котомкой лих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о вот уже послышались сл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И лёгких рифм сигнальные звоночки,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огда я начинаю понима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И просто продиктованные строч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Ложатся в белоснежную тетрад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29"/>
                </a:solidFill>
                <a:latin typeface="Garamond"/>
              </a:rPr>
              <a:t>                                  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193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07 –АННА АХМАТОВА  НАЧИНАЕТ ПЕЧАТАТЬСЯ, ПРИМКНУВ К ГРУППЕ АКМЕИСТОВ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07г-  ПЕРВЫЕ ПУБЛИКАЦ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10 – ВЫШЛА ЗАМУЖ ЗА ПОЭТА НИКОЛАЯ ГУМИЛЁВ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10-1912 – ПУТЕШЕСТВИЕ ПО ГЕРМАНИИ, ИТАЛИИ, ФРАН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fe9"/>
                </a:solidFill>
                <a:latin typeface="Garamond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5 марта  1966 года   А. АХМАТОВА УМЕРЛА В ПОДМОСКОВНОМ САНАТОРИИ, ПОХОРОНЕНА В КОМАРОВЕ ПОД ЛЕНИНГРАДОМ.</a:t>
            </a:r>
            <a:endParaRPr b="1" lang="en-US" sz="32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63" name="Picture 4" descr="Anna_Ahmatova's_grave"/>
          <p:cNvPicPr/>
          <p:nvPr/>
        </p:nvPicPr>
        <p:blipFill>
          <a:blip r:embed="rId1"/>
          <a:stretch/>
        </p:blipFill>
        <p:spPr>
          <a:xfrm>
            <a:off x="838080" y="2362320"/>
            <a:ext cx="7772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1d1d29"/>
                </a:solidFill>
                <a:latin typeface="Garamond"/>
              </a:rPr>
              <a:t>« </a:t>
            </a:r>
            <a:r>
              <a:rPr b="0" i="1" lang="en-US" sz="3600" spc="-1" strike="noStrike">
                <a:solidFill>
                  <a:srgbClr val="1d1d29"/>
                </a:solidFill>
                <a:latin typeface="Garamond"/>
              </a:rPr>
              <a:t>Поразительно не то, что она умерла после всех испытаний, а то, что она упрямо жила среди нас, величавая, гордая, светлая и уже при жизни бессмертная…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d29"/>
                </a:solidFill>
                <a:latin typeface="Garamond"/>
              </a:rPr>
              <a:t>                  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К.И.Чуковский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Лев Гумилёв и Анна Ахматова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16" name="Rectangle 15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geneo"/>
          <p:cNvPicPr/>
          <p:nvPr/>
        </p:nvPicPr>
        <p:blipFill>
          <a:blip r:embed="rId1"/>
          <a:stretch/>
        </p:blipFill>
        <p:spPr>
          <a:xfrm>
            <a:off x="114300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002c"/>
                </a:solidFill>
                <a:latin typeface="Garamond"/>
              </a:rPr>
              <a:t>Семья Анны Ахматово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ahmatova_126"/>
          <p:cNvPicPr/>
          <p:nvPr/>
        </p:nvPicPr>
        <p:blipFill>
          <a:blip r:embed="rId1"/>
          <a:stretch/>
        </p:blipFill>
        <p:spPr>
          <a:xfrm>
            <a:off x="1295280" y="1595520"/>
            <a:ext cx="6629400" cy="48607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Garamond"/>
              </a:rPr>
              <a:t>Н.Гумилёв и А. Ахматова с сыном Львом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560840" cy="5257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Портрет Анны Ахматовой кисти</a:t>
            </a:r>
            <a:br>
              <a:rPr sz="4000"/>
            </a:b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Н.Альтмана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1912г- ПЕРВЫЙ СБОРНИК СТИХОВ «ВЕЧЕР»</a:t>
            </a: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 С ПРЕДИСЛОВИЕМ М. КУЗМИНА. СТИХИ ЭТОЙ КНИГИ ПОСЛУЖИЛИ В ОПРЕДЕЛЁННОЙ МЕРЕ РАЗВИТИЮ ТЕОРЕТИЧЕСКИХ ПОЛОЖЕНИЙ АКМЕИЗМА, НОСИЛИ ХАРАКТЕР ДНЕВНИКОВЫХ ЗАПИСЕЙ, БЫЛИ ПРОНИКНУТЫ МОТИВАМИ ГРУСТИ И ОДИНОЧЕСТВА</a:t>
            </a:r>
            <a:r>
              <a:rPr b="0" i="1" lang="en-US" sz="2400" spc="-1" strike="noStrike">
                <a:solidFill>
                  <a:srgbClr val="1d1d29"/>
                </a:solidFill>
                <a:latin typeface="Garamond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1d29"/>
                </a:solidFill>
                <a:latin typeface="Garamond"/>
              </a:rPr>
              <a:t>Делла – Вос – Кардовская. Портрет Анны 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25" name="Rectangle 15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08</cp:lastModifiedBy>
  <dcterms:modified xsi:type="dcterms:W3CDTF">2012-01-26T09:05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