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5B16-BD2E-4538-9FF6-15DDCCB5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FCAA-8109-4D5C-961D-512BDDE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9DDCF-07FC-48E3-BCDB-CFFFD3F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895EF-23F8-4F90-986B-14635B3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3F0DD-A8B8-4D82-B4C1-6DB37AD4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74274-D28C-46EF-90F0-260221C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FD03F-9AB7-4CDF-8ACA-527F6C3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1E4BC-EA69-4236-A367-08E0710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43C71-7918-42E8-B550-D271A44F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2EB9F-2117-48BB-9416-EBA844A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76C37-94A3-493A-B4BB-640E812A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4FC44C-64BA-4602-83DA-53BA4A76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BB1B-90D5-40E9-A49B-C1CC3655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B956E-5F6D-4E80-87E5-4DF5138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7168B5-3BFE-4555-9EB3-988B9BE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4D20E-11A3-49C3-A614-B5882D27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B971C-176A-41BB-8202-61AD3E27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D0E6F-AD55-4C0C-B363-B35AA47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19DF8-3E4A-49F4-AB20-7C13ED9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5F86DF-4708-43B3-949B-C0B30AE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404398-DC2B-4832-900F-8DFC6F8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F3410-F6F1-4EF5-B66F-4BFC83E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53DC9E-71EF-42B8-803D-3B74599E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9588-2383-4F1A-B86F-873E9F5E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E7FCC-A740-4DFD-AF37-EDA8399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9EE068-C4ED-4E8A-A12D-F060014F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34E595-A39F-417A-B4F7-A01A2201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001F5-6CBA-4527-8890-246013C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0EA3A1-1945-4EFE-9D86-39D7173B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6265A-2611-46E7-AD52-99FDEBE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5988B8-385C-43C9-A6EA-51157B8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CCF023-3CC7-4677-9AE1-952A331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16030-DFF4-4AC4-B150-8D4A8527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2CCDCD-FCEB-4397-8830-FCEFDCD9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7EB-4BE8-4AB7-AB63-EE3299B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5793FA-938A-4D92-A226-681FC1C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DC5D8-03D2-4B6E-A1A4-41C9D9A6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6DD425-042D-4258-BE7E-24612A9E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D2D130-D5B5-44A9-AAD5-2F5A8AF9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1E815E-99F1-42E0-8622-36F4EFA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4DF26-34D6-478D-A44E-654C86E7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B7A447-FF75-4723-93B8-803D9CB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93F7E7-3910-4B07-B9DE-355A7CC5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9D58C4-4D1F-4064-A008-EBD954C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56E8CC-7FB5-40FD-87C2-A46019D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27AE-EA7D-4B0E-B4E7-8A81312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D970FB-4F5B-4BC1-AE15-63812AE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E99787-D8DF-4AE8-B043-7BBE8EA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F2E75-1728-494C-AF9A-B4C3CBB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D2188E-9D89-4ACD-8986-9D7402C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B4AA0D-F2B3-4C1C-9123-97624797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5F2F-EA54-48DC-9042-CC8664C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CF5-78D6-4984-B8B3-F003EEF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8D1D-E5A3-4AAE-89A4-4FDF88C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976F-4053-4EAF-A1A9-62F04B97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A2B1-6035-4A41-ADD3-DB711D3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A2B6-3DEB-4953-8FFC-537D1243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21F-A3E5-4898-8F21-7B20A58B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CCCF-EC9A-426B-B974-ACCDF64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539A-1283-46C5-81E4-A118ECE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D84A-E995-4938-A040-8BD97390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C3B-FAD5-45E2-A600-2ABD2380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8C417-3719-44EA-8ABA-A8947E41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FF0E6-5301-4D31-B626-5C2DB019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191EC-222D-46C6-9575-AD67DB5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56A0A-53F3-45B8-BA64-23B9911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9D0F8-C006-4FD9-AC7C-2861AE64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2969-869E-49B1-AC87-7A9C23D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B4769-407D-410A-8687-5B70CB7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39107-324B-424D-81BB-0C6BB66B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96745-7AA6-4F8F-B5C1-CC7B0FB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47118-44A0-4E74-AD51-22AECD6E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24C39-888A-494D-8F1B-A19E44E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EA91-0C65-4F95-851D-49820264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E9FA1-0F0B-45C4-A9D7-FD46890F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359AD-1E0D-4169-A5EE-B8AA20E1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C9B02-08A3-480E-B894-B918074F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DDC38-AFCB-40D4-BD9B-23C67C25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ABEF-0126-4705-8BEF-01EFABF9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A5BBF-B1C1-4CC0-BB1A-19665115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678B6-8CF2-4CF6-903A-7C787CD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025FC-ACE2-4B5D-BCC5-051A3920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4BABC-C05D-472C-811B-B14DF1F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ECB81-3AB1-49C6-AF24-8FB9F78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CB110-C707-4135-A6BB-508B35D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0BA4A-0C4C-4588-84D6-EF886421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E584A-3B45-4041-AA8F-125357DA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A7F0D-88DF-417C-A406-A925FD52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3ED3C-D858-4423-B72B-104E4273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71E9-0108-4D01-AD67-23E6F8A9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F3BCC-EB4D-42AA-9ED5-9197DA16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D1C57-AEE5-4039-A4F6-B23A685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6FDEE-2637-4681-90E6-192D4CD6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14AEF-8B44-47D6-AF40-51D80EA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5868D-ECC7-4C0F-8761-B119E97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A1BB1-9326-4FF1-B542-A06315F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B31C6-5E47-43F2-8BA5-9792B3A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C3084-6021-43E8-8922-0FF144F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D4F65-9663-46F0-9958-A7D8EB33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72D6A-A854-4FE3-8EA6-F7FAE608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686E-C406-4195-B959-D11456B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4AE3B-6EC0-4CCB-B248-71DFD29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852E2-331D-42A2-8201-DA77D84C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C5BE8-34CD-4CF9-B1B3-0F6D2B5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AC978-42B8-4524-A83C-1F3302B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2159E-1D9F-4556-805C-4E739306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E0DAD-E378-4C64-97C4-AE78C9E2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F8374-19F9-46D7-950C-7BEC809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D7EF0-5951-47BE-9D49-148696D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6C00C-BA30-4C49-8132-C73AF0D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C661C-33E9-4C19-B134-04447CE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B456-0B1F-41A9-AC9F-C4B16CB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8E162-7A3A-4366-A8C4-20B2A20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CC93A-7CE8-4194-861D-CB69CA12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58686-ABE5-49EC-AC29-9A030496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8C932-F70C-4CEE-8B55-FE472368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C0EFA-32EA-4933-857A-CC857BC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DD070-175B-4C49-A8FA-6449F3B0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CC460-19FD-4656-8458-3FAC9D3D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8DD87-75DE-481F-9AD7-801C6101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0F9F6-AF9B-4EF5-BB3F-E986432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4997D-FB4C-45E2-A47D-876562D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590A-E1E5-4544-998B-7ECF59A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A2F21-4201-42D6-BF28-3644A8A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065C7-2F44-427D-9E80-2D1375C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ACFDD-7D2D-4542-BCEB-D9845FE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1391D-ADA1-472F-BA01-79911132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9F425-F8D5-4957-91FA-A4E88F30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66E0D-A93F-4028-86EE-CAB2AFBA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8B61C-3933-4EFD-A20D-CF4EE261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7FD82-135E-4972-BD85-0367151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A8312-A59E-4FA5-9B9D-3B00369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B07AB5-4222-4462-9331-1571DE3D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23EE-3741-429F-83AC-38A8A06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6DE32-0C63-4003-A89C-14B20994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079F2-B296-4FB1-81FE-4C1A7FD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EE66C-8848-42F4-BE62-147776C4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F6E4B1-F8F9-4DD6-BE2B-29C0AAD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F979B-7625-4437-8DC6-84FFE07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29079-C0F7-4BCE-859A-D5F3C948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284A7-D255-4866-855E-79B681BB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B4D0E-EA1E-4A90-B3D9-AB462322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00FE4C-8E50-471C-A354-BF9587BA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97D7C-FB98-4742-ABE9-E311DD4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42D3-C75A-43F2-A1BB-030C6D1D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93B-8F5F-4508-95C2-7DBA61B5D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A39-7904-4C09-94DD-D3BA85E7C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8C5-676C-4D76-BE02-1E1588D81F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162-3049-4D76-B969-AFA2181C1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AE0-1582-4CD9-9D76-5E999C6D4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EF7-2485-4E88-AC63-ED34D802A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BB8-20E0-4594-AF3B-F357EA648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8A0-F6F1-4483-ADCC-480289E29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99D1-25B8-44CB-9EC1-198B9AE9D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206B-C281-4F39-8726-2C29CE3B6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A40E-50BD-4C6A-9F5C-21AE30B91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билет134"/>
          <p:cNvPicPr/>
          <p:nvPr/>
        </p:nvPicPr>
        <p:blipFill>
          <a:blip r:embed="rId1"/>
          <a:stretch/>
        </p:blipFill>
        <p:spPr>
          <a:xfrm>
            <a:off x="762120" y="1447920"/>
            <a:ext cx="3835440" cy="493848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d1d29"/>
                </a:solidFill>
                <a:latin typeface="Garamond"/>
              </a:rPr>
              <a:t>АННА АХМАТОВА</a:t>
            </a: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952520" y="46479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1d2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1914г- СБОРНИК «ЧЁТКИ»,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К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А.АХМАТОВОЙ ПРИШЛА ПОДЛИННАЯ ИЗВЕСТНОСТЬ.</a:t>
            </a:r>
            <a:br>
              <a:rPr sz="2800"/>
            </a:b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1917г- КНИГА «БЕЛАЯ СТАЯ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7" name="Picture 9" descr="g_2"/>
          <p:cNvPicPr/>
          <p:nvPr/>
        </p:nvPicPr>
        <p:blipFill>
          <a:blip r:embed="rId1"/>
          <a:stretch/>
        </p:blipFill>
        <p:spPr>
          <a:xfrm>
            <a:off x="4800600" y="457200"/>
            <a:ext cx="3827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51055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1918-1923г- ПОЭЗИЯ АХМАТОВОЙ ИМЕЕТ БОЛЬШОЙ УСПЕХ: СБОРНИКИ «ПОДОРОЖНИК», «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ANNO DOMINI</a:t>
            </a: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».</a:t>
            </a:r>
            <a:br>
              <a:rPr sz="2400"/>
            </a:b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С СЕРЕДИНЫ 20-х ГОДОВ – МНОГОЛЕТНЕЕ МОЛЧАНИЕ.</a:t>
            </a:r>
            <a:br>
              <a:rPr sz="2400"/>
            </a:br>
            <a:r>
              <a:rPr b="1" i="1" lang="ru-RU" sz="2400" spc="-1" strike="noStrike">
                <a:solidFill>
                  <a:srgbClr val="1d1d29"/>
                </a:solidFill>
                <a:latin typeface="Garamond"/>
              </a:rPr>
              <a:t>1936 -1940 – СТИХИ В РАЗНЫХ ИЗДАНИЯХ, СБОРНИК «ИЗ ШЕСТИ КНИГ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9" name="Picture 4" descr="Ahm2"/>
          <p:cNvPicPr/>
          <p:nvPr/>
        </p:nvPicPr>
        <p:blipFill>
          <a:blip r:embed="rId1"/>
          <a:stretch/>
        </p:blipFill>
        <p:spPr>
          <a:xfrm>
            <a:off x="304920" y="914400"/>
            <a:ext cx="495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2097089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Фотография Анны Ахматово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З.Серебрякова. Портрет А.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33" name="Rectangle 15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1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ahm3"/>
          <p:cNvPicPr/>
          <p:nvPr/>
        </p:nvPicPr>
        <p:blipFill>
          <a:blip r:embed="rId1"/>
          <a:stretch/>
        </p:blipFill>
        <p:spPr>
          <a:xfrm>
            <a:off x="2209680" y="1066680"/>
            <a:ext cx="4368960" cy="54864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Анна Ахматова с семьё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1055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1921 году арестован Николай Гумилё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30-е годы арестован сын Анны Ахматовой, Лев Гумилё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7" name="Picture 4" descr="ahmatova_01"/>
          <p:cNvPicPr/>
          <p:nvPr/>
        </p:nvPicPr>
        <p:blipFill>
          <a:blip r:embed="rId1"/>
          <a:stretch/>
        </p:blipFill>
        <p:spPr>
          <a:xfrm>
            <a:off x="533520" y="533520"/>
            <a:ext cx="411480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6483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о время Великой Отечественной войны Анна Ахматова оставалась в блокадном Ленингра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Эвакуация в Ташк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1944 году вернулась в освобождённый Ленингра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9" name="Picture 5" descr="Ahmatova"/>
          <p:cNvPicPr/>
          <p:nvPr/>
        </p:nvPicPr>
        <p:blipFill>
          <a:blip r:embed="rId1"/>
          <a:stretch/>
        </p:blipFill>
        <p:spPr>
          <a:xfrm>
            <a:off x="4724280" y="380880"/>
            <a:ext cx="4025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41-1945 – ЦИКЛ СТИХОТВОРЕНИЙ «МУЖЕСТВО», ПОСВЯЩЁННЫЙ ЗАЩИТНИКАМ ЛЕНИНГРАДА.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1" name="Picture 4" descr="ahmatova2"/>
          <p:cNvPicPr/>
          <p:nvPr/>
        </p:nvPicPr>
        <p:blipFill>
          <a:blip r:embed="rId1"/>
          <a:stretch/>
        </p:blipFill>
        <p:spPr>
          <a:xfrm>
            <a:off x="4267080" y="380880"/>
            <a:ext cx="442296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ПРИЧИТА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Ленинградскую бе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Руками не разведу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Слезами не смою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В землю не заро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За версту я обой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Ленинградскую бе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не взглядом, не намёк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не словом, на попрёко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Я земным поклон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В поле зелён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Помя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                                      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44. Ленингра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110"/>
          <p:cNvPicPr/>
          <p:nvPr/>
        </p:nvPicPr>
        <p:blipFill>
          <a:blip r:embed="rId1"/>
          <a:stretch/>
        </p:blipFill>
        <p:spPr>
          <a:xfrm>
            <a:off x="304920" y="304920"/>
            <a:ext cx="4197240" cy="60958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1946  год – НЕСПРАВЕД-  ЛИВАЯ КРИТИКА, ОТЛУЧЕНИЕ ОТ ЛИТЕРАТУРЫ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3131b"/>
                </a:solidFill>
                <a:latin typeface="Garamond"/>
              </a:rPr>
              <a:t>АННА  АНДРЕЕВНА  ГОРЕНКО.</a:t>
            </a:r>
            <a:br>
              <a:rPr sz="3200"/>
            </a:br>
            <a:r>
              <a:rPr b="0" i="1" lang="en-US" sz="3200" spc="-1" strike="noStrike">
                <a:solidFill>
                  <a:srgbClr val="13131b"/>
                </a:solidFill>
                <a:latin typeface="Garamond"/>
              </a:rPr>
              <a:t>ЛИТЕРАТУРНЫЙ ПСЕВДОНИМ АХМАТОВА</a:t>
            </a: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.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1889 –  ПОД  ОДЕССОЙ  В СЕМЬЕ МОРСКОГО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ИНЖЕНЕРА-МЕХАНИКА РОДИЛАСЬ ДОЧЬ .</a:t>
            </a:r>
            <a:br>
              <a:rPr sz="2400"/>
            </a:br>
            <a:r>
              <a:rPr b="0" i="1" lang="en-US" sz="2400" spc="-1" strike="noStrike">
                <a:solidFill>
                  <a:srgbClr val="13131b"/>
                </a:solidFill>
                <a:latin typeface="Garamond"/>
              </a:rPr>
              <a:t>1907 – ОКОНЧИЛА ГИМНАЗИЮ В КИЕВЕ, УЧИЛАСЬ НА ВЫСШИХ ИСТОРИКО-ЛИТЕРАТУРНЫХ КУРСАХ РАЕВА В ПЕТЕРБУРГЕ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50  год  -  ВОЗВРАЩЕНИЕ           А. АХМАТОВОЙ В ЛИТЕРАТУРУ, ПУБЛИКА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56  год – ПОЧЁТНАЯ СТЕПЕНЬ ДОКТОРА ЛИТЕРАТУРЫ ОКСФОРДСКОГО УНИВЕРСИТЕТА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64 год –  лауреат Итальянской премии « ЭТНА – ТАОРМИНА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6" name="Picture 4" descr="g_4"/>
          <p:cNvPicPr/>
          <p:nvPr/>
        </p:nvPicPr>
        <p:blipFill>
          <a:blip r:embed="rId1"/>
          <a:stretch/>
        </p:blipFill>
        <p:spPr>
          <a:xfrm>
            <a:off x="4495680" y="457200"/>
            <a:ext cx="4148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1950-е – «ПОЭМА БЕЗ ГЕРО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«ПУТЁМ ВСЕЯ ЗЕМЛ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ЦИКЛ «СЕВЕРНЫЕ ЭЛЕГИИ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«РЕКВИЕ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8" name="Picture 4" descr="g_3"/>
          <p:cNvPicPr/>
          <p:nvPr/>
        </p:nvPicPr>
        <p:blipFill>
          <a:blip r:embed="rId1"/>
          <a:stretch/>
        </p:blipFill>
        <p:spPr>
          <a:xfrm>
            <a:off x="4343400" y="228600"/>
            <a:ext cx="452916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d1d29"/>
                </a:solidFill>
                <a:latin typeface="Garamond"/>
              </a:rPr>
              <a:t>В 1961 году поэме «Реквием» был предпослан эпиграф: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-380880" y="205704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Нет, и не под чуждым небосводом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И не под защитой чуждых крыл, 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Я была тогда с моим народом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Там, где мой народ, к несчастью, бы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1148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В  80-е  годы </a:t>
            </a:r>
            <a:r>
              <a:rPr b="1" i="1" lang="en-US" sz="2800" spc="-1" strike="noStrike">
                <a:solidFill>
                  <a:srgbClr val="1d1d29"/>
                </a:solidFill>
                <a:latin typeface="Garamond"/>
              </a:rPr>
              <a:t>XX</a:t>
            </a: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 века творчество А.Ахматовой стало широко известно на Род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Массовыми тиражами издавались сборники стихотворе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1d29"/>
                </a:solidFill>
                <a:latin typeface="Garamond"/>
              </a:rPr>
              <a:t>Вышел из забвения «Реквие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2" name="Picture 4" descr="17_104"/>
          <p:cNvPicPr/>
          <p:nvPr/>
        </p:nvPicPr>
        <p:blipFill>
          <a:blip r:embed="rId1"/>
          <a:srcRect l="0" t="0" r="0" b="8399"/>
          <a:stretch/>
        </p:blipFill>
        <p:spPr>
          <a:xfrm>
            <a:off x="4495680" y="304920"/>
            <a:ext cx="4394160" cy="617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17300b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04828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d1d29"/>
                </a:solidFill>
                <a:latin typeface="Garamond"/>
              </a:rPr>
              <a:t>Конверт с изображением А.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1d1d29"/>
                </a:solidFill>
                <a:latin typeface="Garamond"/>
              </a:rPr>
              <a:t>«… </a:t>
            </a:r>
            <a:r>
              <a:rPr b="1" i="1" lang="en-US" sz="4000" spc="-1" strike="noStrike">
                <a:solidFill>
                  <a:srgbClr val="1d1d29"/>
                </a:solidFill>
                <a:latin typeface="Garamond"/>
              </a:rPr>
              <a:t>Я не переставала писать стихи. Для меня в них – моя связь с временем, с новой жизнью моего народа…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6" name="Picture 5" descr="g_10"/>
          <p:cNvPicPr/>
          <p:nvPr/>
        </p:nvPicPr>
        <p:blipFill>
          <a:blip r:embed="rId1"/>
          <a:stretch/>
        </p:blipFill>
        <p:spPr>
          <a:xfrm>
            <a:off x="4800600" y="838080"/>
            <a:ext cx="4114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20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В  1965 году вышел последний прижизненный сборник стихов Ахматовой « Бег времени», вызвавший восторг многочисленных почитателей – к тому времени она была уже живой легендой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en-US" sz="3200" spc="-1" strike="noStrike">
                <a:solidFill>
                  <a:srgbClr val="1d1d29"/>
                </a:solidFill>
                <a:latin typeface="Garamond"/>
              </a:rPr>
              <a:t>За рубежом её встречали как «Сафо из Росс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g_9"/>
          <p:cNvPicPr/>
          <p:nvPr/>
        </p:nvPicPr>
        <p:blipFill>
          <a:blip r:embed="rId1"/>
          <a:stretch/>
        </p:blipFill>
        <p:spPr>
          <a:xfrm>
            <a:off x="3421080" y="304920"/>
            <a:ext cx="5443560" cy="60195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048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« …</a:t>
            </a: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Поэзия Ахматовой – это свет, светящий во тьме, и которого тьме не объять..»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1d1d29"/>
                </a:solidFill>
                <a:latin typeface="Garamond"/>
              </a:rPr>
              <a:t>А.Шмеман</a:t>
            </a:r>
            <a:r>
              <a:rPr b="0" lang="ru-RU" sz="2800" spc="-1" strike="noStrike">
                <a:solidFill>
                  <a:srgbClr val="1d1d29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                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УЕДИН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Так много камней брошено в мен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Что ни один из них уже не страшен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стройной башней стала западня, Высокою среди высоких баше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Строителей её благодар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Пусть их забота и печаль мину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Отсюда раньше вижу я зар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Здесь солнца луч последний торжеству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часто в окна комнаты мо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Влетают ветры северных море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И голубь ест из рук моих пшеницу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А недописанную мной страницу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Божественно- спокойна и легк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Допишет Музы смуглая ру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                                        </a:t>
            </a:r>
            <a:r>
              <a:rPr b="1" i="1" lang="en-US" sz="2400" spc="-1" strike="noStrike">
                <a:solidFill>
                  <a:srgbClr val="1d1d29"/>
                </a:solidFill>
                <a:latin typeface="Garamond"/>
              </a:rPr>
              <a:t>191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ВОРЧЕСТВ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Бывает так: какая-то истом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 ушах не умолкает бой час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дали раскат стихающего гро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еузнанных и пленных голос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Мне чудятся и жалобы и стоны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Сужается какой-то тайный круг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о в этой бездне шёпотов и звон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Встаёт один, всё победивший зву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ак вкруг него непоправимо тих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Что слышно, как растёт в лесу трав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Как по земле идёт с котомкой лих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Но вот уже послышались сл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И лёгких рифм сигнальные звоночки,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Тогда я начинаю понима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И просто продиктованные строч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Ложатся в белоснежную тетрад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d29"/>
                </a:solidFill>
                <a:latin typeface="Garamond"/>
              </a:rPr>
              <a:t>                                           </a:t>
            </a:r>
            <a:r>
              <a:rPr b="1" i="1" lang="en-US" sz="2000" spc="-1" strike="noStrike">
                <a:solidFill>
                  <a:srgbClr val="1d1d29"/>
                </a:solidFill>
                <a:latin typeface="Garamond"/>
              </a:rPr>
              <a:t>1936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07 –АННА АХМАТОВА  НАЧИНАЕТ ПЕЧАТАТЬСЯ, ПРИМКНУВ К ГРУППЕ АКМЕИСТОВ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07г-  ПЕРВЫЕ ПУБЛИКАЦ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10 – ВЫШЛА ЗАМУЖ ЗА ПОЭТА НИКОЛАЯ ГУМИЛЁВ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  </a:t>
            </a:r>
            <a:r>
              <a:rPr b="1" i="1" lang="en-US" sz="3200" spc="-1" strike="noStrike">
                <a:solidFill>
                  <a:srgbClr val="363636"/>
                </a:solidFill>
                <a:latin typeface="Garamond"/>
              </a:rPr>
              <a:t>1910-1912 – ПУТЕШЕСТВИЕ ПО ГЕРМАНИИ, ИТАЛИИ, ФРАН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fe9"/>
                </a:solidFill>
                <a:latin typeface="Garamond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5 марта  1966 года   А. АХМАТОВА УМЕРЛА В ПОДМОСКОВНОМ САНАТОРИИ, ПОХОРОНЕНА В КОМАРОВЕ ПОД ЛЕНИНГРАДОМ.</a:t>
            </a:r>
            <a:endParaRPr b="1" lang="en-US" sz="32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63" name="Picture 4" descr="Anna_Ahmatova's_grave"/>
          <p:cNvPicPr/>
          <p:nvPr/>
        </p:nvPicPr>
        <p:blipFill>
          <a:blip r:embed="rId1"/>
          <a:stretch/>
        </p:blipFill>
        <p:spPr>
          <a:xfrm>
            <a:off x="838080" y="2362320"/>
            <a:ext cx="7772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1d1d29"/>
                </a:solidFill>
                <a:latin typeface="Garamond"/>
              </a:rPr>
              <a:t>« </a:t>
            </a:r>
            <a:r>
              <a:rPr b="0" i="1" lang="en-US" sz="3600" spc="-1" strike="noStrike">
                <a:solidFill>
                  <a:srgbClr val="1d1d29"/>
                </a:solidFill>
                <a:latin typeface="Garamond"/>
              </a:rPr>
              <a:t>Поразительно не то, что она умерла после всех испытаний, а то, что она упрямо жила среди нас, величавая, гордая, светлая и уже при жизни бессмертная…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d29"/>
                </a:solidFill>
                <a:latin typeface="Garamond"/>
              </a:rPr>
              <a:t>                      </a:t>
            </a:r>
            <a:r>
              <a:rPr b="1" i="1" lang="en-US" sz="3600" spc="-1" strike="noStrike">
                <a:solidFill>
                  <a:srgbClr val="1d1d29"/>
                </a:solidFill>
                <a:latin typeface="Garamond"/>
              </a:rPr>
              <a:t>К.И.Чуковский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1d29"/>
                </a:solidFill>
                <a:latin typeface="Garamond"/>
              </a:rPr>
              <a:t>Лев Гумилёв и Анна Ахматова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16" name="Rectangle 15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geneo"/>
          <p:cNvPicPr/>
          <p:nvPr/>
        </p:nvPicPr>
        <p:blipFill>
          <a:blip r:embed="rId1"/>
          <a:stretch/>
        </p:blipFill>
        <p:spPr>
          <a:xfrm>
            <a:off x="114300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002c"/>
                </a:solidFill>
                <a:latin typeface="Garamond"/>
              </a:rPr>
              <a:t>Семья Анны Ахматовой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ahmatova_126"/>
          <p:cNvPicPr/>
          <p:nvPr/>
        </p:nvPicPr>
        <p:blipFill>
          <a:blip r:embed="rId1"/>
          <a:stretch/>
        </p:blipFill>
        <p:spPr>
          <a:xfrm>
            <a:off x="1295280" y="1595520"/>
            <a:ext cx="6629400" cy="48607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Garamond"/>
              </a:rPr>
              <a:t>Н.Гумилёв и А. Ахматова с сыном Львом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560840" cy="5257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Портрет Анны Ахматовой кисти</a:t>
            </a:r>
            <a:br>
              <a:rPr sz="4000"/>
            </a:br>
            <a:r>
              <a:rPr b="1" lang="en-US" sz="4000" spc="-1" strike="noStrike">
                <a:solidFill>
                  <a:srgbClr val="1d1d29"/>
                </a:solidFill>
                <a:latin typeface="Garamond"/>
              </a:rPr>
              <a:t>Н.Альтмана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1912г- ПЕРВЫЙ СБОРНИК СТИХОВ «ВЕЧЕР»</a:t>
            </a:r>
            <a:br>
              <a:rPr sz="3200"/>
            </a:br>
            <a:r>
              <a:rPr b="0" i="1" lang="en-US" sz="3200" spc="-1" strike="noStrike">
                <a:solidFill>
                  <a:srgbClr val="1d1d29"/>
                </a:solidFill>
                <a:latin typeface="Garamond"/>
              </a:rPr>
              <a:t> С ПРЕДИСЛОВИЕМ М. КУЗМИНА. СТИХИ ЭТОЙ КНИГИ ПОСЛУЖИЛИ В ОПРЕДЕЛЁННОЙ МЕРЕ РАЗВИТИЮ ТЕОРЕТИЧЕСКИХ ПОЛОЖЕНИЙ АКМЕИЗМА, НОСИЛИ ХАРАКТЕР ДНЕВНИКОВЫХ ЗАПИСЕЙ, БЫЛИ ПРОНИКНУТЫ МОТИВАМИ ГРУСТИ И ОДИНОЧЕСТВА</a:t>
            </a:r>
            <a:r>
              <a:rPr b="0" i="1" lang="en-US" sz="2400" spc="-1" strike="noStrike">
                <a:solidFill>
                  <a:srgbClr val="1d1d29"/>
                </a:solidFill>
                <a:latin typeface="Garamond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1d29"/>
                </a:solidFill>
                <a:latin typeface="Garamond"/>
              </a:rPr>
              <a:t>Делла – Вос – Кардовская. Портрет Анны Ахматово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525" name="Rectangle 15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08</cp:lastModifiedBy>
  <dcterms:modified xsi:type="dcterms:W3CDTF">2012-01-26T09:05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