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BD8B-0E83-4F7C-9448-8EC7CF9F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49A7-E9C8-4F7B-9325-EEBFF3BF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A904-E9C0-4884-9F6C-CC7BC1F1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6DF-C7F1-4778-91CB-F38EE3BF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3181-946A-4FED-972B-68FFC2E6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C0DF-52A6-41D7-9B89-4E03ACBA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65A7-F924-48CD-A979-D011DD6F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1950-D2CA-43EE-BE38-A2520344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9C09-4105-4885-AB49-494107BB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5D51-15F3-4F85-98F2-F2CCD64B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B6CA-7F63-40D9-9A36-7EAEFC6A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ABF-8554-4C03-9B56-DDE1AB8C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CD6A-0843-4E2B-BC44-CF73D1FD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2AFC-3E29-409F-B3C4-935237D9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02B7-51E7-40CB-BE50-DD8F507E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279C-F37E-4371-B88B-DCF9F40F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2EDD-13E6-473F-B17E-DA8F8A2C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A69C3-EF86-45CF-9F39-8E6711AD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D4DD-1EEB-4342-9B2B-5ECBF26B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64EEA-AF78-408F-9E43-69D35885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3E2C0-CC11-4BCA-95C1-FEDB8CB1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EB25C-1AA1-4D08-8BFF-494FFA9F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E74-6161-472E-A134-3AA27572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4BC26-E3FD-4363-B6E7-68C33FEE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C76B3-1BE8-4129-B0C5-145430FD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AE5F7-D603-46A2-B36D-9CD4774B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31A94-EC6B-4E00-B6E3-14BAB544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2B181-607D-49BB-9B31-1CFDD235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A8F70-0FB8-473B-9C20-2E830CB8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11CD2-9D05-4EEE-BC25-B5D74343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3D4F9-13B5-49BB-8113-167CD656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D51E6-F52B-4CF4-B71C-EED69DBC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21C2E-F4C0-4C64-94F5-61FA1865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FEF0-2F26-44BF-BD3C-AEBA594A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C2B8B-6DF3-4739-9730-615EBCB9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EBEF8-AC58-46E4-B1FC-C3B645C4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C43B9-200E-402E-9039-1EE2F8AB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847CF-E23E-4F2F-A2DC-E0A197BA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D5736-9609-4C4F-8426-3030A13C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D14EF-454C-4D12-9B4F-FDE9F13E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9269E-7B7E-4221-A830-37A8250E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A60A2-1A2A-4900-A994-0D3E594D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E11B2-086F-4D91-B3DD-B0B77A49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502BA-BAB4-4FCF-8353-FE3F5F20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996-E15E-4E14-AD03-E0ED0FBE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4A760-7606-45D7-952E-A11EE16F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69C6F-0914-408B-9FA1-2F01D0C0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9CFBE-7FD8-4802-ACE9-836B7994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08B65-FCEB-4EA9-9DE5-D7BC3823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9322C-F614-4695-8E8A-E67598F5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63C65-7E12-4530-9C49-1200F9D7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6A33C-EC0A-4D3A-B600-DDC56719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EE887-972B-43BF-9BED-5C1B3CF2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F2E5D-0C68-4D25-AEE2-1780C455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7B454-40F7-47A9-847F-14B0E48B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5B0-6D8D-417C-83FE-B3AE3315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F903B-EEFE-4F0A-B07B-5CA0F244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F5D-76E7-4765-B0F2-95B06766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BC9E-E372-4386-AAA2-98C23767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72E-C53F-45F9-BA6B-8A96B801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48D3-FCFD-420E-9462-0EB12A6B5AD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B8AB-1623-4105-A033-E3D7F8170B6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3AF7-5081-4103-9D3B-DDBB75D3171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CF97-FCA7-4E08-AEAD-A0F3C04F61C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1E31-3727-4E3D-8006-A6AEDAE9699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ustralia-ru.com/sydney.html" TargetMode="External"/><Relationship Id="rId2" Type="http://schemas.openxmlformats.org/officeDocument/2006/relationships/hyperlink" Target="http://www.csu.edu.au/australia" TargetMode="External"/><Relationship Id="rId3" Type="http://schemas.openxmlformats.org/officeDocument/2006/relationships/hyperlink" Target="http://www.csu.edu.au/australia" TargetMode="External"/><Relationship Id="rId4" Type="http://schemas.openxmlformats.org/officeDocument/2006/relationships/hyperlink" Target="http://www.gday.ru/index.php?option=com_content&amp;task=view&amp;id=634&amp;Itemid=551" TargetMode="External"/><Relationship Id="rId5" Type="http://schemas.openxmlformats.org/officeDocument/2006/relationships/hyperlink" Target="http://www.gday.ru/index.php?option=com_content&amp;task=view&amp;id=634&amp;Itemid=551" TargetMode="External"/><Relationship Id="rId6" Type="http://schemas.openxmlformats.org/officeDocument/2006/relationships/hyperlink" Target="http://www.gday.ru/index.php?option=com_content&amp;task=view&amp;id=634&amp;Itemid=551" TargetMode="External"/><Relationship Id="rId7" Type="http://schemas.openxmlformats.org/officeDocument/2006/relationships/hyperlink" Target="http://www.gday.ru/index.php?option=com_content&amp;task=view&amp;id=634&amp;Itemid=551" TargetMode="External"/><Relationship Id="rId8" Type="http://schemas.openxmlformats.org/officeDocument/2006/relationships/hyperlink" Target="http://www.gday.ru/index.php?option=com_content&amp;task=view&amp;id=634&amp;Itemid=551" TargetMode="External"/><Relationship Id="rId9" Type="http://schemas.openxmlformats.org/officeDocument/2006/relationships/hyperlink" Target="http://www.gday.ru/index.php?option=com_content&amp;task=view&amp;id=634&amp;Itemid=551" TargetMode="External"/><Relationship Id="rId10" Type="http://schemas.openxmlformats.org/officeDocument/2006/relationships/hyperlink" Target="http://www.gday.ru/index.php?option=com_content&amp;task=view&amp;id=634&amp;Itemid=551" TargetMode="External"/><Relationship Id="rId11" Type="http://schemas.openxmlformats.org/officeDocument/2006/relationships/hyperlink" Target="http://yandex.ru/images/search?viewport=wide&amp;text=&#1075;&#1077;&#1088;&#1073;%20&#1072;&#1074;&#1089;&#1090;&#1088;&#1072;&#1083;&#1080;&#1080;&amp;img_url=http://emigration.cc/img/Australia-arm.jpg" TargetMode="External"/><Relationship Id="rId12" Type="http://schemas.openxmlformats.org/officeDocument/2006/relationships/hyperlink" Target="http://yandex.ru/images/search?viewport=wide&amp;text=&#1075;&#1077;&#1088;&#1073;%20&#1072;&#1074;&#1089;&#1090;&#1088;&#1072;&#1083;&#1080;&#1080;&amp;img_url=http://emigration.cc/img/Australia-arm.jpg" TargetMode="External"/><Relationship Id="rId13" Type="http://schemas.openxmlformats.org/officeDocument/2006/relationships/hyperlink" Target="http://yandex.ru/images/search?viewport=wide&amp;text=&#1075;&#1077;&#1088;&#1073;%20&#1072;&#1074;&#1089;&#1090;&#1088;&#1072;&#1083;&#1080;&#1080;&amp;img_url=http://emigration.cc/img/Australia-arm.jpg" TargetMode="External"/><Relationship Id="rId14" Type="http://schemas.openxmlformats.org/officeDocument/2006/relationships/hyperlink" Target="http://yandex.ru/images/search?viewport=wide&amp;text=&#1075;&#1077;&#1088;&#1073;%20&#1072;&#1074;&#1089;&#1090;&#1088;&#1072;&#1083;&#1080;&#1080;&amp;img_url=http://emigration.cc/img/Australia-arm.jpg" TargetMode="External"/><Relationship Id="rId15" Type="http://schemas.openxmlformats.org/officeDocument/2006/relationships/hyperlink" Target="http://yandex.ru/images/search?viewport=wide&amp;text=&#1075;&#1077;&#1088;&#1073;%20&#1072;&#1074;&#1089;&#1090;&#1088;&#1072;&#1083;&#1080;&#1080;&amp;img_url=http://emigration.cc/img/Australia-arm.jpg" TargetMode="External"/><Relationship Id="rId16" Type="http://schemas.openxmlformats.org/officeDocument/2006/relationships/hyperlink" Target="http://yandex.ru/images/search?viewport=wide&amp;text=&#1075;&#1077;&#1088;&#1073;%20&#1072;&#1074;&#1089;&#1090;&#1088;&#1072;&#1083;&#1080;&#1080;&amp;img_url=http://emigration.cc/img/Australia-arm.jpg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Cambria"/>
              </a:rPr>
              <a:t>Учитель английского языка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Cambria"/>
              </a:rPr>
              <a:t>МОАУ СОШ №2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Cambria"/>
              </a:rPr>
              <a:t>г. Щёлково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Cambria"/>
              </a:rPr>
              <a:t>Светличная А.С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600"/>
            <a:ext cx="8229600" cy="16365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Викторина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4e1610"/>
                </a:solidFill>
                <a:latin typeface="Calibri"/>
              </a:rPr>
              <a:t>«</a:t>
            </a:r>
            <a:r>
              <a:rPr b="1" lang="en-US" sz="4000" spc="-1" strike="noStrike">
                <a:solidFill>
                  <a:srgbClr val="4e1610"/>
                </a:solidFill>
                <a:latin typeface="Calibri"/>
              </a:rPr>
              <a:t>Добро пожаловать в Австралию</a:t>
            </a:r>
            <a:r>
              <a:rPr b="0" lang="en-US" sz="3600" spc="-1" strike="noStrike">
                <a:solidFill>
                  <a:srgbClr val="4e1610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42217"/>
                </a:solidFill>
                <a:latin typeface="Calibri"/>
              </a:rPr>
              <a:t>К е у</a:t>
            </a:r>
            <a:r>
              <a:rPr b="0" lang="en-US" sz="5400" spc="-1" strike="noStrike">
                <a:solidFill>
                  <a:srgbClr val="742217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3840" y="114264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ustralia was discovered in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1770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by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James Cook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discoverer of Australia claimed it for </a:t>
            </a: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the king of Englan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The first settlers wer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convict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eople rushed to Australia because </a:t>
            </a: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gold was discovered ther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ustralia’s is located in </a:t>
            </a: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the southern</a:t>
            </a:r>
            <a:r>
              <a:rPr b="1" lang="en-US" sz="24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misphe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hottest month in Australia is </a:t>
            </a:r>
            <a:r>
              <a:rPr b="1" lang="ru-RU" sz="2400" spc="-1" strike="noStrike">
                <a:solidFill>
                  <a:srgbClr val="00b0f0"/>
                </a:solidFill>
                <a:latin typeface="Cambria"/>
              </a:rPr>
              <a:t>Januar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bout 70 per cent of the population live in </a:t>
            </a: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he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10 largest citie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Canberra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s the capital of Australia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Olympic Games were held in Sydney in </a:t>
            </a: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2000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in London it’s 8 a.m.,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 Sydney it is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0 p.m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People in Australia speak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English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Australia becam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independent in </a:t>
            </a:r>
            <a:r>
              <a:rPr b="1" lang="ru-RU" sz="2400" spc="-1" strike="noStrike">
                <a:solidFill>
                  <a:srgbClr val="00b0f0"/>
                </a:solidFill>
                <a:latin typeface="Cambria"/>
              </a:rPr>
              <a:t>193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5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th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7856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What is wrong in the sentence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stralia is situated south of Asia between the Pacific and the Atlantic Ocean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anberra is the capital of Australia and the biggest city of Australia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borigines now comprise only 50 per cent of the population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42217"/>
                </a:solidFill>
                <a:latin typeface="Calibri"/>
              </a:rPr>
              <a:t>К е у</a:t>
            </a:r>
            <a:r>
              <a:rPr b="0" lang="en-US" sz="5400" spc="-1" strike="noStrike">
                <a:solidFill>
                  <a:srgbClr val="742217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800" spc="-1" strike="noStrike">
                <a:solidFill>
                  <a:srgbClr val="4e1610"/>
                </a:solidFill>
                <a:latin typeface="Cambria"/>
              </a:rPr>
              <a:t>Australia is situated south of Asia, between the Pacific and </a:t>
            </a:r>
            <a:r>
              <a:rPr b="1" lang="en-US" sz="2800" spc="-1" strike="noStrike" u="sng">
                <a:solidFill>
                  <a:srgbClr val="4e1610"/>
                </a:solidFill>
                <a:uFillTx/>
                <a:latin typeface="Cambria"/>
              </a:rPr>
              <a:t>the Indian </a:t>
            </a:r>
            <a:r>
              <a:rPr b="1" lang="en-US" sz="2800" spc="-1" strike="noStrike">
                <a:solidFill>
                  <a:srgbClr val="4e1610"/>
                </a:solidFill>
                <a:latin typeface="Cambria"/>
              </a:rPr>
              <a:t>Ocean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1610"/>
                </a:solidFill>
                <a:latin typeface="Cambria"/>
              </a:rPr>
              <a:t>Canberra is the capital of Australia, but it </a:t>
            </a:r>
            <a:r>
              <a:rPr b="1" lang="en-US" sz="2800" spc="-1" strike="noStrike" u="sng">
                <a:solidFill>
                  <a:srgbClr val="4e1610"/>
                </a:solidFill>
                <a:uFillTx/>
                <a:latin typeface="Cambria"/>
              </a:rPr>
              <a:t>isn’t</a:t>
            </a:r>
            <a:r>
              <a:rPr b="1" lang="en-US" sz="2800" spc="-1" strike="noStrike">
                <a:solidFill>
                  <a:srgbClr val="4e1610"/>
                </a:solidFill>
                <a:latin typeface="Cambria"/>
              </a:rPr>
              <a:t> the biggest city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1610"/>
                </a:solidFill>
                <a:latin typeface="Cambria"/>
              </a:rPr>
              <a:t>Aborigines now comprise only </a:t>
            </a:r>
            <a:r>
              <a:rPr b="1" lang="en-US" sz="2800" spc="-1" strike="noStrike" u="sng">
                <a:solidFill>
                  <a:srgbClr val="4e1610"/>
                </a:solidFill>
                <a:uFillTx/>
                <a:latin typeface="Cambria"/>
              </a:rPr>
              <a:t>1,5</a:t>
            </a:r>
            <a:r>
              <a:rPr b="1" lang="en-US" sz="2800" spc="-1" strike="noStrike">
                <a:solidFill>
                  <a:srgbClr val="4e1610"/>
                </a:solidFill>
                <a:latin typeface="Cambria"/>
              </a:rPr>
              <a:t> per cent of the population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6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th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Write the names of the territories on the map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Western Australia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Northen Territory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outh Australia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Queensland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New South Wale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5" name="Picture 2" descr="C:\Documents and Settings\MASHA\Рабочий стол\ПУБЛИКАЦИИ\Новая папка\australia_map_50_0.jpg"/>
          <p:cNvPicPr/>
          <p:nvPr/>
        </p:nvPicPr>
        <p:blipFill>
          <a:blip r:embed="rId1"/>
          <a:stretch/>
        </p:blipFill>
        <p:spPr>
          <a:xfrm>
            <a:off x="3714840" y="2143080"/>
            <a:ext cx="4816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142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7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th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99760"/>
            <a:ext cx="77724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ranslate the sentences into English – first read the Russian variant, then – the transl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Большая часть населения – англичане по происхождению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Английский – основной язык, на котором говорят австралийцы, но один из пяти австралийцев также говорит на итальянском, греческом, арабском, китайском или испанском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Средиземноморский климат, галереи, музеи, архитектура и парки привлекают туристов в Сидне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42217"/>
                </a:solidFill>
                <a:latin typeface="Calibri"/>
              </a:rPr>
              <a:t>К е у</a:t>
            </a:r>
            <a:r>
              <a:rPr b="0" lang="en-US" sz="5400" spc="-1" strike="noStrike">
                <a:solidFill>
                  <a:srgbClr val="742217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57160" y="1714680"/>
            <a:ext cx="77724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8c6a"/>
                </a:solidFill>
                <a:latin typeface="Cambria"/>
              </a:rPr>
              <a:t>1) The population is mainly English in backgroun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455760" indent="-455760">
              <a:buClr>
                <a:srgbClr val="e6b1ab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3611"/>
                </a:solidFill>
                <a:latin typeface="Cambria"/>
              </a:rPr>
              <a:t>2) English is the main language spoken, but one in five Australians speak also Italian, Greek, Arabic, Lebanese, Chinese or Spanish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40c"/>
                </a:solidFill>
                <a:latin typeface="Cambria"/>
              </a:rPr>
              <a:t>3) Mediterranean climate, galleries, museums, architecture and parks attract tourist to Sydne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8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th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Answer the questions: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at is the official name of the country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en was the Commonwealth of Australia formed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at kind of state is Australia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at is the capital of Australia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o is the Head of State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ow many states and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erritories are there in Australia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at is the population of Australia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ich is the official language in Australia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42217"/>
                </a:solidFill>
                <a:latin typeface="Calibri"/>
              </a:rPr>
              <a:t>К е у</a:t>
            </a:r>
            <a:r>
              <a:rPr b="0" lang="en-US" sz="5400" spc="-1" strike="noStrike">
                <a:solidFill>
                  <a:srgbClr val="742217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lvl="2" marL="167760" indent="-166680"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The Commonwealth of Australia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67760" indent="-166680"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In 190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67760" indent="-166680"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Constitutional Monarchy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67760" indent="-166680"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Canberra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67760" indent="-166680"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Queen Elizabeth 2 of Great Britain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67760" indent="-166680"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6 and 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67760" indent="-166680"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More than 18 million peopl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67760" indent="-166680"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English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67760" indent="-166680"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t is blue, red and whit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67760" indent="-1666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67760" indent="-1666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7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4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4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4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4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8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th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at colour is the flag of Australia?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ich are the national colours?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at animals can be seen on Australia’s coat-of-arms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ich is the hottest month in Australia?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at are the main ports in Australia?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ow long does kangaroo live?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an emu fly?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at are Australian’s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best-known animals?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en is spring in Australia?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at is the main occupation in Australia?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at does Koala eat?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42217"/>
                </a:solidFill>
                <a:latin typeface="Calibri"/>
              </a:rPr>
              <a:t>К е у</a:t>
            </a:r>
            <a:r>
              <a:rPr b="0" lang="en-US" sz="5400" spc="-1" strike="noStrike">
                <a:solidFill>
                  <a:srgbClr val="742217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71680" y="1447920"/>
            <a:ext cx="8115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211320" indent="-210240">
              <a:lnSpc>
                <a:spcPct val="114000"/>
              </a:lnSpc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Green and g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211320" indent="-210240">
              <a:lnSpc>
                <a:spcPct val="114000"/>
              </a:lnSpc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The Kangaroo and emu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211320" indent="-210240">
              <a:lnSpc>
                <a:spcPct val="114000"/>
              </a:lnSpc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January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211320" indent="-210240">
              <a:lnSpc>
                <a:spcPct val="114000"/>
              </a:lnSpc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ydney, Melbourne, Adelaide, Brisbane and Perth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211320" indent="-210240">
              <a:lnSpc>
                <a:spcPct val="114000"/>
              </a:lnSpc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0 – 15 year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211320" indent="-210240">
              <a:lnSpc>
                <a:spcPct val="114000"/>
              </a:lnSpc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No, it can’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211320" indent="-210240">
              <a:lnSpc>
                <a:spcPct val="114000"/>
              </a:lnSpc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Kangaroo, Koala, the dingo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211320" indent="-210240">
              <a:lnSpc>
                <a:spcPct val="114000"/>
              </a:lnSpc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From September to November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211320" indent="-210240">
              <a:lnSpc>
                <a:spcPct val="114000"/>
              </a:lnSpc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211320" indent="-210240">
              <a:lnSpc>
                <a:spcPct val="114000"/>
              </a:lnSpc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eaves of eucalyptu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e3611"/>
                </a:solidFill>
                <a:latin typeface="Franklin Gothic Book"/>
              </a:rPr>
              <a:t>Welcome to Australia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1" name="Picture 2" descr="C:\Documents and Settings\MASHA\Рабочий стол\ПУБЛИКАЦИИ\Новая папка\aaa4b6a76590f79acfc7a6361797d574.gif"/>
          <p:cNvPicPr/>
          <p:nvPr/>
        </p:nvPicPr>
        <p:blipFill>
          <a:blip r:embed="rId1"/>
          <a:stretch/>
        </p:blipFill>
        <p:spPr>
          <a:xfrm>
            <a:off x="1714680" y="1500120"/>
            <a:ext cx="62006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3600" y="1429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9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th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9" name="Содержимое 4" descr=""/>
          <p:cNvPicPr/>
          <p:nvPr/>
        </p:nvPicPr>
        <p:blipFill>
          <a:blip r:embed="rId1"/>
          <a:stretch/>
        </p:blipFill>
        <p:spPr>
          <a:xfrm>
            <a:off x="420840" y="1109520"/>
            <a:ext cx="8199360" cy="5467320"/>
          </a:xfrm>
          <a:prstGeom prst="rect">
            <a:avLst/>
          </a:prstGeom>
          <a:ln w="0">
            <a:noFill/>
          </a:ln>
        </p:spPr>
      </p:pic>
      <p:sp>
        <p:nvSpPr>
          <p:cNvPr id="270" name="5-конечная звезда 5"/>
          <p:cNvSpPr/>
          <p:nvPr/>
        </p:nvSpPr>
        <p:spPr>
          <a:xfrm>
            <a:off x="500040" y="2500200"/>
            <a:ext cx="357120" cy="285840"/>
          </a:xfrm>
          <a:prstGeom prst="pi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5-конечная звезда 6"/>
          <p:cNvSpPr/>
          <p:nvPr/>
        </p:nvSpPr>
        <p:spPr>
          <a:xfrm>
            <a:off x="500040" y="4071960"/>
            <a:ext cx="357120" cy="285840"/>
          </a:xfrm>
          <a:prstGeom prst="pi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5-конечная звезда 7"/>
          <p:cNvSpPr/>
          <p:nvPr/>
        </p:nvSpPr>
        <p:spPr>
          <a:xfrm>
            <a:off x="4929120" y="2786040"/>
            <a:ext cx="357120" cy="285840"/>
          </a:xfrm>
          <a:prstGeom prst="pi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5-конечная звезда 8"/>
          <p:cNvSpPr/>
          <p:nvPr/>
        </p:nvSpPr>
        <p:spPr>
          <a:xfrm>
            <a:off x="4929120" y="4000680"/>
            <a:ext cx="357120" cy="285480"/>
          </a:xfrm>
          <a:prstGeom prst="pi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142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9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th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1071360"/>
            <a:ext cx="77724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5. Which city is Australia’s oldest and largest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Sydne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Melbourn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Canberr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6. Who are the Australian natives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Eskimo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Aborigin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Indian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7. Who discovered Australia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Christopher Columbu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Captain Cook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Lewis and Clark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5-конечная звезда 4"/>
          <p:cNvSpPr/>
          <p:nvPr/>
        </p:nvSpPr>
        <p:spPr>
          <a:xfrm>
            <a:off x="1143000" y="1571760"/>
            <a:ext cx="357120" cy="285480"/>
          </a:xfrm>
          <a:prstGeom prst="pi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5-конечная звезда 5"/>
          <p:cNvSpPr/>
          <p:nvPr/>
        </p:nvSpPr>
        <p:spPr>
          <a:xfrm>
            <a:off x="3362400" y="3786120"/>
            <a:ext cx="357120" cy="285840"/>
          </a:xfrm>
          <a:prstGeom prst="pi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5-конечная звезда 6"/>
          <p:cNvSpPr/>
          <p:nvPr/>
        </p:nvSpPr>
        <p:spPr>
          <a:xfrm>
            <a:off x="5072040" y="5572080"/>
            <a:ext cx="357120" cy="285840"/>
          </a:xfrm>
          <a:prstGeom prst="pi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9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th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0" name="Содержимое 2" descr=""/>
          <p:cNvPicPr/>
          <p:nvPr/>
        </p:nvPicPr>
        <p:blipFill>
          <a:blip r:embed="rId1"/>
          <a:stretch/>
        </p:blipFill>
        <p:spPr>
          <a:xfrm>
            <a:off x="907920" y="1395360"/>
            <a:ext cx="7785360" cy="5181480"/>
          </a:xfrm>
          <a:prstGeom prst="rect">
            <a:avLst/>
          </a:prstGeom>
          <a:ln w="0">
            <a:noFill/>
          </a:ln>
        </p:spPr>
      </p:pic>
      <p:sp>
        <p:nvSpPr>
          <p:cNvPr id="281" name="5-конечная звезда 5"/>
          <p:cNvSpPr/>
          <p:nvPr/>
        </p:nvSpPr>
        <p:spPr>
          <a:xfrm>
            <a:off x="1023840" y="2403360"/>
            <a:ext cx="357120" cy="285840"/>
          </a:xfrm>
          <a:prstGeom prst="pi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5-конечная звезда 6"/>
          <p:cNvSpPr/>
          <p:nvPr/>
        </p:nvSpPr>
        <p:spPr>
          <a:xfrm>
            <a:off x="1071720" y="4500720"/>
            <a:ext cx="357120" cy="285480"/>
          </a:xfrm>
          <a:prstGeom prst="pi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5-конечная звезда 7"/>
          <p:cNvSpPr/>
          <p:nvPr/>
        </p:nvSpPr>
        <p:spPr>
          <a:xfrm>
            <a:off x="4714920" y="4000680"/>
            <a:ext cx="357120" cy="285480"/>
          </a:xfrm>
          <a:prstGeom prst="pi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47720" y="225360"/>
            <a:ext cx="7772400" cy="488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42217"/>
                </a:solidFill>
                <a:latin typeface="Calibri"/>
              </a:rPr>
              <a:t>Список использованных </a:t>
            </a:r>
            <a:r>
              <a:rPr b="0" lang="en-US" sz="2800" spc="-1" strike="noStrike">
                <a:solidFill>
                  <a:srgbClr val="742217"/>
                </a:solidFill>
                <a:latin typeface="Calibri"/>
              </a:rPr>
              <a:t>источников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13840" y="785520"/>
            <a:ext cx="8472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Активные ссылки на материалы из сети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462960" indent="-46296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Вопросы о городах Австралии 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australia-ru.com/sydney.htm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462960" indent="-46296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Вопросы о местоположении и животных Австралии 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2"/>
              </a:rPr>
              <a:t>http://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3"/>
              </a:rPr>
              <a:t>www.csu.edu.au/australia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462960" indent="-46296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Вопросы о населении Австралии 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4"/>
              </a:rPr>
              <a:t>http://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5"/>
              </a:rPr>
              <a:t>www.gday.ru/index.php?option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6"/>
              </a:rPr>
              <a:t>=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7"/>
              </a:rPr>
              <a:t>com_content&amp;task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8"/>
              </a:rPr>
              <a:t>=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9"/>
              </a:rPr>
              <a:t>view&amp;id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10"/>
              </a:rPr>
              <a:t>=634&amp;Itemid=551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462960" indent="-462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Активные ссылки на изображения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462960" indent="-46296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Изображение герба Австралии 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11"/>
              </a:rPr>
              <a:t>http://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12"/>
              </a:rPr>
              <a:t>yandex.ru/images/search?viewport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13"/>
              </a:rPr>
              <a:t>=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14"/>
              </a:rPr>
              <a:t>wide&amp;text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15"/>
              </a:rPr>
              <a:t>=</a:t>
            </a:r>
            <a:r>
              <a:rPr b="0" lang="ru-RU" sz="2200" spc="-1" strike="noStrike" u="sng">
                <a:solidFill>
                  <a:srgbClr val="cc9900"/>
                </a:solidFill>
                <a:uFillTx/>
                <a:latin typeface="Perpetua"/>
                <a:hlinkClick r:id="rId16"/>
              </a:rPr>
              <a:t>герб%20австралии&amp;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mg_url=http://emigration.cc/img/Australia-arm.jpg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462960" indent="-46296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Изображение карты Австралии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://yandex.ru/images/search?viewport=wide&amp;text=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австралия%20карта&amp;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mg_url=http://www.michellehenry.fr/bgaustralia_map.jpg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462960" indent="-46296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1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st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7856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Your task is to put the missing letter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b050"/>
                </a:solidFill>
                <a:latin typeface="Monotype Corsiva"/>
              </a:rPr>
              <a:t>Abro_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         </a:t>
            </a:r>
            <a:r>
              <a:rPr b="1" lang="en-US" sz="3400" spc="-1" strike="noStrike">
                <a:solidFill>
                  <a:srgbClr val="0070c0"/>
                </a:solidFill>
                <a:latin typeface="Bell Gothic Std Black"/>
              </a:rPr>
              <a:t>Abor_g_ne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     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Birch Std"/>
              </a:rPr>
              <a:t>K_ngaro_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rush Script Std"/>
              </a:rPr>
              <a:t>                      </a:t>
            </a:r>
            <a:r>
              <a:rPr b="1" lang="en-US" sz="3200" spc="-1" strike="noStrike">
                <a:solidFill>
                  <a:srgbClr val="7030a0"/>
                </a:solidFill>
                <a:latin typeface="Brush Script Std"/>
              </a:rPr>
              <a:t>N</a:t>
            </a:r>
            <a:r>
              <a:rPr b="1" lang="en-US" sz="3200" spc="-1" strike="noStrike" baseline="30000">
                <a:solidFill>
                  <a:srgbClr val="7030a0"/>
                </a:solidFill>
                <a:latin typeface="Brush Script Std"/>
              </a:rPr>
              <a:t>_</a:t>
            </a:r>
            <a:r>
              <a:rPr b="1" lang="en-US" sz="3200" spc="-1" strike="noStrike">
                <a:solidFill>
                  <a:srgbClr val="7030a0"/>
                </a:solidFill>
                <a:latin typeface="Brush Script Std"/>
              </a:rPr>
              <a:t>tiv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                                                              </a:t>
            </a:r>
            <a:r>
              <a:rPr b="1" lang="en-US" sz="3200" spc="-1" strike="noStrike">
                <a:solidFill>
                  <a:srgbClr val="9e3611"/>
                </a:solidFill>
                <a:latin typeface="Cooper Std Black"/>
              </a:rPr>
              <a:t>Harb_ _r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42217"/>
                </a:solidFill>
                <a:latin typeface="Calibri"/>
              </a:rPr>
              <a:t>К е у</a:t>
            </a:r>
            <a:r>
              <a:rPr b="0" lang="en-US" sz="5400" spc="-1" strike="noStrike">
                <a:solidFill>
                  <a:srgbClr val="742217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446400" indent="-44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mbria"/>
              </a:rPr>
              <a:t>Abroad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lvl="1" marL="446400" indent="-44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           </a:t>
            </a: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Aborigine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lvl="1" marL="446400" indent="-44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Cambria"/>
              </a:rPr>
              <a:t>Kangaroo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lvl="1" marL="446400" indent="-44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                                  </a:t>
            </a:r>
            <a:r>
              <a:rPr b="1" lang="en-US" sz="4000" spc="-1" strike="noStrike">
                <a:solidFill>
                  <a:srgbClr val="7030a0"/>
                </a:solidFill>
                <a:latin typeface="Cambria"/>
              </a:rPr>
              <a:t>Native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lvl="1" marL="446400" indent="-44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                                              </a:t>
            </a:r>
            <a:r>
              <a:rPr b="1" lang="en-US" sz="4000" spc="-1" strike="noStrike">
                <a:solidFill>
                  <a:srgbClr val="69240c"/>
                </a:solidFill>
                <a:latin typeface="Cambria"/>
              </a:rPr>
              <a:t>Harbour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2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nd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There are 20 parts of 10 words. Try to combine them into the words.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Read the words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523880" y="2533680"/>
          <a:ext cx="6096240" cy="33908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39084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rch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- na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Neigh-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mbria"/>
                          <a:ea typeface="Times New Roman"/>
                        </a:rPr>
                        <a:t>ture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ra-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employment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Flo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garoo </a:t>
                      </a:r>
                      <a:br>
                        <a:rPr sz="2800"/>
                      </a:b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mbria"/>
                          <a:ea typeface="Times New Roman"/>
                        </a:rPr>
                        <a:t>K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- bourh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p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- ra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Un-tectur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Temper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- ala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Fau-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mbria"/>
                          <a:ea typeface="Times New Roman"/>
                        </a:rPr>
                        <a:t>bic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Kan-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n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42217"/>
                </a:solidFill>
                <a:latin typeface="Calibri"/>
              </a:rPr>
              <a:t>К е у</a:t>
            </a:r>
            <a:r>
              <a:rPr b="0" lang="en-US" sz="5400" spc="-1" strike="noStrike">
                <a:solidFill>
                  <a:srgbClr val="742217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14240" y="1500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rchi-tecture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Spa-nish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Neigh-bourhood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Un-employ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Ara-bic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empera-tur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Flo-ra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                             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Fau-na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Ko-ala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Kan-garoo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3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rd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57120" y="1142640"/>
            <a:ext cx="8258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Read the sentence and say if it is true or false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98960" indent="-49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1) Canberra is the home of Australia’s government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98960" indent="-49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mbria"/>
              </a:rPr>
              <a:t>       </a:t>
            </a:r>
            <a:r>
              <a:rPr b="1" lang="en-US" sz="2600" spc="-1" strike="noStrike">
                <a:solidFill>
                  <a:srgbClr val="00b050"/>
                </a:solidFill>
                <a:latin typeface="Cambria"/>
              </a:rPr>
              <a:t>TRUE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98960" indent="-49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2) Sydney is the capital of Australia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98960" indent="-49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1" lang="en-US" sz="2600" spc="-1" strike="noStrike">
                <a:solidFill>
                  <a:srgbClr val="ff0000"/>
                </a:solidFill>
                <a:latin typeface="Cambria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98960" indent="-49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3) Sydney is the largest and the oldest city in Australia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98960" indent="-49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mbria"/>
              </a:rPr>
              <a:t>       </a:t>
            </a:r>
            <a:r>
              <a:rPr b="1" lang="en-US" sz="2600" spc="-1" strike="noStrike">
                <a:solidFill>
                  <a:srgbClr val="00b050"/>
                </a:solidFill>
                <a:latin typeface="Cambria"/>
              </a:rPr>
              <a:t>TRUE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98960" indent="-49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4) Canberra is a “cyclist’s paradise”.</a:t>
            </a:r>
            <a:r>
              <a:rPr b="0" lang="en-US" sz="26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98960" indent="-49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mbria"/>
              </a:rPr>
              <a:t>       </a:t>
            </a:r>
            <a:r>
              <a:rPr b="1" lang="en-US" sz="2600" spc="-1" strike="noStrike">
                <a:solidFill>
                  <a:srgbClr val="00b050"/>
                </a:solidFill>
                <a:latin typeface="Cambria"/>
              </a:rPr>
              <a:t>TRUE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98960" indent="-49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5) Sydney Opera House is one of the greatest examples of 2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mbr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century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98960" indent="-49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mbria"/>
              </a:rPr>
              <a:t>       </a:t>
            </a:r>
            <a:r>
              <a:rPr b="1" lang="en-US" sz="2600" spc="-1" strike="noStrike">
                <a:solidFill>
                  <a:srgbClr val="00b050"/>
                </a:solidFill>
                <a:latin typeface="Cambria"/>
              </a:rPr>
              <a:t>TRUE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4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th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Complete the sentence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Australia was discovered in ______ by ________.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he discoverer of Australia claimed it for ___________.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The first settlers were ________________.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People rushed to Australia because _________.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Australia’s is located in __________ hemisphere.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he hottest month in Australia is ________.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Medium"/>
              </a:rPr>
              <a:t>The 4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Medium"/>
              </a:rPr>
              <a:t>th</a:t>
            </a:r>
            <a:r>
              <a:rPr b="0" lang="en-US" sz="5400" spc="-1" strike="noStrike">
                <a:solidFill>
                  <a:srgbClr val="742217"/>
                </a:solidFill>
                <a:latin typeface="Franklin Gothic Medium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7143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3611"/>
                </a:solidFill>
                <a:latin typeface="Cambria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About 70 per cent of the population live in the __________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e3611"/>
                </a:solidFill>
                <a:latin typeface="Cambria"/>
              </a:rPr>
              <a:t>8.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________ is the capital of Australia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e3611"/>
                </a:solidFill>
                <a:latin typeface="Perpetua"/>
              </a:rPr>
              <a:t>9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e Olympic Games were held in Sydney in ___________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e3611"/>
                </a:solidFill>
                <a:latin typeface="Cambria"/>
              </a:rPr>
              <a:t>10.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If in London it’s 8 a.m., in Sydney it is _______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e3611"/>
                </a:solidFill>
                <a:latin typeface="Cambria"/>
              </a:rPr>
              <a:t>11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People in Australia  speak ________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e3611"/>
                </a:solidFill>
                <a:latin typeface="Cambria"/>
              </a:rPr>
              <a:t>12.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Australia became independent in _____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1-18T17:35:55Z</dcterms:modified>
  <cp:revision>48</cp:revision>
  <dc:subject/>
  <dc:title>Викторина  «Добро пожаловать в Австралию»</dc:title>
</cp:coreProperties>
</file>