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33FF-1CFE-4D53-9479-807B5F50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6E80-F989-4190-B94A-9D3A0716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3E6F-51A5-4B08-9342-4AF0E524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F9A4-DF5A-41D2-8F40-0183979F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0C0D-E5B6-4ABE-AC79-596F27DE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AF24-B591-45A4-A9D6-6A7F830A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BE47-4966-4D21-BA0D-F60D57B9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6F79-22E1-483B-A83A-46BB2983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42D9-8F93-4DEC-B1EB-2E62E319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2D2A-5D75-4BA8-923B-606A4400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4076-86FA-405F-89E3-338F91D2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088B-8623-44AD-863F-A780CB3C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2A3D-BC73-493A-B989-3C0BF937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6BF7-C92F-42E0-AE0E-87677F49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4B48-D3F8-48A7-A8E7-9AC82BA0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8FD8-DFE6-4E1E-B538-B49128B1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FB6F-CE98-4CB5-90DD-8709E616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98A59-8DDD-4F56-83DD-0F0795E3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1844A-E70F-4106-BEAB-E784ED43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62792-0A03-46BB-8A92-379312B9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EEA6E-D40F-4BFA-9099-A3863F55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BBEC8-BBCA-4490-9BD2-197AC3F1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AA7A-B4DC-47F4-AC68-FF4972F2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23576-3BB3-4883-9B5A-C2E491AE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BB482-6DAD-45F6-800F-6E9A3CE0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1A513-ED8B-4AC7-8725-CE253D9F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FC531-9534-41E1-915E-815823EA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322D9-5325-4664-9A46-9DF05C41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CF24C-A5F3-456C-BBA5-FADFC5C6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1A28A-ED44-4F31-A719-C6FE78B3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0E39D-ED11-45AE-B8DF-A977CDBB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E8CED-14E9-4A5A-9BE2-27AEC561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0EB9A-0845-4B2F-9DB0-EF2C9E10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AB61-F082-420B-88DD-AA5F5ACB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A803A-ADA7-4F17-A8E7-52A9FAF6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EB1B7-657F-4341-AE7E-B58A90A5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FB767-9E0E-4090-BAA3-0385A968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E2D12-A10A-4E48-B23B-65F7B4B6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DA80C-C94E-4FE2-A20E-18C3BF25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50AE8-DAA9-4568-B9E5-1AF4CE2F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9BF72-F94A-4725-BDEA-F626F045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12B7E-4FDC-4B44-A794-37F23715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3D8BE-F7DA-48E2-88AB-F464653F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6F085-3418-4EE6-9106-E4D95415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1F29-7124-41BB-AAF7-3BB429BE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C1BA2-9E04-44C1-9D87-1D1071B9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E37BD-03EA-4229-89A6-831DBF8C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7C855-8760-45B0-8D8C-9063CBD6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68CBD-B475-48A4-B3A4-07155BDE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06CC3-4902-40E4-A87B-9DEB0CF5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8316A-965E-4142-BB76-5CE679BE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6A3CB-5824-4E85-A38E-4C61D8BA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FDA79-3D3C-4C92-A246-BBE9AD0F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5BD9A-0C62-4F0E-BE81-F117CA17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6ECB3-07D2-460D-B5A2-5D453265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C400-5C03-4A10-86A7-B4A7D2B0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C9310-A8FD-4D8F-9ADA-E5FA2722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FFA-D29E-437D-B715-C1BBD059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1599-B8F7-4150-B479-EA635BF6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B335-12EE-467B-B6C8-9666D414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FBAE-57CB-406F-B21A-4969793D21F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0617-1B52-4EBD-AB10-45210EC049C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FBB6-DE6E-4050-A23E-94653FFECEB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8828-191B-49E5-B504-D434C8BC1E0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45E2-8A22-4160-A30E-2E92DB362CA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australia-ru.com/sydney.html" TargetMode="External"/><Relationship Id="rId2" Type="http://schemas.openxmlformats.org/officeDocument/2006/relationships/hyperlink" Target="http://www.csu.edu.au/australia" TargetMode="External"/><Relationship Id="rId3" Type="http://schemas.openxmlformats.org/officeDocument/2006/relationships/hyperlink" Target="http://www.csu.edu.au/australia" TargetMode="External"/><Relationship Id="rId4" Type="http://schemas.openxmlformats.org/officeDocument/2006/relationships/hyperlink" Target="http://www.gday.ru/index.php?option=com_content&amp;task=view&amp;id=634&amp;Itemid=551" TargetMode="External"/><Relationship Id="rId5" Type="http://schemas.openxmlformats.org/officeDocument/2006/relationships/hyperlink" Target="http://www.gday.ru/index.php?option=com_content&amp;task=view&amp;id=634&amp;Itemid=551" TargetMode="External"/><Relationship Id="rId6" Type="http://schemas.openxmlformats.org/officeDocument/2006/relationships/hyperlink" Target="http://www.gday.ru/index.php?option=com_content&amp;task=view&amp;id=634&amp;Itemid=551" TargetMode="External"/><Relationship Id="rId7" Type="http://schemas.openxmlformats.org/officeDocument/2006/relationships/hyperlink" Target="http://www.gday.ru/index.php?option=com_content&amp;task=view&amp;id=634&amp;Itemid=551" TargetMode="External"/><Relationship Id="rId8" Type="http://schemas.openxmlformats.org/officeDocument/2006/relationships/hyperlink" Target="http://www.gday.ru/index.php?option=com_content&amp;task=view&amp;id=634&amp;Itemid=551" TargetMode="External"/><Relationship Id="rId9" Type="http://schemas.openxmlformats.org/officeDocument/2006/relationships/hyperlink" Target="http://www.gday.ru/index.php?option=com_content&amp;task=view&amp;id=634&amp;Itemid=551" TargetMode="External"/><Relationship Id="rId10" Type="http://schemas.openxmlformats.org/officeDocument/2006/relationships/hyperlink" Target="http://www.gday.ru/index.php?option=com_content&amp;task=view&amp;id=634&amp;Itemid=551" TargetMode="External"/><Relationship Id="rId11" Type="http://schemas.openxmlformats.org/officeDocument/2006/relationships/hyperlink" Target="http://yandex.ru/images/search?viewport=wide&amp;text=&#1075;&#1077;&#1088;&#1073;%20&#1072;&#1074;&#1089;&#1090;&#1088;&#1072;&#1083;&#1080;&#1080;&amp;img_url=http://emigration.cc/img/Australia-arm.jpg" TargetMode="External"/><Relationship Id="rId12" Type="http://schemas.openxmlformats.org/officeDocument/2006/relationships/hyperlink" Target="http://yandex.ru/images/search?viewport=wide&amp;text=&#1075;&#1077;&#1088;&#1073;%20&#1072;&#1074;&#1089;&#1090;&#1088;&#1072;&#1083;&#1080;&#1080;&amp;img_url=http://emigration.cc/img/Australia-arm.jpg" TargetMode="External"/><Relationship Id="rId13" Type="http://schemas.openxmlformats.org/officeDocument/2006/relationships/hyperlink" Target="http://yandex.ru/images/search?viewport=wide&amp;text=&#1075;&#1077;&#1088;&#1073;%20&#1072;&#1074;&#1089;&#1090;&#1088;&#1072;&#1083;&#1080;&#1080;&amp;img_url=http://emigration.cc/img/Australia-arm.jpg" TargetMode="External"/><Relationship Id="rId14" Type="http://schemas.openxmlformats.org/officeDocument/2006/relationships/hyperlink" Target="http://yandex.ru/images/search?viewport=wide&amp;text=&#1075;&#1077;&#1088;&#1073;%20&#1072;&#1074;&#1089;&#1090;&#1088;&#1072;&#1083;&#1080;&#1080;&amp;img_url=http://emigration.cc/img/Australia-arm.jpg" TargetMode="External"/><Relationship Id="rId15" Type="http://schemas.openxmlformats.org/officeDocument/2006/relationships/hyperlink" Target="http://yandex.ru/images/search?viewport=wide&amp;text=&#1075;&#1077;&#1088;&#1073;%20&#1072;&#1074;&#1089;&#1090;&#1088;&#1072;&#1083;&#1080;&#1080;&amp;img_url=http://emigration.cc/img/Australia-arm.jpg" TargetMode="External"/><Relationship Id="rId16" Type="http://schemas.openxmlformats.org/officeDocument/2006/relationships/hyperlink" Target="http://yandex.ru/images/search?viewport=wide&amp;text=&#1075;&#1077;&#1088;&#1073;%20&#1072;&#1074;&#1089;&#1090;&#1088;&#1072;&#1083;&#1080;&#1080;&amp;img_url=http://emigration.cc/img/Australia-arm.jpg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Cambria"/>
              </a:rPr>
              <a:t>Учитель английского языка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Cambria"/>
              </a:rPr>
              <a:t>МОАУ СОШ №2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Cambria"/>
              </a:rPr>
              <a:t>г. Щёлково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Cambria"/>
              </a:rPr>
              <a:t>Светличная А.С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600"/>
            <a:ext cx="8229600" cy="16365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Викторина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4e1610"/>
                </a:solidFill>
                <a:latin typeface="Calibri"/>
              </a:rPr>
              <a:t>«</a:t>
            </a:r>
            <a:r>
              <a:rPr b="1" lang="en-US" sz="4000" spc="-1" strike="noStrike">
                <a:solidFill>
                  <a:srgbClr val="4e1610"/>
                </a:solidFill>
                <a:latin typeface="Calibri"/>
              </a:rPr>
              <a:t>Добро пожаловать в Австралию</a:t>
            </a:r>
            <a:r>
              <a:rPr b="0" lang="en-US" sz="3600" spc="-1" strike="noStrike">
                <a:solidFill>
                  <a:srgbClr val="4e1610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42217"/>
                </a:solidFill>
                <a:latin typeface="Calibri"/>
              </a:rPr>
              <a:t>К е у</a:t>
            </a:r>
            <a:r>
              <a:rPr b="0" lang="en-US" sz="5400" spc="-1" strike="noStrike">
                <a:solidFill>
                  <a:srgbClr val="742217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13840" y="1142640"/>
            <a:ext cx="8643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ustralia was discovered in </a:t>
            </a: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1770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by </a:t>
            </a: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James Cook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discoverer of Australia claimed it for </a:t>
            </a: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the king of Englan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The first settlers wer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convict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eople rushed to Australia because </a:t>
            </a:r>
            <a:r>
              <a:rPr b="1" lang="ru-RU" sz="2400" spc="-1" strike="noStrike">
                <a:solidFill>
                  <a:srgbClr val="7030a0"/>
                </a:solidFill>
                <a:latin typeface="Cambria"/>
              </a:rPr>
              <a:t>gold was discovered ther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ustralia’s is located in </a:t>
            </a: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the southern</a:t>
            </a:r>
            <a:r>
              <a:rPr b="1" lang="en-US" sz="24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misphe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hottest month in Australia is </a:t>
            </a:r>
            <a:r>
              <a:rPr b="1" lang="ru-RU" sz="2400" spc="-1" strike="noStrike">
                <a:solidFill>
                  <a:srgbClr val="00b0f0"/>
                </a:solidFill>
                <a:latin typeface="Cambria"/>
              </a:rPr>
              <a:t>Januar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bout 70 per cent of the population live in </a:t>
            </a: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he </a:t>
            </a: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10 largest citie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Canberra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s the capital of Australia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Olympic Games were held in Sydney in </a:t>
            </a:r>
            <a:r>
              <a:rPr b="1" lang="ru-RU" sz="2400" spc="-1" strike="noStrike">
                <a:solidFill>
                  <a:srgbClr val="7030a0"/>
                </a:solidFill>
                <a:latin typeface="Cambria"/>
              </a:rPr>
              <a:t>2000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f in London it’s 8 a.m.,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 Sydney it is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10 p.m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People in Australia speak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English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Australia becam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independent in </a:t>
            </a:r>
            <a:r>
              <a:rPr b="1" lang="ru-RU" sz="2400" spc="-1" strike="noStrike">
                <a:solidFill>
                  <a:srgbClr val="00b0f0"/>
                </a:solidFill>
                <a:latin typeface="Cambria"/>
              </a:rPr>
              <a:t>1931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The 5</a:t>
            </a:r>
            <a:r>
              <a:rPr b="0" lang="en-US" sz="5400" spc="-1" strike="noStrike" baseline="30000">
                <a:solidFill>
                  <a:srgbClr val="742217"/>
                </a:solidFill>
                <a:latin typeface="Franklin Gothic Book"/>
              </a:rPr>
              <a:t>th</a:t>
            </a: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 task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78560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mbria"/>
              </a:rPr>
              <a:t>What is wrong in the sentences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ustralia is situated south of Asia between the Pacific and the Atlantic Ocean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anberra is the capital of Australia and the biggest city of Australia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borigines now comprise only 50 per cent of the population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42217"/>
                </a:solidFill>
                <a:latin typeface="Calibri"/>
              </a:rPr>
              <a:t>К е у</a:t>
            </a:r>
            <a:r>
              <a:rPr b="0" lang="en-US" sz="5400" spc="-1" strike="noStrike">
                <a:solidFill>
                  <a:srgbClr val="742217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800" spc="-1" strike="noStrike">
                <a:solidFill>
                  <a:srgbClr val="4e1610"/>
                </a:solidFill>
                <a:latin typeface="Cambria"/>
              </a:rPr>
              <a:t>Australia is situated south of Asia, between the Pacific and </a:t>
            </a:r>
            <a:r>
              <a:rPr b="1" lang="en-US" sz="2800" spc="-1" strike="noStrike" u="sng">
                <a:solidFill>
                  <a:srgbClr val="4e1610"/>
                </a:solidFill>
                <a:uFillTx/>
                <a:latin typeface="Cambria"/>
              </a:rPr>
              <a:t>the Indian </a:t>
            </a:r>
            <a:r>
              <a:rPr b="1" lang="en-US" sz="2800" spc="-1" strike="noStrike">
                <a:solidFill>
                  <a:srgbClr val="4e1610"/>
                </a:solidFill>
                <a:latin typeface="Cambria"/>
              </a:rPr>
              <a:t>Ocean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1610"/>
                </a:solidFill>
                <a:latin typeface="Cambria"/>
              </a:rPr>
              <a:t>Canberra is the capital of Australia, but it </a:t>
            </a:r>
            <a:r>
              <a:rPr b="1" lang="en-US" sz="2800" spc="-1" strike="noStrike" u="sng">
                <a:solidFill>
                  <a:srgbClr val="4e1610"/>
                </a:solidFill>
                <a:uFillTx/>
                <a:latin typeface="Cambria"/>
              </a:rPr>
              <a:t>isn’t</a:t>
            </a:r>
            <a:r>
              <a:rPr b="1" lang="en-US" sz="2800" spc="-1" strike="noStrike">
                <a:solidFill>
                  <a:srgbClr val="4e1610"/>
                </a:solidFill>
                <a:latin typeface="Cambria"/>
              </a:rPr>
              <a:t> the biggest city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1610"/>
                </a:solidFill>
                <a:latin typeface="Cambria"/>
              </a:rPr>
              <a:t>Aborigines now comprise only </a:t>
            </a:r>
            <a:r>
              <a:rPr b="1" lang="en-US" sz="2800" spc="-1" strike="noStrike" u="sng">
                <a:solidFill>
                  <a:srgbClr val="4e1610"/>
                </a:solidFill>
                <a:uFillTx/>
                <a:latin typeface="Cambria"/>
              </a:rPr>
              <a:t>1,5</a:t>
            </a:r>
            <a:r>
              <a:rPr b="1" lang="en-US" sz="2800" spc="-1" strike="noStrike">
                <a:solidFill>
                  <a:srgbClr val="4e1610"/>
                </a:solidFill>
                <a:latin typeface="Cambria"/>
              </a:rPr>
              <a:t> per cent of the population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The 6</a:t>
            </a:r>
            <a:r>
              <a:rPr b="0" lang="en-US" sz="5400" spc="-1" strike="noStrike" baseline="30000">
                <a:solidFill>
                  <a:srgbClr val="742217"/>
                </a:solidFill>
                <a:latin typeface="Franklin Gothic Book"/>
              </a:rPr>
              <a:t>th</a:t>
            </a: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 task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mbria"/>
              </a:rPr>
              <a:t>Write the names of the territories on the map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Western Australia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Northen Territory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outh Australia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Queensland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New South Wales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5" name="Picture 2" descr="C:\Documents and Settings\MASHA\Рабочий стол\ПУБЛИКАЦИИ\Новая папка\australia_map_50_0.jpg"/>
          <p:cNvPicPr/>
          <p:nvPr/>
        </p:nvPicPr>
        <p:blipFill>
          <a:blip r:embed="rId1"/>
          <a:stretch/>
        </p:blipFill>
        <p:spPr>
          <a:xfrm>
            <a:off x="3714840" y="2143080"/>
            <a:ext cx="4816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142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The 7</a:t>
            </a:r>
            <a:r>
              <a:rPr b="0" lang="en-US" sz="5400" spc="-1" strike="noStrike" baseline="30000">
                <a:solidFill>
                  <a:srgbClr val="742217"/>
                </a:solidFill>
                <a:latin typeface="Franklin Gothic Book"/>
              </a:rPr>
              <a:t>th</a:t>
            </a: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 task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99760"/>
            <a:ext cx="777240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ranslate the sentences into English – first read the Russian variant, then – the transla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Большая часть населения – англичане по происхождению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Английский – основной язык, на котором говорят австралийцы, но один из пяти австралийцев также говорит на итальянском, греческом, арабском, китайском или испанском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Средиземноморский климат, галереи, музеи, архитектура и парки привлекают туристов в Сидней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42217"/>
                </a:solidFill>
                <a:latin typeface="Calibri"/>
              </a:rPr>
              <a:t>К е у</a:t>
            </a:r>
            <a:r>
              <a:rPr b="0" lang="en-US" sz="5400" spc="-1" strike="noStrike">
                <a:solidFill>
                  <a:srgbClr val="742217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57160" y="1714680"/>
            <a:ext cx="77724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8c6a"/>
                </a:solidFill>
                <a:latin typeface="Cambria"/>
              </a:rPr>
              <a:t>1) The population is mainly English in backgroun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455760" indent="-455760">
              <a:buClr>
                <a:srgbClr val="e6b1ab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e3611"/>
                </a:solidFill>
                <a:latin typeface="Cambria"/>
              </a:rPr>
              <a:t>2) English is the main language spoken, but one in five Australians speak also Italian, Greek, Arabic, Lebanese, Chinese or Spanish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40c"/>
                </a:solidFill>
                <a:latin typeface="Cambria"/>
              </a:rPr>
              <a:t>3) Mediterranean climate, galleries, museums, architecture and parks attract tourist to Sydne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The 8</a:t>
            </a:r>
            <a:r>
              <a:rPr b="0" lang="en-US" sz="5400" spc="-1" strike="noStrike" baseline="30000">
                <a:solidFill>
                  <a:srgbClr val="742217"/>
                </a:solidFill>
                <a:latin typeface="Franklin Gothic Book"/>
              </a:rPr>
              <a:t>th</a:t>
            </a: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 task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Answer the questions: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at is the official name of the country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en was the Commonwealth of Australia formed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at kind of state is Australia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at is the capital of Australia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o is the Head of State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ow many states and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erritories are there in Australia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at is the population of Australia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ich is the official language in Australia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42217"/>
                </a:solidFill>
                <a:latin typeface="Calibri"/>
              </a:rPr>
              <a:t>К е у</a:t>
            </a:r>
            <a:r>
              <a:rPr b="0" lang="en-US" sz="5400" spc="-1" strike="noStrike">
                <a:solidFill>
                  <a:srgbClr val="742217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lvl="2" marL="167760" indent="-166680"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The Commonwealth of Australia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67760" indent="-166680"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In 1901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67760" indent="-166680"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Constitutional Monarchy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67760" indent="-166680"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Canberra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67760" indent="-166680"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Queen Elizabeth 2 of Great Britain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67760" indent="-166680"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6 and 2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67760" indent="-166680"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More than 18 million peopl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67760" indent="-166680"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English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67760" indent="-166680"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t is blue, red and whit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67760" indent="-1666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67760" indent="-1666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7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4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4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4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4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4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4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4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4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4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4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400" fill="hold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00" fill="hold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The 8</a:t>
            </a:r>
            <a:r>
              <a:rPr b="0" lang="en-US" sz="5400" spc="-1" strike="noStrike" baseline="30000">
                <a:solidFill>
                  <a:srgbClr val="742217"/>
                </a:solidFill>
                <a:latin typeface="Franklin Gothic Book"/>
              </a:rPr>
              <a:t>th</a:t>
            </a: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 task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at colour is the flag of Australia?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ich are the national colours?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at animals can be seen on Australia’s coat-of-arms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?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ich is the hottest month in Australia?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at are the main ports in Australia?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How long does kangaroo live?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an emu fly?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at are Australian’s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best-known animals?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en is spring in Australia?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at is the main occupation in Australia?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at does Koala eat?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42217"/>
                </a:solidFill>
                <a:latin typeface="Calibri"/>
              </a:rPr>
              <a:t>К е у</a:t>
            </a:r>
            <a:r>
              <a:rPr b="0" lang="en-US" sz="5400" spc="-1" strike="noStrike">
                <a:solidFill>
                  <a:srgbClr val="742217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71680" y="1447920"/>
            <a:ext cx="8115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211320" indent="-210240">
              <a:lnSpc>
                <a:spcPct val="114000"/>
              </a:lnSpc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Green and g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ld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211320" indent="-210240">
              <a:lnSpc>
                <a:spcPct val="114000"/>
              </a:lnSpc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The Kangaroo and emu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211320" indent="-210240">
              <a:lnSpc>
                <a:spcPct val="114000"/>
              </a:lnSpc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January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211320" indent="-210240">
              <a:lnSpc>
                <a:spcPct val="114000"/>
              </a:lnSpc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ydney, Melbourne, Adelaide, Brisbane and Perth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211320" indent="-210240">
              <a:lnSpc>
                <a:spcPct val="114000"/>
              </a:lnSpc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10 – 15 year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211320" indent="-210240">
              <a:lnSpc>
                <a:spcPct val="114000"/>
              </a:lnSpc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No, it can’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211320" indent="-210240">
              <a:lnSpc>
                <a:spcPct val="114000"/>
              </a:lnSpc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e Kangaroo, Koala, the dingo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211320" indent="-210240">
              <a:lnSpc>
                <a:spcPct val="114000"/>
              </a:lnSpc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From September to November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211320" indent="-210240">
              <a:lnSpc>
                <a:spcPct val="114000"/>
              </a:lnSpc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211320" indent="-210240">
              <a:lnSpc>
                <a:spcPct val="114000"/>
              </a:lnSpc>
              <a:buClr>
                <a:srgbClr val="e6b1a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eaves of eucalyptu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e3611"/>
                </a:solidFill>
                <a:latin typeface="Franklin Gothic Book"/>
              </a:rPr>
              <a:t>Welcome to Australia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1" name="Picture 2" descr="C:\Documents and Settings\MASHA\Рабочий стол\ПУБЛИКАЦИИ\Новая папка\aaa4b6a76590f79acfc7a6361797d574.gif"/>
          <p:cNvPicPr/>
          <p:nvPr/>
        </p:nvPicPr>
        <p:blipFill>
          <a:blip r:embed="rId1"/>
          <a:stretch/>
        </p:blipFill>
        <p:spPr>
          <a:xfrm>
            <a:off x="1714680" y="1500120"/>
            <a:ext cx="620064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3600" y="14292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The 9</a:t>
            </a:r>
            <a:r>
              <a:rPr b="0" lang="en-US" sz="5400" spc="-1" strike="noStrike" baseline="30000">
                <a:solidFill>
                  <a:srgbClr val="742217"/>
                </a:solidFill>
                <a:latin typeface="Franklin Gothic Book"/>
              </a:rPr>
              <a:t>th</a:t>
            </a: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 task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9" name="Содержимое 4" descr=""/>
          <p:cNvPicPr/>
          <p:nvPr/>
        </p:nvPicPr>
        <p:blipFill>
          <a:blip r:embed="rId1"/>
          <a:stretch/>
        </p:blipFill>
        <p:spPr>
          <a:xfrm>
            <a:off x="420840" y="1109520"/>
            <a:ext cx="8199360" cy="5467320"/>
          </a:xfrm>
          <a:prstGeom prst="rect">
            <a:avLst/>
          </a:prstGeom>
          <a:ln w="0">
            <a:noFill/>
          </a:ln>
        </p:spPr>
      </p:pic>
      <p:sp>
        <p:nvSpPr>
          <p:cNvPr id="270" name="5-конечная звезда 5"/>
          <p:cNvSpPr/>
          <p:nvPr/>
        </p:nvSpPr>
        <p:spPr>
          <a:xfrm>
            <a:off x="500040" y="2500200"/>
            <a:ext cx="357120" cy="285840"/>
          </a:xfrm>
          <a:prstGeom prst="pi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5-конечная звезда 6"/>
          <p:cNvSpPr/>
          <p:nvPr/>
        </p:nvSpPr>
        <p:spPr>
          <a:xfrm>
            <a:off x="500040" y="4071960"/>
            <a:ext cx="357120" cy="285840"/>
          </a:xfrm>
          <a:prstGeom prst="pi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5-конечная звезда 7"/>
          <p:cNvSpPr/>
          <p:nvPr/>
        </p:nvSpPr>
        <p:spPr>
          <a:xfrm>
            <a:off x="4929120" y="2786040"/>
            <a:ext cx="357120" cy="285840"/>
          </a:xfrm>
          <a:prstGeom prst="pi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5-конечная звезда 8"/>
          <p:cNvSpPr/>
          <p:nvPr/>
        </p:nvSpPr>
        <p:spPr>
          <a:xfrm>
            <a:off x="4929120" y="4000680"/>
            <a:ext cx="357120" cy="285480"/>
          </a:xfrm>
          <a:prstGeom prst="pi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142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The 9</a:t>
            </a:r>
            <a:r>
              <a:rPr b="0" lang="en-US" sz="5400" spc="-1" strike="noStrike" baseline="30000">
                <a:solidFill>
                  <a:srgbClr val="742217"/>
                </a:solidFill>
                <a:latin typeface="Franklin Gothic Book"/>
              </a:rPr>
              <a:t>th</a:t>
            </a: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 task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1071360"/>
            <a:ext cx="77724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5. Which city is Australia’s oldest and largest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Sydne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Melbourn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Canberr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6. Who are the Australian natives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Eskimo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Aborigin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Indian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7. Who discovered Australia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Christopher Columbu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Captain Cook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Lewis and Clark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5-конечная звезда 4"/>
          <p:cNvSpPr/>
          <p:nvPr/>
        </p:nvSpPr>
        <p:spPr>
          <a:xfrm>
            <a:off x="1143000" y="1571760"/>
            <a:ext cx="357120" cy="285480"/>
          </a:xfrm>
          <a:prstGeom prst="pi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5-конечная звезда 5"/>
          <p:cNvSpPr/>
          <p:nvPr/>
        </p:nvSpPr>
        <p:spPr>
          <a:xfrm>
            <a:off x="3362400" y="3786120"/>
            <a:ext cx="357120" cy="285840"/>
          </a:xfrm>
          <a:prstGeom prst="pi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5-конечная звезда 6"/>
          <p:cNvSpPr/>
          <p:nvPr/>
        </p:nvSpPr>
        <p:spPr>
          <a:xfrm>
            <a:off x="5072040" y="5572080"/>
            <a:ext cx="357120" cy="285840"/>
          </a:xfrm>
          <a:prstGeom prst="pi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The 9</a:t>
            </a:r>
            <a:r>
              <a:rPr b="0" lang="en-US" sz="5400" spc="-1" strike="noStrike" baseline="30000">
                <a:solidFill>
                  <a:srgbClr val="742217"/>
                </a:solidFill>
                <a:latin typeface="Franklin Gothic Book"/>
              </a:rPr>
              <a:t>th</a:t>
            </a: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 task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0" name="Содержимое 2" descr=""/>
          <p:cNvPicPr/>
          <p:nvPr/>
        </p:nvPicPr>
        <p:blipFill>
          <a:blip r:embed="rId1"/>
          <a:stretch/>
        </p:blipFill>
        <p:spPr>
          <a:xfrm>
            <a:off x="907920" y="1395360"/>
            <a:ext cx="7785360" cy="5181480"/>
          </a:xfrm>
          <a:prstGeom prst="rect">
            <a:avLst/>
          </a:prstGeom>
          <a:ln w="0">
            <a:noFill/>
          </a:ln>
        </p:spPr>
      </p:pic>
      <p:sp>
        <p:nvSpPr>
          <p:cNvPr id="281" name="5-конечная звезда 5"/>
          <p:cNvSpPr/>
          <p:nvPr/>
        </p:nvSpPr>
        <p:spPr>
          <a:xfrm>
            <a:off x="1023840" y="2403360"/>
            <a:ext cx="357120" cy="285840"/>
          </a:xfrm>
          <a:prstGeom prst="pi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5-конечная звезда 6"/>
          <p:cNvSpPr/>
          <p:nvPr/>
        </p:nvSpPr>
        <p:spPr>
          <a:xfrm>
            <a:off x="1071720" y="4500720"/>
            <a:ext cx="357120" cy="285480"/>
          </a:xfrm>
          <a:prstGeom prst="pi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5-конечная звезда 7"/>
          <p:cNvSpPr/>
          <p:nvPr/>
        </p:nvSpPr>
        <p:spPr>
          <a:xfrm>
            <a:off x="4714920" y="4000680"/>
            <a:ext cx="357120" cy="285480"/>
          </a:xfrm>
          <a:prstGeom prst="pi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47720" y="225360"/>
            <a:ext cx="7772400" cy="488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42217"/>
                </a:solidFill>
                <a:latin typeface="Calibri"/>
              </a:rPr>
              <a:t>Список использованных </a:t>
            </a:r>
            <a:r>
              <a:rPr b="0" lang="en-US" sz="2800" spc="-1" strike="noStrike">
                <a:solidFill>
                  <a:srgbClr val="742217"/>
                </a:solidFill>
                <a:latin typeface="Calibri"/>
              </a:rPr>
              <a:t>источников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13840" y="785520"/>
            <a:ext cx="8472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Активные ссылки на материалы из сети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462960" indent="-46296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Вопросы о городах Австралии </a:t>
            </a:r>
            <a:r>
              <a:rPr b="0" lang="en-US" sz="22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http://australia-ru.com/sydney.htm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462960" indent="-46296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Вопросы о местоположении и животных Австралии </a:t>
            </a:r>
            <a:r>
              <a:rPr b="0" lang="en-US" sz="2200" spc="-1" strike="noStrike" u="sng">
                <a:solidFill>
                  <a:srgbClr val="cc9900"/>
                </a:solidFill>
                <a:uFillTx/>
                <a:latin typeface="Perpetua"/>
                <a:hlinkClick r:id="rId2"/>
              </a:rPr>
              <a:t>http://</a:t>
            </a:r>
            <a:r>
              <a:rPr b="0" lang="en-US" sz="2200" spc="-1" strike="noStrike" u="sng">
                <a:solidFill>
                  <a:srgbClr val="cc9900"/>
                </a:solidFill>
                <a:uFillTx/>
                <a:latin typeface="Perpetua"/>
                <a:hlinkClick r:id="rId3"/>
              </a:rPr>
              <a:t>www.csu.edu.au/australia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462960" indent="-46296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Вопросы о населении Австралии </a:t>
            </a:r>
            <a:r>
              <a:rPr b="0" lang="en-US" sz="2200" spc="-1" strike="noStrike" u="sng">
                <a:solidFill>
                  <a:srgbClr val="cc9900"/>
                </a:solidFill>
                <a:uFillTx/>
                <a:latin typeface="Perpetua"/>
                <a:hlinkClick r:id="rId4"/>
              </a:rPr>
              <a:t>http://</a:t>
            </a:r>
            <a:r>
              <a:rPr b="0" lang="en-US" sz="2200" spc="-1" strike="noStrike" u="sng">
                <a:solidFill>
                  <a:srgbClr val="cc9900"/>
                </a:solidFill>
                <a:uFillTx/>
                <a:latin typeface="Perpetua"/>
                <a:hlinkClick r:id="rId5"/>
              </a:rPr>
              <a:t>www.gday.ru/index.php?option</a:t>
            </a:r>
            <a:r>
              <a:rPr b="0" lang="en-US" sz="2200" spc="-1" strike="noStrike" u="sng">
                <a:solidFill>
                  <a:srgbClr val="cc9900"/>
                </a:solidFill>
                <a:uFillTx/>
                <a:latin typeface="Perpetua"/>
                <a:hlinkClick r:id="rId6"/>
              </a:rPr>
              <a:t>=</a:t>
            </a:r>
            <a:r>
              <a:rPr b="0" lang="en-US" sz="2200" spc="-1" strike="noStrike" u="sng">
                <a:solidFill>
                  <a:srgbClr val="cc9900"/>
                </a:solidFill>
                <a:uFillTx/>
                <a:latin typeface="Perpetua"/>
                <a:hlinkClick r:id="rId7"/>
              </a:rPr>
              <a:t>com_content&amp;task</a:t>
            </a:r>
            <a:r>
              <a:rPr b="0" lang="en-US" sz="2200" spc="-1" strike="noStrike" u="sng">
                <a:solidFill>
                  <a:srgbClr val="cc9900"/>
                </a:solidFill>
                <a:uFillTx/>
                <a:latin typeface="Perpetua"/>
                <a:hlinkClick r:id="rId8"/>
              </a:rPr>
              <a:t>=</a:t>
            </a:r>
            <a:r>
              <a:rPr b="0" lang="en-US" sz="2200" spc="-1" strike="noStrike" u="sng">
                <a:solidFill>
                  <a:srgbClr val="cc9900"/>
                </a:solidFill>
                <a:uFillTx/>
                <a:latin typeface="Perpetua"/>
                <a:hlinkClick r:id="rId9"/>
              </a:rPr>
              <a:t>view&amp;id</a:t>
            </a:r>
            <a:r>
              <a:rPr b="0" lang="en-US" sz="2200" spc="-1" strike="noStrike" u="sng">
                <a:solidFill>
                  <a:srgbClr val="cc9900"/>
                </a:solidFill>
                <a:uFillTx/>
                <a:latin typeface="Perpetua"/>
                <a:hlinkClick r:id="rId10"/>
              </a:rPr>
              <a:t>=634&amp;Itemid=551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462960" indent="-462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Активные ссылки на изображения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462960" indent="-46296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Изображение герба Австралии </a:t>
            </a:r>
            <a:r>
              <a:rPr b="0" lang="en-US" sz="2200" spc="-1" strike="noStrike" u="sng">
                <a:solidFill>
                  <a:srgbClr val="cc9900"/>
                </a:solidFill>
                <a:uFillTx/>
                <a:latin typeface="Perpetua"/>
                <a:hlinkClick r:id="rId11"/>
              </a:rPr>
              <a:t>http://</a:t>
            </a:r>
            <a:r>
              <a:rPr b="0" lang="en-US" sz="2200" spc="-1" strike="noStrike" u="sng">
                <a:solidFill>
                  <a:srgbClr val="cc9900"/>
                </a:solidFill>
                <a:uFillTx/>
                <a:latin typeface="Perpetua"/>
                <a:hlinkClick r:id="rId12"/>
              </a:rPr>
              <a:t>yandex.ru/images/search?viewport</a:t>
            </a:r>
            <a:r>
              <a:rPr b="0" lang="en-US" sz="2200" spc="-1" strike="noStrike" u="sng">
                <a:solidFill>
                  <a:srgbClr val="cc9900"/>
                </a:solidFill>
                <a:uFillTx/>
                <a:latin typeface="Perpetua"/>
                <a:hlinkClick r:id="rId13"/>
              </a:rPr>
              <a:t>=</a:t>
            </a:r>
            <a:r>
              <a:rPr b="0" lang="en-US" sz="2200" spc="-1" strike="noStrike" u="sng">
                <a:solidFill>
                  <a:srgbClr val="cc9900"/>
                </a:solidFill>
                <a:uFillTx/>
                <a:latin typeface="Perpetua"/>
                <a:hlinkClick r:id="rId14"/>
              </a:rPr>
              <a:t>wide&amp;text</a:t>
            </a:r>
            <a:r>
              <a:rPr b="0" lang="en-US" sz="2200" spc="-1" strike="noStrike" u="sng">
                <a:solidFill>
                  <a:srgbClr val="cc9900"/>
                </a:solidFill>
                <a:uFillTx/>
                <a:latin typeface="Perpetua"/>
                <a:hlinkClick r:id="rId15"/>
              </a:rPr>
              <a:t>=</a:t>
            </a:r>
            <a:r>
              <a:rPr b="0" lang="ru-RU" sz="2200" spc="-1" strike="noStrike" u="sng">
                <a:solidFill>
                  <a:srgbClr val="cc9900"/>
                </a:solidFill>
                <a:uFillTx/>
                <a:latin typeface="Perpetua"/>
                <a:hlinkClick r:id="rId16"/>
              </a:rPr>
              <a:t>герб%20австралии&amp;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mg_url=http://emigration.cc/img/Australia-arm.jpg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462960" indent="-46296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Изображение карты Австралии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://yandex.ru/images/search?viewport=wide&amp;text=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австралия%20карта&amp;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mg_url=http://www.michellehenry.fr/bgaustralia_map.jpg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462960" indent="-46296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The 1</a:t>
            </a:r>
            <a:r>
              <a:rPr b="0" lang="en-US" sz="5400" spc="-1" strike="noStrike" baseline="30000">
                <a:solidFill>
                  <a:srgbClr val="742217"/>
                </a:solidFill>
                <a:latin typeface="Franklin Gothic Book"/>
              </a:rPr>
              <a:t>st</a:t>
            </a: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 task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78560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mbria"/>
              </a:rPr>
              <a:t>Your task is to put the missing letters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b050"/>
                </a:solidFill>
                <a:latin typeface="Monotype Corsiva"/>
              </a:rPr>
              <a:t>Abro_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         </a:t>
            </a:r>
            <a:r>
              <a:rPr b="1" lang="en-US" sz="3400" spc="-1" strike="noStrike">
                <a:solidFill>
                  <a:srgbClr val="0070c0"/>
                </a:solidFill>
                <a:latin typeface="Bell Gothic Std Black"/>
              </a:rPr>
              <a:t>Abor_g_ne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Perpetua"/>
              </a:rPr>
              <a:t>       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Birch Std"/>
              </a:rPr>
              <a:t>K_ngaro_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rush Script Std"/>
              </a:rPr>
              <a:t>                      </a:t>
            </a:r>
            <a:r>
              <a:rPr b="1" lang="en-US" sz="3200" spc="-1" strike="noStrike">
                <a:solidFill>
                  <a:srgbClr val="7030a0"/>
                </a:solidFill>
                <a:latin typeface="Brush Script Std"/>
              </a:rPr>
              <a:t>N</a:t>
            </a:r>
            <a:r>
              <a:rPr b="1" lang="en-US" sz="3200" spc="-1" strike="noStrike" baseline="30000">
                <a:solidFill>
                  <a:srgbClr val="7030a0"/>
                </a:solidFill>
                <a:latin typeface="Brush Script Std"/>
              </a:rPr>
              <a:t>_</a:t>
            </a:r>
            <a:r>
              <a:rPr b="1" lang="en-US" sz="3200" spc="-1" strike="noStrike">
                <a:solidFill>
                  <a:srgbClr val="7030a0"/>
                </a:solidFill>
                <a:latin typeface="Brush Script Std"/>
              </a:rPr>
              <a:t>tiv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mbria"/>
              </a:rPr>
              <a:t>                                                              </a:t>
            </a:r>
            <a:r>
              <a:rPr b="1" lang="en-US" sz="3200" spc="-1" strike="noStrike">
                <a:solidFill>
                  <a:srgbClr val="9e3611"/>
                </a:solidFill>
                <a:latin typeface="Cooper Std Black"/>
              </a:rPr>
              <a:t>Harb_ _r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42217"/>
                </a:solidFill>
                <a:latin typeface="Calibri"/>
              </a:rPr>
              <a:t>К е у</a:t>
            </a:r>
            <a:r>
              <a:rPr b="0" lang="en-US" sz="5400" spc="-1" strike="noStrike">
                <a:solidFill>
                  <a:srgbClr val="742217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446400" indent="-44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Cambria"/>
              </a:rPr>
              <a:t>Abroad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lvl="1" marL="446400" indent="-44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           </a:t>
            </a: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Aborigine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lvl="1" marL="446400" indent="-44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Cambria"/>
              </a:rPr>
              <a:t>Kangaroo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lvl="1" marL="446400" indent="-44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                                  </a:t>
            </a:r>
            <a:r>
              <a:rPr b="1" lang="en-US" sz="4000" spc="-1" strike="noStrike">
                <a:solidFill>
                  <a:srgbClr val="7030a0"/>
                </a:solidFill>
                <a:latin typeface="Cambria"/>
              </a:rPr>
              <a:t>Native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lvl="1" marL="446400" indent="-44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                                              </a:t>
            </a:r>
            <a:r>
              <a:rPr b="1" lang="en-US" sz="4000" spc="-1" strike="noStrike">
                <a:solidFill>
                  <a:srgbClr val="69240c"/>
                </a:solidFill>
                <a:latin typeface="Cambria"/>
              </a:rPr>
              <a:t>Harbour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The 2</a:t>
            </a:r>
            <a:r>
              <a:rPr b="0" lang="en-US" sz="5400" spc="-1" strike="noStrike" baseline="30000">
                <a:solidFill>
                  <a:srgbClr val="742217"/>
                </a:solidFill>
                <a:latin typeface="Franklin Gothic Book"/>
              </a:rPr>
              <a:t>nd</a:t>
            </a: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 task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mbria"/>
              </a:rPr>
              <a:t>There are 20 parts of 10 words. Try to combine them into the words.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Read the words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523880" y="2533680"/>
          <a:ext cx="6096240" cy="33908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390840"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rch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- na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Neigh-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mbria"/>
                          <a:ea typeface="Times New Roman"/>
                        </a:rPr>
                        <a:t>ture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ra-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employment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Flo-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garoo </a:t>
                      </a:r>
                      <a:br>
                        <a:rPr sz="2800"/>
                      </a:b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mbria"/>
                          <a:ea typeface="Times New Roman"/>
                        </a:rPr>
                        <a:t>K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- bourh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Sp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- ra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Un-tectur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Temper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- ala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Fau-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ambria"/>
                          <a:ea typeface="Times New Roman"/>
                        </a:rPr>
                        <a:t>bic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Kan-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n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42217"/>
                </a:solidFill>
                <a:latin typeface="Calibri"/>
              </a:rPr>
              <a:t>К е у</a:t>
            </a:r>
            <a:r>
              <a:rPr b="0" lang="en-US" sz="5400" spc="-1" strike="noStrike">
                <a:solidFill>
                  <a:srgbClr val="742217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14240" y="1500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rchi-tecture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Spa-nish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1440" indent="-271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Neigh-bourhood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Un-employmen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1440" indent="-271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Ara-bic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empera-tur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1440" indent="-271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Flo-ra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                                    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Fau-na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1440" indent="-271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Ko-ala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Kan-garoo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1440" indent="-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1440" indent="-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1440" indent="-271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The 3</a:t>
            </a:r>
            <a:r>
              <a:rPr b="0" lang="en-US" sz="5400" spc="-1" strike="noStrike" baseline="30000">
                <a:solidFill>
                  <a:srgbClr val="742217"/>
                </a:solidFill>
                <a:latin typeface="Franklin Gothic Book"/>
              </a:rPr>
              <a:t>rd</a:t>
            </a: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 task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57120" y="1142640"/>
            <a:ext cx="8258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mbria"/>
              </a:rPr>
              <a:t>Read the sentence and say if it is true or false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498960" indent="-49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1) Canberra is the home of Australia’s government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498960" indent="-49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ambria"/>
              </a:rPr>
              <a:t>       </a:t>
            </a:r>
            <a:r>
              <a:rPr b="1" lang="en-US" sz="2600" spc="-1" strike="noStrike">
                <a:solidFill>
                  <a:srgbClr val="00b050"/>
                </a:solidFill>
                <a:latin typeface="Cambria"/>
              </a:rPr>
              <a:t>TRUE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498960" indent="-49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2) Sydney is the capital of Australia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498960" indent="-49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1" lang="en-US" sz="2600" spc="-1" strike="noStrike">
                <a:solidFill>
                  <a:srgbClr val="ff0000"/>
                </a:solidFill>
                <a:latin typeface="Cambria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498960" indent="-49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3) Sydney is the largest and the oldest city in Australia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498960" indent="-49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ambria"/>
              </a:rPr>
              <a:t>       </a:t>
            </a:r>
            <a:r>
              <a:rPr b="1" lang="en-US" sz="2600" spc="-1" strike="noStrike">
                <a:solidFill>
                  <a:srgbClr val="00b050"/>
                </a:solidFill>
                <a:latin typeface="Cambria"/>
              </a:rPr>
              <a:t>TRUE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498960" indent="-49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4) Canberra is a “cyclist’s paradise”.</a:t>
            </a:r>
            <a:r>
              <a:rPr b="0" lang="en-US" sz="2600" spc="-1" strike="noStrike">
                <a:solidFill>
                  <a:srgbClr val="00b05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498960" indent="-49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ambria"/>
              </a:rPr>
              <a:t>       </a:t>
            </a:r>
            <a:r>
              <a:rPr b="1" lang="en-US" sz="2600" spc="-1" strike="noStrike">
                <a:solidFill>
                  <a:srgbClr val="00b050"/>
                </a:solidFill>
                <a:latin typeface="Cambria"/>
              </a:rPr>
              <a:t>TRUE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498960" indent="-49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5) Sydney Opera House is one of the greatest examples of 2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mbr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century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498960" indent="-49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ambria"/>
              </a:rPr>
              <a:t>       </a:t>
            </a:r>
            <a:r>
              <a:rPr b="1" lang="en-US" sz="2600" spc="-1" strike="noStrike">
                <a:solidFill>
                  <a:srgbClr val="00b050"/>
                </a:solidFill>
                <a:latin typeface="Cambria"/>
              </a:rPr>
              <a:t>TRUE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The 4</a:t>
            </a:r>
            <a:r>
              <a:rPr b="0" lang="en-US" sz="5400" spc="-1" strike="noStrike" baseline="30000">
                <a:solidFill>
                  <a:srgbClr val="742217"/>
                </a:solidFill>
                <a:latin typeface="Franklin Gothic Book"/>
              </a:rPr>
              <a:t>th</a:t>
            </a:r>
            <a:r>
              <a:rPr b="0" lang="en-US" sz="5400" spc="-1" strike="noStrike">
                <a:solidFill>
                  <a:srgbClr val="742217"/>
                </a:solidFill>
                <a:latin typeface="Franklin Gothic Book"/>
              </a:rPr>
              <a:t> task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64304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Complete the sentences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Australia was discovered in ______ by ________.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he discoverer of Australia claimed it for ___________.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The first settlers were ________________.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People rushed to Australia because _________.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Australia’s is located in __________ hemisphere.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he hottest month in Australia is ________.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42217"/>
                </a:solidFill>
                <a:latin typeface="Franklin Gothic Medium"/>
              </a:rPr>
              <a:t>The 4</a:t>
            </a:r>
            <a:r>
              <a:rPr b="0" lang="en-US" sz="5400" spc="-1" strike="noStrike" baseline="30000">
                <a:solidFill>
                  <a:srgbClr val="742217"/>
                </a:solidFill>
                <a:latin typeface="Franklin Gothic Medium"/>
              </a:rPr>
              <a:t>th</a:t>
            </a:r>
            <a:r>
              <a:rPr b="0" lang="en-US" sz="5400" spc="-1" strike="noStrike">
                <a:solidFill>
                  <a:srgbClr val="742217"/>
                </a:solidFill>
                <a:latin typeface="Franklin Gothic Medium"/>
              </a:rPr>
              <a:t> task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71432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3611"/>
                </a:solidFill>
                <a:latin typeface="Cambria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About 70 per cent of the population live in the __________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e3611"/>
                </a:solidFill>
                <a:latin typeface="Cambria"/>
              </a:rPr>
              <a:t>8.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________ is the capital of Australia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e3611"/>
                </a:solidFill>
                <a:latin typeface="Perpetua"/>
              </a:rPr>
              <a:t>9.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e Olympic Games were held in Sydney in ___________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e3611"/>
                </a:solidFill>
                <a:latin typeface="Cambria"/>
              </a:rPr>
              <a:t>10.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If in London it’s 8 a.m., in Sydney it is _______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e3611"/>
                </a:solidFill>
                <a:latin typeface="Cambria"/>
              </a:rPr>
              <a:t>11.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People in Australia  speak ________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e3611"/>
                </a:solidFill>
                <a:latin typeface="Cambria"/>
              </a:rPr>
              <a:t>12.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Australia became independent in _____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1-18T17:35:55Z</dcterms:modified>
  <cp:revision>48</cp:revision>
  <dc:subject/>
  <dc:title>Викторина  «Добро пожаловать в Австралию»</dc:title>
</cp:coreProperties>
</file>