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gif" ContentType="image/gif"/>
  <Override PartName="/ppt/media/image8.wmf" ContentType="image/x-wmf"/>
  <Override PartName="/ppt/media/image9.png" ContentType="image/png"/>
  <Override PartName="/ppt/media/image13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1982-B598-4352-8DA4-43DC9726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9E9-5958-400E-894D-FCA7AE48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CB0-8CFA-425A-84C0-6E53FEA5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45C-FC1B-42E8-8C7F-4B3893BE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374E-C89A-4FE8-973B-B2F6BAAE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5467-49D6-4AD3-9A2B-DEA947B0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3A73-C7D7-4F6A-AB61-6BF272B5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2544-C184-451B-8F39-B24654D1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02F2-A24F-4DE6-BE26-D4377CD2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94FF-2210-4089-8881-0A961FC8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0E27-85D8-4050-8EDF-EB88D5ED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DAB-E6CD-4231-AB62-808AEB5B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58D4-5CBF-45BA-A0E5-40E262EE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ECFF-06D8-4949-9DA1-A6FEC738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2BC2-FE8A-4834-9BB8-181D2CEC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8243-3288-4CB9-BA15-64805E96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A7FB-CEDA-4A68-941B-5B8EC911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2BB-8740-4704-B78C-1746CF93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1F4-E7DB-42A5-B142-C55236D7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401-0E3E-4FCF-A2E3-7E16EDD2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038-912A-43DF-B1DF-CC8C53C5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B368-2023-48DD-A630-EF3A4B19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1C9C-9263-4964-8BCA-6E7CC18B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9AF-1C89-4741-AFC1-DF6BD228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071C-1450-49C1-BB48-7CB2CA196B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2250-9408-4124-A898-A532D113F3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Wingdings 2"/>
              <a:ea typeface="Wingdings 2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68360" y="2276640"/>
            <a:ext cx="820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Решение уравнен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419640" y="458136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476360" y="436572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979640" y="3716280"/>
            <a:ext cx="223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Wingdings 2"/>
                <a:ea typeface="Wingdings 2"/>
              </a:rPr>
              <a:t>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верим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*х=54           х:16=3            57:х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=54:18           х=16*3            х=57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Х=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х=4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х=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*3=54           48:16=3          57:19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4=54               3=3                 3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Выполним №3 на с.2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11280" y="1628640"/>
            <a:ext cx="17272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611280" y="2565360"/>
            <a:ext cx="17272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11280" y="3429000"/>
            <a:ext cx="1727280" cy="914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340000" y="1628640"/>
            <a:ext cx="936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3276720" y="1628640"/>
            <a:ext cx="91440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211640" y="162864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2340000" y="2565360"/>
            <a:ext cx="936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3276720" y="2565360"/>
            <a:ext cx="934920" cy="841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4211640" y="2565360"/>
            <a:ext cx="914400" cy="84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2340000" y="3429000"/>
            <a:ext cx="936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3276720" y="3429000"/>
            <a:ext cx="9144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4211640" y="3429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"/>
          <p:cNvSpPr/>
          <p:nvPr/>
        </p:nvSpPr>
        <p:spPr>
          <a:xfrm>
            <a:off x="4211640" y="2565360"/>
            <a:ext cx="0" cy="8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4211640" y="2565360"/>
            <a:ext cx="0" cy="8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>
            <a:off x="2340000" y="1628640"/>
            <a:ext cx="0" cy="273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3276720" y="1628640"/>
            <a:ext cx="0" cy="273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211640" y="1628640"/>
            <a:ext cx="0" cy="266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>
            <a:off x="611280" y="3429000"/>
            <a:ext cx="446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5"/>
          <p:cNvSpPr/>
          <p:nvPr/>
        </p:nvSpPr>
        <p:spPr>
          <a:xfrm>
            <a:off x="3276720" y="256536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6"/>
          <p:cNvSpPr/>
          <p:nvPr/>
        </p:nvSpPr>
        <p:spPr>
          <a:xfrm>
            <a:off x="611280" y="4365720"/>
            <a:ext cx="453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7"/>
          <p:cNvSpPr/>
          <p:nvPr/>
        </p:nvSpPr>
        <p:spPr>
          <a:xfrm>
            <a:off x="5148360" y="1628640"/>
            <a:ext cx="0" cy="273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8"/>
          <p:cNvSpPr/>
          <p:nvPr/>
        </p:nvSpPr>
        <p:spPr>
          <a:xfrm>
            <a:off x="611280" y="1628640"/>
            <a:ext cx="0" cy="273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>
            <a:off x="611280" y="1628640"/>
            <a:ext cx="453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0"/>
          <p:cNvSpPr/>
          <p:nvPr/>
        </p:nvSpPr>
        <p:spPr>
          <a:xfrm>
            <a:off x="4140360" y="2565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5435640" y="400536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2"/>
          <p:cNvSpPr/>
          <p:nvPr/>
        </p:nvSpPr>
        <p:spPr>
          <a:xfrm>
            <a:off x="5343480" y="4384800"/>
            <a:ext cx="268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4" descr="AG00021_"/>
          <p:cNvPicPr/>
          <p:nvPr/>
        </p:nvPicPr>
        <p:blipFill>
          <a:blip r:embed="rId1"/>
          <a:stretch/>
        </p:blipFill>
        <p:spPr>
          <a:xfrm>
            <a:off x="6012000" y="1989000"/>
            <a:ext cx="1800000" cy="2016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6"/>
          <p:cNvSpPr/>
          <p:nvPr/>
        </p:nvSpPr>
        <p:spPr>
          <a:xfrm>
            <a:off x="900000" y="465300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Расскажите , какой компонент действия и как вы его находи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3 на с.2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971640" y="1916280"/>
            <a:ext cx="165564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971640" y="2781360"/>
            <a:ext cx="165564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971640" y="3645000"/>
            <a:ext cx="165564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 : 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2627280" y="1916280"/>
            <a:ext cx="93672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2627280" y="2781360"/>
            <a:ext cx="9367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2627280" y="3645000"/>
            <a:ext cx="9367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3564000" y="1916280"/>
            <a:ext cx="93672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7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3564000" y="2781360"/>
            <a:ext cx="91440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3564000" y="3645000"/>
            <a:ext cx="91440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4500720" y="1916280"/>
            <a:ext cx="93492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00720" y="2781360"/>
            <a:ext cx="9349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4500720" y="3645000"/>
            <a:ext cx="9144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8" descr="BS00078_"/>
          <p:cNvPicPr/>
          <p:nvPr/>
        </p:nvPicPr>
        <p:blipFill>
          <a:blip r:embed="rId1"/>
          <a:stretch/>
        </p:blipFill>
        <p:spPr>
          <a:xfrm>
            <a:off x="5940360" y="1700280"/>
            <a:ext cx="2303640" cy="2963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9"/>
          <p:cNvSpPr/>
          <p:nvPr/>
        </p:nvSpPr>
        <p:spPr>
          <a:xfrm>
            <a:off x="4413240" y="5599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900000" y="522936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684360" y="4653000"/>
            <a:ext cx="777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Расскажите , какой компонент действия и как вы его находи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Работа по учебник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 такие турис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чем они путешествую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3743280" cy="3095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4788000" y="2708280"/>
            <a:ext cx="35272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Работа по учебник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стр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очитайте условие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ыберите способ краткой запис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пределите графы табл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Что такое 19 челов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2 банки, 3 бан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Что надо узнать в задач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468360" y="4508640"/>
            <a:ext cx="799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Работа по учебник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826920" y="2133720"/>
            <a:ext cx="230508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1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133720"/>
            <a:ext cx="194472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р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5076720" y="2133720"/>
            <a:ext cx="194472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х ба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826920" y="3068640"/>
            <a:ext cx="2305080" cy="93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132000" y="3068640"/>
            <a:ext cx="1944720" cy="86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9 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3132000" y="3933720"/>
            <a:ext cx="1944720" cy="986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9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826920" y="3933720"/>
            <a:ext cx="2305080" cy="986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5076720" y="3068640"/>
            <a:ext cx="1943280" cy="1873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Работа по учебник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611280" y="23414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19 х 2 = 38(б.) – мясных консерв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611280" y="294480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19 х 3 = 57 (б.)–овощных консерв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611280" y="352116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38 + 57 = 95 (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50920" y="410544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В:(2 + 3) х 19 = 95(б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755640" y="48625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 всего 95 ба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Работа по учебник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стр.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тавьте устно задачу по выраже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18 + 42) :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ED00172_"/>
          <p:cNvPicPr/>
          <p:nvPr/>
        </p:nvPicPr>
        <p:blipFill>
          <a:blip r:embed="rId1"/>
          <a:stretch/>
        </p:blipFill>
        <p:spPr>
          <a:xfrm>
            <a:off x="6227640" y="4365720"/>
            <a:ext cx="2016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Итог уро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вайте вспомним, как мы решали сегодня уравнения: подбором или по правил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ьте, как найти неизвестный множитель?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5940360" y="371628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971640" y="4292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4356000" y="37926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им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971640" y="4221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и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Д.з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, №8 стр.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1187280" y="494172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3" name="Picture 5" descr="PH02750G"/>
          <p:cNvPicPr/>
          <p:nvPr/>
        </p:nvPicPr>
        <p:blipFill>
          <a:blip r:embed="rId1"/>
          <a:stretch/>
        </p:blipFill>
        <p:spPr>
          <a:xfrm>
            <a:off x="755640" y="2637000"/>
            <a:ext cx="3421080" cy="20174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BS01080_"/>
          <p:cNvPicPr/>
          <p:nvPr/>
        </p:nvPicPr>
        <p:blipFill>
          <a:blip r:embed="rId2"/>
          <a:stretch/>
        </p:blipFill>
        <p:spPr>
          <a:xfrm>
            <a:off x="5292720" y="1557360"/>
            <a:ext cx="31431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Устный счё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Найдите значение выраж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971640" y="270828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8 : 8 – 2 +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900000" y="4384800"/>
            <a:ext cx="56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0 + 40 : (10 – 5)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435640" y="270828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632560" y="2708280"/>
            <a:ext cx="8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12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300720" y="4292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2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Устный счё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Назовите числа от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7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которые делятся без остатка на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7, 14,21, 28, 35, 42, 49, 56, 63, 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Назовите числа от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6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которые делятся на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без оста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6, 12, 18, 24, 30, 36, 42, 48, 54, 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Устный счёт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34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Расшифруйте название океа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_94        41       _85          32        _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3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4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5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995480" y="2421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4788000" y="24400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4788000" y="256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5200560" y="532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1835280" y="4292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2"/>
          <p:cNvSpPr/>
          <p:nvPr/>
        </p:nvSpPr>
        <p:spPr>
          <a:xfrm>
            <a:off x="1835280" y="4292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2771640" y="4292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3635280" y="4292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5"/>
          <p:cNvSpPr/>
          <p:nvPr/>
        </p:nvSpPr>
        <p:spPr>
          <a:xfrm>
            <a:off x="4500720" y="4292640"/>
            <a:ext cx="9856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6"/>
          <p:cNvSpPr/>
          <p:nvPr/>
        </p:nvSpPr>
        <p:spPr>
          <a:xfrm>
            <a:off x="5508720" y="4292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7"/>
          <p:cNvSpPr/>
          <p:nvPr/>
        </p:nvSpPr>
        <p:spPr>
          <a:xfrm>
            <a:off x="1835280" y="4724280"/>
            <a:ext cx="914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8"/>
          <p:cNvSpPr/>
          <p:nvPr/>
        </p:nvSpPr>
        <p:spPr>
          <a:xfrm>
            <a:off x="2771640" y="4724280"/>
            <a:ext cx="914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3635280" y="4724280"/>
            <a:ext cx="936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0"/>
          <p:cNvSpPr/>
          <p:nvPr/>
        </p:nvSpPr>
        <p:spPr>
          <a:xfrm>
            <a:off x="4500720" y="4724280"/>
            <a:ext cx="1056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1"/>
          <p:cNvSpPr/>
          <p:nvPr/>
        </p:nvSpPr>
        <p:spPr>
          <a:xfrm>
            <a:off x="5508720" y="4724280"/>
            <a:ext cx="914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950760" y="5681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ЕЩЁ ОКЕАНЫ ВЫ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Устный счё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costavictoria"/>
          <p:cNvPicPr/>
          <p:nvPr/>
        </p:nvPicPr>
        <p:blipFill>
          <a:blip r:embed="rId1"/>
          <a:stretch/>
        </p:blipFill>
        <p:spPr>
          <a:xfrm>
            <a:off x="0" y="1268280"/>
            <a:ext cx="6048360" cy="3527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44063"/>
          <p:cNvPicPr/>
          <p:nvPr/>
        </p:nvPicPr>
        <p:blipFill>
          <a:blip r:embed="rId2"/>
          <a:stretch/>
        </p:blipFill>
        <p:spPr>
          <a:xfrm>
            <a:off x="3995640" y="1125360"/>
            <a:ext cx="5148360" cy="386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ove3"/>
          <p:cNvPicPr/>
          <p:nvPr/>
        </p:nvPicPr>
        <p:blipFill>
          <a:blip r:embed="rId3"/>
          <a:stretch/>
        </p:blipFill>
        <p:spPr>
          <a:xfrm>
            <a:off x="468360" y="1630440"/>
            <a:ext cx="4014720" cy="5227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WaterWorld_01"/>
          <p:cNvPicPr/>
          <p:nvPr/>
        </p:nvPicPr>
        <p:blipFill>
          <a:blip r:embed="rId4"/>
          <a:stretch/>
        </p:blipFill>
        <p:spPr>
          <a:xfrm>
            <a:off x="3635280" y="3371760"/>
            <a:ext cx="52009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Устный счё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625920" cy="264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picture0801"/>
          <p:cNvPicPr/>
          <p:nvPr/>
        </p:nvPicPr>
        <p:blipFill>
          <a:blip r:embed="rId2"/>
          <a:stretch/>
        </p:blipFill>
        <p:spPr>
          <a:xfrm>
            <a:off x="3995640" y="2492280"/>
            <a:ext cx="4608720" cy="3600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4356000" y="198900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ун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735120" y="4437000"/>
            <a:ext cx="311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ота цунами у побережья может достигать 30 – 50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ткройте учебник на стр. 2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вайте посмотрим на уравнения в верху стра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компонент неизвестен в первом уравнении? (делите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компонент неизвестен во втором уравнении? (первый множите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компанент неизвестен в третьем уравнении? ( делим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Выполним устно №2 на с.2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799488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чите выв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84360" y="2421000"/>
            <a:ext cx="777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68360" y="1628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Чтобы найти неизвестный множитель, над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124000" y="213372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оизведение разделить на известный множи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39640" y="2997360"/>
            <a:ext cx="777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Чтобы найти неизвестное делимое, над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 flipV="1" rot="10800000">
            <a:off x="2044800" y="3428640"/>
            <a:ext cx="656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елитель умножить на част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 flipV="1" rot="10800000">
            <a:off x="537840" y="4723200"/>
            <a:ext cx="778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Чтобы найти неизвестный делитель, над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 flipV="1" rot="10800000">
            <a:off x="2122560" y="5300640"/>
            <a:ext cx="65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елимое разделить на част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полните №1на стр. 20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*х=54           х:16=3               57:х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5:19:38Z</dcterms:created>
  <dc:creator>Лена</dc:creator>
  <dc:description/>
  <dc:language>en-US</dc:language>
  <cp:lastModifiedBy>Asus</cp:lastModifiedBy>
  <dcterms:modified xsi:type="dcterms:W3CDTF">2022-02-02T07:42:25Z</dcterms:modified>
  <cp:revision>7</cp:revision>
  <dc:subject/>
  <dc:title>Устный счёт</dc:title>
</cp:coreProperties>
</file>