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5D7-179F-4BF6-A8F4-E5EA9275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388-1A63-416D-AD12-745C29F2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EAD-151B-4681-9040-49F222CF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D49-6C74-4F43-B276-76DAC787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E60B-B4C9-4257-AD13-1C25E284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9BD2-B297-43E0-90EB-1722EF18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E9A-2AD4-4F97-AB6C-C28D42CA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43CA-138D-450C-8373-6710C41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03F5-662E-45B8-B115-1DC98A2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D0F9-2EB2-4EDB-B827-5004548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6A17-3C7B-4D0E-9987-0CD7E26B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8E5-3FCA-4B84-80C6-5C11240C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B34B-609B-45A1-B67D-0391F05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F12D-237F-454B-9F52-B433571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652-5D26-4A96-8257-40156E99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1776-36A1-47B7-9039-4AD9D13A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6BCB-7394-49A8-AF43-359722C8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D5D-110A-44AF-A321-8CD5EA06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A9C-0FD9-4791-B7E0-B498137A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7D2-C123-48ED-B4B6-36446917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6B9-CD6A-499C-822D-47E80DEA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96D-1BAE-4EA0-BB86-DE45C69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533-A6FD-4355-AB5E-01C0943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5C5-07C7-45AE-8012-82EBA0D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3A55-7C96-4175-81A8-FCEDE575BA2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4AB6-B645-427B-88E4-6D78550C1C9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Безымянный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8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9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30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1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2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34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3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5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7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Asus</cp:lastModifiedBy>
  <dcterms:modified xsi:type="dcterms:W3CDTF">2022-02-09T06:49:28Z</dcterms:modified>
  <cp:revision>7</cp:revision>
  <dc:subject/>
  <dc:title>Слайд 1</dc:title>
</cp:coreProperties>
</file>