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799-6A63-4EFB-BCD8-D46D8CE8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988-BDDD-477B-8CA9-6E38C097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3F8-8B78-4F06-AF47-89D3D592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F3F-A1EF-4125-8A2A-70206092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58C-D869-4DDD-B9C1-545822F4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D48F-9904-4005-A3BE-1CEEF1AA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37B9-4564-4B6D-BA77-0135CE76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057-D66D-44AE-9717-530330E4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9E1-9CA0-4592-9133-87DFB85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F63-D9D7-4F97-B2E0-7E077B0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23FE-E350-44B2-B625-D2219D4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E8B-6B87-4CBC-B53B-A3028750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C774-11C5-4D7C-8857-C0339B9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763-EDF8-424D-91C2-0E576720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C7D-41C2-4AB8-B82E-05B2587E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D949-BF0F-4815-BEC9-67E6BE6F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7CFB-92A0-49B1-B7C1-30D8EF18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C66-AC15-45EC-B382-CC204186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A59-7DF1-4DCD-84BE-ADF38901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494-8040-479A-A01C-096C56EF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FC0-6C58-4FD6-8409-5C0609D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941-8813-4D86-BF6A-A2CA65E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9BD-54D2-4F35-8B26-7ED8A96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DC4-34AF-414E-ADAC-491511C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077-2545-4C06-8C1A-B179EAB03C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266D-8485-4D30-A36B-CF6C496BD72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Безымянный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8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9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30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1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2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34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3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5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7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Asus</cp:lastModifiedBy>
  <dcterms:modified xsi:type="dcterms:W3CDTF">2022-02-09T06:49:28Z</dcterms:modified>
  <cp:revision>7</cp:revision>
  <dc:subject/>
  <dc:title>Слайд 1</dc:title>
</cp:coreProperties>
</file>