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B88-FAF7-4068-8F36-AAD32D27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1CD-12E3-4354-B136-ECF9AAB1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8D9-FD85-4560-A1C3-08EDB160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3C7-7A94-4491-947E-8C599372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74A-ED0A-4AAD-BD29-7C69D74D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964-26FC-4DE6-A2B4-E8B80098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5B8-B735-4A80-A95E-F6384779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25B-7FA7-4659-A2E8-43B8FE21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719-65F6-4361-A1F9-65A7411E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3A0-8788-4EBA-B48C-823F1AB8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DF1-9C95-40E1-956D-854D651A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E45-0FCA-4B4E-9CA4-AB1F52CD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15F1-E0C9-4D29-8BAA-81FEB6F65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2903040" y="1643040"/>
            <a:ext cx="309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Comic Sans MS"/>
              </a:rPr>
              <a:t>Топпер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6" descr=""/>
          <p:cNvPicPr/>
          <p:nvPr/>
        </p:nvPicPr>
        <p:blipFill>
          <a:blip r:embed="rId2"/>
          <a:stretch/>
        </p:blipFill>
        <p:spPr>
          <a:xfrm>
            <a:off x="2011320" y="2968560"/>
            <a:ext cx="5121360" cy="1201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0_63e88_9fee9005_S.jpg.png"/>
          <p:cNvPicPr/>
          <p:nvPr/>
        </p:nvPicPr>
        <p:blipFill>
          <a:blip r:embed="rId3"/>
          <a:stretch/>
        </p:blipFill>
        <p:spPr>
          <a:xfrm rot="664200">
            <a:off x="1978200" y="4579560"/>
            <a:ext cx="96012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0_63eed_6afccbba_S.jpg.png"/>
          <p:cNvPicPr/>
          <p:nvPr/>
        </p:nvPicPr>
        <p:blipFill>
          <a:blip r:embed="rId4"/>
          <a:stretch/>
        </p:blipFill>
        <p:spPr>
          <a:xfrm>
            <a:off x="1285920" y="4714920"/>
            <a:ext cx="1049400" cy="116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0_63e88_9fee9005_S.jpg.png"/>
          <p:cNvPicPr/>
          <p:nvPr/>
        </p:nvPicPr>
        <p:blipFill>
          <a:blip r:embed="rId5"/>
          <a:stretch/>
        </p:blipFill>
        <p:spPr>
          <a:xfrm rot="664200">
            <a:off x="4192560" y="4651200"/>
            <a:ext cx="960480" cy="1357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0_63e88_9fee9005_S.jpg.png"/>
          <p:cNvPicPr/>
          <p:nvPr/>
        </p:nvPicPr>
        <p:blipFill>
          <a:blip r:embed="rId6"/>
          <a:stretch/>
        </p:blipFill>
        <p:spPr>
          <a:xfrm rot="664200">
            <a:off x="6550200" y="4579560"/>
            <a:ext cx="960120" cy="1357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0_63eed_6afccbba_S.jpg.png"/>
          <p:cNvPicPr/>
          <p:nvPr/>
        </p:nvPicPr>
        <p:blipFill>
          <a:blip r:embed="rId7"/>
          <a:stretch/>
        </p:blipFill>
        <p:spPr>
          <a:xfrm>
            <a:off x="5857920" y="4786200"/>
            <a:ext cx="1049400" cy="1166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0_63eed_6afccbba_S.jpg.png"/>
          <p:cNvPicPr/>
          <p:nvPr/>
        </p:nvPicPr>
        <p:blipFill>
          <a:blip r:embed="rId8"/>
          <a:stretch/>
        </p:blipFill>
        <p:spPr>
          <a:xfrm>
            <a:off x="3500280" y="4786200"/>
            <a:ext cx="1049400" cy="11667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7631280" y="6524640"/>
            <a:ext cx="1404720" cy="21744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7" descr=""/>
          <p:cNvPicPr/>
          <p:nvPr/>
        </p:nvPicPr>
        <p:blipFill>
          <a:blip r:embed="rId2"/>
          <a:stretch/>
        </p:blipFill>
        <p:spPr>
          <a:xfrm>
            <a:off x="1646280" y="2359080"/>
            <a:ext cx="5089320" cy="17557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4230720" y="4071960"/>
            <a:ext cx="377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МБДОУ детский сад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с. Коммун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Быкова Анастасия Олег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0" descr="0_63eed_6afccbba_S.jpg.png"/>
          <p:cNvPicPr/>
          <p:nvPr/>
        </p:nvPicPr>
        <p:blipFill>
          <a:blip r:embed="rId3"/>
          <a:stretch/>
        </p:blipFill>
        <p:spPr>
          <a:xfrm rot="630000">
            <a:off x="2190240" y="4427640"/>
            <a:ext cx="1049400" cy="13986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1" descr="0_63eed_6afccbba_S.jpg.png"/>
          <p:cNvPicPr/>
          <p:nvPr/>
        </p:nvPicPr>
        <p:blipFill>
          <a:blip r:embed="rId4"/>
          <a:stretch/>
        </p:blipFill>
        <p:spPr>
          <a:xfrm flipH="1" rot="20249400">
            <a:off x="2741400" y="4238280"/>
            <a:ext cx="1166760" cy="14911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2" descr="0_63e88_9fee9005_S.jpg.png"/>
          <p:cNvPicPr/>
          <p:nvPr/>
        </p:nvPicPr>
        <p:blipFill>
          <a:blip r:embed="rId5"/>
          <a:stretch/>
        </p:blipFill>
        <p:spPr>
          <a:xfrm rot="2199000">
            <a:off x="3095280" y="4723920"/>
            <a:ext cx="960480" cy="13575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3" descr="0_63e88_9fee9005_S.jpg.png"/>
          <p:cNvPicPr/>
          <p:nvPr/>
        </p:nvPicPr>
        <p:blipFill>
          <a:blip r:embed="rId6"/>
          <a:stretch/>
        </p:blipFill>
        <p:spPr>
          <a:xfrm flipH="1" rot="18704400">
            <a:off x="2057760" y="4778640"/>
            <a:ext cx="971640" cy="1357560"/>
          </a:xfrm>
          <a:prstGeom prst="rect">
            <a:avLst/>
          </a:prstGeom>
          <a:ln w="0">
            <a:noFill/>
          </a:ln>
        </p:spPr>
      </p:pic>
      <p:sp>
        <p:nvSpPr>
          <p:cNvPr id="109" name="Блок-схема: процесс 1"/>
          <p:cNvSpPr/>
          <p:nvPr/>
        </p:nvSpPr>
        <p:spPr>
          <a:xfrm>
            <a:off x="7596360" y="6661080"/>
            <a:ext cx="1368360" cy="360360"/>
          </a:xfrm>
          <a:prstGeom prst="flowChartProcess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"/>
          <p:cNvPicPr/>
          <p:nvPr/>
        </p:nvPicPr>
        <p:blipFill>
          <a:blip r:embed="rId2"/>
          <a:stretch/>
        </p:blipFill>
        <p:spPr>
          <a:xfrm>
            <a:off x="2771640" y="1881360"/>
            <a:ext cx="3168720" cy="3321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7596360" y="6524640"/>
            <a:ext cx="1439640" cy="21744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1143000" y="1785960"/>
            <a:ext cx="3000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полосы из желтой бум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круг из цветной бумаги жёлт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к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.нож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.па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6" descr=""/>
          <p:cNvPicPr/>
          <p:nvPr/>
        </p:nvPicPr>
        <p:blipFill>
          <a:blip r:embed="rId2"/>
          <a:stretch/>
        </p:blipFill>
        <p:spPr>
          <a:xfrm>
            <a:off x="4116240" y="2428920"/>
            <a:ext cx="3524400" cy="2643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2514960" y="1214280"/>
            <a:ext cx="36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Нам понадобя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7640640" y="6524640"/>
            <a:ext cx="1395360" cy="21744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1928880" y="457200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Шаблон солнышка раскрашиваем, по образ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2"/>
          <a:stretch/>
        </p:blipFill>
        <p:spPr>
          <a:xfrm>
            <a:off x="2627280" y="1442880"/>
            <a:ext cx="3384720" cy="31086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7572240" y="6524640"/>
            <a:ext cx="1463760" cy="21744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1785960" y="450072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Нарезаем заготовки луч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Затем склеиваем кончики полосок петель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3276720" y="150012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7596360" y="6524640"/>
            <a:ext cx="1547640" cy="21744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"/>
          <p:cNvPicPr/>
          <p:nvPr/>
        </p:nvPicPr>
        <p:blipFill>
          <a:blip r:embed="rId2"/>
          <a:stretch/>
        </p:blipFill>
        <p:spPr>
          <a:xfrm>
            <a:off x="2571840" y="170496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428840" y="4572000"/>
            <a:ext cx="600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Приклеиваем петельки  на заготовку открытки по к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7596360" y="6453360"/>
            <a:ext cx="1547640" cy="28872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2"/>
          <a:stretch/>
        </p:blipFill>
        <p:spPr>
          <a:xfrm>
            <a:off x="3316320" y="1357200"/>
            <a:ext cx="2305080" cy="3071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1071720" y="4646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Приклеиваем лицо солнышка в центр заготовки с луч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7596360" y="6453360"/>
            <a:ext cx="1439640" cy="288720"/>
          </a:xfrm>
          <a:prstGeom prst="rect">
            <a:avLst/>
          </a:prstGeom>
          <a:solidFill>
            <a:srgbClr val="a38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"/>
          <p:cNvPicPr/>
          <p:nvPr/>
        </p:nvPicPr>
        <p:blipFill>
          <a:blip r:embed="rId2"/>
          <a:stretch/>
        </p:blipFill>
        <p:spPr>
          <a:xfrm>
            <a:off x="2843280" y="1428840"/>
            <a:ext cx="3024000" cy="32144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"/>
          <p:cNvSpPr/>
          <p:nvPr/>
        </p:nvSpPr>
        <p:spPr>
          <a:xfrm>
            <a:off x="1238400" y="4643280"/>
            <a:ext cx="63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Осталось только подарить на праздни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"/>
          <p:cNvSpPr/>
          <p:nvPr/>
        </p:nvSpPr>
        <p:spPr>
          <a:xfrm>
            <a:off x="7659720" y="6524640"/>
            <a:ext cx="1376280" cy="2174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4" descr="1266889169_055.frames.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"/>
          <p:cNvPicPr/>
          <p:nvPr/>
        </p:nvPicPr>
        <p:blipFill>
          <a:blip r:embed="rId2"/>
          <a:stretch/>
        </p:blipFill>
        <p:spPr>
          <a:xfrm>
            <a:off x="2239920" y="1357200"/>
            <a:ext cx="3903840" cy="2928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1939320" y="4572000"/>
            <a:ext cx="453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Мамы будут рады полу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от ребёнка такой пода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6:26:19Z</dcterms:created>
  <dc:creator>анастасия</dc:creator>
  <dc:description/>
  <dc:language>en-US</dc:language>
  <cp:lastModifiedBy>ПК</cp:lastModifiedBy>
  <dcterms:modified xsi:type="dcterms:W3CDTF">2022-02-08T06:27:04Z</dcterms:modified>
  <cp:revision>16</cp:revision>
  <dc:subject/>
  <dc:title>Слайд 1</dc:title>
</cp:coreProperties>
</file>