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224-FC18-44C0-962C-54A7883F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9CB-9610-4410-A848-69118291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653-5613-4426-9029-49AAC80B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54B-8727-4E76-A871-7BE74005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A18-6BD8-499F-AE96-6F6D4450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D6F-D6A2-409C-895B-34B95952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274-314F-4F4C-A218-5BF6FCC1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909-3990-4EA5-B94F-883248D5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03D-F43C-4694-A581-156D0F16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560-A60E-4F84-AC98-6F1CE2FF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44A-A948-429A-8964-2FA9A3FA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132-4B4A-418C-9C2F-48B96081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5B6D-CFF9-40F5-9AAB-D0C7F8DF2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39640" y="620640"/>
            <a:ext cx="83408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Тема урока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ложение и вычит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лгебраически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2" name="Picture 6" descr="Картинка 39 из 31247"/>
          <p:cNvPicPr/>
          <p:nvPr/>
        </p:nvPicPr>
        <p:blipFill>
          <a:blip r:embed="rId1"/>
          <a:stretch/>
        </p:blipFill>
        <p:spPr>
          <a:xfrm>
            <a:off x="539640" y="3546360"/>
            <a:ext cx="8280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Картинка 25 из 31247"/>
          <p:cNvPicPr/>
          <p:nvPr/>
        </p:nvPicPr>
        <p:blipFill>
          <a:blip r:embed="rId1"/>
          <a:stretch/>
        </p:blipFill>
        <p:spPr>
          <a:xfrm>
            <a:off x="0" y="0"/>
            <a:ext cx="9144000" cy="645012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835280" y="1557360"/>
            <a:ext cx="62150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виз урока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92240" y="2133720"/>
            <a:ext cx="89517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0" lang="en-US" sz="1800" spc="1" strike="noStrike">
              <a:ln w="3168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</a:rPr>
              <a:t>Математику нельзя изучать, </a:t>
            </a:r>
            <a:endParaRPr b="0" lang="en-US" sz="1800" spc="1" strike="noStrike">
              <a:ln w="3168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наблюдая</a:t>
            </a:r>
            <a:endParaRPr b="0" lang="en-US" sz="1800" spc="1" strike="noStrike">
              <a:ln w="31680">
                <a:solidFill>
                  <a:srgbClr val="8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Times New Roman"/>
              </a:rPr>
              <a:t>как это делает сосед.</a:t>
            </a:r>
            <a:endParaRPr b="0" lang="en-US" sz="1800" spc="1" strike="noStrike">
              <a:ln w="31680">
                <a:solidFill>
                  <a:srgbClr val="8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2675880" y="189000"/>
            <a:ext cx="410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042920" y="980280"/>
            <a:ext cx="47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йдите ошибк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3995640" y="414864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17"/>
              <p:cNvSpPr txBox="1"/>
              <p:nvPr/>
            </p:nvSpPr>
            <p:spPr>
              <a:xfrm>
                <a:off x="900000" y="1773360"/>
                <a:ext cx="7272360" cy="28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у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у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2" name="Picture 19" descr="Картинка 460 из 31247"/>
          <p:cNvPicPr/>
          <p:nvPr/>
        </p:nvPicPr>
        <p:blipFill>
          <a:blip r:embed="rId1"/>
          <a:stretch/>
        </p:blipFill>
        <p:spPr>
          <a:xfrm>
            <a:off x="6948360" y="4932360"/>
            <a:ext cx="21956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675880" y="189000"/>
            <a:ext cx="410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1680" y="980280"/>
            <a:ext cx="77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 каждой дроби найти равную ей дроб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ользуя соответствие число - бу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995640" y="414864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1547640" y="1989000"/>
                <a:ext cx="13687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3"/>
              <p:cNvSpPr txBox="1"/>
              <p:nvPr/>
            </p:nvSpPr>
            <p:spPr>
              <a:xfrm>
                <a:off x="3708360" y="2133720"/>
                <a:ext cx="1657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2"/>
              <p:cNvSpPr txBox="1"/>
              <p:nvPr/>
            </p:nvSpPr>
            <p:spPr>
              <a:xfrm>
                <a:off x="6084720" y="1989000"/>
                <a:ext cx="283536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1"/>
              <p:cNvSpPr txBox="1"/>
              <p:nvPr/>
            </p:nvSpPr>
            <p:spPr>
              <a:xfrm>
                <a:off x="1692360" y="4105440"/>
                <a:ext cx="165564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у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0"/>
              <p:cNvSpPr txBox="1"/>
              <p:nvPr/>
            </p:nvSpPr>
            <p:spPr>
              <a:xfrm>
                <a:off x="4356000" y="4189320"/>
                <a:ext cx="1224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9"/>
              <p:cNvSpPr txBox="1"/>
              <p:nvPr/>
            </p:nvSpPr>
            <p:spPr>
              <a:xfrm>
                <a:off x="7308720" y="4005360"/>
                <a:ext cx="51768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Rectangle 15"/>
          <p:cNvSpPr/>
          <p:nvPr/>
        </p:nvSpPr>
        <p:spPr>
          <a:xfrm>
            <a:off x="756360" y="22755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3277440" y="22755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5580720" y="22042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878760" y="4148640"/>
            <a:ext cx="7048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623040" y="436464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6648480" y="4364640"/>
            <a:ext cx="6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3649320" y="5529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435600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675880" y="189000"/>
            <a:ext cx="410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91680" y="980280"/>
            <a:ext cx="77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 каждой дроби найти равную ей дроб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ользуя соответствие число - бу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995640" y="414864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1547640" y="1989000"/>
                <a:ext cx="13687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3708360" y="2133720"/>
                <a:ext cx="1657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9"/>
              <p:cNvSpPr txBox="1"/>
              <p:nvPr/>
            </p:nvSpPr>
            <p:spPr>
              <a:xfrm>
                <a:off x="6084720" y="1989000"/>
                <a:ext cx="283536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0"/>
              <p:cNvSpPr txBox="1"/>
              <p:nvPr/>
            </p:nvSpPr>
            <p:spPr>
              <a:xfrm>
                <a:off x="1692360" y="4105440"/>
                <a:ext cx="165564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у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1"/>
              <p:cNvSpPr txBox="1"/>
              <p:nvPr/>
            </p:nvSpPr>
            <p:spPr>
              <a:xfrm>
                <a:off x="4356000" y="4189320"/>
                <a:ext cx="1224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2"/>
              <p:cNvSpPr txBox="1"/>
              <p:nvPr/>
            </p:nvSpPr>
            <p:spPr>
              <a:xfrm>
                <a:off x="7308720" y="4005360"/>
                <a:ext cx="51768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Rectangle 13"/>
          <p:cNvSpPr/>
          <p:nvPr/>
        </p:nvSpPr>
        <p:spPr>
          <a:xfrm>
            <a:off x="756360" y="22755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3277440" y="22755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5580720" y="22042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878760" y="4148640"/>
            <a:ext cx="7048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3623040" y="436464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6648480" y="4364640"/>
            <a:ext cx="6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3649320" y="5529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0"/>
          <p:cNvSpPr/>
          <p:nvPr/>
        </p:nvSpPr>
        <p:spPr>
          <a:xfrm>
            <a:off x="435600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612000" y="55886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1536480" y="5588640"/>
            <a:ext cx="6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3277440" y="56602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2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4118760" y="5515560"/>
            <a:ext cx="7048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5941080" y="57330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6936120" y="573300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б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7"/>
          <p:cNvSpPr/>
          <p:nvPr/>
        </p:nvSpPr>
        <p:spPr>
          <a:xfrm>
            <a:off x="1187280" y="595008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"/>
          <p:cNvSpPr/>
          <p:nvPr/>
        </p:nvSpPr>
        <p:spPr>
          <a:xfrm>
            <a:off x="3780000" y="6021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9"/>
          <p:cNvSpPr/>
          <p:nvPr/>
        </p:nvSpPr>
        <p:spPr>
          <a:xfrm>
            <a:off x="6516720" y="6021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667160" y="189000"/>
            <a:ext cx="614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равил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ложения и выч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алгебраических дро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995640" y="414864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3649320" y="5529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435600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395280" y="2637000"/>
            <a:ext cx="8136000" cy="1801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2"/>
              <p:cNvSpPr txBox="1"/>
              <p:nvPr/>
            </p:nvSpPr>
            <p:spPr>
              <a:xfrm>
                <a:off x="755640" y="2852640"/>
                <a:ext cx="324000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т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>
                          <m:t xml:space="preserve">т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4"/>
              <p:cNvSpPr txBox="1"/>
              <p:nvPr/>
            </p:nvSpPr>
            <p:spPr>
              <a:xfrm>
                <a:off x="5003640" y="2852640"/>
                <a:ext cx="324036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т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>
                          <m:t xml:space="preserve">т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1" name="Picture 36" descr="Картинка 460 из 31247"/>
          <p:cNvPicPr/>
          <p:nvPr/>
        </p:nvPicPr>
        <p:blipFill>
          <a:blip r:embed="rId1"/>
          <a:stretch/>
        </p:blipFill>
        <p:spPr>
          <a:xfrm>
            <a:off x="6961320" y="4943520"/>
            <a:ext cx="21826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914840" y="189000"/>
            <a:ext cx="563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995640" y="414864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649320" y="5529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35600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900000" y="1341360"/>
            <a:ext cx="705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  № 462 (1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 Сложить дроби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6"/>
              <p:cNvSpPr txBox="1"/>
              <p:nvPr/>
            </p:nvSpPr>
            <p:spPr>
              <a:xfrm>
                <a:off x="3995640" y="1628640"/>
                <a:ext cx="36720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в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в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 Box 18"/>
          <p:cNvSpPr/>
          <p:nvPr/>
        </p:nvSpPr>
        <p:spPr>
          <a:xfrm>
            <a:off x="900000" y="30686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Вычесть дроб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9"/>
              <p:cNvSpPr txBox="1"/>
              <p:nvPr/>
            </p:nvSpPr>
            <p:spPr>
              <a:xfrm>
                <a:off x="4356000" y="2852640"/>
                <a:ext cx="2847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Text Box 21"/>
          <p:cNvSpPr/>
          <p:nvPr/>
        </p:nvSpPr>
        <p:spPr>
          <a:xfrm>
            <a:off x="1150920" y="414972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Выполнить действ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2"/>
              <p:cNvSpPr txBox="1"/>
              <p:nvPr/>
            </p:nvSpPr>
            <p:spPr>
              <a:xfrm>
                <a:off x="900000" y="4797360"/>
                <a:ext cx="50990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9" name="Picture 24" descr="Картинка 460 из 31247"/>
          <p:cNvPicPr/>
          <p:nvPr/>
        </p:nvPicPr>
        <p:blipFill>
          <a:blip r:embed="rId1"/>
          <a:stretch/>
        </p:blipFill>
        <p:spPr>
          <a:xfrm>
            <a:off x="7250040" y="5197320"/>
            <a:ext cx="189396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08:52:42Z</dcterms:created>
  <dc:creator>владимир</dc:creator>
  <dc:description/>
  <dc:language>en-US</dc:language>
  <cp:lastModifiedBy>Дом</cp:lastModifiedBy>
  <dcterms:modified xsi:type="dcterms:W3CDTF">2022-02-03T18:48:48Z</dcterms:modified>
  <cp:revision>14</cp:revision>
  <dc:subject/>
  <dc:title>Слайд 1</dc:title>
</cp:coreProperties>
</file>