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4B0-03B5-48AE-8684-3FA0FA21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70D-7FB0-4266-A4F2-93518BE2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B1E-68AF-4939-B1F6-181A6155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49A-E105-4F4E-A222-670FF6E4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C9B-C036-42F1-9B45-D5A0FD47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299-E956-4898-83AA-A7373D40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8B4-DE0B-44C3-B2EF-20A6E441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8F1-8AF8-45A0-BC60-FB1E0C8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1CC-8E38-42E2-8C7F-EB4A3678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272-55E1-4199-ACF8-FF2F16EA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CAB-DE2D-47B2-9BA8-EE7C5661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2DA-66B0-4F04-892E-03231817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30C5-8835-4F9C-8986-5B78B9F33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620640"/>
            <a:ext cx="83408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Тема урока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ложение и вычит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лгебраически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2" name="Picture 6" descr="Картинка 39 из 31247"/>
          <p:cNvPicPr/>
          <p:nvPr/>
        </p:nvPicPr>
        <p:blipFill>
          <a:blip r:embed="rId1"/>
          <a:stretch/>
        </p:blipFill>
        <p:spPr>
          <a:xfrm>
            <a:off x="539640" y="3546360"/>
            <a:ext cx="8280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артинка 25 из 31247"/>
          <p:cNvPicPr/>
          <p:nvPr/>
        </p:nvPicPr>
        <p:blipFill>
          <a:blip r:embed="rId1"/>
          <a:stretch/>
        </p:blipFill>
        <p:spPr>
          <a:xfrm>
            <a:off x="0" y="0"/>
            <a:ext cx="9144000" cy="64501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835280" y="1557360"/>
            <a:ext cx="62150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виз урока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92240" y="2133720"/>
            <a:ext cx="89517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Математику нельзя изучать, 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наблюдая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как это делает сосед.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675880" y="189000"/>
            <a:ext cx="41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042920" y="980280"/>
            <a:ext cx="47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йдите ошибк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7"/>
              <p:cNvSpPr txBox="1"/>
              <p:nvPr/>
            </p:nvSpPr>
            <p:spPr>
              <a:xfrm>
                <a:off x="900000" y="1773360"/>
                <a:ext cx="7272360" cy="28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у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" name="Picture 19" descr="Картинка 460 из 31247"/>
          <p:cNvPicPr/>
          <p:nvPr/>
        </p:nvPicPr>
        <p:blipFill>
          <a:blip r:embed="rId1"/>
          <a:stretch/>
        </p:blipFill>
        <p:spPr>
          <a:xfrm>
            <a:off x="6948360" y="4932360"/>
            <a:ext cx="2195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675880" y="189000"/>
            <a:ext cx="41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1680" y="980280"/>
            <a:ext cx="77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 каждой дроби найти равную ей дроб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уя соответствие число -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1547640" y="1989000"/>
                <a:ext cx="1368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3708360" y="2133720"/>
                <a:ext cx="1657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2"/>
              <p:cNvSpPr txBox="1"/>
              <p:nvPr/>
            </p:nvSpPr>
            <p:spPr>
              <a:xfrm>
                <a:off x="6084720" y="1989000"/>
                <a:ext cx="283536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1"/>
              <p:cNvSpPr txBox="1"/>
              <p:nvPr/>
            </p:nvSpPr>
            <p:spPr>
              <a:xfrm>
                <a:off x="1692360" y="4105440"/>
                <a:ext cx="165564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0"/>
              <p:cNvSpPr txBox="1"/>
              <p:nvPr/>
            </p:nvSpPr>
            <p:spPr>
              <a:xfrm>
                <a:off x="4356000" y="4189320"/>
                <a:ext cx="1224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7308720" y="4005360"/>
                <a:ext cx="51768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15"/>
          <p:cNvSpPr/>
          <p:nvPr/>
        </p:nvSpPr>
        <p:spPr>
          <a:xfrm>
            <a:off x="756360" y="22755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3277440" y="22755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5580720" y="22042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878760" y="4148640"/>
            <a:ext cx="7048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623040" y="436464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6648480" y="4364640"/>
            <a:ext cx="6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3649320" y="5529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675880" y="189000"/>
            <a:ext cx="41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91680" y="980280"/>
            <a:ext cx="77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 каждой дроби найти равную ей дроб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уя соответствие число -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1547640" y="1989000"/>
                <a:ext cx="1368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708360" y="2133720"/>
                <a:ext cx="1657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9"/>
              <p:cNvSpPr txBox="1"/>
              <p:nvPr/>
            </p:nvSpPr>
            <p:spPr>
              <a:xfrm>
                <a:off x="6084720" y="1989000"/>
                <a:ext cx="283536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1692360" y="4105440"/>
                <a:ext cx="165564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4356000" y="4189320"/>
                <a:ext cx="1224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7308720" y="4005360"/>
                <a:ext cx="51768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Rectangle 13"/>
          <p:cNvSpPr/>
          <p:nvPr/>
        </p:nvSpPr>
        <p:spPr>
          <a:xfrm>
            <a:off x="756360" y="22755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3277440" y="22755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5580720" y="22042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878760" y="4148640"/>
            <a:ext cx="7048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623040" y="436464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6648480" y="4364640"/>
            <a:ext cx="6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649320" y="5529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612000" y="5588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1536480" y="5588640"/>
            <a:ext cx="6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3277440" y="56602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4118760" y="5515560"/>
            <a:ext cx="7048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5941080" y="57330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6936120" y="573300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б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7"/>
          <p:cNvSpPr/>
          <p:nvPr/>
        </p:nvSpPr>
        <p:spPr>
          <a:xfrm>
            <a:off x="1187280" y="595008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3780000" y="6021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9"/>
          <p:cNvSpPr/>
          <p:nvPr/>
        </p:nvSpPr>
        <p:spPr>
          <a:xfrm>
            <a:off x="6516720" y="6021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667160" y="189000"/>
            <a:ext cx="614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авил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ложения и выч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алгебраических д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3649320" y="5529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395280" y="2637000"/>
            <a:ext cx="8136000" cy="180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2"/>
              <p:cNvSpPr txBox="1"/>
              <p:nvPr/>
            </p:nvSpPr>
            <p:spPr>
              <a:xfrm>
                <a:off x="755640" y="2852640"/>
                <a:ext cx="324000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4"/>
              <p:cNvSpPr txBox="1"/>
              <p:nvPr/>
            </p:nvSpPr>
            <p:spPr>
              <a:xfrm>
                <a:off x="5003640" y="2852640"/>
                <a:ext cx="324036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1" name="Picture 36" descr="Картинка 460 из 31247"/>
          <p:cNvPicPr/>
          <p:nvPr/>
        </p:nvPicPr>
        <p:blipFill>
          <a:blip r:embed="rId1"/>
          <a:stretch/>
        </p:blipFill>
        <p:spPr>
          <a:xfrm>
            <a:off x="6961320" y="4943520"/>
            <a:ext cx="2182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914840" y="189000"/>
            <a:ext cx="563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649320" y="5529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900000" y="1341360"/>
            <a:ext cx="705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 № 462 (1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 Сложить дроби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6"/>
              <p:cNvSpPr txBox="1"/>
              <p:nvPr/>
            </p:nvSpPr>
            <p:spPr>
              <a:xfrm>
                <a:off x="3995640" y="1628640"/>
                <a:ext cx="3672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8"/>
          <p:cNvSpPr/>
          <p:nvPr/>
        </p:nvSpPr>
        <p:spPr>
          <a:xfrm>
            <a:off x="900000" y="3068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Вычесть дроб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9"/>
              <p:cNvSpPr txBox="1"/>
              <p:nvPr/>
            </p:nvSpPr>
            <p:spPr>
              <a:xfrm>
                <a:off x="4356000" y="2852640"/>
                <a:ext cx="2847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21"/>
          <p:cNvSpPr/>
          <p:nvPr/>
        </p:nvSpPr>
        <p:spPr>
          <a:xfrm>
            <a:off x="1150920" y="414972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Выполнить действ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2"/>
              <p:cNvSpPr txBox="1"/>
              <p:nvPr/>
            </p:nvSpPr>
            <p:spPr>
              <a:xfrm>
                <a:off x="900000" y="4797360"/>
                <a:ext cx="5099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9" name="Picture 24" descr="Картинка 460 из 31247"/>
          <p:cNvPicPr/>
          <p:nvPr/>
        </p:nvPicPr>
        <p:blipFill>
          <a:blip r:embed="rId1"/>
          <a:stretch/>
        </p:blipFill>
        <p:spPr>
          <a:xfrm>
            <a:off x="7250040" y="5197320"/>
            <a:ext cx="18939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8:52:42Z</dcterms:created>
  <dc:creator>владимир</dc:creator>
  <dc:description/>
  <dc:language>en-US</dc:language>
  <cp:lastModifiedBy>Дом</cp:lastModifiedBy>
  <dcterms:modified xsi:type="dcterms:W3CDTF">2022-02-03T18:48:48Z</dcterms:modified>
  <cp:revision>14</cp:revision>
  <dc:subject/>
  <dc:title>Слайд 1</dc:title>
</cp:coreProperties>
</file>