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B37-010C-4256-B3E2-8AB6DA491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D93-2118-4D40-A399-96179B054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AC6-0A59-4356-AB6A-DB880C068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C1C-8E89-4F48-AC34-D2124B03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290-0E80-4BD1-A871-2FE5B217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E1B-80A4-40E2-99F1-8510DA93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A62-9835-43E4-BF46-88780BD7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0A5-6532-4426-A923-3483D56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B08-D619-49B6-A64E-88D54CF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407-B02E-4BB2-A8EC-AD9AAC2B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095-C960-430A-9EF0-58D08A3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E8A-FE1B-44D6-99E8-FC38FF0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BDF-CA5C-4BAE-A366-C00FF98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BC1-EE6C-488E-B7A2-54FF999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F74-6AD7-406D-9F8D-89980C3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228-BC6E-4C9A-88E6-9300CF000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857160" y="1357200"/>
            <a:ext cx="78487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мма углов </a:t>
            </a:r>
            <a:endParaRPr b="1" i="1" lang="en-US" sz="4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угольника</a:t>
            </a:r>
            <a:endParaRPr b="1" i="1" lang="en-US" sz="4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7"/>
          <p:cNvSpPr/>
          <p:nvPr/>
        </p:nvSpPr>
        <p:spPr>
          <a:xfrm>
            <a:off x="214200" y="1928880"/>
            <a:ext cx="8750520" cy="1922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imes New Roman"/>
              </a:rPr>
              <a:t>Теорема: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 Сумма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углов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треугольника равна 180</a:t>
            </a:r>
            <a:r>
              <a:rPr b="1" lang="ru-RU" sz="6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ирог 69"/>
          <p:cNvSpPr/>
          <p:nvPr/>
        </p:nvSpPr>
        <p:spPr>
          <a:xfrm>
            <a:off x="2928960" y="1969920"/>
            <a:ext cx="1386000" cy="1281240"/>
          </a:xfrm>
          <a:prstGeom prst="pie">
            <a:avLst/>
          </a:prstGeom>
          <a:solidFill>
            <a:srgbClr val="009900">
              <a:alpha val="3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ирог 70"/>
          <p:cNvSpPr/>
          <p:nvPr/>
        </p:nvSpPr>
        <p:spPr>
          <a:xfrm rot="14835600">
            <a:off x="2037960" y="-136440"/>
            <a:ext cx="1386000" cy="1280880"/>
          </a:xfrm>
          <a:prstGeom prst="pie">
            <a:avLst/>
          </a:prstGeom>
          <a:solidFill>
            <a:srgbClr val="0066ff">
              <a:alpha val="2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ирог 68"/>
          <p:cNvSpPr/>
          <p:nvPr/>
        </p:nvSpPr>
        <p:spPr>
          <a:xfrm rot="10800000">
            <a:off x="2062080" y="-147960"/>
            <a:ext cx="1386000" cy="1282680"/>
          </a:xfrm>
          <a:prstGeom prst="pie">
            <a:avLst/>
          </a:prstGeom>
          <a:solidFill>
            <a:srgbClr val="009900">
              <a:alpha val="3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ирог 66"/>
          <p:cNvSpPr/>
          <p:nvPr/>
        </p:nvSpPr>
        <p:spPr>
          <a:xfrm rot="19029000">
            <a:off x="2044440" y="-128520"/>
            <a:ext cx="1385640" cy="1282680"/>
          </a:xfrm>
          <a:prstGeom prst="pie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ирог 65"/>
          <p:cNvSpPr/>
          <p:nvPr/>
        </p:nvSpPr>
        <p:spPr>
          <a:xfrm rot="8193000">
            <a:off x="-139680" y="1961640"/>
            <a:ext cx="1386000" cy="1282680"/>
          </a:xfrm>
          <a:prstGeom prst="pie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rc 10"/>
          <p:cNvSpPr/>
          <p:nvPr/>
        </p:nvSpPr>
        <p:spPr>
          <a:xfrm>
            <a:off x="2622600" y="2039760"/>
            <a:ext cx="58572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60418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4468680" y="3589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285840" y="312588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Проведем через т. В прямую 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| A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33280" y="3645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428760" y="425304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=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3"/>
          <p:cNvSpPr/>
          <p:nvPr/>
        </p:nvSpPr>
        <p:spPr>
          <a:xfrm>
            <a:off x="214200" y="53020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Заменяя равные углы, получим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4"/>
          <p:cNvSpPr/>
          <p:nvPr/>
        </p:nvSpPr>
        <p:spPr>
          <a:xfrm>
            <a:off x="214200" y="4730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развернутый угол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4365720" y="1166760"/>
            <a:ext cx="42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48"/>
          <p:cNvCxnSpPr/>
          <p:nvPr/>
        </p:nvCxnSpPr>
        <p:spPr>
          <a:xfrm>
            <a:off x="542880" y="491760"/>
            <a:ext cx="325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3" name="Группа 71"/>
          <p:cNvGrpSpPr/>
          <p:nvPr/>
        </p:nvGrpSpPr>
        <p:grpSpPr>
          <a:xfrm>
            <a:off x="90360" y="-34920"/>
            <a:ext cx="3910320" cy="2928960"/>
            <a:chOff x="90360" y="-34920"/>
            <a:chExt cx="3910320" cy="2928960"/>
          </a:xfrm>
        </p:grpSpPr>
        <p:sp>
          <p:nvSpPr>
            <p:cNvPr id="184" name="AutoShape 46"/>
            <p:cNvSpPr/>
            <p:nvPr/>
          </p:nvSpPr>
          <p:spPr>
            <a:xfrm>
              <a:off x="530640" y="502560"/>
              <a:ext cx="3103920" cy="2106360"/>
            </a:xfrm>
            <a:prstGeom prst="triangle">
              <a:avLst>
                <a:gd name="adj" fmla="val 71352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49"/>
            <p:cNvSpPr/>
            <p:nvPr/>
          </p:nvSpPr>
          <p:spPr>
            <a:xfrm>
              <a:off x="90360" y="236808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0"/>
            <p:cNvSpPr/>
            <p:nvPr/>
          </p:nvSpPr>
          <p:spPr>
            <a:xfrm>
              <a:off x="3556440" y="236808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1"/>
            <p:cNvSpPr/>
            <p:nvPr/>
          </p:nvSpPr>
          <p:spPr>
            <a:xfrm>
              <a:off x="2571840" y="-3492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2"/>
            <p:cNvSpPr/>
            <p:nvPr/>
          </p:nvSpPr>
          <p:spPr>
            <a:xfrm>
              <a:off x="847440" y="212004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3"/>
            <p:cNvSpPr/>
            <p:nvPr/>
          </p:nvSpPr>
          <p:spPr>
            <a:xfrm>
              <a:off x="2500560" y="60804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4"/>
            <p:cNvSpPr/>
            <p:nvPr/>
          </p:nvSpPr>
          <p:spPr>
            <a:xfrm>
              <a:off x="3071880" y="203688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55"/>
          <p:cNvSpPr/>
          <p:nvPr/>
        </p:nvSpPr>
        <p:spPr>
          <a:xfrm>
            <a:off x="2146320" y="409680"/>
            <a:ext cx="361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2790720" y="441360"/>
            <a:ext cx="3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3435480" y="65160"/>
            <a:ext cx="361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2265480" y="26892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1893960" y="36273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накрест лежащие при а || АС и секущей АВ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847880" y="4191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накрест лежащие при а || АС и секущей ВС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75"/>
          <p:cNvSpPr/>
          <p:nvPr/>
        </p:nvSpPr>
        <p:spPr>
          <a:xfrm>
            <a:off x="285840" y="585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Или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5"/>
          <p:cNvGrpSpPr/>
          <p:nvPr/>
        </p:nvGrpSpPr>
        <p:grpSpPr>
          <a:xfrm>
            <a:off x="179280" y="4437000"/>
            <a:ext cx="3024000" cy="642600"/>
            <a:chOff x="179280" y="4437000"/>
            <a:chExt cx="3024000" cy="642600"/>
          </a:xfrm>
        </p:grpSpPr>
        <p:sp>
          <p:nvSpPr>
            <p:cNvPr id="199" name="Line 2"/>
            <p:cNvSpPr/>
            <p:nvPr/>
          </p:nvSpPr>
          <p:spPr>
            <a:xfrm>
              <a:off x="481680" y="4512960"/>
              <a:ext cx="241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"/>
            <p:cNvSpPr/>
            <p:nvPr/>
          </p:nvSpPr>
          <p:spPr>
            <a:xfrm>
              <a:off x="179280" y="4437000"/>
              <a:ext cx="5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2674080" y="4437000"/>
              <a:ext cx="5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Line 6"/>
          <p:cNvSpPr/>
          <p:nvPr/>
        </p:nvSpPr>
        <p:spPr>
          <a:xfrm flipV="1">
            <a:off x="468360" y="2698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68360" y="4221000"/>
            <a:ext cx="287280" cy="2876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2916360" y="2698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610000" y="4203720"/>
            <a:ext cx="304560" cy="30492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4859280" y="5805360"/>
            <a:ext cx="3168360" cy="642600"/>
            <a:chOff x="4859280" y="5805360"/>
            <a:chExt cx="3168360" cy="642600"/>
          </a:xfrm>
        </p:grpSpPr>
        <p:sp>
          <p:nvSpPr>
            <p:cNvPr id="207" name="Line 11"/>
            <p:cNvSpPr/>
            <p:nvPr/>
          </p:nvSpPr>
          <p:spPr>
            <a:xfrm>
              <a:off x="5176080" y="5881320"/>
              <a:ext cx="253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4859280" y="5805360"/>
              <a:ext cx="5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7473240" y="5805360"/>
              <a:ext cx="5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Line 14"/>
          <p:cNvSpPr/>
          <p:nvPr/>
        </p:nvSpPr>
        <p:spPr>
          <a:xfrm flipH="1" flipV="1">
            <a:off x="4346280" y="4309920"/>
            <a:ext cx="84780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 flipV="1">
            <a:off x="7677000" y="4230360"/>
            <a:ext cx="6858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rc 16"/>
          <p:cNvSpPr/>
          <p:nvPr/>
        </p:nvSpPr>
        <p:spPr>
          <a:xfrm>
            <a:off x="5003640" y="5516640"/>
            <a:ext cx="693720" cy="3603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17"/>
          <p:cNvSpPr/>
          <p:nvPr/>
        </p:nvSpPr>
        <p:spPr>
          <a:xfrm rot="18290400">
            <a:off x="6983640" y="5429160"/>
            <a:ext cx="838080" cy="457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79280" y="404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«…Как для смертных истина ясна,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что в треугольник двум тупым не влиться.»                                   Данте А.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333399"/>
                </a:solidFill>
                <a:latin typeface="Times New Roman"/>
              </a:rPr>
              <a:t>Задачи на готовых чертежах</a:t>
            </a:r>
            <a:r>
              <a:rPr b="0" i="1" lang="en-US" sz="7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 rot="771000">
            <a:off x="6227280" y="3068280"/>
            <a:ext cx="2654280" cy="310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3141720"/>
            <a:ext cx="24112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95280" y="2174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№ 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268360" y="3500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067280" y="69228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516720" y="3573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2916360" y="1052640"/>
            <a:ext cx="3600360" cy="295272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571920" y="1428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059280" y="3357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565164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rc 22"/>
          <p:cNvSpPr/>
          <p:nvPr/>
        </p:nvSpPr>
        <p:spPr>
          <a:xfrm flipH="1">
            <a:off x="6012000" y="3573360"/>
            <a:ext cx="72720" cy="432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50920" y="2174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5572080" y="6429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86440" y="3286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82800" y="324180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6165720" y="2867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2071800" y="29289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6"/>
          <p:cNvSpPr/>
          <p:nvPr/>
        </p:nvSpPr>
        <p:spPr>
          <a:xfrm flipH="1">
            <a:off x="2642400" y="2876400"/>
            <a:ext cx="2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ый треугольник 18"/>
          <p:cNvSpPr/>
          <p:nvPr/>
        </p:nvSpPr>
        <p:spPr>
          <a:xfrm rot="9172200">
            <a:off x="1767600" y="2255040"/>
            <a:ext cx="4870440" cy="2560680"/>
          </a:xfrm>
          <a:prstGeom prst="rtTriangl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19"/>
          <p:cNvSpPr/>
          <p:nvPr/>
        </p:nvSpPr>
        <p:spPr>
          <a:xfrm rot="20010000">
            <a:off x="5573520" y="1344240"/>
            <a:ext cx="279360" cy="249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уга 20"/>
          <p:cNvSpPr/>
          <p:nvPr/>
        </p:nvSpPr>
        <p:spPr>
          <a:xfrm rot="15763200">
            <a:off x="6369840" y="3216960"/>
            <a:ext cx="785520" cy="571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95280" y="2174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№ 3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00120" y="3500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298680" y="692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500800" y="400068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8"/>
          <p:cNvSpPr/>
          <p:nvPr/>
        </p:nvSpPr>
        <p:spPr>
          <a:xfrm>
            <a:off x="2147760" y="1052640"/>
            <a:ext cx="3600720" cy="295272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803680" y="1428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2492280" y="3287880"/>
            <a:ext cx="5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2"/>
          <p:cNvSpPr/>
          <p:nvPr/>
        </p:nvSpPr>
        <p:spPr>
          <a:xfrm flipH="1" rot="5400000">
            <a:off x="2285640" y="3642840"/>
            <a:ext cx="357480" cy="35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8"/>
          <p:cNvSpPr/>
          <p:nvPr/>
        </p:nvSpPr>
        <p:spPr>
          <a:xfrm>
            <a:off x="2303640" y="5000760"/>
            <a:ext cx="12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344664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"/>
          <p:cNvSpPr/>
          <p:nvPr/>
        </p:nvSpPr>
        <p:spPr>
          <a:xfrm>
            <a:off x="2143080" y="4000680"/>
            <a:ext cx="585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7380360" y="392904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5715000" y="33987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50920" y="2174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3564000" y="7318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177804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6"/>
          <p:cNvSpPr/>
          <p:nvPr/>
        </p:nvSpPr>
        <p:spPr>
          <a:xfrm>
            <a:off x="235728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7"/>
          <p:cNvSpPr/>
          <p:nvPr/>
        </p:nvSpPr>
        <p:spPr>
          <a:xfrm flipH="1">
            <a:off x="5580000" y="2708280"/>
            <a:ext cx="287280" cy="649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24000" y="2174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5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843280" y="2997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708360" y="549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236000" y="2997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8"/>
          <p:cNvSpPr/>
          <p:nvPr/>
        </p:nvSpPr>
        <p:spPr>
          <a:xfrm>
            <a:off x="3348000" y="692280"/>
            <a:ext cx="3600360" cy="2952720"/>
          </a:xfrm>
          <a:prstGeom prst="pie">
            <a:avLst/>
          </a:prstGeom>
          <a:noFill/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1"/>
          <p:cNvSpPr/>
          <p:nvPr/>
        </p:nvSpPr>
        <p:spPr>
          <a:xfrm flipH="1">
            <a:off x="2123640" y="3645000"/>
            <a:ext cx="482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2"/>
          <p:cNvSpPr/>
          <p:nvPr/>
        </p:nvSpPr>
        <p:spPr>
          <a:xfrm flipH="1">
            <a:off x="2987640" y="692280"/>
            <a:ext cx="1295280" cy="41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4000680" y="1071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1908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3132000" y="4365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284720" y="692280"/>
            <a:ext cx="3529080" cy="38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740720" y="3860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6084720" y="37148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277164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2124000" y="3645000"/>
            <a:ext cx="86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6780240" y="3643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rc 31"/>
          <p:cNvSpPr/>
          <p:nvPr/>
        </p:nvSpPr>
        <p:spPr>
          <a:xfrm flipH="1" flipV="1">
            <a:off x="3132000" y="3645000"/>
            <a:ext cx="14616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8"/>
          <p:cNvSpPr/>
          <p:nvPr/>
        </p:nvSpPr>
        <p:spPr>
          <a:xfrm>
            <a:off x="2428920" y="514980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AK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429080" y="5149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693800" y="4100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79280" y="115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2340000" y="141300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620720" y="1413000"/>
            <a:ext cx="4537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990880" y="716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086520" y="3884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6516720" y="1268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C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2349360" y="1357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4776840" y="378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5365800" y="71748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1188720" y="78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2556000" y="37180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203640" y="2060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rc 24"/>
          <p:cNvSpPr/>
          <p:nvPr/>
        </p:nvSpPr>
        <p:spPr>
          <a:xfrm>
            <a:off x="2428920" y="4005360"/>
            <a:ext cx="14292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rc 27"/>
          <p:cNvSpPr/>
          <p:nvPr/>
        </p:nvSpPr>
        <p:spPr>
          <a:xfrm flipV="1">
            <a:off x="3059280" y="1915560"/>
            <a:ext cx="649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8"/>
          <p:cNvSpPr/>
          <p:nvPr/>
        </p:nvSpPr>
        <p:spPr>
          <a:xfrm>
            <a:off x="785880" y="5143680"/>
            <a:ext cx="22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2571840" y="5143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4572000" y="5000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642924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rc 24"/>
          <p:cNvSpPr/>
          <p:nvPr/>
        </p:nvSpPr>
        <p:spPr>
          <a:xfrm>
            <a:off x="2500200" y="3929040"/>
            <a:ext cx="142920" cy="42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Повторим </a:t>
            </a:r>
            <a:br>
              <a:rPr sz="9600"/>
            </a:b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изученное 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219640" y="3284640"/>
          <a:ext cx="3924360" cy="295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284640"/>
                    <a:ext cx="39243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33399"/>
                </a:solidFill>
                <a:latin typeface="Times New Roman"/>
              </a:rPr>
              <a:t>Откроем учебник на странице 70-71, упражнение № 223-225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995640" y="3933720"/>
            <a:ext cx="46087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84400" y="3993840"/>
            <a:ext cx="93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7120" y="3993840"/>
            <a:ext cx="86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1112760" y="4930920"/>
            <a:ext cx="721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 flipV="1">
            <a:off x="3704400" y="2266920"/>
            <a:ext cx="2357640" cy="264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000080" y="4919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286840" y="48481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344760" y="5002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rc 10"/>
          <p:cNvSpPr/>
          <p:nvPr/>
        </p:nvSpPr>
        <p:spPr>
          <a:xfrm>
            <a:off x="4281480" y="4282920"/>
            <a:ext cx="289080" cy="648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786280" y="2276640"/>
            <a:ext cx="5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286160" y="78588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2000160" y="78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С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rc 14"/>
          <p:cNvSpPr/>
          <p:nvPr/>
        </p:nvSpPr>
        <p:spPr>
          <a:xfrm flipH="1">
            <a:off x="3200400" y="4282920"/>
            <a:ext cx="1008000" cy="64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ая соединительная линия 4"/>
          <p:cNvSpPr/>
          <p:nvPr/>
        </p:nvSpPr>
        <p:spPr>
          <a:xfrm>
            <a:off x="971640" y="2421000"/>
            <a:ext cx="6357960" cy="350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 flipV="1">
            <a:off x="826920" y="4149720"/>
            <a:ext cx="68580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919080" y="3795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492360" y="450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7143840" y="3571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742080" y="5054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258920" y="19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Дуга 12"/>
          <p:cNvSpPr/>
          <p:nvPr/>
        </p:nvSpPr>
        <p:spPr>
          <a:xfrm rot="14265600">
            <a:off x="3213720" y="375156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Дуга 13"/>
          <p:cNvSpPr/>
          <p:nvPr/>
        </p:nvSpPr>
        <p:spPr>
          <a:xfrm rot="3129000">
            <a:off x="4680360" y="411228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Дуга 14"/>
          <p:cNvSpPr/>
          <p:nvPr/>
        </p:nvSpPr>
        <p:spPr>
          <a:xfrm rot="20479200">
            <a:off x="3924360" y="3789360"/>
            <a:ext cx="79200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Дуга 15"/>
          <p:cNvSpPr/>
          <p:nvPr/>
        </p:nvSpPr>
        <p:spPr>
          <a:xfrm rot="9499200">
            <a:off x="3992040" y="3989160"/>
            <a:ext cx="93672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484360" y="364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651640" y="43657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i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Дуга 14"/>
          <p:cNvSpPr/>
          <p:nvPr/>
        </p:nvSpPr>
        <p:spPr>
          <a:xfrm rot="20313000">
            <a:off x="3835080" y="3647880"/>
            <a:ext cx="987480" cy="1008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Дуга 14"/>
          <p:cNvSpPr/>
          <p:nvPr/>
        </p:nvSpPr>
        <p:spPr>
          <a:xfrm rot="9550800">
            <a:off x="3913920" y="3938040"/>
            <a:ext cx="987480" cy="1006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135400" y="82080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000240" y="14292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М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928960" y="857160"/>
            <a:ext cx="25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МОВ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3000240" y="15717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С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500720" y="31431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929040" y="50007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214960" y="16020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6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072040" y="153360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 rot="10800000">
            <a:off x="2714400" y="3142800"/>
            <a:ext cx="1439640" cy="863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872080" y="36496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511440" y="2786040"/>
            <a:ext cx="2117880" cy="7444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2143080" y="278604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071800" y="4010040"/>
            <a:ext cx="36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2143080" y="1849320"/>
            <a:ext cx="316872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070520" y="28400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427720" y="2262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427720" y="34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860160" y="314316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521240" y="1778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95720" y="2771640"/>
            <a:ext cx="37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2"/>
          <p:cNvSpPr/>
          <p:nvPr/>
        </p:nvSpPr>
        <p:spPr>
          <a:xfrm rot="10800000">
            <a:off x="2647800" y="3368160"/>
            <a:ext cx="1440000" cy="863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800440" y="38718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087800" y="2144880"/>
            <a:ext cx="1440000" cy="866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2071800" y="3008160"/>
            <a:ext cx="36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000160" y="42321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2071800" y="2071440"/>
            <a:ext cx="3168360" cy="26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508640" y="25002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384880" y="2503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356440" y="3728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717240" y="285768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419720" y="20019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4545000" y="2473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 rot="10800000">
            <a:off x="996840" y="4089240"/>
            <a:ext cx="1440000" cy="7207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2076480" y="2000160"/>
            <a:ext cx="468144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996840" y="480852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996840" y="1999800"/>
            <a:ext cx="3384720" cy="280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08840" y="1857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108840" y="36576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381560" y="2000160"/>
            <a:ext cx="108108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4"/>
          <p:cNvSpPr/>
          <p:nvPr/>
        </p:nvSpPr>
        <p:spPr>
          <a:xfrm rot="10800000">
            <a:off x="2669760" y="2037960"/>
            <a:ext cx="1655640" cy="934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477200" y="2576160"/>
            <a:ext cx="1666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396600" y="20098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81920" y="42958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74000" y="42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 flipH="1" flipV="1">
            <a:off x="755640" y="3203640"/>
            <a:ext cx="3959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 flipV="1">
            <a:off x="1402920" y="5219280"/>
            <a:ext cx="52578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95640" y="2338560"/>
            <a:ext cx="3240000" cy="403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2411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26920" y="3138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32000" y="550692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286000" y="20667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84360" y="32749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203640" y="3203640"/>
            <a:ext cx="4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700360" y="2627280"/>
            <a:ext cx="5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500720" y="46432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708360" y="47149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211640" y="5435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932360" y="529128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7072200" y="3281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1901880" y="2706840"/>
            <a:ext cx="10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85880" y="1429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1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572160" y="9288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8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14240" y="10000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3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786120" y="15001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6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57760" y="85716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5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4000680" y="21420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4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500880" y="2142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7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928880" y="2142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000760" y="2412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857840" y="8841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7537320" y="22392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785960" y="1062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4813200" y="1500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7554960" y="982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3"/>
          <p:cNvSpPr/>
          <p:nvPr/>
        </p:nvSpPr>
        <p:spPr>
          <a:xfrm>
            <a:off x="2484360" y="5661000"/>
            <a:ext cx="55609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cc"/>
                </a:solidFill>
                <a:latin typeface="Times New Roman"/>
              </a:rPr>
              <a:t>Практическ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857560" y="1844280"/>
            <a:ext cx="24289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a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a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6572160" y="59292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80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1"/>
          <p:cNvSpPr/>
          <p:nvPr/>
        </p:nvSpPr>
        <p:spPr>
          <a:xfrm>
            <a:off x="5940360" y="2205000"/>
            <a:ext cx="2484360" cy="3456000"/>
          </a:xfrm>
          <a:prstGeom prst="rtTriangl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6012000" y="2637000"/>
            <a:ext cx="142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6084720" y="501336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7812000" y="5084640"/>
            <a:ext cx="144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5"/>
              <p:cNvSpPr txBox="1"/>
              <p:nvPr/>
            </p:nvSpPr>
            <p:spPr>
              <a:xfrm>
                <a:off x="2709720" y="5877000"/>
                <a:ext cx="39211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AutoShape 36"/>
          <p:cNvSpPr/>
          <p:nvPr/>
        </p:nvSpPr>
        <p:spPr>
          <a:xfrm>
            <a:off x="324000" y="2205000"/>
            <a:ext cx="5184720" cy="3456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2771640" y="270828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1116000" y="479736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4643280" y="5084640"/>
            <a:ext cx="144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6572160" y="592920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4:19:25Z</dcterms:created>
  <dc:creator>Customer</dc:creator>
  <dc:description/>
  <dc:language>en-US</dc:language>
  <cp:lastModifiedBy>Дом</cp:lastModifiedBy>
  <dcterms:modified xsi:type="dcterms:W3CDTF">2022-01-30T19:51:46Z</dcterms:modified>
  <cp:revision>76</cp:revision>
  <dc:subject/>
  <dc:title>Сумма углов   в треугольнике</dc:title>
</cp:coreProperties>
</file>