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9D5-F9D1-46F3-894F-A0BF2CF6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E42E-9DAA-4A49-9472-C74BD4F4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932-E199-4366-A2A8-5C7F0ABF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4E8-CB3F-4D7B-AFB1-E9F42806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0B0-9D32-4CD1-B534-613E7A59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9AD-64DA-4798-BF07-78AF22CE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14F-67A2-4188-B118-82E398E9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7D6-A19C-4242-A409-130E6823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3CD7-0ADE-4310-869E-4D98BC66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9B7-1780-4D2C-B576-949CCDF0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B82A-0CA5-4045-9098-CE9B0652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7B9-FE91-4B42-AF73-3A5CEBA2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E726-8F7B-450E-8E6B-65C1BB3C3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30T11:54:06Z</dcterms:created>
  <dc:creator>emachines</dc:creator>
  <dc:description/>
  <dc:language>en-US</dc:language>
  <cp:lastModifiedBy>emachines</cp:lastModifiedBy>
  <dcterms:modified xsi:type="dcterms:W3CDTF">2022-01-30T11:55:09Z</dcterms:modified>
  <cp:revision>1</cp:revision>
  <dc:subject/>
  <dc:title>Слайд 1</dc:title>
</cp:coreProperties>
</file>