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BB-5055-4AB2-92EA-A1C3BCD7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F2C-DDD9-4159-95B3-408D9FDD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E50-7231-4705-AC4D-59EEC90F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3EC-8A2C-4557-861C-D8F3C2B2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F08-07E1-4C9E-952F-EC7868FE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BC5-DEA5-494E-8C3E-FCB0F72F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F53-A00F-42A1-A8B8-CED58386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142-E783-4142-8B05-E72090E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DF0-ED3A-4B42-A06D-CA424AB4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333-7D46-4C0F-BDCD-B18F8A9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9C1-8B83-4F0F-A8EC-7B9F3A78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691-D078-4CA5-9D4E-72BC885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B8E4-FD9F-4AF3-B96F-FFF57988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30T11:54:06Z</dcterms:created>
  <dc:creator>emachines</dc:creator>
  <dc:description/>
  <dc:language>en-US</dc:language>
  <cp:lastModifiedBy>emachines</cp:lastModifiedBy>
  <dcterms:modified xsi:type="dcterms:W3CDTF">2022-01-30T11:55:09Z</dcterms:modified>
  <cp:revision>1</cp:revision>
  <dc:subject/>
  <dc:title>Слайд 1</dc:title>
</cp:coreProperties>
</file>