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ÐÐ°ÑÑÐ¸Ð½ÐºÐ¸ Ð´Ð¾ÑÐ¾Ð¶Ð½ÑÐµ Ð·Ð½Ð°ÐºÐ¸ Ð´Ð»Ñ Ð´ÐµÑÐµÐ¹ Ð´Ð¾ÑÐºÐ¾Ð»ÑÐ½Ð¾Ð³Ð¾ Ð²Ð¾Ð·ÑÐ°ÑÑÐ°"/>
          <p:cNvPicPr/>
          <p:nvPr/>
        </p:nvPicPr>
        <p:blipFill>
          <a:blip r:embed="rId1"/>
          <a:stretch/>
        </p:blipFill>
        <p:spPr>
          <a:xfrm>
            <a:off x="101520" y="163440"/>
            <a:ext cx="9154800" cy="6527520"/>
          </a:xfrm>
          <a:prstGeom prst="rect">
            <a:avLst/>
          </a:prstGeom>
          <a:ln w="0">
            <a:noFill/>
          </a:ln>
        </p:spPr>
      </p:pic>
      <p:grpSp>
        <p:nvGrpSpPr>
          <p:cNvPr id="39" name="Прямоугольник 3"/>
          <p:cNvGrpSpPr/>
          <p:nvPr/>
        </p:nvGrpSpPr>
        <p:grpSpPr>
          <a:xfrm>
            <a:off x="2517840" y="171360"/>
            <a:ext cx="4320720" cy="1590480"/>
            <a:chOff x="2517840" y="171360"/>
            <a:chExt cx="4320720" cy="1590480"/>
          </a:xfrm>
        </p:grpSpPr>
        <p:pic>
          <p:nvPicPr>
            <p:cNvPr id="4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517840" y="171360"/>
              <a:ext cx="4320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749680" y="401760"/>
              <a:ext cx="3858840" cy="11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«Учим дорожные зна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часть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ÐÐ½Ð°Ðº 3.1 ÐÑÐµÐ·Ð´ Ð·Ð°Ð¿ÑÐµÑÐµÐ½ - ÐÐÐ¤ Ð¢ÐÐÐÐ"/>
          <p:cNvPicPr/>
          <p:nvPr/>
        </p:nvPicPr>
        <p:blipFill>
          <a:blip r:embed="rId2"/>
          <a:stretch/>
        </p:blipFill>
        <p:spPr>
          <a:xfrm>
            <a:off x="6485040" y="0"/>
            <a:ext cx="2487240" cy="22204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-209520" y="2789280"/>
            <a:ext cx="6409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Пешеходный перех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ÐÐ½Ð°Ðº 3.10 ÐÐ²Ð¸Ð¶ÐµÐ½Ð¸Ðµ Ð¿ÐµÑÐµÑÐ¾Ð´Ð¾Ð² Ð·Ð°Ð¿ÑÐµÑÐµÐ½Ð¾ - ÐÐ°Ð³Ð¸ÑÑÑÐ°Ð»Ñ"/>
          <p:cNvPicPr/>
          <p:nvPr/>
        </p:nvPicPr>
        <p:blipFill>
          <a:blip r:embed="rId3"/>
          <a:stretch/>
        </p:blipFill>
        <p:spPr>
          <a:xfrm>
            <a:off x="6453360" y="2293920"/>
            <a:ext cx="2552400" cy="227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ÐÐ½Ð°Ðº &amp;quot;ÐÐµÑÐµÑÐ¾Ð´Ð½ÑÐ¹ Ð¿ÐµÑÐµÑÐ¾Ð´&amp;quot; â ÐºÐ°ÑÑÐ¸Ð½ÐºÐ¸, Ð´ÐµÐ¹ÑÑÐ²Ð¸Ðµ Ð·Ð½Ð°ÐºÐ° Ð½Ð°Ð´Ð·ÐµÐ¼Ð½Ð¾Ð³Ð¾ Ð¸  Ð¿Ð¾Ð´Ð·ÐµÐ¼Ð½Ð¾Ð³Ð¾ Ð¿ÐµÑÐµÑÐ¾Ð´Ð°, Ð° ÑÐ°ÐºÐ¶Ðµ Ð·ÐµÐ±ÑÑ Ð´Ð»Ñ Ð¿ÐµÑÐµÑÐ¾Ð´Ð¾Ð²"/>
          <p:cNvPicPr/>
          <p:nvPr/>
        </p:nvPicPr>
        <p:blipFill>
          <a:blip r:embed="rId4"/>
          <a:srcRect l="15458" t="0" r="14800" b="0"/>
          <a:stretch/>
        </p:blipFill>
        <p:spPr>
          <a:xfrm>
            <a:off x="6910560" y="4649760"/>
            <a:ext cx="2061720" cy="2071440"/>
          </a:xfrm>
          <a:prstGeom prst="rect">
            <a:avLst/>
          </a:prstGeom>
          <a:ln w="0">
            <a:noFill/>
          </a:ln>
        </p:spPr>
      </p:pic>
      <p:sp>
        <p:nvSpPr>
          <p:cNvPr id="4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669240" y="5731560"/>
            <a:ext cx="713160" cy="680040"/>
          </a:xfrm>
          <a:prstGeom prst="actionButtonForwardNext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74520" y="174600"/>
            <a:ext cx="6409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нструкция: Найди знак, который называется… «Пешеходный переход»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delay="0" evt="onClick">
                    <p:tgtEl>
                      <p:spTgt spid="44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delay="0"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childTnLs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-209520" y="2789280"/>
            <a:ext cx="6409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Въезд запреще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ÐÐ½Ð°Ðº 3.10 ÐÐ²Ð¸Ð¶ÐµÐ½Ð¸Ðµ Ð¿ÐµÑÐµÑÐ¾Ð´Ð¾Ð² Ð·Ð°Ð¿ÑÐµÑÐµÐ½Ð¾ - ÐÐ°Ð³Ð¸ÑÑÑÐ°Ð»Ñ"/>
          <p:cNvPicPr/>
          <p:nvPr/>
        </p:nvPicPr>
        <p:blipFill>
          <a:blip r:embed="rId2"/>
          <a:stretch/>
        </p:blipFill>
        <p:spPr>
          <a:xfrm>
            <a:off x="6453360" y="2293920"/>
            <a:ext cx="2552400" cy="227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ÐÐ½Ð°Ðº &amp;quot;ÐÐµÑÐµÑÐ¾Ð´Ð½ÑÐ¹ Ð¿ÐµÑÐµÑÐ¾Ð´&amp;quot; â ÐºÐ°ÑÑÐ¸Ð½ÐºÐ¸, Ð´ÐµÐ¹ÑÑÐ²Ð¸Ðµ Ð·Ð½Ð°ÐºÐ° Ð½Ð°Ð´Ð·ÐµÐ¼Ð½Ð¾Ð³Ð¾ Ð¸  Ð¿Ð¾Ð´Ð·ÐµÐ¼Ð½Ð¾Ð³Ð¾ Ð¿ÐµÑÐµÑÐ¾Ð´Ð°, Ð° ÑÐ°ÐºÐ¶Ðµ Ð·ÐµÐ±ÑÑ Ð´Ð»Ñ Ð¿ÐµÑÐµÑÐ¾Ð´Ð¾Ð²"/>
          <p:cNvPicPr/>
          <p:nvPr/>
        </p:nvPicPr>
        <p:blipFill>
          <a:blip r:embed="rId3"/>
          <a:srcRect l="15458" t="0" r="14800" b="0"/>
          <a:stretch/>
        </p:blipFill>
        <p:spPr>
          <a:xfrm>
            <a:off x="6910560" y="4649760"/>
            <a:ext cx="2061720" cy="20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ÐÐ½Ð°Ðº 3.1 ÐÑÐµÐ·Ð´ Ð·Ð°Ð¿ÑÐµÑÐµÐ½ - ÐÐÐ¤ Ð¢ÐÐÐÐ"/>
          <p:cNvPicPr/>
          <p:nvPr/>
        </p:nvPicPr>
        <p:blipFill>
          <a:blip r:embed="rId4"/>
          <a:stretch/>
        </p:blipFill>
        <p:spPr>
          <a:xfrm>
            <a:off x="6485040" y="0"/>
            <a:ext cx="2487240" cy="222048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1806480" y="5898960"/>
            <a:ext cx="613080" cy="624240"/>
          </a:xfrm>
          <a:prstGeom prst="actionButtonForwardNext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sp>
        <p:nvSpPr>
          <p:cNvPr id="53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468360" y="5898960"/>
            <a:ext cx="624240" cy="624240"/>
          </a:xfrm>
          <a:prstGeom prst="actionButtonBackPrevious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2"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ÐÐ½Ð°Ðº 3.1 ÐÑÐµÐ·Ð´ Ð·Ð°Ð¿ÑÐµÑÐµÐ½ - ÐÐÐ¤ Ð¢ÐÐÐÐ"/>
          <p:cNvPicPr/>
          <p:nvPr/>
        </p:nvPicPr>
        <p:blipFill>
          <a:blip r:embed="rId2"/>
          <a:stretch/>
        </p:blipFill>
        <p:spPr>
          <a:xfrm>
            <a:off x="6485040" y="0"/>
            <a:ext cx="2487240" cy="22204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-209520" y="2789280"/>
            <a:ext cx="64098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Проход запреще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ÐÐ½Ð°Ðº &amp;quot;ÐÐµÑÐµÑÐ¾Ð´Ð½ÑÐ¹ Ð¿ÐµÑÐµÑÐ¾Ð´&amp;quot; â ÐºÐ°ÑÑÐ¸Ð½ÐºÐ¸, Ð´ÐµÐ¹ÑÑÐ²Ð¸Ðµ Ð·Ð½Ð°ÐºÐ° Ð½Ð°Ð´Ð·ÐµÐ¼Ð½Ð¾Ð³Ð¾ Ð¸  Ð¿Ð¾Ð´Ð·ÐµÐ¼Ð½Ð¾Ð³Ð¾ Ð¿ÐµÑÐµÑÐ¾Ð´Ð°, Ð° ÑÐ°ÐºÐ¶Ðµ Ð·ÐµÐ±ÑÑ Ð´Ð»Ñ Ð¿ÐµÑÐµÑÐ¾Ð´Ð¾Ð²"/>
          <p:cNvPicPr/>
          <p:nvPr/>
        </p:nvPicPr>
        <p:blipFill>
          <a:blip r:embed="rId3"/>
          <a:srcRect l="15458" t="0" r="14800" b="0"/>
          <a:stretch/>
        </p:blipFill>
        <p:spPr>
          <a:xfrm>
            <a:off x="6910560" y="4649760"/>
            <a:ext cx="2061720" cy="20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ÐÐ½Ð°Ðº 3.10 ÐÐ²Ð¸Ð¶ÐµÐ½Ð¸Ðµ Ð¿ÐµÑÐµÑÐ¾Ð´Ð¾Ð² Ð·Ð°Ð¿ÑÐµÑÐµÐ½Ð¾ - ÐÐ°Ð³Ð¸ÑÑÑÐ°Ð»Ñ"/>
          <p:cNvPicPr/>
          <p:nvPr/>
        </p:nvPicPr>
        <p:blipFill>
          <a:blip r:embed="rId4"/>
          <a:stretch/>
        </p:blipFill>
        <p:spPr>
          <a:xfrm>
            <a:off x="6453360" y="2293920"/>
            <a:ext cx="2552400" cy="227916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806480" y="5898960"/>
            <a:ext cx="613080" cy="624240"/>
          </a:xfrm>
          <a:prstGeom prst="actionButtonForwardNext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sp>
        <p:nvSpPr>
          <p:cNvPr id="5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468360" y="5898960"/>
            <a:ext cx="624240" cy="624240"/>
          </a:xfrm>
          <a:prstGeom prst="actionButtonBackPrevious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delay="0" evt="onClick">
                    <p:tgtEl>
                      <p:spTgt spid="5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delay="0"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childTnLs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childTnLs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delay="0" evt="onClick">
                    <p:tgtEl>
                      <p:spTgt spid="5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delay="0"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360" y="2695680"/>
            <a:ext cx="3925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Жилая зо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4" descr="ÐÐ½Ð°Ðº &amp;quot;ÐÐ²Ð¸Ð¶ÐµÐ½Ð¸Ðµ Ð½Ð° Ð²ÐµÐ»Ð¾ÑÐ¸Ð¿ÐµÐ´Ð°Ñ Ð·Ð°Ð¿ÑÐµÑÐµÐ½Ð¾&amp;quot; â Ð·Ð°Ð¿ÑÐµÑÐ°ÑÑÐ¸Ðµ Ð·Ð½Ð°ÐºÐ¸ Ð´Ð»Ñ  Ð²ÐµÐ»Ð¾ÑÐ¸Ð¿ÐµÐ´Ð¸ÑÑÐ¾Ð²"/>
          <p:cNvPicPr/>
          <p:nvPr/>
        </p:nvPicPr>
        <p:blipFill>
          <a:blip r:embed="rId2"/>
          <a:srcRect l="14646" t="0" r="14041" b="0"/>
          <a:stretch/>
        </p:blipFill>
        <p:spPr>
          <a:xfrm>
            <a:off x="6367320" y="2498760"/>
            <a:ext cx="2077560" cy="203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3"/>
          <a:srcRect l="55268" t="0" r="0" b="0"/>
          <a:stretch/>
        </p:blipFill>
        <p:spPr>
          <a:xfrm>
            <a:off x="6532560" y="231840"/>
            <a:ext cx="1552320" cy="226656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1806480" y="5898960"/>
            <a:ext cx="613080" cy="624240"/>
          </a:xfrm>
          <a:prstGeom prst="actionButtonForwardNext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sp>
        <p:nvSpPr>
          <p:cNvPr id="64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468360" y="5898960"/>
            <a:ext cx="624240" cy="624240"/>
          </a:xfrm>
          <a:prstGeom prst="actionButtonBackPrevious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pic>
        <p:nvPicPr>
          <p:cNvPr id="65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4"/>
          <a:srcRect l="0" t="0" r="54588" b="0"/>
          <a:stretch/>
        </p:blipFill>
        <p:spPr>
          <a:xfrm>
            <a:off x="6508800" y="4551480"/>
            <a:ext cx="1576080" cy="22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childTnLs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2">
                                  <p:childTnLst>
                                    <p:animRot by="120000">
                                      <p:cBhvr>
                                        <p:cTn id="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3680" y="2695680"/>
            <a:ext cx="67021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Движение на велосипедах запрещен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2"/>
          <a:srcRect l="0" t="0" r="54588" b="0"/>
          <a:stretch/>
        </p:blipFill>
        <p:spPr>
          <a:xfrm>
            <a:off x="6508800" y="4551480"/>
            <a:ext cx="1576080" cy="226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3"/>
          <a:srcRect l="55268" t="0" r="0" b="0"/>
          <a:stretch/>
        </p:blipFill>
        <p:spPr>
          <a:xfrm>
            <a:off x="6532560" y="231840"/>
            <a:ext cx="1552320" cy="226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ÐÐ½Ð°Ðº &amp;quot;ÐÐ²Ð¸Ð¶ÐµÐ½Ð¸Ðµ Ð½Ð° Ð²ÐµÐ»Ð¾ÑÐ¸Ð¿ÐµÐ´Ð°Ñ Ð·Ð°Ð¿ÑÐµÑÐµÐ½Ð¾&amp;quot; â Ð·Ð°Ð¿ÑÐµÑÐ°ÑÑÐ¸Ðµ Ð·Ð½Ð°ÐºÐ¸ Ð´Ð»Ñ  Ð²ÐµÐ»Ð¾ÑÐ¸Ð¿ÐµÐ´Ð¸ÑÑÐ¾Ð²"/>
          <p:cNvPicPr/>
          <p:nvPr/>
        </p:nvPicPr>
        <p:blipFill>
          <a:blip r:embed="rId4"/>
          <a:srcRect l="14646" t="0" r="14041" b="0"/>
          <a:stretch/>
        </p:blipFill>
        <p:spPr>
          <a:xfrm>
            <a:off x="6367320" y="2498760"/>
            <a:ext cx="2077560" cy="203940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806480" y="5898960"/>
            <a:ext cx="613080" cy="624240"/>
          </a:xfrm>
          <a:prstGeom prst="actionButtonForwardNext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  <p:sp>
        <p:nvSpPr>
          <p:cNvPr id="7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468360" y="5898960"/>
            <a:ext cx="624240" cy="624240"/>
          </a:xfrm>
          <a:prstGeom prst="actionButtonBackPrevious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2">
                                  <p:childTnLs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6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2">
                                  <p:childTnLs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595440" y="2695680"/>
            <a:ext cx="67021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«Конец жилой зон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2"/>
          <a:srcRect l="0" t="0" r="54588" b="0"/>
          <a:stretch/>
        </p:blipFill>
        <p:spPr>
          <a:xfrm>
            <a:off x="6508800" y="4551480"/>
            <a:ext cx="1576080" cy="226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ÐÐ½Ð°Ðº &amp;quot;ÐÐ²Ð¸Ð¶ÐµÐ½Ð¸Ðµ Ð½Ð° Ð²ÐµÐ»Ð¾ÑÐ¸Ð¿ÐµÐ´Ð°Ñ Ð·Ð°Ð¿ÑÐµÑÐµÐ½Ð¾&amp;quot; â Ð·Ð°Ð¿ÑÐµÑÐ°ÑÑÐ¸Ðµ Ð·Ð½Ð°ÐºÐ¸ Ð´Ð»Ñ  Ð²ÐµÐ»Ð¾ÑÐ¸Ð¿ÐµÐ´Ð¸ÑÑÐ¾Ð²"/>
          <p:cNvPicPr/>
          <p:nvPr/>
        </p:nvPicPr>
        <p:blipFill>
          <a:blip r:embed="rId3"/>
          <a:srcRect l="14646" t="0" r="14041" b="0"/>
          <a:stretch/>
        </p:blipFill>
        <p:spPr>
          <a:xfrm>
            <a:off x="6367320" y="2498760"/>
            <a:ext cx="2077560" cy="203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ÐÐ½Ð°Ðº &amp;quot;ÐÐ¸Ð»Ð°Ñ Ð·Ð¾Ð½Ð°&amp;quot; â ÑÑÐ¾ Ð¾Ð·Ð½Ð°ÑÐ°ÐµÑ Ð´Ð¾ÑÐ¾Ð¶Ð½ÑÐ¹ Ð·Ð½Ð°Ðº &amp;quot;ÐÐ²Ð¾ÑÐ¾Ð²Ð°Ñ Ð·Ð¾Ð½Ð°&amp;quot; Ð¿Ð¾ ÐÐÐ?"/>
          <p:cNvPicPr/>
          <p:nvPr/>
        </p:nvPicPr>
        <p:blipFill>
          <a:blip r:embed="rId4"/>
          <a:srcRect l="55268" t="0" r="0" b="0"/>
          <a:stretch/>
        </p:blipFill>
        <p:spPr>
          <a:xfrm>
            <a:off x="6532560" y="231840"/>
            <a:ext cx="1552320" cy="22665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омой 2">
            <a:hlinkClick r:id="" action="ppaction://hlinkshowjump?jump=firstslide"/>
          </p:cNvPr>
          <p:cNvSpPr/>
          <p:nvPr/>
        </p:nvSpPr>
        <p:spPr>
          <a:xfrm>
            <a:off x="490680" y="5798520"/>
            <a:ext cx="847080" cy="780120"/>
          </a:xfrm>
          <a:prstGeom prst="actionButtonHome">
            <a:avLst/>
          </a:prstGeom>
          <a:solidFill>
            <a:srgbClr val="00cc99"/>
          </a:solidFill>
          <a:ln>
            <a:solidFill>
              <a:srgbClr val="00967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2">
                                  <p:childTnLst>
                                    <p:animRot by="120000">
                                      <p:cBhvr>
                                        <p:cTn id="1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delay="0" evt="onClick">
                    <p:tgtEl>
                      <p:spTgt spid="75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delay="0"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childTnLs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5T09:48:39Z</dcterms:created>
  <dc:creator>Тороповы</dc:creator>
  <dc:description/>
  <dc:language>en-US</dc:language>
  <cp:lastModifiedBy>Юлия Торопова</cp:lastModifiedBy>
  <dcterms:modified xsi:type="dcterms:W3CDTF">2022-02-09T13:04:0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