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BF67-0763-43EE-B5EC-CF905D30334B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8D44-4CEC-46D9-8871-8E600B975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97D-9A51-453D-A58A-D8AEB104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785-4121-4789-B01F-05BC93BC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0DD-5CF2-49F7-9D4A-F1DE214A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E05-CDA8-4FCF-A8AA-372AFC95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9C3-877D-49D4-94E9-357FB2A9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0A4-2CA5-4ECA-A7D9-71F42A8B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16C-2296-4473-B9D0-219A11C4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438-D2D0-4381-91FE-31537F3E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DE5-D59B-47A1-8380-BF0433BA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C32-7321-488F-9D01-7BC27A5D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B00-C147-4725-930A-E6AF22A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594-F9F4-4CD1-A0DC-B67653B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D516-1A9C-4F90-9B7F-F091A34EB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2;&#1085;&#1086;&#1087;&#1082;&#1072;.avi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2;&#1085;&#1086;&#1087;&#1082;&#1072;.avi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числение объемов тел вращ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интегр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995640" y="4941720"/>
            <a:ext cx="46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ктякова Альфия Фатых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Лямбирская СОШ №1» Лямбирского муниципального район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"/>
          <p:cNvSpPr/>
          <p:nvPr/>
        </p:nvSpPr>
        <p:spPr>
          <a:xfrm>
            <a:off x="434880" y="3213000"/>
            <a:ext cx="273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811600" y="278136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84320" y="3286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мотрим усечённый конус и найдём его объё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3564000" y="2349360"/>
                <a:ext cx="3600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4" name="Picture 7" descr="MCj03185160000[1]"/>
          <p:cNvPicPr/>
          <p:nvPr/>
        </p:nvPicPr>
        <p:blipFill>
          <a:blip r:embed="rId1"/>
          <a:stretch/>
        </p:blipFill>
        <p:spPr>
          <a:xfrm>
            <a:off x="7020000" y="1844640"/>
            <a:ext cx="1936800" cy="781200"/>
          </a:xfrm>
          <a:prstGeom prst="rect">
            <a:avLst/>
          </a:prstGeom>
          <a:ln w="0">
            <a:noFill/>
          </a:ln>
        </p:spPr>
      </p:pic>
      <p:sp>
        <p:nvSpPr>
          <p:cNvPr id="225" name="Line 8"/>
          <p:cNvSpPr/>
          <p:nvPr/>
        </p:nvSpPr>
        <p:spPr>
          <a:xfrm flipV="1">
            <a:off x="795240" y="1844280"/>
            <a:ext cx="1440000" cy="792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795240" y="3789360"/>
            <a:ext cx="144000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723960" y="2637000"/>
            <a:ext cx="14436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2163600" y="1844640"/>
            <a:ext cx="216000" cy="2736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1371600" y="2276640"/>
            <a:ext cx="144360" cy="1873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 rot="5400000">
            <a:off x="723600" y="3119400"/>
            <a:ext cx="2232000" cy="21600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 flipV="1">
            <a:off x="7952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43488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6"/>
              <p:cNvSpPr txBox="1"/>
              <p:nvPr/>
            </p:nvSpPr>
            <p:spPr>
              <a:xfrm>
                <a:off x="2411280" y="1557360"/>
                <a:ext cx="12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17"/>
          <p:cNvSpPr/>
          <p:nvPr/>
        </p:nvSpPr>
        <p:spPr>
          <a:xfrm>
            <a:off x="2379600" y="3286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507960" y="321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>
            <a:off x="795240" y="2637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0"/>
          <p:cNvSpPr/>
          <p:nvPr/>
        </p:nvSpPr>
        <p:spPr>
          <a:xfrm>
            <a:off x="795240" y="2637000"/>
            <a:ext cx="0" cy="576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1"/>
          <p:cNvSpPr/>
          <p:nvPr/>
        </p:nvSpPr>
        <p:spPr>
          <a:xfrm>
            <a:off x="2268360" y="1844640"/>
            <a:ext cx="0" cy="13683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2308320" y="220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91960" y="2781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4"/>
              <p:cNvSpPr txBox="1"/>
              <p:nvPr/>
            </p:nvSpPr>
            <p:spPr>
              <a:xfrm>
                <a:off x="3564000" y="3429000"/>
                <a:ext cx="4919760" cy="22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5"/>
              <p:cNvSpPr txBox="1"/>
              <p:nvPr/>
            </p:nvSpPr>
            <p:spPr>
              <a:xfrm>
                <a:off x="684360" y="5661000"/>
                <a:ext cx="8070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h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7"/>
              <p:cNvSpPr txBox="1"/>
              <p:nvPr/>
            </p:nvSpPr>
            <p:spPr>
              <a:xfrm>
                <a:off x="7308720" y="0"/>
                <a:ext cx="1835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" descr=""/>
          <p:cNvPicPr/>
          <p:nvPr/>
        </p:nvPicPr>
        <p:blipFill>
          <a:blip r:embed="rId1"/>
          <a:srcRect l="42319" t="10872" r="1577" b="40400"/>
          <a:stretch/>
        </p:blipFill>
        <p:spPr>
          <a:xfrm>
            <a:off x="3430440" y="2143080"/>
            <a:ext cx="571356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** Найдите объём тела, если его поверхность получена вращением фигуры образованной графиками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179280" y="1914480"/>
                <a:ext cx="252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2920" y="2857680"/>
                <a:ext cx="246384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42920" y="2428920"/>
                <a:ext cx="2851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9" name="Picture 8" descr=""/>
          <p:cNvPicPr/>
          <p:nvPr/>
        </p:nvPicPr>
        <p:blipFill>
          <a:blip r:embed="rId2"/>
          <a:srcRect l="18697" t="20477" r="13386" b="13817"/>
          <a:stretch/>
        </p:blipFill>
        <p:spPr>
          <a:xfrm>
            <a:off x="0" y="3786120"/>
            <a:ext cx="34401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определён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гр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rcRect l="18702" t="20476" r="13384" b="13817"/>
          <a:stretch/>
        </p:blipFill>
        <p:spPr>
          <a:xfrm>
            <a:off x="6804000" y="0"/>
            <a:ext cx="2340000" cy="1808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rcRect l="42319" t="10872" r="1577" b="40400"/>
          <a:stretch/>
        </p:blipFill>
        <p:spPr>
          <a:xfrm>
            <a:off x="6791400" y="1628640"/>
            <a:ext cx="2352600" cy="188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395280" y="2990880"/>
                <a:ext cx="5689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5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12920" y="2133720"/>
                <a:ext cx="49323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аши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емк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395280" y="3860640"/>
                <a:ext cx="71182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аш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95280" y="4869000"/>
                <a:ext cx="474336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емк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2"/>
              <p:cNvSpPr txBox="1"/>
              <p:nvPr/>
            </p:nvSpPr>
            <p:spPr>
              <a:xfrm>
                <a:off x="5892840" y="3500280"/>
                <a:ext cx="1903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3"/>
              <p:cNvSpPr txBox="1"/>
              <p:nvPr/>
            </p:nvSpPr>
            <p:spPr>
              <a:xfrm>
                <a:off x="6948360" y="4508640"/>
                <a:ext cx="18576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4"/>
              <p:cNvSpPr txBox="1"/>
              <p:nvPr/>
            </p:nvSpPr>
            <p:spPr>
              <a:xfrm>
                <a:off x="5148360" y="5084640"/>
                <a:ext cx="1766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395280" y="5877000"/>
                <a:ext cx="3735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убк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7"/>
              <p:cNvSpPr txBox="1"/>
              <p:nvPr/>
            </p:nvSpPr>
            <p:spPr>
              <a:xfrm>
                <a:off x="4500720" y="1071720"/>
                <a:ext cx="18349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1547640" y="2421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 flipV="1">
            <a:off x="1979640" y="62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8"/>
          <p:cNvGrpSpPr/>
          <p:nvPr/>
        </p:nvGrpSpPr>
        <p:grpSpPr>
          <a:xfrm>
            <a:off x="2987280" y="692280"/>
            <a:ext cx="3024360" cy="3423600"/>
            <a:chOff x="2987280" y="692280"/>
            <a:chExt cx="3024360" cy="3423600"/>
          </a:xfrm>
        </p:grpSpPr>
        <p:sp>
          <p:nvSpPr>
            <p:cNvPr id="58" name="Freeform 9"/>
            <p:cNvSpPr/>
            <p:nvPr/>
          </p:nvSpPr>
          <p:spPr>
            <a:xfrm flipH="1" flipV="1">
              <a:off x="2986920" y="3414600"/>
              <a:ext cx="2978280" cy="701280"/>
            </a:xfrm>
            <a:custGeom>
              <a:avLst/>
              <a:gdLst>
                <a:gd name="textAreaLeft" fmla="*/ -360 w 2978280"/>
                <a:gd name="textAreaRight" fmla="*/ 2978280 w 2978280"/>
                <a:gd name="textAreaTop" fmla="*/ 360 h 701280"/>
                <a:gd name="textAreaBottom" fmla="*/ 702000 h 701280"/>
              </a:gdLst>
              <a:ahLst/>
              <a:rect l="textAreaLeft" t="textAreaTop" r="textAreaRight" b="textAreaBottom"/>
              <a:pathLst>
                <a:path w="1876" h="442">
                  <a:moveTo>
                    <a:pt x="0" y="199"/>
                  </a:moveTo>
                  <a:cubicBezTo>
                    <a:pt x="107" y="234"/>
                    <a:pt x="422" y="442"/>
                    <a:pt x="651" y="409"/>
                  </a:cubicBezTo>
                  <a:cubicBezTo>
                    <a:pt x="880" y="376"/>
                    <a:pt x="1173" y="0"/>
                    <a:pt x="1377" y="0"/>
                  </a:cubicBezTo>
                  <a:cubicBezTo>
                    <a:pt x="1581" y="0"/>
                    <a:pt x="1793" y="341"/>
                    <a:pt x="1876" y="409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 flipH="1">
              <a:off x="3033000" y="692280"/>
              <a:ext cx="2978280" cy="701280"/>
            </a:xfrm>
            <a:custGeom>
              <a:avLst/>
              <a:gdLst>
                <a:gd name="textAreaLeft" fmla="*/ -360 w 2978280"/>
                <a:gd name="textAreaRight" fmla="*/ 2978280 w 2978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876" h="442">
                  <a:moveTo>
                    <a:pt x="0" y="199"/>
                  </a:moveTo>
                  <a:cubicBezTo>
                    <a:pt x="107" y="234"/>
                    <a:pt x="422" y="442"/>
                    <a:pt x="651" y="409"/>
                  </a:cubicBezTo>
                  <a:cubicBezTo>
                    <a:pt x="880" y="376"/>
                    <a:pt x="1173" y="0"/>
                    <a:pt x="1377" y="0"/>
                  </a:cubicBezTo>
                  <a:cubicBezTo>
                    <a:pt x="1581" y="0"/>
                    <a:pt x="1793" y="341"/>
                    <a:pt x="1876" y="409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1"/>
          <p:cNvSpPr/>
          <p:nvPr/>
        </p:nvSpPr>
        <p:spPr>
          <a:xfrm>
            <a:off x="3059280" y="1341360"/>
            <a:ext cx="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6012000" y="1052640"/>
            <a:ext cx="0" cy="13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867280" y="2421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476360" y="620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637236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19640" y="76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47636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611280" y="3141720"/>
            <a:ext cx="820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функция y = f(x) определена, неотрицательна и непрерывна на отрезке [a; b]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график кривой  у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[a; b], ось OX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x = a, x = b образуют криволинейную трапе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тело, образованное вращением этой криволинейной трапеции вокруг оси OX и найдем его объ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3024360" y="1339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975280" y="10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2879640" y="2421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5832360" y="2421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6156360" y="33336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1"/>
          <p:cNvSpPr/>
          <p:nvPr/>
        </p:nvSpPr>
        <p:spPr>
          <a:xfrm>
            <a:off x="2995560" y="698400"/>
            <a:ext cx="3032280" cy="1733760"/>
          </a:xfrm>
          <a:custGeom>
            <a:avLst/>
            <a:gdLst>
              <a:gd name="textAreaLeft" fmla="*/ 0 w 3032280"/>
              <a:gd name="textAreaRight" fmla="*/ 3032640 w 3032280"/>
              <a:gd name="textAreaTop" fmla="*/ 0 h 1733760"/>
              <a:gd name="textAreaBottom" fmla="*/ 1734120 h 1733760"/>
            </a:gdLst>
            <a:ahLst/>
            <a:rect l="textAreaLeft" t="textAreaTop" r="textAreaRight" b="textAreaBottom"/>
            <a:pathLst>
              <a:path w="1910" h="1092">
                <a:moveTo>
                  <a:pt x="14" y="438"/>
                </a:moveTo>
                <a:cubicBezTo>
                  <a:pt x="149" y="293"/>
                  <a:pt x="209" y="200"/>
                  <a:pt x="283" y="130"/>
                </a:cubicBezTo>
                <a:cubicBezTo>
                  <a:pt x="357" y="60"/>
                  <a:pt x="411" y="38"/>
                  <a:pt x="456" y="19"/>
                </a:cubicBezTo>
                <a:cubicBezTo>
                  <a:pt x="501" y="0"/>
                  <a:pt x="510" y="5"/>
                  <a:pt x="551" y="13"/>
                </a:cubicBezTo>
                <a:cubicBezTo>
                  <a:pt x="592" y="21"/>
                  <a:pt x="661" y="47"/>
                  <a:pt x="702" y="69"/>
                </a:cubicBezTo>
                <a:cubicBezTo>
                  <a:pt x="743" y="91"/>
                  <a:pt x="749" y="112"/>
                  <a:pt x="797" y="147"/>
                </a:cubicBezTo>
                <a:cubicBezTo>
                  <a:pt x="845" y="182"/>
                  <a:pt x="913" y="236"/>
                  <a:pt x="987" y="281"/>
                </a:cubicBezTo>
                <a:cubicBezTo>
                  <a:pt x="1061" y="326"/>
                  <a:pt x="1162" y="395"/>
                  <a:pt x="1239" y="416"/>
                </a:cubicBezTo>
                <a:cubicBezTo>
                  <a:pt x="1316" y="437"/>
                  <a:pt x="1375" y="422"/>
                  <a:pt x="1447" y="405"/>
                </a:cubicBezTo>
                <a:cubicBezTo>
                  <a:pt x="1519" y="388"/>
                  <a:pt x="1608" y="342"/>
                  <a:pt x="1673" y="314"/>
                </a:cubicBezTo>
                <a:cubicBezTo>
                  <a:pt x="1738" y="286"/>
                  <a:pt x="1799" y="258"/>
                  <a:pt x="1837" y="237"/>
                </a:cubicBezTo>
                <a:cubicBezTo>
                  <a:pt x="1875" y="216"/>
                  <a:pt x="1889" y="196"/>
                  <a:pt x="1899" y="186"/>
                </a:cubicBezTo>
                <a:cubicBezTo>
                  <a:pt x="1909" y="176"/>
                  <a:pt x="1900" y="28"/>
                  <a:pt x="1900" y="178"/>
                </a:cubicBezTo>
                <a:cubicBezTo>
                  <a:pt x="1899" y="1008"/>
                  <a:pt x="1910" y="416"/>
                  <a:pt x="1900" y="1085"/>
                </a:cubicBezTo>
                <a:cubicBezTo>
                  <a:pt x="462" y="1087"/>
                  <a:pt x="1329" y="1092"/>
                  <a:pt x="14" y="1087"/>
                </a:cubicBezTo>
                <a:cubicBezTo>
                  <a:pt x="0" y="390"/>
                  <a:pt x="8" y="880"/>
                  <a:pt x="14" y="438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108000" y="48751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755640" y="30747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1619280" y="3141720"/>
            <a:ext cx="3324240" cy="3438360"/>
            <a:chOff x="1619280" y="3141720"/>
            <a:chExt cx="3324240" cy="3438360"/>
          </a:xfrm>
        </p:grpSpPr>
        <p:sp>
          <p:nvSpPr>
            <p:cNvPr id="77" name="Freeform 8"/>
            <p:cNvSpPr/>
            <p:nvPr/>
          </p:nvSpPr>
          <p:spPr>
            <a:xfrm>
              <a:off x="1619280" y="3141720"/>
              <a:ext cx="3159000" cy="3438360"/>
            </a:xfrm>
            <a:custGeom>
              <a:avLst/>
              <a:gdLst/>
              <a:ahLst/>
              <a:rect l="l" t="t" r="r" b="b"/>
              <a:pathLst>
                <a:path w="1990" h="2166">
                  <a:moveTo>
                    <a:pt x="143" y="417"/>
                  </a:moveTo>
                  <a:cubicBezTo>
                    <a:pt x="203" y="266"/>
                    <a:pt x="294" y="212"/>
                    <a:pt x="370" y="144"/>
                  </a:cubicBezTo>
                  <a:cubicBezTo>
                    <a:pt x="446" y="76"/>
                    <a:pt x="521" y="16"/>
                    <a:pt x="597" y="8"/>
                  </a:cubicBezTo>
                  <a:cubicBezTo>
                    <a:pt x="673" y="0"/>
                    <a:pt x="726" y="39"/>
                    <a:pt x="824" y="99"/>
                  </a:cubicBezTo>
                  <a:cubicBezTo>
                    <a:pt x="922" y="159"/>
                    <a:pt x="1096" y="318"/>
                    <a:pt x="1187" y="371"/>
                  </a:cubicBezTo>
                  <a:cubicBezTo>
                    <a:pt x="1278" y="424"/>
                    <a:pt x="1308" y="409"/>
                    <a:pt x="1368" y="417"/>
                  </a:cubicBezTo>
                  <a:cubicBezTo>
                    <a:pt x="1428" y="425"/>
                    <a:pt x="1505" y="425"/>
                    <a:pt x="1550" y="417"/>
                  </a:cubicBezTo>
                  <a:cubicBezTo>
                    <a:pt x="1595" y="409"/>
                    <a:pt x="1567" y="405"/>
                    <a:pt x="1640" y="371"/>
                  </a:cubicBezTo>
                  <a:cubicBezTo>
                    <a:pt x="1713" y="337"/>
                    <a:pt x="1713" y="356"/>
                    <a:pt x="1990" y="213"/>
                  </a:cubicBezTo>
                  <a:cubicBezTo>
                    <a:pt x="1936" y="335"/>
                    <a:pt x="1872" y="670"/>
                    <a:pt x="1867" y="961"/>
                  </a:cubicBezTo>
                  <a:cubicBezTo>
                    <a:pt x="1862" y="1252"/>
                    <a:pt x="1973" y="1808"/>
                    <a:pt x="1958" y="1959"/>
                  </a:cubicBezTo>
                  <a:cubicBezTo>
                    <a:pt x="1760" y="1853"/>
                    <a:pt x="1844" y="1898"/>
                    <a:pt x="1776" y="1868"/>
                  </a:cubicBezTo>
                  <a:cubicBezTo>
                    <a:pt x="1708" y="1838"/>
                    <a:pt x="1618" y="1800"/>
                    <a:pt x="1550" y="1777"/>
                  </a:cubicBezTo>
                  <a:cubicBezTo>
                    <a:pt x="1482" y="1754"/>
                    <a:pt x="1436" y="1724"/>
                    <a:pt x="1368" y="1732"/>
                  </a:cubicBezTo>
                  <a:cubicBezTo>
                    <a:pt x="1300" y="1740"/>
                    <a:pt x="1216" y="1778"/>
                    <a:pt x="1141" y="1823"/>
                  </a:cubicBezTo>
                  <a:cubicBezTo>
                    <a:pt x="1066" y="1868"/>
                    <a:pt x="983" y="1951"/>
                    <a:pt x="915" y="2004"/>
                  </a:cubicBezTo>
                  <a:cubicBezTo>
                    <a:pt x="847" y="2057"/>
                    <a:pt x="795" y="2114"/>
                    <a:pt x="733" y="2140"/>
                  </a:cubicBezTo>
                  <a:cubicBezTo>
                    <a:pt x="671" y="2166"/>
                    <a:pt x="593" y="2165"/>
                    <a:pt x="540" y="2158"/>
                  </a:cubicBezTo>
                  <a:cubicBezTo>
                    <a:pt x="487" y="2151"/>
                    <a:pt x="459" y="2128"/>
                    <a:pt x="416" y="2095"/>
                  </a:cubicBezTo>
                  <a:cubicBezTo>
                    <a:pt x="373" y="2062"/>
                    <a:pt x="333" y="2019"/>
                    <a:pt x="280" y="1959"/>
                  </a:cubicBezTo>
                  <a:cubicBezTo>
                    <a:pt x="227" y="1899"/>
                    <a:pt x="143" y="1883"/>
                    <a:pt x="98" y="1732"/>
                  </a:cubicBezTo>
                  <a:cubicBezTo>
                    <a:pt x="53" y="1581"/>
                    <a:pt x="0" y="1271"/>
                    <a:pt x="7" y="1052"/>
                  </a:cubicBezTo>
                  <a:cubicBezTo>
                    <a:pt x="14" y="833"/>
                    <a:pt x="83" y="568"/>
                    <a:pt x="143" y="417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4583160" y="3443400"/>
              <a:ext cx="360360" cy="2879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182" h="1738">
                  <a:moveTo>
                    <a:pt x="91" y="7"/>
                  </a:moveTo>
                  <a:cubicBezTo>
                    <a:pt x="121" y="14"/>
                    <a:pt x="182" y="446"/>
                    <a:pt x="182" y="733"/>
                  </a:cubicBezTo>
                  <a:cubicBezTo>
                    <a:pt x="182" y="1020"/>
                    <a:pt x="121" y="1738"/>
                    <a:pt x="91" y="1731"/>
                  </a:cubicBezTo>
                  <a:cubicBezTo>
                    <a:pt x="61" y="1724"/>
                    <a:pt x="0" y="975"/>
                    <a:pt x="0" y="688"/>
                  </a:cubicBezTo>
                  <a:cubicBezTo>
                    <a:pt x="0" y="401"/>
                    <a:pt x="61" y="0"/>
                    <a:pt x="91" y="7"/>
                  </a:cubicBezTo>
                  <a:close/>
                </a:path>
              </a:pathLst>
            </a:custGeom>
            <a:solidFill>
              <a:srgbClr val="88c9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1774800" y="3803760"/>
              <a:ext cx="123840" cy="2065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5320"/>
                <a:gd name="textAreaBottom" fmla="*/ 2065680 h 2065320"/>
              </a:gdLst>
              <a:ahLst/>
              <a:rect l="textAreaLeft" t="textAreaTop" r="textAreaRight" b="textAreaBottom"/>
              <a:pathLst>
                <a:path w="78" h="1301">
                  <a:moveTo>
                    <a:pt x="48" y="0"/>
                  </a:moveTo>
                  <a:cubicBezTo>
                    <a:pt x="50" y="48"/>
                    <a:pt x="57" y="179"/>
                    <a:pt x="61" y="291"/>
                  </a:cubicBezTo>
                  <a:cubicBezTo>
                    <a:pt x="65" y="403"/>
                    <a:pt x="78" y="534"/>
                    <a:pt x="75" y="671"/>
                  </a:cubicBezTo>
                  <a:cubicBezTo>
                    <a:pt x="72" y="808"/>
                    <a:pt x="54" y="1006"/>
                    <a:pt x="41" y="1111"/>
                  </a:cubicBezTo>
                  <a:cubicBezTo>
                    <a:pt x="28" y="1216"/>
                    <a:pt x="9" y="1262"/>
                    <a:pt x="0" y="13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6"/>
          <p:cNvGrpSpPr/>
          <p:nvPr/>
        </p:nvGrpSpPr>
        <p:grpSpPr>
          <a:xfrm>
            <a:off x="1763280" y="3146400"/>
            <a:ext cx="3024360" cy="3423960"/>
            <a:chOff x="1763280" y="3146400"/>
            <a:chExt cx="3024360" cy="3423960"/>
          </a:xfrm>
        </p:grpSpPr>
        <p:sp>
          <p:nvSpPr>
            <p:cNvPr id="81" name="Freeform 7"/>
            <p:cNvSpPr/>
            <p:nvPr/>
          </p:nvSpPr>
          <p:spPr>
            <a:xfrm flipH="1" flipV="1">
              <a:off x="1762920" y="5868360"/>
              <a:ext cx="2978280" cy="701640"/>
            </a:xfrm>
            <a:custGeom>
              <a:avLst/>
              <a:gdLst>
                <a:gd name="textAreaLeft" fmla="*/ -360 w 2978280"/>
                <a:gd name="textAreaRight" fmla="*/ 2978280 w 2978280"/>
                <a:gd name="textAreaTop" fmla="*/ -36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1876" h="442">
                  <a:moveTo>
                    <a:pt x="0" y="199"/>
                  </a:moveTo>
                  <a:cubicBezTo>
                    <a:pt x="107" y="234"/>
                    <a:pt x="422" y="442"/>
                    <a:pt x="651" y="409"/>
                  </a:cubicBezTo>
                  <a:cubicBezTo>
                    <a:pt x="880" y="376"/>
                    <a:pt x="1173" y="0"/>
                    <a:pt x="1377" y="0"/>
                  </a:cubicBezTo>
                  <a:cubicBezTo>
                    <a:pt x="1581" y="0"/>
                    <a:pt x="1793" y="341"/>
                    <a:pt x="1876" y="409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 flipH="1">
              <a:off x="1809000" y="3146400"/>
              <a:ext cx="2978280" cy="701640"/>
            </a:xfrm>
            <a:custGeom>
              <a:avLst/>
              <a:gdLst>
                <a:gd name="textAreaLeft" fmla="*/ -360 w 2978280"/>
                <a:gd name="textAreaRight" fmla="*/ 2978280 w 297828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876" h="442">
                  <a:moveTo>
                    <a:pt x="0" y="199"/>
                  </a:moveTo>
                  <a:cubicBezTo>
                    <a:pt x="107" y="234"/>
                    <a:pt x="422" y="442"/>
                    <a:pt x="651" y="409"/>
                  </a:cubicBezTo>
                  <a:cubicBezTo>
                    <a:pt x="880" y="376"/>
                    <a:pt x="1173" y="0"/>
                    <a:pt x="1377" y="0"/>
                  </a:cubicBezTo>
                  <a:cubicBezTo>
                    <a:pt x="1581" y="0"/>
                    <a:pt x="1793" y="341"/>
                    <a:pt x="1876" y="409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13"/>
          <p:cNvSpPr/>
          <p:nvPr/>
        </p:nvSpPr>
        <p:spPr>
          <a:xfrm>
            <a:off x="1835280" y="3795840"/>
            <a:ext cx="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788000" y="3506760"/>
            <a:ext cx="0" cy="13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4643280" y="48751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52360" y="3075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148360" y="4875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3995640" y="3219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2360" y="4875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1547640" y="47628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бьем отрезок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тей произвольным образом, через каждую точку деления проведем плоскость, перпендикулярную к оси ОХ и найдём площади полученных поперечных с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3"/>
          <p:cNvSpPr/>
          <p:nvPr/>
        </p:nvSpPr>
        <p:spPr>
          <a:xfrm>
            <a:off x="2484360" y="3141720"/>
            <a:ext cx="216000" cy="3456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aa6600"/>
              </a:gs>
            </a:gsLst>
            <a:lin ang="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4"/>
          <p:cNvSpPr/>
          <p:nvPr/>
        </p:nvSpPr>
        <p:spPr>
          <a:xfrm>
            <a:off x="2843280" y="3284640"/>
            <a:ext cx="144360" cy="3097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>
            <a:off x="3492360" y="3789360"/>
            <a:ext cx="142920" cy="216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3203640" y="3573360"/>
            <a:ext cx="144360" cy="251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5148360" y="5157720"/>
            <a:ext cx="381636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видно, что любое поперечное сечение тела вращения – круг. Радиус круга равен значению функции в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щадь этого круг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 flipV="1">
            <a:off x="611280" y="2565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5"/>
          <p:cNvSpPr/>
          <p:nvPr/>
        </p:nvSpPr>
        <p:spPr>
          <a:xfrm rot="5400000">
            <a:off x="1187640" y="4149000"/>
            <a:ext cx="2663640" cy="36036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1001880" y="5494320"/>
            <a:ext cx="1400040" cy="54468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882" h="343">
                <a:moveTo>
                  <a:pt x="0" y="0"/>
                </a:moveTo>
                <a:cubicBezTo>
                  <a:pt x="139" y="131"/>
                  <a:pt x="214" y="297"/>
                  <a:pt x="361" y="320"/>
                </a:cubicBezTo>
                <a:cubicBezTo>
                  <a:pt x="508" y="343"/>
                  <a:pt x="773" y="174"/>
                  <a:pt x="882" y="13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 flipV="1">
            <a:off x="2411280" y="5373000"/>
            <a:ext cx="1584360" cy="407880"/>
          </a:xfrm>
          <a:custGeom>
            <a:avLst/>
            <a:gdLst>
              <a:gd name="textAreaLeft" fmla="*/ 0 w 1584360"/>
              <a:gd name="textAreaRight" fmla="*/ 1584720 w 158436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w="998" h="257">
                <a:moveTo>
                  <a:pt x="0" y="45"/>
                </a:moveTo>
                <a:cubicBezTo>
                  <a:pt x="94" y="121"/>
                  <a:pt x="189" y="197"/>
                  <a:pt x="272" y="227"/>
                </a:cubicBezTo>
                <a:cubicBezTo>
                  <a:pt x="355" y="257"/>
                  <a:pt x="408" y="250"/>
                  <a:pt x="499" y="227"/>
                </a:cubicBezTo>
                <a:cubicBezTo>
                  <a:pt x="590" y="204"/>
                  <a:pt x="734" y="128"/>
                  <a:pt x="817" y="90"/>
                </a:cubicBezTo>
                <a:cubicBezTo>
                  <a:pt x="900" y="52"/>
                  <a:pt x="949" y="26"/>
                  <a:pt x="99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2411280" y="2925720"/>
            <a:ext cx="1584360" cy="4078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998" h="257">
                <a:moveTo>
                  <a:pt x="0" y="45"/>
                </a:moveTo>
                <a:cubicBezTo>
                  <a:pt x="94" y="121"/>
                  <a:pt x="189" y="197"/>
                  <a:pt x="272" y="227"/>
                </a:cubicBezTo>
                <a:cubicBezTo>
                  <a:pt x="355" y="257"/>
                  <a:pt x="408" y="250"/>
                  <a:pt x="499" y="227"/>
                </a:cubicBezTo>
                <a:cubicBezTo>
                  <a:pt x="590" y="204"/>
                  <a:pt x="734" y="128"/>
                  <a:pt x="817" y="90"/>
                </a:cubicBezTo>
                <a:cubicBezTo>
                  <a:pt x="900" y="52"/>
                  <a:pt x="949" y="26"/>
                  <a:pt x="99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"/>
          <p:cNvSpPr/>
          <p:nvPr/>
        </p:nvSpPr>
        <p:spPr>
          <a:xfrm>
            <a:off x="2484360" y="4365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1"/>
          <p:cNvSpPr/>
          <p:nvPr/>
        </p:nvSpPr>
        <p:spPr>
          <a:xfrm>
            <a:off x="324000" y="4365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971640" y="3286080"/>
            <a:ext cx="144360" cy="223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3"/>
          <p:cNvSpPr/>
          <p:nvPr/>
        </p:nvSpPr>
        <p:spPr>
          <a:xfrm>
            <a:off x="3851280" y="2925720"/>
            <a:ext cx="217440" cy="280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8e55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1547640" y="260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м на каждом промежутке  цилиндрическое тело, образующая которого параллельна оси О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основанием является сечение - к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7"/>
          <p:cNvSpPr/>
          <p:nvPr/>
        </p:nvSpPr>
        <p:spPr>
          <a:xfrm rot="9573600">
            <a:off x="971280" y="2707920"/>
            <a:ext cx="1400040" cy="54468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882" h="343">
                <a:moveTo>
                  <a:pt x="0" y="0"/>
                </a:moveTo>
                <a:cubicBezTo>
                  <a:pt x="139" y="131"/>
                  <a:pt x="214" y="297"/>
                  <a:pt x="361" y="320"/>
                </a:cubicBezTo>
                <a:cubicBezTo>
                  <a:pt x="508" y="343"/>
                  <a:pt x="773" y="174"/>
                  <a:pt x="882" y="13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724360" y="2276640"/>
            <a:ext cx="29880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ус круга раве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ю функции в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этого кру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 цилин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∙ 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34800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611280" y="29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2411280" y="29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0" y="278136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32400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268360" y="429264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124000" y="357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79280" y="47260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V="1">
            <a:off x="539640" y="29257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 rot="5400000">
            <a:off x="360" y="4543920"/>
            <a:ext cx="2232000" cy="29052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 flipH="1">
            <a:off x="1088280" y="2997360"/>
            <a:ext cx="2978280" cy="701640"/>
          </a:xfrm>
          <a:custGeom>
            <a:avLst/>
            <a:gdLst>
              <a:gd name="textAreaLeft" fmla="*/ -360 w 2978280"/>
              <a:gd name="textAreaRight" fmla="*/ 2978280 w 297828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876" h="442">
                <a:moveTo>
                  <a:pt x="0" y="199"/>
                </a:moveTo>
                <a:cubicBezTo>
                  <a:pt x="107" y="234"/>
                  <a:pt x="422" y="442"/>
                  <a:pt x="651" y="409"/>
                </a:cubicBezTo>
                <a:cubicBezTo>
                  <a:pt x="880" y="376"/>
                  <a:pt x="1173" y="0"/>
                  <a:pt x="1377" y="0"/>
                </a:cubicBezTo>
                <a:cubicBezTo>
                  <a:pt x="1581" y="0"/>
                  <a:pt x="1793" y="341"/>
                  <a:pt x="1876" y="409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 rot="5400000">
            <a:off x="14040" y="4602240"/>
            <a:ext cx="2520720" cy="218880"/>
          </a:xfrm>
          <a:prstGeom prst="can">
            <a:avLst>
              <a:gd name="adj" fmla="val 50000"/>
            </a:avLst>
          </a:prstGeom>
          <a:solidFill>
            <a:srgbClr val="adda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 rot="5400000">
            <a:off x="42840" y="4595040"/>
            <a:ext cx="2808360" cy="28908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 rot="5400000">
            <a:off x="34200" y="4604040"/>
            <a:ext cx="3095640" cy="21564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 rot="5400000">
            <a:off x="71280" y="4600440"/>
            <a:ext cx="3311640" cy="216000"/>
          </a:xfrm>
          <a:prstGeom prst="can">
            <a:avLst>
              <a:gd name="adj" fmla="val 50000"/>
            </a:avLst>
          </a:prstGeom>
          <a:solidFill>
            <a:srgbClr val="357a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 rot="5400000">
            <a:off x="143280" y="4568040"/>
            <a:ext cx="3456000" cy="216000"/>
          </a:xfrm>
          <a:prstGeom prst="can">
            <a:avLst>
              <a:gd name="adj" fmla="val 50000"/>
            </a:avLst>
          </a:prstGeom>
          <a:solidFill>
            <a:srgbClr val="4bad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 rot="5400000">
            <a:off x="358560" y="4589280"/>
            <a:ext cx="3311640" cy="21600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5400000">
            <a:off x="575280" y="4617000"/>
            <a:ext cx="3166920" cy="21600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 rot="5400000">
            <a:off x="826560" y="4581360"/>
            <a:ext cx="2952720" cy="21564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400000">
            <a:off x="1116000" y="4581360"/>
            <a:ext cx="2663640" cy="216000"/>
          </a:xfrm>
          <a:prstGeom prst="can">
            <a:avLst>
              <a:gd name="adj" fmla="val 50000"/>
            </a:avLst>
          </a:prstGeom>
          <a:solidFill>
            <a:srgbClr val="4bad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5400000">
            <a:off x="1368360" y="4576680"/>
            <a:ext cx="2447640" cy="218880"/>
          </a:xfrm>
          <a:prstGeom prst="can">
            <a:avLst>
              <a:gd name="adj" fmla="val 50000"/>
            </a:avLst>
          </a:prstGeom>
          <a:solidFill>
            <a:srgbClr val="357a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5400000">
            <a:off x="1549800" y="4579200"/>
            <a:ext cx="2370240" cy="21600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 rot="5400000">
            <a:off x="1763280" y="4581360"/>
            <a:ext cx="2232000" cy="21600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 rot="5400000">
            <a:off x="1943640" y="4617000"/>
            <a:ext cx="2158920" cy="21744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 rot="5400000">
            <a:off x="2087280" y="4633920"/>
            <a:ext cx="2087640" cy="14436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 rot="5400000">
            <a:off x="2173320" y="4636080"/>
            <a:ext cx="2159280" cy="18900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3"/>
          <p:cNvSpPr/>
          <p:nvPr/>
        </p:nvSpPr>
        <p:spPr>
          <a:xfrm rot="5400000">
            <a:off x="2266560" y="4581360"/>
            <a:ext cx="2232000" cy="216000"/>
          </a:xfrm>
          <a:prstGeom prst="can">
            <a:avLst>
              <a:gd name="adj" fmla="val 50000"/>
            </a:avLst>
          </a:prstGeom>
          <a:solidFill>
            <a:srgbClr val="4bad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4"/>
          <p:cNvSpPr/>
          <p:nvPr/>
        </p:nvSpPr>
        <p:spPr>
          <a:xfrm rot="5400000">
            <a:off x="2374920" y="4601520"/>
            <a:ext cx="2303640" cy="215640"/>
          </a:xfrm>
          <a:prstGeom prst="can">
            <a:avLst>
              <a:gd name="adj" fmla="val 50000"/>
            </a:avLst>
          </a:prstGeom>
          <a:solidFill>
            <a:srgbClr val="357a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5"/>
          <p:cNvSpPr/>
          <p:nvPr/>
        </p:nvSpPr>
        <p:spPr>
          <a:xfrm flipH="1" flipV="1">
            <a:off x="1042200" y="5718960"/>
            <a:ext cx="2978280" cy="701640"/>
          </a:xfrm>
          <a:custGeom>
            <a:avLst/>
            <a:gdLst>
              <a:gd name="textAreaLeft" fmla="*/ -360 w 2978280"/>
              <a:gd name="textAreaRight" fmla="*/ 2978280 w 2978280"/>
              <a:gd name="textAreaTop" fmla="*/ -360 h 701640"/>
              <a:gd name="textAreaBottom" fmla="*/ 701640 h 701640"/>
            </a:gdLst>
            <a:ahLst/>
            <a:rect l="textAreaLeft" t="textAreaTop" r="textAreaRight" b="textAreaBottom"/>
            <a:pathLst>
              <a:path w="1876" h="442">
                <a:moveTo>
                  <a:pt x="0" y="199"/>
                </a:moveTo>
                <a:cubicBezTo>
                  <a:pt x="107" y="234"/>
                  <a:pt x="422" y="442"/>
                  <a:pt x="651" y="409"/>
                </a:cubicBezTo>
                <a:cubicBezTo>
                  <a:pt x="880" y="376"/>
                  <a:pt x="1173" y="0"/>
                  <a:pt x="1377" y="0"/>
                </a:cubicBezTo>
                <a:cubicBezTo>
                  <a:pt x="1581" y="0"/>
                  <a:pt x="1793" y="341"/>
                  <a:pt x="1876" y="409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2"/>
          <p:cNvSpPr/>
          <p:nvPr/>
        </p:nvSpPr>
        <p:spPr>
          <a:xfrm rot="5400000">
            <a:off x="2464920" y="4616640"/>
            <a:ext cx="2448000" cy="21888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1547640" y="333360"/>
            <a:ext cx="64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каждого цилиндра с основа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ысотой  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ен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а объем всего ступенчатого 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ен сумме объёмов всех цилин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3710160" y="1628640"/>
                <a:ext cx="34527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Text Box 30"/>
          <p:cNvSpPr/>
          <p:nvPr/>
        </p:nvSpPr>
        <p:spPr>
          <a:xfrm>
            <a:off x="4356000" y="2852640"/>
            <a:ext cx="4643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ел полученной интегральной суммы, который существует в силу непрерывности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пр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∞  называется объемом заданного тела и равен определенному интеграл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31"/>
              <p:cNvSpPr txBox="1"/>
              <p:nvPr/>
            </p:nvSpPr>
            <p:spPr>
              <a:xfrm>
                <a:off x="4087800" y="4869000"/>
                <a:ext cx="399420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2" name="AutoShape 32"/>
          <p:cNvSpPr/>
          <p:nvPr/>
        </p:nvSpPr>
        <p:spPr>
          <a:xfrm rot="5400000">
            <a:off x="2619720" y="4595040"/>
            <a:ext cx="2735280" cy="21600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25815E-007 C -0.00347 -0.07518 -0.00694 -0.15036 -0.03073 -0.19431 C -0.05451 -0.23826 -0.11354 -0.25931 -0.14236 -0.26324 C -0.17118 -0.26717 -0.19149 -0.24543 -0.20364 -0.2179 C -0.2158 -0.19038 -0.22708 -0.1411 -0.21528 -0.09877 C -0.20347 -0.05644 -0.1684 0.02013 -0.13298 0.03609 C -0.09757 0.05205 -0.03021 0.00486 -0.00312 -0.00347 E">
                                      <p:cBhvr>
                                        <p:cTn id="54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280" y="1904760"/>
            <a:ext cx="87854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объем тела вращения вокруг оси О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ело образовано вращением криволинейной трапеции, образованной функцией у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;b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вокруг оси ОХ, то его объём можно найти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71640" y="2565360"/>
                <a:ext cx="5616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7"/>
              <p:cNvSpPr txBox="1"/>
              <p:nvPr/>
            </p:nvSpPr>
            <p:spPr>
              <a:xfrm>
                <a:off x="5435640" y="4869000"/>
                <a:ext cx="283032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6" name="Text Box 18"/>
          <p:cNvSpPr/>
          <p:nvPr/>
        </p:nvSpPr>
        <p:spPr>
          <a:xfrm>
            <a:off x="133200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 полученной интегральной суммы, 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∞  равен определенному интеграл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2"/>
              <p:cNvSpPr txBox="1"/>
              <p:nvPr/>
            </p:nvSpPr>
            <p:spPr>
              <a:xfrm>
                <a:off x="2556000" y="1052640"/>
                <a:ext cx="4248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8" name="Group 26"/>
          <p:cNvGrpSpPr/>
          <p:nvPr/>
        </p:nvGrpSpPr>
        <p:grpSpPr>
          <a:xfrm>
            <a:off x="2268360" y="4941720"/>
            <a:ext cx="1349640" cy="1395720"/>
            <a:chOff x="2268360" y="4941720"/>
            <a:chExt cx="1349640" cy="1395720"/>
          </a:xfrm>
        </p:grpSpPr>
        <p:sp>
          <p:nvSpPr>
            <p:cNvPr id="149" name="Freeform 27"/>
            <p:cNvSpPr/>
            <p:nvPr/>
          </p:nvSpPr>
          <p:spPr>
            <a:xfrm>
              <a:off x="2268360" y="4941720"/>
              <a:ext cx="1283400" cy="1395720"/>
            </a:xfrm>
            <a:custGeom>
              <a:avLst/>
              <a:gdLst/>
              <a:ahLst/>
              <a:rect l="l" t="t" r="r" b="b"/>
              <a:pathLst>
                <a:path w="1990" h="2166">
                  <a:moveTo>
                    <a:pt x="143" y="417"/>
                  </a:moveTo>
                  <a:cubicBezTo>
                    <a:pt x="203" y="266"/>
                    <a:pt x="294" y="212"/>
                    <a:pt x="370" y="144"/>
                  </a:cubicBezTo>
                  <a:cubicBezTo>
                    <a:pt x="446" y="76"/>
                    <a:pt x="521" y="16"/>
                    <a:pt x="597" y="8"/>
                  </a:cubicBezTo>
                  <a:cubicBezTo>
                    <a:pt x="673" y="0"/>
                    <a:pt x="726" y="39"/>
                    <a:pt x="824" y="99"/>
                  </a:cubicBezTo>
                  <a:cubicBezTo>
                    <a:pt x="922" y="159"/>
                    <a:pt x="1096" y="318"/>
                    <a:pt x="1187" y="371"/>
                  </a:cubicBezTo>
                  <a:cubicBezTo>
                    <a:pt x="1278" y="424"/>
                    <a:pt x="1308" y="409"/>
                    <a:pt x="1368" y="417"/>
                  </a:cubicBezTo>
                  <a:cubicBezTo>
                    <a:pt x="1428" y="425"/>
                    <a:pt x="1505" y="425"/>
                    <a:pt x="1550" y="417"/>
                  </a:cubicBezTo>
                  <a:cubicBezTo>
                    <a:pt x="1595" y="409"/>
                    <a:pt x="1567" y="405"/>
                    <a:pt x="1640" y="371"/>
                  </a:cubicBezTo>
                  <a:cubicBezTo>
                    <a:pt x="1713" y="337"/>
                    <a:pt x="1713" y="356"/>
                    <a:pt x="1990" y="213"/>
                  </a:cubicBezTo>
                  <a:cubicBezTo>
                    <a:pt x="1936" y="335"/>
                    <a:pt x="1872" y="670"/>
                    <a:pt x="1867" y="961"/>
                  </a:cubicBezTo>
                  <a:cubicBezTo>
                    <a:pt x="1862" y="1252"/>
                    <a:pt x="1973" y="1808"/>
                    <a:pt x="1958" y="1959"/>
                  </a:cubicBezTo>
                  <a:cubicBezTo>
                    <a:pt x="1760" y="1853"/>
                    <a:pt x="1844" y="1898"/>
                    <a:pt x="1776" y="1868"/>
                  </a:cubicBezTo>
                  <a:cubicBezTo>
                    <a:pt x="1708" y="1838"/>
                    <a:pt x="1618" y="1800"/>
                    <a:pt x="1550" y="1777"/>
                  </a:cubicBezTo>
                  <a:cubicBezTo>
                    <a:pt x="1482" y="1754"/>
                    <a:pt x="1436" y="1724"/>
                    <a:pt x="1368" y="1732"/>
                  </a:cubicBezTo>
                  <a:cubicBezTo>
                    <a:pt x="1300" y="1740"/>
                    <a:pt x="1216" y="1778"/>
                    <a:pt x="1141" y="1823"/>
                  </a:cubicBezTo>
                  <a:cubicBezTo>
                    <a:pt x="1066" y="1868"/>
                    <a:pt x="983" y="1951"/>
                    <a:pt x="915" y="2004"/>
                  </a:cubicBezTo>
                  <a:cubicBezTo>
                    <a:pt x="847" y="2057"/>
                    <a:pt x="795" y="2114"/>
                    <a:pt x="733" y="2140"/>
                  </a:cubicBezTo>
                  <a:cubicBezTo>
                    <a:pt x="671" y="2166"/>
                    <a:pt x="593" y="2165"/>
                    <a:pt x="540" y="2158"/>
                  </a:cubicBezTo>
                  <a:cubicBezTo>
                    <a:pt x="487" y="2151"/>
                    <a:pt x="459" y="2128"/>
                    <a:pt x="416" y="2095"/>
                  </a:cubicBezTo>
                  <a:cubicBezTo>
                    <a:pt x="373" y="2062"/>
                    <a:pt x="333" y="2019"/>
                    <a:pt x="280" y="1959"/>
                  </a:cubicBezTo>
                  <a:cubicBezTo>
                    <a:pt x="227" y="1899"/>
                    <a:pt x="143" y="1883"/>
                    <a:pt x="98" y="1732"/>
                  </a:cubicBezTo>
                  <a:cubicBezTo>
                    <a:pt x="53" y="1581"/>
                    <a:pt x="0" y="1271"/>
                    <a:pt x="7" y="1052"/>
                  </a:cubicBezTo>
                  <a:cubicBezTo>
                    <a:pt x="14" y="833"/>
                    <a:pt x="83" y="568"/>
                    <a:pt x="143" y="417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8"/>
            <p:cNvSpPr/>
            <p:nvPr/>
          </p:nvSpPr>
          <p:spPr>
            <a:xfrm>
              <a:off x="3471840" y="5064120"/>
              <a:ext cx="146160" cy="11689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68920"/>
                <a:gd name="textAreaBottom" fmla="*/ 1169280 h 1168920"/>
              </a:gdLst>
              <a:ahLst/>
              <a:rect l="textAreaLeft" t="textAreaTop" r="textAreaRight" b="textAreaBottom"/>
              <a:pathLst>
                <a:path w="182" h="1738">
                  <a:moveTo>
                    <a:pt x="91" y="7"/>
                  </a:moveTo>
                  <a:cubicBezTo>
                    <a:pt x="121" y="14"/>
                    <a:pt x="182" y="446"/>
                    <a:pt x="182" y="733"/>
                  </a:cubicBezTo>
                  <a:cubicBezTo>
                    <a:pt x="182" y="1020"/>
                    <a:pt x="121" y="1738"/>
                    <a:pt x="91" y="1731"/>
                  </a:cubicBezTo>
                  <a:cubicBezTo>
                    <a:pt x="61" y="1724"/>
                    <a:pt x="0" y="975"/>
                    <a:pt x="0" y="688"/>
                  </a:cubicBezTo>
                  <a:cubicBezTo>
                    <a:pt x="0" y="401"/>
                    <a:pt x="61" y="0"/>
                    <a:pt x="91" y="7"/>
                  </a:cubicBezTo>
                  <a:close/>
                </a:path>
              </a:pathLst>
            </a:custGeom>
            <a:solidFill>
              <a:srgbClr val="88c9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9"/>
            <p:cNvSpPr/>
            <p:nvPr/>
          </p:nvSpPr>
          <p:spPr>
            <a:xfrm>
              <a:off x="2331360" y="5210280"/>
              <a:ext cx="50040" cy="838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78" h="1301">
                  <a:moveTo>
                    <a:pt x="48" y="0"/>
                  </a:moveTo>
                  <a:cubicBezTo>
                    <a:pt x="50" y="48"/>
                    <a:pt x="57" y="179"/>
                    <a:pt x="61" y="291"/>
                  </a:cubicBezTo>
                  <a:cubicBezTo>
                    <a:pt x="65" y="403"/>
                    <a:pt x="78" y="534"/>
                    <a:pt x="75" y="671"/>
                  </a:cubicBezTo>
                  <a:cubicBezTo>
                    <a:pt x="72" y="808"/>
                    <a:pt x="54" y="1006"/>
                    <a:pt x="41" y="1111"/>
                  </a:cubicBezTo>
                  <a:cubicBezTo>
                    <a:pt x="28" y="1216"/>
                    <a:pt x="9" y="1262"/>
                    <a:pt x="0" y="13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30"/>
          <p:cNvSpPr/>
          <p:nvPr/>
        </p:nvSpPr>
        <p:spPr>
          <a:xfrm>
            <a:off x="3564000" y="5638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2268360" y="56451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1619280" y="56451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4067280" y="566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6"/>
          <p:cNvSpPr/>
          <p:nvPr/>
        </p:nvSpPr>
        <p:spPr>
          <a:xfrm flipH="1">
            <a:off x="2340000" y="4941720"/>
            <a:ext cx="1224000" cy="289080"/>
          </a:xfrm>
          <a:custGeom>
            <a:avLst/>
            <a:gdLst>
              <a:gd name="textAreaLeft" fmla="*/ 360 w 1224000"/>
              <a:gd name="textAreaRight" fmla="*/ 1224720 w 12240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876" h="442">
                <a:moveTo>
                  <a:pt x="0" y="199"/>
                </a:moveTo>
                <a:cubicBezTo>
                  <a:pt x="107" y="234"/>
                  <a:pt x="422" y="442"/>
                  <a:pt x="651" y="409"/>
                </a:cubicBezTo>
                <a:cubicBezTo>
                  <a:pt x="880" y="376"/>
                  <a:pt x="1173" y="0"/>
                  <a:pt x="1377" y="0"/>
                </a:cubicBezTo>
                <a:cubicBezTo>
                  <a:pt x="1581" y="0"/>
                  <a:pt x="1793" y="341"/>
                  <a:pt x="1876" y="409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56400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 flipV="1">
            <a:off x="1763640" y="508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147636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"/>
          <p:cNvSpPr/>
          <p:nvPr/>
        </p:nvSpPr>
        <p:spPr>
          <a:xfrm>
            <a:off x="1547640" y="404640"/>
            <a:ext cx="59058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тело образовано вращением параболы у=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круг оси 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Найдите объём тела в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539640" y="41054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V="1">
            <a:off x="682560" y="22330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682560" y="2106720"/>
            <a:ext cx="754200" cy="2035080"/>
          </a:xfrm>
          <a:custGeom>
            <a:avLst/>
            <a:gdLst>
              <a:gd name="textAreaLeft" fmla="*/ 0 w 754200"/>
              <a:gd name="textAreaRight" fmla="*/ 754560 w 75420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475" h="1282">
                <a:moveTo>
                  <a:pt x="0" y="1259"/>
                </a:moveTo>
                <a:cubicBezTo>
                  <a:pt x="15" y="1255"/>
                  <a:pt x="45" y="1282"/>
                  <a:pt x="89" y="1234"/>
                </a:cubicBezTo>
                <a:cubicBezTo>
                  <a:pt x="133" y="1186"/>
                  <a:pt x="201" y="1175"/>
                  <a:pt x="265" y="969"/>
                </a:cubicBezTo>
                <a:cubicBezTo>
                  <a:pt x="329" y="763"/>
                  <a:pt x="431" y="202"/>
                  <a:pt x="475" y="0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1042920" y="3746520"/>
            <a:ext cx="71640" cy="7920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"/>
          <p:cNvSpPr/>
          <p:nvPr/>
        </p:nvSpPr>
        <p:spPr>
          <a:xfrm flipV="1">
            <a:off x="682560" y="4077720"/>
            <a:ext cx="754200" cy="2035080"/>
          </a:xfrm>
          <a:custGeom>
            <a:avLst/>
            <a:gdLst>
              <a:gd name="textAreaLeft" fmla="*/ 0 w 754200"/>
              <a:gd name="textAreaRight" fmla="*/ 754560 w 754200"/>
              <a:gd name="textAreaTop" fmla="*/ -360 h 2035080"/>
              <a:gd name="textAreaBottom" fmla="*/ 2035080 h 2035080"/>
            </a:gdLst>
            <a:ahLst/>
            <a:rect l="textAreaLeft" t="textAreaTop" r="textAreaRight" b="textAreaBottom"/>
            <a:pathLst>
              <a:path w="475" h="1282">
                <a:moveTo>
                  <a:pt x="0" y="1259"/>
                </a:moveTo>
                <a:cubicBezTo>
                  <a:pt x="15" y="1255"/>
                  <a:pt x="45" y="1282"/>
                  <a:pt x="89" y="1234"/>
                </a:cubicBezTo>
                <a:cubicBezTo>
                  <a:pt x="133" y="1186"/>
                  <a:pt x="201" y="1175"/>
                  <a:pt x="265" y="969"/>
                </a:cubicBezTo>
                <a:cubicBezTo>
                  <a:pt x="329" y="763"/>
                  <a:pt x="431" y="202"/>
                  <a:pt x="4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1258920" y="2565360"/>
            <a:ext cx="216000" cy="299736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826920" y="21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395280" y="21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9528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2484360" y="4149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258920" y="378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2987640" y="2852640"/>
                <a:ext cx="598176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r>
                          <m:t xml:space="preserve">π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π</m:t>
                        </m:r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ку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Oval 23"/>
          <p:cNvSpPr/>
          <p:nvPr/>
        </p:nvSpPr>
        <p:spPr>
          <a:xfrm>
            <a:off x="1332000" y="40719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1360440" y="256536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7"/>
              <p:cNvSpPr txBox="1"/>
              <p:nvPr/>
            </p:nvSpPr>
            <p:spPr>
              <a:xfrm>
                <a:off x="7308720" y="0"/>
                <a:ext cx="1835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843280" y="1989000"/>
                <a:ext cx="512136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7"/>
          <p:cNvSpPr/>
          <p:nvPr/>
        </p:nvSpPr>
        <p:spPr>
          <a:xfrm>
            <a:off x="1547640" y="404640"/>
            <a:ext cx="59058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тело образовано вращением функции у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5x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круг оси 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Найдите объём тела в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7"/>
              <p:cNvSpPr txBox="1"/>
              <p:nvPr/>
            </p:nvSpPr>
            <p:spPr>
              <a:xfrm>
                <a:off x="7308720" y="0"/>
                <a:ext cx="1835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9" name="Line 2"/>
          <p:cNvSpPr/>
          <p:nvPr/>
        </p:nvSpPr>
        <p:spPr>
          <a:xfrm>
            <a:off x="73080" y="37148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8"/>
              <p:cNvSpPr txBox="1"/>
              <p:nvPr/>
            </p:nvSpPr>
            <p:spPr>
              <a:xfrm>
                <a:off x="1152360" y="2446200"/>
                <a:ext cx="10083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Line 30"/>
          <p:cNvSpPr/>
          <p:nvPr/>
        </p:nvSpPr>
        <p:spPr>
          <a:xfrm flipV="1">
            <a:off x="433440" y="2346120"/>
            <a:ext cx="2374920" cy="1368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1"/>
          <p:cNvSpPr/>
          <p:nvPr/>
        </p:nvSpPr>
        <p:spPr>
          <a:xfrm>
            <a:off x="433440" y="3714840"/>
            <a:ext cx="23749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2"/>
          <p:cNvSpPr/>
          <p:nvPr/>
        </p:nvSpPr>
        <p:spPr>
          <a:xfrm>
            <a:off x="1368360" y="3138480"/>
            <a:ext cx="14436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3"/>
          <p:cNvSpPr/>
          <p:nvPr/>
        </p:nvSpPr>
        <p:spPr>
          <a:xfrm>
            <a:off x="2736720" y="2346480"/>
            <a:ext cx="216000" cy="2736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1944720" y="2778120"/>
            <a:ext cx="144360" cy="1873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5"/>
          <p:cNvSpPr/>
          <p:nvPr/>
        </p:nvSpPr>
        <p:spPr>
          <a:xfrm rot="5400000">
            <a:off x="1296720" y="3620880"/>
            <a:ext cx="2232000" cy="21600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6"/>
          <p:cNvSpPr/>
          <p:nvPr/>
        </p:nvSpPr>
        <p:spPr>
          <a:xfrm flipV="1">
            <a:off x="433440" y="220140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144360" y="21304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3"/>
          <p:cNvSpPr/>
          <p:nvPr/>
        </p:nvSpPr>
        <p:spPr>
          <a:xfrm>
            <a:off x="0" y="3787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4"/>
          <p:cNvSpPr/>
          <p:nvPr/>
        </p:nvSpPr>
        <p:spPr>
          <a:xfrm>
            <a:off x="2846520" y="2346480"/>
            <a:ext cx="0" cy="13683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3"/>
          <p:cNvSpPr/>
          <p:nvPr/>
        </p:nvSpPr>
        <p:spPr>
          <a:xfrm>
            <a:off x="2814480" y="36734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357192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27147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4143240" y="2286000"/>
                <a:ext cx="396720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0,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4286160" y="3786120"/>
                <a:ext cx="411804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Sup>
                      <m:e>
                        <m:sSup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4689360" y="5522760"/>
                <a:ext cx="31672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324000" y="30686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3635280" y="263700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37083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конус и найдё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го объ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7"/>
              <p:cNvSpPr txBox="1"/>
              <p:nvPr/>
            </p:nvSpPr>
            <p:spPr>
              <a:xfrm>
                <a:off x="179280" y="4653000"/>
                <a:ext cx="388296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8"/>
              <p:cNvSpPr txBox="1"/>
              <p:nvPr/>
            </p:nvSpPr>
            <p:spPr>
              <a:xfrm>
                <a:off x="1403280" y="1700280"/>
                <a:ext cx="100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28" descr="MCj03185160000[1]"/>
          <p:cNvPicPr/>
          <p:nvPr/>
        </p:nvPicPr>
        <p:blipFill>
          <a:blip r:embed="rId1"/>
          <a:stretch/>
        </p:blipFill>
        <p:spPr>
          <a:xfrm>
            <a:off x="7596360" y="981000"/>
            <a:ext cx="1431720" cy="1500120"/>
          </a:xfrm>
          <a:prstGeom prst="rect">
            <a:avLst/>
          </a:prstGeom>
          <a:ln w="0">
            <a:noFill/>
          </a:ln>
        </p:spPr>
      </p:pic>
      <p:sp>
        <p:nvSpPr>
          <p:cNvPr id="204" name="Line 30"/>
          <p:cNvSpPr/>
          <p:nvPr/>
        </p:nvSpPr>
        <p:spPr>
          <a:xfrm flipV="1">
            <a:off x="684360" y="1699920"/>
            <a:ext cx="2374920" cy="1368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1"/>
          <p:cNvSpPr/>
          <p:nvPr/>
        </p:nvSpPr>
        <p:spPr>
          <a:xfrm>
            <a:off x="684360" y="3068640"/>
            <a:ext cx="23749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2"/>
          <p:cNvSpPr/>
          <p:nvPr/>
        </p:nvSpPr>
        <p:spPr>
          <a:xfrm>
            <a:off x="1619280" y="2492280"/>
            <a:ext cx="144360" cy="115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3"/>
          <p:cNvSpPr/>
          <p:nvPr/>
        </p:nvSpPr>
        <p:spPr>
          <a:xfrm>
            <a:off x="2987640" y="1700280"/>
            <a:ext cx="216000" cy="2736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4"/>
          <p:cNvSpPr/>
          <p:nvPr/>
        </p:nvSpPr>
        <p:spPr>
          <a:xfrm>
            <a:off x="2195640" y="2131920"/>
            <a:ext cx="144360" cy="18734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5"/>
          <p:cNvSpPr/>
          <p:nvPr/>
        </p:nvSpPr>
        <p:spPr>
          <a:xfrm rot="5400000">
            <a:off x="1547280" y="2975040"/>
            <a:ext cx="2232000" cy="21564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6"/>
          <p:cNvSpPr/>
          <p:nvPr/>
        </p:nvSpPr>
        <p:spPr>
          <a:xfrm flipV="1">
            <a:off x="684360" y="15559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395280" y="1484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320364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5092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3097080" y="1700280"/>
            <a:ext cx="0" cy="13683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5"/>
          <p:cNvSpPr/>
          <p:nvPr/>
        </p:nvSpPr>
        <p:spPr>
          <a:xfrm>
            <a:off x="3203640" y="22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7"/>
              <p:cNvSpPr txBox="1"/>
              <p:nvPr/>
            </p:nvSpPr>
            <p:spPr>
              <a:xfrm>
                <a:off x="7631280" y="2637000"/>
                <a:ext cx="1512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7"/>
              <p:cNvSpPr txBox="1"/>
              <p:nvPr/>
            </p:nvSpPr>
            <p:spPr>
              <a:xfrm>
                <a:off x="7308720" y="0"/>
                <a:ext cx="1835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4140360" y="4653000"/>
                <a:ext cx="365904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⋅</m:t>
                    </m:r>
                    <m:sSubSup>
                      <m:e>
                        <m:s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8:53:57Z</dcterms:created>
  <dc:creator>пупс</dc:creator>
  <dc:description/>
  <dc:language>en-US</dc:language>
  <cp:lastModifiedBy>Пользователь</cp:lastModifiedBy>
  <dcterms:modified xsi:type="dcterms:W3CDTF">2022-02-09T17:14:01Z</dcterms:modified>
  <cp:revision>29</cp:revision>
  <dc:subject/>
  <dc:title>Слайд 1</dc:title>
</cp:coreProperties>
</file>