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615-2324-4595-BF6E-405F4BF7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C44-CEB5-41D4-85FE-399ADE8E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6D1-5324-4365-BC4E-2879EBE0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99E-3CBE-4217-AF15-BE23461A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3825-C2DF-43CF-B0EA-056B51D9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B490-44A5-4E42-A218-229085A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9A20-9136-47E8-AAA5-8F269B74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EA84-1AA1-4DF0-A0DD-C36F6B6A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00C3-C4EB-4264-A29E-07882693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5556-59B5-43C0-AEE2-285EB0F2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D6B2-E1CB-4803-8C2C-02811B47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92A-FBAB-494A-995D-0EF27A78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73D4-4743-4313-9467-FB1E0D65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01B1-A0B7-4178-9FF1-E1A9259C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01E7-2DDC-4203-97DE-43B29730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F73B-9ED8-4593-8CB4-8DC86F22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C7ED-434F-4FA7-93E6-CD7C53E4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997-7CB8-41DA-993A-241F59E2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435-C38A-430C-85AB-82496109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5F7-9081-477C-9623-BBABB425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3F1-2517-4149-A8B6-6CC83959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E1C-B132-4B52-85D0-BDCF04C2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DF6-F99A-4070-9049-8F92928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054-41E9-4FC6-8FDB-F41818F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7ECB-ADDF-4BDA-9FD7-9D16AB11FE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A955-EE8E-455B-BB5D-49231CA5B8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Живопись на уроках литерату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ценко Еле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СОШ №14 г.Зеленокумс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.Шмаринов «Наташа в Отрадном», 1953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2760840" y="1600200"/>
            <a:ext cx="3620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.Родионов «Князь Андрей по дороге в Отрадное», 1936 г. А.Николаев «Возвращение князя Андрея из Отрадного», 198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609480" y="2543040"/>
            <a:ext cx="3886200" cy="253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" descr=""/>
          <p:cNvPicPr/>
          <p:nvPr/>
        </p:nvPicPr>
        <p:blipFill>
          <a:blip r:embed="rId2"/>
          <a:stretch/>
        </p:blipFill>
        <p:spPr>
          <a:xfrm>
            <a:off x="4648320" y="2565360"/>
            <a:ext cx="38862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.Николаев «Князь Андрей на Гераценской горе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index_pic"/>
          <p:cNvPicPr/>
          <p:nvPr/>
        </p:nvPicPr>
        <p:blipFill>
          <a:blip r:embed="rId1"/>
          <a:srcRect l="0" t="6059" r="0" b="3030"/>
          <a:stretch/>
        </p:blipFill>
        <p:spPr>
          <a:xfrm>
            <a:off x="468360" y="1413000"/>
            <a:ext cx="8153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Жанры живопис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йза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тюрм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ь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т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ималис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РТРЕТ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акая книга, ни описание, ни что другое не может рассказать так цельно о человеческой физиономии, как ее изоб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Н.Крам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ртреты Ф.М.Достоевског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7925040" cy="44197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18" descr="dostoevskii_6"/>
          <p:cNvPicPr/>
          <p:nvPr/>
        </p:nvPicPr>
        <p:blipFill>
          <a:blip r:embed="rId1"/>
          <a:stretch/>
        </p:blipFill>
        <p:spPr>
          <a:xfrm>
            <a:off x="3419640" y="1773360"/>
            <a:ext cx="2357280" cy="396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ostoevskii_3"/>
          <p:cNvPicPr/>
          <p:nvPr/>
        </p:nvPicPr>
        <p:blipFill>
          <a:blip r:embed="rId2"/>
          <a:stretch/>
        </p:blipFill>
        <p:spPr>
          <a:xfrm>
            <a:off x="684360" y="1700280"/>
            <a:ext cx="2415960" cy="396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dostoevskii_8"/>
          <p:cNvPicPr/>
          <p:nvPr/>
        </p:nvPicPr>
        <p:blipFill>
          <a:blip r:embed="rId3"/>
          <a:stretch/>
        </p:blipFill>
        <p:spPr>
          <a:xfrm>
            <a:off x="5940360" y="1773360"/>
            <a:ext cx="24861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ейзаж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р. 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трана, местность) – изображение картин природы в художественном изобра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Литературный энциклопедический словарь» определяет пейзаж как «описание природы, шире – любого незамкнутого пространства внешнего ми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ункции пейзаж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Diagram 6"/>
          <p:cNvGrpSpPr/>
          <p:nvPr/>
        </p:nvGrpSpPr>
        <p:grpSpPr>
          <a:xfrm>
            <a:off x="2451240" y="1677960"/>
            <a:ext cx="4173480" cy="4173480"/>
            <a:chOff x="2451240" y="1677960"/>
            <a:chExt cx="4173480" cy="4173480"/>
          </a:xfrm>
        </p:grpSpPr>
        <p:sp>
          <p:nvSpPr>
            <p:cNvPr id="106" name="_s1028"/>
            <p:cNvSpPr/>
            <p:nvPr/>
          </p:nvSpPr>
          <p:spPr>
            <a:xfrm flipH="1">
              <a:off x="3492360" y="3763800"/>
              <a:ext cx="52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29"/>
            <p:cNvSpPr/>
            <p:nvPr/>
          </p:nvSpPr>
          <p:spPr>
            <a:xfrm>
              <a:off x="2451240" y="3243240"/>
              <a:ext cx="1042920" cy="1042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Функ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психологиз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0"/>
            <p:cNvSpPr/>
            <p:nvPr/>
          </p:nvSpPr>
          <p:spPr>
            <a:xfrm>
              <a:off x="4537080" y="4284720"/>
              <a:ext cx="0" cy="52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1"/>
            <p:cNvSpPr/>
            <p:nvPr/>
          </p:nvSpPr>
          <p:spPr>
            <a:xfrm>
              <a:off x="4016520" y="4808520"/>
              <a:ext cx="1042920" cy="1042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Фор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присутств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авт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5057640" y="3763800"/>
              <a:ext cx="52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3"/>
            <p:cNvSpPr/>
            <p:nvPr/>
          </p:nvSpPr>
          <p:spPr>
            <a:xfrm>
              <a:off x="5581800" y="3243240"/>
              <a:ext cx="1042920" cy="1042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Обо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места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време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действ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4"/>
            <p:cNvSpPr/>
            <p:nvPr/>
          </p:nvSpPr>
          <p:spPr>
            <a:xfrm flipV="1">
              <a:off x="4537080" y="2719080"/>
              <a:ext cx="0" cy="52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5"/>
            <p:cNvSpPr/>
            <p:nvPr/>
          </p:nvSpPr>
          <p:spPr>
            <a:xfrm>
              <a:off x="4016520" y="1677960"/>
              <a:ext cx="1042920" cy="1042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Сюжет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мотивиров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6"/>
            <p:cNvSpPr/>
            <p:nvPr/>
          </p:nvSpPr>
          <p:spPr>
            <a:xfrm>
              <a:off x="4016520" y="3243240"/>
              <a:ext cx="1042920" cy="1042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Пейза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.Н.Островский «Гроза»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итан «Вечер. Золотой пле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итан «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levitan83"/>
          <p:cNvPicPr/>
          <p:nvPr/>
        </p:nvPicPr>
        <p:blipFill>
          <a:blip r:embed="rId1"/>
          <a:stretch/>
        </p:blipFill>
        <p:spPr>
          <a:xfrm>
            <a:off x="4784760" y="1600200"/>
            <a:ext cx="3611520" cy="213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levitan-174514"/>
          <p:cNvPicPr/>
          <p:nvPr/>
        </p:nvPicPr>
        <p:blipFill>
          <a:blip r:embed="rId2"/>
          <a:stretch/>
        </p:blipFill>
        <p:spPr>
          <a:xfrm>
            <a:off x="4859280" y="3789360"/>
            <a:ext cx="36734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Малышев «Буран», 1887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1"/>
          <a:srcRect l="0" t="15556" r="0" b="13251"/>
          <a:stretch/>
        </p:blipFill>
        <p:spPr>
          <a:xfrm>
            <a:off x="1619280" y="1332000"/>
            <a:ext cx="547380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Organization Chart 7"/>
          <p:cNvGrpSpPr/>
          <p:nvPr/>
        </p:nvGrpSpPr>
        <p:grpSpPr>
          <a:xfrm>
            <a:off x="576360" y="1568520"/>
            <a:ext cx="7920360" cy="4391280"/>
            <a:chOff x="576360" y="1568520"/>
            <a:chExt cx="7920360" cy="4391280"/>
          </a:xfrm>
        </p:grpSpPr>
        <p:cxnSp>
          <p:nvCxnSpPr>
            <p:cNvPr id="123" name="_s2052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162760" y="2696760"/>
              <a:ext cx="878760" cy="213372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3"/>
            <p:cNvCxnSpPr>
              <a:stCxn id="127" idx="0"/>
              <a:endCxn id="125" idx="2"/>
            </p:cNvCxnSpPr>
            <p:nvPr/>
          </p:nvCxnSpPr>
          <p:spPr>
            <a:xfrm flipH="1" flipV="1" rot="5400000">
              <a:off x="3030840" y="2697480"/>
              <a:ext cx="878760" cy="213228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2054"/>
            <p:cNvSpPr/>
            <p:nvPr/>
          </p:nvSpPr>
          <p:spPr>
            <a:xfrm>
              <a:off x="2708280" y="1568520"/>
              <a:ext cx="365544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Функция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сихологизма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5"/>
            <p:cNvSpPr/>
            <p:nvPr/>
          </p:nvSpPr>
          <p:spPr>
            <a:xfrm>
              <a:off x="576360" y="4203360"/>
              <a:ext cx="365544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Создание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определенного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настрое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6"/>
            <p:cNvSpPr/>
            <p:nvPr/>
          </p:nvSpPr>
          <p:spPr>
            <a:xfrm>
              <a:off x="4841280" y="4203360"/>
              <a:ext cx="365544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Отражение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состоя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геро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7:43:03Z</dcterms:created>
  <dc:creator>Завуч</dc:creator>
  <dc:description/>
  <dc:language>en-US</dc:language>
  <cp:lastModifiedBy>Лена</cp:lastModifiedBy>
  <dcterms:modified xsi:type="dcterms:W3CDTF">2022-02-09T19:09:53Z</dcterms:modified>
  <cp:revision>12</cp:revision>
  <dc:subject/>
  <dc:title>Живопись на уроках литературы</dc:title>
</cp:coreProperties>
</file>