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174-EBEB-4C0B-A765-8EE41B08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190-DAAE-4A95-9F1C-69C2F240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E28-5F1B-4A4C-9D4B-F990106B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58E-8CBE-425F-A259-450BC888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C581-0B33-4841-B5D1-4E59BECF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4CE5-D1D3-4A54-9BFA-694088B1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408B-F545-44EA-96C8-04FBC383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502A-3421-47C2-B52D-B8EF37A5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94D5-0C2A-4DC1-9B00-2879CBA4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4C2F-6A45-4129-82F4-2FC428D6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13C4-9357-4660-92C3-BE0927AF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C61-B30B-44FF-891D-0282FFF2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85A0-AFE5-4C2A-B7E4-7C13A8E9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D8E1-CC51-4A0E-8377-FA827ECA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16C6-460B-42C1-8991-C0BCEA57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A044-108A-4C27-AB33-4B8AABE9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5B70-F332-4D3E-A045-367D95AC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E46-CDE8-453D-AB73-7B0EC8D4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332-7B2A-4F3B-9B8B-90378772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EC0-5E84-4D5D-9AB9-6A748679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6AA-8082-4125-80C4-15092DE5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2E2-E21A-455A-B6BF-00C87582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D3D-D75F-4DDB-930E-CBD18329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CA6-3247-4715-BE75-DC58A2E1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3844-0E66-4D88-BCF0-E0609146FE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FFC0-5218-48B7-B212-B9EF863A71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Живопись на уроках литерату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ценко Елен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СОШ №14 г.Зеленокумс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.Шмаринов «Наташа в Отрадном», 1953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Рисунок 1" descr=""/>
          <p:cNvPicPr/>
          <p:nvPr/>
        </p:nvPicPr>
        <p:blipFill>
          <a:blip r:embed="rId1"/>
          <a:stretch/>
        </p:blipFill>
        <p:spPr>
          <a:xfrm>
            <a:off x="2760840" y="1600200"/>
            <a:ext cx="3620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.Родионов «Князь Андрей по дороге в Отрадное», 1936 г. А.Николаев «Возвращение князя Андрея из Отрадного», 1981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609480" y="2543040"/>
            <a:ext cx="3886200" cy="2532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" descr=""/>
          <p:cNvPicPr/>
          <p:nvPr/>
        </p:nvPicPr>
        <p:blipFill>
          <a:blip r:embed="rId2"/>
          <a:stretch/>
        </p:blipFill>
        <p:spPr>
          <a:xfrm>
            <a:off x="4648320" y="2565360"/>
            <a:ext cx="38862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.Николаев «Князь Андрей на Гераценской горе»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index_pic"/>
          <p:cNvPicPr/>
          <p:nvPr/>
        </p:nvPicPr>
        <p:blipFill>
          <a:blip r:embed="rId1"/>
          <a:srcRect l="0" t="6059" r="0" b="3030"/>
          <a:stretch/>
        </p:blipFill>
        <p:spPr>
          <a:xfrm>
            <a:off x="468360" y="1413000"/>
            <a:ext cx="8153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Жанры живопис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йза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тюрм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ь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т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ималист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РТРЕТ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акая книга, ни описание, ни что другое не может рассказать так цельно о человеческой физиономии, как ее изоб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Н.Крам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ртреты Ф.М.Достоевского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600200"/>
          <a:ext cx="7925040" cy="441972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44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Picture 18" descr="dostoevskii_6"/>
          <p:cNvPicPr/>
          <p:nvPr/>
        </p:nvPicPr>
        <p:blipFill>
          <a:blip r:embed="rId1"/>
          <a:stretch/>
        </p:blipFill>
        <p:spPr>
          <a:xfrm>
            <a:off x="3419640" y="1773360"/>
            <a:ext cx="2357280" cy="396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ostoevskii_3"/>
          <p:cNvPicPr/>
          <p:nvPr/>
        </p:nvPicPr>
        <p:blipFill>
          <a:blip r:embed="rId2"/>
          <a:stretch/>
        </p:blipFill>
        <p:spPr>
          <a:xfrm>
            <a:off x="684360" y="1700280"/>
            <a:ext cx="2415960" cy="396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1" descr="dostoevskii_8"/>
          <p:cNvPicPr/>
          <p:nvPr/>
        </p:nvPicPr>
        <p:blipFill>
          <a:blip r:embed="rId3"/>
          <a:stretch/>
        </p:blipFill>
        <p:spPr>
          <a:xfrm>
            <a:off x="5940360" y="1773360"/>
            <a:ext cx="24861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ейзаж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фр. 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y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трана, местность) – изображение картин природы в художественном изобра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Литературный энциклопедический словарь» определяет пейзаж как «описание природы, шире – любого незамкнутого пространства внешнего ми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Функции пейзаж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Diagram 6"/>
          <p:cNvGrpSpPr/>
          <p:nvPr/>
        </p:nvGrpSpPr>
        <p:grpSpPr>
          <a:xfrm>
            <a:off x="2451240" y="1677960"/>
            <a:ext cx="4173480" cy="4173480"/>
            <a:chOff x="2451240" y="1677960"/>
            <a:chExt cx="4173480" cy="4173480"/>
          </a:xfrm>
        </p:grpSpPr>
        <p:sp>
          <p:nvSpPr>
            <p:cNvPr id="106" name="_s1028"/>
            <p:cNvSpPr/>
            <p:nvPr/>
          </p:nvSpPr>
          <p:spPr>
            <a:xfrm flipH="1">
              <a:off x="3492360" y="3763800"/>
              <a:ext cx="52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29"/>
            <p:cNvSpPr/>
            <p:nvPr/>
          </p:nvSpPr>
          <p:spPr>
            <a:xfrm>
              <a:off x="2451240" y="3243240"/>
              <a:ext cx="1042920" cy="1042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Функ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психологизм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0"/>
            <p:cNvSpPr/>
            <p:nvPr/>
          </p:nvSpPr>
          <p:spPr>
            <a:xfrm>
              <a:off x="4537080" y="4284720"/>
              <a:ext cx="0" cy="52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1"/>
            <p:cNvSpPr/>
            <p:nvPr/>
          </p:nvSpPr>
          <p:spPr>
            <a:xfrm>
              <a:off x="4016520" y="4808520"/>
              <a:ext cx="1042920" cy="1042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Форм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присутств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авто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2"/>
            <p:cNvSpPr/>
            <p:nvPr/>
          </p:nvSpPr>
          <p:spPr>
            <a:xfrm>
              <a:off x="5057640" y="3763800"/>
              <a:ext cx="52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3"/>
            <p:cNvSpPr/>
            <p:nvPr/>
          </p:nvSpPr>
          <p:spPr>
            <a:xfrm>
              <a:off x="5581800" y="3243240"/>
              <a:ext cx="1042920" cy="1042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Обо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места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време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действ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4"/>
            <p:cNvSpPr/>
            <p:nvPr/>
          </p:nvSpPr>
          <p:spPr>
            <a:xfrm flipV="1">
              <a:off x="4537080" y="2719080"/>
              <a:ext cx="0" cy="52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5"/>
            <p:cNvSpPr/>
            <p:nvPr/>
          </p:nvSpPr>
          <p:spPr>
            <a:xfrm>
              <a:off x="4016520" y="1677960"/>
              <a:ext cx="1042920" cy="1042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Сюжет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Arial"/>
                </a:rPr>
                <a:t>мотивиров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6"/>
            <p:cNvSpPr/>
            <p:nvPr/>
          </p:nvSpPr>
          <p:spPr>
            <a:xfrm>
              <a:off x="4016520" y="3243240"/>
              <a:ext cx="1042920" cy="1042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Пейза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.Н.Островский «Гроза»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итан «Вечер. Золотой пле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итан «На Волг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levitan83"/>
          <p:cNvPicPr/>
          <p:nvPr/>
        </p:nvPicPr>
        <p:blipFill>
          <a:blip r:embed="rId1"/>
          <a:stretch/>
        </p:blipFill>
        <p:spPr>
          <a:xfrm>
            <a:off x="4784760" y="1600200"/>
            <a:ext cx="3611520" cy="213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levitan-174514"/>
          <p:cNvPicPr/>
          <p:nvPr/>
        </p:nvPicPr>
        <p:blipFill>
          <a:blip r:embed="rId2"/>
          <a:stretch/>
        </p:blipFill>
        <p:spPr>
          <a:xfrm>
            <a:off x="4859280" y="3789360"/>
            <a:ext cx="36734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Малышев «Буран», 1887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Рисунок 1" descr=""/>
          <p:cNvPicPr/>
          <p:nvPr/>
        </p:nvPicPr>
        <p:blipFill>
          <a:blip r:embed="rId1"/>
          <a:srcRect l="0" t="15556" r="0" b="13251"/>
          <a:stretch/>
        </p:blipFill>
        <p:spPr>
          <a:xfrm>
            <a:off x="1619280" y="1332000"/>
            <a:ext cx="547380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Organization Chart 7"/>
          <p:cNvGrpSpPr/>
          <p:nvPr/>
        </p:nvGrpSpPr>
        <p:grpSpPr>
          <a:xfrm>
            <a:off x="576360" y="1568520"/>
            <a:ext cx="7920360" cy="4391280"/>
            <a:chOff x="576360" y="1568520"/>
            <a:chExt cx="7920360" cy="4391280"/>
          </a:xfrm>
        </p:grpSpPr>
        <p:cxnSp>
          <p:nvCxnSpPr>
            <p:cNvPr id="123" name="_s2052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162760" y="2696760"/>
              <a:ext cx="878760" cy="213372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053"/>
            <p:cNvCxnSpPr>
              <a:stCxn id="127" idx="0"/>
              <a:endCxn id="125" idx="2"/>
            </p:cNvCxnSpPr>
            <p:nvPr/>
          </p:nvCxnSpPr>
          <p:spPr>
            <a:xfrm flipH="1" flipV="1" rot="5400000">
              <a:off x="3030840" y="2697480"/>
              <a:ext cx="878760" cy="213228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2054"/>
            <p:cNvSpPr/>
            <p:nvPr/>
          </p:nvSpPr>
          <p:spPr>
            <a:xfrm>
              <a:off x="2708280" y="1568520"/>
              <a:ext cx="365544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Функция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психологизма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5"/>
            <p:cNvSpPr/>
            <p:nvPr/>
          </p:nvSpPr>
          <p:spPr>
            <a:xfrm>
              <a:off x="576360" y="4203360"/>
              <a:ext cx="365544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Создание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определенного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настроени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056"/>
            <p:cNvSpPr/>
            <p:nvPr/>
          </p:nvSpPr>
          <p:spPr>
            <a:xfrm>
              <a:off x="4841280" y="4203360"/>
              <a:ext cx="365544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Отражение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состояни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геро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7:43:03Z</dcterms:created>
  <dc:creator>Завуч</dc:creator>
  <dc:description/>
  <dc:language>en-US</dc:language>
  <cp:lastModifiedBy>Лена</cp:lastModifiedBy>
  <dcterms:modified xsi:type="dcterms:W3CDTF">2022-02-09T19:09:53Z</dcterms:modified>
  <cp:revision>12</cp:revision>
  <dc:subject/>
  <dc:title>Живопись на уроках литературы</dc:title>
</cp:coreProperties>
</file>