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071-CCE0-4081-8928-9513FC38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50E-109A-4C30-B195-CC9800F3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5FE32-5B08-4349-AF43-C59EAFC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1FBCF-593E-4C72-8858-A9568749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3E410-B19B-4D22-9042-105B9E46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DC3C6-9BDD-41EA-8406-D1C8ECBF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3643B-4429-4E25-ABD8-F44901E3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86170-69D7-49A3-A90C-44E10FAF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A4544-E77D-4C1A-8750-5BB02CAD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ED574-0517-4DCD-BB03-2D6F51C4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D4E51-2C5F-446B-A538-0C05BB2F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F0DC0-B6C0-4E82-9757-E1EC4B81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AE7-94D6-42FC-ADB5-04656D06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9F780-8DAE-4614-8761-44A76E4F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C62AD-8A9D-454D-AB5F-7FDAA84B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08E1B-AF9A-4F19-B8B4-9433AE96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AE45B-84EE-4E94-809B-1F2F5A8F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59D8B-BEDC-494A-AA3E-153F73F8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42F15-3166-4D15-AFBB-658C1322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D63F0-781A-41E8-A80F-523207E7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47861-6CC5-4745-8E06-CBCF14F1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09704-B3B7-4400-8B3A-924DFFB0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13922-E786-489E-AB9A-EC712768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37A-00FC-460D-85C3-7E9B02AE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506E4-EF57-401C-8489-AB995A5C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9CC03-E598-4AD1-A1D8-7A849D3A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BCECE-5BDC-4B81-B40B-4037C244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BBA39-8A8C-4082-9F7D-C331497D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88A52-1387-4FB0-BB72-6E88D8BC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76BF3-76CC-44A9-BA78-D3BE6F65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2C29D-7FDB-43D6-B134-EE50EB46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1DB9E-D39D-407A-AB00-197AF1F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8CF49-3C83-4A48-8A9F-05698F01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A9263-F495-484E-B742-C7083B0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28FC-C9A0-4876-BA61-6A3FDACF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AFDE4-9BD1-46A4-9D39-9D32B8A7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09FDE-8832-42BE-9C99-986DF43F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38AB3-D9EA-4395-A6C9-99318979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B88BB-2EBE-432D-A692-FBA174E4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6DE38-F723-4952-AF5B-039C2B04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1DECC-1FF8-448C-925D-0123BE09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06059-4CB5-45C6-9BFA-093DC2FC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5256B-C68E-4774-B5ED-6D620A12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56E75-BFD0-412B-82BA-EF23A298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8821A-6117-4624-87BF-5639FE2A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DC71-9377-4B88-A6B0-3CE1E1AD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00CE6-BB04-457C-8378-17A0E4E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BFB64-30B7-4D19-8155-D3B01B4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E3794-94A3-4593-B733-06F54C1B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0A12B-0001-442C-BACD-ED9256C8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FDB50-BF3A-427A-BC16-3C547A7B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3EC67-80B1-44DF-9AD8-9995705B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13E43-4804-4803-BE22-71CEE133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CBC48-1ADA-4F53-8A7E-BFDD034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C2363-F793-4AB1-9534-DF5E75E3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6FAC9-2C82-4275-8268-1B2AA4EA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7A9C-F0D3-4053-8EFB-ACDCF687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D353E-D16E-4124-BE56-74746C60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E6C54-9A97-47D2-AAA5-AD8AE7D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48F3F-083E-47D2-9001-24923C35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B6E3A-9E67-4F96-9AA1-DE800256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1E7D6-42F7-4FC3-98AD-856F4467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BEFF2-185E-4DEC-910C-ACFB6B11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6B661-3DFA-4C5A-8486-6D2819B9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23E97-578C-4B63-BBED-9F5E35EC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226F1-A2FB-40FC-82E3-0D8B06EC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BA4E0-981B-4722-BEBD-FAE5A679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9A37-5C1C-40BA-9EBF-486784B0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88246-9676-4932-892E-444E1ECA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36B8A-2D6E-4742-BFF1-C4B5C1FF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C1534-B092-49C1-8A2A-AA8BAED7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22A2A-DED2-4282-B036-F4669A09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958D7-77A5-4124-9B9B-C8DFF793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862B1-B356-4F50-8F5D-1B34935E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42ED1-218B-461F-B470-36E6465D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81234-250C-4DF1-A68C-B4D550B3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AA1FD-7131-4A62-9734-E1C4A59E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31490-E2A0-4865-B1EA-93A55FCC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1E68-C9B4-40BA-9238-F6A409CF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57273-2D35-4584-83D5-0716DA30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FDE8E-AF98-4B1B-8FF3-1CE1C3CA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2C4FA-6AC0-49E5-947B-15FE1302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09801-94D3-475E-BC34-70458D3B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41491-A909-4827-9133-E0F4151F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C66A0-5BE8-4425-881A-A375157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907FD-F640-4D4D-8633-3C4AFDA2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1B618-72D5-4E82-951F-0C90A9DA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38CAE-DF65-41E8-8D42-F17EE222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F24AC-842F-43D8-B81E-1355927C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FA77-245D-4BC9-B09D-FF4F56DE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A041F-78A5-4583-B2A3-660C9048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EEC0-A516-43F4-972F-E18AC9DD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268-475C-43AE-A180-0AD43906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7FEC-6C7B-4D2F-B440-6FF24D52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D0ED-B53F-40BF-8A92-4FA429E3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18EE-046D-4B6F-B56F-34E2E132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63C1-E11C-4AEF-B91F-6E1D02A2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4EFB-1F3F-4198-A5A9-41999664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3319-02D3-4764-978F-9CB75F9A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987F-82A4-4E13-9DCD-483020DA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F7B0-C43E-49A0-B1F0-938EAB1D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4DB7-BB0D-47E3-9205-A4CB0C11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23CA-780E-4AA4-83B0-B21FFBC0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A26-14FA-4D41-80EE-9522B2DA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09CA-38A9-4094-9DFE-A7D06E3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F0F4-77C0-4168-9CCA-26C9C45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D246-EF6A-48CA-B9F6-0156504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FFFC-D16D-4731-8B02-1C56773E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EBF7-FD4F-430F-B773-4FDF8515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28645-0BA0-40F8-8A07-D152CEA7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AFE7-B7FC-4BBE-8C42-4DB2F8FF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0C41-55EE-4052-9B7B-51BCE8B9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21A7-7F8D-4D4A-A5BF-0042567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D450-60FF-4B8B-B8A6-936AA69D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489-D164-42E0-B8CD-8DF42575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2137-6C7F-4AAB-A6AD-3F8CD150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5A06-F6E9-4CE2-8B5B-AAC342C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D0A1-E80D-48C3-81BC-49D1F7B7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D227-9D04-47A3-888A-6E6EE71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87860-B160-4658-A3B5-7129C54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CECE6-CA4F-4872-8412-5F58D7A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BD5F-7501-4FFF-AC24-4FD8A400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40B84-A372-44D8-B40F-D2CE95BB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11FEE-B6B1-42A9-B3AE-DC858DFF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64D2A-D0C4-423F-8CCC-6083BF44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A14-A203-4E86-8F18-AD43E565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98655-5749-4293-AD60-87F13829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2A309-5437-4447-8F22-E3C5AD5C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869C-7096-4EDB-AA2B-CF1357A1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FACE7-8FE7-44AB-BFFA-71494E28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25379-39A1-4328-9B26-ACD2E9F1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FE8C-AB04-475E-BF7B-84B84DA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A001-D913-45FE-9D50-7356FE5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904A2-3122-404A-95A3-7D05F621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06481-440C-4763-9EE5-7FD6DFD0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F8406-349D-434A-9511-14B9D901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12E-2943-4082-882B-0A690310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DDFE-F236-463F-B3E7-22F99BE3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01228-93DC-4173-B78D-55C63C51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33DCB-F50F-4487-A56E-4A3F3BCD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EE157-1DD1-4D1E-BE2B-570016C5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E1548-E948-421C-A889-BE2F166D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C95EB-A898-468B-80A5-3DA3FC05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5DBAF-45C5-42AF-AB33-48A69730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E744-DD1B-44F7-ABAA-7C0E3694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AF395-F20C-41F2-9A69-022CCF0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88727-0CE8-4106-97E1-B66B532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F59-F649-4D41-93A3-255EC3C7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E8E0-4AAE-4046-BBFA-2BBA090E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8A75-5793-4563-B7D6-2CFE1007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5A46D-27CF-4FC2-81A6-2A089D94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44D53-6655-45B0-B230-7177CDBB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9268A-A211-43C6-8F13-11B0991C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00D4F-56D9-4D4A-8884-50ADA942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CE1C4-6BE9-46EB-B45E-994098F9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83D9-79FF-4DC2-8F77-A4FDEB3D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30358-9C89-4BEB-A5D6-19BBCDB1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0EDC-03C6-408A-9BD8-59670EE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0C0-05E3-4BF9-8176-B80C77C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68C6A-DFB9-4D27-8FAB-FAF3F9F9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4906-1237-42F8-8740-CD3DE41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8B6EF-B397-4887-81EA-49F1FEF6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90D4B-8BBD-4743-832C-8C19B9FC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456D9-9337-4CC7-9D03-EA6338BB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837FC-F716-4D15-B0E4-7CFDA4A8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B3692-C843-41AB-9FBE-F1552C9D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AB75-A5C3-45D4-BC54-8614B14B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46989-FE1E-4DC7-8B20-6EF0AFF1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EE9EC-DDF1-4A0F-890E-3A84771F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181-0886-4465-A63B-397BBBEB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A74BC-42D5-4439-A817-8DE926FB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788D8-7AD9-4690-B642-8627B11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539B8-9B9E-44D9-8FD7-6C1C3E09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B1AFA-0224-43B2-81F8-AB3DAB0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DE77-2312-42C5-B2D1-BC1466D8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A83B6-8BE0-4E84-9DFE-22675012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8EEED-5BFF-47E7-9712-6549AD7E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4FE02-8FC5-4209-A47B-1AAC0356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018A1-51A1-4CCC-AE86-CAF33106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6FC1B-4705-4B1B-888A-1C79FB50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F937-4D96-4298-881D-323C611F314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055D-F586-4560-A4F6-C9DD1CFD7CD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CFE7-24C7-4A00-8FEE-E8709ED57A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4E32-093B-45BA-9BE7-44281F2722C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8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9993-D554-4848-8D3A-FBD296CA526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4478-3D37-4FBD-A1D6-8CB2DE94EEE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7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7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7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4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5001-678A-4787-9C6C-718AC3B23F7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931D-0308-4923-B85E-EAF6D675F73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C99-46ED-40C5-948C-F2AC0E06A9A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69D9-19EA-440D-B8BD-9D1C00326E5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1FDC-0E1B-4DA9-90F9-B488FD1AA8D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ADD-3859-4E78-A49E-863A3732923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9394-0254-48B2-BD3C-59E9D5A13A3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A56B-76D5-4D70-8625-3825879E88E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B0C0-4B0F-4DB2-9113-4B5C197E83E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сонометрические проекц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0" y="2492280"/>
            <a:ext cx="401328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иметрическая и изометрическая проек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69960" y="397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аг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75" name="Rectangle 4" descr=""/>
          <p:cNvPicPr/>
          <p:nvPr/>
        </p:nvPicPr>
        <p:blipFill>
          <a:blip r:embed="rId1"/>
          <a:stretch/>
        </p:blipFill>
        <p:spPr>
          <a:xfrm>
            <a:off x="755640" y="4767120"/>
            <a:ext cx="5181480" cy="1762200"/>
          </a:xfrm>
          <a:prstGeom prst="rect">
            <a:avLst/>
          </a:prstGeom>
          <a:ln w="0">
            <a:noFill/>
          </a:ln>
        </p:spPr>
      </p:pic>
      <p:pic>
        <p:nvPicPr>
          <p:cNvPr id="776" name="Объект 4" descr=""/>
          <p:cNvPicPr/>
          <p:nvPr/>
        </p:nvPicPr>
        <p:blipFill>
          <a:blip r:embed="rId2"/>
          <a:srcRect l="52636" t="67695" r="0" b="0"/>
          <a:stretch/>
        </p:blipFill>
        <p:spPr>
          <a:xfrm>
            <a:off x="6084720" y="4005360"/>
            <a:ext cx="2590920" cy="2087640"/>
          </a:xfrm>
          <a:prstGeom prst="rect">
            <a:avLst/>
          </a:prstGeom>
          <a:ln w="0">
            <a:noFill/>
          </a:ln>
        </p:spPr>
      </p:pic>
      <p:pic>
        <p:nvPicPr>
          <p:cNvPr id="777" name="Объект 14" descr=""/>
          <p:cNvPicPr/>
          <p:nvPr/>
        </p:nvPicPr>
        <p:blipFill>
          <a:blip r:embed="rId3"/>
          <a:stretch/>
        </p:blipFill>
        <p:spPr>
          <a:xfrm>
            <a:off x="1403280" y="2637000"/>
            <a:ext cx="3168720" cy="2108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669960" y="397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аг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971280" y="5013000"/>
            <a:ext cx="46083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ерез полученные точки проводим прямые 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параллельные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брам передней гран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TextBox 8"/>
          <p:cNvSpPr/>
          <p:nvPr/>
        </p:nvSpPr>
        <p:spPr>
          <a:xfrm>
            <a:off x="8459640" y="2900520"/>
            <a:ext cx="28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1" name="Объект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3529080" cy="2622600"/>
          </a:xfrm>
          <a:prstGeom prst="rect">
            <a:avLst/>
          </a:prstGeom>
          <a:ln w="0">
            <a:noFill/>
          </a:ln>
        </p:spPr>
      </p:pic>
      <p:pic>
        <p:nvPicPr>
          <p:cNvPr id="782" name="Объект 4" descr=""/>
          <p:cNvPicPr/>
          <p:nvPr/>
        </p:nvPicPr>
        <p:blipFill>
          <a:blip r:embed="rId2"/>
          <a:srcRect l="52636" t="67695" r="0" b="0"/>
          <a:stretch/>
        </p:blipFill>
        <p:spPr>
          <a:xfrm>
            <a:off x="6084720" y="4005360"/>
            <a:ext cx="259092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669960" y="397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аг 4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4554360" y="2636640"/>
            <a:ext cx="4321440" cy="26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даляем лишние линии. Обводим видимый контур детали. Наносим размер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Обратите внимание, что выносные линии должны быть </a:t>
            </a:r>
            <a:r>
              <a:rPr b="0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параллельны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аксонометрическим ося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020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250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Franklin Gothic Book"/>
              </a:rPr>
              <a:t>При любом масштабе на чертеже наносят только действительные размеры !  А рядом с чертежом укажите М2: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50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83772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6" name="Объект 4" descr=""/>
          <p:cNvPicPr/>
          <p:nvPr/>
        </p:nvPicPr>
        <p:blipFill>
          <a:blip r:embed="rId1"/>
          <a:srcRect l="52636" t="67695" r="0" b="0"/>
          <a:stretch/>
        </p:blipFill>
        <p:spPr>
          <a:xfrm>
            <a:off x="925560" y="2894040"/>
            <a:ext cx="3770280" cy="3127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669960" y="397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торите расположение осей при построении аксонометрических проек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 наглядному изображению детали выполнить чертеж,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 изометрии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гласно заданным размерам, используя масштаб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2: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827640" y="261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ксонометрические проекци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ГОСТ 2.317-69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3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сонометрической проекцией называется изображение, полученное на аксонометрической плоскости в результате параллельного проецирования предмета вместе с системой координат, которое наглядно отображает его форм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3" name="Picture 6" descr="п2"/>
          <p:cNvPicPr/>
          <p:nvPr/>
        </p:nvPicPr>
        <p:blipFill>
          <a:blip r:embed="rId1"/>
          <a:stretch/>
        </p:blipFill>
        <p:spPr>
          <a:xfrm>
            <a:off x="6372360" y="765000"/>
            <a:ext cx="2236680" cy="266544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90"/>
          <p:cNvSpPr/>
          <p:nvPr/>
        </p:nvSpPr>
        <p:spPr>
          <a:xfrm>
            <a:off x="5570280" y="3645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Rectangle 87"/>
          <p:cNvSpPr/>
          <p:nvPr/>
        </p:nvSpPr>
        <p:spPr>
          <a:xfrm>
            <a:off x="5076720" y="3429000"/>
            <a:ext cx="3683160" cy="1917720"/>
          </a:xfrm>
          <a:prstGeom prst="rect">
            <a:avLst/>
          </a:prstGeom>
          <a:solidFill>
            <a:srgbClr val="c0b8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Line 19"/>
          <p:cNvSpPr/>
          <p:nvPr/>
        </p:nvSpPr>
        <p:spPr>
          <a:xfrm>
            <a:off x="6778800" y="3468600"/>
            <a:ext cx="0" cy="9273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Line 21"/>
          <p:cNvSpPr/>
          <p:nvPr/>
        </p:nvSpPr>
        <p:spPr>
          <a:xfrm>
            <a:off x="7464600" y="4556160"/>
            <a:ext cx="450720" cy="247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Line 22"/>
          <p:cNvSpPr/>
          <p:nvPr/>
        </p:nvSpPr>
        <p:spPr>
          <a:xfrm flipV="1">
            <a:off x="5682960" y="4235040"/>
            <a:ext cx="1110240" cy="610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6403320" y="3327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Text Box 25"/>
          <p:cNvSpPr/>
          <p:nvPr/>
        </p:nvSpPr>
        <p:spPr>
          <a:xfrm>
            <a:off x="5411880" y="4654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AutoShape 55"/>
          <p:cNvSpPr/>
          <p:nvPr/>
        </p:nvSpPr>
        <p:spPr>
          <a:xfrm flipV="1" rot="3632400">
            <a:off x="5832720" y="4024800"/>
            <a:ext cx="1278000" cy="72072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AutoShape 58"/>
          <p:cNvSpPr/>
          <p:nvPr/>
        </p:nvSpPr>
        <p:spPr>
          <a:xfrm rot="21557400">
            <a:off x="6148440" y="3424320"/>
            <a:ext cx="1263600" cy="77148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AutoShape 61"/>
          <p:cNvSpPr/>
          <p:nvPr/>
        </p:nvSpPr>
        <p:spPr>
          <a:xfrm flipH="1" flipV="1" rot="17955600">
            <a:off x="6446880" y="3999240"/>
            <a:ext cx="1290600" cy="73188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Line 62"/>
          <p:cNvSpPr/>
          <p:nvPr/>
        </p:nvSpPr>
        <p:spPr>
          <a:xfrm>
            <a:off x="6816600" y="5788080"/>
            <a:ext cx="1092240" cy="571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Line 63"/>
          <p:cNvSpPr/>
          <p:nvPr/>
        </p:nvSpPr>
        <p:spPr>
          <a:xfrm flipV="1">
            <a:off x="5695560" y="5784120"/>
            <a:ext cx="1110240" cy="610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AutoShape 65"/>
          <p:cNvSpPr/>
          <p:nvPr/>
        </p:nvSpPr>
        <p:spPr>
          <a:xfrm rot="21557400">
            <a:off x="6154560" y="4973760"/>
            <a:ext cx="1263960" cy="77148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Line 68"/>
          <p:cNvSpPr/>
          <p:nvPr/>
        </p:nvSpPr>
        <p:spPr>
          <a:xfrm flipV="1">
            <a:off x="6146640" y="4190760"/>
            <a:ext cx="635040" cy="3682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Line 69"/>
          <p:cNvSpPr/>
          <p:nvPr/>
        </p:nvSpPr>
        <p:spPr>
          <a:xfrm flipH="1" flipV="1">
            <a:off x="6787800" y="4197240"/>
            <a:ext cx="647640" cy="317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Line 72"/>
          <p:cNvSpPr/>
          <p:nvPr/>
        </p:nvSpPr>
        <p:spPr>
          <a:xfrm flipH="1" flipV="1">
            <a:off x="6762240" y="3358800"/>
            <a:ext cx="25560" cy="793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Line 74"/>
          <p:cNvSpPr/>
          <p:nvPr/>
        </p:nvSpPr>
        <p:spPr>
          <a:xfrm flipV="1">
            <a:off x="6153120" y="3777840"/>
            <a:ext cx="0" cy="1562040"/>
          </a:xfrm>
          <a:prstGeom prst="line">
            <a:avLst/>
          </a:prstGeom>
          <a:ln w="9360">
            <a:solidFill>
              <a:srgbClr val="d46f64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Line 75"/>
          <p:cNvSpPr/>
          <p:nvPr/>
        </p:nvSpPr>
        <p:spPr>
          <a:xfrm flipH="1" flipV="1">
            <a:off x="7404120" y="3727440"/>
            <a:ext cx="38160" cy="1581120"/>
          </a:xfrm>
          <a:prstGeom prst="line">
            <a:avLst/>
          </a:prstGeom>
          <a:ln w="9360">
            <a:solidFill>
              <a:srgbClr val="d46f64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Line 76"/>
          <p:cNvSpPr/>
          <p:nvPr/>
        </p:nvSpPr>
        <p:spPr>
          <a:xfrm>
            <a:off x="6794640" y="4140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Text Box 78"/>
          <p:cNvSpPr/>
          <p:nvPr/>
        </p:nvSpPr>
        <p:spPr>
          <a:xfrm>
            <a:off x="7886520" y="6237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Line 79"/>
          <p:cNvSpPr/>
          <p:nvPr/>
        </p:nvSpPr>
        <p:spPr>
          <a:xfrm>
            <a:off x="6794640" y="4915080"/>
            <a:ext cx="0" cy="7556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Line 80"/>
          <p:cNvSpPr/>
          <p:nvPr/>
        </p:nvSpPr>
        <p:spPr>
          <a:xfrm flipV="1">
            <a:off x="6210360" y="5721120"/>
            <a:ext cx="622080" cy="361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Line 81"/>
          <p:cNvSpPr/>
          <p:nvPr/>
        </p:nvSpPr>
        <p:spPr>
          <a:xfrm>
            <a:off x="6800760" y="5734080"/>
            <a:ext cx="615960" cy="3301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Text Box 90"/>
          <p:cNvSpPr/>
          <p:nvPr/>
        </p:nvSpPr>
        <p:spPr>
          <a:xfrm>
            <a:off x="5117760" y="33638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Text Box 25"/>
          <p:cNvSpPr/>
          <p:nvPr/>
        </p:nvSpPr>
        <p:spPr>
          <a:xfrm>
            <a:off x="5437080" y="6237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Text Box 78"/>
          <p:cNvSpPr/>
          <p:nvPr/>
        </p:nvSpPr>
        <p:spPr>
          <a:xfrm>
            <a:off x="8069040" y="4827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AutoShape 64"/>
          <p:cNvSpPr/>
          <p:nvPr/>
        </p:nvSpPr>
        <p:spPr>
          <a:xfrm flipV="1" rot="3632400">
            <a:off x="5845680" y="5574240"/>
            <a:ext cx="1278000" cy="72072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AutoShape 66"/>
          <p:cNvSpPr/>
          <p:nvPr/>
        </p:nvSpPr>
        <p:spPr>
          <a:xfrm flipH="1" flipV="1" rot="17955600">
            <a:off x="6478560" y="5548680"/>
            <a:ext cx="1290600" cy="731880"/>
          </a:xfrm>
          <a:prstGeom prst="diamond">
            <a:avLst/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Line 80"/>
          <p:cNvSpPr/>
          <p:nvPr/>
        </p:nvSpPr>
        <p:spPr>
          <a:xfrm flipV="1">
            <a:off x="6156360" y="5805360"/>
            <a:ext cx="622440" cy="3621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Line 81"/>
          <p:cNvSpPr/>
          <p:nvPr/>
        </p:nvSpPr>
        <p:spPr>
          <a:xfrm>
            <a:off x="6804000" y="5805360"/>
            <a:ext cx="615960" cy="3304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827640" y="261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2c23"/>
                </a:solidFill>
                <a:latin typeface="GOST type B"/>
              </a:rPr>
              <a:t>Происхождение наз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805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Само слово </a:t>
            </a:r>
            <a:r>
              <a:rPr b="0" i="1" lang="ru-RU" sz="2400" spc="-1" strike="noStrike">
                <a:solidFill>
                  <a:srgbClr val="7f2c23"/>
                </a:solidFill>
                <a:latin typeface="GOST type B"/>
              </a:rPr>
              <a:t>«аксонометрия» 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происходит от греческих слов «аксон» -ось и «метрио»-измерять, то есть дословно оно переводится так:</a:t>
            </a:r>
            <a:r>
              <a:rPr b="0" i="1" lang="ru-RU" sz="2000" spc="-1" strike="noStrike">
                <a:solidFill>
                  <a:srgbClr val="003366"/>
                </a:solidFill>
                <a:latin typeface="GOST type B"/>
              </a:rPr>
              <a:t> «</a:t>
            </a:r>
            <a:r>
              <a:rPr b="0" i="1" lang="ru-RU" sz="2400" spc="-1" strike="noStrike">
                <a:solidFill>
                  <a:srgbClr val="7f2c23"/>
                </a:solidFill>
                <a:latin typeface="GOST type B"/>
              </a:rPr>
              <a:t>измерение по осям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7f2c23"/>
                </a:solidFill>
                <a:uFillTx/>
                <a:latin typeface="GOST type B"/>
              </a:rPr>
              <a:t>Изометрическо</a:t>
            </a:r>
            <a:r>
              <a:rPr b="0" i="1" lang="ru-RU" sz="2400" spc="-1" strike="noStrike">
                <a:solidFill>
                  <a:srgbClr val="7f2c23"/>
                </a:solidFill>
                <a:latin typeface="GOST type B"/>
              </a:rPr>
              <a:t>й</a:t>
            </a:r>
            <a:r>
              <a:rPr b="0" i="1" lang="ru-RU" sz="2400" spc="-1" strike="noStrike">
                <a:solidFill>
                  <a:srgbClr val="ff5050"/>
                </a:solidFill>
                <a:latin typeface="GOST type B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(от греческого </a:t>
            </a:r>
            <a:r>
              <a:rPr b="0" i="1" lang="en-US" sz="2400" spc="-1" strike="noStrike">
                <a:solidFill>
                  <a:srgbClr val="003366"/>
                </a:solidFill>
                <a:latin typeface="GOST type B"/>
              </a:rPr>
              <a:t>isos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GOST type B"/>
              </a:rPr>
              <a:t>–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 одинаковый или равный),по всем трем осям  размеры  откладывают 1: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7f2c23"/>
                </a:solidFill>
                <a:uFillTx/>
                <a:latin typeface="GOST type B"/>
              </a:rPr>
              <a:t>Диметрической</a:t>
            </a:r>
            <a:r>
              <a:rPr b="0" i="1" lang="ru-RU" sz="2400" spc="-1" strike="noStrike" u="sng">
                <a:solidFill>
                  <a:srgbClr val="ff5050"/>
                </a:solidFill>
                <a:uFillTx/>
                <a:latin typeface="GOST type B"/>
              </a:rPr>
              <a:t>  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(от греческого </a:t>
            </a:r>
            <a:r>
              <a:rPr b="0" i="1" lang="en-US" sz="2400" spc="-1" strike="noStrike">
                <a:solidFill>
                  <a:srgbClr val="003366"/>
                </a:solidFill>
                <a:latin typeface="GOST type B"/>
              </a:rPr>
              <a:t>di-</a:t>
            </a:r>
            <a:r>
              <a:rPr b="0" i="1" lang="ru-RU" sz="2400" spc="-1" strike="noStrike">
                <a:solidFill>
                  <a:srgbClr val="003366"/>
                </a:solidFill>
                <a:latin typeface="GOST type B"/>
              </a:rPr>
              <a:t>двойной),      по двум осям размеры  откладывают 1:1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GOST type B"/>
              </a:rPr>
              <a:t>( по оси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GOST type B"/>
              </a:rPr>
              <a:t>Y-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GOST type B"/>
              </a:rPr>
              <a:t> размеры в два раза меньш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7360" y="1423080"/>
            <a:ext cx="7760520" cy="113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и диметрической проекции располагаются так: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x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- горизонтально,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z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– вертикально,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y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– под углом 45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º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57" name="Picture 32" descr="3"/>
          <p:cNvPicPr/>
          <p:nvPr/>
        </p:nvPicPr>
        <p:blipFill>
          <a:blip r:embed="rId1"/>
          <a:stretch/>
        </p:blipFill>
        <p:spPr>
          <a:xfrm>
            <a:off x="971640" y="2637000"/>
            <a:ext cx="3887640" cy="33699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26920" y="6165720"/>
            <a:ext cx="7693200" cy="1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9" name="Picture 34" descr="5"/>
          <p:cNvPicPr/>
          <p:nvPr/>
        </p:nvPicPr>
        <p:blipFill>
          <a:blip r:embed="rId2"/>
          <a:stretch/>
        </p:blipFill>
        <p:spPr>
          <a:xfrm>
            <a:off x="5070600" y="3095640"/>
            <a:ext cx="3462120" cy="2827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27640" y="1485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 построении осей изометрической проекции ось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z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асположена вертикально, а оси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составляют с ней углы равные 120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º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61" name="Picture 8" descr="0111"/>
          <p:cNvPicPr/>
          <p:nvPr/>
        </p:nvPicPr>
        <p:blipFill>
          <a:blip r:embed="rId1"/>
          <a:stretch/>
        </p:blipFill>
        <p:spPr>
          <a:xfrm>
            <a:off x="2206800" y="2362320"/>
            <a:ext cx="4954320" cy="3724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троение изометрических осей происходит так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вертикальной ос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берем точку О и проводим дугу произвольного радиуса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з точки пересечения дуги с продолжением ос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водим дугу того же радиуса до пересечения с первой дугой в точках 1 и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единив точку О с точками 1 и 2 получаем направление ос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4" name="Picture 9" descr="10"/>
          <p:cNvPicPr/>
          <p:nvPr/>
        </p:nvPicPr>
        <p:blipFill>
          <a:blip r:embed="rId1"/>
          <a:stretch/>
        </p:blipFill>
        <p:spPr>
          <a:xfrm>
            <a:off x="4761000" y="2967120"/>
            <a:ext cx="3770280" cy="251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я всех аксонометрических проекций установлены общие прави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ь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гда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вертикаль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 измерения выполняются только по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аксонометрическим осям или прямым, параллельным и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 прямые линии,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параллельные друг другу или осям координа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на комплексном чертеже, в аксонометрических проекциях остаются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параллельными между собой и соответствующим аксонометрическим ос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75160" y="229320"/>
            <a:ext cx="7697880" cy="15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420640"/>
            <a:ext cx="76932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смотрим алгоритм построения аксонометрических проекций плоскогранных предме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792360" y="248040"/>
            <a:ext cx="7552440" cy="25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строение осей изометрической проекции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аг 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70" name="Rectangle 4" descr=""/>
          <p:cNvPicPr/>
          <p:nvPr/>
        </p:nvPicPr>
        <p:blipFill>
          <a:blip r:embed="rId1"/>
          <a:stretch/>
        </p:blipFill>
        <p:spPr>
          <a:xfrm>
            <a:off x="969840" y="4743360"/>
            <a:ext cx="4503960" cy="1816200"/>
          </a:xfrm>
          <a:prstGeom prst="rect">
            <a:avLst/>
          </a:prstGeom>
          <a:ln w="0">
            <a:noFill/>
          </a:ln>
        </p:spPr>
      </p:pic>
      <p:pic>
        <p:nvPicPr>
          <p:cNvPr id="771" name="Объект 4" descr=""/>
          <p:cNvPicPr/>
          <p:nvPr/>
        </p:nvPicPr>
        <p:blipFill>
          <a:blip r:embed="rId2"/>
          <a:srcRect l="52636" t="67695" r="0" b="0"/>
          <a:stretch/>
        </p:blipFill>
        <p:spPr>
          <a:xfrm>
            <a:off x="6084720" y="4005360"/>
            <a:ext cx="2590920" cy="2087640"/>
          </a:xfrm>
          <a:prstGeom prst="rect">
            <a:avLst/>
          </a:prstGeom>
          <a:ln w="0">
            <a:noFill/>
          </a:ln>
        </p:spPr>
      </p:pic>
      <p:pic>
        <p:nvPicPr>
          <p:cNvPr id="772" name="Рисунок 8" descr=""/>
          <p:cNvPicPr/>
          <p:nvPr/>
        </p:nvPicPr>
        <p:blipFill>
          <a:blip r:embed="rId3"/>
          <a:stretch/>
        </p:blipFill>
        <p:spPr>
          <a:xfrm>
            <a:off x="6473880" y="1650960"/>
            <a:ext cx="2670120" cy="1778040"/>
          </a:xfrm>
          <a:prstGeom prst="rect">
            <a:avLst/>
          </a:prstGeom>
          <a:ln w="0">
            <a:noFill/>
          </a:ln>
        </p:spPr>
      </p:pic>
      <p:pic>
        <p:nvPicPr>
          <p:cNvPr id="773" name="Рисунок 10" descr=""/>
          <p:cNvPicPr/>
          <p:nvPr/>
        </p:nvPicPr>
        <p:blipFill>
          <a:blip r:embed="rId4"/>
          <a:stretch/>
        </p:blipFill>
        <p:spPr>
          <a:xfrm>
            <a:off x="1407960" y="2679840"/>
            <a:ext cx="3164040" cy="208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6:01:50Z</dcterms:created>
  <dc:creator>Айслу</dc:creator>
  <dc:description/>
  <dc:language>en-US</dc:language>
  <cp:lastModifiedBy>Секретарь</cp:lastModifiedBy>
  <dcterms:modified xsi:type="dcterms:W3CDTF">2022-02-10T09:28:27Z</dcterms:modified>
  <cp:revision>42</cp:revision>
  <dc:subject/>
  <dc:title>Слайд 1</dc:title>
</cp:coreProperties>
</file>