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B1B-E540-4F38-9629-34E13DE3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436-6E85-4E4B-AADA-0B02CD4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3AC86-1F22-4759-8928-3983DA0E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B6882-9CE3-44A0-BE2C-9DFE448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933D0-8862-4423-AD90-D09FBD99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1AFAE-8D45-46D1-9DA5-4F60878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763AB-B532-4834-ACCF-08AF05A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BFCE3-212C-4B57-B259-919080A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76F7B-A583-483F-A7D8-13618235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10F7E-0B07-47DA-BC3D-2C5CEDE9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3EC7D-ABC2-47EF-8E6C-EF7DC37F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D699D-8E49-4FD5-B543-91026633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9C6-5F54-46D9-8257-7E4E1803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39E82-8362-4925-8E1F-0E6D5E4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83121-D644-4B46-80F9-A7BC0FE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F66F6-9759-49BD-898D-F95C4E7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321A2-C5B7-425B-88C8-068A06D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F9E9-359F-4CF8-A2B9-E4D61E6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B2FE-F832-41E4-A711-6668129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55633-729D-4F49-8B7E-E3550DE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0F5A7-3406-45DC-BC12-D87FE910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80AD-0162-4F51-BA57-D12C7BB5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65C96-CA3A-4362-8D71-A596BBB0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58D-0519-4382-BD1A-C697989A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B05BE-6C3B-4C88-959B-CF9A3FD1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C9DE7-4E2F-4065-929A-51BACA0C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78D00-C75F-40C5-863C-66217DB4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7501D-BA24-43A7-964A-47D216E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B844E-3C64-4639-839F-488C5B85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BDEE4-83C4-4FBC-822E-E4856527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3FD68-0BD6-4C3A-9253-61B4C70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A79B7-CA48-4798-A677-F8D0648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2FAE-5905-498F-B2D8-11BE3AD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9A7C-634E-4535-B876-8F74FFE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CC3E-603A-4345-BAF9-DCD8CFE9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01C03-389B-4F75-9ACF-7DB4C26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192CD-7473-4C8C-A608-F826B8FB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EEA7-5C4D-4D99-A6D0-C0E72E67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F10EB-E993-4EEF-A20A-B91D8114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A8D46-4C6B-4C14-9F03-F5A5D59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99341-2508-421D-BE50-778E0E16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652B3-1F52-45C9-A237-64058EC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300F8-C0C1-4839-8E74-B868FB9F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4A31-05B2-4576-A6DF-94B14943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53A5C-EF6F-435D-8BFB-B4115F6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A253-2859-4A0C-AD53-059DCC7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FBC73-D78D-4C52-BE9C-BE265B5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FC196-A9DE-40C2-A8E0-590728D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6EA7B-F98C-45D7-A77B-0121140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3177D-B114-49A5-9877-4152F364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262B8-9E6C-4982-B759-4B26947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6A59C-B8B1-4E43-9E80-EBC91064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167CF-D373-4C3D-A9C0-626E4A72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2A5F7-B213-45E8-BFD9-A5740A54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06710-04D0-46C8-9CB4-6E26864F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6A97C-2A46-4A5E-97D3-08BB6EE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06F-DCA3-4C4F-B95C-5001EFE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9BA7F-9D03-4C66-8B6B-7A9CCD8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B806A-D5BA-4E26-B2FC-4D7166B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B38F7-A888-440F-81C5-2B667BF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8B589-444E-45E8-8CB3-98E8737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9DBCA-77AF-47E1-AC40-33F62F8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8A7A4-06FA-4CF1-B188-FB0F5702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4D250-148B-4EF6-AE74-C38085AB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FCCDD-7E7F-42AF-B4BF-56BDB1D7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3195E-9652-41E6-89D5-7C6A30E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E2833-C819-4B95-ADFC-5CA207DA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305D-1BE1-4548-A33F-4B443DB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80BD9-6CE0-4992-A273-23E9054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6A789-751A-4D1F-A0C7-DA24889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200A4-BEF9-4547-A6DA-94B6A1D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A9AF7-94BC-4D67-88D3-B2277B3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2F2E6-701E-4BAE-B8FC-D0A12CC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CAC52-F497-46A8-A7B1-52C0EFBC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B892B-CC38-4BCD-A8FE-8AF0591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120FD-06A6-430C-BC65-AE4AC52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9D030-CABA-402B-89B6-982A92C1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31405-241B-4A6D-B8E1-18D83D30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FD4D-27B7-4729-A1AF-C779C048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DE9ED-24F5-4AB3-9B9F-975A5D1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7D0FB-8FB1-4826-9AD3-2B166D3C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9AD1D-87EE-49CA-BBFF-DD85D51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6F822-F58B-40D9-BF7A-32C6B4DB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4134F-970B-49B1-AF36-29B3FFA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F07ED-B197-442A-8A1D-4A0090A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610D6-BB09-4CBD-AC97-1215F07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3BC96-B624-4D9B-A92B-B6D9809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2C42B-C45D-4418-BA75-FA9839F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6A2DC-F9A7-4CE8-80A4-90E2A430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0C1-7F88-4858-BA11-AA3C258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65710-8A78-449E-80FB-DBD821FF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95D7-F666-4230-8C0B-3EA9042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849-D4DC-4264-B505-15FD7E2D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4AEC-1E2A-4CF6-987D-F8D0D05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5F7E-AEF3-4405-AE31-1CBD640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7BA8-2D95-42DB-B9DE-ADC2F16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6C62-C42D-42DE-B34F-79367D25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2604-CA4E-4AFF-BE70-019C5724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1FB0-DBE9-4C99-8252-62ADD846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3A73-12BD-4681-9DF8-97D36B6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5CD9-3BAB-4215-9652-DCCE0974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01CF-E72D-42EF-A4ED-99F927B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8A9A-C385-4D91-8A3F-C08125F5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39B-9783-41C8-B961-A5ECEB1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20EC-CEF2-4B8A-9D31-BE7FB465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9150-5199-4645-915E-32E2D76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48C4-1E7A-44A8-95B6-CA20050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7C2B-AC25-432E-9AC0-0FB6728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7F40-0563-40BC-A8AE-0D9271D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57FA-6B08-4254-A1C7-470AF49A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9C51-45B5-4C05-937D-F2761B6D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1127-F394-4399-B2A8-B2C66A96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181D-8723-4003-9034-DA151BD4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438F-C1EE-4325-B26B-474F9F2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F8A-AA7D-44AB-9678-2BD78E3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D82F-3EC5-4AE2-951D-A387543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41DA-D7B7-46A4-B200-16EE20F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B5EC-6998-45B7-891C-2858575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2270-5E73-41EB-BFBF-DDC3AEE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C59E-F0EF-477D-BFAB-8FD0308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3CDE-B0AF-435C-8D21-3E926D0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5DE9-6521-486C-A0C9-7DDEC88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7EFA-0FB1-4776-BD6A-9F819012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90B4-605E-4D61-8447-AA960D0B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4785-17C5-438D-A080-27A120E0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B34-24C8-4638-8B28-4BA6C1C5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72F3-6B67-468E-9BDE-89FED7C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F140-AB79-4FED-A8A8-D6853E18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3B21-EE69-4F75-94C3-3E5B6F7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D332-3E4B-45FE-AB9E-E62E7423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DB622-A02D-45E8-8827-F7BF43B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F39D-5FEB-4F80-8F10-F44B10D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CEAE-9EFC-4606-9BFD-7F55DB7B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84A5-5AF0-40BB-9845-0BF5739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44A5-2F83-4FBF-B041-9D5E3F6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6392-9898-413B-929F-29436BAF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E5F-E61C-40F4-904E-0C44DD0C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F79F-6030-4EB3-B303-22C2552E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40D0-735B-443D-94B6-219DBD34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8D49-EF9E-4C47-8DD3-459B0EF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1A2E-E062-45BB-A7D1-60AF7F1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51EE-069D-4B67-A0E2-00D9F34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E457-FFD8-4B1F-9188-90D104C3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63AC-1960-4CB3-A950-16EF2A9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EF8D-ECAA-46B5-8D79-DFD014C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6F0A-38AF-496A-8A02-AB9E9A9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B73D-7924-4153-B2CE-6ECF7BC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143-386C-4011-A5CE-618C277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A609-30D0-4D98-94F2-70A43F7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D987-E27E-4DFE-861B-EAB44E47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DA7A-EEB0-4566-8392-25CA8810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2436-A5BC-4CF9-9928-00A4C67C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96D0-5396-4E7B-9898-42BE6DC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2BBD-157B-46DE-95EC-FD39FBA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9A5E-BC9D-4049-89D4-2700C4F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CF49-E8FE-419B-8030-C1A09888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2EAE-46B8-4E88-A918-30C508EE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3BA4-5392-4851-8FB3-B21336B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33F-7EB8-4373-A5D4-CF505F8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B2D2-33A0-43E9-BC67-472A5AD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51D2-7724-4C27-B305-7798946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E15B-FB9C-45E7-9C54-9C7EED90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B92D9-B731-484E-95EA-378C52EB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38B49-0968-4EEB-B9B4-B629E443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0C63-8DED-478D-B7F0-C5FF8E7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887E-39F0-498C-9EE5-EE6CEDE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D375-4278-4FBC-8EEB-9EE3B41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2AA1-ECDA-4A5F-BF7E-241AFA41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6419-8706-49A5-8DB1-A8FEC4A0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B5A-2C95-40EB-9EB0-964BBE8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8696-37F5-4875-BB7B-E0AEC40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6A64C-AFB3-4A48-8285-5D003B6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7E92C-3B3F-4975-8555-A6455CE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D0A5-FE03-438E-8BF6-4C14F14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155C3-DA31-4A3B-8AE5-5471E844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F05E5-B4A3-484B-8947-7B41A5D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F97C9-26F4-4C5F-8F59-09DCCDE0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3E525-DB93-40FF-846B-9189E715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FC9E-97E9-4F18-B498-8E8D5EA4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6E82-8EDD-42C1-B001-2402363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0AD-DB1F-4C75-9456-519BEA06DE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51C-456B-4D7F-9919-79224658DB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1799-3FAB-4022-AB6F-2ECFF1867C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4ACF-DF36-4A4B-A93D-8506427E743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AAE-9F2D-408D-AFEC-9D6AEE432AD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931B-432D-43B8-9C9F-8EA2093D5D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7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12C-B7DB-4211-BFF3-FF4165827E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760-4039-4CF9-853B-697C5E6C5A8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B86-7EDC-4F04-8954-4B114068616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C19-0208-4783-8953-6B4E613C14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F93-FA06-4427-A3BC-192BB4F5937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94A3-5693-47CB-9D9B-ACDA88926E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F2F-3C15-44D3-BBDB-487B17015C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73A-ED3F-4F42-8DDD-B65616AA87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8E34-7FEB-4B84-A1DB-AA86E9ED04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сонометрические проекц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0" y="2492280"/>
            <a:ext cx="401328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метрическая и изометрическая про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5" name="Rectangle 4" descr=""/>
          <p:cNvPicPr/>
          <p:nvPr/>
        </p:nvPicPr>
        <p:blipFill>
          <a:blip r:embed="rId1"/>
          <a:stretch/>
        </p:blipFill>
        <p:spPr>
          <a:xfrm>
            <a:off x="755640" y="4767120"/>
            <a:ext cx="5181480" cy="1762200"/>
          </a:xfrm>
          <a:prstGeom prst="rect">
            <a:avLst/>
          </a:prstGeom>
          <a:ln w="0">
            <a:noFill/>
          </a:ln>
        </p:spPr>
      </p:pic>
      <p:pic>
        <p:nvPicPr>
          <p:cNvPr id="776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  <p:pic>
        <p:nvPicPr>
          <p:cNvPr id="777" name="Объект 14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3168720" cy="210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971280" y="5013000"/>
            <a:ext cx="46083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рез полученные точки проводим прямые 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араллельные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брам передней гра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TextBox 8"/>
          <p:cNvSpPr/>
          <p:nvPr/>
        </p:nvSpPr>
        <p:spPr>
          <a:xfrm>
            <a:off x="8459640" y="2900520"/>
            <a:ext cx="2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3529080" cy="2622600"/>
          </a:xfrm>
          <a:prstGeom prst="rect">
            <a:avLst/>
          </a:prstGeom>
          <a:ln w="0">
            <a:noFill/>
          </a:ln>
        </p:spPr>
      </p:pic>
      <p:pic>
        <p:nvPicPr>
          <p:cNvPr id="782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4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54360" y="2636640"/>
            <a:ext cx="4321440" cy="26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даляем лишние линии. Обводим видимый контур детали. Наносим размер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Обратите внимание, что выносные линии должны быть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араллельны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аксонометрическим ос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Franklin Gothic Book"/>
              </a:rPr>
              <a:t>При любом масштабе на чертеже наносят только действительные размеры !  А рядом с чертежом укажите М2: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6" name="Объект 4" descr=""/>
          <p:cNvPicPr/>
          <p:nvPr/>
        </p:nvPicPr>
        <p:blipFill>
          <a:blip r:embed="rId1"/>
          <a:srcRect l="52636" t="67695" r="0" b="0"/>
          <a:stretch/>
        </p:blipFill>
        <p:spPr>
          <a:xfrm>
            <a:off x="925560" y="2894040"/>
            <a:ext cx="3770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торите расположение осей при построении аксонометрических проек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наглядному изображению детали выполнить чертеж,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 изометрии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гласно заданным размерам, используя масштаб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2: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82764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ксонометрические проекц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ГОСТ 2.317-6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сонометрической проекцией называется изображение, полученное на аксонометрической плоскости в результате параллельного проецирования предмета вместе с системой координат, которое наглядно отображает его форм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3" name="Picture 6" descr="п2"/>
          <p:cNvPicPr/>
          <p:nvPr/>
        </p:nvPicPr>
        <p:blipFill>
          <a:blip r:embed="rId1"/>
          <a:stretch/>
        </p:blipFill>
        <p:spPr>
          <a:xfrm>
            <a:off x="6372360" y="765000"/>
            <a:ext cx="2236680" cy="26654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0"/>
          <p:cNvSpPr/>
          <p:nvPr/>
        </p:nvSpPr>
        <p:spPr>
          <a:xfrm>
            <a:off x="5570280" y="3645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Rectangle 87"/>
          <p:cNvSpPr/>
          <p:nvPr/>
        </p:nvSpPr>
        <p:spPr>
          <a:xfrm>
            <a:off x="5076720" y="3429000"/>
            <a:ext cx="3683160" cy="1917720"/>
          </a:xfrm>
          <a:prstGeom prst="rect">
            <a:avLst/>
          </a:prstGeom>
          <a:solidFill>
            <a:srgbClr val="c0b8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6778800" y="3468600"/>
            <a:ext cx="0" cy="9273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Line 21"/>
          <p:cNvSpPr/>
          <p:nvPr/>
        </p:nvSpPr>
        <p:spPr>
          <a:xfrm>
            <a:off x="7464600" y="4556160"/>
            <a:ext cx="450720" cy="247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Line 22"/>
          <p:cNvSpPr/>
          <p:nvPr/>
        </p:nvSpPr>
        <p:spPr>
          <a:xfrm flipV="1">
            <a:off x="5682960" y="4235040"/>
            <a:ext cx="1110240" cy="610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403320" y="3327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5411880" y="4654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AutoShape 55"/>
          <p:cNvSpPr/>
          <p:nvPr/>
        </p:nvSpPr>
        <p:spPr>
          <a:xfrm flipV="1" rot="3632400">
            <a:off x="5832720" y="4024800"/>
            <a:ext cx="1278000" cy="7207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AutoShape 58"/>
          <p:cNvSpPr/>
          <p:nvPr/>
        </p:nvSpPr>
        <p:spPr>
          <a:xfrm rot="21557400">
            <a:off x="6148440" y="3424320"/>
            <a:ext cx="1263600" cy="7714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AutoShape 61"/>
          <p:cNvSpPr/>
          <p:nvPr/>
        </p:nvSpPr>
        <p:spPr>
          <a:xfrm flipH="1" flipV="1" rot="17955600">
            <a:off x="6446880" y="3999240"/>
            <a:ext cx="1290600" cy="7318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Line 62"/>
          <p:cNvSpPr/>
          <p:nvPr/>
        </p:nvSpPr>
        <p:spPr>
          <a:xfrm>
            <a:off x="6816600" y="5788080"/>
            <a:ext cx="1092240" cy="571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Line 63"/>
          <p:cNvSpPr/>
          <p:nvPr/>
        </p:nvSpPr>
        <p:spPr>
          <a:xfrm flipV="1">
            <a:off x="5695560" y="5784120"/>
            <a:ext cx="1110240" cy="610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AutoShape 65"/>
          <p:cNvSpPr/>
          <p:nvPr/>
        </p:nvSpPr>
        <p:spPr>
          <a:xfrm rot="21557400">
            <a:off x="6154560" y="4973760"/>
            <a:ext cx="1263960" cy="7714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Line 68"/>
          <p:cNvSpPr/>
          <p:nvPr/>
        </p:nvSpPr>
        <p:spPr>
          <a:xfrm flipV="1">
            <a:off x="6146640" y="4190760"/>
            <a:ext cx="635040" cy="3682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Line 69"/>
          <p:cNvSpPr/>
          <p:nvPr/>
        </p:nvSpPr>
        <p:spPr>
          <a:xfrm flipH="1" flipV="1">
            <a:off x="6787800" y="4197240"/>
            <a:ext cx="647640" cy="317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Line 72"/>
          <p:cNvSpPr/>
          <p:nvPr/>
        </p:nvSpPr>
        <p:spPr>
          <a:xfrm flipH="1" flipV="1">
            <a:off x="6762240" y="3358800"/>
            <a:ext cx="25560" cy="793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Line 74"/>
          <p:cNvSpPr/>
          <p:nvPr/>
        </p:nvSpPr>
        <p:spPr>
          <a:xfrm flipV="1">
            <a:off x="6153120" y="3777840"/>
            <a:ext cx="0" cy="1562040"/>
          </a:xfrm>
          <a:prstGeom prst="line">
            <a:avLst/>
          </a:prstGeom>
          <a:ln w="9360">
            <a:solidFill>
              <a:srgbClr val="d46f64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Line 75"/>
          <p:cNvSpPr/>
          <p:nvPr/>
        </p:nvSpPr>
        <p:spPr>
          <a:xfrm flipH="1" flipV="1">
            <a:off x="7404120" y="3727440"/>
            <a:ext cx="38160" cy="1581120"/>
          </a:xfrm>
          <a:prstGeom prst="line">
            <a:avLst/>
          </a:prstGeom>
          <a:ln w="9360">
            <a:solidFill>
              <a:srgbClr val="d46f64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Line 76"/>
          <p:cNvSpPr/>
          <p:nvPr/>
        </p:nvSpPr>
        <p:spPr>
          <a:xfrm>
            <a:off x="6794640" y="4140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Text Box 78"/>
          <p:cNvSpPr/>
          <p:nvPr/>
        </p:nvSpPr>
        <p:spPr>
          <a:xfrm>
            <a:off x="7886520" y="6237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Line 79"/>
          <p:cNvSpPr/>
          <p:nvPr/>
        </p:nvSpPr>
        <p:spPr>
          <a:xfrm>
            <a:off x="6794640" y="4915080"/>
            <a:ext cx="0" cy="7556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Line 80"/>
          <p:cNvSpPr/>
          <p:nvPr/>
        </p:nvSpPr>
        <p:spPr>
          <a:xfrm flipV="1">
            <a:off x="6210360" y="5721120"/>
            <a:ext cx="622080" cy="361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Line 81"/>
          <p:cNvSpPr/>
          <p:nvPr/>
        </p:nvSpPr>
        <p:spPr>
          <a:xfrm>
            <a:off x="6800760" y="5734080"/>
            <a:ext cx="615960" cy="3301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Text Box 90"/>
          <p:cNvSpPr/>
          <p:nvPr/>
        </p:nvSpPr>
        <p:spPr>
          <a:xfrm>
            <a:off x="5117760" y="3363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Text Box 25"/>
          <p:cNvSpPr/>
          <p:nvPr/>
        </p:nvSpPr>
        <p:spPr>
          <a:xfrm>
            <a:off x="5437080" y="6237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Text Box 78"/>
          <p:cNvSpPr/>
          <p:nvPr/>
        </p:nvSpPr>
        <p:spPr>
          <a:xfrm>
            <a:off x="8069040" y="4827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AutoShape 64"/>
          <p:cNvSpPr/>
          <p:nvPr/>
        </p:nvSpPr>
        <p:spPr>
          <a:xfrm flipV="1" rot="3632400">
            <a:off x="5845680" y="5574240"/>
            <a:ext cx="1278000" cy="7207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AutoShape 66"/>
          <p:cNvSpPr/>
          <p:nvPr/>
        </p:nvSpPr>
        <p:spPr>
          <a:xfrm flipH="1" flipV="1" rot="17955600">
            <a:off x="6478560" y="5548680"/>
            <a:ext cx="1290600" cy="7318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Line 80"/>
          <p:cNvSpPr/>
          <p:nvPr/>
        </p:nvSpPr>
        <p:spPr>
          <a:xfrm flipV="1">
            <a:off x="6156360" y="5805360"/>
            <a:ext cx="622440" cy="3621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Line 81"/>
          <p:cNvSpPr/>
          <p:nvPr/>
        </p:nvSpPr>
        <p:spPr>
          <a:xfrm>
            <a:off x="6804000" y="5805360"/>
            <a:ext cx="615960" cy="3304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82764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2c23"/>
                </a:solidFill>
                <a:latin typeface="GOST type B"/>
              </a:rPr>
              <a:t>Происхождение наз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805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Само слово 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«аксонометрия»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происходит от греческих слов «аксон» -ось и «метрио»-измерять, то есть дословно оно переводится так:</a:t>
            </a:r>
            <a:r>
              <a:rPr b="0" i="1" lang="ru-RU" sz="2000" spc="-1" strike="noStrike">
                <a:solidFill>
                  <a:srgbClr val="003366"/>
                </a:solidFill>
                <a:latin typeface="GOST type B"/>
              </a:rPr>
              <a:t> «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измерение по осям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f2c23"/>
                </a:solidFill>
                <a:uFillTx/>
                <a:latin typeface="GOST type B"/>
              </a:rPr>
              <a:t>Изометрическо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й</a:t>
            </a:r>
            <a:r>
              <a:rPr b="0" i="1" lang="ru-RU" sz="2400" spc="-1" strike="noStrike">
                <a:solidFill>
                  <a:srgbClr val="ff5050"/>
                </a:solidFill>
                <a:latin typeface="GOST type B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(от греческого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isos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–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 одинаковый или равный),по всем трем осям  размеры  откладывают 1: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f2c23"/>
                </a:solidFill>
                <a:uFillTx/>
                <a:latin typeface="GOST type B"/>
              </a:rPr>
              <a:t>Диметрической</a:t>
            </a:r>
            <a:r>
              <a:rPr b="0" i="1" lang="ru-RU" sz="2400" spc="-1" strike="noStrike" u="sng">
                <a:solidFill>
                  <a:srgbClr val="ff5050"/>
                </a:solidFill>
                <a:uFillTx/>
                <a:latin typeface="GOST type B"/>
              </a:rPr>
              <a:t> 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(от греческого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di-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двойной),      по двум осям размеры  откладывают 1:1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GOST type B"/>
              </a:rPr>
              <a:t>( по оси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GOST type B"/>
              </a:rPr>
              <a:t>Y-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GOST type B"/>
              </a:rPr>
              <a:t> размеры в два раза меньш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7360" y="142308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и диметрической проекции располагаются так: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x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- горизонтально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вертикально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y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под углом 45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º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Picture 32" descr="3"/>
          <p:cNvPicPr/>
          <p:nvPr/>
        </p:nvPicPr>
        <p:blipFill>
          <a:blip r:embed="rId1"/>
          <a:stretch/>
        </p:blipFill>
        <p:spPr>
          <a:xfrm>
            <a:off x="971640" y="2637000"/>
            <a:ext cx="3887640" cy="33699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26920" y="6165720"/>
            <a:ext cx="7693200" cy="1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9" name="Picture 34" descr="5"/>
          <p:cNvPicPr/>
          <p:nvPr/>
        </p:nvPicPr>
        <p:blipFill>
          <a:blip r:embed="rId2"/>
          <a:stretch/>
        </p:blipFill>
        <p:spPr>
          <a:xfrm>
            <a:off x="5070600" y="3095640"/>
            <a:ext cx="346212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27640" y="148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построении осей изометрической проекции ось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асположена вертикально, а ос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составляют с ней углы равные 120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º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61" name="Picture 8" descr="0111"/>
          <p:cNvPicPr/>
          <p:nvPr/>
        </p:nvPicPr>
        <p:blipFill>
          <a:blip r:embed="rId1"/>
          <a:stretch/>
        </p:blipFill>
        <p:spPr>
          <a:xfrm>
            <a:off x="2206800" y="2362320"/>
            <a:ext cx="4954320" cy="3724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изометрических осей происходит так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вертикальной ос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берем точку О и проводим дугу произвольного радиуса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 точки пересечения дуги с продолжением ос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водим дугу того же радиуса до пересечения с первой дугой в точках 1 и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единив точку О с точками 1 и 2 получаем направление ос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4" name="Picture 9" descr="10"/>
          <p:cNvPicPr/>
          <p:nvPr/>
        </p:nvPicPr>
        <p:blipFill>
          <a:blip r:embed="rId1"/>
          <a:stretch/>
        </p:blipFill>
        <p:spPr>
          <a:xfrm>
            <a:off x="4761000" y="2967120"/>
            <a:ext cx="377028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всех аксонометрических проекций установлены общие прави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ь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гда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вертикаль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измерения выполняются только по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аксонометрическим осям или прямым, параллельным 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прямые линии,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араллельные друг другу или осям координа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а комплексном чертеже, в аксонометрических проекциях остаются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араллельными между собой и соответствующим аксонометрическим ос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75160" y="229320"/>
            <a:ext cx="769788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6932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смотрим алгоритм построения аксонометрических проекций плоскогранных предм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792360" y="248040"/>
            <a:ext cx="7552440" cy="25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строение осей изометрической проекции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0" name="Rectangle 4" descr=""/>
          <p:cNvPicPr/>
          <p:nvPr/>
        </p:nvPicPr>
        <p:blipFill>
          <a:blip r:embed="rId1"/>
          <a:stretch/>
        </p:blipFill>
        <p:spPr>
          <a:xfrm>
            <a:off x="969840" y="4743360"/>
            <a:ext cx="4503960" cy="1816200"/>
          </a:xfrm>
          <a:prstGeom prst="rect">
            <a:avLst/>
          </a:prstGeom>
          <a:ln w="0">
            <a:noFill/>
          </a:ln>
        </p:spPr>
      </p:pic>
      <p:pic>
        <p:nvPicPr>
          <p:cNvPr id="771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8" descr=""/>
          <p:cNvPicPr/>
          <p:nvPr/>
        </p:nvPicPr>
        <p:blipFill>
          <a:blip r:embed="rId3"/>
          <a:stretch/>
        </p:blipFill>
        <p:spPr>
          <a:xfrm>
            <a:off x="6473880" y="1650960"/>
            <a:ext cx="2670120" cy="1778040"/>
          </a:xfrm>
          <a:prstGeom prst="rect">
            <a:avLst/>
          </a:prstGeom>
          <a:ln w="0">
            <a:noFill/>
          </a:ln>
        </p:spPr>
      </p:pic>
      <p:pic>
        <p:nvPicPr>
          <p:cNvPr id="773" name="Рисунок 10" descr=""/>
          <p:cNvPicPr/>
          <p:nvPr/>
        </p:nvPicPr>
        <p:blipFill>
          <a:blip r:embed="rId4"/>
          <a:stretch/>
        </p:blipFill>
        <p:spPr>
          <a:xfrm>
            <a:off x="1407960" y="2679840"/>
            <a:ext cx="316404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6:01:50Z</dcterms:created>
  <dc:creator>Айслу</dc:creator>
  <dc:description/>
  <dc:language>en-US</dc:language>
  <cp:lastModifiedBy>Секретарь</cp:lastModifiedBy>
  <dcterms:modified xsi:type="dcterms:W3CDTF">2022-02-10T09:28:27Z</dcterms:modified>
  <cp:revision>42</cp:revision>
  <dc:subject/>
  <dc:title>Слайд 1</dc:title>
</cp:coreProperties>
</file>