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9CD8-3C02-47E3-96E5-3299D97DE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DE79-98DB-4150-9833-FB33C1D337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104-BA15-4F89-A08F-68F300C8D8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559-B411-4712-BF04-44209E4A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A89-574C-4ECE-9A64-0FEDDD7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238-20B7-44CA-B1AB-240B06AE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B4F-66E6-47C2-B6CC-928387A0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46B-2E15-47A1-8615-CEE34CE5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E6B-CE22-4A6E-8E57-B2D2EC0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27C-EA6A-458A-81E2-47EC99A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918-8C87-4DA6-BE83-2F1BF63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6DF-B970-442C-B96E-217A64F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411-DC24-4B52-962E-D18D535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593-40B7-4C7C-A834-D5A71C9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5B5-8510-4E82-A785-46EE2A3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5CDE-28F8-4108-A557-DCA2A36B86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3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675"/>
          <p:cNvPicPr/>
          <p:nvPr/>
        </p:nvPicPr>
        <p:blipFill>
          <a:blip r:embed="rId1"/>
          <a:stretch/>
        </p:blipFill>
        <p:spPr>
          <a:xfrm>
            <a:off x="4157640" y="85680"/>
            <a:ext cx="5095800" cy="3651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2268360" y="4437000"/>
            <a:ext cx="4864320" cy="14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0" y="3143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84807"/>
                </a:solidFill>
                <a:latin typeface="Bookman Old Style"/>
              </a:rPr>
              <a:t>Обыкновен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20" y="4357800"/>
            <a:ext cx="8358120" cy="142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2"/>
          <p:cNvSpPr/>
          <p:nvPr/>
        </p:nvSpPr>
        <p:spPr>
          <a:xfrm>
            <a:off x="0" y="23335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альянский математик 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онардо Пизанский (Фибоначчи)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02</a:t>
            </a: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ffibonachi"/>
          <p:cNvPicPr/>
          <p:nvPr/>
        </p:nvPicPr>
        <p:blipFill>
          <a:blip r:embed="rId1"/>
          <a:stretch/>
        </p:blipFill>
        <p:spPr>
          <a:xfrm>
            <a:off x="5005440" y="2597040"/>
            <a:ext cx="3693960" cy="7425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-285840" y="0"/>
            <a:ext cx="942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b0f0"/>
                </a:solidFill>
                <a:uFillTx/>
                <a:latin typeface="Arial Black"/>
              </a:rPr>
              <a:t>Первым ученым средневековья, который  ввёл дробную черту, бы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одзаголовок 2" descr=""/>
          <p:cNvPicPr/>
          <p:nvPr/>
        </p:nvPicPr>
        <p:blipFill>
          <a:blip r:embed="rId1"/>
          <a:stretch/>
        </p:blipFill>
        <p:spPr>
          <a:xfrm>
            <a:off x="2651040" y="512640"/>
            <a:ext cx="2859120" cy="2419560"/>
          </a:xfrm>
          <a:prstGeom prst="rect">
            <a:avLst/>
          </a:prstGeom>
          <a:ln w="0">
            <a:noFill/>
          </a:ln>
        </p:spPr>
      </p:pic>
      <p:pic>
        <p:nvPicPr>
          <p:cNvPr id="157" name="Подзаголовок 2" descr=""/>
          <p:cNvPicPr/>
          <p:nvPr/>
        </p:nvPicPr>
        <p:blipFill>
          <a:blip r:embed="rId2"/>
          <a:stretch/>
        </p:blipFill>
        <p:spPr>
          <a:xfrm>
            <a:off x="2724120" y="3511440"/>
            <a:ext cx="2859120" cy="2328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928880" y="3000240"/>
            <a:ext cx="4286160" cy="642960"/>
          </a:xfrm>
          <a:prstGeom prst="rect">
            <a:avLst/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2857680"/>
            <a:ext cx="5643720" cy="1071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обная чер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одзаголовок 2" descr=""/>
          <p:cNvPicPr/>
          <p:nvPr/>
        </p:nvPicPr>
        <p:blipFill>
          <a:blip r:embed="rId3"/>
          <a:stretch/>
        </p:blipFill>
        <p:spPr>
          <a:xfrm>
            <a:off x="1066680" y="208080"/>
            <a:ext cx="6156360" cy="2369880"/>
          </a:xfrm>
          <a:prstGeom prst="rect">
            <a:avLst/>
          </a:prstGeom>
          <a:ln w="0">
            <a:noFill/>
          </a:ln>
        </p:spPr>
      </p:pic>
      <p:pic>
        <p:nvPicPr>
          <p:cNvPr id="161" name="Подзаголовок 2" descr=""/>
          <p:cNvPicPr/>
          <p:nvPr/>
        </p:nvPicPr>
        <p:blipFill>
          <a:blip r:embed="rId4"/>
          <a:stretch/>
        </p:blipFill>
        <p:spPr>
          <a:xfrm>
            <a:off x="420840" y="4206960"/>
            <a:ext cx="7613640" cy="2333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2"/>
          <p:cNvSpPr/>
          <p:nvPr/>
        </p:nvSpPr>
        <p:spPr>
          <a:xfrm>
            <a:off x="5214960" y="1571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лей взя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5214960" y="43578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долей дел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8500"/>
                            </p:stCondLst>
                            <p:childTnLst>
                              <p:par>
                                <p:cTn id="5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500"/>
                            </p:stCondLst>
                            <p:childTnLst>
                              <p:par>
                                <p:cTn id="5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 Black"/>
              </a:rPr>
              <a:t>Запомн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 чтении дробей надо помн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ислитель дроби – количественное числительное женского рода (одна, две, три, четыре и т.д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знаменатель – порядковое числительное (восьмая, сорок первая, двести пятая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3000240" y="4929120"/>
            <a:ext cx="1000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дзаголовок 2"/>
          <p:cNvSpPr/>
          <p:nvPr/>
        </p:nvSpPr>
        <p:spPr>
          <a:xfrm>
            <a:off x="3071880" y="5715000"/>
            <a:ext cx="78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 Black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1"/>
          <p:cNvSpPr/>
          <p:nvPr/>
        </p:nvSpPr>
        <p:spPr>
          <a:xfrm>
            <a:off x="3000240" y="5715000"/>
            <a:ext cx="928800" cy="144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4357800" y="5286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ять де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62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86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860"/>
                            </p:stCondLst>
                            <p:childTnLst>
                              <p:par>
                                <p:cTn id="6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860"/>
                            </p:stCondLst>
                            <p:childTnLst>
                              <p:par>
                                <p:cTn id="6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8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8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1"/>
          <p:cNvSpPr/>
          <p:nvPr/>
        </p:nvSpPr>
        <p:spPr>
          <a:xfrm>
            <a:off x="0" y="714240"/>
            <a:ext cx="851544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. Какую долю  тонны составляет килограмм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Б)                    В)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73080"/>
            <a:ext cx="8442360" cy="66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1214280" y="2071800"/>
                <a:ext cx="513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357720" y="2071800"/>
                <a:ext cx="666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000840" y="2043000"/>
                <a:ext cx="928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Прямоугольник 6"/>
          <p:cNvSpPr/>
          <p:nvPr/>
        </p:nvSpPr>
        <p:spPr>
          <a:xfrm>
            <a:off x="0" y="307188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. Как называется десятая  доля   сантимет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етр       Б)  дециметр  В) милл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4575960"/>
            <a:ext cx="8242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. Сколько сантиметров составляе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"/>
              <p:cNvSpPr txBox="1"/>
              <p:nvPr/>
            </p:nvSpPr>
            <p:spPr>
              <a:xfrm>
                <a:off x="7715160" y="4929120"/>
                <a:ext cx="36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Прямоугольник 4"/>
          <p:cNvSpPr/>
          <p:nvPr/>
        </p:nvSpPr>
        <p:spPr>
          <a:xfrm>
            <a:off x="8220240" y="507204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4200" y="58597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 см      Б)  20 см           В) 2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72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22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72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2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24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4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86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16920"/>
            <a:ext cx="9169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Круг разделили на шесть равных до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 доли покрасили.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акая часть круга осталась не покрашенн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     Б)                      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785880" y="1571760"/>
                <a:ext cx="4284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643200" y="1571760"/>
                <a:ext cx="500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"/>
              <p:cNvSpPr txBox="1"/>
              <p:nvPr/>
            </p:nvSpPr>
            <p:spPr>
              <a:xfrm>
                <a:off x="6429240" y="1571760"/>
                <a:ext cx="4287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1"/>
          <p:cNvSpPr/>
          <p:nvPr/>
        </p:nvSpPr>
        <p:spPr>
          <a:xfrm>
            <a:off x="29520" y="2933280"/>
            <a:ext cx="79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5. Как называется тысячная  доля то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илограмм     Б)  грамм         В) цент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0" y="407196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. Сколько метров 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м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000680" y="4071960"/>
                <a:ext cx="28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8"/>
          <p:cNvSpPr/>
          <p:nvPr/>
        </p:nvSpPr>
        <p:spPr>
          <a:xfrm>
            <a:off x="0" y="48578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 м                Б)  200 м           В)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0" y="550080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. Как   называется   тысячная доля метр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0" y="607392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антиметр        Б)  дециметр      В) милл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92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42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92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2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6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115920"/>
            <a:ext cx="844236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Таблица 2" descr=""/>
          <p:cNvPicPr/>
          <p:nvPr/>
        </p:nvPicPr>
        <p:blipFill>
          <a:blip r:embed="rId2"/>
          <a:stretch/>
        </p:blipFill>
        <p:spPr>
          <a:xfrm>
            <a:off x="139680" y="701640"/>
            <a:ext cx="8791560" cy="33037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3"/>
          <p:cNvSpPr/>
          <p:nvPr/>
        </p:nvSpPr>
        <p:spPr>
          <a:xfrm>
            <a:off x="214200" y="4071960"/>
            <a:ext cx="8572680" cy="3201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ОЦЕНИ СВОЮ РАБОТУ!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ритерии оценок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7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«5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6 правильных ответов – </a:t>
            </a:r>
            <a:r>
              <a:rPr b="1" lang="ru-RU" sz="32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«4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5 правильных ответов – </a:t>
            </a:r>
            <a:r>
              <a:rPr b="1" lang="ru-RU" sz="32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«3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2"/>
          <p:cNvSpPr/>
          <p:nvPr/>
        </p:nvSpPr>
        <p:spPr>
          <a:xfrm>
            <a:off x="875880" y="0"/>
            <a:ext cx="76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onotype Corsiva"/>
              </a:rPr>
              <a:t>Укажите дробью часть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1"/>
          <a:srcRect l="61963" t="46073" r="8352" b="20432"/>
          <a:stretch/>
        </p:blipFill>
        <p:spPr>
          <a:xfrm>
            <a:off x="6207120" y="385776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rcRect l="0" t="0" r="71567" b="58314"/>
          <a:stretch/>
        </p:blipFill>
        <p:spPr>
          <a:xfrm>
            <a:off x="372960" y="857160"/>
            <a:ext cx="2132280" cy="207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"/>
          <p:cNvPicPr/>
          <p:nvPr/>
        </p:nvPicPr>
        <p:blipFill>
          <a:blip r:embed="rId3"/>
          <a:srcRect l="28439" t="0" r="39091" b="59711"/>
          <a:stretch/>
        </p:blipFill>
        <p:spPr>
          <a:xfrm>
            <a:off x="3214800" y="857160"/>
            <a:ext cx="251136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" descr=""/>
          <p:cNvPicPr/>
          <p:nvPr/>
        </p:nvPicPr>
        <p:blipFill>
          <a:blip r:embed="rId4"/>
          <a:srcRect l="60914" t="0" r="1977" b="52728"/>
          <a:stretch/>
        </p:blipFill>
        <p:spPr>
          <a:xfrm>
            <a:off x="6373800" y="857160"/>
            <a:ext cx="2436840" cy="206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5"/>
          <a:srcRect l="1426" t="41694" r="74347" b="19224"/>
          <a:stretch/>
        </p:blipFill>
        <p:spPr>
          <a:xfrm>
            <a:off x="444600" y="3857760"/>
            <a:ext cx="2071440" cy="207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" descr=""/>
          <p:cNvPicPr/>
          <p:nvPr/>
        </p:nvPicPr>
        <p:blipFill>
          <a:blip r:embed="rId6"/>
          <a:srcRect l="25658" t="41694" r="37239" b="19224"/>
          <a:stretch/>
        </p:blipFill>
        <p:spPr>
          <a:xfrm>
            <a:off x="3106800" y="3857760"/>
            <a:ext cx="2786040" cy="2071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0"/>
          <p:cNvSpPr/>
          <p:nvPr/>
        </p:nvSpPr>
        <p:spPr>
          <a:xfrm>
            <a:off x="428760" y="8571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2f12"/>
                </a:solidFill>
                <a:latin typeface="Arial Blac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3143160" y="785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357120" y="37148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3000240" y="37148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6215040" y="37148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6572160" y="785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6"/>
          <p:cNvSpPr/>
          <p:nvPr/>
        </p:nvSpPr>
        <p:spPr>
          <a:xfrm>
            <a:off x="993960" y="3000240"/>
            <a:ext cx="73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Закрашенную синим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507960" y="3000240"/>
            <a:ext cx="79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крашенную красным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1435320" y="307188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е закрашенную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285840" y="928800"/>
          <a:ext cx="8501040" cy="5064120"/>
        </p:xfrm>
        <a:graphic>
          <a:graphicData uri="http://schemas.openxmlformats.org/drawingml/2006/table">
            <a:tbl>
              <a:tblPr/>
              <a:tblGrid>
                <a:gridCol w="3416040"/>
                <a:gridCol w="881280"/>
                <a:gridCol w="703080"/>
                <a:gridCol w="863640"/>
                <a:gridCol w="881280"/>
                <a:gridCol w="880920"/>
                <a:gridCol w="874800"/>
              </a:tblGrid>
              <a:tr h="51408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Закрашенн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Сини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цве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Закрашенную красным цве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Не закрашенную цве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115920"/>
            <a:ext cx="8442360" cy="8906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3929040" y="164304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2"/>
          <p:cNvSpPr/>
          <p:nvPr/>
        </p:nvSpPr>
        <p:spPr>
          <a:xfrm>
            <a:off x="392904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4500720" y="164304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4"/>
          <p:cNvSpPr/>
          <p:nvPr/>
        </p:nvSpPr>
        <p:spPr>
          <a:xfrm>
            <a:off x="471492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6357960" y="314316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6"/>
          <p:cNvSpPr/>
          <p:nvPr/>
        </p:nvSpPr>
        <p:spPr>
          <a:xfrm>
            <a:off x="6357960" y="357192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5357880" y="314316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8"/>
          <p:cNvSpPr/>
          <p:nvPr/>
        </p:nvSpPr>
        <p:spPr>
          <a:xfrm>
            <a:off x="5500800" y="357192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9"/>
          <p:cNvSpPr/>
          <p:nvPr/>
        </p:nvSpPr>
        <p:spPr>
          <a:xfrm>
            <a:off x="4572000" y="314316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0"/>
          <p:cNvSpPr/>
          <p:nvPr/>
        </p:nvSpPr>
        <p:spPr>
          <a:xfrm>
            <a:off x="4786200" y="357192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4000680" y="314316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22"/>
          <p:cNvSpPr/>
          <p:nvPr/>
        </p:nvSpPr>
        <p:spPr>
          <a:xfrm>
            <a:off x="392904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3929040" y="464328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24"/>
          <p:cNvSpPr/>
          <p:nvPr/>
        </p:nvSpPr>
        <p:spPr>
          <a:xfrm>
            <a:off x="4000680" y="357192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5"/>
          <p:cNvSpPr/>
          <p:nvPr/>
        </p:nvSpPr>
        <p:spPr>
          <a:xfrm>
            <a:off x="4429080" y="464328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6"/>
          <p:cNvSpPr/>
          <p:nvPr/>
        </p:nvSpPr>
        <p:spPr>
          <a:xfrm>
            <a:off x="464328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7"/>
          <p:cNvSpPr/>
          <p:nvPr/>
        </p:nvSpPr>
        <p:spPr>
          <a:xfrm>
            <a:off x="5286240" y="464328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8"/>
          <p:cNvSpPr/>
          <p:nvPr/>
        </p:nvSpPr>
        <p:spPr>
          <a:xfrm>
            <a:off x="5500800" y="507204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9"/>
          <p:cNvSpPr/>
          <p:nvPr/>
        </p:nvSpPr>
        <p:spPr>
          <a:xfrm>
            <a:off x="6357960" y="464328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30"/>
          <p:cNvSpPr/>
          <p:nvPr/>
        </p:nvSpPr>
        <p:spPr>
          <a:xfrm>
            <a:off x="635796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1"/>
          <p:cNvSpPr/>
          <p:nvPr/>
        </p:nvSpPr>
        <p:spPr>
          <a:xfrm>
            <a:off x="6786720" y="464328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32"/>
          <p:cNvSpPr/>
          <p:nvPr/>
        </p:nvSpPr>
        <p:spPr>
          <a:xfrm>
            <a:off x="7286760" y="507204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3"/>
          <p:cNvSpPr/>
          <p:nvPr/>
        </p:nvSpPr>
        <p:spPr>
          <a:xfrm>
            <a:off x="8143920" y="464328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4"/>
          <p:cNvSpPr/>
          <p:nvPr/>
        </p:nvSpPr>
        <p:spPr>
          <a:xfrm>
            <a:off x="814392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5"/>
          <p:cNvSpPr/>
          <p:nvPr/>
        </p:nvSpPr>
        <p:spPr>
          <a:xfrm>
            <a:off x="5357880" y="164304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6"/>
          <p:cNvSpPr/>
          <p:nvPr/>
        </p:nvSpPr>
        <p:spPr>
          <a:xfrm>
            <a:off x="5500800" y="207180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7"/>
          <p:cNvSpPr/>
          <p:nvPr/>
        </p:nvSpPr>
        <p:spPr>
          <a:xfrm>
            <a:off x="6286680" y="164304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8"/>
          <p:cNvSpPr/>
          <p:nvPr/>
        </p:nvSpPr>
        <p:spPr>
          <a:xfrm>
            <a:off x="6286680" y="207180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9"/>
          <p:cNvSpPr/>
          <p:nvPr/>
        </p:nvSpPr>
        <p:spPr>
          <a:xfrm>
            <a:off x="6929280" y="164304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0"/>
          <p:cNvSpPr/>
          <p:nvPr/>
        </p:nvSpPr>
        <p:spPr>
          <a:xfrm>
            <a:off x="721512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1"/>
          <p:cNvSpPr/>
          <p:nvPr/>
        </p:nvSpPr>
        <p:spPr>
          <a:xfrm>
            <a:off x="8072280" y="164304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2"/>
          <p:cNvSpPr/>
          <p:nvPr/>
        </p:nvSpPr>
        <p:spPr>
          <a:xfrm>
            <a:off x="814392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7215120" y="314316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4"/>
          <p:cNvSpPr/>
          <p:nvPr/>
        </p:nvSpPr>
        <p:spPr>
          <a:xfrm>
            <a:off x="7286760" y="357192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5"/>
          <p:cNvSpPr/>
          <p:nvPr/>
        </p:nvSpPr>
        <p:spPr>
          <a:xfrm>
            <a:off x="8143920" y="314316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6"/>
          <p:cNvSpPr/>
          <p:nvPr/>
        </p:nvSpPr>
        <p:spPr>
          <a:xfrm>
            <a:off x="8143920" y="357192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357120" y="285840"/>
            <a:ext cx="8501040" cy="3201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ОЦЕНИ СВОЮ РАБОТУ!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ритерии оценок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18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«5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15-17 правильных ответов – </a:t>
            </a:r>
            <a:r>
              <a:rPr b="1" lang="ru-RU" sz="32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«4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12-14 правильных ответов – </a:t>
            </a:r>
            <a:r>
              <a:rPr b="1" lang="ru-RU" sz="32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«3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Таблица 3" descr=""/>
          <p:cNvPicPr/>
          <p:nvPr/>
        </p:nvPicPr>
        <p:blipFill>
          <a:blip r:embed="rId1"/>
          <a:stretch/>
        </p:blipFill>
        <p:spPr>
          <a:xfrm>
            <a:off x="785880" y="3981600"/>
            <a:ext cx="7858080" cy="27367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2143080" y="321480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Monotype Corsiva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8869320" cy="3047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4500720" y="5286240"/>
            <a:ext cx="32144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4500720" y="121428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Егип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4026240" y="2000160"/>
            <a:ext cx="4176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Вави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4500720" y="450072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яя 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4500720" y="278604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Ки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4500720" y="364320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яя И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4500720" y="599760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об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алее 26">
            <a:hlinkClick r:id="rId2" action="ppaction://hlinksldjump"/>
          </p:cNvPr>
          <p:cNvSpPr/>
          <p:nvPr/>
        </p:nvSpPr>
        <p:spPr>
          <a:xfrm>
            <a:off x="7929720" y="6143760"/>
            <a:ext cx="299880" cy="29988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7">
            <a:hlinkClick r:id="rId3" action="ppaction://hlinksldjump"/>
          </p:cNvPr>
          <p:cNvSpPr/>
          <p:nvPr/>
        </p:nvSpPr>
        <p:spPr>
          <a:xfrm>
            <a:off x="7929720" y="2928960"/>
            <a:ext cx="299880" cy="29988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далее 28">
            <a:hlinkClick r:id="rId4" action="ppaction://hlinksldjump"/>
          </p:cNvPr>
          <p:cNvSpPr/>
          <p:nvPr/>
        </p:nvSpPr>
        <p:spPr>
          <a:xfrm>
            <a:off x="7929720" y="542916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29">
            <a:hlinkClick r:id="rId5" action="ppaction://hlinksldjump"/>
          </p:cNvPr>
          <p:cNvSpPr/>
          <p:nvPr/>
        </p:nvSpPr>
        <p:spPr>
          <a:xfrm>
            <a:off x="7929720" y="464328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правляющая кнопка: далее 30">
            <a:hlinkClick r:id="rId6" action="ppaction://hlinksldjump"/>
          </p:cNvPr>
          <p:cNvSpPr/>
          <p:nvPr/>
        </p:nvSpPr>
        <p:spPr>
          <a:xfrm>
            <a:off x="7929720" y="214308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далее 31">
            <a:hlinkClick r:id="rId7" action="ppaction://hlinksldjump"/>
          </p:cNvPr>
          <p:cNvSpPr/>
          <p:nvPr/>
        </p:nvSpPr>
        <p:spPr>
          <a:xfrm>
            <a:off x="7929720" y="378612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алее 32">
            <a:hlinkClick r:id="rId8" action="ppaction://hlinksldjump"/>
          </p:cNvPr>
          <p:cNvSpPr/>
          <p:nvPr/>
        </p:nvSpPr>
        <p:spPr>
          <a:xfrm>
            <a:off x="7929720" y="1428840"/>
            <a:ext cx="299880" cy="29988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3" descr="http://donial.ucoz.ru/image/fractions.jpg"/>
          <p:cNvPicPr/>
          <p:nvPr/>
        </p:nvPicPr>
        <p:blipFill>
          <a:blip r:embed="rId9"/>
          <a:stretch/>
        </p:blipFill>
        <p:spPr>
          <a:xfrm>
            <a:off x="500040" y="1214280"/>
            <a:ext cx="3929040" cy="542952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далее 18"/>
          <p:cNvSpPr/>
          <p:nvPr/>
        </p:nvSpPr>
        <p:spPr>
          <a:xfrm>
            <a:off x="8429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http://schools.keldysh.ru/sch1905/drobi/anim2.gif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1500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2000160" y="4393440"/>
            <a:ext cx="3714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16" descr=""/>
          <p:cNvPicPr/>
          <p:nvPr/>
        </p:nvPicPr>
        <p:blipFill>
          <a:blip r:embed="rId2"/>
          <a:stretch/>
        </p:blipFill>
        <p:spPr>
          <a:xfrm>
            <a:off x="-128520" y="-60480"/>
            <a:ext cx="7419960" cy="1024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7" descr="C:\Documents and Settings\Admin\Мои документы\Мои рисунки\i.png"/>
          <p:cNvPicPr/>
          <p:nvPr/>
        </p:nvPicPr>
        <p:blipFill>
          <a:blip r:embed="rId3"/>
          <a:stretch/>
        </p:blipFill>
        <p:spPr>
          <a:xfrm>
            <a:off x="2143080" y="3429000"/>
            <a:ext cx="3500640" cy="858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4" descr="Aa13"/>
          <p:cNvPicPr/>
          <p:nvPr/>
        </p:nvPicPr>
        <p:blipFill>
          <a:blip r:embed="rId4"/>
          <a:stretch/>
        </p:blipFill>
        <p:spPr>
          <a:xfrm>
            <a:off x="285840" y="2585880"/>
            <a:ext cx="649080" cy="12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5" descr="= \frac{1}{3}"/>
          <p:cNvPicPr/>
          <p:nvPr/>
        </p:nvPicPr>
        <p:blipFill>
          <a:blip r:embed="rId5"/>
          <a:stretch/>
        </p:blipFill>
        <p:spPr>
          <a:xfrm>
            <a:off x="1214280" y="3071880"/>
            <a:ext cx="571680" cy="674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6" descr="D21"/>
          <p:cNvPicPr/>
          <p:nvPr/>
        </p:nvPicPr>
        <p:blipFill>
          <a:blip r:embed="rId6"/>
          <a:stretch/>
        </p:blipFill>
        <p:spPr>
          <a:xfrm>
            <a:off x="285840" y="5734080"/>
            <a:ext cx="669960" cy="182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7" descr="V20"/>
          <p:cNvPicPr/>
          <p:nvPr/>
        </p:nvPicPr>
        <p:blipFill>
          <a:blip r:embed="rId7"/>
          <a:stretch/>
        </p:blipFill>
        <p:spPr>
          <a:xfrm>
            <a:off x="571680" y="6024600"/>
            <a:ext cx="215640" cy="218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8" descr="= \frac{1}{10}"/>
          <p:cNvPicPr/>
          <p:nvPr/>
        </p:nvPicPr>
        <p:blipFill>
          <a:blip r:embed="rId8"/>
          <a:stretch/>
        </p:blipFill>
        <p:spPr>
          <a:xfrm>
            <a:off x="1143000" y="5645160"/>
            <a:ext cx="749160" cy="693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9" descr="= \frac{1}{2}"/>
          <p:cNvPicPr/>
          <p:nvPr/>
        </p:nvPicPr>
        <p:blipFill>
          <a:blip r:embed="rId9"/>
          <a:stretch/>
        </p:blipFill>
        <p:spPr>
          <a:xfrm>
            <a:off x="1214280" y="2286000"/>
            <a:ext cx="57168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30" descr="D21"/>
          <p:cNvPicPr/>
          <p:nvPr/>
        </p:nvPicPr>
        <p:blipFill>
          <a:blip r:embed="rId10"/>
          <a:stretch/>
        </p:blipFill>
        <p:spPr>
          <a:xfrm>
            <a:off x="285840" y="3090960"/>
            <a:ext cx="669960" cy="1825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1" descr="Z1"/>
          <p:cNvPicPr/>
          <p:nvPr/>
        </p:nvPicPr>
        <p:blipFill>
          <a:blip r:embed="rId11"/>
          <a:stretch/>
        </p:blipFill>
        <p:spPr>
          <a:xfrm>
            <a:off x="571680" y="3386160"/>
            <a:ext cx="77760" cy="2728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32" descr="Z1"/>
          <p:cNvPicPr/>
          <p:nvPr/>
        </p:nvPicPr>
        <p:blipFill>
          <a:blip r:embed="rId12"/>
          <a:stretch/>
        </p:blipFill>
        <p:spPr>
          <a:xfrm>
            <a:off x="642960" y="3386160"/>
            <a:ext cx="77760" cy="272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3" descr="Z1"/>
          <p:cNvPicPr/>
          <p:nvPr/>
        </p:nvPicPr>
        <p:blipFill>
          <a:blip r:embed="rId13"/>
          <a:stretch/>
        </p:blipFill>
        <p:spPr>
          <a:xfrm>
            <a:off x="714240" y="3386160"/>
            <a:ext cx="77760" cy="272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4" descr="D22"/>
          <p:cNvPicPr/>
          <p:nvPr/>
        </p:nvPicPr>
        <p:blipFill>
          <a:blip r:embed="rId14"/>
          <a:stretch/>
        </p:blipFill>
        <p:spPr>
          <a:xfrm>
            <a:off x="285840" y="4102200"/>
            <a:ext cx="669960" cy="291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5" descr="= \frac{2}{3}"/>
          <p:cNvPicPr/>
          <p:nvPr/>
        </p:nvPicPr>
        <p:blipFill>
          <a:blip r:embed="rId15"/>
          <a:stretch/>
        </p:blipFill>
        <p:spPr>
          <a:xfrm>
            <a:off x="1214280" y="3929040"/>
            <a:ext cx="571680" cy="674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6" descr="D23"/>
          <p:cNvPicPr/>
          <p:nvPr/>
        </p:nvPicPr>
        <p:blipFill>
          <a:blip r:embed="rId16"/>
          <a:stretch/>
        </p:blipFill>
        <p:spPr>
          <a:xfrm>
            <a:off x="285840" y="4838760"/>
            <a:ext cx="669960" cy="492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7" descr="= \frac{3}{4}"/>
          <p:cNvPicPr/>
          <p:nvPr/>
        </p:nvPicPr>
        <p:blipFill>
          <a:blip r:embed="rId17"/>
          <a:stretch/>
        </p:blipFill>
        <p:spPr>
          <a:xfrm>
            <a:off x="1214280" y="4788000"/>
            <a:ext cx="571680" cy="693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2"/>
          <p:cNvSpPr/>
          <p:nvPr/>
        </p:nvSpPr>
        <p:spPr>
          <a:xfrm>
            <a:off x="0" y="8571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й последовали самые простые дроби, доли целого, называемые единичными или основными дроб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2084040" y="24289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Из Папируса Ри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8"/>
          <a:stretch/>
        </p:blipFill>
        <p:spPr>
          <a:xfrm>
            <a:off x="5786280" y="2214720"/>
            <a:ext cx="3162600" cy="421452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25"/>
          <p:cNvSpPr/>
          <p:nvPr/>
        </p:nvSpPr>
        <p:spPr>
          <a:xfrm>
            <a:off x="3571920" y="5643720"/>
            <a:ext cx="785880" cy="75708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2421" h="21600">
                <a:moveTo>
                  <a:pt x="0" y="0"/>
                </a:moveTo>
                <a:lnTo>
                  <a:pt x="22421" y="0"/>
                </a:lnTo>
                <a:lnTo>
                  <a:pt x="22421" y="21600"/>
                </a:lnTo>
                <a:lnTo>
                  <a:pt x="0" y="21600"/>
                </a:lnTo>
                <a:close/>
              </a:path>
              <a:path fill="lightenLess" w="22421" h="21600">
                <a:moveTo>
                  <a:pt x="0" y="0"/>
                </a:moveTo>
                <a:lnTo>
                  <a:pt x="22421" y="0"/>
                </a:lnTo>
                <a:lnTo>
                  <a:pt x="21021" y="1400"/>
                </a:lnTo>
                <a:lnTo>
                  <a:pt x="1400" y="1400"/>
                </a:lnTo>
                <a:close/>
              </a:path>
              <a:path fill="darken" w="22421" h="21600">
                <a:moveTo>
                  <a:pt x="22421" y="0"/>
                </a:moveTo>
                <a:lnTo>
                  <a:pt x="22421" y="21600"/>
                </a:lnTo>
                <a:lnTo>
                  <a:pt x="21021" y="20200"/>
                </a:lnTo>
                <a:lnTo>
                  <a:pt x="21021" y="1400"/>
                </a:lnTo>
                <a:close/>
              </a:path>
              <a:path fill="darkenLess" w="22421" h="21600">
                <a:moveTo>
                  <a:pt x="22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1" y="20200"/>
                </a:lnTo>
                <a:close/>
              </a:path>
              <a:path fill="lighten" w="22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1" h="21600">
                <a:moveTo>
                  <a:pt x="11211" y="3837"/>
                </a:moveTo>
                <a:lnTo>
                  <a:pt x="13787" y="6448"/>
                </a:ln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lnTo>
                  <a:pt x="18174" y="10800"/>
                </a:lnTo>
                <a:lnTo>
                  <a:pt x="16520" y="10800"/>
                </a:lnTo>
                <a:lnTo>
                  <a:pt x="16520" y="17989"/>
                </a:lnTo>
                <a:lnTo>
                  <a:pt x="5901" y="17989"/>
                </a:lnTo>
                <a:lnTo>
                  <a:pt x="5901" y="10800"/>
                </a:lnTo>
                <a:lnTo>
                  <a:pt x="4248" y="10800"/>
                </a:lnTo>
                <a:close/>
              </a:path>
              <a:path fill="darkenLess" w="22421" h="21600">
                <a:moveTo>
                  <a:pt x="13787" y="6448"/>
                </a:move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close/>
              </a:path>
              <a:path fill="darkenLess" w="22421" h="21600">
                <a:moveTo>
                  <a:pt x="10288" y="14299"/>
                </a:moveTo>
                <a:lnTo>
                  <a:pt x="12133" y="14299"/>
                </a:lnTo>
                <a:lnTo>
                  <a:pt x="12133" y="17989"/>
                </a:lnTo>
                <a:lnTo>
                  <a:pt x="16520" y="17989"/>
                </a:lnTo>
                <a:lnTo>
                  <a:pt x="16520" y="10800"/>
                </a:lnTo>
                <a:lnTo>
                  <a:pt x="5901" y="10800"/>
                </a:lnTo>
                <a:lnTo>
                  <a:pt x="5901" y="17989"/>
                </a:lnTo>
                <a:lnTo>
                  <a:pt x="10288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94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94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94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94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94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94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407880" y="2846520"/>
            <a:ext cx="3414960" cy="277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643800" y="4071960"/>
            <a:ext cx="221436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6"/>
          <p:cNvSpPr/>
          <p:nvPr/>
        </p:nvSpPr>
        <p:spPr>
          <a:xfrm>
            <a:off x="214200" y="0"/>
            <a:ext cx="48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 древнем Вавилоне </a:t>
            </a:r>
            <a:r>
              <a:rPr b="1" lang="ru-RU" sz="3600" spc="-1" strike="noStrike">
                <a:solidFill>
                  <a:srgbClr val="4a452a"/>
                </a:solidFill>
                <a:latin typeface="Monotype Corsiva"/>
              </a:rPr>
              <a:t>обнаружено большое количество клинописных математических табли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429080" y="2571840"/>
            <a:ext cx="4500720" cy="1618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шестидесятеричная нумерация вавилонян комбинировалась из двух знач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e2f12"/>
                </a:solidFill>
                <a:latin typeface="Monotype Corsiva"/>
                <a:ea typeface="Times New Roman"/>
              </a:rPr>
              <a:t>вертикального клина и углового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929120" y="285840"/>
            <a:ext cx="421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исхождение шестидесятеричной системы счисления  у вавилонян связано с денежной единиц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2f12"/>
                </a:solidFill>
                <a:latin typeface="Monotype Corsiva"/>
              </a:rPr>
              <a:t>1талант=6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2f12"/>
                </a:solidFill>
                <a:latin typeface="Monotype Corsiva"/>
              </a:rPr>
              <a:t>1 мина-60 ше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-285840" y="565776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т почему Вавилоняне пользовались шестидесятеричными дробями, имеющими знаменатель всегда</a:t>
            </a:r>
            <a:r>
              <a:rPr b="1" lang="ru-RU" sz="2400" spc="-1" strike="noStrike">
                <a:solidFill>
                  <a:srgbClr val="de2f12"/>
                </a:solidFill>
                <a:latin typeface="Monotype Corsiva"/>
              </a:rPr>
              <a:t>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8"/>
          <p:cNvSpPr/>
          <p:nvPr/>
        </p:nvSpPr>
        <p:spPr>
          <a:xfrm>
            <a:off x="5357880" y="5929200"/>
            <a:ext cx="785880" cy="7574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2411" h="21600">
                <a:moveTo>
                  <a:pt x="0" y="0"/>
                </a:moveTo>
                <a:lnTo>
                  <a:pt x="22411" y="0"/>
                </a:lnTo>
                <a:lnTo>
                  <a:pt x="22411" y="21600"/>
                </a:lnTo>
                <a:lnTo>
                  <a:pt x="0" y="21600"/>
                </a:lnTo>
                <a:close/>
              </a:path>
              <a:path fill="lightenLess" w="22411" h="21600">
                <a:moveTo>
                  <a:pt x="0" y="0"/>
                </a:moveTo>
                <a:lnTo>
                  <a:pt x="22411" y="0"/>
                </a:lnTo>
                <a:lnTo>
                  <a:pt x="21011" y="1400"/>
                </a:lnTo>
                <a:lnTo>
                  <a:pt x="1400" y="1400"/>
                </a:lnTo>
                <a:close/>
              </a:path>
              <a:path fill="darken" w="22411" h="21600">
                <a:moveTo>
                  <a:pt x="22411" y="0"/>
                </a:moveTo>
                <a:lnTo>
                  <a:pt x="22411" y="21600"/>
                </a:lnTo>
                <a:lnTo>
                  <a:pt x="21011" y="20200"/>
                </a:lnTo>
                <a:lnTo>
                  <a:pt x="21011" y="1400"/>
                </a:lnTo>
                <a:close/>
              </a:path>
              <a:path fill="darkenLess" w="22411" h="21600">
                <a:moveTo>
                  <a:pt x="2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1" y="20200"/>
                </a:lnTo>
                <a:close/>
              </a:path>
              <a:path fill="lighten" w="2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11" h="21600">
                <a:moveTo>
                  <a:pt x="11205" y="3837"/>
                </a:moveTo>
                <a:lnTo>
                  <a:pt x="13782" y="6448"/>
                </a:ln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lnTo>
                  <a:pt x="18168" y="10800"/>
                </a:lnTo>
                <a:lnTo>
                  <a:pt x="16515" y="10800"/>
                </a:lnTo>
                <a:lnTo>
                  <a:pt x="16515" y="17989"/>
                </a:lnTo>
                <a:lnTo>
                  <a:pt x="5896" y="17989"/>
                </a:lnTo>
                <a:lnTo>
                  <a:pt x="5896" y="10800"/>
                </a:lnTo>
                <a:lnTo>
                  <a:pt x="4242" y="10800"/>
                </a:lnTo>
                <a:close/>
              </a:path>
              <a:path fill="darkenLess" w="22411" h="21600">
                <a:moveTo>
                  <a:pt x="13782" y="6448"/>
                </a:move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close/>
              </a:path>
              <a:path fill="darkenLess" w="22411" h="21600">
                <a:moveTo>
                  <a:pt x="10283" y="14299"/>
                </a:moveTo>
                <a:lnTo>
                  <a:pt x="12128" y="14299"/>
                </a:lnTo>
                <a:lnTo>
                  <a:pt x="12128" y="17989"/>
                </a:lnTo>
                <a:lnTo>
                  <a:pt x="16515" y="17989"/>
                </a:lnTo>
                <a:lnTo>
                  <a:pt x="16515" y="10800"/>
                </a:lnTo>
                <a:lnTo>
                  <a:pt x="5896" y="10800"/>
                </a:lnTo>
                <a:lnTo>
                  <a:pt x="5896" y="17989"/>
                </a:lnTo>
                <a:lnTo>
                  <a:pt x="10283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34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94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94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94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94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714240" y="0"/>
            <a:ext cx="7286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м Китае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место дробной черты использовали 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точк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0040" y="2000160"/>
            <a:ext cx="164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"/>
          <p:cNvSpPr/>
          <p:nvPr/>
        </p:nvSpPr>
        <p:spPr>
          <a:xfrm>
            <a:off x="428760" y="2928960"/>
            <a:ext cx="857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"/>
          <p:cNvSpPr/>
          <p:nvPr/>
        </p:nvSpPr>
        <p:spPr>
          <a:xfrm>
            <a:off x="1571760" y="307188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5"/>
          <p:cNvSpPr/>
          <p:nvPr/>
        </p:nvSpPr>
        <p:spPr>
          <a:xfrm>
            <a:off x="1571760" y="27860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428920" y="2000160"/>
            <a:ext cx="164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2643120" y="285768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1" descr=""/>
          <p:cNvPicPr/>
          <p:nvPr/>
        </p:nvPicPr>
        <p:blipFill>
          <a:blip r:embed="rId1"/>
          <a:stretch/>
        </p:blipFill>
        <p:spPr>
          <a:xfrm>
            <a:off x="3638520" y="2127240"/>
            <a:ext cx="5372280" cy="234144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9"/>
          <p:cNvSpPr/>
          <p:nvPr/>
        </p:nvSpPr>
        <p:spPr>
          <a:xfrm>
            <a:off x="214200" y="6215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2"/>
          <p:cNvSpPr/>
          <p:nvPr/>
        </p:nvSpPr>
        <p:spPr>
          <a:xfrm>
            <a:off x="642960" y="50007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642960" y="450072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000080" y="4714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ба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6"/>
          <p:cNvSpPr/>
          <p:nvPr/>
        </p:nvSpPr>
        <p:spPr>
          <a:xfrm flipV="1">
            <a:off x="4857840" y="497844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4857840" y="4500720"/>
            <a:ext cx="35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5357880" y="450072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шао ба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(«малая половин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9"/>
          <p:cNvSpPr/>
          <p:nvPr/>
        </p:nvSpPr>
        <p:spPr>
          <a:xfrm>
            <a:off x="4857840" y="6143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4857840" y="5643720"/>
            <a:ext cx="35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5214960" y="564372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тао ба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(«большая половин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>
            <a:off x="642960" y="6143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642960" y="5643720"/>
            <a:ext cx="35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1000080" y="5929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(«слабая половин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обыкновенные дроби\p0039.png"/>
          <p:cNvPicPr/>
          <p:nvPr/>
        </p:nvPicPr>
        <p:blipFill>
          <a:blip r:embed="rId1"/>
          <a:stretch/>
        </p:blipFill>
        <p:spPr>
          <a:xfrm>
            <a:off x="5572080" y="4143240"/>
            <a:ext cx="3143160" cy="2500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571680" y="2357280"/>
            <a:ext cx="164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"/>
          <p:cNvSpPr/>
          <p:nvPr/>
        </p:nvSpPr>
        <p:spPr>
          <a:xfrm>
            <a:off x="571680" y="3857760"/>
            <a:ext cx="857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3"/>
          <p:cNvSpPr/>
          <p:nvPr/>
        </p:nvSpPr>
        <p:spPr>
          <a:xfrm>
            <a:off x="1714680" y="37148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"/>
          <p:cNvSpPr/>
          <p:nvPr/>
        </p:nvSpPr>
        <p:spPr>
          <a:xfrm>
            <a:off x="1714680" y="39290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500200" y="2357280"/>
            <a:ext cx="164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285840"/>
            <a:ext cx="7286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й Индии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аписывали дроби без дробной чер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571920" y="1857240"/>
            <a:ext cx="535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Широко известны математики древней Индии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Ариабхатта (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.), Брахмагупта (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VII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), изложившие правила действий с дробями, мало отличавшихся от наших, и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Бхаскара (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XII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.)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Последний написал книгу под названием 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«Лилавати»,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.е. «Прекрас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домой 9"/>
          <p:cNvSpPr/>
          <p:nvPr/>
        </p:nvSpPr>
        <p:spPr>
          <a:xfrm>
            <a:off x="500040" y="5572080"/>
            <a:ext cx="785880" cy="7574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2411" h="21600">
                <a:moveTo>
                  <a:pt x="0" y="0"/>
                </a:moveTo>
                <a:lnTo>
                  <a:pt x="22411" y="0"/>
                </a:lnTo>
                <a:lnTo>
                  <a:pt x="22411" y="21600"/>
                </a:lnTo>
                <a:lnTo>
                  <a:pt x="0" y="21600"/>
                </a:lnTo>
                <a:close/>
              </a:path>
              <a:path fill="lightenLess" w="22411" h="21600">
                <a:moveTo>
                  <a:pt x="0" y="0"/>
                </a:moveTo>
                <a:lnTo>
                  <a:pt x="22411" y="0"/>
                </a:lnTo>
                <a:lnTo>
                  <a:pt x="21011" y="1400"/>
                </a:lnTo>
                <a:lnTo>
                  <a:pt x="1400" y="1400"/>
                </a:lnTo>
                <a:close/>
              </a:path>
              <a:path fill="darken" w="22411" h="21600">
                <a:moveTo>
                  <a:pt x="22411" y="0"/>
                </a:moveTo>
                <a:lnTo>
                  <a:pt x="22411" y="21600"/>
                </a:lnTo>
                <a:lnTo>
                  <a:pt x="21011" y="20200"/>
                </a:lnTo>
                <a:lnTo>
                  <a:pt x="21011" y="1400"/>
                </a:lnTo>
                <a:close/>
              </a:path>
              <a:path fill="darkenLess" w="22411" h="21600">
                <a:moveTo>
                  <a:pt x="2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1" y="20200"/>
                </a:lnTo>
                <a:close/>
              </a:path>
              <a:path fill="lighten" w="2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11" h="21600">
                <a:moveTo>
                  <a:pt x="11205" y="3837"/>
                </a:moveTo>
                <a:lnTo>
                  <a:pt x="13782" y="6448"/>
                </a:ln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lnTo>
                  <a:pt x="18168" y="10800"/>
                </a:lnTo>
                <a:lnTo>
                  <a:pt x="16515" y="10800"/>
                </a:lnTo>
                <a:lnTo>
                  <a:pt x="16515" y="17989"/>
                </a:lnTo>
                <a:lnTo>
                  <a:pt x="5896" y="17989"/>
                </a:lnTo>
                <a:lnTo>
                  <a:pt x="5896" y="10800"/>
                </a:lnTo>
                <a:lnTo>
                  <a:pt x="4242" y="10800"/>
                </a:lnTo>
                <a:close/>
              </a:path>
              <a:path fill="darkenLess" w="22411" h="21600">
                <a:moveTo>
                  <a:pt x="13782" y="6448"/>
                </a:move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close/>
              </a:path>
              <a:path fill="darkenLess" w="22411" h="21600">
                <a:moveTo>
                  <a:pt x="10283" y="14299"/>
                </a:moveTo>
                <a:lnTo>
                  <a:pt x="12128" y="14299"/>
                </a:lnTo>
                <a:lnTo>
                  <a:pt x="12128" y="17989"/>
                </a:lnTo>
                <a:lnTo>
                  <a:pt x="16515" y="17989"/>
                </a:lnTo>
                <a:lnTo>
                  <a:pt x="16515" y="10800"/>
                </a:lnTo>
                <a:lnTo>
                  <a:pt x="5896" y="10800"/>
                </a:lnTo>
                <a:lnTo>
                  <a:pt x="5896" y="17989"/>
                </a:lnTo>
                <a:lnTo>
                  <a:pt x="10283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28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:\Documents and Settings\Admin\Рабочий стол\обыкновенные дроби\рисунки\p0037.png"/>
          <p:cNvPicPr/>
          <p:nvPr/>
        </p:nvPicPr>
        <p:blipFill>
          <a:blip r:embed="rId1"/>
          <a:stretch/>
        </p:blipFill>
        <p:spPr>
          <a:xfrm>
            <a:off x="6089760" y="3444840"/>
            <a:ext cx="2987640" cy="3016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0" y="285840"/>
            <a:ext cx="9144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й Греции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роби записывали наоборот: знаменатель сверху, под ним – числитель дроб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14200" y="3643200"/>
            <a:ext cx="585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реческие ученые считали, что математика должна заниматься только целыми числами, а возиться с дробями должны были </a:t>
            </a:r>
            <a:r>
              <a:rPr b="1" lang="ru-RU" sz="2800" spc="-1" strike="noStrike">
                <a:solidFill>
                  <a:srgbClr val="de2f12"/>
                </a:solidFill>
                <a:latin typeface="Monotype Corsiva"/>
              </a:rPr>
              <a:t>купцы, ремесленники, астрономы, землемеры и другой «черный люд»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571680" y="235728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9"/>
          <p:cNvSpPr/>
          <p:nvPr/>
        </p:nvSpPr>
        <p:spPr>
          <a:xfrm>
            <a:off x="571680" y="3000240"/>
            <a:ext cx="5220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1428840" y="235728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знач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2f12"/>
                </a:solidFill>
                <a:latin typeface="Calibri"/>
              </a:rPr>
              <a:t>три п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домой 15"/>
          <p:cNvSpPr/>
          <p:nvPr/>
        </p:nvSpPr>
        <p:spPr>
          <a:xfrm>
            <a:off x="4143240" y="5929200"/>
            <a:ext cx="785880" cy="7574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2411" h="21600">
                <a:moveTo>
                  <a:pt x="0" y="0"/>
                </a:moveTo>
                <a:lnTo>
                  <a:pt x="22411" y="0"/>
                </a:lnTo>
                <a:lnTo>
                  <a:pt x="22411" y="21600"/>
                </a:lnTo>
                <a:lnTo>
                  <a:pt x="0" y="21600"/>
                </a:lnTo>
                <a:close/>
              </a:path>
              <a:path fill="lightenLess" w="22411" h="21600">
                <a:moveTo>
                  <a:pt x="0" y="0"/>
                </a:moveTo>
                <a:lnTo>
                  <a:pt x="22411" y="0"/>
                </a:lnTo>
                <a:lnTo>
                  <a:pt x="21011" y="1400"/>
                </a:lnTo>
                <a:lnTo>
                  <a:pt x="1400" y="1400"/>
                </a:lnTo>
                <a:close/>
              </a:path>
              <a:path fill="darken" w="22411" h="21600">
                <a:moveTo>
                  <a:pt x="22411" y="0"/>
                </a:moveTo>
                <a:lnTo>
                  <a:pt x="22411" y="21600"/>
                </a:lnTo>
                <a:lnTo>
                  <a:pt x="21011" y="20200"/>
                </a:lnTo>
                <a:lnTo>
                  <a:pt x="21011" y="1400"/>
                </a:lnTo>
                <a:close/>
              </a:path>
              <a:path fill="darkenLess" w="22411" h="21600">
                <a:moveTo>
                  <a:pt x="2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1" y="20200"/>
                </a:lnTo>
                <a:close/>
              </a:path>
              <a:path fill="lighten" w="2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11" h="21600">
                <a:moveTo>
                  <a:pt x="11205" y="3837"/>
                </a:moveTo>
                <a:lnTo>
                  <a:pt x="13782" y="6448"/>
                </a:ln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lnTo>
                  <a:pt x="18168" y="10800"/>
                </a:lnTo>
                <a:lnTo>
                  <a:pt x="16515" y="10800"/>
                </a:lnTo>
                <a:lnTo>
                  <a:pt x="16515" y="17989"/>
                </a:lnTo>
                <a:lnTo>
                  <a:pt x="5896" y="17989"/>
                </a:lnTo>
                <a:lnTo>
                  <a:pt x="5896" y="10800"/>
                </a:lnTo>
                <a:lnTo>
                  <a:pt x="4242" y="10800"/>
                </a:lnTo>
                <a:close/>
              </a:path>
              <a:path fill="darkenLess" w="22411" h="21600">
                <a:moveTo>
                  <a:pt x="13782" y="6448"/>
                </a:move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close/>
              </a:path>
              <a:path fill="darkenLess" w="22411" h="21600">
                <a:moveTo>
                  <a:pt x="10283" y="14299"/>
                </a:moveTo>
                <a:lnTo>
                  <a:pt x="12128" y="14299"/>
                </a:lnTo>
                <a:lnTo>
                  <a:pt x="12128" y="17989"/>
                </a:lnTo>
                <a:lnTo>
                  <a:pt x="16515" y="17989"/>
                </a:lnTo>
                <a:lnTo>
                  <a:pt x="16515" y="10800"/>
                </a:lnTo>
                <a:lnTo>
                  <a:pt x="5896" y="10800"/>
                </a:lnTo>
                <a:lnTo>
                  <a:pt x="5896" y="17989"/>
                </a:lnTo>
                <a:lnTo>
                  <a:pt x="10283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78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78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428760" y="214200"/>
            <a:ext cx="82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м Ри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94949"/>
                </a:solidFill>
                <a:latin typeface="Monotype Corsiva"/>
                <a:ea typeface="Times New Roman"/>
              </a:rPr>
              <a:t>пользовались двенадцатеричными дробя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1231920" y="2266920"/>
            <a:ext cx="7113600" cy="11714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ая соединительная линия 3"/>
          <p:cNvSpPr/>
          <p:nvPr/>
        </p:nvSpPr>
        <p:spPr>
          <a:xfrm flipV="1">
            <a:off x="713520" y="36925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14240" y="3214800"/>
            <a:ext cx="7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714680" y="34290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 flipV="1">
            <a:off x="2714760" y="483552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2714760" y="435780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3714840" y="45720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ять у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7"/>
          <p:cNvSpPr/>
          <p:nvPr/>
        </p:nvSpPr>
        <p:spPr>
          <a:xfrm flipV="1">
            <a:off x="5000760" y="597852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5000760" y="550080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600084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мь у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домой 20"/>
          <p:cNvSpPr/>
          <p:nvPr/>
        </p:nvSpPr>
        <p:spPr>
          <a:xfrm>
            <a:off x="642960" y="5857920"/>
            <a:ext cx="785880" cy="75708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2421" h="21600">
                <a:moveTo>
                  <a:pt x="0" y="0"/>
                </a:moveTo>
                <a:lnTo>
                  <a:pt x="22421" y="0"/>
                </a:lnTo>
                <a:lnTo>
                  <a:pt x="22421" y="21600"/>
                </a:lnTo>
                <a:lnTo>
                  <a:pt x="0" y="21600"/>
                </a:lnTo>
                <a:close/>
              </a:path>
              <a:path fill="lightenLess" w="22421" h="21600">
                <a:moveTo>
                  <a:pt x="0" y="0"/>
                </a:moveTo>
                <a:lnTo>
                  <a:pt x="22421" y="0"/>
                </a:lnTo>
                <a:lnTo>
                  <a:pt x="21021" y="1400"/>
                </a:lnTo>
                <a:lnTo>
                  <a:pt x="1400" y="1400"/>
                </a:lnTo>
                <a:close/>
              </a:path>
              <a:path fill="darken" w="22421" h="21600">
                <a:moveTo>
                  <a:pt x="22421" y="0"/>
                </a:moveTo>
                <a:lnTo>
                  <a:pt x="22421" y="21600"/>
                </a:lnTo>
                <a:lnTo>
                  <a:pt x="21021" y="20200"/>
                </a:lnTo>
                <a:lnTo>
                  <a:pt x="21021" y="1400"/>
                </a:lnTo>
                <a:close/>
              </a:path>
              <a:path fill="darkenLess" w="22421" h="21600">
                <a:moveTo>
                  <a:pt x="22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1" y="20200"/>
                </a:lnTo>
                <a:close/>
              </a:path>
              <a:path fill="lighten" w="22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1" h="21600">
                <a:moveTo>
                  <a:pt x="11211" y="3837"/>
                </a:moveTo>
                <a:lnTo>
                  <a:pt x="13787" y="6448"/>
                </a:ln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lnTo>
                  <a:pt x="18174" y="10800"/>
                </a:lnTo>
                <a:lnTo>
                  <a:pt x="16520" y="10800"/>
                </a:lnTo>
                <a:lnTo>
                  <a:pt x="16520" y="17989"/>
                </a:lnTo>
                <a:lnTo>
                  <a:pt x="5901" y="17989"/>
                </a:lnTo>
                <a:lnTo>
                  <a:pt x="5901" y="10800"/>
                </a:lnTo>
                <a:lnTo>
                  <a:pt x="4248" y="10800"/>
                </a:lnTo>
                <a:close/>
              </a:path>
              <a:path fill="darkenLess" w="22421" h="21600">
                <a:moveTo>
                  <a:pt x="13787" y="6448"/>
                </a:move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close/>
              </a:path>
              <a:path fill="darkenLess" w="22421" h="21600">
                <a:moveTo>
                  <a:pt x="10288" y="14299"/>
                </a:moveTo>
                <a:lnTo>
                  <a:pt x="12133" y="14299"/>
                </a:lnTo>
                <a:lnTo>
                  <a:pt x="12133" y="17989"/>
                </a:lnTo>
                <a:lnTo>
                  <a:pt x="16520" y="17989"/>
                </a:lnTo>
                <a:lnTo>
                  <a:pt x="16520" y="10800"/>
                </a:lnTo>
                <a:lnTo>
                  <a:pt x="5901" y="10800"/>
                </a:lnTo>
                <a:lnTo>
                  <a:pt x="5901" y="17989"/>
                </a:lnTo>
                <a:lnTo>
                  <a:pt x="10288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428760" y="0"/>
            <a:ext cx="82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й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Руси </a:t>
            </a:r>
            <a:r>
              <a:rPr b="1" lang="ru-RU" sz="4800" spc="-1" strike="noStrike">
                <a:solidFill>
                  <a:srgbClr val="555555"/>
                </a:solidFill>
                <a:latin typeface="Monotype Corsiva"/>
                <a:ea typeface="Times New Roman"/>
              </a:rPr>
              <a:t>дроби называли долями, позже “ломаными” чи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5840" y="1889280"/>
                <a:ext cx="914400" cy="49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Text Box 8"/>
          <p:cNvSpPr/>
          <p:nvPr/>
        </p:nvSpPr>
        <p:spPr>
          <a:xfrm>
            <a:off x="1214280" y="2000160"/>
            <a:ext cx="25927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ловина, пол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лч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л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5" descr=""/>
          <p:cNvPicPr/>
          <p:nvPr/>
        </p:nvPicPr>
        <p:blipFill>
          <a:blip r:embed="rId1"/>
          <a:stretch/>
        </p:blipFill>
        <p:spPr>
          <a:xfrm>
            <a:off x="3328920" y="1852560"/>
            <a:ext cx="5656320" cy="2994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500280" y="492732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0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 вышла в свет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Арифметика” Л. Ф. Магницког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изложены действия с целыми чис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- с ломаными, т.е. дроб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11"/>
          <p:cNvSpPr/>
          <p:nvPr/>
        </p:nvSpPr>
        <p:spPr>
          <a:xfrm>
            <a:off x="2928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42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42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0:58:38Z</dcterms:created>
  <dc:creator>Admin</dc:creator>
  <dc:description/>
  <dc:language>en-US</dc:language>
  <cp:lastModifiedBy>User</cp:lastModifiedBy>
  <dcterms:modified xsi:type="dcterms:W3CDTF">2022-02-10T13:59:35Z</dcterms:modified>
  <cp:revision>117</cp:revision>
  <dc:subject/>
  <dc:title>Слайд 1</dc:title>
</cp:coreProperties>
</file>