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4.png" ContentType="image/png"/>
  <Override PartName="/ppt/media/image19.gif" ContentType="image/gif"/>
  <Override PartName="/ppt/media/image7.png" ContentType="image/png"/>
  <Override PartName="/ppt/media/image1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763-293C-4D2C-A379-382A863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DB9-D7D6-4B6B-895D-D33BA510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28E-04DB-4A08-AF8F-BA9BB8B7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FAF-8411-4630-A1B3-28EB877E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8300-192F-42AB-8E52-40768CC4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3B9-215E-4DC9-B107-1E0FA1B6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DB37-B584-4535-8CF3-24D1726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CC5E-6466-4E6F-A7A1-BE34D51F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B6E-4541-4D6B-A4D1-1C817E8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621-079A-468B-B0DC-B8FE4A3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E18-2AF6-4878-8ECA-8116109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E3A-03A2-416E-BCE8-9731508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E041-F87A-465B-8E8F-F59306D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5708-EBFC-4353-A7D0-2F4596D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408-9DCF-401F-A5F3-DDDCD4F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1B6-4230-40E1-AAAE-898E94CC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430-1F32-45D3-ADE4-57389B5A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BE06-8159-4CE4-8CAF-E997E05C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2493-984A-4755-9C02-350E650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89C2-CA45-4863-B93A-1FD81E8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10D5-BE98-4E48-8EB6-44E8442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2C2D-DAFC-48E9-9B78-1D5D672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365-5D7E-43E1-8A37-CE40F02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88CE-8B0F-4593-9913-766C0A2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EEB2-B33E-453C-8672-EAF6CDB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443D-7302-43B8-B480-547D21F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6989-B7AB-43AA-B359-A1F9596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488D-A178-48CF-B2C9-51E5721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0457-C1D6-4A1B-A1D5-7269614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F998-AA4A-46E5-93C7-B24177B8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9D6E-B564-4FDE-A311-6BF57A5F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3FB0-0736-434E-9D86-7118766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2207-CA76-4969-A77D-0049644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C6D-3A9C-4DBD-89A8-7BEE5F3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1CE2-F5EF-47F5-AFF3-842AAA7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587D-3B4B-4BCA-833A-3C002564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04BC-5F5F-4D2E-ABB4-5263F61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4F46-BD61-47DC-AE7E-1CD7784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6C57-0F1F-4B10-8895-E776879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F124-9315-4D2A-B162-21095AD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6223-D2DB-4B7E-8965-049053D1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ADCA-062E-47A6-BC9A-4E5EDE9B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D7A8-B2F2-42FF-B3E4-B8CCB4A4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C79-4EE5-4163-AA98-628DBA7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365-310B-492C-A8EE-DE24010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7FC-4754-4F6C-8582-6E62706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B31-DD6F-4E3B-BD25-18FE658F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EB9-20B8-4453-AB70-BB640768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A9C-11C2-41D0-90E7-711585AB8A4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294-F4A6-41B7-95A2-1F771A592C3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8D3-9DCD-4654-8DA2-17574CE4949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874-A97D-4B62-8490-835ABE47F0F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4.png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8.png"/><Relationship Id="rId14" Type="http://schemas.openxmlformats.org/officeDocument/2006/relationships/hyperlink" Target="http://smiles.33b.ru/smile.102749.html" TargetMode="External"/><Relationship Id="rId15" Type="http://schemas.openxmlformats.org/officeDocument/2006/relationships/image" Target="../media/image19.gif"/><Relationship Id="rId16" Type="http://schemas.openxmlformats.org/officeDocument/2006/relationships/hyperlink" Target="http://smiles.33b.ru/smile.102749.html" TargetMode="External"/><Relationship Id="rId17" Type="http://schemas.openxmlformats.org/officeDocument/2006/relationships/image" Target="../media/image19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428760" y="2213640"/>
            <a:ext cx="8286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Тема:</a:t>
            </a:r>
            <a:r>
              <a:rPr b="1" lang="ru-RU" sz="6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  <a:ea typeface="Arial"/>
              </a:rPr>
              <a:t>Красивые рыбки</a:t>
            </a:r>
            <a:r>
              <a:rPr b="1" lang="ru-RU" sz="66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wallon.ru/_ph/19/2/515309096.jpg"/>
          <p:cNvPicPr/>
          <p:nvPr/>
        </p:nvPicPr>
        <p:blipFill>
          <a:blip r:embed="rId1"/>
          <a:srcRect l="16413" t="22971" r="0" b="0"/>
          <a:stretch/>
        </p:blipFill>
        <p:spPr>
          <a:xfrm>
            <a:off x="1219320" y="744480"/>
            <a:ext cx="6780240" cy="468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kraft.od.ua/uploads/posts/thumbs/1180085298_006.jpg"/>
          <p:cNvPicPr/>
          <p:nvPr/>
        </p:nvPicPr>
        <p:blipFill>
          <a:blip r:embed="rId2"/>
          <a:srcRect l="0" t="0" r="16382" b="30120"/>
          <a:stretch/>
        </p:blipFill>
        <p:spPr>
          <a:xfrm>
            <a:off x="1249200" y="746280"/>
            <a:ext cx="6780240" cy="467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www.xrest.ru/images/collection/00362/976/original.jpg"/>
          <p:cNvPicPr/>
          <p:nvPr/>
        </p:nvPicPr>
        <p:blipFill>
          <a:blip r:embed="rId3"/>
          <a:stretch/>
        </p:blipFill>
        <p:spPr>
          <a:xfrm>
            <a:off x="1712880" y="762120"/>
            <a:ext cx="5829480" cy="464652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1" descr=""/>
          <p:cNvPicPr/>
          <p:nvPr/>
        </p:nvPicPr>
        <p:blipFill>
          <a:blip r:embed="rId4"/>
          <a:stretch/>
        </p:blipFill>
        <p:spPr>
          <a:xfrm>
            <a:off x="3780000" y="5730840"/>
            <a:ext cx="1901520" cy="83520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9" descr=""/>
          <p:cNvPicPr/>
          <p:nvPr/>
        </p:nvPicPr>
        <p:blipFill>
          <a:blip r:embed="rId5"/>
          <a:stretch/>
        </p:blipFill>
        <p:spPr>
          <a:xfrm>
            <a:off x="2773440" y="5730840"/>
            <a:ext cx="4456080" cy="83520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0" descr=""/>
          <p:cNvPicPr/>
          <p:nvPr/>
        </p:nvPicPr>
        <p:blipFill>
          <a:blip r:embed="rId6"/>
          <a:stretch/>
        </p:blipFill>
        <p:spPr>
          <a:xfrm>
            <a:off x="3505320" y="5730840"/>
            <a:ext cx="2816280" cy="8352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11" descr=""/>
          <p:cNvPicPr/>
          <p:nvPr/>
        </p:nvPicPr>
        <p:blipFill>
          <a:blip r:embed="rId7"/>
          <a:stretch/>
        </p:blipFill>
        <p:spPr>
          <a:xfrm>
            <a:off x="3657600" y="5730840"/>
            <a:ext cx="1920960" cy="83520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 12" descr=""/>
          <p:cNvPicPr/>
          <p:nvPr/>
        </p:nvPicPr>
        <p:blipFill>
          <a:blip r:embed="rId8"/>
          <a:stretch/>
        </p:blipFill>
        <p:spPr>
          <a:xfrm>
            <a:off x="3809880" y="5730840"/>
            <a:ext cx="1663920" cy="835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Ильшат Актасович\Pictures\Рисунок1.jpg"/>
          <p:cNvPicPr/>
          <p:nvPr/>
        </p:nvPicPr>
        <p:blipFill>
          <a:blip r:embed="rId9"/>
          <a:stretch/>
        </p:blipFill>
        <p:spPr>
          <a:xfrm>
            <a:off x="1957320" y="765000"/>
            <a:ext cx="5351400" cy="470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www.zooclub.ru/tales/images/28.jpg"/>
          <p:cNvPicPr/>
          <p:nvPr/>
        </p:nvPicPr>
        <p:blipFill>
          <a:blip r:embed="rId10"/>
          <a:stretch/>
        </p:blipFill>
        <p:spPr>
          <a:xfrm>
            <a:off x="539640" y="2013120"/>
            <a:ext cx="78217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аквариум.mp4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04240" cy="532800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2" descr=""/>
          <p:cNvPicPr/>
          <p:nvPr/>
        </p:nvPicPr>
        <p:blipFill>
          <a:blip r:embed="rId2"/>
          <a:stretch/>
        </p:blipFill>
        <p:spPr>
          <a:xfrm>
            <a:off x="3492360" y="5730840"/>
            <a:ext cx="295128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179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452881.wav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fe8ddd18f842"/>
          <p:cNvPicPr/>
          <p:nvPr/>
        </p:nvPicPr>
        <p:blipFill>
          <a:blip r:embed="rId2">
            <a:lum bright="-18000"/>
          </a:blip>
          <a:srcRect l="0" t="0" r="0" b="15215"/>
          <a:stretch/>
        </p:blipFill>
        <p:spPr>
          <a:xfrm>
            <a:off x="-3244680" y="1844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f13"/>
          <p:cNvPicPr/>
          <p:nvPr/>
        </p:nvPicPr>
        <p:blipFill>
          <a:blip r:embed="rId3"/>
          <a:stretch/>
        </p:blipFill>
        <p:spPr>
          <a:xfrm>
            <a:off x="755640" y="515772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f13"/>
          <p:cNvPicPr/>
          <p:nvPr/>
        </p:nvPicPr>
        <p:blipFill>
          <a:blip r:embed="rId4"/>
          <a:stretch/>
        </p:blipFill>
        <p:spPr>
          <a:xfrm>
            <a:off x="4067280" y="299736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f13"/>
          <p:cNvPicPr/>
          <p:nvPr/>
        </p:nvPicPr>
        <p:blipFill>
          <a:blip r:embed="rId5"/>
          <a:stretch/>
        </p:blipFill>
        <p:spPr>
          <a:xfrm>
            <a:off x="6877080" y="45086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fe8ddd18f842"/>
          <p:cNvPicPr/>
          <p:nvPr/>
        </p:nvPicPr>
        <p:blipFill>
          <a:blip r:embed="rId6">
            <a:lum bright="-18000"/>
          </a:blip>
          <a:srcRect l="0" t="0" r="0" b="15215"/>
          <a:stretch/>
        </p:blipFill>
        <p:spPr>
          <a:xfrm>
            <a:off x="9144000" y="4149720"/>
            <a:ext cx="2376360" cy="1482840"/>
          </a:xfrm>
          <a:prstGeom prst="rect">
            <a:avLst/>
          </a:prstGeom>
          <a:ln w="0">
            <a:noFill/>
          </a:ln>
        </p:spPr>
      </p:pic>
      <p:sp>
        <p:nvSpPr>
          <p:cNvPr id="231" name="Oval 22"/>
          <p:cNvSpPr/>
          <p:nvPr/>
        </p:nvSpPr>
        <p:spPr>
          <a:xfrm>
            <a:off x="2916360" y="189000"/>
            <a:ext cx="3456000" cy="3311280"/>
          </a:xfrm>
          <a:prstGeom prst="ellipse">
            <a:avLst/>
          </a:prstGeom>
          <a:gradFill rotWithShape="0">
            <a:gsLst>
              <a:gs pos="0">
                <a:srgbClr val="ffc9f1"/>
              </a:gs>
              <a:gs pos="100000">
                <a:srgbClr val="ee4c6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3" descr="ani-crazy_dolphin"/>
          <p:cNvPicPr/>
          <p:nvPr/>
        </p:nvPicPr>
        <p:blipFill>
          <a:blip r:embed="rId7">
            <a:lum bright="-30000"/>
          </a:blip>
          <a:stretch/>
        </p:blipFill>
        <p:spPr>
          <a:xfrm>
            <a:off x="-1384200" y="3645000"/>
            <a:ext cx="138420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ani-crazy_dolphin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5157720"/>
            <a:ext cx="138456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fe8ddd18f842"/>
          <p:cNvPicPr/>
          <p:nvPr/>
        </p:nvPicPr>
        <p:blipFill>
          <a:blip r:embed="rId9">
            <a:lum bright="-18000"/>
          </a:blip>
          <a:srcRect l="0" t="0" r="0" b="15215"/>
          <a:stretch/>
        </p:blipFill>
        <p:spPr>
          <a:xfrm>
            <a:off x="9144000" y="2276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ani-crazy_dolphin"/>
          <p:cNvPicPr/>
          <p:nvPr/>
        </p:nvPicPr>
        <p:blipFill>
          <a:blip r:embed="rId10">
            <a:lum bright="-36000"/>
          </a:blip>
          <a:stretch/>
        </p:blipFill>
        <p:spPr>
          <a:xfrm flipH="1">
            <a:off x="5796000" y="400536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7" descr="ani-crazy_dolphin"/>
          <p:cNvPicPr/>
          <p:nvPr/>
        </p:nvPicPr>
        <p:blipFill>
          <a:blip r:embed="rId11">
            <a:lum bright="-30000"/>
          </a:blip>
          <a:stretch/>
        </p:blipFill>
        <p:spPr>
          <a:xfrm flipH="1">
            <a:off x="9144000" y="393372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ani-crazy_dolphin"/>
          <p:cNvPicPr/>
          <p:nvPr/>
        </p:nvPicPr>
        <p:blipFill>
          <a:blip r:embed="rId12">
            <a:lum bright="-36000"/>
          </a:blip>
          <a:stretch/>
        </p:blipFill>
        <p:spPr>
          <a:xfrm flipH="1">
            <a:off x="2268000" y="3933720"/>
            <a:ext cx="1366920" cy="9129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0" descr="j0432592"/>
          <p:cNvPicPr/>
          <p:nvPr/>
        </p:nvPicPr>
        <p:blipFill>
          <a:blip r:embed="rId13"/>
          <a:stretch/>
        </p:blipFill>
        <p:spPr>
          <a:xfrm>
            <a:off x="6372360" y="62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1" descr="65faa995e8495198efec9f89623bb9a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9144000" y="6922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2" descr="65faa995e8495198efec9f89623bb9a7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9144000" y="1628640"/>
            <a:ext cx="1260360" cy="871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0.1507 C 0.06528 0.17454 0.09375 0.20811 0.19948 0.20741 C 0.35208 0.20741 0.36302 0.09561 0.54531 0.09537 C 0.7092 0.09537 0.6217 0.19306 0.77934 0.1926 C 0.94323 0.1926 0.85573 0.12176 1.03177 0.12176 C 1.18941 0.12176 1.10191 0.16945 1.24236 0.16945 C 1.37778 0.16945 1.30746 0.13311 1.43056 0.13311 C 1.50087 0.13311 1.5059 0.14283 1.51215 0.1507 E">
                                      <p:cBhvr>
                                        <p:cTn id="139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9329 C -0.0743 0.13496 -0.10035 0.19375 -0.1967 0.19237 C -0.33594 0.19237 -0.34635 -0.003 -0.51233 -0.00324 C -0.66163 -0.00324 -0.58194 0.16737 -0.72569 0.16644 C -0.87604 0.16644 -0.79531 0.04283 -0.95608 0.04283 C -1.09983 0.04283 -1.02014 0.12639 -1.14792 0.12639 C -1.27118 0.12639 -1.20729 0.06274 -1.31962 0.06274 C -1.38368 0.06274 -1.38837 0.0801 -1.39375 0.09329 E">
                                      <p:cBhvr>
                                        <p:cTn id="142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6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6134 C -0.08611 0.0662 -0.21354 0.10509 -0.3118 0.02639 C -0.40989 -0.0537 -0.44201 -0.2213 -0.3842 -0.34884 C -0.32587 -0.47708 -0.19896 -0.5162 -0.10069 -0.43704 C -0.00278 -0.35787 0.03021 -0.18958 -0.0276 -0.06134 Z">
                                      <p:cBhvr>
                                        <p:cTn id="162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6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17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5500"/>
                            </p:stCondLst>
                            <p:childTnLst>
                              <p:par>
                                <p:cTn id="19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3.05556E-006 0.09745 C -3.05556E-006 0.14166 0.06181 0.19606 0.11216 0.19606 L 0.22448 0.19606 E">
                                      <p:cBhvr>
                                        <p:cTn id="192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19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1500"/>
                            </p:stCondLst>
                            <p:childTnLst>
                              <p:par>
                                <p:cTn id="19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4500"/>
                            </p:stCondLst>
                            <p:childTnLst>
                              <p:par>
                                <p:cTn id="2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9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i.piccy.info/i5/72/37/823772/img015_800.jpg"/>
          <p:cNvPicPr/>
          <p:nvPr/>
        </p:nvPicPr>
        <p:blipFill>
          <a:blip r:embed="rId1"/>
          <a:srcRect l="4078" t="4588" r="0" b="0"/>
          <a:stretch/>
        </p:blipFill>
        <p:spPr>
          <a:xfrm>
            <a:off x="971640" y="981000"/>
            <a:ext cx="6943680" cy="5097600"/>
          </a:xfrm>
          <a:prstGeom prst="rect">
            <a:avLst/>
          </a:prstGeom>
          <a:ln w="0">
            <a:noFill/>
          </a:ln>
        </p:spPr>
      </p:pic>
      <p:sp>
        <p:nvSpPr>
          <p:cNvPr id="243" name="Полилиния 5"/>
          <p:cNvSpPr/>
          <p:nvPr/>
        </p:nvSpPr>
        <p:spPr>
          <a:xfrm>
            <a:off x="4572000" y="2222640"/>
            <a:ext cx="3089160" cy="1828800"/>
          </a:xfrm>
          <a:custGeom>
            <a:avLst/>
            <a:gdLst/>
            <a:ahLst/>
            <a:rect l="l" t="t" r="r" b="b"/>
            <a:pathLst>
              <a:path w="3090041" h="1828800">
                <a:moveTo>
                  <a:pt x="3011214" y="961696"/>
                </a:moveTo>
                <a:cubicBezTo>
                  <a:pt x="3009490" y="942732"/>
                  <a:pt x="3009352" y="794383"/>
                  <a:pt x="2979683" y="740979"/>
                </a:cubicBezTo>
                <a:cubicBezTo>
                  <a:pt x="2961279" y="707852"/>
                  <a:pt x="2948152" y="667407"/>
                  <a:pt x="2916621" y="646386"/>
                </a:cubicBezTo>
                <a:lnTo>
                  <a:pt x="2869324" y="614855"/>
                </a:lnTo>
                <a:cubicBezTo>
                  <a:pt x="2808597" y="523766"/>
                  <a:pt x="2872244" y="606097"/>
                  <a:pt x="2790497" y="536028"/>
                </a:cubicBezTo>
                <a:cubicBezTo>
                  <a:pt x="2695281" y="454414"/>
                  <a:pt x="2767042" y="486167"/>
                  <a:pt x="2680138" y="457200"/>
                </a:cubicBezTo>
                <a:cubicBezTo>
                  <a:pt x="2664372" y="441434"/>
                  <a:pt x="2651392" y="422271"/>
                  <a:pt x="2632841" y="409903"/>
                </a:cubicBezTo>
                <a:cubicBezTo>
                  <a:pt x="2619014" y="400685"/>
                  <a:pt x="2600072" y="402208"/>
                  <a:pt x="2585545" y="394138"/>
                </a:cubicBezTo>
                <a:cubicBezTo>
                  <a:pt x="2552418" y="375734"/>
                  <a:pt x="2522483" y="352097"/>
                  <a:pt x="2490952" y="331076"/>
                </a:cubicBezTo>
                <a:lnTo>
                  <a:pt x="2396359" y="268014"/>
                </a:lnTo>
                <a:cubicBezTo>
                  <a:pt x="2380593" y="257504"/>
                  <a:pt x="2367038" y="242475"/>
                  <a:pt x="2349062" y="236483"/>
                </a:cubicBezTo>
                <a:lnTo>
                  <a:pt x="2112579" y="157655"/>
                </a:lnTo>
                <a:lnTo>
                  <a:pt x="2017986" y="126124"/>
                </a:lnTo>
                <a:cubicBezTo>
                  <a:pt x="2002221" y="120869"/>
                  <a:pt x="1986812" y="114390"/>
                  <a:pt x="1970690" y="110359"/>
                </a:cubicBezTo>
                <a:cubicBezTo>
                  <a:pt x="1949669" y="105104"/>
                  <a:pt x="1928780" y="99293"/>
                  <a:pt x="1907628" y="94593"/>
                </a:cubicBezTo>
                <a:cubicBezTo>
                  <a:pt x="1881470" y="88780"/>
                  <a:pt x="1854796" y="85327"/>
                  <a:pt x="1828800" y="78828"/>
                </a:cubicBezTo>
                <a:cubicBezTo>
                  <a:pt x="1735994" y="55627"/>
                  <a:pt x="1809093" y="50746"/>
                  <a:pt x="1655379" y="31531"/>
                </a:cubicBezTo>
                <a:cubicBezTo>
                  <a:pt x="1497536" y="11800"/>
                  <a:pt x="1571047" y="22730"/>
                  <a:pt x="1434662" y="0"/>
                </a:cubicBezTo>
                <a:cubicBezTo>
                  <a:pt x="1098331" y="42040"/>
                  <a:pt x="1518745" y="0"/>
                  <a:pt x="1182414" y="0"/>
                </a:cubicBezTo>
                <a:cubicBezTo>
                  <a:pt x="1165796" y="0"/>
                  <a:pt x="1151661" y="14189"/>
                  <a:pt x="1135117" y="15765"/>
                </a:cubicBezTo>
                <a:cubicBezTo>
                  <a:pt x="1040805" y="24747"/>
                  <a:pt x="945852" y="25013"/>
                  <a:pt x="851338" y="31531"/>
                </a:cubicBezTo>
                <a:cubicBezTo>
                  <a:pt x="793430" y="35525"/>
                  <a:pt x="735565" y="40514"/>
                  <a:pt x="677917" y="47296"/>
                </a:cubicBezTo>
                <a:cubicBezTo>
                  <a:pt x="618242" y="54317"/>
                  <a:pt x="467499" y="86227"/>
                  <a:pt x="425669" y="94593"/>
                </a:cubicBezTo>
                <a:cubicBezTo>
                  <a:pt x="399393" y="99848"/>
                  <a:pt x="372262" y="101885"/>
                  <a:pt x="346841" y="110359"/>
                </a:cubicBezTo>
                <a:lnTo>
                  <a:pt x="252248" y="141890"/>
                </a:lnTo>
                <a:lnTo>
                  <a:pt x="110359" y="189186"/>
                </a:lnTo>
                <a:cubicBezTo>
                  <a:pt x="94593" y="194441"/>
                  <a:pt x="76889" y="195734"/>
                  <a:pt x="63062" y="204952"/>
                </a:cubicBezTo>
                <a:lnTo>
                  <a:pt x="15766" y="236483"/>
                </a:lnTo>
                <a:cubicBezTo>
                  <a:pt x="10511" y="252248"/>
                  <a:pt x="0" y="267161"/>
                  <a:pt x="0" y="283779"/>
                </a:cubicBezTo>
                <a:cubicBezTo>
                  <a:pt x="0" y="300398"/>
                  <a:pt x="11735" y="314954"/>
                  <a:pt x="15766" y="331076"/>
                </a:cubicBezTo>
                <a:cubicBezTo>
                  <a:pt x="22265" y="357072"/>
                  <a:pt x="25718" y="383745"/>
                  <a:pt x="31531" y="409903"/>
                </a:cubicBezTo>
                <a:cubicBezTo>
                  <a:pt x="63036" y="551675"/>
                  <a:pt x="31466" y="404407"/>
                  <a:pt x="63062" y="520262"/>
                </a:cubicBezTo>
                <a:cubicBezTo>
                  <a:pt x="122443" y="737996"/>
                  <a:pt x="65712" y="559743"/>
                  <a:pt x="126124" y="740979"/>
                </a:cubicBezTo>
                <a:lnTo>
                  <a:pt x="173421" y="882869"/>
                </a:lnTo>
                <a:cubicBezTo>
                  <a:pt x="173422" y="882873"/>
                  <a:pt x="204950" y="977459"/>
                  <a:pt x="204952" y="977462"/>
                </a:cubicBezTo>
                <a:lnTo>
                  <a:pt x="268014" y="1072055"/>
                </a:lnTo>
                <a:cubicBezTo>
                  <a:pt x="278524" y="1087821"/>
                  <a:pt x="286147" y="1105954"/>
                  <a:pt x="299545" y="1119352"/>
                </a:cubicBezTo>
                <a:cubicBezTo>
                  <a:pt x="331076" y="1150883"/>
                  <a:pt x="357036" y="1189210"/>
                  <a:pt x="394138" y="1213945"/>
                </a:cubicBezTo>
                <a:cubicBezTo>
                  <a:pt x="409903" y="1224455"/>
                  <a:pt x="427174" y="1232999"/>
                  <a:pt x="441434" y="1245476"/>
                </a:cubicBezTo>
                <a:cubicBezTo>
                  <a:pt x="469400" y="1269946"/>
                  <a:pt x="489343" y="1303691"/>
                  <a:pt x="520262" y="1324303"/>
                </a:cubicBezTo>
                <a:cubicBezTo>
                  <a:pt x="551793" y="1345324"/>
                  <a:pt x="588059" y="1360569"/>
                  <a:pt x="614855" y="1387365"/>
                </a:cubicBezTo>
                <a:cubicBezTo>
                  <a:pt x="630621" y="1403131"/>
                  <a:pt x="644553" y="1420974"/>
                  <a:pt x="662152" y="1434662"/>
                </a:cubicBezTo>
                <a:cubicBezTo>
                  <a:pt x="692065" y="1457928"/>
                  <a:pt x="725214" y="1476703"/>
                  <a:pt x="756745" y="1497724"/>
                </a:cubicBezTo>
                <a:lnTo>
                  <a:pt x="804041" y="1529255"/>
                </a:lnTo>
                <a:lnTo>
                  <a:pt x="851338" y="1560786"/>
                </a:lnTo>
                <a:cubicBezTo>
                  <a:pt x="867103" y="1571296"/>
                  <a:pt x="880659" y="1586325"/>
                  <a:pt x="898634" y="1592317"/>
                </a:cubicBezTo>
                <a:cubicBezTo>
                  <a:pt x="1071132" y="1649818"/>
                  <a:pt x="809848" y="1558112"/>
                  <a:pt x="993228" y="1639614"/>
                </a:cubicBezTo>
                <a:cubicBezTo>
                  <a:pt x="993238" y="1639618"/>
                  <a:pt x="1111463" y="1679025"/>
                  <a:pt x="1135117" y="1686910"/>
                </a:cubicBezTo>
                <a:cubicBezTo>
                  <a:pt x="1150883" y="1692165"/>
                  <a:pt x="1168587" y="1693458"/>
                  <a:pt x="1182414" y="1702676"/>
                </a:cubicBezTo>
                <a:cubicBezTo>
                  <a:pt x="1198179" y="1713186"/>
                  <a:pt x="1212294" y="1726743"/>
                  <a:pt x="1229710" y="1734207"/>
                </a:cubicBezTo>
                <a:cubicBezTo>
                  <a:pt x="1249626" y="1742742"/>
                  <a:pt x="1271938" y="1744019"/>
                  <a:pt x="1292772" y="1749972"/>
                </a:cubicBezTo>
                <a:cubicBezTo>
                  <a:pt x="1362905" y="1770010"/>
                  <a:pt x="1320973" y="1765071"/>
                  <a:pt x="1403131" y="1781503"/>
                </a:cubicBezTo>
                <a:cubicBezTo>
                  <a:pt x="1473694" y="1795616"/>
                  <a:pt x="1553247" y="1804728"/>
                  <a:pt x="1623848" y="1813034"/>
                </a:cubicBezTo>
                <a:lnTo>
                  <a:pt x="1765738" y="1828800"/>
                </a:lnTo>
                <a:cubicBezTo>
                  <a:pt x="1963590" y="1789229"/>
                  <a:pt x="1689301" y="1840651"/>
                  <a:pt x="2065283" y="1797269"/>
                </a:cubicBezTo>
                <a:cubicBezTo>
                  <a:pt x="2128793" y="1789941"/>
                  <a:pt x="2191779" y="1778276"/>
                  <a:pt x="2254469" y="1765738"/>
                </a:cubicBezTo>
                <a:cubicBezTo>
                  <a:pt x="2365890" y="1743453"/>
                  <a:pt x="2307874" y="1758446"/>
                  <a:pt x="2427890" y="1718441"/>
                </a:cubicBezTo>
                <a:lnTo>
                  <a:pt x="2475186" y="1702676"/>
                </a:lnTo>
                <a:cubicBezTo>
                  <a:pt x="2550139" y="1652708"/>
                  <a:pt x="2504506" y="1677138"/>
                  <a:pt x="2617076" y="1639614"/>
                </a:cubicBezTo>
                <a:cubicBezTo>
                  <a:pt x="2632841" y="1634359"/>
                  <a:pt x="2650545" y="1633066"/>
                  <a:pt x="2664372" y="1623848"/>
                </a:cubicBezTo>
                <a:cubicBezTo>
                  <a:pt x="2680138" y="1613338"/>
                  <a:pt x="2694354" y="1600012"/>
                  <a:pt x="2711669" y="1592317"/>
                </a:cubicBezTo>
                <a:cubicBezTo>
                  <a:pt x="2742041" y="1578818"/>
                  <a:pt x="2778607" y="1579222"/>
                  <a:pt x="2806262" y="1560786"/>
                </a:cubicBezTo>
                <a:lnTo>
                  <a:pt x="2900855" y="1497724"/>
                </a:lnTo>
                <a:lnTo>
                  <a:pt x="2948152" y="1466193"/>
                </a:lnTo>
                <a:cubicBezTo>
                  <a:pt x="2969173" y="1434662"/>
                  <a:pt x="2999230" y="1407551"/>
                  <a:pt x="3011214" y="1371600"/>
                </a:cubicBezTo>
                <a:lnTo>
                  <a:pt x="3058510" y="1229710"/>
                </a:lnTo>
                <a:lnTo>
                  <a:pt x="3074276" y="1182414"/>
                </a:lnTo>
                <a:lnTo>
                  <a:pt x="3090041" y="1135117"/>
                </a:lnTo>
                <a:cubicBezTo>
                  <a:pt x="3084786" y="1119352"/>
                  <a:pt x="3078648" y="1103854"/>
                  <a:pt x="3074276" y="1087821"/>
                </a:cubicBezTo>
                <a:cubicBezTo>
                  <a:pt x="3062874" y="1046012"/>
                  <a:pt x="3053255" y="1003738"/>
                  <a:pt x="3042745" y="961696"/>
                </a:cubicBezTo>
                <a:lnTo>
                  <a:pt x="3026979" y="898634"/>
                </a:lnTo>
                <a:cubicBezTo>
                  <a:pt x="3021926" y="878421"/>
                  <a:pt x="3006759" y="810899"/>
                  <a:pt x="2995448" y="788276"/>
                </a:cubicBezTo>
                <a:cubicBezTo>
                  <a:pt x="2992124" y="781629"/>
                  <a:pt x="2984938" y="777765"/>
                  <a:pt x="2979683" y="77251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7"/>
          <p:cNvSpPr/>
          <p:nvPr/>
        </p:nvSpPr>
        <p:spPr>
          <a:xfrm>
            <a:off x="4792680" y="1623960"/>
            <a:ext cx="2049480" cy="787320"/>
          </a:xfrm>
          <a:custGeom>
            <a:avLst/>
            <a:gdLst/>
            <a:ahLst/>
            <a:rect l="l" t="t" r="r" b="b"/>
            <a:pathLst>
              <a:path w="2049517" h="788276">
                <a:moveTo>
                  <a:pt x="2049517" y="788276"/>
                </a:moveTo>
                <a:cubicBezTo>
                  <a:pt x="2012040" y="582150"/>
                  <a:pt x="2036566" y="670597"/>
                  <a:pt x="1986455" y="520262"/>
                </a:cubicBezTo>
                <a:cubicBezTo>
                  <a:pt x="1981200" y="504497"/>
                  <a:pt x="1979908" y="486793"/>
                  <a:pt x="1970690" y="472966"/>
                </a:cubicBezTo>
                <a:lnTo>
                  <a:pt x="1907628" y="378373"/>
                </a:lnTo>
                <a:cubicBezTo>
                  <a:pt x="1897118" y="362607"/>
                  <a:pt x="1891863" y="341586"/>
                  <a:pt x="1876097" y="331076"/>
                </a:cubicBezTo>
                <a:lnTo>
                  <a:pt x="1828800" y="299545"/>
                </a:lnTo>
                <a:cubicBezTo>
                  <a:pt x="1818290" y="283780"/>
                  <a:pt x="1809399" y="266805"/>
                  <a:pt x="1797269" y="252249"/>
                </a:cubicBezTo>
                <a:cubicBezTo>
                  <a:pt x="1772362" y="222360"/>
                  <a:pt x="1738111" y="191139"/>
                  <a:pt x="1702676" y="173421"/>
                </a:cubicBezTo>
                <a:cubicBezTo>
                  <a:pt x="1687812" y="165989"/>
                  <a:pt x="1670244" y="165087"/>
                  <a:pt x="1655380" y="157655"/>
                </a:cubicBezTo>
                <a:cubicBezTo>
                  <a:pt x="1533143" y="96536"/>
                  <a:pt x="1679658" y="149981"/>
                  <a:pt x="1560786" y="110359"/>
                </a:cubicBezTo>
                <a:cubicBezTo>
                  <a:pt x="1485835" y="60391"/>
                  <a:pt x="1531466" y="84820"/>
                  <a:pt x="1418897" y="47297"/>
                </a:cubicBezTo>
                <a:cubicBezTo>
                  <a:pt x="1418893" y="47296"/>
                  <a:pt x="1324309" y="15767"/>
                  <a:pt x="1324304" y="15766"/>
                </a:cubicBezTo>
                <a:lnTo>
                  <a:pt x="1213945" y="0"/>
                </a:lnTo>
                <a:cubicBezTo>
                  <a:pt x="1198180" y="5255"/>
                  <a:pt x="1183074" y="13239"/>
                  <a:pt x="1166649" y="15766"/>
                </a:cubicBezTo>
                <a:cubicBezTo>
                  <a:pt x="940201" y="50604"/>
                  <a:pt x="1075539" y="9348"/>
                  <a:pt x="961697" y="47297"/>
                </a:cubicBezTo>
                <a:cubicBezTo>
                  <a:pt x="990461" y="133591"/>
                  <a:pt x="985483" y="66105"/>
                  <a:pt x="930166" y="110359"/>
                </a:cubicBezTo>
                <a:cubicBezTo>
                  <a:pt x="915370" y="122196"/>
                  <a:pt x="909145" y="141890"/>
                  <a:pt x="898635" y="157655"/>
                </a:cubicBezTo>
                <a:cubicBezTo>
                  <a:pt x="867298" y="282999"/>
                  <a:pt x="912276" y="192169"/>
                  <a:pt x="835573" y="204952"/>
                </a:cubicBezTo>
                <a:cubicBezTo>
                  <a:pt x="816883" y="208067"/>
                  <a:pt x="804042" y="225973"/>
                  <a:pt x="788276" y="236483"/>
                </a:cubicBezTo>
                <a:cubicBezTo>
                  <a:pt x="662155" y="194443"/>
                  <a:pt x="819806" y="236483"/>
                  <a:pt x="693683" y="236483"/>
                </a:cubicBezTo>
                <a:cubicBezTo>
                  <a:pt x="677065" y="236483"/>
                  <a:pt x="662152" y="225973"/>
                  <a:pt x="646386" y="220718"/>
                </a:cubicBezTo>
                <a:cubicBezTo>
                  <a:pt x="630621" y="225973"/>
                  <a:pt x="606522" y="221619"/>
                  <a:pt x="599090" y="236483"/>
                </a:cubicBezTo>
                <a:cubicBezTo>
                  <a:pt x="575066" y="284530"/>
                  <a:pt x="675664" y="304050"/>
                  <a:pt x="567559" y="268014"/>
                </a:cubicBezTo>
                <a:cubicBezTo>
                  <a:pt x="562304" y="283780"/>
                  <a:pt x="567223" y="309139"/>
                  <a:pt x="551793" y="315311"/>
                </a:cubicBezTo>
                <a:cubicBezTo>
                  <a:pt x="434601" y="362188"/>
                  <a:pt x="352977" y="293125"/>
                  <a:pt x="457200" y="362607"/>
                </a:cubicBezTo>
                <a:cubicBezTo>
                  <a:pt x="441435" y="367862"/>
                  <a:pt x="425883" y="373808"/>
                  <a:pt x="409904" y="378373"/>
                </a:cubicBezTo>
                <a:cubicBezTo>
                  <a:pt x="389070" y="384326"/>
                  <a:pt x="363762" y="380602"/>
                  <a:pt x="346842" y="394138"/>
                </a:cubicBezTo>
                <a:cubicBezTo>
                  <a:pt x="333865" y="404519"/>
                  <a:pt x="342827" y="429684"/>
                  <a:pt x="331076" y="441435"/>
                </a:cubicBezTo>
                <a:cubicBezTo>
                  <a:pt x="319325" y="453186"/>
                  <a:pt x="299902" y="453170"/>
                  <a:pt x="283780" y="457200"/>
                </a:cubicBezTo>
                <a:cubicBezTo>
                  <a:pt x="257784" y="463699"/>
                  <a:pt x="231228" y="467711"/>
                  <a:pt x="204952" y="472966"/>
                </a:cubicBezTo>
                <a:cubicBezTo>
                  <a:pt x="262239" y="558895"/>
                  <a:pt x="239954" y="504497"/>
                  <a:pt x="189186" y="504497"/>
                </a:cubicBezTo>
                <a:cubicBezTo>
                  <a:pt x="172568" y="504497"/>
                  <a:pt x="157655" y="515007"/>
                  <a:pt x="141890" y="520262"/>
                </a:cubicBezTo>
                <a:cubicBezTo>
                  <a:pt x="136635" y="546538"/>
                  <a:pt x="142575" y="577938"/>
                  <a:pt x="126124" y="599090"/>
                </a:cubicBezTo>
                <a:cubicBezTo>
                  <a:pt x="102858" y="629003"/>
                  <a:pt x="31531" y="662152"/>
                  <a:pt x="31531" y="662152"/>
                </a:cubicBezTo>
                <a:cubicBezTo>
                  <a:pt x="26276" y="677918"/>
                  <a:pt x="15766" y="692831"/>
                  <a:pt x="15766" y="709449"/>
                </a:cubicBezTo>
                <a:cubicBezTo>
                  <a:pt x="15766" y="758153"/>
                  <a:pt x="60170" y="771064"/>
                  <a:pt x="0" y="74098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9"/>
          <p:cNvSpPr/>
          <p:nvPr/>
        </p:nvSpPr>
        <p:spPr>
          <a:xfrm>
            <a:off x="2160720" y="1324080"/>
            <a:ext cx="2805120" cy="4478400"/>
          </a:xfrm>
          <a:custGeom>
            <a:avLst/>
            <a:gdLst/>
            <a:ahLst/>
            <a:rect l="l" t="t" r="r" b="b"/>
            <a:pathLst>
              <a:path w="2806262" h="4477407">
                <a:moveTo>
                  <a:pt x="2396358" y="1198180"/>
                </a:moveTo>
                <a:cubicBezTo>
                  <a:pt x="2406869" y="1140373"/>
                  <a:pt x="2423982" y="1083384"/>
                  <a:pt x="2427890" y="1024759"/>
                </a:cubicBezTo>
                <a:cubicBezTo>
                  <a:pt x="2429331" y="1003139"/>
                  <a:pt x="2418350" y="982451"/>
                  <a:pt x="2412124" y="961697"/>
                </a:cubicBezTo>
                <a:cubicBezTo>
                  <a:pt x="2351115" y="758336"/>
                  <a:pt x="2412418" y="946518"/>
                  <a:pt x="2349062" y="819807"/>
                </a:cubicBezTo>
                <a:cubicBezTo>
                  <a:pt x="2341630" y="804943"/>
                  <a:pt x="2341367" y="787038"/>
                  <a:pt x="2333296" y="772511"/>
                </a:cubicBezTo>
                <a:cubicBezTo>
                  <a:pt x="2314874" y="739352"/>
                  <a:pt x="2263490" y="657655"/>
                  <a:pt x="2222938" y="630621"/>
                </a:cubicBezTo>
                <a:cubicBezTo>
                  <a:pt x="2209111" y="621403"/>
                  <a:pt x="2191407" y="620111"/>
                  <a:pt x="2175641" y="614856"/>
                </a:cubicBezTo>
                <a:cubicBezTo>
                  <a:pt x="2040099" y="524494"/>
                  <a:pt x="2211591" y="632831"/>
                  <a:pt x="2081048" y="567559"/>
                </a:cubicBezTo>
                <a:cubicBezTo>
                  <a:pt x="1958808" y="506438"/>
                  <a:pt x="2105331" y="559887"/>
                  <a:pt x="1986455" y="520263"/>
                </a:cubicBezTo>
                <a:cubicBezTo>
                  <a:pt x="1970689" y="509752"/>
                  <a:pt x="1956574" y="496195"/>
                  <a:pt x="1939158" y="488731"/>
                </a:cubicBezTo>
                <a:cubicBezTo>
                  <a:pt x="1868416" y="458413"/>
                  <a:pt x="1890177" y="487889"/>
                  <a:pt x="1828800" y="457200"/>
                </a:cubicBezTo>
                <a:cubicBezTo>
                  <a:pt x="1811853" y="448726"/>
                  <a:pt x="1798818" y="433364"/>
                  <a:pt x="1781503" y="425669"/>
                </a:cubicBezTo>
                <a:cubicBezTo>
                  <a:pt x="1751131" y="412170"/>
                  <a:pt x="1714564" y="412574"/>
                  <a:pt x="1686910" y="394138"/>
                </a:cubicBezTo>
                <a:cubicBezTo>
                  <a:pt x="1671145" y="383628"/>
                  <a:pt x="1657421" y="369082"/>
                  <a:pt x="1639614" y="362607"/>
                </a:cubicBezTo>
                <a:cubicBezTo>
                  <a:pt x="1598888" y="347797"/>
                  <a:pt x="1555531" y="341586"/>
                  <a:pt x="1513490" y="331076"/>
                </a:cubicBezTo>
                <a:cubicBezTo>
                  <a:pt x="1446030" y="314211"/>
                  <a:pt x="1444963" y="312884"/>
                  <a:pt x="1371600" y="299545"/>
                </a:cubicBezTo>
                <a:cubicBezTo>
                  <a:pt x="1340150" y="293827"/>
                  <a:pt x="1308425" y="289671"/>
                  <a:pt x="1277007" y="283780"/>
                </a:cubicBezTo>
                <a:cubicBezTo>
                  <a:pt x="1244442" y="277674"/>
                  <a:pt x="1112179" y="253250"/>
                  <a:pt x="1056290" y="236483"/>
                </a:cubicBezTo>
                <a:cubicBezTo>
                  <a:pt x="1024455" y="226932"/>
                  <a:pt x="993227" y="215462"/>
                  <a:pt x="961696" y="204952"/>
                </a:cubicBezTo>
                <a:lnTo>
                  <a:pt x="914400" y="189187"/>
                </a:lnTo>
                <a:cubicBezTo>
                  <a:pt x="778852" y="98823"/>
                  <a:pt x="950351" y="207163"/>
                  <a:pt x="819807" y="141890"/>
                </a:cubicBezTo>
                <a:cubicBezTo>
                  <a:pt x="697568" y="80770"/>
                  <a:pt x="844086" y="134217"/>
                  <a:pt x="725214" y="94594"/>
                </a:cubicBezTo>
                <a:cubicBezTo>
                  <a:pt x="693683" y="73573"/>
                  <a:pt x="666572" y="43515"/>
                  <a:pt x="630621" y="31531"/>
                </a:cubicBezTo>
                <a:lnTo>
                  <a:pt x="536027" y="0"/>
                </a:lnTo>
                <a:cubicBezTo>
                  <a:pt x="504867" y="93485"/>
                  <a:pt x="514461" y="43205"/>
                  <a:pt x="536027" y="204952"/>
                </a:cubicBezTo>
                <a:cubicBezTo>
                  <a:pt x="545930" y="279227"/>
                  <a:pt x="558676" y="304430"/>
                  <a:pt x="583324" y="378373"/>
                </a:cubicBezTo>
                <a:lnTo>
                  <a:pt x="599090" y="425669"/>
                </a:lnTo>
                <a:cubicBezTo>
                  <a:pt x="604345" y="441435"/>
                  <a:pt x="603104" y="461215"/>
                  <a:pt x="614855" y="472966"/>
                </a:cubicBezTo>
                <a:cubicBezTo>
                  <a:pt x="675550" y="533661"/>
                  <a:pt x="643601" y="507895"/>
                  <a:pt x="709448" y="551794"/>
                </a:cubicBezTo>
                <a:cubicBezTo>
                  <a:pt x="719958" y="567559"/>
                  <a:pt x="727581" y="585692"/>
                  <a:pt x="740979" y="599090"/>
                </a:cubicBezTo>
                <a:cubicBezTo>
                  <a:pt x="754377" y="612488"/>
                  <a:pt x="773720" y="618491"/>
                  <a:pt x="788276" y="630621"/>
                </a:cubicBezTo>
                <a:cubicBezTo>
                  <a:pt x="805404" y="644894"/>
                  <a:pt x="819807" y="662152"/>
                  <a:pt x="835572" y="677918"/>
                </a:cubicBezTo>
                <a:cubicBezTo>
                  <a:pt x="809297" y="756745"/>
                  <a:pt x="835572" y="719959"/>
                  <a:pt x="725214" y="756745"/>
                </a:cubicBezTo>
                <a:lnTo>
                  <a:pt x="677917" y="772511"/>
                </a:lnTo>
                <a:lnTo>
                  <a:pt x="630621" y="788276"/>
                </a:lnTo>
                <a:cubicBezTo>
                  <a:pt x="635876" y="804042"/>
                  <a:pt x="633409" y="825192"/>
                  <a:pt x="646386" y="835573"/>
                </a:cubicBezTo>
                <a:cubicBezTo>
                  <a:pt x="663305" y="849109"/>
                  <a:pt x="688694" y="845112"/>
                  <a:pt x="709448" y="851338"/>
                </a:cubicBezTo>
                <a:cubicBezTo>
                  <a:pt x="741283" y="860888"/>
                  <a:pt x="772510" y="872359"/>
                  <a:pt x="804041" y="882869"/>
                </a:cubicBezTo>
                <a:lnTo>
                  <a:pt x="851338" y="898635"/>
                </a:lnTo>
                <a:cubicBezTo>
                  <a:pt x="846083" y="919656"/>
                  <a:pt x="849840" y="945390"/>
                  <a:pt x="835572" y="961697"/>
                </a:cubicBezTo>
                <a:cubicBezTo>
                  <a:pt x="810618" y="990216"/>
                  <a:pt x="772510" y="1003738"/>
                  <a:pt x="740979" y="1024759"/>
                </a:cubicBezTo>
                <a:cubicBezTo>
                  <a:pt x="605433" y="1115123"/>
                  <a:pt x="776933" y="1006782"/>
                  <a:pt x="646386" y="1072056"/>
                </a:cubicBezTo>
                <a:cubicBezTo>
                  <a:pt x="629439" y="1080530"/>
                  <a:pt x="616405" y="1095892"/>
                  <a:pt x="599090" y="1103587"/>
                </a:cubicBezTo>
                <a:cubicBezTo>
                  <a:pt x="430237" y="1178632"/>
                  <a:pt x="564237" y="1095290"/>
                  <a:pt x="457200" y="1166649"/>
                </a:cubicBezTo>
                <a:cubicBezTo>
                  <a:pt x="344524" y="1335662"/>
                  <a:pt x="519999" y="1079151"/>
                  <a:pt x="378372" y="1261242"/>
                </a:cubicBezTo>
                <a:cubicBezTo>
                  <a:pt x="279332" y="1388579"/>
                  <a:pt x="359575" y="1326325"/>
                  <a:pt x="268014" y="1387366"/>
                </a:cubicBezTo>
                <a:cubicBezTo>
                  <a:pt x="240307" y="1470486"/>
                  <a:pt x="270560" y="1403228"/>
                  <a:pt x="204952" y="1481959"/>
                </a:cubicBezTo>
                <a:cubicBezTo>
                  <a:pt x="192822" y="1496515"/>
                  <a:pt x="189489" y="1519214"/>
                  <a:pt x="173421" y="1529256"/>
                </a:cubicBezTo>
                <a:cubicBezTo>
                  <a:pt x="135769" y="1552788"/>
                  <a:pt x="45016" y="1567549"/>
                  <a:pt x="0" y="1576552"/>
                </a:cubicBezTo>
                <a:cubicBezTo>
                  <a:pt x="15765" y="1587062"/>
                  <a:pt x="30349" y="1599609"/>
                  <a:pt x="47296" y="1608083"/>
                </a:cubicBezTo>
                <a:cubicBezTo>
                  <a:pt x="62160" y="1615515"/>
                  <a:pt x="80066" y="1615778"/>
                  <a:pt x="94593" y="1623849"/>
                </a:cubicBezTo>
                <a:cubicBezTo>
                  <a:pt x="127720" y="1642253"/>
                  <a:pt x="157655" y="1665890"/>
                  <a:pt x="189186" y="1686911"/>
                </a:cubicBezTo>
                <a:cubicBezTo>
                  <a:pt x="204952" y="1697421"/>
                  <a:pt x="218507" y="1712450"/>
                  <a:pt x="236483" y="1718442"/>
                </a:cubicBezTo>
                <a:lnTo>
                  <a:pt x="283779" y="1734207"/>
                </a:lnTo>
                <a:cubicBezTo>
                  <a:pt x="299545" y="1744717"/>
                  <a:pt x="312613" y="1761477"/>
                  <a:pt x="331076" y="1765738"/>
                </a:cubicBezTo>
                <a:cubicBezTo>
                  <a:pt x="382537" y="1777614"/>
                  <a:pt x="455739" y="1740263"/>
                  <a:pt x="488731" y="1781504"/>
                </a:cubicBezTo>
                <a:cubicBezTo>
                  <a:pt x="512404" y="1811096"/>
                  <a:pt x="425669" y="1823545"/>
                  <a:pt x="394138" y="1844566"/>
                </a:cubicBezTo>
                <a:cubicBezTo>
                  <a:pt x="184168" y="1984546"/>
                  <a:pt x="495361" y="1783075"/>
                  <a:pt x="299545" y="1891863"/>
                </a:cubicBezTo>
                <a:cubicBezTo>
                  <a:pt x="136922" y="1982210"/>
                  <a:pt x="264673" y="1935019"/>
                  <a:pt x="157655" y="1970690"/>
                </a:cubicBezTo>
                <a:cubicBezTo>
                  <a:pt x="266075" y="2042970"/>
                  <a:pt x="216297" y="2021768"/>
                  <a:pt x="299545" y="2049518"/>
                </a:cubicBezTo>
                <a:cubicBezTo>
                  <a:pt x="531645" y="2027413"/>
                  <a:pt x="712255" y="1923830"/>
                  <a:pt x="599090" y="2065283"/>
                </a:cubicBezTo>
                <a:cubicBezTo>
                  <a:pt x="589804" y="2076890"/>
                  <a:pt x="579165" y="2087529"/>
                  <a:pt x="567558" y="2096814"/>
                </a:cubicBezTo>
                <a:cubicBezTo>
                  <a:pt x="552762" y="2108650"/>
                  <a:pt x="536027" y="2117835"/>
                  <a:pt x="520262" y="2128345"/>
                </a:cubicBezTo>
                <a:cubicBezTo>
                  <a:pt x="509752" y="2144111"/>
                  <a:pt x="502129" y="2162244"/>
                  <a:pt x="488731" y="2175642"/>
                </a:cubicBezTo>
                <a:cubicBezTo>
                  <a:pt x="383625" y="2280748"/>
                  <a:pt x="493988" y="2128343"/>
                  <a:pt x="409903" y="2254469"/>
                </a:cubicBezTo>
                <a:lnTo>
                  <a:pt x="378372" y="2349063"/>
                </a:lnTo>
                <a:cubicBezTo>
                  <a:pt x="360739" y="2401964"/>
                  <a:pt x="344079" y="2419682"/>
                  <a:pt x="409903" y="2364828"/>
                </a:cubicBezTo>
                <a:cubicBezTo>
                  <a:pt x="488632" y="2299220"/>
                  <a:pt x="421379" y="2329471"/>
                  <a:pt x="504496" y="2301766"/>
                </a:cubicBezTo>
                <a:cubicBezTo>
                  <a:pt x="626747" y="2220266"/>
                  <a:pt x="563137" y="2250689"/>
                  <a:pt x="693683" y="2207173"/>
                </a:cubicBezTo>
                <a:lnTo>
                  <a:pt x="740979" y="2191407"/>
                </a:lnTo>
                <a:cubicBezTo>
                  <a:pt x="756745" y="2196662"/>
                  <a:pt x="776525" y="2195422"/>
                  <a:pt x="788276" y="2207173"/>
                </a:cubicBezTo>
                <a:cubicBezTo>
                  <a:pt x="822855" y="2241752"/>
                  <a:pt x="798639" y="2275637"/>
                  <a:pt x="772510" y="2301766"/>
                </a:cubicBezTo>
                <a:cubicBezTo>
                  <a:pt x="759112" y="2315164"/>
                  <a:pt x="740979" y="2322787"/>
                  <a:pt x="725214" y="2333297"/>
                </a:cubicBezTo>
                <a:cubicBezTo>
                  <a:pt x="714704" y="2354318"/>
                  <a:pt x="705775" y="2376206"/>
                  <a:pt x="693683" y="2396359"/>
                </a:cubicBezTo>
                <a:cubicBezTo>
                  <a:pt x="674186" y="2428854"/>
                  <a:pt x="651642" y="2459421"/>
                  <a:pt x="630621" y="2490952"/>
                </a:cubicBezTo>
                <a:cubicBezTo>
                  <a:pt x="620111" y="2506718"/>
                  <a:pt x="605082" y="2520274"/>
                  <a:pt x="599090" y="2538249"/>
                </a:cubicBezTo>
                <a:lnTo>
                  <a:pt x="583324" y="2585545"/>
                </a:lnTo>
                <a:cubicBezTo>
                  <a:pt x="588579" y="2627586"/>
                  <a:pt x="562304" y="2690648"/>
                  <a:pt x="599090" y="2711669"/>
                </a:cubicBezTo>
                <a:cubicBezTo>
                  <a:pt x="606433" y="2715865"/>
                  <a:pt x="739022" y="2614603"/>
                  <a:pt x="756745" y="2601311"/>
                </a:cubicBezTo>
                <a:cubicBezTo>
                  <a:pt x="785510" y="2558163"/>
                  <a:pt x="785787" y="2544610"/>
                  <a:pt x="835572" y="2522483"/>
                </a:cubicBezTo>
                <a:cubicBezTo>
                  <a:pt x="865944" y="2508984"/>
                  <a:pt x="930165" y="2490952"/>
                  <a:pt x="930165" y="2490952"/>
                </a:cubicBezTo>
                <a:cubicBezTo>
                  <a:pt x="924910" y="2511973"/>
                  <a:pt x="924090" y="2534634"/>
                  <a:pt x="914400" y="2554014"/>
                </a:cubicBezTo>
                <a:cubicBezTo>
                  <a:pt x="897453" y="2587909"/>
                  <a:pt x="872359" y="2617076"/>
                  <a:pt x="851338" y="2648607"/>
                </a:cubicBezTo>
                <a:cubicBezTo>
                  <a:pt x="840828" y="2664373"/>
                  <a:pt x="825799" y="2677929"/>
                  <a:pt x="819807" y="2695904"/>
                </a:cubicBezTo>
                <a:cubicBezTo>
                  <a:pt x="814552" y="2711669"/>
                  <a:pt x="792290" y="2731449"/>
                  <a:pt x="804041" y="2743200"/>
                </a:cubicBezTo>
                <a:cubicBezTo>
                  <a:pt x="815792" y="2754951"/>
                  <a:pt x="835572" y="2732690"/>
                  <a:pt x="851338" y="2727435"/>
                </a:cubicBezTo>
                <a:cubicBezTo>
                  <a:pt x="926289" y="2677467"/>
                  <a:pt x="880658" y="2701896"/>
                  <a:pt x="993227" y="2664373"/>
                </a:cubicBezTo>
                <a:lnTo>
                  <a:pt x="1040524" y="2648607"/>
                </a:lnTo>
                <a:cubicBezTo>
                  <a:pt x="1045779" y="2664373"/>
                  <a:pt x="1044539" y="2684153"/>
                  <a:pt x="1056290" y="2695904"/>
                </a:cubicBezTo>
                <a:cubicBezTo>
                  <a:pt x="1087820" y="2727434"/>
                  <a:pt x="1119353" y="2706414"/>
                  <a:pt x="1150883" y="2695904"/>
                </a:cubicBezTo>
                <a:cubicBezTo>
                  <a:pt x="1186918" y="2707916"/>
                  <a:pt x="1219951" y="2704913"/>
                  <a:pt x="1213945" y="2758966"/>
                </a:cubicBezTo>
                <a:cubicBezTo>
                  <a:pt x="1210275" y="2791999"/>
                  <a:pt x="1192924" y="2822028"/>
                  <a:pt x="1182414" y="2853559"/>
                </a:cubicBezTo>
                <a:lnTo>
                  <a:pt x="1166648" y="2900856"/>
                </a:lnTo>
                <a:cubicBezTo>
                  <a:pt x="1182414" y="2911366"/>
                  <a:pt x="1196529" y="2924923"/>
                  <a:pt x="1213945" y="2932387"/>
                </a:cubicBezTo>
                <a:cubicBezTo>
                  <a:pt x="1233861" y="2940922"/>
                  <a:pt x="1269399" y="2927864"/>
                  <a:pt x="1277007" y="2948152"/>
                </a:cubicBezTo>
                <a:cubicBezTo>
                  <a:pt x="1290055" y="2982946"/>
                  <a:pt x="1269597" y="3022303"/>
                  <a:pt x="1261241" y="3058511"/>
                </a:cubicBezTo>
                <a:cubicBezTo>
                  <a:pt x="1241376" y="3144593"/>
                  <a:pt x="1238080" y="3140549"/>
                  <a:pt x="1198179" y="3200400"/>
                </a:cubicBezTo>
                <a:cubicBezTo>
                  <a:pt x="1192924" y="3216166"/>
                  <a:pt x="1186787" y="3231664"/>
                  <a:pt x="1182414" y="3247697"/>
                </a:cubicBezTo>
                <a:cubicBezTo>
                  <a:pt x="1171012" y="3289505"/>
                  <a:pt x="1164587" y="3332710"/>
                  <a:pt x="1150883" y="3373821"/>
                </a:cubicBezTo>
                <a:lnTo>
                  <a:pt x="1135117" y="3421118"/>
                </a:lnTo>
                <a:cubicBezTo>
                  <a:pt x="1140372" y="3610304"/>
                  <a:pt x="1150883" y="3799417"/>
                  <a:pt x="1150883" y="3988676"/>
                </a:cubicBezTo>
                <a:cubicBezTo>
                  <a:pt x="1150883" y="4114799"/>
                  <a:pt x="1108841" y="3957148"/>
                  <a:pt x="1150883" y="4083269"/>
                </a:cubicBezTo>
                <a:cubicBezTo>
                  <a:pt x="1166648" y="4062248"/>
                  <a:pt x="1185143" y="4043021"/>
                  <a:pt x="1198179" y="4020207"/>
                </a:cubicBezTo>
                <a:cubicBezTo>
                  <a:pt x="1213548" y="3993312"/>
                  <a:pt x="1224991" y="3915320"/>
                  <a:pt x="1229710" y="3894083"/>
                </a:cubicBezTo>
                <a:cubicBezTo>
                  <a:pt x="1234410" y="3872931"/>
                  <a:pt x="1239250" y="3851775"/>
                  <a:pt x="1245476" y="3831021"/>
                </a:cubicBezTo>
                <a:cubicBezTo>
                  <a:pt x="1258857" y="3786419"/>
                  <a:pt x="1272334" y="3725335"/>
                  <a:pt x="1308538" y="3689131"/>
                </a:cubicBezTo>
                <a:cubicBezTo>
                  <a:pt x="1321936" y="3675733"/>
                  <a:pt x="1340069" y="3668110"/>
                  <a:pt x="1355834" y="3657600"/>
                </a:cubicBezTo>
                <a:cubicBezTo>
                  <a:pt x="1350579" y="3704897"/>
                  <a:pt x="1346799" y="3752381"/>
                  <a:pt x="1340069" y="3799490"/>
                </a:cubicBezTo>
                <a:cubicBezTo>
                  <a:pt x="1336279" y="3826017"/>
                  <a:pt x="1324303" y="3851522"/>
                  <a:pt x="1324303" y="3878318"/>
                </a:cubicBezTo>
                <a:cubicBezTo>
                  <a:pt x="1324303" y="3910284"/>
                  <a:pt x="1332316" y="3941899"/>
                  <a:pt x="1340069" y="3972911"/>
                </a:cubicBezTo>
                <a:cubicBezTo>
                  <a:pt x="1348130" y="4005155"/>
                  <a:pt x="1343946" y="4049068"/>
                  <a:pt x="1371600" y="4067504"/>
                </a:cubicBezTo>
                <a:lnTo>
                  <a:pt x="1418896" y="4099035"/>
                </a:lnTo>
                <a:cubicBezTo>
                  <a:pt x="1429406" y="4114800"/>
                  <a:pt x="1438096" y="4131945"/>
                  <a:pt x="1450427" y="4146331"/>
                </a:cubicBezTo>
                <a:cubicBezTo>
                  <a:pt x="1469774" y="4168902"/>
                  <a:pt x="1497000" y="4184659"/>
                  <a:pt x="1513490" y="4209394"/>
                </a:cubicBezTo>
                <a:cubicBezTo>
                  <a:pt x="1524000" y="4225159"/>
                  <a:pt x="1530225" y="4244853"/>
                  <a:pt x="1545021" y="4256690"/>
                </a:cubicBezTo>
                <a:cubicBezTo>
                  <a:pt x="1557998" y="4267071"/>
                  <a:pt x="1576552" y="4267201"/>
                  <a:pt x="1592317" y="4272456"/>
                </a:cubicBezTo>
                <a:cubicBezTo>
                  <a:pt x="1598988" y="4219090"/>
                  <a:pt x="1605053" y="4103578"/>
                  <a:pt x="1639614" y="4051738"/>
                </a:cubicBezTo>
                <a:lnTo>
                  <a:pt x="1671145" y="4004442"/>
                </a:lnTo>
                <a:cubicBezTo>
                  <a:pt x="1686910" y="4009697"/>
                  <a:pt x="1705464" y="4009826"/>
                  <a:pt x="1718441" y="4020207"/>
                </a:cubicBezTo>
                <a:cubicBezTo>
                  <a:pt x="1775686" y="4066003"/>
                  <a:pt x="1758070" y="4175319"/>
                  <a:pt x="1765738" y="4225159"/>
                </a:cubicBezTo>
                <a:cubicBezTo>
                  <a:pt x="1768265" y="4241584"/>
                  <a:pt x="1769752" y="4260705"/>
                  <a:pt x="1781503" y="4272456"/>
                </a:cubicBezTo>
                <a:cubicBezTo>
                  <a:pt x="1808299" y="4299252"/>
                  <a:pt x="1844565" y="4314497"/>
                  <a:pt x="1876096" y="4335518"/>
                </a:cubicBezTo>
                <a:lnTo>
                  <a:pt x="1970690" y="4398580"/>
                </a:lnTo>
                <a:cubicBezTo>
                  <a:pt x="1986455" y="4409090"/>
                  <a:pt x="2004588" y="4416713"/>
                  <a:pt x="2017986" y="4430111"/>
                </a:cubicBezTo>
                <a:lnTo>
                  <a:pt x="2065283" y="4477407"/>
                </a:lnTo>
                <a:cubicBezTo>
                  <a:pt x="2049888" y="4338860"/>
                  <a:pt x="2039073" y="4358872"/>
                  <a:pt x="2065283" y="4240925"/>
                </a:cubicBezTo>
                <a:cubicBezTo>
                  <a:pt x="2068888" y="4224702"/>
                  <a:pt x="2070667" y="4206605"/>
                  <a:pt x="2081048" y="4193628"/>
                </a:cubicBezTo>
                <a:cubicBezTo>
                  <a:pt x="2092885" y="4178832"/>
                  <a:pt x="2112579" y="4172607"/>
                  <a:pt x="2128345" y="4162097"/>
                </a:cubicBezTo>
                <a:cubicBezTo>
                  <a:pt x="2181339" y="4321086"/>
                  <a:pt x="2100472" y="4074445"/>
                  <a:pt x="2159876" y="4272456"/>
                </a:cubicBezTo>
                <a:cubicBezTo>
                  <a:pt x="2173257" y="4317059"/>
                  <a:pt x="2186733" y="4378140"/>
                  <a:pt x="2222938" y="4414345"/>
                </a:cubicBezTo>
                <a:cubicBezTo>
                  <a:pt x="2236336" y="4427743"/>
                  <a:pt x="2254469" y="4435366"/>
                  <a:pt x="2270234" y="4445876"/>
                </a:cubicBezTo>
                <a:cubicBezTo>
                  <a:pt x="2362982" y="4306755"/>
                  <a:pt x="2220730" y="4529119"/>
                  <a:pt x="2333296" y="4303987"/>
                </a:cubicBezTo>
                <a:cubicBezTo>
                  <a:pt x="2343806" y="4282966"/>
                  <a:pt x="2356099" y="4262746"/>
                  <a:pt x="2364827" y="4240925"/>
                </a:cubicBezTo>
                <a:cubicBezTo>
                  <a:pt x="2421110" y="4100216"/>
                  <a:pt x="2367226" y="4190027"/>
                  <a:pt x="2427890" y="4099035"/>
                </a:cubicBezTo>
                <a:cubicBezTo>
                  <a:pt x="2455638" y="4015787"/>
                  <a:pt x="2434437" y="4065565"/>
                  <a:pt x="2506717" y="3957145"/>
                </a:cubicBezTo>
                <a:cubicBezTo>
                  <a:pt x="2517227" y="3941380"/>
                  <a:pt x="2524850" y="3923247"/>
                  <a:pt x="2538248" y="3909849"/>
                </a:cubicBezTo>
                <a:cubicBezTo>
                  <a:pt x="2554014" y="3894083"/>
                  <a:pt x="2571271" y="3879680"/>
                  <a:pt x="2585545" y="3862552"/>
                </a:cubicBezTo>
                <a:cubicBezTo>
                  <a:pt x="2695299" y="3730848"/>
                  <a:pt x="2526186" y="3906148"/>
                  <a:pt x="2664372" y="3767959"/>
                </a:cubicBezTo>
                <a:cubicBezTo>
                  <a:pt x="2669627" y="3752194"/>
                  <a:pt x="2671588" y="3734913"/>
                  <a:pt x="2680138" y="3720663"/>
                </a:cubicBezTo>
                <a:cubicBezTo>
                  <a:pt x="2687786" y="3707917"/>
                  <a:pt x="2705022" y="3702426"/>
                  <a:pt x="2711669" y="3689131"/>
                </a:cubicBezTo>
                <a:cubicBezTo>
                  <a:pt x="2711672" y="3689124"/>
                  <a:pt x="2751081" y="3570894"/>
                  <a:pt x="2758965" y="3547242"/>
                </a:cubicBezTo>
                <a:lnTo>
                  <a:pt x="2790496" y="3452649"/>
                </a:lnTo>
                <a:lnTo>
                  <a:pt x="2806262" y="3405352"/>
                </a:lnTo>
                <a:cubicBezTo>
                  <a:pt x="2801007" y="3310759"/>
                  <a:pt x="2798703" y="3215956"/>
                  <a:pt x="2790496" y="3121573"/>
                </a:cubicBezTo>
                <a:cubicBezTo>
                  <a:pt x="2788175" y="3094877"/>
                  <a:pt x="2780544" y="3068903"/>
                  <a:pt x="2774731" y="3042745"/>
                </a:cubicBezTo>
                <a:cubicBezTo>
                  <a:pt x="2724680" y="2817516"/>
                  <a:pt x="2806042" y="3199531"/>
                  <a:pt x="2727434" y="2885090"/>
                </a:cubicBezTo>
                <a:lnTo>
                  <a:pt x="2711669" y="2822028"/>
                </a:lnTo>
                <a:cubicBezTo>
                  <a:pt x="2722179" y="2779987"/>
                  <a:pt x="2729497" y="2737016"/>
                  <a:pt x="2743200" y="2695904"/>
                </a:cubicBezTo>
                <a:cubicBezTo>
                  <a:pt x="2748455" y="2680138"/>
                  <a:pt x="2754934" y="2664729"/>
                  <a:pt x="2758965" y="2648607"/>
                </a:cubicBezTo>
                <a:cubicBezTo>
                  <a:pt x="2765464" y="2622611"/>
                  <a:pt x="2769476" y="2596056"/>
                  <a:pt x="2774731" y="2569780"/>
                </a:cubicBezTo>
                <a:cubicBezTo>
                  <a:pt x="2768026" y="2469210"/>
                  <a:pt x="2770780" y="2355598"/>
                  <a:pt x="2743200" y="2254469"/>
                </a:cubicBezTo>
                <a:cubicBezTo>
                  <a:pt x="2734455" y="2222404"/>
                  <a:pt x="2722179" y="2191407"/>
                  <a:pt x="2711669" y="2159876"/>
                </a:cubicBezTo>
                <a:lnTo>
                  <a:pt x="2680138" y="2065283"/>
                </a:lnTo>
                <a:lnTo>
                  <a:pt x="2664372" y="2017987"/>
                </a:lnTo>
                <a:cubicBezTo>
                  <a:pt x="2669627" y="1996966"/>
                  <a:pt x="2680138" y="1976593"/>
                  <a:pt x="2680138" y="1954925"/>
                </a:cubicBezTo>
                <a:cubicBezTo>
                  <a:pt x="2680138" y="1938306"/>
                  <a:pt x="2671804" y="1922492"/>
                  <a:pt x="2664372" y="1907628"/>
                </a:cubicBezTo>
                <a:cubicBezTo>
                  <a:pt x="2646545" y="1871974"/>
                  <a:pt x="2639247" y="1866737"/>
                  <a:pt x="2617076" y="1844566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0"/>
          <p:cNvSpPr/>
          <p:nvPr/>
        </p:nvSpPr>
        <p:spPr>
          <a:xfrm>
            <a:off x="7157880" y="3484440"/>
            <a:ext cx="362160" cy="157320"/>
          </a:xfrm>
          <a:custGeom>
            <a:avLst/>
            <a:gdLst/>
            <a:ahLst/>
            <a:rect l="l" t="t" r="r" b="b"/>
            <a:pathLst>
              <a:path w="362607" h="157655">
                <a:moveTo>
                  <a:pt x="362607" y="157655"/>
                </a:moveTo>
                <a:cubicBezTo>
                  <a:pt x="304800" y="141890"/>
                  <a:pt x="246670" y="127266"/>
                  <a:pt x="189186" y="110359"/>
                </a:cubicBezTo>
                <a:cubicBezTo>
                  <a:pt x="157300" y="100981"/>
                  <a:pt x="126124" y="89338"/>
                  <a:pt x="94593" y="78828"/>
                </a:cubicBezTo>
                <a:lnTo>
                  <a:pt x="47296" y="63062"/>
                </a:lnTo>
                <a:cubicBezTo>
                  <a:pt x="11642" y="9582"/>
                  <a:pt x="29163" y="29164"/>
                  <a:pt x="0" y="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6948360" y="2852640"/>
            <a:ext cx="390600" cy="28440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2"/>
          <p:cNvSpPr/>
          <p:nvPr/>
        </p:nvSpPr>
        <p:spPr>
          <a:xfrm>
            <a:off x="7093080" y="2927520"/>
            <a:ext cx="195120" cy="1411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13"/>
          <p:cNvSpPr/>
          <p:nvPr/>
        </p:nvSpPr>
        <p:spPr>
          <a:xfrm>
            <a:off x="6448320" y="2568600"/>
            <a:ext cx="598680" cy="1454040"/>
          </a:xfrm>
          <a:custGeom>
            <a:avLst/>
            <a:gdLst/>
            <a:ahLst/>
            <a:rect l="l" t="t" r="r" b="b"/>
            <a:pathLst>
              <a:path w="599089" h="1453021">
                <a:moveTo>
                  <a:pt x="599089" y="16582"/>
                </a:moveTo>
                <a:cubicBezTo>
                  <a:pt x="541282" y="11327"/>
                  <a:pt x="483543" y="-3636"/>
                  <a:pt x="425669" y="816"/>
                </a:cubicBezTo>
                <a:cubicBezTo>
                  <a:pt x="410849" y="1956"/>
                  <a:pt x="405744" y="23062"/>
                  <a:pt x="394137" y="32347"/>
                </a:cubicBezTo>
                <a:cubicBezTo>
                  <a:pt x="379341" y="44183"/>
                  <a:pt x="362606" y="53368"/>
                  <a:pt x="346841" y="63878"/>
                </a:cubicBezTo>
                <a:cubicBezTo>
                  <a:pt x="341586" y="158471"/>
                  <a:pt x="350592" y="254951"/>
                  <a:pt x="331075" y="347658"/>
                </a:cubicBezTo>
                <a:cubicBezTo>
                  <a:pt x="327652" y="363920"/>
                  <a:pt x="298643" y="355991"/>
                  <a:pt x="283779" y="363423"/>
                </a:cubicBezTo>
                <a:cubicBezTo>
                  <a:pt x="266831" y="371897"/>
                  <a:pt x="251038" y="382824"/>
                  <a:pt x="236482" y="394954"/>
                </a:cubicBezTo>
                <a:cubicBezTo>
                  <a:pt x="161116" y="457760"/>
                  <a:pt x="214023" y="421906"/>
                  <a:pt x="157655" y="489547"/>
                </a:cubicBezTo>
                <a:cubicBezTo>
                  <a:pt x="143381" y="506675"/>
                  <a:pt x="126124" y="521078"/>
                  <a:pt x="110358" y="536844"/>
                </a:cubicBezTo>
                <a:cubicBezTo>
                  <a:pt x="116354" y="566821"/>
                  <a:pt x="125731" y="630652"/>
                  <a:pt x="141889" y="662968"/>
                </a:cubicBezTo>
                <a:cubicBezTo>
                  <a:pt x="150363" y="679916"/>
                  <a:pt x="160022" y="696867"/>
                  <a:pt x="173420" y="710265"/>
                </a:cubicBezTo>
                <a:cubicBezTo>
                  <a:pt x="186818" y="723663"/>
                  <a:pt x="204951" y="731286"/>
                  <a:pt x="220717" y="741796"/>
                </a:cubicBezTo>
                <a:cubicBezTo>
                  <a:pt x="204951" y="752306"/>
                  <a:pt x="190368" y="764853"/>
                  <a:pt x="173420" y="773327"/>
                </a:cubicBezTo>
                <a:cubicBezTo>
                  <a:pt x="158556" y="780759"/>
                  <a:pt x="139101" y="778711"/>
                  <a:pt x="126124" y="789092"/>
                </a:cubicBezTo>
                <a:cubicBezTo>
                  <a:pt x="111328" y="800929"/>
                  <a:pt x="107991" y="822991"/>
                  <a:pt x="94593" y="836389"/>
                </a:cubicBezTo>
                <a:cubicBezTo>
                  <a:pt x="81195" y="849787"/>
                  <a:pt x="63062" y="857410"/>
                  <a:pt x="47296" y="867920"/>
                </a:cubicBezTo>
                <a:cubicBezTo>
                  <a:pt x="31353" y="891835"/>
                  <a:pt x="0" y="929875"/>
                  <a:pt x="0" y="962513"/>
                </a:cubicBezTo>
                <a:cubicBezTo>
                  <a:pt x="0" y="979131"/>
                  <a:pt x="6547" y="995982"/>
                  <a:pt x="15765" y="1009809"/>
                </a:cubicBezTo>
                <a:cubicBezTo>
                  <a:pt x="45402" y="1054265"/>
                  <a:pt x="120070" y="1095111"/>
                  <a:pt x="157655" y="1120168"/>
                </a:cubicBezTo>
                <a:lnTo>
                  <a:pt x="204951" y="1151699"/>
                </a:lnTo>
                <a:cubicBezTo>
                  <a:pt x="162910" y="1179727"/>
                  <a:pt x="143040" y="1188508"/>
                  <a:pt x="110358" y="1230527"/>
                </a:cubicBezTo>
                <a:cubicBezTo>
                  <a:pt x="87092" y="1260440"/>
                  <a:pt x="47296" y="1325120"/>
                  <a:pt x="47296" y="1325120"/>
                </a:cubicBezTo>
                <a:cubicBezTo>
                  <a:pt x="52551" y="1340885"/>
                  <a:pt x="52681" y="1359439"/>
                  <a:pt x="63062" y="1372416"/>
                </a:cubicBezTo>
                <a:cubicBezTo>
                  <a:pt x="90318" y="1406485"/>
                  <a:pt x="176046" y="1425843"/>
                  <a:pt x="204951" y="1435478"/>
                </a:cubicBezTo>
                <a:cubicBezTo>
                  <a:pt x="220717" y="1440733"/>
                  <a:pt x="267112" y="1458676"/>
                  <a:pt x="252248" y="1451244"/>
                </a:cubicBezTo>
                <a:lnTo>
                  <a:pt x="220717" y="1435478"/>
                </a:lnTo>
              </a:path>
            </a:pathLst>
          </a:custGeom>
          <a:noFill/>
          <a:ln cap="rnd" w="19080">
            <a:solidFill>
              <a:srgbClr val="eaf6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14"/>
          <p:cNvSpPr/>
          <p:nvPr/>
        </p:nvSpPr>
        <p:spPr>
          <a:xfrm>
            <a:off x="5975280" y="2443320"/>
            <a:ext cx="771480" cy="1593720"/>
          </a:xfrm>
          <a:custGeom>
            <a:avLst/>
            <a:gdLst/>
            <a:ahLst/>
            <a:rect l="l" t="t" r="r" b="b"/>
            <a:pathLst>
              <a:path w="772510" h="1592811">
                <a:moveTo>
                  <a:pt x="772510" y="0"/>
                </a:moveTo>
                <a:cubicBezTo>
                  <a:pt x="714703" y="5255"/>
                  <a:pt x="656552" y="7557"/>
                  <a:pt x="599090" y="15766"/>
                </a:cubicBezTo>
                <a:cubicBezTo>
                  <a:pt x="582639" y="18116"/>
                  <a:pt x="561452" y="18008"/>
                  <a:pt x="551793" y="31531"/>
                </a:cubicBezTo>
                <a:cubicBezTo>
                  <a:pt x="532474" y="58577"/>
                  <a:pt x="520262" y="126124"/>
                  <a:pt x="520262" y="126124"/>
                </a:cubicBezTo>
                <a:cubicBezTo>
                  <a:pt x="530772" y="157655"/>
                  <a:pt x="584577" y="215253"/>
                  <a:pt x="551793" y="220717"/>
                </a:cubicBezTo>
                <a:cubicBezTo>
                  <a:pt x="520262" y="225972"/>
                  <a:pt x="488212" y="228730"/>
                  <a:pt x="457200" y="236483"/>
                </a:cubicBezTo>
                <a:cubicBezTo>
                  <a:pt x="424956" y="244544"/>
                  <a:pt x="362607" y="268014"/>
                  <a:pt x="362607" y="268014"/>
                </a:cubicBezTo>
                <a:cubicBezTo>
                  <a:pt x="290327" y="376434"/>
                  <a:pt x="311529" y="326656"/>
                  <a:pt x="283779" y="409904"/>
                </a:cubicBezTo>
                <a:cubicBezTo>
                  <a:pt x="289034" y="430925"/>
                  <a:pt x="293592" y="452132"/>
                  <a:pt x="299545" y="472966"/>
                </a:cubicBezTo>
                <a:cubicBezTo>
                  <a:pt x="304110" y="488945"/>
                  <a:pt x="327061" y="508511"/>
                  <a:pt x="315310" y="520262"/>
                </a:cubicBezTo>
                <a:cubicBezTo>
                  <a:pt x="291808" y="543764"/>
                  <a:pt x="220717" y="551793"/>
                  <a:pt x="220717" y="551793"/>
                </a:cubicBezTo>
                <a:cubicBezTo>
                  <a:pt x="195492" y="568610"/>
                  <a:pt x="146094" y="592783"/>
                  <a:pt x="141890" y="630621"/>
                </a:cubicBezTo>
                <a:cubicBezTo>
                  <a:pt x="138360" y="662391"/>
                  <a:pt x="150721" y="694009"/>
                  <a:pt x="157655" y="725214"/>
                </a:cubicBezTo>
                <a:cubicBezTo>
                  <a:pt x="161260" y="741437"/>
                  <a:pt x="161670" y="760760"/>
                  <a:pt x="173421" y="772511"/>
                </a:cubicBezTo>
                <a:cubicBezTo>
                  <a:pt x="200217" y="799307"/>
                  <a:pt x="236483" y="814552"/>
                  <a:pt x="268014" y="835573"/>
                </a:cubicBezTo>
                <a:lnTo>
                  <a:pt x="315310" y="867104"/>
                </a:lnTo>
                <a:cubicBezTo>
                  <a:pt x="294289" y="872359"/>
                  <a:pt x="273495" y="878620"/>
                  <a:pt x="252248" y="882869"/>
                </a:cubicBezTo>
                <a:cubicBezTo>
                  <a:pt x="220903" y="889138"/>
                  <a:pt x="187981" y="888526"/>
                  <a:pt x="157655" y="898635"/>
                </a:cubicBezTo>
                <a:cubicBezTo>
                  <a:pt x="139680" y="904627"/>
                  <a:pt x="126124" y="919656"/>
                  <a:pt x="110359" y="930166"/>
                </a:cubicBezTo>
                <a:cubicBezTo>
                  <a:pt x="89338" y="961697"/>
                  <a:pt x="35314" y="988808"/>
                  <a:pt x="47297" y="1024759"/>
                </a:cubicBezTo>
                <a:cubicBezTo>
                  <a:pt x="52552" y="1040524"/>
                  <a:pt x="55630" y="1057191"/>
                  <a:pt x="63062" y="1072055"/>
                </a:cubicBezTo>
                <a:cubicBezTo>
                  <a:pt x="71536" y="1089003"/>
                  <a:pt x="81195" y="1105954"/>
                  <a:pt x="94593" y="1119352"/>
                </a:cubicBezTo>
                <a:cubicBezTo>
                  <a:pt x="125155" y="1149914"/>
                  <a:pt x="150719" y="1153826"/>
                  <a:pt x="189186" y="1166648"/>
                </a:cubicBezTo>
                <a:cubicBezTo>
                  <a:pt x="170089" y="1169831"/>
                  <a:pt x="77149" y="1180268"/>
                  <a:pt x="47297" y="1198179"/>
                </a:cubicBezTo>
                <a:cubicBezTo>
                  <a:pt x="34551" y="1205827"/>
                  <a:pt x="26276" y="1219200"/>
                  <a:pt x="15766" y="1229711"/>
                </a:cubicBezTo>
                <a:cubicBezTo>
                  <a:pt x="10511" y="1245476"/>
                  <a:pt x="0" y="1260389"/>
                  <a:pt x="0" y="1277007"/>
                </a:cubicBezTo>
                <a:cubicBezTo>
                  <a:pt x="0" y="1308973"/>
                  <a:pt x="9497" y="1340255"/>
                  <a:pt x="15766" y="1371600"/>
                </a:cubicBezTo>
                <a:cubicBezTo>
                  <a:pt x="24812" y="1416828"/>
                  <a:pt x="29407" y="1448304"/>
                  <a:pt x="63062" y="1481959"/>
                </a:cubicBezTo>
                <a:cubicBezTo>
                  <a:pt x="93624" y="1512521"/>
                  <a:pt x="119188" y="1516433"/>
                  <a:pt x="157655" y="1529255"/>
                </a:cubicBezTo>
                <a:cubicBezTo>
                  <a:pt x="141890" y="1534510"/>
                  <a:pt x="114389" y="1528899"/>
                  <a:pt x="110359" y="1545021"/>
                </a:cubicBezTo>
                <a:cubicBezTo>
                  <a:pt x="96349" y="1601062"/>
                  <a:pt x="151438" y="1592317"/>
                  <a:pt x="173421" y="1592317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15"/>
          <p:cNvSpPr/>
          <p:nvPr/>
        </p:nvSpPr>
        <p:spPr>
          <a:xfrm>
            <a:off x="5565600" y="2317680"/>
            <a:ext cx="930600" cy="1649520"/>
          </a:xfrm>
          <a:custGeom>
            <a:avLst/>
            <a:gdLst/>
            <a:ahLst/>
            <a:rect l="l" t="t" r="r" b="b"/>
            <a:pathLst>
              <a:path w="930165" h="1649254">
                <a:moveTo>
                  <a:pt x="930165" y="47379"/>
                </a:moveTo>
                <a:cubicBezTo>
                  <a:pt x="872358" y="31613"/>
                  <a:pt x="816559" y="3601"/>
                  <a:pt x="756744" y="82"/>
                </a:cubicBezTo>
                <a:cubicBezTo>
                  <a:pt x="723565" y="-1870"/>
                  <a:pt x="662151" y="31613"/>
                  <a:pt x="662151" y="31613"/>
                </a:cubicBezTo>
                <a:cubicBezTo>
                  <a:pt x="651641" y="47379"/>
                  <a:pt x="644018" y="65512"/>
                  <a:pt x="630620" y="78910"/>
                </a:cubicBezTo>
                <a:cubicBezTo>
                  <a:pt x="617222" y="92308"/>
                  <a:pt x="595161" y="95645"/>
                  <a:pt x="583324" y="110441"/>
                </a:cubicBezTo>
                <a:cubicBezTo>
                  <a:pt x="572943" y="123418"/>
                  <a:pt x="572813" y="141972"/>
                  <a:pt x="567558" y="157737"/>
                </a:cubicBezTo>
                <a:cubicBezTo>
                  <a:pt x="572813" y="173503"/>
                  <a:pt x="574106" y="191207"/>
                  <a:pt x="583324" y="205034"/>
                </a:cubicBezTo>
                <a:cubicBezTo>
                  <a:pt x="595691" y="223585"/>
                  <a:pt x="636028" y="230700"/>
                  <a:pt x="630620" y="252330"/>
                </a:cubicBezTo>
                <a:cubicBezTo>
                  <a:pt x="625365" y="273351"/>
                  <a:pt x="588710" y="263396"/>
                  <a:pt x="567558" y="268096"/>
                </a:cubicBezTo>
                <a:cubicBezTo>
                  <a:pt x="541400" y="273909"/>
                  <a:pt x="515007" y="278606"/>
                  <a:pt x="488731" y="283861"/>
                </a:cubicBezTo>
                <a:cubicBezTo>
                  <a:pt x="472965" y="294371"/>
                  <a:pt x="454832" y="301994"/>
                  <a:pt x="441434" y="315392"/>
                </a:cubicBezTo>
                <a:cubicBezTo>
                  <a:pt x="410872" y="345954"/>
                  <a:pt x="406960" y="371518"/>
                  <a:pt x="394138" y="409985"/>
                </a:cubicBezTo>
                <a:cubicBezTo>
                  <a:pt x="399393" y="425751"/>
                  <a:pt x="402471" y="442418"/>
                  <a:pt x="409903" y="457282"/>
                </a:cubicBezTo>
                <a:cubicBezTo>
                  <a:pt x="438427" y="514331"/>
                  <a:pt x="470132" y="514145"/>
                  <a:pt x="394138" y="488813"/>
                </a:cubicBezTo>
                <a:lnTo>
                  <a:pt x="299544" y="520344"/>
                </a:lnTo>
                <a:cubicBezTo>
                  <a:pt x="283779" y="525599"/>
                  <a:pt x="266075" y="526892"/>
                  <a:pt x="252248" y="536110"/>
                </a:cubicBezTo>
                <a:lnTo>
                  <a:pt x="204951" y="567641"/>
                </a:lnTo>
                <a:cubicBezTo>
                  <a:pt x="199696" y="583406"/>
                  <a:pt x="189186" y="598319"/>
                  <a:pt x="189186" y="614937"/>
                </a:cubicBezTo>
                <a:cubicBezTo>
                  <a:pt x="189186" y="657038"/>
                  <a:pt x="223810" y="685831"/>
                  <a:pt x="252248" y="709530"/>
                </a:cubicBezTo>
                <a:cubicBezTo>
                  <a:pt x="266804" y="721660"/>
                  <a:pt x="299544" y="741061"/>
                  <a:pt x="299544" y="741061"/>
                </a:cubicBezTo>
                <a:cubicBezTo>
                  <a:pt x="258881" y="746870"/>
                  <a:pt x="185912" y="750581"/>
                  <a:pt x="141889" y="772592"/>
                </a:cubicBezTo>
                <a:cubicBezTo>
                  <a:pt x="124942" y="781066"/>
                  <a:pt x="110358" y="793613"/>
                  <a:pt x="94593" y="804123"/>
                </a:cubicBezTo>
                <a:cubicBezTo>
                  <a:pt x="89338" y="819889"/>
                  <a:pt x="78827" y="834801"/>
                  <a:pt x="78827" y="851420"/>
                </a:cubicBezTo>
                <a:cubicBezTo>
                  <a:pt x="78827" y="887632"/>
                  <a:pt x="113453" y="930215"/>
                  <a:pt x="141889" y="946013"/>
                </a:cubicBezTo>
                <a:cubicBezTo>
                  <a:pt x="170943" y="962154"/>
                  <a:pt x="236482" y="977544"/>
                  <a:pt x="236482" y="977544"/>
                </a:cubicBezTo>
                <a:cubicBezTo>
                  <a:pt x="210821" y="981821"/>
                  <a:pt x="127858" y="990595"/>
                  <a:pt x="94593" y="1009075"/>
                </a:cubicBezTo>
                <a:cubicBezTo>
                  <a:pt x="61466" y="1027479"/>
                  <a:pt x="0" y="1072137"/>
                  <a:pt x="0" y="1072137"/>
                </a:cubicBezTo>
                <a:cubicBezTo>
                  <a:pt x="10510" y="1103668"/>
                  <a:pt x="3876" y="1148294"/>
                  <a:pt x="31531" y="1166730"/>
                </a:cubicBezTo>
                <a:cubicBezTo>
                  <a:pt x="139951" y="1239010"/>
                  <a:pt x="90173" y="1217808"/>
                  <a:pt x="173420" y="1245558"/>
                </a:cubicBezTo>
                <a:cubicBezTo>
                  <a:pt x="168165" y="1229792"/>
                  <a:pt x="174106" y="1200611"/>
                  <a:pt x="157655" y="1198261"/>
                </a:cubicBezTo>
                <a:cubicBezTo>
                  <a:pt x="124752" y="1193560"/>
                  <a:pt x="63062" y="1229792"/>
                  <a:pt x="63062" y="1229792"/>
                </a:cubicBezTo>
                <a:cubicBezTo>
                  <a:pt x="18054" y="1297305"/>
                  <a:pt x="14858" y="1279321"/>
                  <a:pt x="47296" y="1387448"/>
                </a:cubicBezTo>
                <a:cubicBezTo>
                  <a:pt x="52741" y="1405597"/>
                  <a:pt x="65429" y="1421346"/>
                  <a:pt x="78827" y="1434744"/>
                </a:cubicBezTo>
                <a:cubicBezTo>
                  <a:pt x="92225" y="1448142"/>
                  <a:pt x="126124" y="1466275"/>
                  <a:pt x="126124" y="1466275"/>
                </a:cubicBezTo>
                <a:cubicBezTo>
                  <a:pt x="99848" y="1471530"/>
                  <a:pt x="62160" y="1459745"/>
                  <a:pt x="47296" y="1482041"/>
                </a:cubicBezTo>
                <a:cubicBezTo>
                  <a:pt x="32432" y="1504337"/>
                  <a:pt x="46611" y="1539717"/>
                  <a:pt x="63062" y="1560868"/>
                </a:cubicBezTo>
                <a:cubicBezTo>
                  <a:pt x="162027" y="1688108"/>
                  <a:pt x="157655" y="1653330"/>
                  <a:pt x="157655" y="1608165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16"/>
          <p:cNvSpPr/>
          <p:nvPr/>
        </p:nvSpPr>
        <p:spPr>
          <a:xfrm>
            <a:off x="5045040" y="2270160"/>
            <a:ext cx="882720" cy="1498680"/>
          </a:xfrm>
          <a:custGeom>
            <a:avLst/>
            <a:gdLst/>
            <a:ahLst/>
            <a:rect l="l" t="t" r="r" b="b"/>
            <a:pathLst>
              <a:path w="882868" h="1498168">
                <a:moveTo>
                  <a:pt x="882868" y="0"/>
                </a:moveTo>
                <a:cubicBezTo>
                  <a:pt x="814730" y="30972"/>
                  <a:pt x="710254" y="53971"/>
                  <a:pt x="662151" y="126125"/>
                </a:cubicBezTo>
                <a:cubicBezTo>
                  <a:pt x="652933" y="139952"/>
                  <a:pt x="651641" y="157656"/>
                  <a:pt x="646386" y="173421"/>
                </a:cubicBezTo>
                <a:cubicBezTo>
                  <a:pt x="651641" y="194442"/>
                  <a:pt x="656198" y="215649"/>
                  <a:pt x="662151" y="236483"/>
                </a:cubicBezTo>
                <a:cubicBezTo>
                  <a:pt x="666716" y="252462"/>
                  <a:pt x="684089" y="268350"/>
                  <a:pt x="677917" y="283780"/>
                </a:cubicBezTo>
                <a:cubicBezTo>
                  <a:pt x="670880" y="301373"/>
                  <a:pt x="648362" y="308658"/>
                  <a:pt x="630620" y="315311"/>
                </a:cubicBezTo>
                <a:cubicBezTo>
                  <a:pt x="605530" y="324720"/>
                  <a:pt x="577789" y="324577"/>
                  <a:pt x="551793" y="331076"/>
                </a:cubicBezTo>
                <a:cubicBezTo>
                  <a:pt x="535671" y="335107"/>
                  <a:pt x="520262" y="341587"/>
                  <a:pt x="504496" y="346842"/>
                </a:cubicBezTo>
                <a:cubicBezTo>
                  <a:pt x="488731" y="362607"/>
                  <a:pt x="469567" y="375587"/>
                  <a:pt x="457200" y="394138"/>
                </a:cubicBezTo>
                <a:cubicBezTo>
                  <a:pt x="428494" y="437196"/>
                  <a:pt x="445375" y="472964"/>
                  <a:pt x="457200" y="520263"/>
                </a:cubicBezTo>
                <a:cubicBezTo>
                  <a:pt x="461230" y="536385"/>
                  <a:pt x="467710" y="551794"/>
                  <a:pt x="472965" y="567559"/>
                </a:cubicBezTo>
                <a:cubicBezTo>
                  <a:pt x="452766" y="572609"/>
                  <a:pt x="385219" y="587784"/>
                  <a:pt x="362606" y="599090"/>
                </a:cubicBezTo>
                <a:cubicBezTo>
                  <a:pt x="345659" y="607564"/>
                  <a:pt x="331075" y="620111"/>
                  <a:pt x="315310" y="630621"/>
                </a:cubicBezTo>
                <a:cubicBezTo>
                  <a:pt x="304800" y="662152"/>
                  <a:pt x="273269" y="693683"/>
                  <a:pt x="283779" y="725214"/>
                </a:cubicBezTo>
                <a:cubicBezTo>
                  <a:pt x="289034" y="740980"/>
                  <a:pt x="292112" y="757647"/>
                  <a:pt x="299544" y="772511"/>
                </a:cubicBezTo>
                <a:cubicBezTo>
                  <a:pt x="308018" y="789458"/>
                  <a:pt x="339548" y="802860"/>
                  <a:pt x="331075" y="819807"/>
                </a:cubicBezTo>
                <a:cubicBezTo>
                  <a:pt x="323643" y="834671"/>
                  <a:pt x="299544" y="809297"/>
                  <a:pt x="283779" y="804042"/>
                </a:cubicBezTo>
                <a:cubicBezTo>
                  <a:pt x="171210" y="841565"/>
                  <a:pt x="216841" y="817137"/>
                  <a:pt x="141889" y="867104"/>
                </a:cubicBezTo>
                <a:cubicBezTo>
                  <a:pt x="131379" y="882869"/>
                  <a:pt x="118832" y="897453"/>
                  <a:pt x="110358" y="914400"/>
                </a:cubicBezTo>
                <a:cubicBezTo>
                  <a:pt x="94189" y="946739"/>
                  <a:pt x="84487" y="976655"/>
                  <a:pt x="110358" y="1008994"/>
                </a:cubicBezTo>
                <a:cubicBezTo>
                  <a:pt x="122195" y="1023790"/>
                  <a:pt x="141889" y="1030015"/>
                  <a:pt x="157655" y="1040525"/>
                </a:cubicBezTo>
                <a:cubicBezTo>
                  <a:pt x="141889" y="1051035"/>
                  <a:pt x="122835" y="1057796"/>
                  <a:pt x="110358" y="1072056"/>
                </a:cubicBezTo>
                <a:cubicBezTo>
                  <a:pt x="85404" y="1100575"/>
                  <a:pt x="47296" y="1166649"/>
                  <a:pt x="47296" y="1166649"/>
                </a:cubicBezTo>
                <a:cubicBezTo>
                  <a:pt x="8913" y="1281798"/>
                  <a:pt x="23826" y="1228998"/>
                  <a:pt x="0" y="1324304"/>
                </a:cubicBezTo>
                <a:cubicBezTo>
                  <a:pt x="12400" y="1361505"/>
                  <a:pt x="11228" y="1381491"/>
                  <a:pt x="47296" y="1403132"/>
                </a:cubicBezTo>
                <a:cubicBezTo>
                  <a:pt x="61546" y="1411682"/>
                  <a:pt x="78827" y="1413642"/>
                  <a:pt x="94593" y="1418897"/>
                </a:cubicBezTo>
                <a:cubicBezTo>
                  <a:pt x="95024" y="1419328"/>
                  <a:pt x="174552" y="1505042"/>
                  <a:pt x="189186" y="1497725"/>
                </a:cubicBezTo>
                <a:cubicBezTo>
                  <a:pt x="204050" y="1490293"/>
                  <a:pt x="182638" y="1464255"/>
                  <a:pt x="173420" y="1450428"/>
                </a:cubicBezTo>
                <a:cubicBezTo>
                  <a:pt x="170505" y="1446056"/>
                  <a:pt x="162910" y="1450428"/>
                  <a:pt x="157655" y="1450428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17"/>
          <p:cNvSpPr/>
          <p:nvPr/>
        </p:nvSpPr>
        <p:spPr>
          <a:xfrm>
            <a:off x="4824360" y="2349360"/>
            <a:ext cx="488880" cy="962280"/>
          </a:xfrm>
          <a:custGeom>
            <a:avLst/>
            <a:gdLst/>
            <a:ahLst/>
            <a:rect l="l" t="t" r="r" b="b"/>
            <a:pathLst>
              <a:path w="489006" h="961697">
                <a:moveTo>
                  <a:pt x="489006" y="0"/>
                </a:moveTo>
                <a:cubicBezTo>
                  <a:pt x="431199" y="15766"/>
                  <a:pt x="369178" y="20501"/>
                  <a:pt x="315586" y="47297"/>
                </a:cubicBezTo>
                <a:cubicBezTo>
                  <a:pt x="300722" y="54729"/>
                  <a:pt x="299820" y="77975"/>
                  <a:pt x="299820" y="94593"/>
                </a:cubicBezTo>
                <a:cubicBezTo>
                  <a:pt x="299820" y="104692"/>
                  <a:pt x="323918" y="190085"/>
                  <a:pt x="331351" y="204952"/>
                </a:cubicBezTo>
                <a:cubicBezTo>
                  <a:pt x="339825" y="221899"/>
                  <a:pt x="371355" y="235301"/>
                  <a:pt x="362882" y="252248"/>
                </a:cubicBezTo>
                <a:cubicBezTo>
                  <a:pt x="355450" y="267112"/>
                  <a:pt x="331351" y="241738"/>
                  <a:pt x="315586" y="236483"/>
                </a:cubicBezTo>
                <a:cubicBezTo>
                  <a:pt x="299049" y="241995"/>
                  <a:pt x="226550" y="261551"/>
                  <a:pt x="220993" y="283779"/>
                </a:cubicBezTo>
                <a:cubicBezTo>
                  <a:pt x="216161" y="303109"/>
                  <a:pt x="245381" y="412865"/>
                  <a:pt x="252524" y="441435"/>
                </a:cubicBezTo>
                <a:cubicBezTo>
                  <a:pt x="247269" y="457200"/>
                  <a:pt x="251187" y="480486"/>
                  <a:pt x="236758" y="488731"/>
                </a:cubicBezTo>
                <a:cubicBezTo>
                  <a:pt x="209004" y="504591"/>
                  <a:pt x="173370" y="497563"/>
                  <a:pt x="142165" y="504497"/>
                </a:cubicBezTo>
                <a:cubicBezTo>
                  <a:pt x="125942" y="508102"/>
                  <a:pt x="110634" y="515007"/>
                  <a:pt x="94868" y="520262"/>
                </a:cubicBezTo>
                <a:cubicBezTo>
                  <a:pt x="78926" y="544175"/>
                  <a:pt x="47572" y="582219"/>
                  <a:pt x="47572" y="614855"/>
                </a:cubicBezTo>
                <a:cubicBezTo>
                  <a:pt x="47572" y="636523"/>
                  <a:pt x="58082" y="656896"/>
                  <a:pt x="63337" y="677917"/>
                </a:cubicBezTo>
                <a:cubicBezTo>
                  <a:pt x="52357" y="694388"/>
                  <a:pt x="11689" y="746401"/>
                  <a:pt x="16041" y="772510"/>
                </a:cubicBezTo>
                <a:cubicBezTo>
                  <a:pt x="19156" y="791200"/>
                  <a:pt x="37062" y="804041"/>
                  <a:pt x="47572" y="819807"/>
                </a:cubicBezTo>
                <a:cubicBezTo>
                  <a:pt x="42317" y="835573"/>
                  <a:pt x="39238" y="852240"/>
                  <a:pt x="31806" y="867104"/>
                </a:cubicBezTo>
                <a:cubicBezTo>
                  <a:pt x="23332" y="884051"/>
                  <a:pt x="3390" y="895710"/>
                  <a:pt x="275" y="914400"/>
                </a:cubicBezTo>
                <a:cubicBezTo>
                  <a:pt x="-2457" y="930792"/>
                  <a:pt x="16041" y="961697"/>
                  <a:pt x="16041" y="961697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18"/>
          <p:cNvSpPr/>
          <p:nvPr/>
        </p:nvSpPr>
        <p:spPr>
          <a:xfrm>
            <a:off x="5265720" y="3736800"/>
            <a:ext cx="1276200" cy="694080"/>
          </a:xfrm>
          <a:custGeom>
            <a:avLst/>
            <a:gdLst/>
            <a:ahLst/>
            <a:rect l="l" t="t" r="r" b="b"/>
            <a:pathLst>
              <a:path w="1277010" h="693682">
                <a:moveTo>
                  <a:pt x="1277010" y="0"/>
                </a:moveTo>
                <a:cubicBezTo>
                  <a:pt x="1219203" y="26276"/>
                  <a:pt x="1158542" y="47012"/>
                  <a:pt x="1103589" y="78827"/>
                </a:cubicBezTo>
                <a:cubicBezTo>
                  <a:pt x="926015" y="181633"/>
                  <a:pt x="1028886" y="138452"/>
                  <a:pt x="930168" y="220717"/>
                </a:cubicBezTo>
                <a:cubicBezTo>
                  <a:pt x="915612" y="232847"/>
                  <a:pt x="898637" y="241738"/>
                  <a:pt x="882872" y="252248"/>
                </a:cubicBezTo>
                <a:cubicBezTo>
                  <a:pt x="798785" y="378377"/>
                  <a:pt x="909153" y="225965"/>
                  <a:pt x="804044" y="331075"/>
                </a:cubicBezTo>
                <a:cubicBezTo>
                  <a:pt x="785464" y="349655"/>
                  <a:pt x="774326" y="374607"/>
                  <a:pt x="756748" y="394138"/>
                </a:cubicBezTo>
                <a:cubicBezTo>
                  <a:pt x="726918" y="427283"/>
                  <a:pt x="699257" y="463996"/>
                  <a:pt x="662154" y="488731"/>
                </a:cubicBezTo>
                <a:cubicBezTo>
                  <a:pt x="646389" y="499241"/>
                  <a:pt x="629020" y="507674"/>
                  <a:pt x="614858" y="520262"/>
                </a:cubicBezTo>
                <a:cubicBezTo>
                  <a:pt x="581530" y="549887"/>
                  <a:pt x="557367" y="590120"/>
                  <a:pt x="520265" y="614855"/>
                </a:cubicBezTo>
                <a:cubicBezTo>
                  <a:pt x="411845" y="687135"/>
                  <a:pt x="461623" y="665934"/>
                  <a:pt x="378375" y="693682"/>
                </a:cubicBezTo>
                <a:cubicBezTo>
                  <a:pt x="363526" y="689970"/>
                  <a:pt x="286526" y="672434"/>
                  <a:pt x="268017" y="662151"/>
                </a:cubicBezTo>
                <a:cubicBezTo>
                  <a:pt x="234890" y="643747"/>
                  <a:pt x="173423" y="599089"/>
                  <a:pt x="173423" y="599089"/>
                </a:cubicBezTo>
                <a:cubicBezTo>
                  <a:pt x="60746" y="430075"/>
                  <a:pt x="236222" y="686588"/>
                  <a:pt x="94596" y="504496"/>
                </a:cubicBezTo>
                <a:cubicBezTo>
                  <a:pt x="71331" y="474583"/>
                  <a:pt x="52555" y="441434"/>
                  <a:pt x="31534" y="409903"/>
                </a:cubicBezTo>
                <a:cubicBezTo>
                  <a:pt x="3188" y="367383"/>
                  <a:pt x="-28850" y="340297"/>
                  <a:pt x="47299" y="378372"/>
                </a:cubicBezTo>
                <a:cubicBezTo>
                  <a:pt x="64246" y="386846"/>
                  <a:pt x="78830" y="399393"/>
                  <a:pt x="94596" y="409903"/>
                </a:cubicBezTo>
                <a:cubicBezTo>
                  <a:pt x="152403" y="404648"/>
                  <a:pt x="210420" y="401338"/>
                  <a:pt x="268017" y="394138"/>
                </a:cubicBezTo>
                <a:cubicBezTo>
                  <a:pt x="293734" y="390923"/>
                  <a:pt x="380974" y="371286"/>
                  <a:pt x="409906" y="362606"/>
                </a:cubicBezTo>
                <a:cubicBezTo>
                  <a:pt x="441741" y="353055"/>
                  <a:pt x="476844" y="349511"/>
                  <a:pt x="504499" y="331075"/>
                </a:cubicBezTo>
                <a:cubicBezTo>
                  <a:pt x="579450" y="281108"/>
                  <a:pt x="533822" y="305535"/>
                  <a:pt x="646389" y="268013"/>
                </a:cubicBezTo>
                <a:lnTo>
                  <a:pt x="693686" y="252248"/>
                </a:lnTo>
                <a:cubicBezTo>
                  <a:pt x="767777" y="178155"/>
                  <a:pt x="722432" y="217318"/>
                  <a:pt x="835575" y="141889"/>
                </a:cubicBezTo>
                <a:cubicBezTo>
                  <a:pt x="896698" y="101140"/>
                  <a:pt x="864897" y="116349"/>
                  <a:pt x="930168" y="94593"/>
                </a:cubicBezTo>
                <a:cubicBezTo>
                  <a:pt x="961699" y="115614"/>
                  <a:pt x="988810" y="169639"/>
                  <a:pt x="1024761" y="157655"/>
                </a:cubicBezTo>
                <a:lnTo>
                  <a:pt x="1072058" y="141889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19"/>
          <p:cNvSpPr/>
          <p:nvPr/>
        </p:nvSpPr>
        <p:spPr>
          <a:xfrm>
            <a:off x="4859280" y="1903320"/>
            <a:ext cx="1841400" cy="478080"/>
          </a:xfrm>
          <a:custGeom>
            <a:avLst/>
            <a:gdLst/>
            <a:ahLst/>
            <a:rect l="l" t="t" r="r" b="b"/>
            <a:pathLst>
              <a:path w="1841534" h="477782">
                <a:moveTo>
                  <a:pt x="1841534" y="477782"/>
                </a:moveTo>
                <a:cubicBezTo>
                  <a:pt x="1837277" y="454367"/>
                  <a:pt x="1809791" y="256746"/>
                  <a:pt x="1778472" y="209768"/>
                </a:cubicBezTo>
                <a:cubicBezTo>
                  <a:pt x="1767962" y="194003"/>
                  <a:pt x="1755415" y="179419"/>
                  <a:pt x="1746941" y="162472"/>
                </a:cubicBezTo>
                <a:cubicBezTo>
                  <a:pt x="1721296" y="111182"/>
                  <a:pt x="1744826" y="113061"/>
                  <a:pt x="1699644" y="67879"/>
                </a:cubicBezTo>
                <a:cubicBezTo>
                  <a:pt x="1686246" y="54481"/>
                  <a:pt x="1668113" y="46858"/>
                  <a:pt x="1652348" y="36348"/>
                </a:cubicBezTo>
                <a:cubicBezTo>
                  <a:pt x="1673369" y="67879"/>
                  <a:pt x="1703426" y="94990"/>
                  <a:pt x="1715410" y="130941"/>
                </a:cubicBezTo>
                <a:lnTo>
                  <a:pt x="1746941" y="225534"/>
                </a:lnTo>
                <a:cubicBezTo>
                  <a:pt x="1741686" y="262320"/>
                  <a:pt x="1737822" y="299332"/>
                  <a:pt x="1731175" y="335892"/>
                </a:cubicBezTo>
                <a:cubicBezTo>
                  <a:pt x="1727299" y="357210"/>
                  <a:pt x="1733439" y="386936"/>
                  <a:pt x="1715410" y="398955"/>
                </a:cubicBezTo>
                <a:cubicBezTo>
                  <a:pt x="1703042" y="407200"/>
                  <a:pt x="1694389" y="377934"/>
                  <a:pt x="1683879" y="367423"/>
                </a:cubicBezTo>
                <a:cubicBezTo>
                  <a:pt x="1678624" y="351658"/>
                  <a:pt x="1676184" y="334654"/>
                  <a:pt x="1668113" y="320127"/>
                </a:cubicBezTo>
                <a:cubicBezTo>
                  <a:pt x="1615815" y="225992"/>
                  <a:pt x="1601080" y="221563"/>
                  <a:pt x="1526223" y="146706"/>
                </a:cubicBezTo>
                <a:cubicBezTo>
                  <a:pt x="1467176" y="87659"/>
                  <a:pt x="1500078" y="106461"/>
                  <a:pt x="1431630" y="83644"/>
                </a:cubicBezTo>
                <a:lnTo>
                  <a:pt x="1463161" y="178237"/>
                </a:lnTo>
                <a:cubicBezTo>
                  <a:pt x="1468416" y="194003"/>
                  <a:pt x="1469709" y="211707"/>
                  <a:pt x="1478927" y="225534"/>
                </a:cubicBezTo>
                <a:lnTo>
                  <a:pt x="1510458" y="272830"/>
                </a:lnTo>
                <a:cubicBezTo>
                  <a:pt x="1515713" y="293851"/>
                  <a:pt x="1520270" y="315058"/>
                  <a:pt x="1526223" y="335892"/>
                </a:cubicBezTo>
                <a:cubicBezTo>
                  <a:pt x="1530788" y="351871"/>
                  <a:pt x="1541989" y="366570"/>
                  <a:pt x="1541989" y="383189"/>
                </a:cubicBezTo>
                <a:cubicBezTo>
                  <a:pt x="1541989" y="399808"/>
                  <a:pt x="1531478" y="414720"/>
                  <a:pt x="1526223" y="430486"/>
                </a:cubicBezTo>
                <a:cubicBezTo>
                  <a:pt x="1505202" y="398955"/>
                  <a:pt x="1475145" y="371843"/>
                  <a:pt x="1463161" y="335892"/>
                </a:cubicBezTo>
                <a:cubicBezTo>
                  <a:pt x="1425638" y="223324"/>
                  <a:pt x="1450066" y="268953"/>
                  <a:pt x="1400099" y="194003"/>
                </a:cubicBezTo>
                <a:cubicBezTo>
                  <a:pt x="1394844" y="178237"/>
                  <a:pt x="1394537" y="159824"/>
                  <a:pt x="1384334" y="146706"/>
                </a:cubicBezTo>
                <a:cubicBezTo>
                  <a:pt x="1309894" y="50996"/>
                  <a:pt x="1320155" y="62250"/>
                  <a:pt x="1242444" y="36348"/>
                </a:cubicBezTo>
                <a:cubicBezTo>
                  <a:pt x="1226679" y="25838"/>
                  <a:pt x="1199743" y="-13565"/>
                  <a:pt x="1195148" y="4817"/>
                </a:cubicBezTo>
                <a:cubicBezTo>
                  <a:pt x="1184915" y="45752"/>
                  <a:pt x="1235468" y="112593"/>
                  <a:pt x="1258210" y="146706"/>
                </a:cubicBezTo>
                <a:lnTo>
                  <a:pt x="1305506" y="288596"/>
                </a:lnTo>
                <a:lnTo>
                  <a:pt x="1321272" y="335892"/>
                </a:lnTo>
                <a:cubicBezTo>
                  <a:pt x="1316017" y="351658"/>
                  <a:pt x="1322125" y="383189"/>
                  <a:pt x="1305506" y="383189"/>
                </a:cubicBezTo>
                <a:cubicBezTo>
                  <a:pt x="1286558" y="383189"/>
                  <a:pt x="1283376" y="352343"/>
                  <a:pt x="1273975" y="335892"/>
                </a:cubicBezTo>
                <a:cubicBezTo>
                  <a:pt x="1177023" y="166226"/>
                  <a:pt x="1333641" y="409625"/>
                  <a:pt x="1179382" y="178237"/>
                </a:cubicBezTo>
                <a:cubicBezTo>
                  <a:pt x="1168872" y="162472"/>
                  <a:pt x="1163616" y="141451"/>
                  <a:pt x="1147851" y="130941"/>
                </a:cubicBezTo>
                <a:cubicBezTo>
                  <a:pt x="1116320" y="109920"/>
                  <a:pt x="1089209" y="79863"/>
                  <a:pt x="1053258" y="67879"/>
                </a:cubicBezTo>
                <a:lnTo>
                  <a:pt x="958665" y="36348"/>
                </a:lnTo>
                <a:cubicBezTo>
                  <a:pt x="937644" y="41603"/>
                  <a:pt x="908604" y="34779"/>
                  <a:pt x="895603" y="52113"/>
                </a:cubicBezTo>
                <a:cubicBezTo>
                  <a:pt x="875866" y="78428"/>
                  <a:pt x="956706" y="144187"/>
                  <a:pt x="958665" y="146706"/>
                </a:cubicBezTo>
                <a:cubicBezTo>
                  <a:pt x="981931" y="176619"/>
                  <a:pt x="994931" y="214503"/>
                  <a:pt x="1021727" y="241299"/>
                </a:cubicBezTo>
                <a:cubicBezTo>
                  <a:pt x="1082421" y="301994"/>
                  <a:pt x="1056655" y="270045"/>
                  <a:pt x="1100555" y="335892"/>
                </a:cubicBezTo>
                <a:cubicBezTo>
                  <a:pt x="1105810" y="351658"/>
                  <a:pt x="1131184" y="375757"/>
                  <a:pt x="1116320" y="383189"/>
                </a:cubicBezTo>
                <a:cubicBezTo>
                  <a:pt x="1089116" y="396791"/>
                  <a:pt x="1043675" y="311780"/>
                  <a:pt x="1037492" y="304361"/>
                </a:cubicBezTo>
                <a:cubicBezTo>
                  <a:pt x="1023219" y="287233"/>
                  <a:pt x="1004469" y="274193"/>
                  <a:pt x="990196" y="257065"/>
                </a:cubicBezTo>
                <a:cubicBezTo>
                  <a:pt x="978066" y="242509"/>
                  <a:pt x="972925" y="222245"/>
                  <a:pt x="958665" y="209768"/>
                </a:cubicBezTo>
                <a:cubicBezTo>
                  <a:pt x="930146" y="184814"/>
                  <a:pt x="895603" y="167727"/>
                  <a:pt x="864072" y="146706"/>
                </a:cubicBezTo>
                <a:cubicBezTo>
                  <a:pt x="848306" y="136196"/>
                  <a:pt x="835157" y="119770"/>
                  <a:pt x="816775" y="115175"/>
                </a:cubicBezTo>
                <a:lnTo>
                  <a:pt x="753713" y="99410"/>
                </a:lnTo>
                <a:lnTo>
                  <a:pt x="659120" y="115175"/>
                </a:lnTo>
                <a:cubicBezTo>
                  <a:pt x="647369" y="138677"/>
                  <a:pt x="702232" y="145372"/>
                  <a:pt x="722182" y="162472"/>
                </a:cubicBezTo>
                <a:cubicBezTo>
                  <a:pt x="828396" y="253512"/>
                  <a:pt x="712245" y="171612"/>
                  <a:pt x="816775" y="241299"/>
                </a:cubicBezTo>
                <a:cubicBezTo>
                  <a:pt x="822030" y="257065"/>
                  <a:pt x="825109" y="273732"/>
                  <a:pt x="832541" y="288596"/>
                </a:cubicBezTo>
                <a:cubicBezTo>
                  <a:pt x="858817" y="341147"/>
                  <a:pt x="895603" y="356913"/>
                  <a:pt x="816775" y="304361"/>
                </a:cubicBezTo>
                <a:cubicBezTo>
                  <a:pt x="806265" y="288596"/>
                  <a:pt x="798642" y="270463"/>
                  <a:pt x="785244" y="257065"/>
                </a:cubicBezTo>
                <a:cubicBezTo>
                  <a:pt x="740062" y="211883"/>
                  <a:pt x="741941" y="235413"/>
                  <a:pt x="690651" y="209768"/>
                </a:cubicBezTo>
                <a:cubicBezTo>
                  <a:pt x="568411" y="148647"/>
                  <a:pt x="714934" y="202096"/>
                  <a:pt x="596058" y="162472"/>
                </a:cubicBezTo>
                <a:cubicBezTo>
                  <a:pt x="564527" y="172982"/>
                  <a:pt x="483029" y="166348"/>
                  <a:pt x="501465" y="194003"/>
                </a:cubicBezTo>
                <a:lnTo>
                  <a:pt x="564527" y="288596"/>
                </a:lnTo>
                <a:cubicBezTo>
                  <a:pt x="575037" y="304361"/>
                  <a:pt x="611823" y="346402"/>
                  <a:pt x="596058" y="335892"/>
                </a:cubicBezTo>
                <a:lnTo>
                  <a:pt x="501465" y="272830"/>
                </a:lnTo>
                <a:cubicBezTo>
                  <a:pt x="304324" y="322117"/>
                  <a:pt x="549428" y="272830"/>
                  <a:pt x="391106" y="272830"/>
                </a:cubicBezTo>
                <a:cubicBezTo>
                  <a:pt x="369438" y="272830"/>
                  <a:pt x="349065" y="283341"/>
                  <a:pt x="328044" y="288596"/>
                </a:cubicBezTo>
                <a:cubicBezTo>
                  <a:pt x="359575" y="320127"/>
                  <a:pt x="464940" y="397290"/>
                  <a:pt x="422637" y="383189"/>
                </a:cubicBezTo>
                <a:lnTo>
                  <a:pt x="328044" y="351658"/>
                </a:lnTo>
                <a:lnTo>
                  <a:pt x="280748" y="335892"/>
                </a:lnTo>
                <a:cubicBezTo>
                  <a:pt x="275493" y="356913"/>
                  <a:pt x="283562" y="387807"/>
                  <a:pt x="264982" y="398955"/>
                </a:cubicBezTo>
                <a:cubicBezTo>
                  <a:pt x="257912" y="403197"/>
                  <a:pt x="167166" y="371604"/>
                  <a:pt x="154623" y="367423"/>
                </a:cubicBezTo>
                <a:cubicBezTo>
                  <a:pt x="7511" y="383769"/>
                  <a:pt x="-34853" y="383189"/>
                  <a:pt x="28499" y="383189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20"/>
          <p:cNvSpPr/>
          <p:nvPr/>
        </p:nvSpPr>
        <p:spPr>
          <a:xfrm>
            <a:off x="2865600" y="1986120"/>
            <a:ext cx="1911240" cy="2917800"/>
          </a:xfrm>
          <a:custGeom>
            <a:avLst/>
            <a:gdLst/>
            <a:ahLst/>
            <a:rect l="l" t="t" r="r" b="b"/>
            <a:pathLst>
              <a:path w="1912242" h="2917405">
                <a:moveTo>
                  <a:pt x="1644228" y="646386"/>
                </a:moveTo>
                <a:cubicBezTo>
                  <a:pt x="1586421" y="614855"/>
                  <a:pt x="1524602" y="589766"/>
                  <a:pt x="1470807" y="551793"/>
                </a:cubicBezTo>
                <a:cubicBezTo>
                  <a:pt x="1346707" y="464193"/>
                  <a:pt x="1407794" y="485638"/>
                  <a:pt x="1344683" y="409904"/>
                </a:cubicBezTo>
                <a:cubicBezTo>
                  <a:pt x="1330410" y="392776"/>
                  <a:pt x="1313152" y="378373"/>
                  <a:pt x="1297387" y="362607"/>
                </a:cubicBezTo>
                <a:cubicBezTo>
                  <a:pt x="1266694" y="270532"/>
                  <a:pt x="1305636" y="355091"/>
                  <a:pt x="1234324" y="283779"/>
                </a:cubicBezTo>
                <a:cubicBezTo>
                  <a:pt x="1108200" y="157655"/>
                  <a:pt x="1302641" y="310056"/>
                  <a:pt x="1155497" y="204952"/>
                </a:cubicBezTo>
                <a:cubicBezTo>
                  <a:pt x="1134115" y="189679"/>
                  <a:pt x="1113817" y="172928"/>
                  <a:pt x="1092435" y="157655"/>
                </a:cubicBezTo>
                <a:cubicBezTo>
                  <a:pt x="1077016" y="146642"/>
                  <a:pt x="1059694" y="138254"/>
                  <a:pt x="1045138" y="126124"/>
                </a:cubicBezTo>
                <a:cubicBezTo>
                  <a:pt x="1028010" y="111851"/>
                  <a:pt x="1017332" y="89656"/>
                  <a:pt x="997842" y="78828"/>
                </a:cubicBezTo>
                <a:cubicBezTo>
                  <a:pt x="968788" y="62687"/>
                  <a:pt x="934780" y="57807"/>
                  <a:pt x="903249" y="47297"/>
                </a:cubicBezTo>
                <a:cubicBezTo>
                  <a:pt x="790947" y="9863"/>
                  <a:pt x="872530" y="32806"/>
                  <a:pt x="651000" y="15766"/>
                </a:cubicBezTo>
                <a:cubicBezTo>
                  <a:pt x="624724" y="10511"/>
                  <a:pt x="598969" y="0"/>
                  <a:pt x="572173" y="0"/>
                </a:cubicBezTo>
                <a:cubicBezTo>
                  <a:pt x="490517" y="0"/>
                  <a:pt x="425730" y="10310"/>
                  <a:pt x="351456" y="31531"/>
                </a:cubicBezTo>
                <a:cubicBezTo>
                  <a:pt x="335477" y="36096"/>
                  <a:pt x="319925" y="42042"/>
                  <a:pt x="304159" y="47297"/>
                </a:cubicBezTo>
                <a:cubicBezTo>
                  <a:pt x="298904" y="63062"/>
                  <a:pt x="273529" y="87161"/>
                  <a:pt x="288393" y="94593"/>
                </a:cubicBezTo>
                <a:cubicBezTo>
                  <a:pt x="330957" y="115875"/>
                  <a:pt x="383113" y="104070"/>
                  <a:pt x="430283" y="110359"/>
                </a:cubicBezTo>
                <a:cubicBezTo>
                  <a:pt x="461968" y="114584"/>
                  <a:pt x="493345" y="120869"/>
                  <a:pt x="524876" y="126124"/>
                </a:cubicBezTo>
                <a:cubicBezTo>
                  <a:pt x="690032" y="181176"/>
                  <a:pt x="561835" y="129226"/>
                  <a:pt x="666766" y="189186"/>
                </a:cubicBezTo>
                <a:cubicBezTo>
                  <a:pt x="723412" y="221555"/>
                  <a:pt x="729109" y="213836"/>
                  <a:pt x="777124" y="252248"/>
                </a:cubicBezTo>
                <a:cubicBezTo>
                  <a:pt x="788731" y="261533"/>
                  <a:pt x="796765" y="274861"/>
                  <a:pt x="808656" y="283779"/>
                </a:cubicBezTo>
                <a:cubicBezTo>
                  <a:pt x="838973" y="306516"/>
                  <a:pt x="903249" y="346842"/>
                  <a:pt x="903249" y="346842"/>
                </a:cubicBezTo>
                <a:cubicBezTo>
                  <a:pt x="913759" y="362607"/>
                  <a:pt x="922650" y="379582"/>
                  <a:pt x="934780" y="394138"/>
                </a:cubicBezTo>
                <a:cubicBezTo>
                  <a:pt x="949053" y="411266"/>
                  <a:pt x="969709" y="422884"/>
                  <a:pt x="982076" y="441435"/>
                </a:cubicBezTo>
                <a:cubicBezTo>
                  <a:pt x="991294" y="455262"/>
                  <a:pt x="988624" y="474904"/>
                  <a:pt x="997842" y="488731"/>
                </a:cubicBezTo>
                <a:cubicBezTo>
                  <a:pt x="1010209" y="507282"/>
                  <a:pt x="1030865" y="518900"/>
                  <a:pt x="1045138" y="536028"/>
                </a:cubicBezTo>
                <a:cubicBezTo>
                  <a:pt x="1110825" y="614853"/>
                  <a:pt x="1037257" y="557050"/>
                  <a:pt x="1123966" y="614855"/>
                </a:cubicBezTo>
                <a:cubicBezTo>
                  <a:pt x="1264530" y="568001"/>
                  <a:pt x="1120197" y="620603"/>
                  <a:pt x="919014" y="614855"/>
                </a:cubicBezTo>
                <a:cubicBezTo>
                  <a:pt x="818655" y="611988"/>
                  <a:pt x="619469" y="583324"/>
                  <a:pt x="619469" y="583324"/>
                </a:cubicBezTo>
                <a:cubicBezTo>
                  <a:pt x="524876" y="588579"/>
                  <a:pt x="429697" y="587339"/>
                  <a:pt x="335690" y="599090"/>
                </a:cubicBezTo>
                <a:cubicBezTo>
                  <a:pt x="302710" y="603213"/>
                  <a:pt x="241097" y="630621"/>
                  <a:pt x="241097" y="630621"/>
                </a:cubicBezTo>
                <a:cubicBezTo>
                  <a:pt x="102908" y="768807"/>
                  <a:pt x="278208" y="599694"/>
                  <a:pt x="146504" y="709448"/>
                </a:cubicBezTo>
                <a:cubicBezTo>
                  <a:pt x="129376" y="723722"/>
                  <a:pt x="116335" y="742471"/>
                  <a:pt x="99207" y="756745"/>
                </a:cubicBezTo>
                <a:cubicBezTo>
                  <a:pt x="84651" y="768875"/>
                  <a:pt x="66467" y="776146"/>
                  <a:pt x="51911" y="788276"/>
                </a:cubicBezTo>
                <a:cubicBezTo>
                  <a:pt x="34783" y="802550"/>
                  <a:pt x="-15328" y="825602"/>
                  <a:pt x="4614" y="835573"/>
                </a:cubicBezTo>
                <a:cubicBezTo>
                  <a:pt x="37851" y="852191"/>
                  <a:pt x="78187" y="825062"/>
                  <a:pt x="114973" y="819807"/>
                </a:cubicBezTo>
                <a:cubicBezTo>
                  <a:pt x="173216" y="800393"/>
                  <a:pt x="200168" y="788276"/>
                  <a:pt x="272628" y="788276"/>
                </a:cubicBezTo>
                <a:cubicBezTo>
                  <a:pt x="411363" y="788276"/>
                  <a:pt x="362194" y="803204"/>
                  <a:pt x="461814" y="819807"/>
                </a:cubicBezTo>
                <a:cubicBezTo>
                  <a:pt x="503606" y="826772"/>
                  <a:pt x="546146" y="828608"/>
                  <a:pt x="587938" y="835573"/>
                </a:cubicBezTo>
                <a:cubicBezTo>
                  <a:pt x="635595" y="843516"/>
                  <a:pt x="703535" y="868849"/>
                  <a:pt x="745593" y="882869"/>
                </a:cubicBezTo>
                <a:lnTo>
                  <a:pt x="792890" y="898635"/>
                </a:lnTo>
                <a:cubicBezTo>
                  <a:pt x="834931" y="888125"/>
                  <a:pt x="877903" y="880808"/>
                  <a:pt x="919014" y="867104"/>
                </a:cubicBezTo>
                <a:cubicBezTo>
                  <a:pt x="934780" y="861849"/>
                  <a:pt x="982930" y="851338"/>
                  <a:pt x="966311" y="851338"/>
                </a:cubicBezTo>
                <a:cubicBezTo>
                  <a:pt x="944643" y="851338"/>
                  <a:pt x="924270" y="861849"/>
                  <a:pt x="903249" y="867104"/>
                </a:cubicBezTo>
                <a:cubicBezTo>
                  <a:pt x="887483" y="882869"/>
                  <a:pt x="874503" y="902033"/>
                  <a:pt x="855952" y="914400"/>
                </a:cubicBezTo>
                <a:cubicBezTo>
                  <a:pt x="842125" y="923618"/>
                  <a:pt x="824689" y="925793"/>
                  <a:pt x="808656" y="930166"/>
                </a:cubicBezTo>
                <a:cubicBezTo>
                  <a:pt x="766847" y="941568"/>
                  <a:pt x="723643" y="947993"/>
                  <a:pt x="682531" y="961697"/>
                </a:cubicBezTo>
                <a:cubicBezTo>
                  <a:pt x="651000" y="972207"/>
                  <a:pt x="620722" y="987764"/>
                  <a:pt x="587938" y="993228"/>
                </a:cubicBezTo>
                <a:cubicBezTo>
                  <a:pt x="556407" y="998483"/>
                  <a:pt x="524601" y="1002295"/>
                  <a:pt x="493345" y="1008993"/>
                </a:cubicBezTo>
                <a:cubicBezTo>
                  <a:pt x="393772" y="1030330"/>
                  <a:pt x="391968" y="1032275"/>
                  <a:pt x="319924" y="1056290"/>
                </a:cubicBezTo>
                <a:cubicBezTo>
                  <a:pt x="298903" y="1087821"/>
                  <a:pt x="268845" y="1114932"/>
                  <a:pt x="256862" y="1150883"/>
                </a:cubicBezTo>
                <a:cubicBezTo>
                  <a:pt x="251607" y="1166648"/>
                  <a:pt x="249167" y="1183652"/>
                  <a:pt x="241097" y="1198179"/>
                </a:cubicBezTo>
                <a:cubicBezTo>
                  <a:pt x="222693" y="1231306"/>
                  <a:pt x="199056" y="1261242"/>
                  <a:pt x="178035" y="1292773"/>
                </a:cubicBezTo>
                <a:cubicBezTo>
                  <a:pt x="167525" y="1308538"/>
                  <a:pt x="128529" y="1346061"/>
                  <a:pt x="146504" y="1340069"/>
                </a:cubicBezTo>
                <a:lnTo>
                  <a:pt x="193800" y="1324304"/>
                </a:lnTo>
                <a:cubicBezTo>
                  <a:pt x="209566" y="1313794"/>
                  <a:pt x="223782" y="1300468"/>
                  <a:pt x="241097" y="1292773"/>
                </a:cubicBezTo>
                <a:cubicBezTo>
                  <a:pt x="271469" y="1279274"/>
                  <a:pt x="304159" y="1271752"/>
                  <a:pt x="335690" y="1261242"/>
                </a:cubicBezTo>
                <a:cubicBezTo>
                  <a:pt x="351456" y="1255987"/>
                  <a:pt x="366595" y="1248208"/>
                  <a:pt x="382987" y="1245476"/>
                </a:cubicBezTo>
                <a:lnTo>
                  <a:pt x="477580" y="1229711"/>
                </a:lnTo>
                <a:cubicBezTo>
                  <a:pt x="514307" y="1224061"/>
                  <a:pt x="551344" y="1220403"/>
                  <a:pt x="587938" y="1213945"/>
                </a:cubicBezTo>
                <a:cubicBezTo>
                  <a:pt x="640715" y="1204631"/>
                  <a:pt x="693601" y="1195412"/>
                  <a:pt x="745593" y="1182414"/>
                </a:cubicBezTo>
                <a:cubicBezTo>
                  <a:pt x="787635" y="1171904"/>
                  <a:pt x="830606" y="1164587"/>
                  <a:pt x="871718" y="1150883"/>
                </a:cubicBezTo>
                <a:cubicBezTo>
                  <a:pt x="887483" y="1145628"/>
                  <a:pt x="904150" y="1142549"/>
                  <a:pt x="919014" y="1135117"/>
                </a:cubicBezTo>
                <a:cubicBezTo>
                  <a:pt x="935961" y="1126643"/>
                  <a:pt x="950545" y="1114096"/>
                  <a:pt x="966311" y="1103586"/>
                </a:cubicBezTo>
                <a:cubicBezTo>
                  <a:pt x="976821" y="1087821"/>
                  <a:pt x="1016224" y="1051694"/>
                  <a:pt x="997842" y="1056290"/>
                </a:cubicBezTo>
                <a:cubicBezTo>
                  <a:pt x="929537" y="1073367"/>
                  <a:pt x="903665" y="1126888"/>
                  <a:pt x="855952" y="1166648"/>
                </a:cubicBezTo>
                <a:cubicBezTo>
                  <a:pt x="841396" y="1178778"/>
                  <a:pt x="823452" y="1186342"/>
                  <a:pt x="808656" y="1198179"/>
                </a:cubicBezTo>
                <a:cubicBezTo>
                  <a:pt x="797049" y="1207465"/>
                  <a:pt x="789015" y="1220792"/>
                  <a:pt x="777124" y="1229711"/>
                </a:cubicBezTo>
                <a:cubicBezTo>
                  <a:pt x="746808" y="1252448"/>
                  <a:pt x="714062" y="1271752"/>
                  <a:pt x="682531" y="1292773"/>
                </a:cubicBezTo>
                <a:cubicBezTo>
                  <a:pt x="666766" y="1303283"/>
                  <a:pt x="653210" y="1318312"/>
                  <a:pt x="635235" y="1324304"/>
                </a:cubicBezTo>
                <a:lnTo>
                  <a:pt x="587938" y="1340069"/>
                </a:lnTo>
                <a:cubicBezTo>
                  <a:pt x="572173" y="1350579"/>
                  <a:pt x="557589" y="1363126"/>
                  <a:pt x="540642" y="1371600"/>
                </a:cubicBezTo>
                <a:cubicBezTo>
                  <a:pt x="525778" y="1379032"/>
                  <a:pt x="507172" y="1378148"/>
                  <a:pt x="493345" y="1387366"/>
                </a:cubicBezTo>
                <a:cubicBezTo>
                  <a:pt x="474794" y="1399733"/>
                  <a:pt x="463177" y="1420389"/>
                  <a:pt x="446049" y="1434662"/>
                </a:cubicBezTo>
                <a:cubicBezTo>
                  <a:pt x="431493" y="1446792"/>
                  <a:pt x="414518" y="1455683"/>
                  <a:pt x="398752" y="1466193"/>
                </a:cubicBezTo>
                <a:cubicBezTo>
                  <a:pt x="341265" y="1638662"/>
                  <a:pt x="432944" y="1377442"/>
                  <a:pt x="351456" y="1560786"/>
                </a:cubicBezTo>
                <a:cubicBezTo>
                  <a:pt x="337957" y="1591158"/>
                  <a:pt x="296422" y="1678881"/>
                  <a:pt x="319924" y="1655379"/>
                </a:cubicBezTo>
                <a:cubicBezTo>
                  <a:pt x="411663" y="1563643"/>
                  <a:pt x="279420" y="1691760"/>
                  <a:pt x="398752" y="1592317"/>
                </a:cubicBezTo>
                <a:cubicBezTo>
                  <a:pt x="451050" y="1548736"/>
                  <a:pt x="434634" y="1542846"/>
                  <a:pt x="493345" y="1513490"/>
                </a:cubicBezTo>
                <a:cubicBezTo>
                  <a:pt x="508209" y="1506058"/>
                  <a:pt x="524663" y="1502289"/>
                  <a:pt x="540642" y="1497724"/>
                </a:cubicBezTo>
                <a:cubicBezTo>
                  <a:pt x="650564" y="1466318"/>
                  <a:pt x="558950" y="1497159"/>
                  <a:pt x="698297" y="1466193"/>
                </a:cubicBezTo>
                <a:cubicBezTo>
                  <a:pt x="714519" y="1462588"/>
                  <a:pt x="729560" y="1454800"/>
                  <a:pt x="745593" y="1450428"/>
                </a:cubicBezTo>
                <a:cubicBezTo>
                  <a:pt x="787402" y="1439026"/>
                  <a:pt x="830606" y="1432601"/>
                  <a:pt x="871718" y="1418897"/>
                </a:cubicBezTo>
                <a:cubicBezTo>
                  <a:pt x="931192" y="1399071"/>
                  <a:pt x="959396" y="1394279"/>
                  <a:pt x="1013607" y="1340069"/>
                </a:cubicBezTo>
                <a:cubicBezTo>
                  <a:pt x="1029373" y="1324304"/>
                  <a:pt x="1043776" y="1307046"/>
                  <a:pt x="1060904" y="1292773"/>
                </a:cubicBezTo>
                <a:cubicBezTo>
                  <a:pt x="1075460" y="1280643"/>
                  <a:pt x="1108200" y="1280190"/>
                  <a:pt x="1108200" y="1261242"/>
                </a:cubicBezTo>
                <a:cubicBezTo>
                  <a:pt x="1108200" y="1244624"/>
                  <a:pt x="1076669" y="1271752"/>
                  <a:pt x="1060904" y="1277007"/>
                </a:cubicBezTo>
                <a:cubicBezTo>
                  <a:pt x="976505" y="1333272"/>
                  <a:pt x="1027003" y="1295141"/>
                  <a:pt x="919014" y="1403131"/>
                </a:cubicBezTo>
                <a:cubicBezTo>
                  <a:pt x="903249" y="1418897"/>
                  <a:pt x="884085" y="1431877"/>
                  <a:pt x="871718" y="1450428"/>
                </a:cubicBezTo>
                <a:cubicBezTo>
                  <a:pt x="798146" y="1560787"/>
                  <a:pt x="840187" y="1524000"/>
                  <a:pt x="761359" y="1576552"/>
                </a:cubicBezTo>
                <a:cubicBezTo>
                  <a:pt x="648683" y="1745565"/>
                  <a:pt x="824158" y="1489054"/>
                  <a:pt x="682531" y="1671145"/>
                </a:cubicBezTo>
                <a:cubicBezTo>
                  <a:pt x="659265" y="1701058"/>
                  <a:pt x="619469" y="1765738"/>
                  <a:pt x="619469" y="1765738"/>
                </a:cubicBezTo>
                <a:cubicBezTo>
                  <a:pt x="579845" y="1884614"/>
                  <a:pt x="633294" y="1738091"/>
                  <a:pt x="572173" y="1860331"/>
                </a:cubicBezTo>
                <a:cubicBezTo>
                  <a:pt x="564741" y="1875195"/>
                  <a:pt x="540111" y="1910887"/>
                  <a:pt x="556407" y="1907628"/>
                </a:cubicBezTo>
                <a:cubicBezTo>
                  <a:pt x="674618" y="1883986"/>
                  <a:pt x="615543" y="1840621"/>
                  <a:pt x="698297" y="1813035"/>
                </a:cubicBezTo>
                <a:cubicBezTo>
                  <a:pt x="870798" y="1755532"/>
                  <a:pt x="609503" y="1847243"/>
                  <a:pt x="792890" y="1765738"/>
                </a:cubicBezTo>
                <a:cubicBezTo>
                  <a:pt x="823262" y="1752239"/>
                  <a:pt x="859828" y="1752643"/>
                  <a:pt x="887483" y="1734207"/>
                </a:cubicBezTo>
                <a:cubicBezTo>
                  <a:pt x="1126552" y="1574827"/>
                  <a:pt x="881191" y="1747334"/>
                  <a:pt x="1029373" y="1623848"/>
                </a:cubicBezTo>
                <a:cubicBezTo>
                  <a:pt x="1043929" y="1611718"/>
                  <a:pt x="1062507" y="1604905"/>
                  <a:pt x="1076669" y="1592317"/>
                </a:cubicBezTo>
                <a:cubicBezTo>
                  <a:pt x="1109997" y="1562692"/>
                  <a:pt x="1139731" y="1529255"/>
                  <a:pt x="1171262" y="1497724"/>
                </a:cubicBezTo>
                <a:lnTo>
                  <a:pt x="1218559" y="1450428"/>
                </a:lnTo>
                <a:cubicBezTo>
                  <a:pt x="1218988" y="1449999"/>
                  <a:pt x="1304703" y="1370467"/>
                  <a:pt x="1297387" y="1355835"/>
                </a:cubicBezTo>
                <a:cubicBezTo>
                  <a:pt x="1289955" y="1340971"/>
                  <a:pt x="1265856" y="1366345"/>
                  <a:pt x="1250090" y="1371600"/>
                </a:cubicBezTo>
                <a:cubicBezTo>
                  <a:pt x="1165634" y="1456056"/>
                  <a:pt x="1216169" y="1401062"/>
                  <a:pt x="1108200" y="1545021"/>
                </a:cubicBezTo>
                <a:lnTo>
                  <a:pt x="1060904" y="1608083"/>
                </a:lnTo>
                <a:cubicBezTo>
                  <a:pt x="1055854" y="1628282"/>
                  <a:pt x="1040679" y="1695829"/>
                  <a:pt x="1029373" y="1718442"/>
                </a:cubicBezTo>
                <a:cubicBezTo>
                  <a:pt x="1020899" y="1735389"/>
                  <a:pt x="1005537" y="1748423"/>
                  <a:pt x="997842" y="1765738"/>
                </a:cubicBezTo>
                <a:cubicBezTo>
                  <a:pt x="984343" y="1796110"/>
                  <a:pt x="976821" y="1828800"/>
                  <a:pt x="966311" y="1860331"/>
                </a:cubicBezTo>
                <a:cubicBezTo>
                  <a:pt x="961056" y="1876097"/>
                  <a:pt x="959763" y="1893801"/>
                  <a:pt x="950545" y="1907628"/>
                </a:cubicBezTo>
                <a:lnTo>
                  <a:pt x="919014" y="1954924"/>
                </a:lnTo>
                <a:cubicBezTo>
                  <a:pt x="908504" y="1986455"/>
                  <a:pt x="905919" y="2021862"/>
                  <a:pt x="887483" y="2049517"/>
                </a:cubicBezTo>
                <a:lnTo>
                  <a:pt x="824421" y="2144111"/>
                </a:lnTo>
                <a:cubicBezTo>
                  <a:pt x="819166" y="2159876"/>
                  <a:pt x="796905" y="2203158"/>
                  <a:pt x="808656" y="2191407"/>
                </a:cubicBezTo>
                <a:cubicBezTo>
                  <a:pt x="835452" y="2164611"/>
                  <a:pt x="840187" y="2117835"/>
                  <a:pt x="871718" y="2096814"/>
                </a:cubicBezTo>
                <a:cubicBezTo>
                  <a:pt x="903249" y="2075793"/>
                  <a:pt x="930360" y="2045736"/>
                  <a:pt x="966311" y="2033752"/>
                </a:cubicBezTo>
                <a:cubicBezTo>
                  <a:pt x="982076" y="2028497"/>
                  <a:pt x="998743" y="2025418"/>
                  <a:pt x="1013607" y="2017986"/>
                </a:cubicBezTo>
                <a:cubicBezTo>
                  <a:pt x="1135846" y="1956866"/>
                  <a:pt x="989328" y="2010313"/>
                  <a:pt x="1108200" y="1970690"/>
                </a:cubicBezTo>
                <a:cubicBezTo>
                  <a:pt x="1162475" y="1929983"/>
                  <a:pt x="1228133" y="1885384"/>
                  <a:pt x="1265856" y="1828800"/>
                </a:cubicBezTo>
                <a:cubicBezTo>
                  <a:pt x="1276366" y="1813035"/>
                  <a:pt x="1285257" y="1796060"/>
                  <a:pt x="1297387" y="1781504"/>
                </a:cubicBezTo>
                <a:cubicBezTo>
                  <a:pt x="1311660" y="1764376"/>
                  <a:pt x="1330410" y="1751335"/>
                  <a:pt x="1344683" y="1734207"/>
                </a:cubicBezTo>
                <a:cubicBezTo>
                  <a:pt x="1356813" y="1719651"/>
                  <a:pt x="1368519" y="1704226"/>
                  <a:pt x="1376214" y="1686911"/>
                </a:cubicBezTo>
                <a:cubicBezTo>
                  <a:pt x="1389713" y="1656539"/>
                  <a:pt x="1435400" y="1573880"/>
                  <a:pt x="1407745" y="1592317"/>
                </a:cubicBezTo>
                <a:lnTo>
                  <a:pt x="1360449" y="1623848"/>
                </a:lnTo>
                <a:cubicBezTo>
                  <a:pt x="1349939" y="1639614"/>
                  <a:pt x="1337392" y="1654197"/>
                  <a:pt x="1328918" y="1671145"/>
                </a:cubicBezTo>
                <a:cubicBezTo>
                  <a:pt x="1321486" y="1686009"/>
                  <a:pt x="1321223" y="1703915"/>
                  <a:pt x="1313152" y="1718442"/>
                </a:cubicBezTo>
                <a:cubicBezTo>
                  <a:pt x="1313146" y="1718452"/>
                  <a:pt x="1234328" y="1836678"/>
                  <a:pt x="1218559" y="1860331"/>
                </a:cubicBezTo>
                <a:cubicBezTo>
                  <a:pt x="1208049" y="1876097"/>
                  <a:pt x="1193020" y="1889652"/>
                  <a:pt x="1187028" y="1907628"/>
                </a:cubicBezTo>
                <a:cubicBezTo>
                  <a:pt x="1176518" y="1939159"/>
                  <a:pt x="1170361" y="1972493"/>
                  <a:pt x="1155497" y="2002221"/>
                </a:cubicBezTo>
                <a:cubicBezTo>
                  <a:pt x="1116534" y="2080147"/>
                  <a:pt x="1131398" y="2042987"/>
                  <a:pt x="1108200" y="2112579"/>
                </a:cubicBezTo>
                <a:cubicBezTo>
                  <a:pt x="1102945" y="2154621"/>
                  <a:pt x="1096452" y="2196526"/>
                  <a:pt x="1092435" y="2238704"/>
                </a:cubicBezTo>
                <a:cubicBezTo>
                  <a:pt x="1085939" y="2306914"/>
                  <a:pt x="1086359" y="2375825"/>
                  <a:pt x="1076669" y="2443655"/>
                </a:cubicBezTo>
                <a:cubicBezTo>
                  <a:pt x="1070540" y="2486555"/>
                  <a:pt x="1055648" y="2527738"/>
                  <a:pt x="1045138" y="2569779"/>
                </a:cubicBezTo>
                <a:cubicBezTo>
                  <a:pt x="1043034" y="2578193"/>
                  <a:pt x="1022657" y="2666564"/>
                  <a:pt x="1013607" y="2680138"/>
                </a:cubicBezTo>
                <a:cubicBezTo>
                  <a:pt x="1001240" y="2698689"/>
                  <a:pt x="980584" y="2710307"/>
                  <a:pt x="966311" y="2727435"/>
                </a:cubicBezTo>
                <a:cubicBezTo>
                  <a:pt x="954181" y="2741991"/>
                  <a:pt x="946910" y="2760175"/>
                  <a:pt x="934780" y="2774731"/>
                </a:cubicBezTo>
                <a:cubicBezTo>
                  <a:pt x="920506" y="2791859"/>
                  <a:pt x="887483" y="2799732"/>
                  <a:pt x="887483" y="2822028"/>
                </a:cubicBezTo>
                <a:cubicBezTo>
                  <a:pt x="887483" y="2840976"/>
                  <a:pt x="918329" y="2799898"/>
                  <a:pt x="934780" y="2790497"/>
                </a:cubicBezTo>
                <a:cubicBezTo>
                  <a:pt x="1104446" y="2693545"/>
                  <a:pt x="861047" y="2850163"/>
                  <a:pt x="1092435" y="2695904"/>
                </a:cubicBezTo>
                <a:cubicBezTo>
                  <a:pt x="1209858" y="2617622"/>
                  <a:pt x="1065643" y="2718231"/>
                  <a:pt x="1187028" y="2617076"/>
                </a:cubicBezTo>
                <a:cubicBezTo>
                  <a:pt x="1228394" y="2582604"/>
                  <a:pt x="1235280" y="2594782"/>
                  <a:pt x="1265856" y="2554014"/>
                </a:cubicBezTo>
                <a:cubicBezTo>
                  <a:pt x="1288593" y="2523698"/>
                  <a:pt x="1302122" y="2486217"/>
                  <a:pt x="1328918" y="2459421"/>
                </a:cubicBezTo>
                <a:cubicBezTo>
                  <a:pt x="1344683" y="2443655"/>
                  <a:pt x="1361941" y="2429252"/>
                  <a:pt x="1376214" y="2412124"/>
                </a:cubicBezTo>
                <a:cubicBezTo>
                  <a:pt x="1446203" y="2328137"/>
                  <a:pt x="1376108" y="2402857"/>
                  <a:pt x="1423511" y="2317531"/>
                </a:cubicBezTo>
                <a:cubicBezTo>
                  <a:pt x="1441915" y="2284404"/>
                  <a:pt x="1486573" y="2222938"/>
                  <a:pt x="1486573" y="2222938"/>
                </a:cubicBezTo>
                <a:cubicBezTo>
                  <a:pt x="1526197" y="2104063"/>
                  <a:pt x="1472747" y="2250588"/>
                  <a:pt x="1533869" y="2128345"/>
                </a:cubicBezTo>
                <a:cubicBezTo>
                  <a:pt x="1541301" y="2113481"/>
                  <a:pt x="1545262" y="2097081"/>
                  <a:pt x="1549635" y="2081048"/>
                </a:cubicBezTo>
                <a:cubicBezTo>
                  <a:pt x="1561037" y="2039240"/>
                  <a:pt x="1570656" y="1996965"/>
                  <a:pt x="1581166" y="1954924"/>
                </a:cubicBezTo>
                <a:cubicBezTo>
                  <a:pt x="1586421" y="1933903"/>
                  <a:pt x="1590079" y="1912418"/>
                  <a:pt x="1596931" y="1891862"/>
                </a:cubicBezTo>
                <a:cubicBezTo>
                  <a:pt x="1602186" y="1876097"/>
                  <a:pt x="1608324" y="1860599"/>
                  <a:pt x="1612697" y="1844566"/>
                </a:cubicBezTo>
                <a:cubicBezTo>
                  <a:pt x="1624099" y="1802758"/>
                  <a:pt x="1620190" y="1754499"/>
                  <a:pt x="1644228" y="1718442"/>
                </a:cubicBezTo>
                <a:cubicBezTo>
                  <a:pt x="1665249" y="1686911"/>
                  <a:pt x="1719274" y="1587897"/>
                  <a:pt x="1707290" y="1623848"/>
                </a:cubicBezTo>
                <a:cubicBezTo>
                  <a:pt x="1685532" y="1689121"/>
                  <a:pt x="1700742" y="1657318"/>
                  <a:pt x="1659993" y="1718442"/>
                </a:cubicBezTo>
                <a:cubicBezTo>
                  <a:pt x="1649483" y="1749973"/>
                  <a:pt x="1646898" y="1785381"/>
                  <a:pt x="1628462" y="1813035"/>
                </a:cubicBezTo>
                <a:cubicBezTo>
                  <a:pt x="1596796" y="1860533"/>
                  <a:pt x="1589402" y="1867387"/>
                  <a:pt x="1565400" y="1923393"/>
                </a:cubicBezTo>
                <a:cubicBezTo>
                  <a:pt x="1551832" y="1955052"/>
                  <a:pt x="1541868" y="2001759"/>
                  <a:pt x="1533869" y="2033752"/>
                </a:cubicBezTo>
                <a:cubicBezTo>
                  <a:pt x="1546627" y="2123055"/>
                  <a:pt x="1544163" y="2132846"/>
                  <a:pt x="1565400" y="2207173"/>
                </a:cubicBezTo>
                <a:cubicBezTo>
                  <a:pt x="1569965" y="2223152"/>
                  <a:pt x="1574289" y="2239340"/>
                  <a:pt x="1581166" y="2254469"/>
                </a:cubicBezTo>
                <a:cubicBezTo>
                  <a:pt x="1600616" y="2297259"/>
                  <a:pt x="1644228" y="2380593"/>
                  <a:pt x="1644228" y="2380593"/>
                </a:cubicBezTo>
                <a:cubicBezTo>
                  <a:pt x="1649483" y="2401614"/>
                  <a:pt x="1659993" y="2421987"/>
                  <a:pt x="1659993" y="2443655"/>
                </a:cubicBezTo>
                <a:cubicBezTo>
                  <a:pt x="1659993" y="2460273"/>
                  <a:pt x="1648793" y="2474973"/>
                  <a:pt x="1644228" y="2490952"/>
                </a:cubicBezTo>
                <a:cubicBezTo>
                  <a:pt x="1625115" y="2557848"/>
                  <a:pt x="1635600" y="2555206"/>
                  <a:pt x="1596931" y="2617076"/>
                </a:cubicBezTo>
                <a:cubicBezTo>
                  <a:pt x="1537890" y="2711543"/>
                  <a:pt x="1566830" y="2650045"/>
                  <a:pt x="1502338" y="2727435"/>
                </a:cubicBezTo>
                <a:cubicBezTo>
                  <a:pt x="1490208" y="2741991"/>
                  <a:pt x="1484205" y="2761333"/>
                  <a:pt x="1470807" y="2774731"/>
                </a:cubicBezTo>
                <a:cubicBezTo>
                  <a:pt x="1457409" y="2788129"/>
                  <a:pt x="1438067" y="2794132"/>
                  <a:pt x="1423511" y="2806262"/>
                </a:cubicBezTo>
                <a:cubicBezTo>
                  <a:pt x="1406383" y="2820536"/>
                  <a:pt x="1393813" y="2839871"/>
                  <a:pt x="1376214" y="2853559"/>
                </a:cubicBezTo>
                <a:cubicBezTo>
                  <a:pt x="1346301" y="2876825"/>
                  <a:pt x="1244461" y="2924053"/>
                  <a:pt x="1281621" y="2916621"/>
                </a:cubicBezTo>
                <a:cubicBezTo>
                  <a:pt x="1307897" y="2911366"/>
                  <a:pt x="1334597" y="2907906"/>
                  <a:pt x="1360449" y="2900855"/>
                </a:cubicBezTo>
                <a:cubicBezTo>
                  <a:pt x="1392514" y="2892110"/>
                  <a:pt x="1422798" y="2877385"/>
                  <a:pt x="1455042" y="2869324"/>
                </a:cubicBezTo>
                <a:cubicBezTo>
                  <a:pt x="1497083" y="2858814"/>
                  <a:pt x="1540055" y="2851497"/>
                  <a:pt x="1581166" y="2837793"/>
                </a:cubicBezTo>
                <a:lnTo>
                  <a:pt x="1675759" y="2806262"/>
                </a:lnTo>
                <a:lnTo>
                  <a:pt x="1723056" y="2790497"/>
                </a:lnTo>
                <a:cubicBezTo>
                  <a:pt x="1769561" y="2759493"/>
                  <a:pt x="1779714" y="2757190"/>
                  <a:pt x="1817649" y="2711669"/>
                </a:cubicBezTo>
                <a:cubicBezTo>
                  <a:pt x="1829779" y="2697113"/>
                  <a:pt x="1838670" y="2680138"/>
                  <a:pt x="1849180" y="2664373"/>
                </a:cubicBezTo>
                <a:lnTo>
                  <a:pt x="1880711" y="2569779"/>
                </a:lnTo>
                <a:cubicBezTo>
                  <a:pt x="1885966" y="2554014"/>
                  <a:pt x="1892445" y="2538605"/>
                  <a:pt x="1896476" y="2522483"/>
                </a:cubicBezTo>
                <a:lnTo>
                  <a:pt x="1912242" y="2459421"/>
                </a:lnTo>
                <a:cubicBezTo>
                  <a:pt x="1904313" y="2380134"/>
                  <a:pt x="1898490" y="2287177"/>
                  <a:pt x="1880711" y="2207173"/>
                </a:cubicBezTo>
                <a:cubicBezTo>
                  <a:pt x="1877106" y="2190950"/>
                  <a:pt x="1869318" y="2175909"/>
                  <a:pt x="1864945" y="2159876"/>
                </a:cubicBezTo>
                <a:cubicBezTo>
                  <a:pt x="1853543" y="2118068"/>
                  <a:pt x="1843924" y="2075793"/>
                  <a:pt x="1833414" y="2033752"/>
                </a:cubicBezTo>
                <a:cubicBezTo>
                  <a:pt x="1828159" y="2012731"/>
                  <a:pt x="1824501" y="1991246"/>
                  <a:pt x="1817649" y="1970690"/>
                </a:cubicBezTo>
                <a:cubicBezTo>
                  <a:pt x="1793409" y="1897972"/>
                  <a:pt x="1805142" y="1939689"/>
                  <a:pt x="1786118" y="1844566"/>
                </a:cubicBezTo>
                <a:cubicBezTo>
                  <a:pt x="1795356" y="1715233"/>
                  <a:pt x="1796073" y="1632155"/>
                  <a:pt x="1817649" y="1513490"/>
                </a:cubicBezTo>
                <a:cubicBezTo>
                  <a:pt x="1837312" y="1405344"/>
                  <a:pt x="1826664" y="1493197"/>
                  <a:pt x="1849180" y="1403131"/>
                </a:cubicBezTo>
                <a:cubicBezTo>
                  <a:pt x="1855679" y="1377135"/>
                  <a:pt x="1859690" y="1350580"/>
                  <a:pt x="1864945" y="1324304"/>
                </a:cubicBezTo>
                <a:cubicBezTo>
                  <a:pt x="1859690" y="1308538"/>
                  <a:pt x="1852785" y="1293230"/>
                  <a:pt x="1849180" y="1277007"/>
                </a:cubicBezTo>
                <a:cubicBezTo>
                  <a:pt x="1812185" y="1110528"/>
                  <a:pt x="1853138" y="1241589"/>
                  <a:pt x="1817649" y="1135117"/>
                </a:cubicBezTo>
                <a:cubicBezTo>
                  <a:pt x="1852198" y="1083294"/>
                  <a:pt x="1848626" y="1097640"/>
                  <a:pt x="1864945" y="1040524"/>
                </a:cubicBezTo>
                <a:cubicBezTo>
                  <a:pt x="1870898" y="1019690"/>
                  <a:pt x="1880711" y="977462"/>
                  <a:pt x="1880711" y="977462"/>
                </a:cubicBezTo>
              </a:path>
            </a:pathLst>
          </a:custGeom>
          <a:noFill/>
          <a:ln cap="rnd" w="19080">
            <a:solidFill>
              <a:srgbClr val="cfda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1"/>
          <p:cNvSpPr/>
          <p:nvPr/>
        </p:nvSpPr>
        <p:spPr>
          <a:xfrm>
            <a:off x="3468600" y="2419200"/>
            <a:ext cx="3767400" cy="2017800"/>
          </a:xfrm>
          <a:custGeom>
            <a:avLst/>
            <a:gdLst/>
            <a:ahLst/>
            <a:rect l="l" t="t" r="r" b="b"/>
            <a:pathLst>
              <a:path w="3767958" h="2017986">
                <a:moveTo>
                  <a:pt x="3752193" y="1135117"/>
                </a:moveTo>
                <a:cubicBezTo>
                  <a:pt x="3741683" y="1087820"/>
                  <a:pt x="3727710" y="1017101"/>
                  <a:pt x="3704896" y="961696"/>
                </a:cubicBezTo>
                <a:cubicBezTo>
                  <a:pt x="3690467" y="926655"/>
                  <a:pt x="3641834" y="867103"/>
                  <a:pt x="3641834" y="867103"/>
                </a:cubicBezTo>
                <a:cubicBezTo>
                  <a:pt x="3626034" y="819702"/>
                  <a:pt x="3628495" y="813258"/>
                  <a:pt x="3594538" y="772510"/>
                </a:cubicBezTo>
                <a:cubicBezTo>
                  <a:pt x="3580265" y="755382"/>
                  <a:pt x="3561514" y="742342"/>
                  <a:pt x="3547241" y="725214"/>
                </a:cubicBezTo>
                <a:cubicBezTo>
                  <a:pt x="3535111" y="710658"/>
                  <a:pt x="3527840" y="692473"/>
                  <a:pt x="3515710" y="677917"/>
                </a:cubicBezTo>
                <a:cubicBezTo>
                  <a:pt x="3501437" y="660789"/>
                  <a:pt x="3482687" y="647749"/>
                  <a:pt x="3468414" y="630621"/>
                </a:cubicBezTo>
                <a:cubicBezTo>
                  <a:pt x="3456284" y="616065"/>
                  <a:pt x="3450281" y="596722"/>
                  <a:pt x="3436883" y="583324"/>
                </a:cubicBezTo>
                <a:cubicBezTo>
                  <a:pt x="3423485" y="569926"/>
                  <a:pt x="3405352" y="562303"/>
                  <a:pt x="3389586" y="551793"/>
                </a:cubicBezTo>
                <a:cubicBezTo>
                  <a:pt x="3361557" y="509749"/>
                  <a:pt x="3352780" y="489883"/>
                  <a:pt x="3310758" y="457200"/>
                </a:cubicBezTo>
                <a:cubicBezTo>
                  <a:pt x="3280845" y="433935"/>
                  <a:pt x="3242961" y="420934"/>
                  <a:pt x="3216165" y="394138"/>
                </a:cubicBezTo>
                <a:cubicBezTo>
                  <a:pt x="3200400" y="378372"/>
                  <a:pt x="3185997" y="361114"/>
                  <a:pt x="3168869" y="346841"/>
                </a:cubicBezTo>
                <a:cubicBezTo>
                  <a:pt x="3140930" y="323558"/>
                  <a:pt x="3090255" y="297384"/>
                  <a:pt x="3058510" y="283779"/>
                </a:cubicBezTo>
                <a:cubicBezTo>
                  <a:pt x="3043236" y="277233"/>
                  <a:pt x="3026979" y="273269"/>
                  <a:pt x="3011214" y="268014"/>
                </a:cubicBezTo>
                <a:cubicBezTo>
                  <a:pt x="2936262" y="218046"/>
                  <a:pt x="2981893" y="242475"/>
                  <a:pt x="2869324" y="204952"/>
                </a:cubicBezTo>
                <a:cubicBezTo>
                  <a:pt x="2853558" y="199697"/>
                  <a:pt x="2835854" y="198404"/>
                  <a:pt x="2822027" y="189186"/>
                </a:cubicBezTo>
                <a:cubicBezTo>
                  <a:pt x="2806262" y="178676"/>
                  <a:pt x="2792046" y="165350"/>
                  <a:pt x="2774731" y="157655"/>
                </a:cubicBezTo>
                <a:cubicBezTo>
                  <a:pt x="2707302" y="127686"/>
                  <a:pt x="2681273" y="128700"/>
                  <a:pt x="2617076" y="110358"/>
                </a:cubicBezTo>
                <a:cubicBezTo>
                  <a:pt x="2601097" y="105793"/>
                  <a:pt x="2585758" y="99158"/>
                  <a:pt x="2569779" y="94593"/>
                </a:cubicBezTo>
                <a:cubicBezTo>
                  <a:pt x="2548945" y="88640"/>
                  <a:pt x="2527551" y="84780"/>
                  <a:pt x="2506717" y="78827"/>
                </a:cubicBezTo>
                <a:cubicBezTo>
                  <a:pt x="2490738" y="74262"/>
                  <a:pt x="2475399" y="67627"/>
                  <a:pt x="2459420" y="63062"/>
                </a:cubicBezTo>
                <a:cubicBezTo>
                  <a:pt x="2392115" y="43832"/>
                  <a:pt x="2390703" y="47792"/>
                  <a:pt x="2317531" y="31531"/>
                </a:cubicBezTo>
                <a:cubicBezTo>
                  <a:pt x="2183723" y="1796"/>
                  <a:pt x="2335421" y="27329"/>
                  <a:pt x="2144110" y="0"/>
                </a:cubicBezTo>
                <a:lnTo>
                  <a:pt x="1513489" y="15765"/>
                </a:lnTo>
                <a:cubicBezTo>
                  <a:pt x="1443137" y="18579"/>
                  <a:pt x="1349800" y="29098"/>
                  <a:pt x="1277007" y="47296"/>
                </a:cubicBezTo>
                <a:cubicBezTo>
                  <a:pt x="1260885" y="51327"/>
                  <a:pt x="1245743" y="58689"/>
                  <a:pt x="1229710" y="63062"/>
                </a:cubicBezTo>
                <a:cubicBezTo>
                  <a:pt x="1187902" y="74464"/>
                  <a:pt x="1146080" y="86095"/>
                  <a:pt x="1103586" y="94593"/>
                </a:cubicBezTo>
                <a:cubicBezTo>
                  <a:pt x="1077310" y="99848"/>
                  <a:pt x="1050610" y="103307"/>
                  <a:pt x="1024758" y="110358"/>
                </a:cubicBezTo>
                <a:cubicBezTo>
                  <a:pt x="992692" y="119103"/>
                  <a:pt x="961696" y="131379"/>
                  <a:pt x="930165" y="141890"/>
                </a:cubicBezTo>
                <a:lnTo>
                  <a:pt x="882869" y="157655"/>
                </a:lnTo>
                <a:lnTo>
                  <a:pt x="788276" y="189186"/>
                </a:lnTo>
                <a:cubicBezTo>
                  <a:pt x="728802" y="209011"/>
                  <a:pt x="700594" y="213806"/>
                  <a:pt x="646386" y="268014"/>
                </a:cubicBezTo>
                <a:cubicBezTo>
                  <a:pt x="614855" y="299545"/>
                  <a:pt x="588895" y="337872"/>
                  <a:pt x="551793" y="362607"/>
                </a:cubicBezTo>
                <a:lnTo>
                  <a:pt x="457200" y="425669"/>
                </a:lnTo>
                <a:cubicBezTo>
                  <a:pt x="441434" y="436179"/>
                  <a:pt x="423301" y="443802"/>
                  <a:pt x="409903" y="457200"/>
                </a:cubicBezTo>
                <a:cubicBezTo>
                  <a:pt x="394138" y="472965"/>
                  <a:pt x="380206" y="490808"/>
                  <a:pt x="362607" y="504496"/>
                </a:cubicBezTo>
                <a:cubicBezTo>
                  <a:pt x="174340" y="650926"/>
                  <a:pt x="356347" y="479225"/>
                  <a:pt x="189186" y="646386"/>
                </a:cubicBezTo>
                <a:lnTo>
                  <a:pt x="141889" y="693683"/>
                </a:lnTo>
                <a:cubicBezTo>
                  <a:pt x="126124" y="709448"/>
                  <a:pt x="106960" y="722428"/>
                  <a:pt x="94593" y="740979"/>
                </a:cubicBezTo>
                <a:lnTo>
                  <a:pt x="31531" y="835572"/>
                </a:lnTo>
                <a:lnTo>
                  <a:pt x="0" y="882869"/>
                </a:lnTo>
                <a:lnTo>
                  <a:pt x="47296" y="1024758"/>
                </a:lnTo>
                <a:cubicBezTo>
                  <a:pt x="52551" y="1040524"/>
                  <a:pt x="51311" y="1060304"/>
                  <a:pt x="63062" y="1072055"/>
                </a:cubicBezTo>
                <a:cubicBezTo>
                  <a:pt x="201248" y="1210244"/>
                  <a:pt x="32135" y="1034944"/>
                  <a:pt x="141889" y="1166648"/>
                </a:cubicBezTo>
                <a:cubicBezTo>
                  <a:pt x="156163" y="1183776"/>
                  <a:pt x="174912" y="1196817"/>
                  <a:pt x="189186" y="1213945"/>
                </a:cubicBezTo>
                <a:cubicBezTo>
                  <a:pt x="254875" y="1292772"/>
                  <a:pt x="181304" y="1234966"/>
                  <a:pt x="268014" y="1292772"/>
                </a:cubicBezTo>
                <a:cubicBezTo>
                  <a:pt x="352095" y="1418894"/>
                  <a:pt x="241741" y="1266500"/>
                  <a:pt x="346841" y="1371600"/>
                </a:cubicBezTo>
                <a:cubicBezTo>
                  <a:pt x="401495" y="1426254"/>
                  <a:pt x="349994" y="1416794"/>
                  <a:pt x="425669" y="1450427"/>
                </a:cubicBezTo>
                <a:cubicBezTo>
                  <a:pt x="456041" y="1463926"/>
                  <a:pt x="520262" y="1481958"/>
                  <a:pt x="520262" y="1481958"/>
                </a:cubicBezTo>
                <a:cubicBezTo>
                  <a:pt x="578588" y="1540286"/>
                  <a:pt x="539426" y="1505246"/>
                  <a:pt x="646386" y="1576552"/>
                </a:cubicBezTo>
                <a:lnTo>
                  <a:pt x="740979" y="1639614"/>
                </a:lnTo>
                <a:cubicBezTo>
                  <a:pt x="756745" y="1650124"/>
                  <a:pt x="770300" y="1665153"/>
                  <a:pt x="788276" y="1671145"/>
                </a:cubicBezTo>
                <a:lnTo>
                  <a:pt x="835572" y="1686910"/>
                </a:lnTo>
                <a:cubicBezTo>
                  <a:pt x="851338" y="1697420"/>
                  <a:pt x="865554" y="1710746"/>
                  <a:pt x="882869" y="1718441"/>
                </a:cubicBezTo>
                <a:cubicBezTo>
                  <a:pt x="913241" y="1731940"/>
                  <a:pt x="977462" y="1749972"/>
                  <a:pt x="977462" y="1749972"/>
                </a:cubicBezTo>
                <a:cubicBezTo>
                  <a:pt x="993227" y="1760482"/>
                  <a:pt x="1007443" y="1773808"/>
                  <a:pt x="1024758" y="1781503"/>
                </a:cubicBezTo>
                <a:cubicBezTo>
                  <a:pt x="1055130" y="1795002"/>
                  <a:pt x="1087821" y="1802523"/>
                  <a:pt x="1119352" y="1813034"/>
                </a:cubicBezTo>
                <a:cubicBezTo>
                  <a:pt x="1135117" y="1818289"/>
                  <a:pt x="1150526" y="1824770"/>
                  <a:pt x="1166648" y="1828800"/>
                </a:cubicBezTo>
                <a:cubicBezTo>
                  <a:pt x="1181496" y="1832512"/>
                  <a:pt x="1258499" y="1850049"/>
                  <a:pt x="1277007" y="1860331"/>
                </a:cubicBezTo>
                <a:cubicBezTo>
                  <a:pt x="1310134" y="1878735"/>
                  <a:pt x="1335649" y="1911409"/>
                  <a:pt x="1371600" y="1923393"/>
                </a:cubicBezTo>
                <a:cubicBezTo>
                  <a:pt x="1519243" y="1972607"/>
                  <a:pt x="1411327" y="1940981"/>
                  <a:pt x="1545020" y="1970690"/>
                </a:cubicBezTo>
                <a:cubicBezTo>
                  <a:pt x="1566172" y="1975390"/>
                  <a:pt x="1586765" y="1982579"/>
                  <a:pt x="1608083" y="1986455"/>
                </a:cubicBezTo>
                <a:cubicBezTo>
                  <a:pt x="1644643" y="1993102"/>
                  <a:pt x="1681714" y="1996571"/>
                  <a:pt x="1718441" y="2002221"/>
                </a:cubicBezTo>
                <a:cubicBezTo>
                  <a:pt x="1750035" y="2007082"/>
                  <a:pt x="1781503" y="2012731"/>
                  <a:pt x="1813034" y="2017986"/>
                </a:cubicBezTo>
                <a:cubicBezTo>
                  <a:pt x="1923393" y="2012731"/>
                  <a:pt x="2033928" y="2010383"/>
                  <a:pt x="2144110" y="2002221"/>
                </a:cubicBezTo>
                <a:cubicBezTo>
                  <a:pt x="2248416" y="1994495"/>
                  <a:pt x="2252472" y="1973650"/>
                  <a:pt x="2364827" y="1954924"/>
                </a:cubicBezTo>
                <a:cubicBezTo>
                  <a:pt x="2396358" y="1949669"/>
                  <a:pt x="2428215" y="1946092"/>
                  <a:pt x="2459420" y="1939158"/>
                </a:cubicBezTo>
                <a:cubicBezTo>
                  <a:pt x="2475643" y="1935553"/>
                  <a:pt x="2490738" y="1927958"/>
                  <a:pt x="2506717" y="1923393"/>
                </a:cubicBezTo>
                <a:cubicBezTo>
                  <a:pt x="2527551" y="1917440"/>
                  <a:pt x="2548592" y="1912167"/>
                  <a:pt x="2569779" y="1907627"/>
                </a:cubicBezTo>
                <a:cubicBezTo>
                  <a:pt x="2639757" y="1892632"/>
                  <a:pt x="2780699" y="1868851"/>
                  <a:pt x="2853558" y="1844565"/>
                </a:cubicBezTo>
                <a:cubicBezTo>
                  <a:pt x="2968708" y="1806182"/>
                  <a:pt x="2915907" y="1821095"/>
                  <a:pt x="3011214" y="1797269"/>
                </a:cubicBezTo>
                <a:cubicBezTo>
                  <a:pt x="3026979" y="1786759"/>
                  <a:pt x="3041195" y="1773433"/>
                  <a:pt x="3058510" y="1765738"/>
                </a:cubicBezTo>
                <a:cubicBezTo>
                  <a:pt x="3088882" y="1752239"/>
                  <a:pt x="3153103" y="1734207"/>
                  <a:pt x="3153103" y="1734207"/>
                </a:cubicBezTo>
                <a:cubicBezTo>
                  <a:pt x="3168869" y="1723697"/>
                  <a:pt x="3183085" y="1710371"/>
                  <a:pt x="3200400" y="1702676"/>
                </a:cubicBezTo>
                <a:cubicBezTo>
                  <a:pt x="3230772" y="1689177"/>
                  <a:pt x="3294993" y="1671145"/>
                  <a:pt x="3294993" y="1671145"/>
                </a:cubicBezTo>
                <a:cubicBezTo>
                  <a:pt x="3310758" y="1660635"/>
                  <a:pt x="3325342" y="1648088"/>
                  <a:pt x="3342289" y="1639614"/>
                </a:cubicBezTo>
                <a:cubicBezTo>
                  <a:pt x="3357153" y="1632182"/>
                  <a:pt x="3375059" y="1631919"/>
                  <a:pt x="3389586" y="1623848"/>
                </a:cubicBezTo>
                <a:cubicBezTo>
                  <a:pt x="3422713" y="1605444"/>
                  <a:pt x="3452648" y="1581807"/>
                  <a:pt x="3484179" y="1560786"/>
                </a:cubicBezTo>
                <a:cubicBezTo>
                  <a:pt x="3499945" y="1550276"/>
                  <a:pt x="3518078" y="1542653"/>
                  <a:pt x="3531476" y="1529255"/>
                </a:cubicBezTo>
                <a:lnTo>
                  <a:pt x="3626069" y="1434662"/>
                </a:lnTo>
                <a:cubicBezTo>
                  <a:pt x="3700159" y="1360571"/>
                  <a:pt x="3661000" y="1405912"/>
                  <a:pt x="3736427" y="1292772"/>
                </a:cubicBezTo>
                <a:lnTo>
                  <a:pt x="3767958" y="1245476"/>
                </a:lnTo>
                <a:cubicBezTo>
                  <a:pt x="3751271" y="1111977"/>
                  <a:pt x="3762703" y="1182414"/>
                  <a:pt x="3752193" y="1135117"/>
                </a:cubicBezTo>
                <a:close/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2"/>
          <p:cNvSpPr/>
          <p:nvPr/>
        </p:nvSpPr>
        <p:spPr>
          <a:xfrm>
            <a:off x="5848200" y="2571840"/>
            <a:ext cx="489240" cy="1720800"/>
          </a:xfrm>
          <a:custGeom>
            <a:avLst/>
            <a:gdLst/>
            <a:ahLst/>
            <a:rect l="l" t="t" r="r" b="b"/>
            <a:pathLst>
              <a:path w="488731" h="1721881">
                <a:moveTo>
                  <a:pt x="488731" y="0"/>
                </a:moveTo>
                <a:cubicBezTo>
                  <a:pt x="430924" y="47297"/>
                  <a:pt x="368124" y="89076"/>
                  <a:pt x="315310" y="141890"/>
                </a:cubicBezTo>
                <a:cubicBezTo>
                  <a:pt x="288514" y="168686"/>
                  <a:pt x="273269" y="204952"/>
                  <a:pt x="252248" y="236483"/>
                </a:cubicBezTo>
                <a:cubicBezTo>
                  <a:pt x="241738" y="252248"/>
                  <a:pt x="234115" y="270381"/>
                  <a:pt x="220717" y="283779"/>
                </a:cubicBezTo>
                <a:cubicBezTo>
                  <a:pt x="191018" y="313479"/>
                  <a:pt x="159448" y="338866"/>
                  <a:pt x="141890" y="378372"/>
                </a:cubicBezTo>
                <a:cubicBezTo>
                  <a:pt x="128391" y="408744"/>
                  <a:pt x="120870" y="441435"/>
                  <a:pt x="110359" y="472966"/>
                </a:cubicBezTo>
                <a:cubicBezTo>
                  <a:pt x="86065" y="545848"/>
                  <a:pt x="60030" y="617277"/>
                  <a:pt x="47296" y="693683"/>
                </a:cubicBezTo>
                <a:cubicBezTo>
                  <a:pt x="11360" y="909301"/>
                  <a:pt x="28303" y="820179"/>
                  <a:pt x="0" y="961697"/>
                </a:cubicBezTo>
                <a:cubicBezTo>
                  <a:pt x="5255" y="1014249"/>
                  <a:pt x="7083" y="1067257"/>
                  <a:pt x="15765" y="1119352"/>
                </a:cubicBezTo>
                <a:cubicBezTo>
                  <a:pt x="28962" y="1198534"/>
                  <a:pt x="53836" y="1265098"/>
                  <a:pt x="78827" y="1340069"/>
                </a:cubicBezTo>
                <a:lnTo>
                  <a:pt x="126124" y="1481959"/>
                </a:lnTo>
                <a:lnTo>
                  <a:pt x="173421" y="1623848"/>
                </a:lnTo>
                <a:lnTo>
                  <a:pt x="189186" y="1671145"/>
                </a:lnTo>
                <a:cubicBezTo>
                  <a:pt x="194441" y="1686910"/>
                  <a:pt x="204952" y="1735059"/>
                  <a:pt x="204952" y="1718441"/>
                </a:cubicBezTo>
                <a:lnTo>
                  <a:pt x="204952" y="168691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4"/>
          <p:cNvSpPr/>
          <p:nvPr/>
        </p:nvSpPr>
        <p:spPr>
          <a:xfrm>
            <a:off x="6434280" y="3059280"/>
            <a:ext cx="441360" cy="441000"/>
          </a:xfrm>
          <a:custGeom>
            <a:avLst/>
            <a:gdLst/>
            <a:ahLst/>
            <a:rect l="l" t="t" r="r" b="b"/>
            <a:pathLst>
              <a:path w="441435" h="442180">
                <a:moveTo>
                  <a:pt x="346842" y="63808"/>
                </a:moveTo>
                <a:cubicBezTo>
                  <a:pt x="289035" y="42787"/>
                  <a:pt x="233566" y="13634"/>
                  <a:pt x="173421" y="746"/>
                </a:cubicBezTo>
                <a:cubicBezTo>
                  <a:pt x="157171" y="-2736"/>
                  <a:pt x="139419" y="6540"/>
                  <a:pt x="126124" y="16511"/>
                </a:cubicBezTo>
                <a:cubicBezTo>
                  <a:pt x="96396" y="38807"/>
                  <a:pt x="47297" y="95339"/>
                  <a:pt x="47297" y="95339"/>
                </a:cubicBezTo>
                <a:cubicBezTo>
                  <a:pt x="42042" y="111105"/>
                  <a:pt x="38963" y="127772"/>
                  <a:pt x="31531" y="142636"/>
                </a:cubicBezTo>
                <a:cubicBezTo>
                  <a:pt x="23057" y="159583"/>
                  <a:pt x="0" y="170984"/>
                  <a:pt x="0" y="189932"/>
                </a:cubicBezTo>
                <a:cubicBezTo>
                  <a:pt x="0" y="233267"/>
                  <a:pt x="17827" y="274945"/>
                  <a:pt x="31531" y="316056"/>
                </a:cubicBezTo>
                <a:cubicBezTo>
                  <a:pt x="36786" y="331822"/>
                  <a:pt x="38079" y="349526"/>
                  <a:pt x="47297" y="363353"/>
                </a:cubicBezTo>
                <a:cubicBezTo>
                  <a:pt x="59664" y="381904"/>
                  <a:pt x="75103" y="399821"/>
                  <a:pt x="94593" y="410649"/>
                </a:cubicBezTo>
                <a:cubicBezTo>
                  <a:pt x="123647" y="426790"/>
                  <a:pt x="189186" y="442180"/>
                  <a:pt x="189186" y="442180"/>
                </a:cubicBezTo>
                <a:cubicBezTo>
                  <a:pt x="229860" y="436370"/>
                  <a:pt x="302814" y="432663"/>
                  <a:pt x="346842" y="410649"/>
                </a:cubicBezTo>
                <a:cubicBezTo>
                  <a:pt x="363789" y="402175"/>
                  <a:pt x="378373" y="389628"/>
                  <a:pt x="394138" y="379118"/>
                </a:cubicBezTo>
                <a:cubicBezTo>
                  <a:pt x="410080" y="355205"/>
                  <a:pt x="441435" y="317161"/>
                  <a:pt x="441435" y="284525"/>
                </a:cubicBezTo>
                <a:cubicBezTo>
                  <a:pt x="441435" y="262857"/>
                  <a:pt x="431895" y="242217"/>
                  <a:pt x="425669" y="221463"/>
                </a:cubicBezTo>
                <a:cubicBezTo>
                  <a:pt x="417302" y="193572"/>
                  <a:pt x="395954" y="106251"/>
                  <a:pt x="362607" y="79574"/>
                </a:cubicBezTo>
                <a:cubicBezTo>
                  <a:pt x="338745" y="60484"/>
                  <a:pt x="310802" y="63808"/>
                  <a:pt x="283780" y="63808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олилиния 5"/>
          <p:cNvSpPr/>
          <p:nvPr/>
        </p:nvSpPr>
        <p:spPr>
          <a:xfrm>
            <a:off x="6566040" y="3222720"/>
            <a:ext cx="237960" cy="206280"/>
          </a:xfrm>
          <a:custGeom>
            <a:avLst/>
            <a:gdLst/>
            <a:ahLst/>
            <a:rect l="l" t="t" r="r" b="b"/>
            <a:pathLst>
              <a:path w="239004" h="206485">
                <a:moveTo>
                  <a:pt x="236483" y="64595"/>
                </a:moveTo>
                <a:cubicBezTo>
                  <a:pt x="160821" y="37082"/>
                  <a:pt x="78642" y="-45532"/>
                  <a:pt x="15766" y="33064"/>
                </a:cubicBezTo>
                <a:cubicBezTo>
                  <a:pt x="5385" y="46041"/>
                  <a:pt x="5255" y="64595"/>
                  <a:pt x="0" y="80361"/>
                </a:cubicBezTo>
                <a:cubicBezTo>
                  <a:pt x="10510" y="111892"/>
                  <a:pt x="0" y="164444"/>
                  <a:pt x="31531" y="174954"/>
                </a:cubicBezTo>
                <a:lnTo>
                  <a:pt x="126124" y="206485"/>
                </a:lnTo>
                <a:cubicBezTo>
                  <a:pt x="147145" y="201230"/>
                  <a:pt x="168353" y="196672"/>
                  <a:pt x="189187" y="190719"/>
                </a:cubicBezTo>
                <a:cubicBezTo>
                  <a:pt x="205166" y="186154"/>
                  <a:pt x="231228" y="190719"/>
                  <a:pt x="236483" y="174954"/>
                </a:cubicBezTo>
                <a:cubicBezTo>
                  <a:pt x="244957" y="149533"/>
                  <a:pt x="230127" y="121216"/>
                  <a:pt x="220718" y="96126"/>
                </a:cubicBezTo>
                <a:cubicBezTo>
                  <a:pt x="214065" y="78385"/>
                  <a:pt x="203983" y="60666"/>
                  <a:pt x="189187" y="48830"/>
                </a:cubicBezTo>
                <a:cubicBezTo>
                  <a:pt x="161170" y="26417"/>
                  <a:pt x="108897" y="33064"/>
                  <a:pt x="78828" y="33064"/>
                </a:cubicBezTo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лилиния 6"/>
          <p:cNvSpPr/>
          <p:nvPr/>
        </p:nvSpPr>
        <p:spPr>
          <a:xfrm>
            <a:off x="6589800" y="3816360"/>
            <a:ext cx="315720" cy="189000"/>
          </a:xfrm>
          <a:custGeom>
            <a:avLst/>
            <a:gdLst/>
            <a:ahLst/>
            <a:rect l="l" t="t" r="r" b="b"/>
            <a:pathLst>
              <a:path w="315311" h="189187">
                <a:moveTo>
                  <a:pt x="315311" y="189187"/>
                </a:moveTo>
                <a:cubicBezTo>
                  <a:pt x="257504" y="168166"/>
                  <a:pt x="197739" y="151902"/>
                  <a:pt x="141890" y="126125"/>
                </a:cubicBezTo>
                <a:cubicBezTo>
                  <a:pt x="128394" y="119896"/>
                  <a:pt x="123105" y="102241"/>
                  <a:pt x="110359" y="94593"/>
                </a:cubicBezTo>
                <a:cubicBezTo>
                  <a:pt x="96109" y="86043"/>
                  <a:pt x="78828" y="84083"/>
                  <a:pt x="63062" y="78828"/>
                </a:cubicBezTo>
                <a:cubicBezTo>
                  <a:pt x="47297" y="68318"/>
                  <a:pt x="27602" y="62093"/>
                  <a:pt x="15766" y="47297"/>
                </a:cubicBezTo>
                <a:cubicBezTo>
                  <a:pt x="5385" y="34320"/>
                  <a:pt x="0" y="0"/>
                  <a:pt x="0" y="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лилиния 7"/>
          <p:cNvSpPr/>
          <p:nvPr/>
        </p:nvSpPr>
        <p:spPr>
          <a:xfrm rot="1635600">
            <a:off x="5010120" y="3844800"/>
            <a:ext cx="741240" cy="524160"/>
          </a:xfrm>
          <a:custGeom>
            <a:avLst/>
            <a:gdLst/>
            <a:ahLst/>
            <a:rect l="l" t="t" r="r" b="b"/>
            <a:pathLst>
              <a:path w="962130" h="680928">
                <a:moveTo>
                  <a:pt x="962130" y="18777"/>
                </a:moveTo>
                <a:lnTo>
                  <a:pt x="804475" y="239494"/>
                </a:lnTo>
                <a:cubicBezTo>
                  <a:pt x="804473" y="239496"/>
                  <a:pt x="741414" y="334085"/>
                  <a:pt x="741413" y="334087"/>
                </a:cubicBezTo>
                <a:lnTo>
                  <a:pt x="694116" y="475977"/>
                </a:lnTo>
                <a:cubicBezTo>
                  <a:pt x="688861" y="491742"/>
                  <a:pt x="692178" y="514055"/>
                  <a:pt x="678351" y="523273"/>
                </a:cubicBezTo>
                <a:lnTo>
                  <a:pt x="631054" y="554804"/>
                </a:lnTo>
                <a:cubicBezTo>
                  <a:pt x="620544" y="570570"/>
                  <a:pt x="612921" y="588703"/>
                  <a:pt x="599523" y="602101"/>
                </a:cubicBezTo>
                <a:cubicBezTo>
                  <a:pt x="586125" y="615499"/>
                  <a:pt x="569541" y="625937"/>
                  <a:pt x="552226" y="633632"/>
                </a:cubicBezTo>
                <a:cubicBezTo>
                  <a:pt x="486762" y="662727"/>
                  <a:pt x="446245" y="667441"/>
                  <a:pt x="378806" y="680928"/>
                </a:cubicBezTo>
                <a:cubicBezTo>
                  <a:pt x="347275" y="670418"/>
                  <a:pt x="311868" y="667833"/>
                  <a:pt x="284213" y="649397"/>
                </a:cubicBezTo>
                <a:cubicBezTo>
                  <a:pt x="252682" y="628376"/>
                  <a:pt x="225571" y="598319"/>
                  <a:pt x="189620" y="586335"/>
                </a:cubicBezTo>
                <a:lnTo>
                  <a:pt x="95026" y="554804"/>
                </a:lnTo>
                <a:lnTo>
                  <a:pt x="47730" y="539039"/>
                </a:lnTo>
                <a:cubicBezTo>
                  <a:pt x="31964" y="528529"/>
                  <a:pt x="4149" y="526088"/>
                  <a:pt x="433" y="507508"/>
                </a:cubicBezTo>
                <a:cubicBezTo>
                  <a:pt x="-3283" y="488928"/>
                  <a:pt x="17704" y="472688"/>
                  <a:pt x="31964" y="460211"/>
                </a:cubicBezTo>
                <a:cubicBezTo>
                  <a:pt x="60483" y="435257"/>
                  <a:pt x="90606" y="409133"/>
                  <a:pt x="126557" y="397149"/>
                </a:cubicBezTo>
                <a:lnTo>
                  <a:pt x="221151" y="365618"/>
                </a:lnTo>
                <a:cubicBezTo>
                  <a:pt x="356693" y="275256"/>
                  <a:pt x="185201" y="383593"/>
                  <a:pt x="315744" y="318321"/>
                </a:cubicBezTo>
                <a:cubicBezTo>
                  <a:pt x="437984" y="257200"/>
                  <a:pt x="291461" y="310649"/>
                  <a:pt x="410337" y="271025"/>
                </a:cubicBezTo>
                <a:cubicBezTo>
                  <a:pt x="426102" y="260515"/>
                  <a:pt x="440318" y="247189"/>
                  <a:pt x="457633" y="239494"/>
                </a:cubicBezTo>
                <a:cubicBezTo>
                  <a:pt x="488005" y="225995"/>
                  <a:pt x="552226" y="207963"/>
                  <a:pt x="552226" y="207963"/>
                </a:cubicBezTo>
                <a:cubicBezTo>
                  <a:pt x="567992" y="192197"/>
                  <a:pt x="582395" y="174940"/>
                  <a:pt x="599523" y="160666"/>
                </a:cubicBezTo>
                <a:cubicBezTo>
                  <a:pt x="614079" y="148536"/>
                  <a:pt x="633422" y="142533"/>
                  <a:pt x="646820" y="129135"/>
                </a:cubicBezTo>
                <a:cubicBezTo>
                  <a:pt x="751927" y="24030"/>
                  <a:pt x="599520" y="134393"/>
                  <a:pt x="725647" y="50308"/>
                </a:cubicBezTo>
                <a:cubicBezTo>
                  <a:pt x="736157" y="34542"/>
                  <a:pt x="739202" y="9003"/>
                  <a:pt x="757178" y="3011"/>
                </a:cubicBezTo>
                <a:cubicBezTo>
                  <a:pt x="804708" y="-12832"/>
                  <a:pt x="831869" y="38419"/>
                  <a:pt x="867537" y="50308"/>
                </a:cubicBezTo>
                <a:cubicBezTo>
                  <a:pt x="882493" y="55293"/>
                  <a:pt x="899068" y="50308"/>
                  <a:pt x="914833" y="50308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олилиния 8"/>
          <p:cNvSpPr/>
          <p:nvPr/>
        </p:nvSpPr>
        <p:spPr>
          <a:xfrm>
            <a:off x="3798720" y="1654200"/>
            <a:ext cx="2538720" cy="1198440"/>
          </a:xfrm>
          <a:custGeom>
            <a:avLst/>
            <a:gdLst/>
            <a:ahLst/>
            <a:rect l="l" t="t" r="r" b="b"/>
            <a:pathLst>
              <a:path w="2538248" h="1198180">
                <a:moveTo>
                  <a:pt x="2538248" y="977463"/>
                </a:moveTo>
                <a:cubicBezTo>
                  <a:pt x="2453047" y="738901"/>
                  <a:pt x="2502756" y="821748"/>
                  <a:pt x="2427889" y="709449"/>
                </a:cubicBezTo>
                <a:cubicBezTo>
                  <a:pt x="2388265" y="590573"/>
                  <a:pt x="2441714" y="737096"/>
                  <a:pt x="2380593" y="614856"/>
                </a:cubicBezTo>
                <a:cubicBezTo>
                  <a:pt x="2315321" y="484313"/>
                  <a:pt x="2423658" y="655805"/>
                  <a:pt x="2333296" y="520263"/>
                </a:cubicBezTo>
                <a:lnTo>
                  <a:pt x="2301765" y="425669"/>
                </a:lnTo>
                <a:cubicBezTo>
                  <a:pt x="2296510" y="409904"/>
                  <a:pt x="2295218" y="392200"/>
                  <a:pt x="2286000" y="378373"/>
                </a:cubicBezTo>
                <a:cubicBezTo>
                  <a:pt x="2275490" y="362607"/>
                  <a:pt x="2262943" y="348023"/>
                  <a:pt x="2254469" y="331076"/>
                </a:cubicBezTo>
                <a:cubicBezTo>
                  <a:pt x="2247037" y="316212"/>
                  <a:pt x="2249084" y="296757"/>
                  <a:pt x="2238703" y="283780"/>
                </a:cubicBezTo>
                <a:cubicBezTo>
                  <a:pt x="2226866" y="268984"/>
                  <a:pt x="2207172" y="262759"/>
                  <a:pt x="2191407" y="252249"/>
                </a:cubicBezTo>
                <a:cubicBezTo>
                  <a:pt x="2180897" y="236483"/>
                  <a:pt x="2171713" y="219748"/>
                  <a:pt x="2159876" y="204952"/>
                </a:cubicBezTo>
                <a:cubicBezTo>
                  <a:pt x="2140326" y="180515"/>
                  <a:pt x="2108359" y="155545"/>
                  <a:pt x="2081048" y="141890"/>
                </a:cubicBezTo>
                <a:cubicBezTo>
                  <a:pt x="2066184" y="134458"/>
                  <a:pt x="2049517" y="131380"/>
                  <a:pt x="2033751" y="126125"/>
                </a:cubicBezTo>
                <a:cubicBezTo>
                  <a:pt x="2017986" y="115615"/>
                  <a:pt x="2003770" y="102289"/>
                  <a:pt x="1986455" y="94594"/>
                </a:cubicBezTo>
                <a:cubicBezTo>
                  <a:pt x="1956083" y="81095"/>
                  <a:pt x="1891862" y="63063"/>
                  <a:pt x="1891862" y="63063"/>
                </a:cubicBezTo>
                <a:cubicBezTo>
                  <a:pt x="1865586" y="68318"/>
                  <a:pt x="1839830" y="78828"/>
                  <a:pt x="1813034" y="78828"/>
                </a:cubicBezTo>
                <a:cubicBezTo>
                  <a:pt x="1774374" y="78828"/>
                  <a:pt x="1697052" y="57716"/>
                  <a:pt x="1655379" y="47297"/>
                </a:cubicBezTo>
                <a:cubicBezTo>
                  <a:pt x="1631468" y="31356"/>
                  <a:pt x="1593420" y="0"/>
                  <a:pt x="1560786" y="0"/>
                </a:cubicBezTo>
                <a:cubicBezTo>
                  <a:pt x="1544167" y="0"/>
                  <a:pt x="1529468" y="11200"/>
                  <a:pt x="1513489" y="15766"/>
                </a:cubicBezTo>
                <a:cubicBezTo>
                  <a:pt x="1374899" y="55364"/>
                  <a:pt x="1516545" y="9493"/>
                  <a:pt x="1403131" y="47297"/>
                </a:cubicBezTo>
                <a:cubicBezTo>
                  <a:pt x="1371600" y="36787"/>
                  <a:pt x="1340069" y="5256"/>
                  <a:pt x="1308538" y="15766"/>
                </a:cubicBezTo>
                <a:lnTo>
                  <a:pt x="1119351" y="78828"/>
                </a:lnTo>
                <a:cubicBezTo>
                  <a:pt x="1103586" y="84083"/>
                  <a:pt x="1085882" y="85376"/>
                  <a:pt x="1072055" y="94594"/>
                </a:cubicBezTo>
                <a:lnTo>
                  <a:pt x="977462" y="157656"/>
                </a:lnTo>
                <a:cubicBezTo>
                  <a:pt x="898634" y="131380"/>
                  <a:pt x="945930" y="136635"/>
                  <a:pt x="835572" y="173421"/>
                </a:cubicBezTo>
                <a:lnTo>
                  <a:pt x="788276" y="189187"/>
                </a:lnTo>
                <a:cubicBezTo>
                  <a:pt x="758949" y="218513"/>
                  <a:pt x="749221" y="232363"/>
                  <a:pt x="709448" y="252249"/>
                </a:cubicBezTo>
                <a:cubicBezTo>
                  <a:pt x="694584" y="259681"/>
                  <a:pt x="677917" y="262759"/>
                  <a:pt x="662151" y="268014"/>
                </a:cubicBezTo>
                <a:cubicBezTo>
                  <a:pt x="526609" y="358376"/>
                  <a:pt x="686118" y="238055"/>
                  <a:pt x="599089" y="346842"/>
                </a:cubicBezTo>
                <a:cubicBezTo>
                  <a:pt x="562418" y="392681"/>
                  <a:pt x="502621" y="379624"/>
                  <a:pt x="457200" y="409904"/>
                </a:cubicBezTo>
                <a:lnTo>
                  <a:pt x="409903" y="441435"/>
                </a:lnTo>
                <a:cubicBezTo>
                  <a:pt x="404648" y="457201"/>
                  <a:pt x="398703" y="472753"/>
                  <a:pt x="394138" y="488732"/>
                </a:cubicBezTo>
                <a:cubicBezTo>
                  <a:pt x="379665" y="539386"/>
                  <a:pt x="385241" y="560690"/>
                  <a:pt x="346841" y="599090"/>
                </a:cubicBezTo>
                <a:cubicBezTo>
                  <a:pt x="333443" y="612488"/>
                  <a:pt x="315310" y="620111"/>
                  <a:pt x="299544" y="630621"/>
                </a:cubicBezTo>
                <a:cubicBezTo>
                  <a:pt x="289034" y="646387"/>
                  <a:pt x="282809" y="666081"/>
                  <a:pt x="268013" y="677918"/>
                </a:cubicBezTo>
                <a:cubicBezTo>
                  <a:pt x="255036" y="688299"/>
                  <a:pt x="235581" y="686251"/>
                  <a:pt x="220717" y="693683"/>
                </a:cubicBezTo>
                <a:cubicBezTo>
                  <a:pt x="203769" y="702157"/>
                  <a:pt x="189186" y="714704"/>
                  <a:pt x="173420" y="725214"/>
                </a:cubicBezTo>
                <a:cubicBezTo>
                  <a:pt x="168165" y="746235"/>
                  <a:pt x="168405" y="769463"/>
                  <a:pt x="157655" y="788276"/>
                </a:cubicBezTo>
                <a:cubicBezTo>
                  <a:pt x="129868" y="836904"/>
                  <a:pt x="108210" y="836289"/>
                  <a:pt x="63062" y="851338"/>
                </a:cubicBezTo>
                <a:cubicBezTo>
                  <a:pt x="52552" y="867104"/>
                  <a:pt x="34646" y="879945"/>
                  <a:pt x="31531" y="898635"/>
                </a:cubicBezTo>
                <a:cubicBezTo>
                  <a:pt x="19166" y="972826"/>
                  <a:pt x="96446" y="929549"/>
                  <a:pt x="0" y="961697"/>
                </a:cubicBezTo>
                <a:cubicBezTo>
                  <a:pt x="5255" y="977463"/>
                  <a:pt x="5384" y="996017"/>
                  <a:pt x="15765" y="1008994"/>
                </a:cubicBezTo>
                <a:cubicBezTo>
                  <a:pt x="27602" y="1023790"/>
                  <a:pt x="48506" y="1028395"/>
                  <a:pt x="63062" y="1040525"/>
                </a:cubicBezTo>
                <a:cubicBezTo>
                  <a:pt x="92949" y="1065431"/>
                  <a:pt x="124172" y="1099685"/>
                  <a:pt x="141889" y="1135118"/>
                </a:cubicBezTo>
                <a:cubicBezTo>
                  <a:pt x="149321" y="1149982"/>
                  <a:pt x="157655" y="1165796"/>
                  <a:pt x="157655" y="1182414"/>
                </a:cubicBezTo>
                <a:lnTo>
                  <a:pt x="141889" y="119818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олилиния 9"/>
          <p:cNvSpPr/>
          <p:nvPr/>
        </p:nvSpPr>
        <p:spPr>
          <a:xfrm>
            <a:off x="4130640" y="4187880"/>
            <a:ext cx="1403280" cy="536400"/>
          </a:xfrm>
          <a:custGeom>
            <a:avLst/>
            <a:gdLst/>
            <a:ahLst/>
            <a:rect l="l" t="t" r="r" b="b"/>
            <a:pathLst>
              <a:path w="1403131" h="537582">
                <a:moveTo>
                  <a:pt x="1403131" y="206506"/>
                </a:moveTo>
                <a:lnTo>
                  <a:pt x="1182413" y="364161"/>
                </a:lnTo>
                <a:cubicBezTo>
                  <a:pt x="1182390" y="364177"/>
                  <a:pt x="1087843" y="427208"/>
                  <a:pt x="1087820" y="427223"/>
                </a:cubicBezTo>
                <a:lnTo>
                  <a:pt x="993227" y="490285"/>
                </a:lnTo>
                <a:lnTo>
                  <a:pt x="945931" y="521816"/>
                </a:lnTo>
                <a:cubicBezTo>
                  <a:pt x="870980" y="471849"/>
                  <a:pt x="916609" y="484293"/>
                  <a:pt x="804041" y="521816"/>
                </a:cubicBezTo>
                <a:lnTo>
                  <a:pt x="756744" y="537582"/>
                </a:lnTo>
                <a:cubicBezTo>
                  <a:pt x="740979" y="527072"/>
                  <a:pt x="728205" y="508731"/>
                  <a:pt x="709448" y="506051"/>
                </a:cubicBezTo>
                <a:cubicBezTo>
                  <a:pt x="687998" y="502987"/>
                  <a:pt x="668054" y="521816"/>
                  <a:pt x="646386" y="521816"/>
                </a:cubicBezTo>
                <a:cubicBezTo>
                  <a:pt x="629768" y="521816"/>
                  <a:pt x="614855" y="511306"/>
                  <a:pt x="599089" y="506051"/>
                </a:cubicBezTo>
                <a:cubicBezTo>
                  <a:pt x="575823" y="471151"/>
                  <a:pt x="556679" y="435736"/>
                  <a:pt x="520262" y="411458"/>
                </a:cubicBezTo>
                <a:cubicBezTo>
                  <a:pt x="506435" y="402240"/>
                  <a:pt x="488731" y="400947"/>
                  <a:pt x="472965" y="395692"/>
                </a:cubicBezTo>
                <a:cubicBezTo>
                  <a:pt x="446689" y="400947"/>
                  <a:pt x="420133" y="404959"/>
                  <a:pt x="394137" y="411458"/>
                </a:cubicBezTo>
                <a:cubicBezTo>
                  <a:pt x="378015" y="415488"/>
                  <a:pt x="362270" y="433395"/>
                  <a:pt x="346841" y="427223"/>
                </a:cubicBezTo>
                <a:cubicBezTo>
                  <a:pt x="329249" y="420186"/>
                  <a:pt x="329570" y="392404"/>
                  <a:pt x="315310" y="379927"/>
                </a:cubicBezTo>
                <a:cubicBezTo>
                  <a:pt x="248590" y="321547"/>
                  <a:pt x="238381" y="322753"/>
                  <a:pt x="173420" y="301099"/>
                </a:cubicBezTo>
                <a:cubicBezTo>
                  <a:pt x="157655" y="285334"/>
                  <a:pt x="140397" y="270931"/>
                  <a:pt x="126124" y="253803"/>
                </a:cubicBezTo>
                <a:cubicBezTo>
                  <a:pt x="113994" y="239247"/>
                  <a:pt x="107991" y="219904"/>
                  <a:pt x="94593" y="206506"/>
                </a:cubicBezTo>
                <a:cubicBezTo>
                  <a:pt x="64031" y="175944"/>
                  <a:pt x="38467" y="172032"/>
                  <a:pt x="0" y="159210"/>
                </a:cubicBezTo>
                <a:cubicBezTo>
                  <a:pt x="129845" y="115927"/>
                  <a:pt x="61690" y="132378"/>
                  <a:pt x="204951" y="111913"/>
                </a:cubicBezTo>
                <a:cubicBezTo>
                  <a:pt x="288198" y="84163"/>
                  <a:pt x="238421" y="105365"/>
                  <a:pt x="346841" y="33085"/>
                </a:cubicBezTo>
                <a:cubicBezTo>
                  <a:pt x="400320" y="-2568"/>
                  <a:pt x="407535" y="-11845"/>
                  <a:pt x="378372" y="1732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лилиния 10"/>
          <p:cNvSpPr/>
          <p:nvPr/>
        </p:nvSpPr>
        <p:spPr>
          <a:xfrm>
            <a:off x="3389400" y="3651120"/>
            <a:ext cx="662040" cy="425520"/>
          </a:xfrm>
          <a:custGeom>
            <a:avLst/>
            <a:gdLst/>
            <a:ahLst/>
            <a:rect l="l" t="t" r="r" b="b"/>
            <a:pathLst>
              <a:path w="662152" h="425669">
                <a:moveTo>
                  <a:pt x="662152" y="252248"/>
                </a:moveTo>
                <a:cubicBezTo>
                  <a:pt x="604345" y="294289"/>
                  <a:pt x="548857" y="339720"/>
                  <a:pt x="488731" y="378372"/>
                </a:cubicBezTo>
                <a:cubicBezTo>
                  <a:pt x="474752" y="387358"/>
                  <a:pt x="456299" y="386706"/>
                  <a:pt x="441435" y="394138"/>
                </a:cubicBezTo>
                <a:cubicBezTo>
                  <a:pt x="424488" y="402612"/>
                  <a:pt x="409904" y="415159"/>
                  <a:pt x="394138" y="425669"/>
                </a:cubicBezTo>
                <a:cubicBezTo>
                  <a:pt x="378373" y="420414"/>
                  <a:pt x="361706" y="417335"/>
                  <a:pt x="346842" y="409903"/>
                </a:cubicBezTo>
                <a:cubicBezTo>
                  <a:pt x="329895" y="401429"/>
                  <a:pt x="318493" y="378372"/>
                  <a:pt x="299545" y="378372"/>
                </a:cubicBezTo>
                <a:cubicBezTo>
                  <a:pt x="266308" y="378372"/>
                  <a:pt x="204952" y="409903"/>
                  <a:pt x="204952" y="409903"/>
                </a:cubicBezTo>
                <a:cubicBezTo>
                  <a:pt x="132337" y="385699"/>
                  <a:pt x="123831" y="390698"/>
                  <a:pt x="63062" y="299545"/>
                </a:cubicBezTo>
                <a:lnTo>
                  <a:pt x="0" y="204952"/>
                </a:lnTo>
                <a:cubicBezTo>
                  <a:pt x="61587" y="143363"/>
                  <a:pt x="-3036" y="198587"/>
                  <a:pt x="78828" y="157655"/>
                </a:cubicBezTo>
                <a:cubicBezTo>
                  <a:pt x="95775" y="149181"/>
                  <a:pt x="109177" y="134598"/>
                  <a:pt x="126124" y="126124"/>
                </a:cubicBezTo>
                <a:cubicBezTo>
                  <a:pt x="140988" y="118692"/>
                  <a:pt x="158894" y="118429"/>
                  <a:pt x="173421" y="110358"/>
                </a:cubicBezTo>
                <a:cubicBezTo>
                  <a:pt x="206548" y="91954"/>
                  <a:pt x="241218" y="74092"/>
                  <a:pt x="268014" y="47296"/>
                </a:cubicBezTo>
                <a:lnTo>
                  <a:pt x="315311" y="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лилиния 11"/>
          <p:cNvSpPr/>
          <p:nvPr/>
        </p:nvSpPr>
        <p:spPr>
          <a:xfrm>
            <a:off x="1874880" y="2171880"/>
            <a:ext cx="1671480" cy="2049120"/>
          </a:xfrm>
          <a:custGeom>
            <a:avLst/>
            <a:gdLst/>
            <a:ahLst/>
            <a:rect l="l" t="t" r="r" b="b"/>
            <a:pathLst>
              <a:path w="1672922" h="2049517">
                <a:moveTo>
                  <a:pt x="1672922" y="945931"/>
                </a:moveTo>
                <a:cubicBezTo>
                  <a:pt x="1615115" y="924910"/>
                  <a:pt x="1553660" y="912031"/>
                  <a:pt x="1499502" y="882869"/>
                </a:cubicBezTo>
                <a:cubicBezTo>
                  <a:pt x="1482819" y="873886"/>
                  <a:pt x="1481369" y="848970"/>
                  <a:pt x="1467971" y="835572"/>
                </a:cubicBezTo>
                <a:cubicBezTo>
                  <a:pt x="1454573" y="822174"/>
                  <a:pt x="1435230" y="816171"/>
                  <a:pt x="1420674" y="804041"/>
                </a:cubicBezTo>
                <a:cubicBezTo>
                  <a:pt x="1299285" y="702883"/>
                  <a:pt x="1443511" y="803499"/>
                  <a:pt x="1326081" y="725213"/>
                </a:cubicBezTo>
                <a:cubicBezTo>
                  <a:pt x="1315571" y="709448"/>
                  <a:pt x="1308810" y="690394"/>
                  <a:pt x="1294550" y="677917"/>
                </a:cubicBezTo>
                <a:cubicBezTo>
                  <a:pt x="1266031" y="652963"/>
                  <a:pt x="1231488" y="635876"/>
                  <a:pt x="1199957" y="614855"/>
                </a:cubicBezTo>
                <a:cubicBezTo>
                  <a:pt x="1138834" y="574106"/>
                  <a:pt x="1170635" y="589316"/>
                  <a:pt x="1105364" y="567558"/>
                </a:cubicBezTo>
                <a:cubicBezTo>
                  <a:pt x="1094854" y="551793"/>
                  <a:pt x="1088093" y="532739"/>
                  <a:pt x="1073833" y="520262"/>
                </a:cubicBezTo>
                <a:cubicBezTo>
                  <a:pt x="1045314" y="495308"/>
                  <a:pt x="979240" y="457200"/>
                  <a:pt x="979240" y="457200"/>
                </a:cubicBezTo>
                <a:cubicBezTo>
                  <a:pt x="921434" y="370491"/>
                  <a:pt x="979239" y="444060"/>
                  <a:pt x="900412" y="378372"/>
                </a:cubicBezTo>
                <a:cubicBezTo>
                  <a:pt x="883284" y="364099"/>
                  <a:pt x="871666" y="343443"/>
                  <a:pt x="853115" y="331076"/>
                </a:cubicBezTo>
                <a:cubicBezTo>
                  <a:pt x="839288" y="321858"/>
                  <a:pt x="820683" y="322742"/>
                  <a:pt x="805819" y="315310"/>
                </a:cubicBezTo>
                <a:cubicBezTo>
                  <a:pt x="683572" y="254186"/>
                  <a:pt x="830105" y="307641"/>
                  <a:pt x="711226" y="268013"/>
                </a:cubicBezTo>
                <a:lnTo>
                  <a:pt x="648164" y="173420"/>
                </a:lnTo>
                <a:cubicBezTo>
                  <a:pt x="637654" y="157655"/>
                  <a:pt x="632398" y="136634"/>
                  <a:pt x="616633" y="126124"/>
                </a:cubicBezTo>
                <a:cubicBezTo>
                  <a:pt x="600867" y="115614"/>
                  <a:pt x="586651" y="102288"/>
                  <a:pt x="569336" y="94593"/>
                </a:cubicBezTo>
                <a:cubicBezTo>
                  <a:pt x="538964" y="81094"/>
                  <a:pt x="506274" y="73572"/>
                  <a:pt x="474743" y="63062"/>
                </a:cubicBezTo>
                <a:cubicBezTo>
                  <a:pt x="390218" y="34887"/>
                  <a:pt x="462782" y="56900"/>
                  <a:pt x="348619" y="31531"/>
                </a:cubicBezTo>
                <a:cubicBezTo>
                  <a:pt x="289239" y="18336"/>
                  <a:pt x="290923" y="17554"/>
                  <a:pt x="238260" y="0"/>
                </a:cubicBezTo>
                <a:cubicBezTo>
                  <a:pt x="211984" y="5255"/>
                  <a:pt x="178381" y="-3183"/>
                  <a:pt x="159433" y="15765"/>
                </a:cubicBezTo>
                <a:cubicBezTo>
                  <a:pt x="147682" y="27516"/>
                  <a:pt x="175198" y="46444"/>
                  <a:pt x="175198" y="63062"/>
                </a:cubicBezTo>
                <a:cubicBezTo>
                  <a:pt x="175198" y="119556"/>
                  <a:pt x="157466" y="181286"/>
                  <a:pt x="143667" y="236482"/>
                </a:cubicBezTo>
                <a:cubicBezTo>
                  <a:pt x="148922" y="346841"/>
                  <a:pt x="150258" y="457456"/>
                  <a:pt x="159433" y="567558"/>
                </a:cubicBezTo>
                <a:cubicBezTo>
                  <a:pt x="163397" y="615130"/>
                  <a:pt x="220215" y="682380"/>
                  <a:pt x="238260" y="709448"/>
                </a:cubicBezTo>
                <a:cubicBezTo>
                  <a:pt x="248770" y="725213"/>
                  <a:pt x="256393" y="743346"/>
                  <a:pt x="269791" y="756744"/>
                </a:cubicBezTo>
                <a:cubicBezTo>
                  <a:pt x="280301" y="767255"/>
                  <a:pt x="292404" y="776385"/>
                  <a:pt x="301322" y="788276"/>
                </a:cubicBezTo>
                <a:cubicBezTo>
                  <a:pt x="358077" y="863950"/>
                  <a:pt x="341262" y="879191"/>
                  <a:pt x="411681" y="914400"/>
                </a:cubicBezTo>
                <a:cubicBezTo>
                  <a:pt x="426545" y="921832"/>
                  <a:pt x="443212" y="924910"/>
                  <a:pt x="458978" y="930165"/>
                </a:cubicBezTo>
                <a:cubicBezTo>
                  <a:pt x="474743" y="940675"/>
                  <a:pt x="489327" y="953222"/>
                  <a:pt x="506274" y="961696"/>
                </a:cubicBezTo>
                <a:cubicBezTo>
                  <a:pt x="521138" y="969128"/>
                  <a:pt x="541820" y="965711"/>
                  <a:pt x="553571" y="977462"/>
                </a:cubicBezTo>
                <a:cubicBezTo>
                  <a:pt x="580367" y="1004258"/>
                  <a:pt x="585102" y="1051034"/>
                  <a:pt x="616633" y="1072055"/>
                </a:cubicBezTo>
                <a:lnTo>
                  <a:pt x="711226" y="1135117"/>
                </a:lnTo>
                <a:lnTo>
                  <a:pt x="758522" y="1166648"/>
                </a:lnTo>
                <a:cubicBezTo>
                  <a:pt x="726991" y="1177158"/>
                  <a:pt x="691584" y="1179743"/>
                  <a:pt x="663929" y="1198179"/>
                </a:cubicBezTo>
                <a:lnTo>
                  <a:pt x="569336" y="1261241"/>
                </a:lnTo>
                <a:lnTo>
                  <a:pt x="506274" y="1355834"/>
                </a:lnTo>
                <a:cubicBezTo>
                  <a:pt x="495764" y="1371600"/>
                  <a:pt x="490509" y="1392621"/>
                  <a:pt x="474743" y="1403131"/>
                </a:cubicBezTo>
                <a:cubicBezTo>
                  <a:pt x="415079" y="1442907"/>
                  <a:pt x="440845" y="1421264"/>
                  <a:pt x="395915" y="1466193"/>
                </a:cubicBezTo>
                <a:cubicBezTo>
                  <a:pt x="379487" y="1515479"/>
                  <a:pt x="363554" y="1577105"/>
                  <a:pt x="317088" y="1608082"/>
                </a:cubicBezTo>
                <a:lnTo>
                  <a:pt x="269791" y="1639613"/>
                </a:lnTo>
                <a:cubicBezTo>
                  <a:pt x="259281" y="1655379"/>
                  <a:pt x="251658" y="1673512"/>
                  <a:pt x="238260" y="1686910"/>
                </a:cubicBezTo>
                <a:cubicBezTo>
                  <a:pt x="147168" y="1778003"/>
                  <a:pt x="234068" y="1649508"/>
                  <a:pt x="143667" y="1765738"/>
                </a:cubicBezTo>
                <a:cubicBezTo>
                  <a:pt x="44627" y="1893075"/>
                  <a:pt x="124870" y="1830821"/>
                  <a:pt x="33309" y="1891862"/>
                </a:cubicBezTo>
                <a:cubicBezTo>
                  <a:pt x="22799" y="1907627"/>
                  <a:pt x="-7623" y="1922707"/>
                  <a:pt x="1778" y="1939158"/>
                </a:cubicBezTo>
                <a:cubicBezTo>
                  <a:pt x="23810" y="1977714"/>
                  <a:pt x="98304" y="2005025"/>
                  <a:pt x="143667" y="2017986"/>
                </a:cubicBezTo>
                <a:cubicBezTo>
                  <a:pt x="164501" y="2023939"/>
                  <a:pt x="185577" y="2029051"/>
                  <a:pt x="206729" y="2033751"/>
                </a:cubicBezTo>
                <a:cubicBezTo>
                  <a:pt x="232887" y="2039564"/>
                  <a:pt x="259281" y="2044262"/>
                  <a:pt x="285557" y="2049517"/>
                </a:cubicBezTo>
                <a:cubicBezTo>
                  <a:pt x="343364" y="2044262"/>
                  <a:pt x="401442" y="2041422"/>
                  <a:pt x="458978" y="2033751"/>
                </a:cubicBezTo>
                <a:cubicBezTo>
                  <a:pt x="480455" y="2030887"/>
                  <a:pt x="500372" y="2017986"/>
                  <a:pt x="522040" y="2017986"/>
                </a:cubicBezTo>
                <a:cubicBezTo>
                  <a:pt x="548836" y="2017986"/>
                  <a:pt x="574591" y="2028496"/>
                  <a:pt x="600867" y="2033751"/>
                </a:cubicBezTo>
                <a:cubicBezTo>
                  <a:pt x="632398" y="2023241"/>
                  <a:pt x="663216" y="2010281"/>
                  <a:pt x="695460" y="2002220"/>
                </a:cubicBezTo>
                <a:cubicBezTo>
                  <a:pt x="715670" y="1997168"/>
                  <a:pt x="783199" y="1981999"/>
                  <a:pt x="805819" y="1970689"/>
                </a:cubicBezTo>
                <a:cubicBezTo>
                  <a:pt x="822766" y="1962215"/>
                  <a:pt x="835800" y="1946853"/>
                  <a:pt x="853115" y="1939158"/>
                </a:cubicBezTo>
                <a:cubicBezTo>
                  <a:pt x="883487" y="1925659"/>
                  <a:pt x="916178" y="1918137"/>
                  <a:pt x="947709" y="1907627"/>
                </a:cubicBezTo>
                <a:lnTo>
                  <a:pt x="1042302" y="1876096"/>
                </a:lnTo>
                <a:cubicBezTo>
                  <a:pt x="1058067" y="1870841"/>
                  <a:pt x="1073476" y="1864362"/>
                  <a:pt x="1089598" y="1860331"/>
                </a:cubicBezTo>
                <a:cubicBezTo>
                  <a:pt x="1168782" y="1840534"/>
                  <a:pt x="1132104" y="1851417"/>
                  <a:pt x="1199957" y="1828800"/>
                </a:cubicBezTo>
                <a:lnTo>
                  <a:pt x="1341847" y="1734207"/>
                </a:lnTo>
                <a:lnTo>
                  <a:pt x="1389143" y="1702676"/>
                </a:lnTo>
                <a:cubicBezTo>
                  <a:pt x="1399653" y="1686910"/>
                  <a:pt x="1407276" y="1668777"/>
                  <a:pt x="1420674" y="1655379"/>
                </a:cubicBezTo>
                <a:cubicBezTo>
                  <a:pt x="1434072" y="1641981"/>
                  <a:pt x="1455494" y="1638108"/>
                  <a:pt x="1467971" y="1623848"/>
                </a:cubicBezTo>
                <a:cubicBezTo>
                  <a:pt x="1492925" y="1595329"/>
                  <a:pt x="1531033" y="1529255"/>
                  <a:pt x="1531033" y="1529255"/>
                </a:cubicBezTo>
                <a:lnTo>
                  <a:pt x="1594095" y="1340069"/>
                </a:lnTo>
                <a:cubicBezTo>
                  <a:pt x="1599350" y="1324303"/>
                  <a:pt x="1596033" y="1301990"/>
                  <a:pt x="1609860" y="1292772"/>
                </a:cubicBezTo>
                <a:cubicBezTo>
                  <a:pt x="1663341" y="1257119"/>
                  <a:pt x="1670556" y="1274639"/>
                  <a:pt x="1641391" y="1245476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12"/>
          <p:cNvSpPr/>
          <p:nvPr/>
        </p:nvSpPr>
        <p:spPr>
          <a:xfrm>
            <a:off x="3546360" y="2421000"/>
            <a:ext cx="2413080" cy="2004840"/>
          </a:xfrm>
          <a:custGeom>
            <a:avLst/>
            <a:gdLst/>
            <a:ahLst/>
            <a:rect l="l" t="t" r="r" b="b"/>
            <a:pathLst>
              <a:path w="2413567" h="2005262">
                <a:moveTo>
                  <a:pt x="2413567" y="129166"/>
                </a:moveTo>
                <a:cubicBezTo>
                  <a:pt x="2312841" y="110852"/>
                  <a:pt x="2270699" y="74474"/>
                  <a:pt x="2192849" y="113400"/>
                </a:cubicBezTo>
                <a:cubicBezTo>
                  <a:pt x="2175902" y="121874"/>
                  <a:pt x="2161318" y="134421"/>
                  <a:pt x="2145553" y="144931"/>
                </a:cubicBezTo>
                <a:cubicBezTo>
                  <a:pt x="2140298" y="160697"/>
                  <a:pt x="2129787" y="175609"/>
                  <a:pt x="2129787" y="192228"/>
                </a:cubicBezTo>
                <a:cubicBezTo>
                  <a:pt x="2129787" y="208846"/>
                  <a:pt x="2137482" y="224997"/>
                  <a:pt x="2145553" y="239524"/>
                </a:cubicBezTo>
                <a:cubicBezTo>
                  <a:pt x="2199651" y="336899"/>
                  <a:pt x="2186821" y="319588"/>
                  <a:pt x="2255911" y="365648"/>
                </a:cubicBezTo>
                <a:cubicBezTo>
                  <a:pt x="2170996" y="373368"/>
                  <a:pt x="2095737" y="352403"/>
                  <a:pt x="2035194" y="412945"/>
                </a:cubicBezTo>
                <a:cubicBezTo>
                  <a:pt x="2021796" y="426343"/>
                  <a:pt x="2014173" y="444476"/>
                  <a:pt x="2003663" y="460241"/>
                </a:cubicBezTo>
                <a:cubicBezTo>
                  <a:pt x="2016264" y="523246"/>
                  <a:pt x="2019551" y="591702"/>
                  <a:pt x="2082491" y="633662"/>
                </a:cubicBezTo>
                <a:cubicBezTo>
                  <a:pt x="2098256" y="644172"/>
                  <a:pt x="2129787" y="646245"/>
                  <a:pt x="2129787" y="665193"/>
                </a:cubicBezTo>
                <a:cubicBezTo>
                  <a:pt x="2129787" y="681811"/>
                  <a:pt x="2098256" y="654683"/>
                  <a:pt x="2082491" y="649428"/>
                </a:cubicBezTo>
                <a:cubicBezTo>
                  <a:pt x="2017415" y="657562"/>
                  <a:pt x="1959735" y="638558"/>
                  <a:pt x="1924835" y="696724"/>
                </a:cubicBezTo>
                <a:cubicBezTo>
                  <a:pt x="1916285" y="710974"/>
                  <a:pt x="1914325" y="728255"/>
                  <a:pt x="1909070" y="744021"/>
                </a:cubicBezTo>
                <a:cubicBezTo>
                  <a:pt x="1919580" y="775552"/>
                  <a:pt x="1912946" y="820178"/>
                  <a:pt x="1940601" y="838614"/>
                </a:cubicBezTo>
                <a:lnTo>
                  <a:pt x="2035194" y="901676"/>
                </a:lnTo>
                <a:cubicBezTo>
                  <a:pt x="2100519" y="945226"/>
                  <a:pt x="2100874" y="937803"/>
                  <a:pt x="2019429" y="917441"/>
                </a:cubicBezTo>
                <a:cubicBezTo>
                  <a:pt x="1906860" y="954964"/>
                  <a:pt x="1952490" y="930535"/>
                  <a:pt x="1877539" y="980503"/>
                </a:cubicBezTo>
                <a:cubicBezTo>
                  <a:pt x="1867029" y="996269"/>
                  <a:pt x="1846008" y="1008852"/>
                  <a:pt x="1846008" y="1027800"/>
                </a:cubicBezTo>
                <a:cubicBezTo>
                  <a:pt x="1846008" y="1061263"/>
                  <a:pt x="1869297" y="1166420"/>
                  <a:pt x="1909070" y="1201221"/>
                </a:cubicBezTo>
                <a:cubicBezTo>
                  <a:pt x="1937589" y="1226175"/>
                  <a:pt x="2003663" y="1264283"/>
                  <a:pt x="2003663" y="1264283"/>
                </a:cubicBezTo>
                <a:cubicBezTo>
                  <a:pt x="1861417" y="1299845"/>
                  <a:pt x="1918651" y="1282111"/>
                  <a:pt x="1830242" y="1311579"/>
                </a:cubicBezTo>
                <a:cubicBezTo>
                  <a:pt x="1860935" y="1403656"/>
                  <a:pt x="1821993" y="1319096"/>
                  <a:pt x="1893304" y="1390407"/>
                </a:cubicBezTo>
                <a:cubicBezTo>
                  <a:pt x="1964615" y="1461718"/>
                  <a:pt x="1880055" y="1422776"/>
                  <a:pt x="1972132" y="1453469"/>
                </a:cubicBezTo>
                <a:cubicBezTo>
                  <a:pt x="1956366" y="1463979"/>
                  <a:pt x="1941782" y="1476526"/>
                  <a:pt x="1924835" y="1485000"/>
                </a:cubicBezTo>
                <a:cubicBezTo>
                  <a:pt x="1909971" y="1492432"/>
                  <a:pt x="1884971" y="1485902"/>
                  <a:pt x="1877539" y="1500766"/>
                </a:cubicBezTo>
                <a:cubicBezTo>
                  <a:pt x="1870107" y="1515630"/>
                  <a:pt x="1888049" y="1532297"/>
                  <a:pt x="1893304" y="1548062"/>
                </a:cubicBezTo>
                <a:cubicBezTo>
                  <a:pt x="1786834" y="1583554"/>
                  <a:pt x="1917892" y="1548062"/>
                  <a:pt x="1751415" y="1548062"/>
                </a:cubicBezTo>
                <a:cubicBezTo>
                  <a:pt x="1734796" y="1548062"/>
                  <a:pt x="1719884" y="1558573"/>
                  <a:pt x="1704118" y="1563828"/>
                </a:cubicBezTo>
                <a:cubicBezTo>
                  <a:pt x="1688353" y="1558573"/>
                  <a:pt x="1673440" y="1548062"/>
                  <a:pt x="1656822" y="1548062"/>
                </a:cubicBezTo>
                <a:cubicBezTo>
                  <a:pt x="1640203" y="1548062"/>
                  <a:pt x="1625647" y="1559797"/>
                  <a:pt x="1609525" y="1563828"/>
                </a:cubicBezTo>
                <a:cubicBezTo>
                  <a:pt x="1583529" y="1570327"/>
                  <a:pt x="1556974" y="1574338"/>
                  <a:pt x="1530698" y="1579593"/>
                </a:cubicBezTo>
                <a:cubicBezTo>
                  <a:pt x="1535953" y="1595359"/>
                  <a:pt x="1539031" y="1612026"/>
                  <a:pt x="1546463" y="1626890"/>
                </a:cubicBezTo>
                <a:cubicBezTo>
                  <a:pt x="1568411" y="1670787"/>
                  <a:pt x="1590426" y="1686618"/>
                  <a:pt x="1625291" y="1721483"/>
                </a:cubicBezTo>
                <a:cubicBezTo>
                  <a:pt x="1663088" y="1834876"/>
                  <a:pt x="1617233" y="1693277"/>
                  <a:pt x="1656822" y="1831841"/>
                </a:cubicBezTo>
                <a:cubicBezTo>
                  <a:pt x="1661387" y="1847820"/>
                  <a:pt x="1657157" y="1872966"/>
                  <a:pt x="1672587" y="1879138"/>
                </a:cubicBezTo>
                <a:cubicBezTo>
                  <a:pt x="1716771" y="1896812"/>
                  <a:pt x="1767180" y="1889648"/>
                  <a:pt x="1814477" y="1894903"/>
                </a:cubicBezTo>
                <a:cubicBezTo>
                  <a:pt x="1803967" y="1910669"/>
                  <a:pt x="1779230" y="1923620"/>
                  <a:pt x="1782946" y="1942200"/>
                </a:cubicBezTo>
                <a:cubicBezTo>
                  <a:pt x="1786662" y="1960780"/>
                  <a:pt x="1811962" y="1968746"/>
                  <a:pt x="1830242" y="1973731"/>
                </a:cubicBezTo>
                <a:cubicBezTo>
                  <a:pt x="1871118" y="1984879"/>
                  <a:pt x="1914370" y="1983897"/>
                  <a:pt x="1956367" y="1989497"/>
                </a:cubicBezTo>
                <a:lnTo>
                  <a:pt x="2066725" y="2005262"/>
                </a:lnTo>
                <a:cubicBezTo>
                  <a:pt x="2173580" y="1969645"/>
                  <a:pt x="2043223" y="2009962"/>
                  <a:pt x="2224380" y="1973731"/>
                </a:cubicBezTo>
                <a:cubicBezTo>
                  <a:pt x="2240676" y="1970472"/>
                  <a:pt x="2255911" y="1963221"/>
                  <a:pt x="2271677" y="1957966"/>
                </a:cubicBezTo>
                <a:lnTo>
                  <a:pt x="2177084" y="1926434"/>
                </a:lnTo>
                <a:lnTo>
                  <a:pt x="2129787" y="1910669"/>
                </a:lnTo>
                <a:cubicBezTo>
                  <a:pt x="2119277" y="1879139"/>
                  <a:pt x="2098257" y="1847606"/>
                  <a:pt x="2129787" y="1816076"/>
                </a:cubicBezTo>
                <a:cubicBezTo>
                  <a:pt x="2141538" y="1804325"/>
                  <a:pt x="2161318" y="1805565"/>
                  <a:pt x="2177084" y="1800310"/>
                </a:cubicBezTo>
                <a:cubicBezTo>
                  <a:pt x="2166574" y="1784545"/>
                  <a:pt x="2148668" y="1771704"/>
                  <a:pt x="2145553" y="1753014"/>
                </a:cubicBezTo>
                <a:cubicBezTo>
                  <a:pt x="2133597" y="1681280"/>
                  <a:pt x="2222014" y="1696784"/>
                  <a:pt x="2255911" y="1674186"/>
                </a:cubicBezTo>
                <a:lnTo>
                  <a:pt x="2303208" y="1642655"/>
                </a:lnTo>
                <a:cubicBezTo>
                  <a:pt x="2265685" y="1530087"/>
                  <a:pt x="2290113" y="1575716"/>
                  <a:pt x="2240146" y="1500766"/>
                </a:cubicBezTo>
                <a:cubicBezTo>
                  <a:pt x="2224380" y="1506021"/>
                  <a:pt x="2207713" y="1509099"/>
                  <a:pt x="2192849" y="1516531"/>
                </a:cubicBezTo>
                <a:cubicBezTo>
                  <a:pt x="2175902" y="1525005"/>
                  <a:pt x="2162868" y="1540367"/>
                  <a:pt x="2145553" y="1548062"/>
                </a:cubicBezTo>
                <a:cubicBezTo>
                  <a:pt x="2115181" y="1561561"/>
                  <a:pt x="2050960" y="1579593"/>
                  <a:pt x="2050960" y="1579593"/>
                </a:cubicBezTo>
                <a:cubicBezTo>
                  <a:pt x="1896333" y="1528051"/>
                  <a:pt x="1989489" y="1550822"/>
                  <a:pt x="1767180" y="1532297"/>
                </a:cubicBezTo>
                <a:cubicBezTo>
                  <a:pt x="1653338" y="1570244"/>
                  <a:pt x="1788675" y="1528990"/>
                  <a:pt x="1562229" y="1563828"/>
                </a:cubicBezTo>
                <a:cubicBezTo>
                  <a:pt x="1545804" y="1566355"/>
                  <a:pt x="1530698" y="1574338"/>
                  <a:pt x="1514932" y="1579593"/>
                </a:cubicBezTo>
                <a:cubicBezTo>
                  <a:pt x="1520187" y="1595359"/>
                  <a:pt x="1522627" y="1612363"/>
                  <a:pt x="1530698" y="1626890"/>
                </a:cubicBezTo>
                <a:cubicBezTo>
                  <a:pt x="1549102" y="1660017"/>
                  <a:pt x="1593760" y="1721483"/>
                  <a:pt x="1593760" y="1721483"/>
                </a:cubicBezTo>
                <a:cubicBezTo>
                  <a:pt x="1599015" y="1737248"/>
                  <a:pt x="1601455" y="1754252"/>
                  <a:pt x="1609525" y="1768779"/>
                </a:cubicBezTo>
                <a:cubicBezTo>
                  <a:pt x="1627929" y="1801906"/>
                  <a:pt x="1672587" y="1863372"/>
                  <a:pt x="1672587" y="1863372"/>
                </a:cubicBezTo>
                <a:cubicBezTo>
                  <a:pt x="1667332" y="1879138"/>
                  <a:pt x="1668573" y="1898918"/>
                  <a:pt x="1656822" y="1910669"/>
                </a:cubicBezTo>
                <a:cubicBezTo>
                  <a:pt x="1645071" y="1922420"/>
                  <a:pt x="1624389" y="1919002"/>
                  <a:pt x="1609525" y="1926434"/>
                </a:cubicBezTo>
                <a:cubicBezTo>
                  <a:pt x="1592578" y="1934908"/>
                  <a:pt x="1577994" y="1947455"/>
                  <a:pt x="1562229" y="1957966"/>
                </a:cubicBezTo>
                <a:cubicBezTo>
                  <a:pt x="1547187" y="1954205"/>
                  <a:pt x="1459128" y="1939702"/>
                  <a:pt x="1451870" y="1910669"/>
                </a:cubicBezTo>
                <a:cubicBezTo>
                  <a:pt x="1444117" y="1879658"/>
                  <a:pt x="1456411" y="1846007"/>
                  <a:pt x="1467635" y="1816076"/>
                </a:cubicBezTo>
                <a:cubicBezTo>
                  <a:pt x="1472854" y="1802158"/>
                  <a:pt x="1488656" y="1795055"/>
                  <a:pt x="1499167" y="1784545"/>
                </a:cubicBezTo>
                <a:cubicBezTo>
                  <a:pt x="1408588" y="1693966"/>
                  <a:pt x="1432090" y="1740970"/>
                  <a:pt x="1404573" y="1658421"/>
                </a:cubicBezTo>
                <a:cubicBezTo>
                  <a:pt x="1409828" y="1642655"/>
                  <a:pt x="1411121" y="1624951"/>
                  <a:pt x="1420339" y="1611124"/>
                </a:cubicBezTo>
                <a:cubicBezTo>
                  <a:pt x="1454080" y="1560512"/>
                  <a:pt x="1465346" y="1564591"/>
                  <a:pt x="1514932" y="1548062"/>
                </a:cubicBezTo>
                <a:cubicBezTo>
                  <a:pt x="1495662" y="1490253"/>
                  <a:pt x="1464132" y="1458725"/>
                  <a:pt x="1499167" y="1406172"/>
                </a:cubicBezTo>
                <a:cubicBezTo>
                  <a:pt x="1511534" y="1387621"/>
                  <a:pt x="1529335" y="1373149"/>
                  <a:pt x="1546463" y="1358876"/>
                </a:cubicBezTo>
                <a:cubicBezTo>
                  <a:pt x="1561019" y="1346746"/>
                  <a:pt x="1577994" y="1337855"/>
                  <a:pt x="1593760" y="1327345"/>
                </a:cubicBezTo>
                <a:cubicBezTo>
                  <a:pt x="1609525" y="1332600"/>
                  <a:pt x="1629305" y="1354861"/>
                  <a:pt x="1641056" y="1343110"/>
                </a:cubicBezTo>
                <a:cubicBezTo>
                  <a:pt x="1652807" y="1331359"/>
                  <a:pt x="1632723" y="1310678"/>
                  <a:pt x="1625291" y="1295814"/>
                </a:cubicBezTo>
                <a:cubicBezTo>
                  <a:pt x="1564164" y="1173559"/>
                  <a:pt x="1617624" y="1320107"/>
                  <a:pt x="1577994" y="1201221"/>
                </a:cubicBezTo>
                <a:cubicBezTo>
                  <a:pt x="1583249" y="1169690"/>
                  <a:pt x="1579464" y="1135219"/>
                  <a:pt x="1593760" y="1106628"/>
                </a:cubicBezTo>
                <a:cubicBezTo>
                  <a:pt x="1605985" y="1082179"/>
                  <a:pt x="1665969" y="1066793"/>
                  <a:pt x="1688353" y="1059331"/>
                </a:cubicBezTo>
                <a:cubicBezTo>
                  <a:pt x="1667332" y="1027800"/>
                  <a:pt x="1619061" y="1002118"/>
                  <a:pt x="1625291" y="964738"/>
                </a:cubicBezTo>
                <a:cubicBezTo>
                  <a:pt x="1632983" y="918582"/>
                  <a:pt x="1629956" y="856953"/>
                  <a:pt x="1672587" y="822848"/>
                </a:cubicBezTo>
                <a:cubicBezTo>
                  <a:pt x="1685564" y="812467"/>
                  <a:pt x="1704118" y="812338"/>
                  <a:pt x="1719884" y="807083"/>
                </a:cubicBezTo>
                <a:cubicBezTo>
                  <a:pt x="1735649" y="812338"/>
                  <a:pt x="1759748" y="837712"/>
                  <a:pt x="1767180" y="822848"/>
                </a:cubicBezTo>
                <a:cubicBezTo>
                  <a:pt x="1780317" y="796573"/>
                  <a:pt x="1696236" y="749276"/>
                  <a:pt x="1688353" y="744021"/>
                </a:cubicBezTo>
                <a:cubicBezTo>
                  <a:pt x="1683098" y="728255"/>
                  <a:pt x="1672587" y="713343"/>
                  <a:pt x="1672587" y="696724"/>
                </a:cubicBezTo>
                <a:cubicBezTo>
                  <a:pt x="1672587" y="675056"/>
                  <a:pt x="1676334" y="651691"/>
                  <a:pt x="1688353" y="633662"/>
                </a:cubicBezTo>
                <a:cubicBezTo>
                  <a:pt x="1705818" y="607465"/>
                  <a:pt x="1755965" y="595359"/>
                  <a:pt x="1782946" y="586366"/>
                </a:cubicBezTo>
                <a:cubicBezTo>
                  <a:pt x="1809222" y="591621"/>
                  <a:pt x="1856518" y="628407"/>
                  <a:pt x="1861773" y="602131"/>
                </a:cubicBezTo>
                <a:cubicBezTo>
                  <a:pt x="1869205" y="564971"/>
                  <a:pt x="1819732" y="539069"/>
                  <a:pt x="1798711" y="507538"/>
                </a:cubicBezTo>
                <a:lnTo>
                  <a:pt x="1767180" y="460241"/>
                </a:lnTo>
                <a:lnTo>
                  <a:pt x="1735649" y="412945"/>
                </a:lnTo>
                <a:cubicBezTo>
                  <a:pt x="1745865" y="372080"/>
                  <a:pt x="1742258" y="326417"/>
                  <a:pt x="1798711" y="318352"/>
                </a:cubicBezTo>
                <a:cubicBezTo>
                  <a:pt x="1820161" y="315288"/>
                  <a:pt x="1840752" y="328862"/>
                  <a:pt x="1861773" y="334117"/>
                </a:cubicBezTo>
                <a:cubicBezTo>
                  <a:pt x="1856518" y="292076"/>
                  <a:pt x="1842989" y="250254"/>
                  <a:pt x="1846008" y="207993"/>
                </a:cubicBezTo>
                <a:cubicBezTo>
                  <a:pt x="1848376" y="174841"/>
                  <a:pt x="1877539" y="113400"/>
                  <a:pt x="1877539" y="113400"/>
                </a:cubicBezTo>
                <a:cubicBezTo>
                  <a:pt x="1898560" y="118655"/>
                  <a:pt x="1919767" y="123213"/>
                  <a:pt x="1940601" y="129166"/>
                </a:cubicBezTo>
                <a:cubicBezTo>
                  <a:pt x="1956580" y="133731"/>
                  <a:pt x="1973034" y="152363"/>
                  <a:pt x="1987898" y="144931"/>
                </a:cubicBezTo>
                <a:cubicBezTo>
                  <a:pt x="2002762" y="137499"/>
                  <a:pt x="1996231" y="112498"/>
                  <a:pt x="2003663" y="97634"/>
                </a:cubicBezTo>
                <a:cubicBezTo>
                  <a:pt x="2012137" y="80687"/>
                  <a:pt x="2024684" y="66103"/>
                  <a:pt x="2035194" y="50338"/>
                </a:cubicBezTo>
                <a:cubicBezTo>
                  <a:pt x="2019429" y="39828"/>
                  <a:pt x="2004845" y="27281"/>
                  <a:pt x="1987898" y="18807"/>
                </a:cubicBezTo>
                <a:cubicBezTo>
                  <a:pt x="1911233" y="-19526"/>
                  <a:pt x="1840395" y="11392"/>
                  <a:pt x="1751415" y="18807"/>
                </a:cubicBezTo>
                <a:lnTo>
                  <a:pt x="1656822" y="50338"/>
                </a:lnTo>
                <a:lnTo>
                  <a:pt x="1609525" y="66103"/>
                </a:lnTo>
                <a:cubicBezTo>
                  <a:pt x="1645559" y="120155"/>
                  <a:pt x="1722887" y="167829"/>
                  <a:pt x="1625291" y="192228"/>
                </a:cubicBezTo>
                <a:cubicBezTo>
                  <a:pt x="1579124" y="203770"/>
                  <a:pt x="1530698" y="202738"/>
                  <a:pt x="1483401" y="207993"/>
                </a:cubicBezTo>
                <a:cubicBezTo>
                  <a:pt x="1462380" y="213248"/>
                  <a:pt x="1441173" y="217806"/>
                  <a:pt x="1420339" y="223759"/>
                </a:cubicBezTo>
                <a:cubicBezTo>
                  <a:pt x="1404360" y="228324"/>
                  <a:pt x="1382701" y="226001"/>
                  <a:pt x="1373042" y="239524"/>
                </a:cubicBezTo>
                <a:cubicBezTo>
                  <a:pt x="1353723" y="266570"/>
                  <a:pt x="1341511" y="334117"/>
                  <a:pt x="1341511" y="334117"/>
                </a:cubicBezTo>
                <a:cubicBezTo>
                  <a:pt x="1371974" y="425507"/>
                  <a:pt x="1354986" y="421546"/>
                  <a:pt x="1420339" y="476007"/>
                </a:cubicBezTo>
                <a:cubicBezTo>
                  <a:pt x="1434895" y="488137"/>
                  <a:pt x="1450320" y="499843"/>
                  <a:pt x="1467635" y="507538"/>
                </a:cubicBezTo>
                <a:cubicBezTo>
                  <a:pt x="1498007" y="521037"/>
                  <a:pt x="1589884" y="557505"/>
                  <a:pt x="1562229" y="539069"/>
                </a:cubicBezTo>
                <a:cubicBezTo>
                  <a:pt x="1546463" y="528559"/>
                  <a:pt x="1531880" y="516012"/>
                  <a:pt x="1514932" y="507538"/>
                </a:cubicBezTo>
                <a:cubicBezTo>
                  <a:pt x="1482611" y="491377"/>
                  <a:pt x="1418795" y="482004"/>
                  <a:pt x="1388808" y="476007"/>
                </a:cubicBezTo>
                <a:cubicBezTo>
                  <a:pt x="1363037" y="484597"/>
                  <a:pt x="1310301" y="497566"/>
                  <a:pt x="1294215" y="523303"/>
                </a:cubicBezTo>
                <a:cubicBezTo>
                  <a:pt x="1276600" y="551488"/>
                  <a:pt x="1262684" y="617897"/>
                  <a:pt x="1262684" y="617897"/>
                </a:cubicBezTo>
                <a:cubicBezTo>
                  <a:pt x="1274860" y="678780"/>
                  <a:pt x="1266126" y="710898"/>
                  <a:pt x="1325746" y="744021"/>
                </a:cubicBezTo>
                <a:cubicBezTo>
                  <a:pt x="1354800" y="760162"/>
                  <a:pt x="1388808" y="765042"/>
                  <a:pt x="1420339" y="775552"/>
                </a:cubicBezTo>
                <a:lnTo>
                  <a:pt x="1467635" y="791317"/>
                </a:lnTo>
                <a:lnTo>
                  <a:pt x="1420339" y="775552"/>
                </a:lnTo>
                <a:cubicBezTo>
                  <a:pt x="1371393" y="780990"/>
                  <a:pt x="1273539" y="769865"/>
                  <a:pt x="1231153" y="822848"/>
                </a:cubicBezTo>
                <a:cubicBezTo>
                  <a:pt x="1220772" y="835825"/>
                  <a:pt x="1220642" y="854379"/>
                  <a:pt x="1215387" y="870145"/>
                </a:cubicBezTo>
                <a:cubicBezTo>
                  <a:pt x="1220642" y="885910"/>
                  <a:pt x="1223721" y="902577"/>
                  <a:pt x="1231153" y="917441"/>
                </a:cubicBezTo>
                <a:cubicBezTo>
                  <a:pt x="1250672" y="956480"/>
                  <a:pt x="1269440" y="978251"/>
                  <a:pt x="1309980" y="996269"/>
                </a:cubicBezTo>
                <a:cubicBezTo>
                  <a:pt x="1340352" y="1009768"/>
                  <a:pt x="1404573" y="1027800"/>
                  <a:pt x="1404573" y="1027800"/>
                </a:cubicBezTo>
                <a:cubicBezTo>
                  <a:pt x="1453347" y="1011542"/>
                  <a:pt x="1523752" y="996269"/>
                  <a:pt x="1357277" y="996269"/>
                </a:cubicBezTo>
                <a:cubicBezTo>
                  <a:pt x="1330481" y="996269"/>
                  <a:pt x="1304725" y="1006779"/>
                  <a:pt x="1278449" y="1012034"/>
                </a:cubicBezTo>
                <a:cubicBezTo>
                  <a:pt x="1249123" y="1041361"/>
                  <a:pt x="1235273" y="1051089"/>
                  <a:pt x="1215387" y="1090862"/>
                </a:cubicBezTo>
                <a:cubicBezTo>
                  <a:pt x="1207955" y="1105726"/>
                  <a:pt x="1204877" y="1122393"/>
                  <a:pt x="1199622" y="1138159"/>
                </a:cubicBezTo>
                <a:cubicBezTo>
                  <a:pt x="1204973" y="1170267"/>
                  <a:pt x="1205674" y="1254271"/>
                  <a:pt x="1246918" y="1280048"/>
                </a:cubicBezTo>
                <a:cubicBezTo>
                  <a:pt x="1275103" y="1297663"/>
                  <a:pt x="1341511" y="1311579"/>
                  <a:pt x="1341511" y="1311579"/>
                </a:cubicBezTo>
                <a:cubicBezTo>
                  <a:pt x="1273194" y="1316834"/>
                  <a:pt x="1202443" y="1308521"/>
                  <a:pt x="1136560" y="1327345"/>
                </a:cubicBezTo>
                <a:cubicBezTo>
                  <a:pt x="1099773" y="1337856"/>
                  <a:pt x="1131305" y="1411428"/>
                  <a:pt x="1136560" y="1421938"/>
                </a:cubicBezTo>
                <a:cubicBezTo>
                  <a:pt x="1145766" y="1440349"/>
                  <a:pt x="1178675" y="1488198"/>
                  <a:pt x="1199622" y="1500766"/>
                </a:cubicBezTo>
                <a:cubicBezTo>
                  <a:pt x="1213872" y="1509316"/>
                  <a:pt x="1231153" y="1511276"/>
                  <a:pt x="1246918" y="1516531"/>
                </a:cubicBezTo>
                <a:cubicBezTo>
                  <a:pt x="1231153" y="1521786"/>
                  <a:pt x="1215601" y="1527732"/>
                  <a:pt x="1199622" y="1532297"/>
                </a:cubicBezTo>
                <a:cubicBezTo>
                  <a:pt x="1178788" y="1538250"/>
                  <a:pt x="1154589" y="1536043"/>
                  <a:pt x="1136560" y="1548062"/>
                </a:cubicBezTo>
                <a:cubicBezTo>
                  <a:pt x="1120794" y="1558572"/>
                  <a:pt x="1115539" y="1579593"/>
                  <a:pt x="1105029" y="1595359"/>
                </a:cubicBezTo>
                <a:cubicBezTo>
                  <a:pt x="1133786" y="1681631"/>
                  <a:pt x="1113903" y="1686507"/>
                  <a:pt x="1183856" y="1721483"/>
                </a:cubicBezTo>
                <a:cubicBezTo>
                  <a:pt x="1198720" y="1728915"/>
                  <a:pt x="1215387" y="1731993"/>
                  <a:pt x="1231153" y="1737248"/>
                </a:cubicBezTo>
                <a:cubicBezTo>
                  <a:pt x="1210132" y="1742503"/>
                  <a:pt x="1188925" y="1747061"/>
                  <a:pt x="1168091" y="1753014"/>
                </a:cubicBezTo>
                <a:cubicBezTo>
                  <a:pt x="1152112" y="1757579"/>
                  <a:pt x="1128226" y="1753915"/>
                  <a:pt x="1120794" y="1768779"/>
                </a:cubicBezTo>
                <a:cubicBezTo>
                  <a:pt x="1113362" y="1783643"/>
                  <a:pt x="1152856" y="1812817"/>
                  <a:pt x="1136560" y="1816076"/>
                </a:cubicBezTo>
                <a:cubicBezTo>
                  <a:pt x="1103969" y="1822594"/>
                  <a:pt x="1041967" y="1784545"/>
                  <a:pt x="1041967" y="1784545"/>
                </a:cubicBezTo>
                <a:cubicBezTo>
                  <a:pt x="971224" y="1713805"/>
                  <a:pt x="1055236" y="1788414"/>
                  <a:pt x="963139" y="1737248"/>
                </a:cubicBezTo>
                <a:cubicBezTo>
                  <a:pt x="930012" y="1718844"/>
                  <a:pt x="868546" y="1674186"/>
                  <a:pt x="868546" y="1674186"/>
                </a:cubicBezTo>
                <a:cubicBezTo>
                  <a:pt x="863291" y="1658421"/>
                  <a:pt x="852780" y="1643508"/>
                  <a:pt x="852780" y="1626890"/>
                </a:cubicBezTo>
                <a:cubicBezTo>
                  <a:pt x="852780" y="1590996"/>
                  <a:pt x="867458" y="1526862"/>
                  <a:pt x="900077" y="1500766"/>
                </a:cubicBezTo>
                <a:cubicBezTo>
                  <a:pt x="913054" y="1490385"/>
                  <a:pt x="931608" y="1490255"/>
                  <a:pt x="947373" y="1485000"/>
                </a:cubicBezTo>
                <a:cubicBezTo>
                  <a:pt x="1089633" y="1532420"/>
                  <a:pt x="1050459" y="1535029"/>
                  <a:pt x="1010435" y="1485000"/>
                </a:cubicBezTo>
                <a:cubicBezTo>
                  <a:pt x="998598" y="1470204"/>
                  <a:pt x="989414" y="1453469"/>
                  <a:pt x="978904" y="1437703"/>
                </a:cubicBezTo>
                <a:cubicBezTo>
                  <a:pt x="968394" y="1406172"/>
                  <a:pt x="936863" y="1374641"/>
                  <a:pt x="947373" y="1343110"/>
                </a:cubicBezTo>
                <a:cubicBezTo>
                  <a:pt x="972374" y="1268107"/>
                  <a:pt x="967606" y="1254756"/>
                  <a:pt x="1010435" y="1201221"/>
                </a:cubicBezTo>
                <a:cubicBezTo>
                  <a:pt x="1019721" y="1189614"/>
                  <a:pt x="1028305" y="1175545"/>
                  <a:pt x="1041967" y="1169690"/>
                </a:cubicBezTo>
                <a:cubicBezTo>
                  <a:pt x="1066596" y="1159134"/>
                  <a:pt x="1094518" y="1159179"/>
                  <a:pt x="1120794" y="1153924"/>
                </a:cubicBezTo>
                <a:cubicBezTo>
                  <a:pt x="1060067" y="1062835"/>
                  <a:pt x="1123714" y="1145166"/>
                  <a:pt x="1041967" y="1075097"/>
                </a:cubicBezTo>
                <a:cubicBezTo>
                  <a:pt x="982497" y="1024123"/>
                  <a:pt x="984565" y="1020525"/>
                  <a:pt x="947373" y="964738"/>
                </a:cubicBezTo>
                <a:cubicBezTo>
                  <a:pt x="942118" y="948972"/>
                  <a:pt x="931608" y="934059"/>
                  <a:pt x="931608" y="917441"/>
                </a:cubicBezTo>
                <a:cubicBezTo>
                  <a:pt x="931608" y="899564"/>
                  <a:pt x="962962" y="829933"/>
                  <a:pt x="978904" y="822848"/>
                </a:cubicBezTo>
                <a:cubicBezTo>
                  <a:pt x="1012861" y="807756"/>
                  <a:pt x="1052477" y="812338"/>
                  <a:pt x="1089263" y="807083"/>
                </a:cubicBezTo>
                <a:cubicBezTo>
                  <a:pt x="955277" y="762419"/>
                  <a:pt x="1118645" y="824711"/>
                  <a:pt x="1010435" y="759786"/>
                </a:cubicBezTo>
                <a:cubicBezTo>
                  <a:pt x="996185" y="751236"/>
                  <a:pt x="978904" y="749276"/>
                  <a:pt x="963139" y="744021"/>
                </a:cubicBezTo>
                <a:cubicBezTo>
                  <a:pt x="952159" y="727551"/>
                  <a:pt x="911491" y="675535"/>
                  <a:pt x="915842" y="649428"/>
                </a:cubicBezTo>
                <a:cubicBezTo>
                  <a:pt x="918957" y="630738"/>
                  <a:pt x="933975" y="615529"/>
                  <a:pt x="947373" y="602131"/>
                </a:cubicBezTo>
                <a:cubicBezTo>
                  <a:pt x="977934" y="571570"/>
                  <a:pt x="1003500" y="567656"/>
                  <a:pt x="1041967" y="554834"/>
                </a:cubicBezTo>
                <a:cubicBezTo>
                  <a:pt x="1057732" y="560089"/>
                  <a:pt x="1086004" y="586895"/>
                  <a:pt x="1089263" y="570600"/>
                </a:cubicBezTo>
                <a:cubicBezTo>
                  <a:pt x="1095781" y="538009"/>
                  <a:pt x="1068242" y="507538"/>
                  <a:pt x="1057732" y="476007"/>
                </a:cubicBezTo>
                <a:lnTo>
                  <a:pt x="1041967" y="428710"/>
                </a:lnTo>
                <a:lnTo>
                  <a:pt x="1026201" y="381414"/>
                </a:lnTo>
                <a:cubicBezTo>
                  <a:pt x="1031456" y="365648"/>
                  <a:pt x="1031586" y="347094"/>
                  <a:pt x="1041967" y="334117"/>
                </a:cubicBezTo>
                <a:cubicBezTo>
                  <a:pt x="1064195" y="306332"/>
                  <a:pt x="1105402" y="297207"/>
                  <a:pt x="1136560" y="286821"/>
                </a:cubicBezTo>
                <a:cubicBezTo>
                  <a:pt x="1152325" y="297331"/>
                  <a:pt x="1183856" y="299404"/>
                  <a:pt x="1183856" y="318352"/>
                </a:cubicBezTo>
                <a:cubicBezTo>
                  <a:pt x="1183856" y="334970"/>
                  <a:pt x="1151424" y="310018"/>
                  <a:pt x="1136560" y="302586"/>
                </a:cubicBezTo>
                <a:cubicBezTo>
                  <a:pt x="1119613" y="294112"/>
                  <a:pt x="1105029" y="281565"/>
                  <a:pt x="1089263" y="271055"/>
                </a:cubicBezTo>
                <a:cubicBezTo>
                  <a:pt x="1058001" y="177268"/>
                  <a:pt x="1026508" y="184191"/>
                  <a:pt x="1105029" y="144931"/>
                </a:cubicBezTo>
                <a:cubicBezTo>
                  <a:pt x="1119893" y="137499"/>
                  <a:pt x="1136560" y="134421"/>
                  <a:pt x="1152325" y="129166"/>
                </a:cubicBezTo>
                <a:cubicBezTo>
                  <a:pt x="1147070" y="113400"/>
                  <a:pt x="1148311" y="93620"/>
                  <a:pt x="1136560" y="81869"/>
                </a:cubicBezTo>
                <a:cubicBezTo>
                  <a:pt x="1097146" y="42454"/>
                  <a:pt x="1026202" y="87123"/>
                  <a:pt x="994670" y="97634"/>
                </a:cubicBezTo>
                <a:cubicBezTo>
                  <a:pt x="994669" y="97634"/>
                  <a:pt x="900078" y="129165"/>
                  <a:pt x="900077" y="129166"/>
                </a:cubicBezTo>
                <a:lnTo>
                  <a:pt x="805484" y="192228"/>
                </a:lnTo>
                <a:cubicBezTo>
                  <a:pt x="755516" y="267179"/>
                  <a:pt x="767962" y="221548"/>
                  <a:pt x="805484" y="334117"/>
                </a:cubicBezTo>
                <a:lnTo>
                  <a:pt x="821249" y="381414"/>
                </a:lnTo>
                <a:lnTo>
                  <a:pt x="726656" y="412945"/>
                </a:lnTo>
                <a:lnTo>
                  <a:pt x="679360" y="428710"/>
                </a:lnTo>
                <a:cubicBezTo>
                  <a:pt x="668850" y="444476"/>
                  <a:pt x="656303" y="459060"/>
                  <a:pt x="647829" y="476007"/>
                </a:cubicBezTo>
                <a:cubicBezTo>
                  <a:pt x="631659" y="508347"/>
                  <a:pt x="621957" y="538259"/>
                  <a:pt x="647829" y="570600"/>
                </a:cubicBezTo>
                <a:cubicBezTo>
                  <a:pt x="659665" y="585396"/>
                  <a:pt x="678178" y="593657"/>
                  <a:pt x="695125" y="602131"/>
                </a:cubicBezTo>
                <a:cubicBezTo>
                  <a:pt x="709989" y="609563"/>
                  <a:pt x="726656" y="612642"/>
                  <a:pt x="742422" y="617897"/>
                </a:cubicBezTo>
                <a:cubicBezTo>
                  <a:pt x="694179" y="629957"/>
                  <a:pt x="668355" y="628901"/>
                  <a:pt x="632063" y="665193"/>
                </a:cubicBezTo>
                <a:cubicBezTo>
                  <a:pt x="618665" y="678591"/>
                  <a:pt x="611042" y="696724"/>
                  <a:pt x="600532" y="712490"/>
                </a:cubicBezTo>
                <a:cubicBezTo>
                  <a:pt x="595277" y="728255"/>
                  <a:pt x="582035" y="743394"/>
                  <a:pt x="584767" y="759786"/>
                </a:cubicBezTo>
                <a:cubicBezTo>
                  <a:pt x="587882" y="778476"/>
                  <a:pt x="602900" y="793685"/>
                  <a:pt x="616298" y="807083"/>
                </a:cubicBezTo>
                <a:cubicBezTo>
                  <a:pt x="653773" y="844558"/>
                  <a:pt x="711356" y="854535"/>
                  <a:pt x="758187" y="870145"/>
                </a:cubicBezTo>
                <a:lnTo>
                  <a:pt x="710891" y="854379"/>
                </a:lnTo>
                <a:lnTo>
                  <a:pt x="569001" y="901676"/>
                </a:lnTo>
                <a:lnTo>
                  <a:pt x="521704" y="917441"/>
                </a:lnTo>
                <a:cubicBezTo>
                  <a:pt x="511194" y="933207"/>
                  <a:pt x="492853" y="945981"/>
                  <a:pt x="490173" y="964738"/>
                </a:cubicBezTo>
                <a:cubicBezTo>
                  <a:pt x="484101" y="1007246"/>
                  <a:pt x="518654" y="1055885"/>
                  <a:pt x="553235" y="1075097"/>
                </a:cubicBezTo>
                <a:cubicBezTo>
                  <a:pt x="582289" y="1091238"/>
                  <a:pt x="647829" y="1106628"/>
                  <a:pt x="647829" y="1106628"/>
                </a:cubicBezTo>
                <a:cubicBezTo>
                  <a:pt x="632063" y="1117138"/>
                  <a:pt x="613930" y="1124761"/>
                  <a:pt x="600532" y="1138159"/>
                </a:cubicBezTo>
                <a:cubicBezTo>
                  <a:pt x="569970" y="1168720"/>
                  <a:pt x="566058" y="1194285"/>
                  <a:pt x="553235" y="1232752"/>
                </a:cubicBezTo>
                <a:cubicBezTo>
                  <a:pt x="568050" y="1277194"/>
                  <a:pt x="567987" y="1300505"/>
                  <a:pt x="616298" y="1327345"/>
                </a:cubicBezTo>
                <a:cubicBezTo>
                  <a:pt x="645352" y="1343486"/>
                  <a:pt x="710891" y="1358876"/>
                  <a:pt x="710891" y="1358876"/>
                </a:cubicBezTo>
                <a:cubicBezTo>
                  <a:pt x="737167" y="1353621"/>
                  <a:pt x="816514" y="1343110"/>
                  <a:pt x="789718" y="1343110"/>
                </a:cubicBezTo>
                <a:cubicBezTo>
                  <a:pt x="731673" y="1343110"/>
                  <a:pt x="673760" y="1350667"/>
                  <a:pt x="616298" y="1358876"/>
                </a:cubicBezTo>
                <a:cubicBezTo>
                  <a:pt x="599847" y="1361226"/>
                  <a:pt x="584767" y="1369386"/>
                  <a:pt x="569001" y="1374641"/>
                </a:cubicBezTo>
                <a:cubicBezTo>
                  <a:pt x="563746" y="1390407"/>
                  <a:pt x="553235" y="1405319"/>
                  <a:pt x="553235" y="1421938"/>
                </a:cubicBezTo>
                <a:cubicBezTo>
                  <a:pt x="553235" y="1462868"/>
                  <a:pt x="575557" y="1475790"/>
                  <a:pt x="600532" y="1500766"/>
                </a:cubicBezTo>
                <a:cubicBezTo>
                  <a:pt x="628239" y="1583883"/>
                  <a:pt x="597986" y="1516629"/>
                  <a:pt x="663594" y="1595359"/>
                </a:cubicBezTo>
                <a:cubicBezTo>
                  <a:pt x="675724" y="1609915"/>
                  <a:pt x="708523" y="1629257"/>
                  <a:pt x="695125" y="1642655"/>
                </a:cubicBezTo>
                <a:cubicBezTo>
                  <a:pt x="681727" y="1656053"/>
                  <a:pt x="665144" y="1618819"/>
                  <a:pt x="647829" y="1611124"/>
                </a:cubicBezTo>
                <a:cubicBezTo>
                  <a:pt x="617457" y="1597625"/>
                  <a:pt x="580890" y="1598030"/>
                  <a:pt x="553235" y="1579593"/>
                </a:cubicBezTo>
                <a:lnTo>
                  <a:pt x="458642" y="1516531"/>
                </a:lnTo>
                <a:cubicBezTo>
                  <a:pt x="448132" y="1500765"/>
                  <a:pt x="441371" y="1481711"/>
                  <a:pt x="427111" y="1469234"/>
                </a:cubicBezTo>
                <a:cubicBezTo>
                  <a:pt x="398592" y="1444280"/>
                  <a:pt x="332518" y="1406172"/>
                  <a:pt x="332518" y="1406172"/>
                </a:cubicBezTo>
                <a:cubicBezTo>
                  <a:pt x="322008" y="1390407"/>
                  <a:pt x="313117" y="1373432"/>
                  <a:pt x="300987" y="1358876"/>
                </a:cubicBezTo>
                <a:cubicBezTo>
                  <a:pt x="286714" y="1341748"/>
                  <a:pt x="257679" y="1333515"/>
                  <a:pt x="253691" y="1311579"/>
                </a:cubicBezTo>
                <a:cubicBezTo>
                  <a:pt x="246112" y="1269894"/>
                  <a:pt x="261877" y="1227140"/>
                  <a:pt x="269456" y="1185455"/>
                </a:cubicBezTo>
                <a:cubicBezTo>
                  <a:pt x="272429" y="1169105"/>
                  <a:pt x="274841" y="1151136"/>
                  <a:pt x="285222" y="1138159"/>
                </a:cubicBezTo>
                <a:cubicBezTo>
                  <a:pt x="297059" y="1123363"/>
                  <a:pt x="316753" y="1117138"/>
                  <a:pt x="332518" y="1106628"/>
                </a:cubicBezTo>
                <a:cubicBezTo>
                  <a:pt x="348284" y="1111883"/>
                  <a:pt x="365288" y="1114322"/>
                  <a:pt x="379815" y="1122393"/>
                </a:cubicBezTo>
                <a:cubicBezTo>
                  <a:pt x="412942" y="1140797"/>
                  <a:pt x="501204" y="1212251"/>
                  <a:pt x="474408" y="1185455"/>
                </a:cubicBezTo>
                <a:cubicBezTo>
                  <a:pt x="458642" y="1169690"/>
                  <a:pt x="440799" y="1155758"/>
                  <a:pt x="427111" y="1138159"/>
                </a:cubicBezTo>
                <a:cubicBezTo>
                  <a:pt x="403845" y="1108246"/>
                  <a:pt x="390845" y="1070363"/>
                  <a:pt x="364049" y="1043566"/>
                </a:cubicBezTo>
                <a:cubicBezTo>
                  <a:pt x="319120" y="998636"/>
                  <a:pt x="340763" y="1024402"/>
                  <a:pt x="300987" y="964738"/>
                </a:cubicBezTo>
                <a:cubicBezTo>
                  <a:pt x="311497" y="933207"/>
                  <a:pt x="300987" y="880655"/>
                  <a:pt x="332518" y="870145"/>
                </a:cubicBezTo>
                <a:lnTo>
                  <a:pt x="427111" y="838614"/>
                </a:lnTo>
                <a:cubicBezTo>
                  <a:pt x="286894" y="745135"/>
                  <a:pt x="532576" y="898462"/>
                  <a:pt x="237925" y="791317"/>
                </a:cubicBezTo>
                <a:cubicBezTo>
                  <a:pt x="220118" y="784842"/>
                  <a:pt x="216904" y="759786"/>
                  <a:pt x="206394" y="744021"/>
                </a:cubicBezTo>
                <a:cubicBezTo>
                  <a:pt x="216904" y="728255"/>
                  <a:pt x="224527" y="710122"/>
                  <a:pt x="237925" y="696724"/>
                </a:cubicBezTo>
                <a:cubicBezTo>
                  <a:pt x="268487" y="666162"/>
                  <a:pt x="294051" y="662250"/>
                  <a:pt x="332518" y="649428"/>
                </a:cubicBezTo>
                <a:cubicBezTo>
                  <a:pt x="311614" y="618072"/>
                  <a:pt x="277589" y="593998"/>
                  <a:pt x="316753" y="554834"/>
                </a:cubicBezTo>
                <a:cubicBezTo>
                  <a:pt x="328504" y="543083"/>
                  <a:pt x="348284" y="544324"/>
                  <a:pt x="364049" y="539069"/>
                </a:cubicBezTo>
                <a:cubicBezTo>
                  <a:pt x="358794" y="523303"/>
                  <a:pt x="363148" y="499204"/>
                  <a:pt x="348284" y="491772"/>
                </a:cubicBezTo>
                <a:cubicBezTo>
                  <a:pt x="333420" y="484340"/>
                  <a:pt x="315514" y="499467"/>
                  <a:pt x="300987" y="507538"/>
                </a:cubicBezTo>
                <a:cubicBezTo>
                  <a:pt x="267860" y="525942"/>
                  <a:pt x="237925" y="549579"/>
                  <a:pt x="206394" y="570600"/>
                </a:cubicBezTo>
                <a:lnTo>
                  <a:pt x="159098" y="602131"/>
                </a:lnTo>
                <a:lnTo>
                  <a:pt x="111801" y="633662"/>
                </a:lnTo>
                <a:cubicBezTo>
                  <a:pt x="90351" y="698011"/>
                  <a:pt x="90481" y="669405"/>
                  <a:pt x="111801" y="744021"/>
                </a:cubicBezTo>
                <a:cubicBezTo>
                  <a:pt x="116367" y="760000"/>
                  <a:pt x="117186" y="778340"/>
                  <a:pt x="127567" y="791317"/>
                </a:cubicBezTo>
                <a:cubicBezTo>
                  <a:pt x="139404" y="806113"/>
                  <a:pt x="159098" y="812338"/>
                  <a:pt x="174863" y="822848"/>
                </a:cubicBezTo>
                <a:cubicBezTo>
                  <a:pt x="159098" y="833358"/>
                  <a:pt x="144514" y="845905"/>
                  <a:pt x="127567" y="854379"/>
                </a:cubicBezTo>
                <a:cubicBezTo>
                  <a:pt x="-2982" y="919654"/>
                  <a:pt x="168524" y="811310"/>
                  <a:pt x="32973" y="901676"/>
                </a:cubicBezTo>
                <a:cubicBezTo>
                  <a:pt x="-16994" y="976626"/>
                  <a:pt x="-4550" y="930997"/>
                  <a:pt x="32973" y="1043566"/>
                </a:cubicBezTo>
                <a:lnTo>
                  <a:pt x="48739" y="1090862"/>
                </a:lnTo>
                <a:lnTo>
                  <a:pt x="32973" y="1138159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mandellia.fr/upload_miniature/poissons_ssz_00061_2.jpg"/>
          <p:cNvPicPr/>
          <p:nvPr/>
        </p:nvPicPr>
        <p:blipFill>
          <a:blip r:embed="rId1"/>
          <a:srcRect l="0" t="19783" r="0" b="56351"/>
          <a:stretch/>
        </p:blipFill>
        <p:spPr>
          <a:xfrm>
            <a:off x="179280" y="-100080"/>
            <a:ext cx="8856720" cy="1812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mandellia.fr/upload_miniature/poissons_ssz_00061_2.jpg"/>
          <p:cNvPicPr/>
          <p:nvPr/>
        </p:nvPicPr>
        <p:blipFill>
          <a:blip r:embed="rId2"/>
          <a:srcRect l="0" t="43573" r="0" b="16167"/>
          <a:stretch/>
        </p:blipFill>
        <p:spPr>
          <a:xfrm>
            <a:off x="108000" y="4116240"/>
            <a:ext cx="8856720" cy="305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7:41:28Z</dcterms:created>
  <dc:creator>Мила</dc:creator>
  <dc:description/>
  <dc:language>en-US</dc:language>
  <cp:lastModifiedBy>Пушистик</cp:lastModifiedBy>
  <dcterms:modified xsi:type="dcterms:W3CDTF">2021-03-09T17:47:17Z</dcterms:modified>
  <cp:revision>130</cp:revision>
  <dc:subject/>
  <dc:title>Слайд 1</dc:title>
</cp:coreProperties>
</file>