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Произвольный показ 1" id="0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165-5F8B-42A6-B748-A46480C7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BC6-6DDA-412B-950F-AC87D172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F53-B14B-4929-BB25-DA5B9809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0D4-B536-4786-B322-DC879B19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F04-6550-482F-94AB-EE0B8C6A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910-D264-4FF8-AFC9-7D74FDA6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325D-7C1D-4FA5-8E95-E9506D2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C152-5F67-4BCE-B596-2E5E0FF9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56E-451E-40A2-BF9C-407FD526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6378-FD02-4926-BFAA-319905C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ECA1-21AE-429B-A357-99A189A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114-3C5E-403D-A6A5-AAE6C12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7A8B-A70E-4859-BAE7-F7B4B79F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9937-AA91-4485-A3EA-8331990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6ECC-3A5E-497B-A075-DDD79F8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F17-4CC2-4C1A-941D-8EC75412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235-F63D-44CF-8EFF-A2A61CA0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E12-5DFF-4BB8-AC34-21FD13C2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D03-48A3-4039-ADCA-FAB8888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41F-0A86-4D79-AD05-CE9FC7D1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B6B-61B0-4BFC-A7CD-4077AE1A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BC-4668-476E-9686-5746F2D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12C-093E-47D3-BFD8-9EFE0E7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366-9247-4486-9B43-D19C4F5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E11-2223-42D9-B384-917E19AFDE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249-F13C-4FB9-BCD6-E01515A157DC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08080" cy="3929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92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6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WordArt 18"/>
          <p:cNvSpPr txBox="1"/>
          <p:nvPr/>
        </p:nvSpPr>
        <p:spPr>
          <a:xfrm>
            <a:off x="1547640" y="407664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ирование ночной сорочки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4067280" y="106056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«Моделирование  плечевого   изделия   с  цельнокроеным   рукавом». </a:t>
            </a:r>
            <a:endParaRPr b="1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7812000" y="27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7 класс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8" name="Picture 23" descr="C:\Documents and Settings\Админ\Рабочий стол\Игнатенко С.В\материалы\подростковая сорочка.jpg"/>
          <p:cNvPicPr/>
          <p:nvPr/>
        </p:nvPicPr>
        <p:blipFill>
          <a:blip r:embed="rId1"/>
          <a:stretch/>
        </p:blipFill>
        <p:spPr>
          <a:xfrm>
            <a:off x="1500120" y="642960"/>
            <a:ext cx="242892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16000" y="260280"/>
            <a:ext cx="8028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Традиционные ночные сорочки из ситца могут быть открытыми и как бы невесомыми, особую пикант- ность придают им завязки-бантики, легкое кружево на плечах, груди и боковом разрез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А более закрытые, с кокетками, рюшами, оборками и шитьем, чем-то напоминающие исконно русский костюм, дают женщине ощущение защищенности и комфор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215040" y="3214800"/>
            <a:ext cx="2556000" cy="32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2001600" cy="3313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1643040" y="3214800"/>
            <a:ext cx="1922400" cy="332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4076640" y="3294000"/>
            <a:ext cx="20019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1495440" cy="26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835280" y="3429000"/>
          <a:ext cx="7129440" cy="273672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«Модель»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- слово  пришло  к нам  из французского языка, значит – изменять. </a:t>
                      </a:r>
                      <a:endParaRPr b="1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Моделирование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Times New Roman"/>
                        </a:rPr>
                        <a:t> – процесс изменения чертежа  выкройки  в  соответствии  с выбранной моделью.</a:t>
                      </a:r>
                      <a:endParaRPr b="1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03640" y="836280"/>
            <a:ext cx="56894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о одной и той же выкройке можно сшить изделия разных фасонов. Для этого необходимо промоделировать ег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-8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800" y="6802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1800" y="25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0"/>
          <a:ext cx="208080" cy="49467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946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16"/>
          <p:cNvSpPr/>
          <p:nvPr/>
        </p:nvSpPr>
        <p:spPr>
          <a:xfrm>
            <a:off x="1800" y="494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59" name="Picture 17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1467000" cy="1873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8"/>
          <p:cNvSpPr/>
          <p:nvPr/>
        </p:nvSpPr>
        <p:spPr>
          <a:xfrm>
            <a:off x="4286160" y="214200"/>
            <a:ext cx="4681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от  так  будет выглядеть ваша ночная сорочка если её не модели- ровать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3203640" y="3500280"/>
            <a:ext cx="338436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ожно менять?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547640" y="4797360"/>
            <a:ext cx="237672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Длину изделия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5724360" y="4797360"/>
            <a:ext cx="288000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Форму кокетки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3348000" y="5877000"/>
            <a:ext cx="3097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Форму горловины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4788000" y="4149720"/>
            <a:ext cx="215640" cy="1727280"/>
          </a:xfrm>
          <a:prstGeom prst="downArrow">
            <a:avLst>
              <a:gd name="adj1" fmla="val 50000"/>
              <a:gd name="adj2" fmla="val 200250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334800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6227640" y="414972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afb5d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3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Изменение длины ночной сороч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0" y="0"/>
          <a:ext cx="208080" cy="2517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517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6"/>
          <p:cNvSpPr/>
          <p:nvPr/>
        </p:nvSpPr>
        <p:spPr>
          <a:xfrm>
            <a:off x="1800" y="2517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857240" y="564372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амый простой из приемов моделирования. Всё зависит от желаемой длины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6588000" y="1989000"/>
            <a:ext cx="2376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Модель №1 и №4 длина </a:t>
            </a:r>
            <a:r>
              <a:rPr b="1" i="1" lang="ru-RU" sz="2000" spc="-1" strike="noStrike" u="sng">
                <a:solidFill>
                  <a:srgbClr val="0066ff"/>
                </a:solidFill>
                <a:uFillTx/>
                <a:latin typeface="Times New Roman"/>
              </a:rPr>
              <a:t>«макси».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Модель №2, №3, №5 длина </a:t>
            </a: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«миди».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2511720" cy="286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 rot="448200">
            <a:off x="6757920" y="3548160"/>
            <a:ext cx="2019240" cy="2984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Моделирование изменением формы выреза горловины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45020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ри изменении формы выреза нужно нанести новую линию выреза горловины на выкройке переда и спинк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1558800" cy="2565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6659640" y="3284640"/>
            <a:ext cx="21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940360" y="292428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156360" y="2852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Фигурный выр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031760" cy="29527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479840" y="1144440"/>
          <a:ext cx="208080" cy="3652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2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22"/>
          <p:cNvSpPr/>
          <p:nvPr/>
        </p:nvSpPr>
        <p:spPr>
          <a:xfrm>
            <a:off x="1800" y="47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1143000" y="2786040"/>
            <a:ext cx="187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» образный выр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88" name="Picture 25" descr=""/>
          <p:cNvPicPr/>
          <p:nvPr/>
        </p:nvPicPr>
        <p:blipFill>
          <a:blip r:embed="rId5"/>
          <a:stretch/>
        </p:blipFill>
        <p:spPr>
          <a:xfrm>
            <a:off x="1692360" y="5805360"/>
            <a:ext cx="1763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5" descr=""/>
          <p:cNvPicPr/>
          <p:nvPr/>
        </p:nvPicPr>
        <p:blipFill>
          <a:blip r:embed="rId1"/>
          <a:stretch/>
        </p:blipFill>
        <p:spPr>
          <a:xfrm rot="1120800">
            <a:off x="3708000" y="3141360"/>
            <a:ext cx="1886040" cy="1533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"/>
          <p:cNvPicPr/>
          <p:nvPr/>
        </p:nvPicPr>
        <p:blipFill>
          <a:blip r:embed="rId2"/>
          <a:stretch/>
        </p:blipFill>
        <p:spPr>
          <a:xfrm rot="10079400">
            <a:off x="5449320" y="3742920"/>
            <a:ext cx="1841400" cy="17654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5708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0" y="0"/>
          <a:ext cx="208080" cy="4268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268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16"/>
          <p:cNvSpPr/>
          <p:nvPr/>
        </p:nvSpPr>
        <p:spPr>
          <a:xfrm>
            <a:off x="1800" y="4268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0"/>
          <a:ext cx="208080" cy="5483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48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9"/>
          <p:cNvSpPr/>
          <p:nvPr/>
        </p:nvSpPr>
        <p:spPr>
          <a:xfrm>
            <a:off x="1800" y="548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0" y="140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79840" y="1407960"/>
          <a:ext cx="208080" cy="3125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125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42"/>
          <p:cNvSpPr/>
          <p:nvPr/>
        </p:nvSpPr>
        <p:spPr>
          <a:xfrm>
            <a:off x="1800" y="4533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1" name="Picture 44" descr=""/>
          <p:cNvPicPr/>
          <p:nvPr/>
        </p:nvPicPr>
        <p:blipFill>
          <a:blip r:embed="rId4"/>
          <a:stretch/>
        </p:blipFill>
        <p:spPr>
          <a:xfrm rot="20781600">
            <a:off x="7020000" y="4508280"/>
            <a:ext cx="1933560" cy="1871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6"/>
          <p:cNvSpPr/>
          <p:nvPr/>
        </p:nvSpPr>
        <p:spPr>
          <a:xfrm>
            <a:off x="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479840" y="2216160"/>
          <a:ext cx="208080" cy="1509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509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57"/>
          <p:cNvSpPr/>
          <p:nvPr/>
        </p:nvSpPr>
        <p:spPr>
          <a:xfrm>
            <a:off x="1800" y="3725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5" name="Picture 58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1766880" cy="2232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9"/>
          <p:cNvSpPr/>
          <p:nvPr/>
        </p:nvSpPr>
        <p:spPr>
          <a:xfrm>
            <a:off x="4643280" y="928800"/>
            <a:ext cx="239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Овальный вырез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7" name="Picture 60" descr=""/>
          <p:cNvPicPr/>
          <p:nvPr/>
        </p:nvPicPr>
        <p:blipFill>
          <a:blip r:embed="rId6"/>
          <a:stretch/>
        </p:blipFill>
        <p:spPr>
          <a:xfrm>
            <a:off x="1643040" y="214200"/>
            <a:ext cx="2392560" cy="3329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1"/>
          <p:cNvSpPr/>
          <p:nvPr/>
        </p:nvSpPr>
        <p:spPr>
          <a:xfrm>
            <a:off x="4067280" y="2781360"/>
            <a:ext cx="194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8" descr=""/>
          <p:cNvPicPr/>
          <p:nvPr/>
        </p:nvPicPr>
        <p:blipFill>
          <a:blip r:embed="rId1"/>
          <a:stretch/>
        </p:blipFill>
        <p:spPr>
          <a:xfrm>
            <a:off x="7164360" y="4005360"/>
            <a:ext cx="1749600" cy="2520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208080" cy="3929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92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6"/>
          <p:cNvSpPr/>
          <p:nvPr/>
        </p:nvSpPr>
        <p:spPr>
          <a:xfrm>
            <a:off x="1800" y="39286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13" name="Picture 17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218124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"/>
          <p:cNvPicPr/>
          <p:nvPr/>
        </p:nvPicPr>
        <p:blipFill>
          <a:blip r:embed="rId3"/>
          <a:stretch/>
        </p:blipFill>
        <p:spPr>
          <a:xfrm>
            <a:off x="6300720" y="333360"/>
            <a:ext cx="2552760" cy="2908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0" descr=""/>
          <p:cNvPicPr/>
          <p:nvPr/>
        </p:nvPicPr>
        <p:blipFill>
          <a:blip r:embed="rId4"/>
          <a:stretch/>
        </p:blipFill>
        <p:spPr>
          <a:xfrm rot="4948800">
            <a:off x="2100240" y="4460400"/>
            <a:ext cx="1689120" cy="1930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8532720" y="5734080"/>
            <a:ext cx="432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18" name="Picture 22" descr=""/>
          <p:cNvPicPr/>
          <p:nvPr/>
        </p:nvPicPr>
        <p:blipFill>
          <a:blip r:embed="rId5"/>
          <a:stretch/>
        </p:blipFill>
        <p:spPr>
          <a:xfrm>
            <a:off x="1619280" y="333360"/>
            <a:ext cx="2616120" cy="29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479840" y="1639800"/>
          <a:ext cx="208080" cy="2938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938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34"/>
          <p:cNvSpPr/>
          <p:nvPr/>
        </p:nvSpPr>
        <p:spPr>
          <a:xfrm>
            <a:off x="1800" y="4577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6804000" y="3500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карэ»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2" name="Text Box 36"/>
          <p:cNvSpPr/>
          <p:nvPr/>
        </p:nvSpPr>
        <p:spPr>
          <a:xfrm>
            <a:off x="1979640" y="34290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Вырез «лодочка»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Моделирование кокетки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Новую форму плечевого изделия можно получить моделированием  кокетки  с  одновременным расширением низа.  Форма линии, по  которой отрезается кокетка, может быть любой: прямой, ломаной, круглой, фигурной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1800" y="4446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1"/>
          <a:stretch/>
        </p:blipFill>
        <p:spPr>
          <a:xfrm>
            <a:off x="1619280" y="2743200"/>
            <a:ext cx="2681280" cy="3925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2"/>
          <a:stretch/>
        </p:blipFill>
        <p:spPr>
          <a:xfrm>
            <a:off x="4697280" y="3714840"/>
            <a:ext cx="4446720" cy="2663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9"/>
          <p:cNvSpPr/>
          <p:nvPr/>
        </p:nvSpPr>
        <p:spPr>
          <a:xfrm>
            <a:off x="500364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Прямая кокетка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0"/>
          <a:ext cx="208080" cy="4081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0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6"/>
          <p:cNvSpPr/>
          <p:nvPr/>
        </p:nvSpPr>
        <p:spPr>
          <a:xfrm>
            <a:off x="1800" y="4080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Rectangle 21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34" name="Picture 20" descr=""/>
          <p:cNvPicPr/>
          <p:nvPr/>
        </p:nvPicPr>
        <p:blipFill>
          <a:blip r:embed="rId1"/>
          <a:srcRect l="0" t="0" r="1931" b="0"/>
          <a:stretch/>
        </p:blipFill>
        <p:spPr>
          <a:xfrm>
            <a:off x="3059280" y="4221000"/>
            <a:ext cx="5155920" cy="2322720"/>
          </a:xfrm>
          <a:prstGeom prst="rect">
            <a:avLst/>
          </a:prstGeom>
          <a:ln w="9360">
            <a:solidFill>
              <a:srgbClr val="3dd78b"/>
            </a:solidFill>
            <a:miter/>
          </a:ln>
        </p:spPr>
      </p:pic>
      <p:graphicFrame>
        <p:nvGraphicFramePr>
          <p:cNvPr id="235" name=""/>
          <p:cNvGraphicFramePr/>
          <p:nvPr/>
        </p:nvGraphicFramePr>
        <p:xfrm>
          <a:off x="4479840" y="1957320"/>
          <a:ext cx="208080" cy="2027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2027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32"/>
          <p:cNvSpPr/>
          <p:nvPr/>
        </p:nvSpPr>
        <p:spPr>
          <a:xfrm>
            <a:off x="1800" y="3984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37" name="Picture 33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176720" cy="3762360"/>
          </a:xfrm>
          <a:prstGeom prst="rect">
            <a:avLst/>
          </a:prstGeom>
          <a:ln w="9360">
            <a:solidFill>
              <a:srgbClr val="3dd78b"/>
            </a:solidFill>
            <a:miter/>
          </a:ln>
        </p:spPr>
      </p:pic>
      <p:sp>
        <p:nvSpPr>
          <p:cNvPr id="238" name="Text Box 35"/>
          <p:cNvSpPr/>
          <p:nvPr/>
        </p:nvSpPr>
        <p:spPr>
          <a:xfrm>
            <a:off x="608472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Круглая кокетка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247320"/>
            <a:ext cx="73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Источники информа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Учебник «Технология» 7класс . Авторы: Симоненко В.Д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ознакомиться с  приёмами моделирования путем изменения длины  изделия,  формы горло-вины, кокетки,рукавов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Представить (нарисовать) свою модель изделия на основе выкройки модели ночной сороч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208080" cy="37148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714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6"/>
          <p:cNvSpPr/>
          <p:nvPr/>
        </p:nvSpPr>
        <p:spPr>
          <a:xfrm>
            <a:off x="1800" y="3714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961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оверочный тест по теме: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«Конструирование ночной сорочки.     </a:t>
            </a:r>
            <a:br>
              <a:rPr sz="2800"/>
            </a:b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                                              Снятие мерок.»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7263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1. Напишите условное обозначение мерки напротив ее названия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обхват груди второй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полуобхват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-полуобхват бедер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-обхват плеча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-длина спины до талии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-длина изделия - …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Найдите верный отв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Мерку "полуобхват шеи"  снимают ……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горизонтально вокруг ше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7-го шейного позвонка до яремной впадины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вокруг шеи: сзади - под 7-м шейным позвонком,  спереди -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   яремной впадиной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332000" y="183240"/>
            <a:ext cx="831672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3. Мерку «полуобхват груди второй»  снимают …….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переди выше грудных жел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от линии талии до 7-го шейного позвонк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горизонтально по линии бедер с учетом выступа    живот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- спереди горизонтально по наиболее выступающим         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м        грудных желез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4. Мерку "полуобхват бедер" снимают горизонтально вокруг бедер ….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- с учетом выступа живот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- по наиболее выступающим точкам ягодиц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- сзади - по наиболее выступающим точкам ягодиц,   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реди - с учетом выступа живот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5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Из приведенного ниже перечня одежды выберите только ту которая относится к нательному белью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– колготы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 – ночная сорочк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– пижама для сн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– халат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 - плавки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86240" y="714240"/>
            <a:ext cx="30337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906560" y="214200"/>
            <a:ext cx="72374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6. Дайте название линиям и срезам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476360" y="4508640"/>
            <a:ext cx="741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7. Из приведенных ниже примеров выделите  группу поясной и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плечевой  одежды  отдельно</a:t>
            </a: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брюки,  носки,  жилеты, платья,  шорты,  сарафаны,  блузы,   кепки,  жакеты,  юб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льто, плащи, распашонки</a:t>
            </a: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2286000" y="92880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горловины спинки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192400" y="1382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бок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428920" y="18572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горловины перед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2428920" y="22147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низа рукав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2357280" y="27147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талии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428920" y="35002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низ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2556000" y="39495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Times New Roman"/>
              </a:rPr>
              <a:t>Линия плеча</a:t>
            </a:r>
            <a:endParaRPr b="1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52578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При  всей  изменчивости современной моды меньше всего, пожалуй, ее влияние коснулось домашнего гардероба и одежды для сна. Вопрос об каких-то кардинальных изменениях в области домашней одежды никогда не перед кем не стоял, но она поддавалась веяниям времени и моды. Появление новых способов отделки, новых тканей , новых силуэтов сразу отражалось и на ней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Женщине всегда важно, чтобы дом был полон уюта, частицей которого является она сама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И пусть идея не нова, знакомый всем халат с ярким цветным узором, так любимый нашими мамами и бабушками, и самая обыкновенная ночная сорочка, по-прежнему незаменимы.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2111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800" y="6339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0"/>
          <a:ext cx="208080" cy="8858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8858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"/>
          <p:cNvSpPr/>
          <p:nvPr/>
        </p:nvSpPr>
        <p:spPr>
          <a:xfrm>
            <a:off x="1800" y="8857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1428840" y="783360"/>
            <a:ext cx="6481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В период средневековья домашняя одежда, тем более одежда для сна , не была замысловатой. В качестве ночной одежды использовали длинную нательную рубаху и чепец.   Ночная одежда 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знати  была выполнена из шелка,  хлопка , украшалась кружевом, вышивкой, большим количеством оборок и рюш. 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Пижама, как ночная одежда,  появилась  в Англии  и  носили её  преимущественно  муж- чины. Модели не отличались разнообразием силуэтов и тканей.  Пижама  носилась обязательно вместе с халатом  из одного вида ткани.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6699"/>
                </a:solidFill>
                <a:latin typeface="Times New Roman"/>
              </a:rPr>
              <a:t>В костюме русского человека использовалась простая прямая рубаха «понёва», которая выполняла несколько функций, в том числе была и ночной сорочкой</a:t>
            </a:r>
            <a:endParaRPr b="1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0" y="255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41444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0" y="2556000"/>
          <a:ext cx="208080" cy="830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830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46"/>
          <p:cNvSpPr/>
          <p:nvPr/>
        </p:nvSpPr>
        <p:spPr>
          <a:xfrm>
            <a:off x="1800" y="3385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9" name="Picture 49" descr=""/>
          <p:cNvPicPr/>
          <p:nvPr/>
        </p:nvPicPr>
        <p:blipFill>
          <a:blip r:embed="rId2"/>
          <a:stretch/>
        </p:blipFill>
        <p:spPr>
          <a:xfrm>
            <a:off x="7380360" y="3645000"/>
            <a:ext cx="157644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0" y="1400040"/>
          <a:ext cx="208080" cy="31435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143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61"/>
          <p:cNvSpPr/>
          <p:nvPr/>
        </p:nvSpPr>
        <p:spPr>
          <a:xfrm>
            <a:off x="1800" y="4543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Text Box 63"/>
          <p:cNvSpPr/>
          <p:nvPr/>
        </p:nvSpPr>
        <p:spPr>
          <a:xfrm>
            <a:off x="1619280" y="189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030"/>
                </a:solidFill>
                <a:uFillTx/>
                <a:latin typeface="Times New Roman"/>
              </a:rPr>
              <a:t>Историческая справка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489600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Удобный ,  красивый, тщательно продуманный домашний , ночной костюм является не только украше -нием  человека  и  дома , он способствует  хорошему настроению, помогает  в домашней работе, и что нема- ло важно доставляет удоволь- ствие окружающим. Такая одежда  отличается  более свободным  покроем, особой декоративностью, но в ней не должно быть неряшливост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Она должна распределятся по группам - для детей (а), мужчин (б), женщин (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028960" cy="331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7380360" y="2492280"/>
            <a:ext cx="1538280" cy="208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1549440" cy="2735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817236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02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б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667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40328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К одежде для сна  относятся пижамы и ночные сорочки.</a:t>
            </a:r>
            <a:endParaRPr b="1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99760" y="-3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Какой должна быть ночная сорочка?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636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Свободный удлиненный силуэт — идеальный вариант для ночной сорочки, которая не должна сковывать уставшее за день тело.  Какую  выбрать ткань? Конечно же, натуральную —   мягкую фланель, приятный на  ощупь трикотаж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ли прозрачный хлопок.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очной наряд можно  украсить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ышивкой, воланами, рюшами,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возможными кантами, бей-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ми, аппликациями. Только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е это должно быть   очень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жным, мягким, воздушны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77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57Z</dcterms:created>
  <dc:creator>ХХХ</dc:creator>
  <dc:description/>
  <dc:language>en-US</dc:language>
  <cp:lastModifiedBy>X554LJ</cp:lastModifiedBy>
  <dcterms:modified xsi:type="dcterms:W3CDTF">2022-02-10T14:15:12Z</dcterms:modified>
  <cp:revision>67</cp:revision>
  <dc:subject/>
  <dc:title>Слайд 1</dc:title>
</cp:coreProperties>
</file>