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Произвольный показ 1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F1D-77A3-405D-AD2A-5C67F539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B3F-39F0-400A-A0C2-6D0326FB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7A6-2FFE-46A5-BF11-CC88A756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D76-400B-4962-9428-7272491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D45-2108-431E-B1B4-10C34BD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F13-9D9E-4117-9BB7-C79C0B1C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DDAF-5955-4EF9-9804-5059DD4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937-0343-4D0D-8A44-9E9D3FF5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0F16-60FB-412D-A7FE-0F516BC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758D-25EF-48A0-9474-2AFD63A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2B9-74AE-4CF0-90F2-6C554A7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A7F-4B41-477B-8CBE-9A5EDE32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2B1-C6C6-4233-91B7-0DFCEAD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4116-7E18-4A05-A0DF-C1B963E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3097-9A7F-4359-BE3A-D55CBF7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B239-96DE-484E-994B-04E6C851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078D-F36F-41EC-95EF-C785049A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93F-FBF7-4D1A-A724-0C0F9615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0D8-D981-44E3-AC54-F70DF09E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533-266A-449A-85EA-BB581FA2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205-C54B-4207-B81C-395B9255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B01-F809-4B75-9519-C4FCA72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C96-E426-45F2-82B5-3E063579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8C7-A336-4FB4-B836-8C1C943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887-3904-47A4-9D44-36747D698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F30-33FD-4783-A6B5-BA87D0D9A47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08080" cy="3929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2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6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4067280" y="106056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7812000" y="27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8" name="Picture 23" descr="C:\Documents and Settings\Админ\Рабочий стол\Игнатенко С.В\материалы\подростковая сорочка.jpg"/>
          <p:cNvPicPr/>
          <p:nvPr/>
        </p:nvPicPr>
        <p:blipFill>
          <a:blip r:embed="rId1"/>
          <a:stretch/>
        </p:blipFill>
        <p:spPr>
          <a:xfrm>
            <a:off x="1500120" y="642960"/>
            <a:ext cx="242892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8028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Традиционные ночные сорочки из ситца могут быть открытыми и как бы невесомыми, особую пикант- ность придают им завязки-бантики, легкое кружево на плечах, груди и боковом разрез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А более закрытые, с кокетками, рюшами, оборками и шитьем, чем-то напоминающие исконно русский костюм, дают женщине ощущение защищенности и комфор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215040" y="3214800"/>
            <a:ext cx="2556000" cy="32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2001600" cy="331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1643040" y="3214800"/>
            <a:ext cx="1922400" cy="332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4076640" y="3294000"/>
            <a:ext cx="20019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835280" y="3429000"/>
          <a:ext cx="7129440" cy="273672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1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1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0"/>
          <a:ext cx="208080" cy="49467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46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16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4286160" y="214200"/>
            <a:ext cx="4681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0" y="0"/>
          <a:ext cx="208080" cy="2517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517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6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857240" y="564372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2511720" cy="286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 rot="448200">
            <a:off x="6757920" y="354816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479840" y="1144440"/>
          <a:ext cx="208080" cy="3652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2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22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1143000" y="2786040"/>
            <a:ext cx="187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88" name="Picture 25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5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"/>
          <p:cNvPicPr/>
          <p:nvPr/>
        </p:nvPicPr>
        <p:blipFill>
          <a:blip r:embed="rId2"/>
          <a:stretch/>
        </p:blipFill>
        <p:spPr>
          <a:xfrm rot="10079400">
            <a:off x="5449320" y="3742920"/>
            <a:ext cx="1841400" cy="17654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0" y="0"/>
          <a:ext cx="208080" cy="4268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26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6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208080" cy="5483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48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9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79840" y="1407960"/>
          <a:ext cx="208080" cy="3125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12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42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1" name="Picture 44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6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479840" y="2216160"/>
          <a:ext cx="208080" cy="1509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509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57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5" name="Picture 58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9"/>
          <p:cNvSpPr/>
          <p:nvPr/>
        </p:nvSpPr>
        <p:spPr>
          <a:xfrm>
            <a:off x="4643280" y="928800"/>
            <a:ext cx="23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7" name="Picture 60" descr=""/>
          <p:cNvPicPr/>
          <p:nvPr/>
        </p:nvPicPr>
        <p:blipFill>
          <a:blip r:embed="rId6"/>
          <a:stretch/>
        </p:blipFill>
        <p:spPr>
          <a:xfrm>
            <a:off x="1643040" y="214200"/>
            <a:ext cx="2392560" cy="332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1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208080" cy="3929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2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6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13" name="Picture 1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0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18" name="Picture 22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639800"/>
          <a:ext cx="208080" cy="2938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38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34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2" name="Text Box 36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2"/>
          <a:stretch/>
        </p:blipFill>
        <p:spPr>
          <a:xfrm>
            <a:off x="4697280" y="3714840"/>
            <a:ext cx="4446720" cy="2663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9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208080" cy="4081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0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6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Rectangle 21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34" name="Picture 20" descr=""/>
          <p:cNvPicPr/>
          <p:nvPr/>
        </p:nvPicPr>
        <p:blipFill>
          <a:blip r:embed="rId1"/>
          <a:srcRect l="0" t="0" r="1931" b="0"/>
          <a:stretch/>
        </p:blipFill>
        <p:spPr>
          <a:xfrm>
            <a:off x="3059280" y="4221000"/>
            <a:ext cx="5155920" cy="2322720"/>
          </a:xfrm>
          <a:prstGeom prst="rect">
            <a:avLst/>
          </a:prstGeom>
          <a:ln w="9360">
            <a:solidFill>
              <a:srgbClr val="3dd78b"/>
            </a:solidFill>
            <a:miter/>
          </a:ln>
        </p:spPr>
      </p:pic>
      <p:graphicFrame>
        <p:nvGraphicFramePr>
          <p:cNvPr id="235" name=""/>
          <p:cNvGraphicFramePr/>
          <p:nvPr/>
        </p:nvGraphicFramePr>
        <p:xfrm>
          <a:off x="4479840" y="1957320"/>
          <a:ext cx="208080" cy="2027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027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32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37" name="Picture 33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9360">
            <a:solidFill>
              <a:srgbClr val="3dd78b"/>
            </a:solidFill>
            <a:miter/>
          </a:ln>
        </p:spPr>
      </p:pic>
      <p:sp>
        <p:nvSpPr>
          <p:cNvPr id="238" name="Text Box 35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3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Источники информа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чебник «Технология» 7класс . Авторы: Симоненко В.Д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,рукавов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(нарисовать) свою модель изделия на основе выкройки модели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208080" cy="3714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714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6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86240" y="7142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906560" y="214200"/>
            <a:ext cx="72374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плечевой  одежды  отдельно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2286000" y="92880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горловины спинк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192400" y="1382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бо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428920" y="18572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горловины перед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2428920" y="22147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низа рукав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2357280" y="2714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тали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428920" y="3500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низ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556000" y="39495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плеч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800" y="6339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208080" cy="8858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8858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"/>
          <p:cNvSpPr/>
          <p:nvPr/>
        </p:nvSpPr>
        <p:spPr>
          <a:xfrm>
            <a:off x="1800" y="8857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1428840" y="783360"/>
            <a:ext cx="64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В период средневековья домашняя одежда, тем более одежда для сна , не была замысловатой. В качестве ночной одежды использовали длинную нательную рубаху и чепец.   Ночная одежда 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знати  была выполнена из шелка,  хлопка , украшалась кружевом, вышивкой, большим количеством оборок и рюш. 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Пижама, как ночная одежда,  появилась  в Англии  и  носили её  преимущественно  муж- чины. Модели не отличались разнообразием силуэтов и тканей.  Пижама  носилась обязательно вместе с халатом  из одного вида ткани.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В костюме русского человека использовалась простая прямая рубаха «понёва», которая выполняла несколько функций, в том числе была и ночной сорочкой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0" y="25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41444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0" y="2556000"/>
          <a:ext cx="208080" cy="830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830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46"/>
          <p:cNvSpPr/>
          <p:nvPr/>
        </p:nvSpPr>
        <p:spPr>
          <a:xfrm>
            <a:off x="1800" y="3385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9" name="Picture 49" descr=""/>
          <p:cNvPicPr/>
          <p:nvPr/>
        </p:nvPicPr>
        <p:blipFill>
          <a:blip r:embed="rId2"/>
          <a:stretch/>
        </p:blipFill>
        <p:spPr>
          <a:xfrm>
            <a:off x="7380360" y="3645000"/>
            <a:ext cx="157644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0" y="1400040"/>
          <a:ext cx="208080" cy="31435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143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61"/>
          <p:cNvSpPr/>
          <p:nvPr/>
        </p:nvSpPr>
        <p:spPr>
          <a:xfrm>
            <a:off x="1800" y="4543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1619280" y="189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030"/>
                </a:solidFill>
                <a:uFillTx/>
                <a:latin typeface="Times New Roman"/>
              </a:rPr>
              <a:t>Историческая справка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9760" y="-3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X554LJ</cp:lastModifiedBy>
  <dcterms:modified xsi:type="dcterms:W3CDTF">2022-02-10T14:15:12Z</dcterms:modified>
  <cp:revision>67</cp:revision>
  <dc:subject/>
  <dc:title>Слайд 1</dc:title>
</cp:coreProperties>
</file>