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88825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C0F-C5FD-477F-8A79-FBBE96B3D8D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1C38-4561-41E6-A5F7-52B3A6FFFB85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143-3AB6-4277-9A88-91CD8E49AD7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7E7-F902-4D04-B194-3B1F4251735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689E-8992-44BE-91AC-47432689A8F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99E-82DF-4B50-BF19-59885D82ED5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4C58-DCDC-403D-B633-C04FCB30906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842-21B8-4EE7-AA4A-2F493F1E947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80EE-E2E5-44BF-8BEF-C2B56C70F55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44A4-66EC-449C-9875-A4770E916AA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5ED-9453-40F2-AB21-1C24AA50C8F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4765-F935-4F3B-AD2A-7BA821B6260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5AB8-220D-48FC-BA2D-FBEFF6A9BDD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0929-5DF7-4024-BB62-C729377EE5E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1465-6D99-4519-8759-E2A153E2C13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D18-8621-4903-ADC4-3BB0B6CFCBA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CFE-D9C6-4D22-A689-7DC85CDA14E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916-3A96-4A3D-8664-08D9AEC277F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314440" y="527040"/>
            <a:ext cx="468000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799-5918-4EDF-8065-077646B0CFD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9E0-8134-4CA2-9F7B-4FC32379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67A-6051-4C2E-A340-3EC2DEF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940-54AF-42C1-BA15-F807D48E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DE0-8577-4EED-8525-B5C357AF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F19-4576-4B65-9AD5-1C7D7A6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9E2-36A9-49A2-AA60-E304055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65E-6FC4-4BA1-A7F4-6B6E6D7F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FE9-D497-4451-834A-A541183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038-5303-4ED9-AC7E-D47C763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61C-12BC-431F-B477-2C63A4A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CFA-5C76-4FE6-A957-0149FF7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5E7-0558-4DE4-B24D-7F17D9C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4748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2" marL="70344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3" marL="9507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4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5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6" marL="117936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9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0D4-38C8-4A43-8450-CD7332692C7A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8440" y="2565360"/>
            <a:ext cx="6264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дготовительная  групп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ушка - зима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 6-7 лет,  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 человек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33720" y="4869000"/>
            <a:ext cx="607212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Прибыткова Яна Олеговн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оспитатель МБДОУ «Детский сад комбинированного вида № 167», город Воронеж, Советский район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22200" y="477360"/>
            <a:ext cx="6335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e83de"/>
                </a:solidFill>
                <a:latin typeface="Cambria"/>
              </a:rPr>
              <a:t>2021-2022  учебный год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3933720" y="260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Заголовок 2"/>
          <p:cNvSpPr/>
          <p:nvPr/>
        </p:nvSpPr>
        <p:spPr>
          <a:xfrm>
            <a:off x="-477720" y="5857920"/>
            <a:ext cx="509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Центр двигательной активн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4094280" y="5929200"/>
            <a:ext cx="7500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Центры театрализованной   и музыкальной деятельн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4165560" y="571680"/>
            <a:ext cx="3963960" cy="528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236520" y="571680"/>
            <a:ext cx="3875040" cy="516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8205840" y="571680"/>
            <a:ext cx="3983040" cy="53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4920" y="5643720"/>
            <a:ext cx="467172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ая игра «Салон красоты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94040" y="6000840"/>
            <a:ext cx="6337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ая игра «Гараж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22360" y="114300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6951600" y="857160"/>
            <a:ext cx="3880080" cy="517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65600" y="357120"/>
            <a:ext cx="464364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Заголовок 2"/>
          <p:cNvSpPr/>
          <p:nvPr/>
        </p:nvSpPr>
        <p:spPr>
          <a:xfrm rot="19891800">
            <a:off x="363240" y="4659120"/>
            <a:ext cx="47480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1d458"/>
                </a:solidFill>
                <a:latin typeface="Cambria"/>
              </a:rPr>
              <a:t>Сюжетно-ролевая игра «Магазин»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4200" y="5643720"/>
            <a:ext cx="5418000" cy="52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Сюжетно-ролевые игры «Кухня», «Больниц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65240" y="642960"/>
            <a:ext cx="6073560" cy="455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330960" y="714240"/>
            <a:ext cx="585792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Заголовок 2"/>
          <p:cNvSpPr/>
          <p:nvPr/>
        </p:nvSpPr>
        <p:spPr>
          <a:xfrm>
            <a:off x="307800" y="6145200"/>
            <a:ext cx="540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Центр отдыха и уединения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6670800" y="5724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Модуль «Творческая мастерская» 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379520" y="50004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440" y="134136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393372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3. СПОКОЙ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Заголовок 2"/>
          <p:cNvSpPr/>
          <p:nvPr/>
        </p:nvSpPr>
        <p:spPr>
          <a:xfrm>
            <a:off x="3236760" y="6286680"/>
            <a:ext cx="5400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Модуль «Детская литератур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808360" y="428760"/>
            <a:ext cx="664344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2"/>
          <p:cNvSpPr/>
          <p:nvPr/>
        </p:nvSpPr>
        <p:spPr>
          <a:xfrm>
            <a:off x="1198440" y="5805360"/>
            <a:ext cx="405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Вид приемной из центра на вхо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Заголовок 2"/>
          <p:cNvSpPr/>
          <p:nvPr/>
        </p:nvSpPr>
        <p:spPr>
          <a:xfrm>
            <a:off x="6418440" y="5805360"/>
            <a:ext cx="55180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Cambria"/>
              </a:rPr>
              <a:t>Вид приемной из центра в противоположном от входа направлении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24080" y="512640"/>
            <a:ext cx="3968640" cy="529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102440" y="549360"/>
            <a:ext cx="3941640" cy="52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4094280" y="6218280"/>
            <a:ext cx="406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Информационный блок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38440" y="495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2"/>
          <p:cNvSpPr/>
          <p:nvPr/>
        </p:nvSpPr>
        <p:spPr>
          <a:xfrm flipV="1" rot="10800000">
            <a:off x="3933720" y="6215040"/>
            <a:ext cx="457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нсультационный  бло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51264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4365720" y="5589720"/>
            <a:ext cx="4244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актический  бло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Заголовок 2"/>
          <p:cNvSpPr/>
          <p:nvPr/>
        </p:nvSpPr>
        <p:spPr>
          <a:xfrm>
            <a:off x="3502080" y="44280"/>
            <a:ext cx="583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Cambria"/>
              </a:rPr>
              <a:t>4. </a:t>
            </a:r>
            <a:r>
              <a:rPr b="1" lang="ru-RU" sz="1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рганизация среды для диалога с родителям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" y="892080"/>
            <a:ext cx="5759640" cy="431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38800" y="907920"/>
            <a:ext cx="575964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920" y="6237000"/>
            <a:ext cx="3962520" cy="3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ход в группу, ниж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92760" y="6313320"/>
            <a:ext cx="312408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иж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122400" y="2981160"/>
            <a:ext cx="35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ле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Текст 3"/>
          <p:cNvSpPr/>
          <p:nvPr/>
        </p:nvSpPr>
        <p:spPr>
          <a:xfrm>
            <a:off x="4654440" y="2981160"/>
            <a:ext cx="3124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рхняя правая точк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Текст 3"/>
          <p:cNvSpPr/>
          <p:nvPr/>
        </p:nvSpPr>
        <p:spPr>
          <a:xfrm>
            <a:off x="8713800" y="1700280"/>
            <a:ext cx="3124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ид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нний возраст, младший, средний, старший, подготовительный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пы с четырех точек по периметру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333360" y="35733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2"/>
          <a:stretch/>
        </p:blipFill>
        <p:spPr>
          <a:xfrm>
            <a:off x="4637160" y="35733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4638600" y="237960"/>
            <a:ext cx="397836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4"/>
          <a:stretch/>
        </p:blipFill>
        <p:spPr>
          <a:xfrm>
            <a:off x="316080" y="255600"/>
            <a:ext cx="39780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46800" y="189000"/>
            <a:ext cx="6408720" cy="11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1. Рабочий сектор </a:t>
            </a:r>
            <a:br>
              <a:rPr sz="2400"/>
            </a:br>
            <a:r>
              <a:rPr b="0" lang="ru-RU" sz="2400" spc="-1" strike="noStrike">
                <a:solidFill>
                  <a:srgbClr val="1e83de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73720" y="1197000"/>
            <a:ext cx="66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mbria"/>
              </a:rPr>
              <a:t>Обстановка в группе комфортная и безопасная. Всё пространство организовано так, что достаточно места для осуществления нескольких форм активности воспитанников. Оборудование расположено по периметру по принципу нежесткого центрирования.  Такое размещение позволяет детям заниматься любимым делом и объединяться по подгруппам. Воспитанники имеют возможность свободного перехода  от одного вида деятельности к другому.  Рабочая зона обеспечивает игровую, познавательную, исследовательскую и творческую активность всех воспитанников.  В рабочем секторе используются различные материалы по математике, крупные кубики, доступны коллекции разнообразных материалов для конструирования.  В модуле живой природы представлена коллекция природных объектов, книги и игрушки, связанные с природой. Раздаточные материалы разнообразны по тематике и соответствуют возрасту детей.  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-98280" y="5781600"/>
            <a:ext cx="6165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одуль  «Наследие культуры и социокультурные ценност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36520" y="1000080"/>
            <a:ext cx="5048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236520" y="5929200"/>
            <a:ext cx="5979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Мир живой и неживой природы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7318440" y="5940360"/>
            <a:ext cx="4032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Мы дежури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89720" y="404640"/>
            <a:ext cx="4211640" cy="561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98440" y="404640"/>
            <a:ext cx="4151520" cy="553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2"/>
          <p:cNvSpPr/>
          <p:nvPr/>
        </p:nvSpPr>
        <p:spPr>
          <a:xfrm>
            <a:off x="1236600" y="5857920"/>
            <a:ext cx="49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Экспериментир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2080" y="549360"/>
            <a:ext cx="6624360" cy="549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13760" y="549360"/>
            <a:ext cx="4146480" cy="539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450720" y="6157800"/>
            <a:ext cx="4267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Модули «Математическое развитие» и «Освоение родного языка»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6737400" y="58579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Центр сенсорного развит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9720" y="476280"/>
            <a:ext cx="4214880" cy="561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22800" y="549360"/>
            <a:ext cx="568836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2"/>
          <p:cNvSpPr/>
          <p:nvPr/>
        </p:nvSpPr>
        <p:spPr>
          <a:xfrm>
            <a:off x="236520" y="6232680"/>
            <a:ext cx="5979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 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Конструирование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Заголовок 2"/>
          <p:cNvSpPr/>
          <p:nvPr/>
        </p:nvSpPr>
        <p:spPr>
          <a:xfrm>
            <a:off x="6594480" y="61545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ac6c6"/>
                </a:solidFill>
                <a:latin typeface="Cambria"/>
              </a:rPr>
              <a:t>Модуль «Безопасность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50720" y="357120"/>
            <a:ext cx="4429080" cy="590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5094360" y="92880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360" y="5857920"/>
            <a:ext cx="439272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Методическая литература педагог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4560" y="6246720"/>
            <a:ext cx="3124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c6c6"/>
                </a:solidFill>
                <a:latin typeface="Cambria"/>
              </a:rPr>
              <a:t>ИКТ для педагога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c6c6"/>
                </a:solidFill>
                <a:latin typeface="Cambria"/>
              </a:rPr>
              <a:t>1. РАБОЧИ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6" name="Picture 10" descr="https://lh4.googleusercontent.com/vCWDrbM-2S7ogiVwiXXnuAtvewgw119mRQM8yuVIj4N4mkD6FaelVf1yHnmsdSU6A1SQ0OrluqM48PXVwlsZ5s_xO2azUsp_sdkexeYjXvVe2HoXEyHWjMkfwhUSXXskfEPc6Yc=s0"/>
          <p:cNvPicPr/>
          <p:nvPr/>
        </p:nvPicPr>
        <p:blipFill>
          <a:blip r:embed="rId1"/>
          <a:stretch/>
        </p:blipFill>
        <p:spPr>
          <a:xfrm>
            <a:off x="879480" y="608040"/>
            <a:ext cx="3951360" cy="526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s://lh3.googleusercontent.com/STdtRDWC-f2kOfKoC6m8-tibK96BLJ4B3_gONUfS3W-Dm2h7YPG2_dlnJFlBBqctB-oFaylio247J-d2HcoFtrfbLmL7AQ5DBAEKTm3q4S8yM-VrQDllna4T8LxSdWN_hw8AosQ=s0"/>
          <p:cNvPicPr/>
          <p:nvPr/>
        </p:nvPicPr>
        <p:blipFill>
          <a:blip r:embed="rId2"/>
          <a:stretch/>
        </p:blipFill>
        <p:spPr>
          <a:xfrm>
            <a:off x="6327720" y="620640"/>
            <a:ext cx="3963960" cy="528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4520" y="5441760"/>
            <a:ext cx="453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1d458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81d458"/>
                </a:solidFill>
                <a:latin typeface="Cambria"/>
              </a:rPr>
              <a:t>Общий вид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Заголовок 2"/>
          <p:cNvSpPr/>
          <p:nvPr/>
        </p:nvSpPr>
        <p:spPr>
          <a:xfrm>
            <a:off x="3502080" y="44280"/>
            <a:ext cx="4060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mbria"/>
              </a:rPr>
              <a:t>2. АКТИВНЫЙ СЕК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526080" y="620640"/>
            <a:ext cx="52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емонстрируемое оборудование способствует развитию разнообразных физических умений. Использующееся оборудование соответствует способностям воспитанников и возможностям пространства. Для ролевых игр отведена четко ограниченная часть помещения с пространством для игры  и для упорядоченного хранения реквизита.  В зоне ролевых игр представлено разнообразие тематических пространств, наполненных атрибутами, соответствующими теме. В реквизите представлены атрибуты, позволяющие формировать половую идентичность.  В ролевых играх употребляется некоторый реквизит, характерный для разных культур.  Детям доступно много материалов  для занятий музыкой, которыми они могут пользоваться в соответствии с возрастом. Наличие атрибутов театрализованной деятельности, в том числе изготовленных вместе с воспитанникам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" name="Picture 6" descr="C:\Users\Admin\Desktop\дс167  при\IMG-20211019-WA0164.jpg"/>
          <p:cNvPicPr/>
          <p:nvPr/>
        </p:nvPicPr>
        <p:blipFill>
          <a:blip r:embed="rId1"/>
          <a:stretch/>
        </p:blipFill>
        <p:spPr>
          <a:xfrm>
            <a:off x="236520" y="642960"/>
            <a:ext cx="6262560" cy="469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5:15:56Z</dcterms:created>
  <dc:creator/>
  <dc:description/>
  <dc:language>en-US</dc:language>
  <cp:lastModifiedBy/>
  <dcterms:modified xsi:type="dcterms:W3CDTF">2022-02-10T04:51:22Z</dcterms:modified>
  <cp:revision>7</cp:revision>
  <dc:subject/>
  <dc:title>Подготовительная  группа  «Краски осени» ( 6-7 лет,  41 человек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10000000000010291210207f7000400038000</vt:lpwstr>
  </property>
  <property fmtid="{D5CDD505-2E9C-101B-9397-08002B2CF9AE}" pid="3" name="_TemplateID">
    <vt:lpwstr>TC028133329991</vt:lpwstr>
  </property>
</Properties>
</file>