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88825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90C3-30F2-4076-9090-68CCED5F8BF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F64E-00A6-4AB8-B7F0-8AFAADB2E615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98C9-5BC2-4692-8EFA-AD521156968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D0B5-BAC4-445C-9031-B1F2D32A3AE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92F0-46A7-443F-9549-51514FC5E3E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E6F7-5589-42A8-A4C0-DAEB9110AB8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9ED7-D21D-4F4C-966D-B0805D83DEC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AB4A-C283-4F16-BB98-751426B2690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73F5-A197-4737-81E5-5E5BABB0938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8C4D-559E-4938-BF48-B289D70A9DE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B07-CEF1-4449-99B9-C5C43ECE88C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2572-D8EC-4572-B74B-9F96B7E7592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89ED-007B-400D-AAB9-E34F8B98D8B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7190-79ED-411D-8DC0-A28E59E931E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1E37-7FE1-47EA-A538-D07A5035783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094B-7EC8-4D0B-B887-0918EE38682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547C-3895-498B-A607-F81F5D153C3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0DEB-5559-4E07-AB41-A110555BD4A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4E64-53E1-4329-A69F-E2C01710A67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142-B024-419F-8ED0-724BE8F3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B5D-C4D8-40E4-8AFE-5F3EF6D7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BDE-5FFB-4FCD-A3F9-302D4496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2B8-1100-4A5D-9757-FF9BDFA4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81B-3758-49E6-9F07-7F906BF9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DFB-A443-4C14-8527-E845BB2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FF1-660C-4E36-B5A4-5FCFD93F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C4A-EF67-4206-BF40-1090A7A4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420-5B4B-44C9-8BC7-DB6DDA25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AB9-D3EE-4348-B48C-F3DDBDA2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BE7-0009-42B2-BCF7-1E84C0C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73A-475B-4326-A2CB-F0746E46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4748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7034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3" marL="9507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4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5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6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0600" y="6400440"/>
            <a:ext cx="1549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AA99-21D0-40B7-80B4-9A9A48482201}" type="slidenum">
              <a:rPr b="0" lang="ru-RU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8440" y="2565360"/>
            <a:ext cx="62643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дготовительная  групп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ушка - зима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( 6-7 лет,  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 человек)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33720" y="4869000"/>
            <a:ext cx="607212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Прибыткова Яна Олеговна,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оспитатель МБДОУ «Детский сад комбинированного вида № 167», город Воронеж, Советский район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22200" y="477360"/>
            <a:ext cx="6335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83de"/>
                </a:solidFill>
                <a:latin typeface="Cambria"/>
              </a:rPr>
              <a:t>2021-2022  учебный год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2"/>
          <p:cNvSpPr/>
          <p:nvPr/>
        </p:nvSpPr>
        <p:spPr>
          <a:xfrm>
            <a:off x="3933720" y="260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Заголовок 2"/>
          <p:cNvSpPr/>
          <p:nvPr/>
        </p:nvSpPr>
        <p:spPr>
          <a:xfrm>
            <a:off x="-477720" y="5857920"/>
            <a:ext cx="509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Центр двигательной активност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Заголовок 2"/>
          <p:cNvSpPr/>
          <p:nvPr/>
        </p:nvSpPr>
        <p:spPr>
          <a:xfrm>
            <a:off x="4094280" y="5929200"/>
            <a:ext cx="7500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Центры театрализованной   и музыкальной деятельност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4165560" y="571680"/>
            <a:ext cx="3963960" cy="528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236520" y="571680"/>
            <a:ext cx="3875040" cy="516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8205840" y="571680"/>
            <a:ext cx="3983040" cy="53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4920" y="5643720"/>
            <a:ext cx="467172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Сюжетно-ролевая игра «Салон красоты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94040" y="6000840"/>
            <a:ext cx="6337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Сюжетно-ролевая игра «Гараж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22360" y="114300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6951600" y="857160"/>
            <a:ext cx="3880080" cy="517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65600" y="357120"/>
            <a:ext cx="4643640" cy="619128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Заголовок 2"/>
          <p:cNvSpPr/>
          <p:nvPr/>
        </p:nvSpPr>
        <p:spPr>
          <a:xfrm rot="19891800">
            <a:off x="363240" y="4659120"/>
            <a:ext cx="47480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1d458"/>
                </a:solidFill>
                <a:latin typeface="Cambria"/>
              </a:rPr>
              <a:t>Сюжетно-ролевая игра «Магазин»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4200" y="5643720"/>
            <a:ext cx="5418000" cy="52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Сюжетно-ролевые игры «Кухня», «Больниц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65240" y="642960"/>
            <a:ext cx="6073560" cy="455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330960" y="714240"/>
            <a:ext cx="585792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Заголовок 2"/>
          <p:cNvSpPr/>
          <p:nvPr/>
        </p:nvSpPr>
        <p:spPr>
          <a:xfrm>
            <a:off x="307800" y="6145200"/>
            <a:ext cx="540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Центр отдыха и уединения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6670800" y="5724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Модуль «Творческая мастерская» 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1379520" y="500040"/>
            <a:ext cx="4071960" cy="542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440" y="134136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Заголовок 2"/>
          <p:cNvSpPr/>
          <p:nvPr/>
        </p:nvSpPr>
        <p:spPr>
          <a:xfrm>
            <a:off x="3236760" y="6286680"/>
            <a:ext cx="5400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Модуль «Детская литератур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2808360" y="428760"/>
            <a:ext cx="6643440" cy="574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1198440" y="5805360"/>
            <a:ext cx="405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Вид приемной из центра на вход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Заголовок 2"/>
          <p:cNvSpPr/>
          <p:nvPr/>
        </p:nvSpPr>
        <p:spPr>
          <a:xfrm>
            <a:off x="6418440" y="5805360"/>
            <a:ext cx="55180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Cambria"/>
              </a:rPr>
              <a:t>Вид приемной из центра в противоположном от входа направлении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24080" y="512640"/>
            <a:ext cx="3968640" cy="529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102440" y="549360"/>
            <a:ext cx="3941640" cy="52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2"/>
          <p:cNvSpPr/>
          <p:nvPr/>
        </p:nvSpPr>
        <p:spPr>
          <a:xfrm>
            <a:off x="4094280" y="621828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Информационный блок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38440" y="495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Заголовок 2"/>
          <p:cNvSpPr/>
          <p:nvPr/>
        </p:nvSpPr>
        <p:spPr>
          <a:xfrm flipV="1" rot="10800000">
            <a:off x="3933720" y="6215040"/>
            <a:ext cx="4572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онсультационный  блок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51160" y="51264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2"/>
          <p:cNvSpPr/>
          <p:nvPr/>
        </p:nvSpPr>
        <p:spPr>
          <a:xfrm>
            <a:off x="4365720" y="5589720"/>
            <a:ext cx="4244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актический  блок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4800" y="892080"/>
            <a:ext cx="5759640" cy="431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238800" y="907920"/>
            <a:ext cx="575964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920" y="6237000"/>
            <a:ext cx="3962520" cy="3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ход в группу, нижняя ле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92760" y="6313320"/>
            <a:ext cx="312408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ижняя пра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Заголовок 2"/>
          <p:cNvSpPr/>
          <p:nvPr/>
        </p:nvSpPr>
        <p:spPr>
          <a:xfrm>
            <a:off x="122400" y="2981160"/>
            <a:ext cx="35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рхняя ле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Текст 3"/>
          <p:cNvSpPr/>
          <p:nvPr/>
        </p:nvSpPr>
        <p:spPr>
          <a:xfrm>
            <a:off x="4654440" y="2981160"/>
            <a:ext cx="3124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рхняя пра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Текст 3"/>
          <p:cNvSpPr/>
          <p:nvPr/>
        </p:nvSpPr>
        <p:spPr>
          <a:xfrm>
            <a:off x="8713800" y="1700280"/>
            <a:ext cx="3124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ид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нний возраст, младший, средний, старший, подготовительный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руппы с четырех точек по периметру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333360" y="35733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2"/>
          <a:stretch/>
        </p:blipFill>
        <p:spPr>
          <a:xfrm>
            <a:off x="4637160" y="35733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4638600" y="2379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4"/>
          <a:stretch/>
        </p:blipFill>
        <p:spPr>
          <a:xfrm>
            <a:off x="316080" y="255600"/>
            <a:ext cx="39780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46800" y="189000"/>
            <a:ext cx="6408720" cy="11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83de"/>
                </a:solidFill>
                <a:latin typeface="Cambria"/>
              </a:rPr>
              <a:t>1. Рабочий сектор </a:t>
            </a:r>
            <a:br>
              <a:rPr sz="2400"/>
            </a:br>
            <a:r>
              <a:rPr b="0" lang="ru-RU" sz="2400" spc="-1" strike="noStrike">
                <a:solidFill>
                  <a:srgbClr val="1e83de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73720" y="1197000"/>
            <a:ext cx="66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Cambria"/>
              </a:rPr>
              <a:t>Обстановка в группе комфортная и безопасная. Всё пространство организовано так, что достаточно места для осуществления нескольких форм активности воспитанников. Оборудование расположено по периметру по принципу нежесткого центрирования.  Такое размещение позволяет детям заниматься любимым делом и объединяться по подгруппам. Воспитанники имеют возможность свободного перехода  от одного вида деятельности к другому.  Рабочая зона обеспечивает игровую, познавательную, исследовательскую и творческую активность всех воспитанников.  В рабочем секторе используются различные материалы по математике, крупные кубики, доступны коллекции разнообразных материалов для конструирования.  В модуле живой природы представлена коллекция природных объектов, книги и игрушки, связанные с природой. Раздаточные материалы разнообразны по тематике и соответствуют возрасту детей.   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-98280" y="5781600"/>
            <a:ext cx="6165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одуль  «Наследие культуры и социокультурные ценности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236520" y="1000080"/>
            <a:ext cx="50482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2"/>
          <p:cNvSpPr/>
          <p:nvPr/>
        </p:nvSpPr>
        <p:spPr>
          <a:xfrm>
            <a:off x="236520" y="5929200"/>
            <a:ext cx="5979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Мир живой и неживой природы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Заголовок 2"/>
          <p:cNvSpPr/>
          <p:nvPr/>
        </p:nvSpPr>
        <p:spPr>
          <a:xfrm>
            <a:off x="7318440" y="5940360"/>
            <a:ext cx="4032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Мы дежурим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89720" y="404640"/>
            <a:ext cx="4211640" cy="5616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98440" y="404640"/>
            <a:ext cx="4151520" cy="553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2"/>
          <p:cNvSpPr/>
          <p:nvPr/>
        </p:nvSpPr>
        <p:spPr>
          <a:xfrm>
            <a:off x="1236600" y="5857920"/>
            <a:ext cx="49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Экспериментирование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2080" y="549360"/>
            <a:ext cx="6624360" cy="549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313760" y="549360"/>
            <a:ext cx="4146480" cy="539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2"/>
          <p:cNvSpPr/>
          <p:nvPr/>
        </p:nvSpPr>
        <p:spPr>
          <a:xfrm>
            <a:off x="450720" y="6157800"/>
            <a:ext cx="4267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Модули «Математическое развитие» и «Освоение родного языка»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Заголовок 2"/>
          <p:cNvSpPr/>
          <p:nvPr/>
        </p:nvSpPr>
        <p:spPr>
          <a:xfrm>
            <a:off x="6737400" y="58579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Центр сенсорного развити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09720" y="476280"/>
            <a:ext cx="4214880" cy="561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22800" y="549360"/>
            <a:ext cx="568836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Заголовок 2"/>
          <p:cNvSpPr/>
          <p:nvPr/>
        </p:nvSpPr>
        <p:spPr>
          <a:xfrm>
            <a:off x="236520" y="6232680"/>
            <a:ext cx="5979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Конструирование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Заголовок 2"/>
          <p:cNvSpPr/>
          <p:nvPr/>
        </p:nvSpPr>
        <p:spPr>
          <a:xfrm>
            <a:off x="6594480" y="615456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Безопасность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450720" y="357120"/>
            <a:ext cx="4429080" cy="5905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5094360" y="92880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2360" y="5857920"/>
            <a:ext cx="439272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Методическая литература педагога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94560" y="6246720"/>
            <a:ext cx="3124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ИКТ для педагога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6" name="Picture 10" descr="https://lh4.googleusercontent.com/vCWDrbM-2S7ogiVwiXXnuAtvewgw119mRQM8yuVIj4N4mkD6FaelVf1yHnmsdSU6A1SQ0OrluqM48PXVwlsZ5s_xO2azUsp_sdkexeYjXvVe2HoXEyHWjMkfwhUSXXskfEPc6Yc=s0"/>
          <p:cNvPicPr/>
          <p:nvPr/>
        </p:nvPicPr>
        <p:blipFill>
          <a:blip r:embed="rId1"/>
          <a:stretch/>
        </p:blipFill>
        <p:spPr>
          <a:xfrm>
            <a:off x="879480" y="608040"/>
            <a:ext cx="3951360" cy="526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https://lh3.googleusercontent.com/STdtRDWC-f2kOfKoC6m8-tibK96BLJ4B3_gONUfS3W-Dm2h7YPG2_dlnJFlBBqctB-oFaylio247J-d2HcoFtrfbLmL7AQ5DBAEKTm3q4S8yM-VrQDllna4T8LxSdWN_hw8AosQ=s0"/>
          <p:cNvPicPr/>
          <p:nvPr/>
        </p:nvPicPr>
        <p:blipFill>
          <a:blip r:embed="rId2"/>
          <a:stretch/>
        </p:blipFill>
        <p:spPr>
          <a:xfrm>
            <a:off x="6327720" y="620640"/>
            <a:ext cx="3963960" cy="528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4520" y="5441760"/>
            <a:ext cx="4537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 </a:t>
            </a: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Общий вид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526080" y="620640"/>
            <a:ext cx="52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емонстрируемое оборудование способствует развитию разнообразных физических умений. Использующееся оборудование соответствует способностям воспитанников и возможностям пространства. Для ролевых игр отведена четко ограниченная часть помещения с пространством для игры  и для упорядоченного хранения реквизита.  В зоне ролевых игр представлено разнообразие тематических пространств, наполненных атрибутами, соответствующими теме. В реквизите представлены атрибуты, позволяющие формировать половую идентичность.  В ролевых играх употребляется некоторый реквизит, характерный для разных культур.  Детям доступно много материалов  для занятий музыкой, которыми они могут пользоваться в соответствии с возрастом. Наличие атрибутов театрализованной деятельности, в том числе изготовленных вместе с воспитанниками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1" name="Picture 6" descr="C:\Users\Admin\Desktop\дс167  при\IMG-20211019-WA0164.jpg"/>
          <p:cNvPicPr/>
          <p:nvPr/>
        </p:nvPicPr>
        <p:blipFill>
          <a:blip r:embed="rId1"/>
          <a:stretch/>
        </p:blipFill>
        <p:spPr>
          <a:xfrm>
            <a:off x="236520" y="642960"/>
            <a:ext cx="6262560" cy="469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5:15:56Z</dcterms:created>
  <dc:creator/>
  <dc:description/>
  <dc:language>en-US</dc:language>
  <cp:lastModifiedBy/>
  <dcterms:modified xsi:type="dcterms:W3CDTF">2022-02-10T04:51:22Z</dcterms:modified>
  <cp:revision>7</cp:revision>
  <dc:subject/>
  <dc:title>Подготовительная  группа  «Краски осени» ( 6-7 лет,  41 человек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210000000000010291210207f7000400038000</vt:lpwstr>
  </property>
  <property fmtid="{D5CDD505-2E9C-101B-9397-08002B2CF9AE}" pid="3" name="_TemplateID">
    <vt:lpwstr>TC028133329991</vt:lpwstr>
  </property>
</Properties>
</file>