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35B-0C86-4008-90D9-CEC087F9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C00-C308-410C-96DC-32B5C39A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A56-185D-41AD-97A8-4E225C03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D54-1A15-4966-AD6E-69C444EB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0DA-5A2A-4610-8FB3-C3337C7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2B1-A768-42EF-9332-0D55FAD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DE8-F65C-4ECC-8943-A003082A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357-88FB-4768-AD27-AC893B81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F77-E8AD-49C3-A1C3-C8B41781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DAC-4173-45A5-AA1F-A7FDD6D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6C3-C3AC-4EF0-811B-2B32EE4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CDC-37AF-40CD-BB32-4DAEABE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D943-3772-4C8E-97C6-1C8850767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09480" y="838080"/>
            <a:ext cx="7010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Как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люди измеряли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длину  раньше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и  как измеряют  тепер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419720" y="1523880"/>
            <a:ext cx="304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Ярд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– расстояние  от  носа  человека  до  среднего  паль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ытянутой 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( 91с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024000" cy="37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AutoShape 10"/>
          <p:cNvSpPr/>
          <p:nvPr/>
        </p:nvSpPr>
        <p:spPr>
          <a:xfrm>
            <a:off x="5181480" y="533520"/>
            <a:ext cx="1828800" cy="685800"/>
          </a:xfrm>
          <a:prstGeom prst="wedgeRoundRectCallout">
            <a:avLst>
              <a:gd name="adj1" fmla="val -172916"/>
              <a:gd name="adj2" fmla="val 17037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4343400" y="1905120"/>
            <a:ext cx="312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Фут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длина  ступ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( 30см 5м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3847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AutoShape 8"/>
          <p:cNvSpPr/>
          <p:nvPr/>
        </p:nvSpPr>
        <p:spPr>
          <a:xfrm>
            <a:off x="4114800" y="533520"/>
            <a:ext cx="1752480" cy="685800"/>
          </a:xfrm>
          <a:prstGeom prst="wedgeRoundRectCallout">
            <a:avLst>
              <a:gd name="adj1" fmla="val -141212"/>
              <a:gd name="adj2" fmla="val 18449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28600" y="304920"/>
            <a:ext cx="71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сторическая  сп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  незапамятных  времён  человеку  приходилось  измерять  расстояние  в  связи  с  изготовлением  простейших  орудий  труда,  со  строительством  жилищ  и  добыванием  пищи.  Подобно  тому,  как  при  счёте 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ьзовался   пальцами   рук  и   ног,  так  и  при  измер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стояний  он  прибегал  к  рукам  и  ногам.  Вот  почему в  прошлом  мерами  длины  служ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г,  ладонь,  локо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5"/>
          <p:cNvSpPr/>
          <p:nvPr/>
        </p:nvSpPr>
        <p:spPr>
          <a:xfrm>
            <a:off x="990720" y="609480"/>
            <a:ext cx="1447560" cy="533520"/>
          </a:xfrm>
          <a:prstGeom prst="wedgeEllipseCallout">
            <a:avLst>
              <a:gd name="adj1" fmla="val 53949"/>
              <a:gd name="adj2" fmla="val 361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7010280" y="1600200"/>
            <a:ext cx="1447920" cy="609480"/>
          </a:xfrm>
          <a:prstGeom prst="wedgeEllipseCallout">
            <a:avLst>
              <a:gd name="adj1" fmla="val -55703"/>
              <a:gd name="adj2" fmla="val 242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3581280" y="533520"/>
            <a:ext cx="1295640" cy="609480"/>
          </a:xfrm>
          <a:prstGeom prst="wedgeEllipseCallout">
            <a:avLst>
              <a:gd name="adj1" fmla="val 490"/>
              <a:gd name="adj2" fmla="val 232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6400800" y="5486400"/>
            <a:ext cx="1676520" cy="609480"/>
          </a:xfrm>
          <a:prstGeom prst="wedgeEllipseCallout">
            <a:avLst>
              <a:gd name="adj1" fmla="val -57199"/>
              <a:gd name="adj2" fmla="val -294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5791320" y="762120"/>
            <a:ext cx="1523880" cy="609480"/>
          </a:xfrm>
          <a:prstGeom prst="wedgeEllipseCallout">
            <a:avLst>
              <a:gd name="adj1" fmla="val -50416"/>
              <a:gd name="adj2" fmla="val 245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3505320" y="5715000"/>
            <a:ext cx="1676160" cy="685800"/>
          </a:xfrm>
          <a:prstGeom prst="wedgeEllipseCallout">
            <a:avLst>
              <a:gd name="adj1" fmla="val 189"/>
              <a:gd name="adj2" fmla="val -23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1"/>
          <p:cNvSpPr/>
          <p:nvPr/>
        </p:nvSpPr>
        <p:spPr>
          <a:xfrm>
            <a:off x="380880" y="5410080"/>
            <a:ext cx="1828800" cy="609840"/>
          </a:xfrm>
          <a:prstGeom prst="wedgeEllipseCallout">
            <a:avLst>
              <a:gd name="adj1" fmla="val 55208"/>
              <a:gd name="adj2" fmla="val -27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2"/>
          <p:cNvSpPr/>
          <p:nvPr/>
        </p:nvSpPr>
        <p:spPr>
          <a:xfrm>
            <a:off x="304920" y="1523880"/>
            <a:ext cx="1295280" cy="685800"/>
          </a:xfrm>
          <a:prstGeom prst="wedgeEllipseCallout">
            <a:avLst>
              <a:gd name="adj1" fmla="val 40685"/>
              <a:gd name="adj2" fmla="val 203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380880" y="1905120"/>
            <a:ext cx="7772400" cy="28954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ринные  меры 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495680" y="1447920"/>
            <a:ext cx="3200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Локоть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расстояние   от  локт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о  кон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реднего  па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( от  38 до 46 см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ослов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“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Нос  с  локоть, а  ума  с  ногот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82932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AutoShape 10"/>
          <p:cNvSpPr/>
          <p:nvPr/>
        </p:nvSpPr>
        <p:spPr>
          <a:xfrm>
            <a:off x="4952880" y="228600"/>
            <a:ext cx="2210040" cy="863640"/>
          </a:xfrm>
          <a:prstGeom prst="wedgeRoundRectCallout">
            <a:avLst>
              <a:gd name="adj1" fmla="val -122842"/>
              <a:gd name="adj2" fmla="val 16066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око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267080" y="1066680"/>
            <a:ext cx="3429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Сажень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это  расстояние  от  мизинца  одной   рук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о  мизинца   друг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ри  вытяну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 сторону  ру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( 152 см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533760" cy="44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AutoShape 7"/>
          <p:cNvSpPr/>
          <p:nvPr/>
        </p:nvSpPr>
        <p:spPr>
          <a:xfrm>
            <a:off x="5105520" y="380880"/>
            <a:ext cx="2286000" cy="914400"/>
          </a:xfrm>
          <a:prstGeom prst="wedgeRoundRectCallout">
            <a:avLst>
              <a:gd name="adj1" fmla="val -142430"/>
              <a:gd name="adj2" fmla="val 15955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572000" y="1447920"/>
            <a:ext cx="3200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Вершок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длина  указательного  пальц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( 6 см. 5 м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923920" cy="426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AutoShape 7"/>
          <p:cNvSpPr/>
          <p:nvPr/>
        </p:nvSpPr>
        <p:spPr>
          <a:xfrm>
            <a:off x="4800600" y="304920"/>
            <a:ext cx="2133720" cy="914400"/>
          </a:xfrm>
          <a:prstGeom prst="wedgeRoundRectCallout">
            <a:avLst>
              <a:gd name="adj1" fmla="val -136384"/>
              <a:gd name="adj2" fmla="val 14184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рш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114800" y="914400"/>
            <a:ext cx="32004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       </a:t>
            </a: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Пядь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расстояние  между  концами  растянутых  пальцев(указатель ного  и  больш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( 17см 8м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1813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AutoShape 7"/>
          <p:cNvSpPr/>
          <p:nvPr/>
        </p:nvSpPr>
        <p:spPr>
          <a:xfrm>
            <a:off x="4876920" y="457200"/>
            <a:ext cx="1752480" cy="863640"/>
          </a:xfrm>
          <a:prstGeom prst="wedgeRoundRectCallout">
            <a:avLst>
              <a:gd name="adj1" fmla="val -158606"/>
              <a:gd name="adj2" fmla="val 20532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сунок1"/>
          <p:cNvPicPr/>
          <p:nvPr/>
        </p:nvPicPr>
        <p:blipFill>
          <a:blip r:embed="rId1"/>
          <a:stretch/>
        </p:blipFill>
        <p:spPr>
          <a:xfrm>
            <a:off x="0" y="-13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886200" y="1752480"/>
            <a:ext cx="403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юйм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расстояние  одной               фаланги  большого  пальц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( 2см. 5мм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00024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AutoShape 7"/>
          <p:cNvSpPr/>
          <p:nvPr/>
        </p:nvSpPr>
        <p:spPr>
          <a:xfrm>
            <a:off x="3886200" y="304920"/>
            <a:ext cx="2133720" cy="863640"/>
          </a:xfrm>
          <a:prstGeom prst="wedgeRoundRectCallout">
            <a:avLst>
              <a:gd name="adj1" fmla="val -90995"/>
              <a:gd name="adj2" fmla="val 347976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юй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886200" y="2133720"/>
            <a:ext cx="38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Ладонь 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ширина  кисти  ру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( 6 – 7 см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391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AutoShape 8"/>
          <p:cNvSpPr/>
          <p:nvPr/>
        </p:nvSpPr>
        <p:spPr>
          <a:xfrm>
            <a:off x="5029200" y="457200"/>
            <a:ext cx="1752480" cy="863640"/>
          </a:xfrm>
          <a:prstGeom prst="wedgeRoundRectCallout">
            <a:avLst>
              <a:gd name="adj1" fmla="val -194111"/>
              <a:gd name="adj2" fmla="val 15238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9:10:17Z</dcterms:created>
  <dc:creator>ASUS</dc:creator>
  <dc:description/>
  <dc:language>en-US</dc:language>
  <cp:lastModifiedBy>Ирина</cp:lastModifiedBy>
  <dcterms:modified xsi:type="dcterms:W3CDTF">2018-09-14T17:37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