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605-DDE0-450A-8A6F-3A238A42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CB1-7DC3-4F79-82F0-4AB9A14F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11B-B58B-4D4A-8A23-41BE9C5F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7A3-6044-48C6-996F-D1D769F8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281-64A6-400B-9E25-551BBA99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0E3-E7C4-4D3E-8AD9-4F11F48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BAC-D958-4AA2-A759-D4677E10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08D6-5165-4D21-AD7F-81C30CDC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61D-A3A0-4AA8-9CBA-3BFE4739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192-0A4F-487F-82D8-74040C13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96F-F605-4D27-A07A-BA699909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886-75C6-47EC-86ED-E2AFB63C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4BF2-EC82-4D47-B1E0-FFFCAC08C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609480" y="838080"/>
            <a:ext cx="70106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Как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люди измеряли  </a:t>
            </a:r>
            <a:br>
              <a:rPr sz="6600"/>
            </a:b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длину  раньше  </a:t>
            </a:r>
            <a:br>
              <a:rPr sz="6600"/>
            </a:b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и  как измеряют  теперь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419720" y="1523880"/>
            <a:ext cx="3047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Ярд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– расстояние  от  носа  человека  до  среднего  паль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ытянутой 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( 91с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3024000" cy="374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AutoShape 10"/>
          <p:cNvSpPr/>
          <p:nvPr/>
        </p:nvSpPr>
        <p:spPr>
          <a:xfrm>
            <a:off x="5181480" y="533520"/>
            <a:ext cx="1828800" cy="685800"/>
          </a:xfrm>
          <a:prstGeom prst="wedgeRoundRectCallout">
            <a:avLst>
              <a:gd name="adj1" fmla="val -172916"/>
              <a:gd name="adj2" fmla="val 170370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Яр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4343400" y="1905120"/>
            <a:ext cx="312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Arial"/>
              </a:rPr>
              <a:t>Фут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длина  ступ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( 30см 5мм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338472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AutoShape 8"/>
          <p:cNvSpPr/>
          <p:nvPr/>
        </p:nvSpPr>
        <p:spPr>
          <a:xfrm>
            <a:off x="4114800" y="533520"/>
            <a:ext cx="1752480" cy="685800"/>
          </a:xfrm>
          <a:prstGeom prst="wedgeRoundRectCallout">
            <a:avLst>
              <a:gd name="adj1" fmla="val -141212"/>
              <a:gd name="adj2" fmla="val 184490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28600" y="304920"/>
            <a:ext cx="7162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сторическая  спра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  незапамятных  времён  человеку  приходилось  измерять  расстояние  в  связи  с  изготовлением  простейших  орудий  труда,  со  строительством  жилищ  и  добыванием  пищи.  Подобно  тому,  как  при  счёте 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ьзовался   пальцами   рук  и   ног,  так  и  при  измер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асстояний  он  прибегал  к  рукам  и  ногам.  Вот  почему в  прошлом  мерами  длины  служ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аг,  ладонь,  локо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5"/>
          <p:cNvSpPr/>
          <p:nvPr/>
        </p:nvSpPr>
        <p:spPr>
          <a:xfrm>
            <a:off x="990720" y="609480"/>
            <a:ext cx="1447560" cy="533520"/>
          </a:xfrm>
          <a:prstGeom prst="wedgeEllipseCallout">
            <a:avLst>
              <a:gd name="adj1" fmla="val 53949"/>
              <a:gd name="adj2" fmla="val 361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7010280" y="1600200"/>
            <a:ext cx="1447920" cy="609480"/>
          </a:xfrm>
          <a:prstGeom prst="wedgeEllipseCallout">
            <a:avLst>
              <a:gd name="adj1" fmla="val -55703"/>
              <a:gd name="adj2" fmla="val 242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о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3581280" y="533520"/>
            <a:ext cx="1295640" cy="609480"/>
          </a:xfrm>
          <a:prstGeom prst="wedgeEllipseCallout">
            <a:avLst>
              <a:gd name="adj1" fmla="val 490"/>
              <a:gd name="adj2" fmla="val 2325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юй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6400800" y="5486400"/>
            <a:ext cx="1676520" cy="609480"/>
          </a:xfrm>
          <a:prstGeom prst="wedgeEllipseCallout">
            <a:avLst>
              <a:gd name="adj1" fmla="val -57199"/>
              <a:gd name="adj2" fmla="val -2945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о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>
            <a:off x="5791320" y="762120"/>
            <a:ext cx="1523880" cy="609480"/>
          </a:xfrm>
          <a:prstGeom prst="wedgeEllipseCallout">
            <a:avLst>
              <a:gd name="adj1" fmla="val -50416"/>
              <a:gd name="adj2" fmla="val 245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ж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3505320" y="5715000"/>
            <a:ext cx="1676160" cy="685800"/>
          </a:xfrm>
          <a:prstGeom prst="wedgeEllipseCallout">
            <a:avLst>
              <a:gd name="adj1" fmla="val 189"/>
              <a:gd name="adj2" fmla="val -239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1"/>
          <p:cNvSpPr/>
          <p:nvPr/>
        </p:nvSpPr>
        <p:spPr>
          <a:xfrm>
            <a:off x="380880" y="5410080"/>
            <a:ext cx="1828800" cy="609840"/>
          </a:xfrm>
          <a:prstGeom prst="wedgeEllipseCallout">
            <a:avLst>
              <a:gd name="adj1" fmla="val 55208"/>
              <a:gd name="adj2" fmla="val -27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2"/>
          <p:cNvSpPr/>
          <p:nvPr/>
        </p:nvSpPr>
        <p:spPr>
          <a:xfrm>
            <a:off x="304920" y="1523880"/>
            <a:ext cx="1295280" cy="685800"/>
          </a:xfrm>
          <a:prstGeom prst="wedgeEllipseCallout">
            <a:avLst>
              <a:gd name="adj1" fmla="val 40685"/>
              <a:gd name="adj2" fmla="val 203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3"/>
          <p:cNvSpPr/>
          <p:nvPr/>
        </p:nvSpPr>
        <p:spPr>
          <a:xfrm>
            <a:off x="380880" y="1905120"/>
            <a:ext cx="7772400" cy="28954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ринные  меры 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4495680" y="1447920"/>
            <a:ext cx="3200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Локоть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расстояние   от  локт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о  кон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реднего  паль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( от  38 до 46 см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ослов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“ 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Нос  с  локоть, а  ума  с  ноготь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382932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7" name="AutoShape 10"/>
          <p:cNvSpPr/>
          <p:nvPr/>
        </p:nvSpPr>
        <p:spPr>
          <a:xfrm>
            <a:off x="4952880" y="228600"/>
            <a:ext cx="2210040" cy="863640"/>
          </a:xfrm>
          <a:prstGeom prst="wedgeRoundRectCallout">
            <a:avLst>
              <a:gd name="adj1" fmla="val -122842"/>
              <a:gd name="adj2" fmla="val 160662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око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4267080" y="1066680"/>
            <a:ext cx="3429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Сажень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–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это  расстояние  от  мизинца  одной   рук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о  мизинца   друг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ри  вытяну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 сторону  ру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( 152 см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533760" cy="44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AutoShape 7"/>
          <p:cNvSpPr/>
          <p:nvPr/>
        </p:nvSpPr>
        <p:spPr>
          <a:xfrm>
            <a:off x="5105520" y="380880"/>
            <a:ext cx="2286000" cy="914400"/>
          </a:xfrm>
          <a:prstGeom prst="wedgeRoundRectCallout">
            <a:avLst>
              <a:gd name="adj1" fmla="val -142430"/>
              <a:gd name="adj2" fmla="val 159550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аж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572000" y="1447920"/>
            <a:ext cx="3200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Вершок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длина  указательного  пальца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( 6 см. 5 мм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923920" cy="426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AutoShape 7"/>
          <p:cNvSpPr/>
          <p:nvPr/>
        </p:nvSpPr>
        <p:spPr>
          <a:xfrm>
            <a:off x="4800600" y="304920"/>
            <a:ext cx="2133720" cy="914400"/>
          </a:xfrm>
          <a:prstGeom prst="wedgeRoundRectCallout">
            <a:avLst>
              <a:gd name="adj1" fmla="val -136384"/>
              <a:gd name="adj2" fmla="val 141842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рш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4114800" y="914400"/>
            <a:ext cx="32004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       </a:t>
            </a: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Пядь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расстояние  между  концами  растянутых  пальцев(указатель ного  и  больш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( 17см 8м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18132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AutoShape 7"/>
          <p:cNvSpPr/>
          <p:nvPr/>
        </p:nvSpPr>
        <p:spPr>
          <a:xfrm>
            <a:off x="4876920" y="457200"/>
            <a:ext cx="1752480" cy="863640"/>
          </a:xfrm>
          <a:prstGeom prst="wedgeRoundRectCallout">
            <a:avLst>
              <a:gd name="adj1" fmla="val -158606"/>
              <a:gd name="adj2" fmla="val 205328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яд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Рисунок1"/>
          <p:cNvPicPr/>
          <p:nvPr/>
        </p:nvPicPr>
        <p:blipFill>
          <a:blip r:embed="rId1"/>
          <a:stretch/>
        </p:blipFill>
        <p:spPr>
          <a:xfrm>
            <a:off x="0" y="-135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886200" y="1752480"/>
            <a:ext cx="4038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юйм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расстояние  одной               фаланги  большого  пальц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( 2см. 5мм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00024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AutoShape 7"/>
          <p:cNvSpPr/>
          <p:nvPr/>
        </p:nvSpPr>
        <p:spPr>
          <a:xfrm>
            <a:off x="3886200" y="304920"/>
            <a:ext cx="2133720" cy="863640"/>
          </a:xfrm>
          <a:prstGeom prst="wedgeRoundRectCallout">
            <a:avLst>
              <a:gd name="adj1" fmla="val -90995"/>
              <a:gd name="adj2" fmla="val 347976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юй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3886200" y="2133720"/>
            <a:ext cx="38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cc0000"/>
                </a:solidFill>
                <a:uFillTx/>
                <a:latin typeface="Times New Roman"/>
              </a:rPr>
              <a:t>Ладонь </a:t>
            </a: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ширина  кисти  ру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( 6 – 7 см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391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AutoShape 8"/>
          <p:cNvSpPr/>
          <p:nvPr/>
        </p:nvSpPr>
        <p:spPr>
          <a:xfrm>
            <a:off x="5029200" y="457200"/>
            <a:ext cx="1752480" cy="863640"/>
          </a:xfrm>
          <a:prstGeom prst="wedgeRoundRectCallout">
            <a:avLst>
              <a:gd name="adj1" fmla="val -194111"/>
              <a:gd name="adj2" fmla="val 152388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адо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19:10:17Z</dcterms:created>
  <dc:creator>ASUS</dc:creator>
  <dc:description/>
  <dc:language>en-US</dc:language>
  <cp:lastModifiedBy>Ирина</cp:lastModifiedBy>
  <dcterms:modified xsi:type="dcterms:W3CDTF">2018-09-14T17:37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