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8AE-ADA8-4284-8160-CDE29B05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BD7-E421-42F5-88AA-C96F2E33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7CAD-6D23-4822-B5AD-78C0D4EE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36A5-876E-4548-8BE5-5162D5F5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0CEA-29E4-4176-B766-62DB6A76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B999-4FE9-4DEC-956B-F463F9BF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6438-ECF6-4294-BC3A-A82D9EDE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A124-0104-4345-91E0-8247D81E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C06A-53EA-4AD6-8194-C2873E25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BEE4-8B06-420E-AB9E-E4928282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0462-437B-436F-9606-9A40532D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3B0A-003D-404F-89AD-D40B7547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559C-E28E-4DCF-968F-B59D38E7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AF43-8604-4C4D-BF1B-56DA703A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FE1B-AEF6-4DCB-8149-32E663EE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E9E3-7824-41FB-94C5-70402B07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4E95-0EA3-45A1-9440-5A9272E1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62C8-8017-4E99-A8C8-0D470DCA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E1F7-D496-4868-B7E2-412CE8F8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7B9B-7E7E-408E-8381-5C7973D6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225-FB41-4C70-8729-11EBE98C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ADCE-CE35-452D-BEFC-504BE22E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9C5A-2904-4E20-ABA6-0A70A006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29C-0CD5-4CE3-8FFB-0556EA38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4A1F-7C21-4BE3-A467-7183523F806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63000"/>
              <a:ext cx="3622680" cy="6130440"/>
              <a:chOff x="5407920" y="63000"/>
              <a:chExt cx="3622680" cy="61304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840"/>
                <a:ext cx="2116800" cy="235512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5948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91280"/>
                <a:ext cx="43992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5000"/>
                <a:ext cx="388800" cy="55044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1400" y="26470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7360" y="1244160"/>
                <a:ext cx="19044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3280"/>
                <a:ext cx="523800" cy="326628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6BDB-8D44-4044-90A7-21085C81234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dgu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1116000" y="0"/>
            <a:ext cx="691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Дагестанский государственный университет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афедра «Бухгалтерский учет»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Доцент Бабаева З.Ш.</a:t>
            </a:r>
            <a:br>
              <a:rPr sz="1800"/>
            </a:b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95280" y="476280"/>
          <a:ext cx="8424720" cy="6330960"/>
        </p:xfrm>
        <a:graphic>
          <a:graphicData uri="http://schemas.openxmlformats.org/drawingml/2006/table">
            <a:tbl>
              <a:tblPr/>
              <a:tblGrid>
                <a:gridCol w="2932200"/>
                <a:gridCol w="5492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ринципы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инятых принципов не имеет, главное простота и удобство в его ведении.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Формы предоставления информации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льные, утверждаемые на предприятии.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Степень открытости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ивен и конфиденциален. Содержание его является коммерческой тайной.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Методы и способы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т методы и способы, как финансового учета, так и математики, статистики, экономического анализа, лишь бы они были полезными для предприятия.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50920" y="692280"/>
          <a:ext cx="8893080" cy="5905440"/>
        </p:xfrm>
        <a:graphic>
          <a:graphicData uri="http://schemas.openxmlformats.org/drawingml/2006/table">
            <a:tbl>
              <a:tblPr/>
              <a:tblGrid>
                <a:gridCol w="2181240"/>
                <a:gridCol w="671184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Периодичность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ся руководством организации, по мере необходимости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Степень точности информаци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ит рекомендации для того, чтобы определить «как должно быть». Прогнозный учет, имеет дело с операциями, относящимся к будущим периодам. Информация носит субъективный, вероятностный характер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Способы группировки затрат и доходо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 группируются и отражаются в разрезе статей калькуляции, а доходы – в разрезе структурных подразделений и видов продукции, работ, услуг. Перечень статей калькуляции разрабатывается и устанавливается самим предприятием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Степень ответственности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ость за искаженные данные не предусмотрена, кроме чисто моральной или потери поощрения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4"/>
          <p:cNvSpPr txBox="1"/>
          <p:nvPr/>
        </p:nvSpPr>
        <p:spPr>
          <a:xfrm>
            <a:off x="395280" y="0"/>
            <a:ext cx="828036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Принципы  управленческого учета</a:t>
            </a:r>
            <a:endParaRPr b="1" i="1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grpSp>
        <p:nvGrpSpPr>
          <p:cNvPr id="187" name="Diagram 7"/>
          <p:cNvGrpSpPr/>
          <p:nvPr/>
        </p:nvGrpSpPr>
        <p:grpSpPr>
          <a:xfrm>
            <a:off x="349920" y="1628640"/>
            <a:ext cx="8514720" cy="5157360"/>
            <a:chOff x="349920" y="1628640"/>
            <a:chExt cx="8514720" cy="5157360"/>
          </a:xfrm>
        </p:grpSpPr>
        <p:sp>
          <p:nvSpPr>
            <p:cNvPr id="188" name="_s1028"/>
            <p:cNvSpPr/>
            <p:nvPr/>
          </p:nvSpPr>
          <p:spPr>
            <a:xfrm flipV="1">
              <a:off x="4606560" y="2969280"/>
              <a:ext cx="0" cy="6375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9" name="_s1029"/>
            <p:cNvSpPr/>
            <p:nvPr/>
          </p:nvSpPr>
          <p:spPr>
            <a:xfrm>
              <a:off x="3346560" y="1628640"/>
              <a:ext cx="2367360" cy="12736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Конфиденциальность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0" name="_s1030"/>
            <p:cNvSpPr/>
            <p:nvPr/>
          </p:nvSpPr>
          <p:spPr>
            <a:xfrm flipV="1">
              <a:off x="5629680" y="3605400"/>
              <a:ext cx="1028520" cy="31788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1" name="_s1031"/>
            <p:cNvSpPr/>
            <p:nvPr/>
          </p:nvSpPr>
          <p:spPr>
            <a:xfrm>
              <a:off x="6498000" y="2651400"/>
              <a:ext cx="2366640" cy="12718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Экономность</a:t>
              </a:r>
              <a:endParaRPr b="0" lang="en-US" sz="2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2" name="_s1032"/>
            <p:cNvSpPr/>
            <p:nvPr/>
          </p:nvSpPr>
          <p:spPr>
            <a:xfrm>
              <a:off x="5632200" y="4558320"/>
              <a:ext cx="1026000" cy="3207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3" name="_s1033"/>
            <p:cNvSpPr/>
            <p:nvPr/>
          </p:nvSpPr>
          <p:spPr>
            <a:xfrm>
              <a:off x="6498000" y="4560120"/>
              <a:ext cx="2366640" cy="12718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Оперативность</a:t>
              </a:r>
              <a:endParaRPr b="0" lang="en-US" sz="2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4" name="_s1034"/>
            <p:cNvSpPr/>
            <p:nvPr/>
          </p:nvSpPr>
          <p:spPr>
            <a:xfrm>
              <a:off x="4606560" y="4878000"/>
              <a:ext cx="2160" cy="6375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5" name="_s1035"/>
            <p:cNvSpPr/>
            <p:nvPr/>
          </p:nvSpPr>
          <p:spPr>
            <a:xfrm>
              <a:off x="3422880" y="5514120"/>
              <a:ext cx="2366640" cy="12718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Достоверность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6" name="_s1036"/>
            <p:cNvSpPr/>
            <p:nvPr/>
          </p:nvSpPr>
          <p:spPr>
            <a:xfrm flipH="1">
              <a:off x="2553840" y="4561200"/>
              <a:ext cx="1028520" cy="31788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7" name="_s1037"/>
            <p:cNvSpPr/>
            <p:nvPr/>
          </p:nvSpPr>
          <p:spPr>
            <a:xfrm>
              <a:off x="349920" y="4560120"/>
              <a:ext cx="2366640" cy="12718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2d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Адресность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8" name="_s1038"/>
            <p:cNvSpPr/>
            <p:nvPr/>
          </p:nvSpPr>
          <p:spPr>
            <a:xfrm flipH="1" flipV="1">
              <a:off x="2554200" y="3605760"/>
              <a:ext cx="1026000" cy="3189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9" name="_s1039"/>
            <p:cNvSpPr/>
            <p:nvPr/>
          </p:nvSpPr>
          <p:spPr>
            <a:xfrm>
              <a:off x="349920" y="2652840"/>
              <a:ext cx="2366640" cy="12718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Ответственность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0" name="_s1040"/>
            <p:cNvSpPr/>
            <p:nvPr/>
          </p:nvSpPr>
          <p:spPr>
            <a:xfrm>
              <a:off x="3422880" y="3607200"/>
              <a:ext cx="2366640" cy="12718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edf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33"/>
                  </a:solidFill>
                  <a:latin typeface="Garamond"/>
                  <a:ea typeface="Arial"/>
                </a:rPr>
                <a:t>Принципы</a:t>
              </a:r>
              <a:r>
                <a:rPr b="1" lang="en-US" sz="2600" spc="-1" strike="noStrike">
                  <a:solidFill>
                    <a:srgbClr val="006699"/>
                  </a:solidFill>
                  <a:latin typeface="Garamond"/>
                  <a:ea typeface="Arial"/>
                </a:rPr>
                <a:t> </a:t>
              </a:r>
              <a:endParaRPr b="0" lang="en-US" sz="2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01" name="Text Box 28"/>
          <p:cNvSpPr/>
          <p:nvPr/>
        </p:nvSpPr>
        <p:spPr>
          <a:xfrm>
            <a:off x="7504200" y="-57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3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Задачи УУ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рмирование достоверной и полной информации о внутрихозяйственных процессах и результатах деятельности и предоставление этой информации руководству предприятия путем составления внутренней управленческой отчетност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ирование и контроль экономической эффективности деятельности предприятия и его центров ответственност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числение фактической себестоимости продукции (работ, услуг) и определение отклонений от установленных норм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андартов,  смет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 отклонений от запланированных результатов 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явление причин отклонени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ение контроля за наличием и движением имуще­ства, материальных, денежных и трудовых ресурсов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рмирование информационной базы для принятия решени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явление резервов повышения эффективности деятельности  предприят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8000" y="1599840"/>
            <a:ext cx="43876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Средства труд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Предметы труд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Трудовые 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Финансовые 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Инвестиционные 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Инновационные 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211280" y="1412640"/>
            <a:ext cx="45370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- готовая продукция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незавершенное произ.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объемы продаж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- затраты на реализацию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на внереализационные результаты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на прочую реализацию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- прибыль от продукции, внереализационные доходы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- Финансовые 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-вложения капитала в развитие производ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- развитие изобретательств и достижений научно-технического прогресс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79280" y="0"/>
            <a:ext cx="89647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 объектам управленческого учета можно отнести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-88524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0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управленческом учете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од центром ответственност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нимают структурное подразделение организации, во главе которого стоит менеджер, контролирующий затраты, доходы и средства, инвестируемые в этот сегмент бизнеса.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зависимо от размеров структурного подразделения в управленческом учете выделяют четыре типа центров ответственност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 центры затрат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 центры доход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 центры прибыл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 центры инвестиц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-95832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0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Пример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банковском учреждении имеются следующие структурные подразделения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отдел маркетинговых исследовани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библиотек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отдел кадр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юридический отдел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транспортный отдел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отдел пластиковых карт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отдел вкладов населения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отдел обслуживания юридических лиц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тделы, размещающие привлеченные средств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анк имеет разветвленную сеть филиалов. Обозначить центры ответственности(ЦО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Содержимое 3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329320" cy="5108400"/>
          </a:xfrm>
          <a:prstGeom prst="rect">
            <a:avLst/>
          </a:prstGeom>
          <a:ln w="76320">
            <a:solidFill>
              <a:srgbClr val="333300"/>
            </a:solidFill>
            <a:miter/>
          </a:ln>
        </p:spPr>
      </p:pic>
      <p:pic>
        <p:nvPicPr>
          <p:cNvPr id="212" name="Заголовок 2" descr=""/>
          <p:cNvPicPr/>
          <p:nvPr/>
        </p:nvPicPr>
        <p:blipFill>
          <a:blip r:embed="rId2"/>
          <a:stretch/>
        </p:blipFill>
        <p:spPr>
          <a:xfrm>
            <a:off x="384120" y="-23760"/>
            <a:ext cx="8229600" cy="225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-125280" y="-51840"/>
            <a:ext cx="907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3" marL="1371600" algn="ctr">
              <a:lnSpc>
                <a:spcPct val="100000"/>
              </a:lnSpc>
              <a:tabLst>
                <a:tab algn="l" pos="0"/>
                <a:tab algn="l" pos="228600"/>
                <a:tab algn="l" pos="34308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Требования, предъявляемые к управленческому учету и информации предоставляемой и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179280" y="189000"/>
            <a:ext cx="896472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Виды учета в финансово-экономической системе организации</a:t>
            </a:r>
            <a:endParaRPr b="1" i="1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3132000" y="3213000"/>
            <a:ext cx="2735280" cy="1728720"/>
          </a:xfrm>
          <a:custGeom>
            <a:avLst/>
            <a:gdLst>
              <a:gd name="textAreaLeft" fmla="*/ 624240 w 2735280"/>
              <a:gd name="textAreaRight" fmla="*/ 2111040 w 273528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Виды учет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AutoShape 4"/>
          <p:cNvSpPr/>
          <p:nvPr/>
        </p:nvSpPr>
        <p:spPr>
          <a:xfrm rot="5400000">
            <a:off x="3707640" y="1197360"/>
            <a:ext cx="1512720" cy="2232000"/>
          </a:xfrm>
          <a:prstGeom prst="pie">
            <a:avLst/>
          </a:prstGeom>
          <a:solidFill>
            <a:srgbClr val="ffffff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Бухгалтерск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уче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AutoShape 5"/>
          <p:cNvSpPr/>
          <p:nvPr/>
        </p:nvSpPr>
        <p:spPr>
          <a:xfrm rot="1471200">
            <a:off x="272880" y="2117880"/>
            <a:ext cx="2978280" cy="2232000"/>
          </a:xfrm>
          <a:prstGeom prst="pie">
            <a:avLst/>
          </a:prstGeom>
          <a:solidFill>
            <a:srgbClr val="ffffff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Статистический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уче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AutoShape 6"/>
          <p:cNvSpPr/>
          <p:nvPr/>
        </p:nvSpPr>
        <p:spPr>
          <a:xfrm rot="8349000">
            <a:off x="5998320" y="1643040"/>
            <a:ext cx="2860920" cy="2448000"/>
          </a:xfrm>
          <a:prstGeom prst="pie">
            <a:avLst/>
          </a:prstGeom>
          <a:solidFill>
            <a:srgbClr val="ffffff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Управленческий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уче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AutoShape 7"/>
          <p:cNvSpPr/>
          <p:nvPr/>
        </p:nvSpPr>
        <p:spPr>
          <a:xfrm rot="19052400">
            <a:off x="933480" y="4530240"/>
            <a:ext cx="2033640" cy="2451240"/>
          </a:xfrm>
          <a:prstGeom prst="pie">
            <a:avLst/>
          </a:prstGeom>
          <a:solidFill>
            <a:srgbClr val="ffffff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Оперативный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уче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AutoShape 8"/>
          <p:cNvSpPr/>
          <p:nvPr/>
        </p:nvSpPr>
        <p:spPr>
          <a:xfrm rot="16200000">
            <a:off x="3540960" y="4531680"/>
            <a:ext cx="1844640" cy="2808000"/>
          </a:xfrm>
          <a:prstGeom prst="pie">
            <a:avLst/>
          </a:prstGeom>
          <a:solidFill>
            <a:srgbClr val="ffffff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Финансовый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уче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AutoShape 9"/>
          <p:cNvSpPr/>
          <p:nvPr/>
        </p:nvSpPr>
        <p:spPr>
          <a:xfrm rot="13710600">
            <a:off x="6142680" y="4305600"/>
            <a:ext cx="2041560" cy="2592360"/>
          </a:xfrm>
          <a:prstGeom prst="pie">
            <a:avLst/>
          </a:prstGeom>
          <a:solidFill>
            <a:srgbClr val="ffffff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Налоговый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уче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900000" y="262080"/>
            <a:ext cx="7344000" cy="63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ЛИТЕРАТУ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Апчерч А. Управленческий учет: принципы и практика. –М.:ФИС,2012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ахрушина М.А. Бухгалтерский управленческий учет: Учебник для вузов. 3-е изд., доп. и пер. – М.: Омега – Л, 2016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лкова О.Н. Управленческий учет: учеб. – М.: ТК Велби, Изд-во Проспект, 2016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вашкевич В.Б. Бухгалтерский  управленческий учет: Учеб. для вузов. – М.: Экономистъ, 2015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равнительная характеристика управленческого и финансового учета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Rectangle 256"/>
          <p:cNvSpPr/>
          <p:nvPr/>
        </p:nvSpPr>
        <p:spPr>
          <a:xfrm>
            <a:off x="0" y="10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836640"/>
          <a:ext cx="9144000" cy="6438960"/>
        </p:xfrm>
        <a:graphic>
          <a:graphicData uri="http://schemas.openxmlformats.org/drawingml/2006/table">
            <a:tbl>
              <a:tblPr/>
              <a:tblGrid>
                <a:gridCol w="1461960"/>
                <a:gridCol w="3695760"/>
                <a:gridCol w="3986280"/>
              </a:tblGrid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ь сравнени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уче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ческий уче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ость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ния, степень регламентаци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о должны быть приложены определенные усилия для сбора данных в требуемой форме и с требуемой точностью как это необходимо по законодательству, независимо от мнения руководства на этот сче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цело зависит от воли руководства: никакие посторонние органы и организации не имеют права указывать, что нужно и ненужно делать. Нет смысла в сборе и обработке ненужной информации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Цель ведения учет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финансовой отчетности.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У – средство обеспечения сбора и обработки инф-и для планирования, управления и контроля в организации (процесс непрерывный)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Пользователи информаци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ие пользователи: акционеры, кредиторы, государственные налоговые органы и т.д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енние пользователи: менеджеры организации, сотрудники, помогающие им в сборе и анализе информаци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0" y="174600"/>
          <a:ext cx="9144000" cy="6502320"/>
        </p:xfrm>
        <a:graphic>
          <a:graphicData uri="http://schemas.openxmlformats.org/drawingml/2006/table">
            <a:tbl>
              <a:tblPr/>
              <a:tblGrid>
                <a:gridCol w="1461960"/>
                <a:gridCol w="3695760"/>
                <a:gridCol w="398628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Базисная структур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ся на основополагающем балансовом уравнении: Активы=Собственный капитал (капитал учредителей) + Обязательств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информации зависит от запросов пользователей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Норма-тивное регулировани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ся в соответствии с нормами, правилами и положениями БУ.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ческий аппарат может следовать любым внутренним правилам в зависимости от их полезности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Привязка ко времен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жает финансовую историю организации. Проводки делаются после совершения операций. “Как это было”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исторической информации включаются оценки и планы на будущее. “Как это должно быть”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Формы выражени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е документы – конечный продукт ФУ – содержит информацию в стоимостном выражени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я в стоимостном и натуральном выражени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Степень точности информаци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степень точност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использоваться приближения и примерные оценки, ради оперативност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0" y="0"/>
          <a:ext cx="9144000" cy="7315200"/>
        </p:xfrm>
        <a:graphic>
          <a:graphicData uri="http://schemas.openxmlformats.org/drawingml/2006/table">
            <a:tbl>
              <a:tblPr/>
              <a:tblGrid>
                <a:gridCol w="1463760"/>
                <a:gridCol w="3693960"/>
                <a:gridCol w="3986280"/>
              </a:tblGrid>
              <a:tr h="14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Периодичность отчетност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ый финансовый отчет – по итогам года и ежеквартально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ализированные отчеты в больших организациях – ежемесячно; могут составляться еженедельно, ежедневно, иногда – немедленно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Сроки предоставления отчетност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к. необходимо время для аудиторской проверки, для оформления отчетности, то она попадает к пользователям через несколько недель после окончания отчетного период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ычно составляются и предоставляются в течение нескольких дней после окончания отчетного периода; при оперативных отчетах – на следующее утро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Объект отчетност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финансовых отчетах организация – единое целое; в крупных организациях – выручку и доход отражают по большим сегментам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е внимание сравнительно небольшим подразделениям, обособленным по отдельным производствам, видам деятельности, центрам ответственност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Ответственность за правильность ведения учет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органы могут наложить штрафные санкции за неправильное отражение отчетност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к. нет норм и правил, то руководителя могут привлечь к ответственности только за неправильное управленческое решение на основе данных УУ, но не за сами данные УУ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-53928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дача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положим, что вы выиграли в лотерею  сумму, эквивалентную 257000 .р., после чего решили купить машину и устроиться на работу в частный таксопарк. Вы покупаете машину за 220 тыс.р. платите еще 5 тыс. р. за бензин, а также приобретаете страховой полис на год за 20 тыс. р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 точки зрения финансового учета вы приобрели основное средство (машину) за 220 тыс.р., потратили 5 тыс.р. на оборотный актив (бензин), а также произвели расход будущих периодов (оплатили полис) в сумме 20 тыс.р. После чего у вас остался оборотный актив (деньги) в размере 12 тыс.р. 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лее допустим, что вы подписали контракт с частным таксопарком, по которому вы становитесь его работником за 50 % от полученной вами выручки (определенной в размере 5 руб. за 1 км). Кроме того, вы должны будете уплачивать 150 руб. в месяц за аренду радиопередатчика, а также самостоятельно оплачивать расходы на ремонт и обслуживание автомобиля (примерно 25 тыс. р. в год)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обходимо отразить ситуацию с точки зрения финансового учета и с точки зрения управленческого учет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1844640" y="57240"/>
            <a:ext cx="65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прощенная форма бухгалтерского балан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836640"/>
          <a:ext cx="9036000" cy="6021360"/>
        </p:xfrm>
        <a:graphic>
          <a:graphicData uri="http://schemas.openxmlformats.org/drawingml/2006/table">
            <a:tbl>
              <a:tblPr/>
              <a:tblGrid>
                <a:gridCol w="3691080"/>
                <a:gridCol w="1198440"/>
                <a:gridCol w="2562120"/>
                <a:gridCol w="158436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актив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тыс. р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пассив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тыс. р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е средство (машина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нансировано за счет средств владельца (т.е. выигрыша, инвестированного в бизнес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7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будущих периодов (предоплата страховки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ый актив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]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бензин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ый актив (денежные средства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нс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7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нс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7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Rectangle 160"/>
          <p:cNvSpPr/>
          <p:nvPr/>
        </p:nvSpPr>
        <p:spPr>
          <a:xfrm>
            <a:off x="-874800" y="49629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-53928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У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)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стоянные и условно-постоянные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которым относятся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аренда радиопередатчик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ремонт (данный вид расхода зависит от пробега автомобиля, но все-таки не в такой степени, как расходы на бензин. Поэтому этот расход классифицируется как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ловно-постоянный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страховк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амортизаци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менные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которым относятся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топливо (предположим, что стоимость бензина составляет 2руб. на каждый 1 км полезного пробега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платеж таксопарку 50% от выручки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4"/>
          <p:cNvSpPr txBox="1"/>
          <p:nvPr/>
        </p:nvSpPr>
        <p:spPr>
          <a:xfrm>
            <a:off x="250920" y="115920"/>
            <a:ext cx="8713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Функции  управленческого учета</a:t>
            </a:r>
            <a:endParaRPr b="1" i="1" lang="en-US" sz="32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grpSp>
        <p:nvGrpSpPr>
          <p:cNvPr id="236" name="Diagram 16"/>
          <p:cNvGrpSpPr/>
          <p:nvPr/>
        </p:nvGrpSpPr>
        <p:grpSpPr>
          <a:xfrm>
            <a:off x="1545840" y="1689840"/>
            <a:ext cx="6052320" cy="4846320"/>
            <a:chOff x="1545840" y="1689840"/>
            <a:chExt cx="6052320" cy="4846320"/>
          </a:xfrm>
        </p:grpSpPr>
        <p:sp>
          <p:nvSpPr>
            <p:cNvPr id="237" name="_s2052"/>
            <p:cNvSpPr/>
            <p:nvPr/>
          </p:nvSpPr>
          <p:spPr>
            <a:xfrm flipH="1" flipV="1">
              <a:off x="3366720" y="3420720"/>
              <a:ext cx="604440" cy="3949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8" name="_s2053"/>
            <p:cNvSpPr/>
            <p:nvPr/>
          </p:nvSpPr>
          <p:spPr>
            <a:xfrm>
              <a:off x="1991160" y="2401200"/>
              <a:ext cx="1541520" cy="125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6699"/>
              </a:solidFill>
              <a:miter/>
            </a:ln>
            <a:effectLst>
              <a:outerShdw dist="141999" dir="1590005" blurRad="0" rotWithShape="0">
                <a:srgbClr val="ebf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Контроль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9" name="_s2054"/>
            <p:cNvSpPr/>
            <p:nvPr/>
          </p:nvSpPr>
          <p:spPr>
            <a:xfrm flipH="1">
              <a:off x="3067560" y="4345920"/>
              <a:ext cx="754920" cy="1396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0" name="_s2055"/>
            <p:cNvSpPr/>
            <p:nvPr/>
          </p:nvSpPr>
          <p:spPr>
            <a:xfrm>
              <a:off x="1545840" y="3998160"/>
              <a:ext cx="1541520" cy="125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6699"/>
              </a:solidFill>
              <a:miter/>
            </a:ln>
            <a:effectLst>
              <a:outerShdw dist="141999" dir="1590005" blurRad="0" rotWithShape="0">
                <a:srgbClr val="ebf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Оценка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выполнения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планов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1" name="_s2056"/>
            <p:cNvSpPr/>
            <p:nvPr/>
          </p:nvSpPr>
          <p:spPr>
            <a:xfrm flipH="1">
              <a:off x="3902400" y="4771800"/>
              <a:ext cx="335880" cy="568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2" name="_s2057"/>
            <p:cNvSpPr/>
            <p:nvPr/>
          </p:nvSpPr>
          <p:spPr>
            <a:xfrm>
              <a:off x="2797560" y="5278320"/>
              <a:ext cx="1541520" cy="125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6699"/>
              </a:solidFill>
              <a:miter/>
            </a:ln>
            <a:effectLst>
              <a:outerShdw dist="141999" dir="1590005" blurRad="0" rotWithShape="0">
                <a:srgbClr val="ebf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Прогнозирование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3" name="_s2058"/>
            <p:cNvSpPr/>
            <p:nvPr/>
          </p:nvSpPr>
          <p:spPr>
            <a:xfrm>
              <a:off x="4905360" y="4771800"/>
              <a:ext cx="335880" cy="568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4" name="_s2059"/>
            <p:cNvSpPr/>
            <p:nvPr/>
          </p:nvSpPr>
          <p:spPr>
            <a:xfrm>
              <a:off x="4804560" y="5278320"/>
              <a:ext cx="1541520" cy="125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6699"/>
              </a:solidFill>
              <a:miter/>
            </a:ln>
            <a:effectLst>
              <a:outerShdw dist="141999" dir="1590005" blurRad="0" rotWithShape="0">
                <a:srgbClr val="ebf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Планирование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5" name="_s2060"/>
            <p:cNvSpPr/>
            <p:nvPr/>
          </p:nvSpPr>
          <p:spPr>
            <a:xfrm>
              <a:off x="5320800" y="4345920"/>
              <a:ext cx="754920" cy="1396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6" name="_s2061"/>
            <p:cNvSpPr/>
            <p:nvPr/>
          </p:nvSpPr>
          <p:spPr>
            <a:xfrm>
              <a:off x="6056640" y="3997080"/>
              <a:ext cx="1541520" cy="125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6699"/>
              </a:solidFill>
              <a:miter/>
            </a:ln>
            <a:effectLst>
              <a:outerShdw dist="141999" dir="1590005" blurRad="0" rotWithShape="0">
                <a:srgbClr val="ebf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Регулирование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7" name="_s2062"/>
            <p:cNvSpPr/>
            <p:nvPr/>
          </p:nvSpPr>
          <p:spPr>
            <a:xfrm flipV="1">
              <a:off x="5172120" y="3421080"/>
              <a:ext cx="604440" cy="3938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8" name="_s2063"/>
            <p:cNvSpPr/>
            <p:nvPr/>
          </p:nvSpPr>
          <p:spPr>
            <a:xfrm>
              <a:off x="5609160" y="2399760"/>
              <a:ext cx="1541520" cy="125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6699"/>
              </a:solidFill>
              <a:miter/>
            </a:ln>
            <a:effectLst>
              <a:outerShdw dist="141999" dir="1590005" blurRad="0" rotWithShape="0">
                <a:srgbClr val="ebf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Информация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9" name="_s2064"/>
            <p:cNvSpPr/>
            <p:nvPr/>
          </p:nvSpPr>
          <p:spPr>
            <a:xfrm flipV="1">
              <a:off x="4571280" y="2947680"/>
              <a:ext cx="0" cy="6303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0" name="_s2065"/>
            <p:cNvSpPr/>
            <p:nvPr/>
          </p:nvSpPr>
          <p:spPr>
            <a:xfrm>
              <a:off x="3800160" y="1689840"/>
              <a:ext cx="1541520" cy="125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6699"/>
              </a:solidFill>
              <a:miter/>
            </a:ln>
            <a:effectLst>
              <a:outerShdw dist="141999" dir="1590005" blurRad="0" rotWithShape="0">
                <a:srgbClr val="ebf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Координация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1" name="_s2066"/>
            <p:cNvSpPr/>
            <p:nvPr/>
          </p:nvSpPr>
          <p:spPr>
            <a:xfrm>
              <a:off x="3800160" y="3578400"/>
              <a:ext cx="1541520" cy="125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6699"/>
              </a:solidFill>
              <a:miter/>
            </a:ln>
            <a:effectLst>
              <a:outerShdw dist="141999" dir="1590005" blurRad="0" rotWithShape="0">
                <a:srgbClr val="f2dff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4519"/>
                  </a:solidFill>
                  <a:latin typeface="Arial Unicode MS"/>
                  <a:ea typeface="Arial"/>
                </a:rPr>
                <a:t>Функции</a:t>
              </a:r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"/>
          <p:cNvGrpSpPr/>
          <p:nvPr/>
        </p:nvGrpSpPr>
        <p:grpSpPr>
          <a:xfrm>
            <a:off x="250920" y="476280"/>
            <a:ext cx="8642160" cy="6121080"/>
            <a:chOff x="250920" y="476280"/>
            <a:chExt cx="8642160" cy="6121080"/>
          </a:xfrm>
        </p:grpSpPr>
        <p:sp>
          <p:nvSpPr>
            <p:cNvPr id="253" name="AutoShape 5"/>
            <p:cNvSpPr/>
            <p:nvPr/>
          </p:nvSpPr>
          <p:spPr>
            <a:xfrm>
              <a:off x="250920" y="476280"/>
              <a:ext cx="8642160" cy="61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1247760" y="986400"/>
              <a:ext cx="7147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сновные функции системы управленческого учета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749880" y="2516400"/>
              <a:ext cx="1493640" cy="357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Регистрирует затраты и предоставляет аналитические отчеты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2743920" y="2516400"/>
              <a:ext cx="1661040" cy="357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ценивает величину затрат по носителям (продуктам, работам и услугам) и местам возникновения (центрам ответственности)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070960" y="2516400"/>
              <a:ext cx="1661400" cy="357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правляет себестоимостью для принятия решений по цене, ассортименту и технологии производства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7231680" y="2516400"/>
              <a:ext cx="1495080" cy="357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Анализирует затраты и результаты для принятия решений в краткосрочном и долгосрочном периодах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1747080" y="1751760"/>
              <a:ext cx="282456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 flipH="1">
              <a:off x="3907800" y="1751760"/>
              <a:ext cx="66384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1" name="Line 13"/>
            <p:cNvSpPr/>
            <p:nvPr/>
          </p:nvSpPr>
          <p:spPr>
            <a:xfrm>
              <a:off x="4572000" y="1751760"/>
              <a:ext cx="116352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2" name="Line 14"/>
            <p:cNvSpPr/>
            <p:nvPr/>
          </p:nvSpPr>
          <p:spPr>
            <a:xfrm>
              <a:off x="4572000" y="1751760"/>
              <a:ext cx="349020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02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Функции специалиста по управленческому учету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ординация целей и планов подразделений и предприятия в целом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действие руководству в достижении поставленных цел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рганизация работы по созданию и ведению системы управленческого учет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сперебойное осуществление процессов планирования 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троля экономических результатов деятельности предприяти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еспечение прозрачности в отношении затрат и результатов по предприятию в целом, а также по отдельным подразделениям и продуктам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-53892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здание методической и инструментальной базы по управлению рентабельностью и ликвидностью предприяти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зработка материалов для принятия управленческих решений и представление их руководству предприяти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нсультирование   руководителей   по   вопросам   выбор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иболее эффективных вариантов действий, помощь в управлении затратами и результата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-53928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404280"/>
            <a:ext cx="8229600" cy="546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рури К. Управленческий уч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иколаева С.А. Управленческий учет: Учеб. пособие. – М.: ИПБ России ИПБ – БИНФА, 2006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лог по дисциплине «Управленческий учет»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ttps://nsportal.ru/babaeva-zoya-shapiulahovn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4519"/>
                </a:solidFill>
                <a:latin typeface="Arial Unicode MS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предметом управленческого учета можно считать производственно-хозяйственную и коммерческую деятельность организации в целом и его отдельных объект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2. принципами управленческого учета являются ответственность, адресность, достоверность, оперативность, экономность и конфиденциальность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WordArt 4"/>
          <p:cNvSpPr txBox="1"/>
          <p:nvPr/>
        </p:nvSpPr>
        <p:spPr>
          <a:xfrm>
            <a:off x="250920" y="115920"/>
            <a:ext cx="8642160" cy="11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Заключение</a:t>
            </a:r>
            <a:endParaRPr b="1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. Основными задачами управленческого учета являются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ормирование достоверной и полной информации о внутрихозяйственных процессах и результатах деятельности и предоставление этой информации руководству предприятия путем составления внутренней управленческой отчетности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планирование и контроль экономической эффективности деятельности предприятия и его центров ответственности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числение фактической себестоимости продукции (работ, услуг) и определение отклонений от установленных норм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андартов,  смет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анализ отклонений от запланированных результатов 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явление причин отклонений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обеспечение контроля за наличием и движением имуще­ства, материальных, денежных и трудовых ресурсов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формирование информационной базы для принятия решений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выявление резервов повышения эффективности деятельности  предприятия.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7138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4519"/>
                </a:solidFill>
                <a:latin typeface="Arial Unicode MS"/>
              </a:rPr>
              <a:t>4. функциями</a:t>
            </a:r>
            <a:r>
              <a:rPr b="1" lang="ru-RU" sz="2800" spc="-1" strike="noStrike">
                <a:solidFill>
                  <a:srgbClr val="006699"/>
                </a:solidFill>
                <a:latin typeface="Arial Unicode MS"/>
              </a:rPr>
              <a:t> управленческого учета являются прогнозирование, планирование, контроль, оценка выполнения, регулировани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4519"/>
                </a:solidFill>
                <a:latin typeface="Arial Unicode MS"/>
              </a:rPr>
              <a:t>5. к объектам</a:t>
            </a:r>
            <a:r>
              <a:rPr b="1" lang="ru-RU" sz="2800" spc="-1" strike="noStrike">
                <a:solidFill>
                  <a:srgbClr val="006699"/>
                </a:solidFill>
                <a:latin typeface="Arial Unicode MS"/>
              </a:rPr>
              <a:t> управленческого учета можно отнести ресурсы предприятия и результаты его деятельност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4519"/>
                </a:solidFill>
                <a:latin typeface="Arial Unicode MS"/>
              </a:rPr>
              <a:t>6. видами</a:t>
            </a:r>
            <a:r>
              <a:rPr b="1" lang="ru-RU" sz="2800" spc="-1" strike="noStrike">
                <a:solidFill>
                  <a:srgbClr val="006699"/>
                </a:solidFill>
                <a:latin typeface="Arial Unicode MS"/>
              </a:rPr>
              <a:t> управленческого учета являются оперативный учет, статистический учет, бухгалтерский учет, финансовый учет, налоговый учет, управленческий уч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328680" y="1341360"/>
            <a:ext cx="863604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еоретические основы управленческого учета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690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Предпосылки появления управленческого учет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Понятие и предмет  управленческого учет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Требования, предъявляемые к управленческому учету и информации предоставляемой и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Сравнительная характеристика финансового и управленческого учет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Функции бухгалтера-аналитика, осуществляющего управленческий уче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539640" y="189000"/>
            <a:ext cx="8064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План</a:t>
            </a:r>
            <a:endParaRPr b="0" i="1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"/>
          <p:cNvSpPr txBox="1"/>
          <p:nvPr/>
        </p:nvSpPr>
        <p:spPr>
          <a:xfrm>
            <a:off x="179280" y="0"/>
            <a:ext cx="878544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Предпосылки появления управленческого учета</a:t>
            </a:r>
            <a:endParaRPr b="1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77" name="AutoShape 5"/>
          <p:cNvSpPr/>
          <p:nvPr/>
        </p:nvSpPr>
        <p:spPr>
          <a:xfrm rot="10800000">
            <a:off x="0" y="1267560"/>
            <a:ext cx="9144000" cy="5589720"/>
          </a:xfrm>
          <a:prstGeom prst="wedgeRectCallout">
            <a:avLst>
              <a:gd name="adj1" fmla="val -24689"/>
              <a:gd name="adj2" fmla="val 55023"/>
            </a:avLst>
          </a:prstGeom>
          <a:solidFill>
            <a:srgbClr val="ffff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Возник этот вид учета , при переходе отдельных разрозненных хозяйств во второй половине XVIII в. от индивидуальной формы развития предпринимательской деятельности к многочисленным промышленным, сельскохозяйственным, строительным, торговым фирмам с поточным производством, конвейерной сборкой., При росте конкуренции среди них возникла острая необходимость оперативного контроля затрат и регулирования себестоимости, появилась необходимость проводить анализ полученной информаци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На потребности крупного современного индустриального производства возник управленческий учет, начало которого связано со всемирно известной системой Ф. Тейлора, учетом затрат по методу «стандарт-кост», бюджетированием, системой гибких смет, методом «директ-костинг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Управленческий учет был создан инженерами и технологами, но получил современную форму благодаря трудам замечательного американского ученого-бухгалтера Роберта Энтони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324000" y="115920"/>
            <a:ext cx="8496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Понятие и предмет  управленческого учета</a:t>
            </a:r>
            <a:endParaRPr b="1" i="1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 узком смысле под управленческим учетом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можно понимать учет и контроль затрат и доходов, связанных с деятельностью предприятия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 широком смысл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(в соответствии с термином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ment accounting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управленческий учет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-это система, которая в рамках одной организации обеспечивает управленческий персонал информацией, используемой для планирования, управления и контроля за деятельностью организации.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редметом управленческого учет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можно считать производственно-хозяйственную и коммерческую деятельность организации в целом и его отдельных объектов. 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191628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атраты (издержки производства и обращения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оходы предприятия и его отдельных структурных подразделен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правленческое планирова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утреннее ценообразова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истема внутренней отчет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395280" y="189000"/>
            <a:ext cx="8497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Объекты управленческого учета</a:t>
            </a:r>
            <a:endParaRPr b="1" i="1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0" y="6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характеристики системы управленческого учет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907920"/>
          <a:ext cx="9144000" cy="5861160"/>
        </p:xfrm>
        <a:graphic>
          <a:graphicData uri="http://schemas.openxmlformats.org/drawingml/2006/table">
            <a:tbl>
              <a:tblPr/>
              <a:tblGrid>
                <a:gridCol w="1547640"/>
                <a:gridCol w="7596360"/>
              </a:tblGrid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Цель учет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соответствующей информацией менеджеров, ответственных за достижение конкретных производственных показателей, для принятия управленческих решений на основе анализа происшедших явлений.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льзовател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енние. Информация носит конфиденциальный характер и используется только управленческим персоналом предприятия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Обязательност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бязателен. Ведение решает руководство организации. Нет необходимости нести расходы по сбору и обработке информации, ценность которой для управления ниже затрат на ее получение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равила ведени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ы и правила устанавливаются каждым предприятием, исходя из собственных интересов. Основной аргумент в обоснованности правил управленческого учета – есть ли польза от этого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17:43:46Z</dcterms:created>
  <dc:creator>новая</dc:creator>
  <dc:description/>
  <dc:language>en-US</dc:language>
  <cp:lastModifiedBy>Зоя</cp:lastModifiedBy>
  <dcterms:modified xsi:type="dcterms:W3CDTF">2022-02-11T06:51:15Z</dcterms:modified>
  <cp:revision>34</cp:revision>
  <dc:subject/>
  <dc:title>Слайд 1</dc:title>
</cp:coreProperties>
</file>