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422-8EFF-40D0-88A6-677CE530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A49-8D73-4BA3-BEDD-F47464AD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5BF-81F6-4F13-891C-9679CA3E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B31-B0EF-4A27-9891-0F84F006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C5C-B9E5-4B62-8FEA-75EB759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E60-51D5-4900-A9D0-445EF2A1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CA5-1167-499B-A3F1-6946B94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FBA-CA40-4379-86C6-72B1AB1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54B-DAF9-45E2-9281-C031C76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F88-6765-42D6-BBC0-8D5FC15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3B3-5899-44D9-A5EF-7C02625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443-3232-421A-BC34-6D087BA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10CD-F76C-4BB7-83C9-2B1947086C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хнология коррекции поведения в работе педагога-психолога, </a:t>
            </a:r>
            <a:br>
              <a:rPr sz="4000"/>
            </a:br>
            <a:r>
              <a:rPr b="1" i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к один из приемов формирования здоровой личности шк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843280" y="5013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ОУ «Средняя общеобразовательная школа №3 г.Козьмодемьянска им.С.Н.Сивкова»</a:t>
            </a:r>
            <a:br>
              <a:rPr sz="1800"/>
            </a:b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-психолог В.В.Лехм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55640" y="333000"/>
            <a:ext cx="7920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Calibri"/>
              </a:rPr>
              <a:t>Среди разнообразных форм профилактики и коррекции отклоняющегося поведения мною используются следую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евые и делов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куссии, 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вания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материалов (короткометражные тематические мультфильмы, филь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активного слуш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чная арт-терап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ические истории и прит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3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2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71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92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ая работа не может быть эффективна, если над этим не работают все участники воспитательного процесса. Это сам ученик, родители, учитель, воспитатель, педагог-психолог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36280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"/>
          <p:cNvSpPr/>
          <p:nvPr/>
        </p:nvSpPr>
        <p:spPr>
          <a:xfrm>
            <a:off x="3413160" y="3467160"/>
            <a:ext cx="1655640" cy="1008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3479760" y="5162400"/>
            <a:ext cx="1655640" cy="115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324000" y="4475160"/>
            <a:ext cx="2376360" cy="122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5616720" y="4487760"/>
            <a:ext cx="2736720" cy="1224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6" name="Прямая со стрелкой 8"/>
          <p:cNvCxnSpPr>
            <a:endCxn id="64" idx="0"/>
          </p:cNvCxnSpPr>
          <p:nvPr/>
        </p:nvCxnSpPr>
        <p:spPr>
          <a:xfrm flipH="1">
            <a:off x="1512000" y="4043160"/>
            <a:ext cx="1909080" cy="43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>
            <a:off x="4284360" y="4475160"/>
            <a:ext cx="1080" cy="597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Прямая со стрелкой 19"/>
          <p:cNvCxnSpPr/>
          <p:nvPr/>
        </p:nvCxnSpPr>
        <p:spPr>
          <a:xfrm>
            <a:off x="5062680" y="3971880"/>
            <a:ext cx="1916640" cy="5040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нимания уделяется родителям детей, имеющим признаки девиантного поведения. С ними проводятся регулярные консультации, беседы на темы детско-родительских отношений, такие как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сихофизическая готовность ребёнка к школьному обучению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Эмоциональный компонент отношения матери к ребенку», «Школьная тревожность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Особенности воспитания ребенка мамой и папой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собенности адаптации ребенка к условиям обучения в школ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ся рекомендации по коррекции поведения не только ребенка, но и его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работа с родителями помогает  эффективно справится с нарушениями в поведении их ребенка в достаточно короткие сро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12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92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476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260280"/>
            <a:ext cx="8642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классному руковод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сти тетрадь-карточку на трудновоспитуемого подростка. Вести дневник психолого-педагогических наблю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 с учителями-предметниками постоянно держать на контроле вопрос успеваемост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дневно встречаться с подрос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еобходимости приглашать на Совет по профилактике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дчеркивать проступки, воспитывать на положительных приме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кать в трудовую деятельность, серьезные дела, исполнение общественных пору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пользовать нравоучений. В перевоспитании решающим является личный пример учителя, внимание к ребенку,  умение радоваться успехам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 с родителями преодолевать трудности в воспитан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6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96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432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784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124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4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Маска счастья Психологический короткий мультик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Упражнение «Линия жизн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ы стратегии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«Разрешающее поведение»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поведении ученика, направленном на привлечение внимания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йте «разрешенную квоту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ем рекомендует доктор Рудольф Дрейкурс в книге «Психология в классе». Прием состоит в том, что какое-то нарушение поведения разрешается, уж если оно появилось, но только в том объеме, который оговорен заранее и с условием, что ежедневно объем этот будет уменьш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«разрешенной квоты» работает только в отношении поведения, направленного на привлечени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907560"/>
            <a:ext cx="858816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ые навыки помогают обучающимся легче справится со своим состоянием, проще контролировать свое поведение. Несмотря на то, что регуляция поведения носит продолжительный характер, ребята сами отмечают, что им легче справится с волнующей их ситуаци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1125000"/>
            <a:ext cx="858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дьте здоров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76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84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549000"/>
            <a:ext cx="8147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оведение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– это его образ жизни и действий, то, как он себя ведет по отношению к другим людям, идеям, внешнему и внутреннему миру, к себе. Это поведение, которое основывается на обществ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любое поведение, которое не разрушает общественных отношений, образующих данную сферу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ое поведение ученика предполагает его адекватное, отвечающее потребностям и возможностям отношение к образовательному процессу и 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User\Desktop\фото к презентации.jpg"/>
          <p:cNvPicPr/>
          <p:nvPr/>
        </p:nvPicPr>
        <p:blipFill>
          <a:blip r:embed="rId1"/>
          <a:stretch/>
        </p:blipFill>
        <p:spPr>
          <a:xfrm>
            <a:off x="3924360" y="4869000"/>
            <a:ext cx="2627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28960" y="260280"/>
            <a:ext cx="67197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едени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отклонениям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ведение, противоречащее общепринятым нормам, то есть асоциальное поведение. Такое поведение учащихся в настоящее время встречается довольно часто и практически наблюдается в каждой школе. Среди подрастающего поколения усилилось демонстративное и вызывающее поведение по отношению к взрослым, чаще и в крайних формах стали проявляться жестокость и агресс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04960" cy="149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376200" y="3357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3"/>
          <a:stretch/>
        </p:blipFill>
        <p:spPr>
          <a:xfrm>
            <a:off x="5243400" y="388944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1592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оведение с откло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соци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оведение, отклоняющееся преимущественно от 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 социума,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щее сложности и неудобства окружающи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евиант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едение, не соответствующее общепринятым нормам: культурным, профессиональным, ситуационным, возрастным и др. Факт отклонения в поведении зависит от культурных, территориальных и иных особенностей среды и ситуации, в которых поведение воспроизводится, а также от личностных, возрастных, ролевых, социальных и других особенностей того человека, который его осуществл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000" y="-360"/>
            <a:ext cx="835164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79280" y="4726080"/>
            <a:ext cx="2871720" cy="141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620040" y="4389480"/>
            <a:ext cx="2415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971640" y="-21744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гресс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форма поведения, нацеленная на причинение физического или морального вреда другому человеку, животно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елинквет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едение, в крайних своих проявлениях представляющее уголовно наказуемое деяние (разновидностью преступного (криминального) поведения человека). Отличия делинквентного от криминального поведения заключается в тяжести правонарушений, выраженности антиобщественного их характе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ддикт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одна из форм девиантного (отклоняющегося) поведения с формированием стремления к уходу от реальности путем искусственного изменения своего психического состояния посредством приема некоторых веществ или постоянной фиксацией внимания на определенных видах деятельности, что направлено на развитие и поддержание интенсивных эмо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47280" y="47628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устранение неблагоприятных факторов, вызывающих определенное явление, а также на повышение устойчивости личности к влиянию эти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апример, совместно с социальными педагогами проводится пропаганда здорового образа жизн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2920" y="620280"/>
            <a:ext cx="7274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раннее выявление нарушений, работу с обучающимися, имеющими выраженную склонность к формированию отклоняющегося поведения и их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ешаются проблемы семейного воспитания, в частности, насилия в семье, защиты прав детей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177300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предупреждение рецидивов у лиц с уже сформированным отклоняющимся повед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1640" y="2276280"/>
            <a:ext cx="828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333360"/>
            <a:ext cx="7902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Коррекция поведения организована в следующей последователь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формулируется социальная и педагогическая проблем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гаются предположения о возможных причинах аморального пове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й период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ужных методов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ередовых методик коррекционной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 психокоррекционной деятельности со школьни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ся практ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нтроля за результатами внедренной програм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42:28Z</dcterms:created>
  <dc:creator>Подобедова</dc:creator>
  <dc:description/>
  <dc:language>en-US</dc:language>
  <cp:lastModifiedBy>user</cp:lastModifiedBy>
  <cp:lastPrinted>2017-11-08T06:34:55Z</cp:lastPrinted>
  <dcterms:modified xsi:type="dcterms:W3CDTF">2022-02-04T07:12:41Z</dcterms:modified>
  <cp:revision>55</cp:revision>
  <dc:subject/>
  <dc:title>Девиантное поведение подростков</dc:title>
</cp:coreProperties>
</file>