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4BF-A033-4E23-9B70-B174B85D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25A-F101-4B1F-BDCA-F5AD9FAC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67E-A95B-417A-BD8E-36A550B6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CC7-1C56-4FAC-8A6E-7EC8DB2A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A70-6EF3-4673-88B5-83E849B5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28D-2781-4AAE-A4D3-22EB975A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A80-C37E-47D3-B46E-83D9AF6C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29C-9F23-42CE-9C2E-7E154FCD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63F-88D5-4F73-BF57-4FB63499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EE2-98FA-450B-9B21-96AC7803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863-9C98-49E1-8A96-0841D9AA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A4D-DCAD-487E-A187-DE6B49CE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40D9-4BBB-4768-BA55-3C2C511E0DA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11556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Технология коррекции поведения в работе педагога-психолога, </a:t>
            </a:r>
            <a:br>
              <a:rPr sz="4000"/>
            </a:br>
            <a:r>
              <a:rPr b="1" i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ак один из приемов формирования здоровой личности школь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2843280" y="5013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БОУ «Средняя общеобразовательная школа №3 г.Козьмодемьянска им.С.Н.Сивкова»</a:t>
            </a:r>
            <a:br>
              <a:rPr sz="1800"/>
            </a:b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-психолог В.В.Лехма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55640" y="333000"/>
            <a:ext cx="7920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107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Calibri"/>
              </a:rPr>
              <a:t>Среди разнообразных форм профилактики и коррекции отклоняющегося поведения мною используются следующ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левые и деловые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куссии, бес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грывания ситу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материалов (короткометражные тематические мультфильмы, филь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и активного слуш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чная арт-терап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ические истории и прит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32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2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716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92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рекционная работа не может быть эффективна, если над этим не работают все участники воспитательного процесса. Это сам ученик, родители, учитель, воспитатель, педагог-психолог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060640"/>
            <a:ext cx="836280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"/>
          <p:cNvSpPr/>
          <p:nvPr/>
        </p:nvSpPr>
        <p:spPr>
          <a:xfrm>
            <a:off x="3413160" y="3467160"/>
            <a:ext cx="1655640" cy="1008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Овал 2"/>
          <p:cNvSpPr/>
          <p:nvPr/>
        </p:nvSpPr>
        <p:spPr>
          <a:xfrm>
            <a:off x="3479760" y="5162400"/>
            <a:ext cx="1655640" cy="1152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од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324000" y="4475160"/>
            <a:ext cx="2376360" cy="1220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Овал 6"/>
          <p:cNvSpPr/>
          <p:nvPr/>
        </p:nvSpPr>
        <p:spPr>
          <a:xfrm>
            <a:off x="5616720" y="4487760"/>
            <a:ext cx="2736720" cy="1224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6" name="Прямая со стрелкой 8"/>
          <p:cNvCxnSpPr>
            <a:endCxn id="64" idx="0"/>
          </p:cNvCxnSpPr>
          <p:nvPr/>
        </p:nvCxnSpPr>
        <p:spPr>
          <a:xfrm flipH="1">
            <a:off x="1512000" y="4043160"/>
            <a:ext cx="1909080" cy="4323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Прямая со стрелкой 10"/>
          <p:cNvCxnSpPr/>
          <p:nvPr/>
        </p:nvCxnSpPr>
        <p:spPr>
          <a:xfrm>
            <a:off x="4284360" y="4475160"/>
            <a:ext cx="1080" cy="597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8" name="Прямая со стрелкой 19"/>
          <p:cNvCxnSpPr/>
          <p:nvPr/>
        </p:nvCxnSpPr>
        <p:spPr>
          <a:xfrm>
            <a:off x="5062680" y="3971880"/>
            <a:ext cx="1916640" cy="5040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headEnd len="med" type="arrow" w="med"/>
            <a:tailEnd len="med" type="arrow" w="med"/>
          </a:ln>
        </p:spPr>
      </p:cxnSp>
    </p:spTree>
  </p:cSld>
  <p:transition spd="slow"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внимания уделяется родителям детей, имеющим признаки девиантного поведения. С ними проводятся регулярные консультации, беседы на темы детско-родительских отношений, такие как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Психофизическая готовность ребёнка к школьному обучению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Эмоциональный компонент отношения матери к ребенку», «Школьная тревожность»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Особенности воспитания ребенка мамой и папой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Особенности адаптации ребенка к условиям обучения в школ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ся рекомендации по коррекции поведения не только ребенка, но и его родит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работа с родителями помогает  эффективно справится с нарушениями в поведении их ребенка в достаточно короткие сро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12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92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476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920" y="260280"/>
            <a:ext cx="8642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ации классному руковод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сти тетрадь-карточку на трудновоспитуемого подростка. Вести дневник психолого-педагогических наблю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о с учителями-предметниками постоянно держать на контроле вопрос успеваемости подрос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жедневно встречаться с подрост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необходимости приглашать на Совет по профилактике 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одчеркивать проступки, воспитывать на положительных приме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лекать в трудовую деятельность, серьезные дела, исполнение общественных пору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использовать нравоучений. В перевоспитании решающим является личный пример учителя, внимание к ребенку,  умение радоваться успехам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но с родителями преодолевать трудности в воспитан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36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96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432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784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124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536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14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Маска счастья Психологический короткий мультик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2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Упражнение «Линия жизн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ы стратегии 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«Разрешающее поведение»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поведении ученика, направленном на привлечение внимания.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йте «разрешенную квоту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ием рекомендует доктор Рудольф Дрейкурс в книге «Психология в классе». Прием состоит в том, что какое-то нарушение поведения разрешается, уж если оно появилось, но только в том объеме, который оговорен заранее и с условием, что ежедневно объем этот будет уменьш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«разрешенной квоты» работает только в отношении поведения, направленного на привлечение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04920" y="907560"/>
            <a:ext cx="858816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ные навыки помогают обучающимся легче справится со своим состоянием, проще контролировать свое поведение. Несмотря на то, что регуляция поведения носит продолжительный характер, ребята сами отмечают, что им легче справится с волнующей их ситуаци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4000" y="1125000"/>
            <a:ext cx="858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удьте здоров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76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84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549000"/>
            <a:ext cx="8147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оведение челове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– это его образ жизни и действий, то, как он себя ведет по отношению к другим людям, идеям, внешнему и внутреннему миру, к себе. Это поведение, которое основывается на обществ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Норм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любое поведение, которое не разрушает общественных отношений, образующих данную сферу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ьное поведение ученика предполагает его адекватное, отвечающее потребностям и возможностям отношение к образовательному процессу и общ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User\Desktop\фото к презентации.jpg"/>
          <p:cNvPicPr/>
          <p:nvPr/>
        </p:nvPicPr>
        <p:blipFill>
          <a:blip r:embed="rId1"/>
          <a:stretch/>
        </p:blipFill>
        <p:spPr>
          <a:xfrm>
            <a:off x="3924360" y="4869000"/>
            <a:ext cx="2627280" cy="1614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28960" y="260280"/>
            <a:ext cx="67197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ведени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отклонениям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оведение, противоречащее общепринятым нормам, то есть асоциальное поведение. Такое поведение учащихся в настоящее время встречается довольно часто и практически наблюдается в каждой школе. Среди подрастающего поколения усилилось демонстративное и вызывающее поведение по отношению к взрослым, чаще и в крайних формах стали проявляться жестокость и агресс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704960" cy="1492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376200" y="33577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3"/>
          <a:stretch/>
        </p:blipFill>
        <p:spPr>
          <a:xfrm>
            <a:off x="5243400" y="3889440"/>
            <a:ext cx="3505320" cy="262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9280" y="11592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оведение с откло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социаль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оведение, отклоняющееся преимущественно от 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 социума,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щее сложности и неудобства окружающи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евиант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ведение, не соответствующее общепринятым нормам: культурным, профессиональным, ситуационным, возрастным и др. Факт отклонения в поведении зависит от культурных, территориальных и иных особенностей среды и ситуации, в которых поведение воспроизводится, а также от личностных, возрастных, ролевых, социальных и других особенностей того человека, который его осуществл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000" y="-360"/>
            <a:ext cx="835164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79280" y="4726080"/>
            <a:ext cx="2871720" cy="141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6620040" y="4389480"/>
            <a:ext cx="2415960" cy="1752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971640" y="-21744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грессив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форма поведения, нацеленная на причинение физического или морального вреда другому человеку, животном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елинквет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ведение, в крайних своих проявлениях представляющее уголовно наказуемое деяние (разновидностью преступного (криминального) поведения человека). Отличия делинквентного от криминального поведения заключается в тяжести правонарушений, выраженности антиобщественного их характер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ддиктив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одна из форм девиантного (отклоняющегося) поведения с формированием стремления к уходу от реальности путем искусственного изменения своего психического состояния посредством приема некоторых веществ или постоянной фиксацией внимания на определенных видах деятельности, что направлено на развитие и поддержание интенсивных эмоц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47280" y="476280"/>
            <a:ext cx="741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ичная профилактик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а на устранение неблагоприятных факторов, вызывающих определенное явление, а также на повышение устойчивости личности к влиянию этих фа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Например, совместно с социальными педагогами проводится пропаганда здорового образа жизн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2920" y="620280"/>
            <a:ext cx="7274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ичная профилактик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а на раннее выявление нарушений, работу с обучающимися, имеющими выраженную склонность к формированию отклоняющегося поведения и их родите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Решаются проблемы семейного воспитания, в частности, насилия в семье, защиты прав детей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4920" y="177300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тичная профилактик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а на предупреждение рецидивов у лиц с уже сформированным отклоняющимся повед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331640" y="2276280"/>
            <a:ext cx="8280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042920" y="333360"/>
            <a:ext cx="7902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Коррекция поведения организована в следующей последовательност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формулируется социальная и педагогическая проблема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гаются предположения о возможных причинах аморального повед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й период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ужных методов коррекционной раб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ередовых методик коррекционной работ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 психокоррекционной деятельности со школьни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ся практическая деятельность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контроля за результатами внедренной программ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42:28Z</dcterms:created>
  <dc:creator>Подобедова</dc:creator>
  <dc:description/>
  <dc:language>en-US</dc:language>
  <cp:lastModifiedBy>user</cp:lastModifiedBy>
  <cp:lastPrinted>2017-11-08T06:34:55Z</cp:lastPrinted>
  <dcterms:modified xsi:type="dcterms:W3CDTF">2022-02-04T07:12:41Z</dcterms:modified>
  <cp:revision>55</cp:revision>
  <dc:subject/>
  <dc:title>Девиантное поведение подростков</dc:title>
</cp:coreProperties>
</file>