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985-08EE-49B6-824B-99C9B4DA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195-BBEC-44F9-BF08-B47B5309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89A-6C53-436A-ADA1-B6DA882A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205-1E04-4C74-9054-20C10F0C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65C-80DE-448E-9C77-2ECC6BD7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8C5-48B6-476C-B763-61D71E0B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46D-4D8D-4551-85EA-0C747406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AE2-C5C0-4477-B6C5-546CAF09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149-CA74-4589-90BA-9D39688B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196-E93A-4F1B-87F5-8B4F5A70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7A1-0A92-4258-8A95-93942947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019-74BF-43F2-807F-2808C026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4707-58A4-44CA-AF1E-7FFA21AD9D3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979640" y="5589720"/>
            <a:ext cx="403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оспитатель подготовительной группы: 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копян Нарине Эдик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БОУ « ЦО 32» г.Т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276720" y="2060640"/>
            <a:ext cx="575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УЛЬСК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В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AYTN85PCA1BIVTICA32DUQMCAM25026CAEPLZ1MCA2IAFL3CAU5T15SCANY6F17CA4YS4GCCAVUIJJ3CA8H3Z1OCAR3GHQ7CAVKC3SGCABEMAHZCA0DSUMECATTQKPKCAV1G7N8CAG5ADR5CAJ0P7QRCAUP6GWM"/>
          <p:cNvPicPr/>
          <p:nvPr/>
        </p:nvPicPr>
        <p:blipFill>
          <a:blip r:embed="rId3"/>
          <a:stretch/>
        </p:blipFill>
        <p:spPr>
          <a:xfrm>
            <a:off x="2046240" y="1558800"/>
            <a:ext cx="4686480" cy="40309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5977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Самовары – символ Ту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sc0420al8"/>
          <p:cNvPicPr/>
          <p:nvPr/>
        </p:nvPicPr>
        <p:blipFill>
          <a:blip r:embed="rId3"/>
          <a:stretch/>
        </p:blipFill>
        <p:spPr>
          <a:xfrm>
            <a:off x="971640" y="1413000"/>
            <a:ext cx="6481800" cy="4308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5977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Тульский самов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самовар"/>
          <p:cNvPicPr/>
          <p:nvPr/>
        </p:nvPicPr>
        <p:blipFill>
          <a:blip r:embed="rId2"/>
          <a:stretch/>
        </p:blipFill>
        <p:spPr>
          <a:xfrm>
            <a:off x="806400" y="1293840"/>
            <a:ext cx="340380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427640" y="129384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10-1820 годах в Туле возникли первые самоварные фабр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ните сказку К.И. Чуковского «Федорино горе»? Чем самовар угощал Федор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5" descr="чай2.jpg"/>
          <p:cNvPicPr/>
          <p:nvPr/>
        </p:nvPicPr>
        <p:blipFill>
          <a:blip r:embed="rId3"/>
          <a:stretch/>
        </p:blipFill>
        <p:spPr>
          <a:xfrm>
            <a:off x="4260960" y="3860640"/>
            <a:ext cx="3531960" cy="2856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5977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Металл для самова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55280" y="1700280"/>
            <a:ext cx="70563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амовары делали из красной и зелёной меди, мельхиора, томп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огда самовары золотили, серебр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основной металл для самоваров - лату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sergej-lukyjanov[1]"/>
          <p:cNvPicPr/>
          <p:nvPr/>
        </p:nvPicPr>
        <p:blipFill>
          <a:blip r:embed="rId3"/>
          <a:stretch/>
        </p:blipFill>
        <p:spPr>
          <a:xfrm>
            <a:off x="1628640" y="3139920"/>
            <a:ext cx="2222640" cy="295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amovr-russkoe-pole[1]"/>
          <p:cNvPicPr/>
          <p:nvPr/>
        </p:nvPicPr>
        <p:blipFill>
          <a:blip r:embed="rId4"/>
          <a:stretch/>
        </p:blipFill>
        <p:spPr>
          <a:xfrm>
            <a:off x="4584600" y="3116160"/>
            <a:ext cx="2212920" cy="2927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Значение слова «самова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1052640"/>
            <a:ext cx="691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ово «самовар» перешло от нас почти во все языки ми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схождение этого слова теперь не всем понятно, поскольку сочетание «сам варит» в соединении со словом «вода» кажется неправиль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 всего лишь 100 лет назад слово «варить» употреблялось не только в отношении еды (варить суп, рыбу), но и применительно к воде, наравне со словом «кипятит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ее того, в самоварах не только кипятили воду, но и варили пищ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samovars[1]"/>
          <p:cNvPicPr/>
          <p:nvPr/>
        </p:nvPicPr>
        <p:blipFill>
          <a:blip r:embed="rId3"/>
          <a:stretch/>
        </p:blipFill>
        <p:spPr>
          <a:xfrm>
            <a:off x="1979640" y="4292640"/>
            <a:ext cx="4762440" cy="2409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Как устроен самов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1052640"/>
            <a:ext cx="691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утри расположена жаровня в виде трубы – «кувшин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изу под «кувшином» для усиления тяги делается поддув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ерху закрывается крыш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улово самовара опирается на поддон или н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крышке располагается камфорка для установки заварного чай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слива воды служит к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AM8WN59CABG3X2KCAMA68IHCA42602UCAMGYAPXCAQPUJ4SCA77LBKBCA1SG4MJCAFRX5A2CAOR8VANCAOO7UEHCAY7BPTXCABC9B5TCAFWC8K8CA247NFNCA7BMBCNCAPPXWGDCAMZ03LHCADWMADJCA2FLAM7"/>
          <p:cNvPicPr/>
          <p:nvPr/>
        </p:nvPicPr>
        <p:blipFill>
          <a:blip r:embed="rId3"/>
          <a:stretch/>
        </p:blipFill>
        <p:spPr>
          <a:xfrm>
            <a:off x="4788000" y="3168720"/>
            <a:ext cx="2127240" cy="33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290308515[1]"/>
          <p:cNvPicPr/>
          <p:nvPr/>
        </p:nvPicPr>
        <p:blipFill>
          <a:blip r:embed="rId4"/>
          <a:stretch/>
        </p:blipFill>
        <p:spPr>
          <a:xfrm>
            <a:off x="2279520" y="3645000"/>
            <a:ext cx="2057400" cy="28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Топливо для самов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84360" y="1052640"/>
            <a:ext cx="691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пили самовар древесным углем, сухими чурками и щепками, сосновыми шиш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19 века появляется керосиновый самов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956 году в Туле выпустили первый электрический самов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samovar-vazoj-s-delyfinami[1]"/>
          <p:cNvPicPr/>
          <p:nvPr/>
        </p:nvPicPr>
        <p:blipFill>
          <a:blip r:embed="rId3"/>
          <a:stretch/>
        </p:blipFill>
        <p:spPr>
          <a:xfrm>
            <a:off x="4356000" y="2852640"/>
            <a:ext cx="2737080" cy="3784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5977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Музей самова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755640" y="4305240"/>
            <a:ext cx="374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ее тульских самоваров представлены самовары самой разнообразной формы: в виде яйца, чаши, вазы, рюмки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xn-----elccfgd1c8ck.xn--p1ai/wp-content/uploads/2011/05/muzei.jpg"/>
          <p:cNvPicPr/>
          <p:nvPr/>
        </p:nvPicPr>
        <p:blipFill>
          <a:blip r:embed="rId2"/>
          <a:srcRect l="0" t="0" r="0" b="4002"/>
          <a:stretch/>
        </p:blipFill>
        <p:spPr>
          <a:xfrm>
            <a:off x="227160" y="774720"/>
            <a:ext cx="5378400" cy="321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440240" y="3648240"/>
            <a:ext cx="4703760" cy="32097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Коллекция самова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am06[1]"/>
          <p:cNvPicPr/>
          <p:nvPr/>
        </p:nvPicPr>
        <p:blipFill>
          <a:blip r:embed="rId3"/>
          <a:stretch/>
        </p:blipFill>
        <p:spPr>
          <a:xfrm>
            <a:off x="461880" y="1036800"/>
            <a:ext cx="3030480" cy="2840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290308512[1]"/>
          <p:cNvPicPr/>
          <p:nvPr/>
        </p:nvPicPr>
        <p:blipFill>
          <a:blip r:embed="rId4"/>
          <a:stretch/>
        </p:blipFill>
        <p:spPr>
          <a:xfrm>
            <a:off x="3222720" y="1052640"/>
            <a:ext cx="2382840" cy="280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702b[1]"/>
          <p:cNvPicPr/>
          <p:nvPr/>
        </p:nvPicPr>
        <p:blipFill>
          <a:blip r:embed="rId5"/>
          <a:stretch/>
        </p:blipFill>
        <p:spPr>
          <a:xfrm>
            <a:off x="5605560" y="1069920"/>
            <a:ext cx="2421000" cy="280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elektricheskij-1958[1]"/>
          <p:cNvPicPr/>
          <p:nvPr/>
        </p:nvPicPr>
        <p:blipFill>
          <a:blip r:embed="rId6"/>
          <a:stretch/>
        </p:blipFill>
        <p:spPr>
          <a:xfrm>
            <a:off x="1413000" y="3876840"/>
            <a:ext cx="1719000" cy="291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samovar-sharom-s-listyjami[1]"/>
          <p:cNvPicPr/>
          <p:nvPr/>
        </p:nvPicPr>
        <p:blipFill>
          <a:blip r:embed="rId7"/>
          <a:stretch/>
        </p:blipFill>
        <p:spPr>
          <a:xfrm>
            <a:off x="3132000" y="3914640"/>
            <a:ext cx="1997280" cy="288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1870[1]"/>
          <p:cNvPicPr/>
          <p:nvPr/>
        </p:nvPicPr>
        <p:blipFill>
          <a:blip r:embed="rId8"/>
          <a:stretch/>
        </p:blipFill>
        <p:spPr>
          <a:xfrm>
            <a:off x="5192640" y="3887640"/>
            <a:ext cx="1755720" cy="2907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7:36:10Z</dcterms:created>
  <dc:creator>Пользователь</dc:creator>
  <dc:description/>
  <dc:language>en-US</dc:language>
  <cp:lastModifiedBy>Пользователь Windows</cp:lastModifiedBy>
  <dcterms:modified xsi:type="dcterms:W3CDTF">2021-10-26T12:08:36Z</dcterms:modified>
  <cp:revision>229</cp:revision>
  <dc:subject/>
  <dc:title>Муниципальное образовательное учреждение «Средняя»</dc:title>
</cp:coreProperties>
</file>