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B996-010C-4502-A064-45F3192F6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93B4-A821-4586-AC36-AB623D5E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2EBD-5CB6-4F6D-8ACC-E3A8C3B6C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2A66-FA62-4F4A-A7AC-AE89E707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A48C-A8CC-4C3C-9934-B2746529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D7CE-C6C5-4CBE-9F4E-8CCECE12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CEA1-7DEA-47B9-A284-14B9818B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EBA1-D0E8-44E5-9369-9384CC63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91A5-0F3E-4B02-9CC3-6390CB3F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94B5-CBBF-4D60-A982-BECF9AB9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EDA8-3877-4DB5-BAB7-A8362F5C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554C-BFE3-45BC-83BB-39919800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3FD7-265C-4BC6-AB68-0098EFC7E83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ПРЕЗЕНТ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979640" y="5589720"/>
            <a:ext cx="403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оспитатель подготовительной группы: </a:t>
            </a:r>
            <a:r>
              <a:rPr b="1" i="1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копян Нарине Эдик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БОУ « ЦО 32» г.Т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3276720" y="2060640"/>
            <a:ext cx="5759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УЛЬСК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АМОВА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127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9685440" y="784080"/>
            <a:ext cx="4292640" cy="2860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AYTN85PCA1BIVTICA32DUQMCAM25026CAEPLZ1MCA2IAFL3CAU5T15SCANY6F17CA4YS4GCCAVUIJJ3CA8H3Z1OCAR3GHQ7CAVKC3SGCABEMAHZCA0DSUMECATTQKPKCAV1G7N8CAG5ADR5CAJ0P7QRCAUP6GWM"/>
          <p:cNvPicPr/>
          <p:nvPr/>
        </p:nvPicPr>
        <p:blipFill>
          <a:blip r:embed="rId3"/>
          <a:stretch/>
        </p:blipFill>
        <p:spPr>
          <a:xfrm>
            <a:off x="2046240" y="1558800"/>
            <a:ext cx="4686480" cy="403092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6920" y="274680"/>
            <a:ext cx="59770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Самовары – символ Тул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9685440" y="784080"/>
            <a:ext cx="4292640" cy="2860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dsc0420al8"/>
          <p:cNvPicPr/>
          <p:nvPr/>
        </p:nvPicPr>
        <p:blipFill>
          <a:blip r:embed="rId3"/>
          <a:stretch/>
        </p:blipFill>
        <p:spPr>
          <a:xfrm>
            <a:off x="971640" y="1413000"/>
            <a:ext cx="6481800" cy="4308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6920" y="274680"/>
            <a:ext cx="59770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Тульский самова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8" descr="самовар"/>
          <p:cNvPicPr/>
          <p:nvPr/>
        </p:nvPicPr>
        <p:blipFill>
          <a:blip r:embed="rId2"/>
          <a:stretch/>
        </p:blipFill>
        <p:spPr>
          <a:xfrm>
            <a:off x="806400" y="1293840"/>
            <a:ext cx="3403800" cy="41148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4427640" y="1293840"/>
            <a:ext cx="302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810-1820 годах в Туле возникли первые самоварные фабр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мните сказку К.И. Чуковского «Федорино горе»? Чем самовар угощал Федор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5" descr="чай2.jpg"/>
          <p:cNvPicPr/>
          <p:nvPr/>
        </p:nvPicPr>
        <p:blipFill>
          <a:blip r:embed="rId3"/>
          <a:stretch/>
        </p:blipFill>
        <p:spPr>
          <a:xfrm>
            <a:off x="4260960" y="3860640"/>
            <a:ext cx="3531960" cy="28562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6920" y="274680"/>
            <a:ext cx="59770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Металл для самовар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9685440" y="784080"/>
            <a:ext cx="4292640" cy="2860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755280" y="1700280"/>
            <a:ext cx="70563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амовары делали из красной и зелёной меди, мельхиора, томпа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огда самовары золотили, серебри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о основной металл для самоваров - латун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8" descr="sergej-lukyjanov[1]"/>
          <p:cNvPicPr/>
          <p:nvPr/>
        </p:nvPicPr>
        <p:blipFill>
          <a:blip r:embed="rId3"/>
          <a:stretch/>
        </p:blipFill>
        <p:spPr>
          <a:xfrm>
            <a:off x="1628640" y="3139920"/>
            <a:ext cx="2222640" cy="2955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samovr-russkoe-pole[1]"/>
          <p:cNvPicPr/>
          <p:nvPr/>
        </p:nvPicPr>
        <p:blipFill>
          <a:blip r:embed="rId4"/>
          <a:stretch/>
        </p:blipFill>
        <p:spPr>
          <a:xfrm>
            <a:off x="4584600" y="3116160"/>
            <a:ext cx="2212920" cy="29275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127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Значение слова «самовар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9685440" y="784080"/>
            <a:ext cx="4292640" cy="2860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684360" y="1052640"/>
            <a:ext cx="6912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лово «самовар» перешло от нас почти во все языки ми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исхождение этого слова теперь не всем понятно, поскольку сочетание «сам варит» в соединении со словом «вода» кажется неправильны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о всего лишь 100 лет назад слово «варить» употреблялось не только в отношении еды (варить суп, рыбу), но и применительно к воде, наравне со словом «кипятить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олее того, в самоварах не только кипятили воду, но и варили пищ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samovars[1]"/>
          <p:cNvPicPr/>
          <p:nvPr/>
        </p:nvPicPr>
        <p:blipFill>
          <a:blip r:embed="rId3"/>
          <a:stretch/>
        </p:blipFill>
        <p:spPr>
          <a:xfrm>
            <a:off x="1979640" y="4292640"/>
            <a:ext cx="4762440" cy="24098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127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Как устроен самова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9685440" y="784080"/>
            <a:ext cx="4292640" cy="2860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684360" y="1052640"/>
            <a:ext cx="6912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нутри расположена жаровня в виде трубы – «кувшин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низу под «кувшином» для усиления тяги делается поддувал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верху закрывается крышк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улово самовара опирается на поддон или нож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 крышке располагается камфорка для установки заварного чай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ля слива воды служит кр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AM8WN59CABG3X2KCAMA68IHCA42602UCAMGYAPXCAQPUJ4SCA77LBKBCA1SG4MJCAFRX5A2CAOR8VANCAOO7UEHCAY7BPTXCABC9B5TCAFWC8K8CA247NFNCA7BMBCNCAPPXWGDCAMZ03LHCADWMADJCA2FLAM7"/>
          <p:cNvPicPr/>
          <p:nvPr/>
        </p:nvPicPr>
        <p:blipFill>
          <a:blip r:embed="rId3"/>
          <a:stretch/>
        </p:blipFill>
        <p:spPr>
          <a:xfrm>
            <a:off x="4788000" y="3168720"/>
            <a:ext cx="2127240" cy="335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290308515[1]"/>
          <p:cNvPicPr/>
          <p:nvPr/>
        </p:nvPicPr>
        <p:blipFill>
          <a:blip r:embed="rId4"/>
          <a:stretch/>
        </p:blipFill>
        <p:spPr>
          <a:xfrm>
            <a:off x="2279520" y="3645000"/>
            <a:ext cx="2057400" cy="28796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127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Топливо для самова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9685440" y="784080"/>
            <a:ext cx="4292640" cy="2860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684360" y="1052640"/>
            <a:ext cx="6912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опили самовар древесным углем, сухими чурками и щепками, сосновыми шиш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конце 19 века появляется керосиновый самова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1956 году в Туле выпустили первый электрический самова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samovar-vazoj-s-delyfinami[1]"/>
          <p:cNvPicPr/>
          <p:nvPr/>
        </p:nvPicPr>
        <p:blipFill>
          <a:blip r:embed="rId3"/>
          <a:stretch/>
        </p:blipFill>
        <p:spPr>
          <a:xfrm>
            <a:off x="4356000" y="2852640"/>
            <a:ext cx="2737080" cy="3784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6920" y="0"/>
            <a:ext cx="59770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Музей самовар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755640" y="4305240"/>
            <a:ext cx="3745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узее тульских самоваров представлены самовары самой разнообразной формы: в виде яйца, чаши, вазы, рюмки и т. д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xn-----elccfgd1c8ck.xn--p1ai/wp-content/uploads/2011/05/muzei.jpg"/>
          <p:cNvPicPr/>
          <p:nvPr/>
        </p:nvPicPr>
        <p:blipFill>
          <a:blip r:embed="rId2"/>
          <a:srcRect l="0" t="0" r="0" b="4002"/>
          <a:stretch/>
        </p:blipFill>
        <p:spPr>
          <a:xfrm>
            <a:off x="227160" y="774720"/>
            <a:ext cx="5378400" cy="3217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4440240" y="3648240"/>
            <a:ext cx="4703760" cy="320976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ipe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127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Коллекция самовар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9685440" y="784080"/>
            <a:ext cx="4292640" cy="2860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am06[1]"/>
          <p:cNvPicPr/>
          <p:nvPr/>
        </p:nvPicPr>
        <p:blipFill>
          <a:blip r:embed="rId3"/>
          <a:stretch/>
        </p:blipFill>
        <p:spPr>
          <a:xfrm>
            <a:off x="461880" y="1036800"/>
            <a:ext cx="3030480" cy="2840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290308512[1]"/>
          <p:cNvPicPr/>
          <p:nvPr/>
        </p:nvPicPr>
        <p:blipFill>
          <a:blip r:embed="rId4"/>
          <a:stretch/>
        </p:blipFill>
        <p:spPr>
          <a:xfrm>
            <a:off x="3222720" y="1052640"/>
            <a:ext cx="2382840" cy="280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702b[1]"/>
          <p:cNvPicPr/>
          <p:nvPr/>
        </p:nvPicPr>
        <p:blipFill>
          <a:blip r:embed="rId5"/>
          <a:stretch/>
        </p:blipFill>
        <p:spPr>
          <a:xfrm>
            <a:off x="5605560" y="1069920"/>
            <a:ext cx="2421000" cy="2806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jelektricheskij-1958[1]"/>
          <p:cNvPicPr/>
          <p:nvPr/>
        </p:nvPicPr>
        <p:blipFill>
          <a:blip r:embed="rId6"/>
          <a:stretch/>
        </p:blipFill>
        <p:spPr>
          <a:xfrm>
            <a:off x="1413000" y="3876840"/>
            <a:ext cx="1719000" cy="291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samovar-sharom-s-listyjami[1]"/>
          <p:cNvPicPr/>
          <p:nvPr/>
        </p:nvPicPr>
        <p:blipFill>
          <a:blip r:embed="rId7"/>
          <a:stretch/>
        </p:blipFill>
        <p:spPr>
          <a:xfrm>
            <a:off x="3132000" y="3914640"/>
            <a:ext cx="1997280" cy="2880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1870[1]"/>
          <p:cNvPicPr/>
          <p:nvPr/>
        </p:nvPicPr>
        <p:blipFill>
          <a:blip r:embed="rId8"/>
          <a:stretch/>
        </p:blipFill>
        <p:spPr>
          <a:xfrm>
            <a:off x="5192640" y="3887640"/>
            <a:ext cx="1755720" cy="2907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7:36:10Z</dcterms:created>
  <dc:creator>Пользователь</dc:creator>
  <dc:description/>
  <dc:language>en-US</dc:language>
  <cp:lastModifiedBy>Пользователь Windows</cp:lastModifiedBy>
  <dcterms:modified xsi:type="dcterms:W3CDTF">2021-10-26T12:08:36Z</dcterms:modified>
  <cp:revision>229</cp:revision>
  <dc:subject/>
  <dc:title>Муниципальное образовательное учреждение «Средняя»</dc:title>
</cp:coreProperties>
</file>