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589-7975-4307-AB2E-7CAFEA7D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96C-61C4-4026-B8B1-60320D8D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AC4-BA36-4C70-83D0-8C4AF45D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BDC-DB02-4514-96EC-3773555E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854-F1D7-4C5A-BFCD-AA8DC813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703-734F-4FF9-AE6F-EDBC02BB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B41-0FE2-48FD-8BCC-425E86F7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BBE-2CBA-4497-8067-0F1AB6C4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B50-4003-47CA-A605-24743FEF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A4A-9C47-40EF-8244-EA1A1B1E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DA8-F266-4B80-8D94-3B9B3E3B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9F1-D09E-4A54-B382-46E44EDA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A3A4-C734-42E5-A2F6-CD92AF1EA7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9185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СОЗДАНИЕ АТМОСФЕРЫ ПСИХОЛОГИЧЕСКОЙ ПОДДЕРЖКИ В КЛАС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522900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бакаева Мария Василь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000" y="2492280"/>
            <a:ext cx="8218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: литературалык кычыры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: 4 «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Т. Акулова «Чечек ӱспе- килинче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Организационный мо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Все мы знаем, что урок в школе начинается с организационного момента. У всех он проходит по- разному, но никто не будет отрицать, что от того, как мы его начнём, зависит  дальнейший ход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Здравствуй, друг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вторяют за учителем следующие слова, сопровождая их жест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Здравствуй, друг!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жмут друг другу ру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Как ты тут?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хлопают правой рукой по левому плечу партнё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Где ты был?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осторожно треплют ух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Я скучал!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складывают руки на груд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Ты пришёл!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 разводят руками в сторону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Хорошо!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(обнимаютс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Приветств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чащиеся поочередно касаются одноименных пальцев рук своего соседа, начиная с больших пальцев и говор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желаю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соприкасаются большими пальца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успеха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указательны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большого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средни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во всём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безымянны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и везде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мизинца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Здравствуйте!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(прикосновение всей ладонью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Паутинка-разми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За сколькими зайцами нельзя угнаться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За двумя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Какая нога собаке ни к чему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Пятая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Золотое колесо в синем небе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Солнце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Сколько букв в русском алфавите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33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Назовите три последние буквы алфавита.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Э, ю, я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Какой сегодня день? 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(Вторник, 22 января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Записываем в тетради: 27 ноября. Классная работа…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Дерево достижен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ds03.infourok.ru/uploads/ex/1040/00046987-7c22efd4/img13.jpg"/>
          <p:cNvPicPr/>
          <p:nvPr/>
        </p:nvPicPr>
        <p:blipFill>
          <a:blip r:embed="rId2"/>
          <a:stretch/>
        </p:blipFill>
        <p:spPr>
          <a:xfrm>
            <a:off x="1619280" y="1268280"/>
            <a:ext cx="705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Волшебная поля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mdou206-kem.ucoz.ru/_si/0/14871144.jpg"/>
          <p:cNvPicPr/>
          <p:nvPr/>
        </p:nvPicPr>
        <p:blipFill>
          <a:blip r:embed="rId2"/>
          <a:stretch/>
        </p:blipFill>
        <p:spPr>
          <a:xfrm>
            <a:off x="1332000" y="1268280"/>
            <a:ext cx="694836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«Что умеют делать наши руки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s://b1.culture.ru/c/346968.jpg"/>
          <p:cNvPicPr/>
          <p:nvPr/>
        </p:nvPicPr>
        <p:blipFill>
          <a:blip r:embed="rId2"/>
          <a:stretch/>
        </p:blipFill>
        <p:spPr>
          <a:xfrm>
            <a:off x="108000" y="1268280"/>
            <a:ext cx="901044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Необычные предме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s://im0-tub-ru.yandex.net/i?id=878d3388d0d524769af298cccd0d3042-l&amp;n=13"/>
          <p:cNvPicPr/>
          <p:nvPr/>
        </p:nvPicPr>
        <p:blipFill>
          <a:blip r:embed="rId2"/>
          <a:stretch/>
        </p:blipFill>
        <p:spPr>
          <a:xfrm>
            <a:off x="0" y="1268280"/>
            <a:ext cx="2449440" cy="2449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s://india-shop.online/upload/iblock/4f0/kolokolchik_128_s_ruchkoy_polish.jpg"/>
          <p:cNvPicPr/>
          <p:nvPr/>
        </p:nvPicPr>
        <p:blipFill>
          <a:blip r:embed="rId3"/>
          <a:stretch/>
        </p:blipFill>
        <p:spPr>
          <a:xfrm>
            <a:off x="3381480" y="1355760"/>
            <a:ext cx="2466720" cy="24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s://avatars.mds.yandex.net/get-marketpic/362398/market_4WBXLSThVZB-fTwJB_F8wg/orig"/>
          <p:cNvPicPr/>
          <p:nvPr/>
        </p:nvPicPr>
        <p:blipFill>
          <a:blip r:embed="rId4"/>
          <a:stretch/>
        </p:blipFill>
        <p:spPr>
          <a:xfrm>
            <a:off x="1763640" y="3822840"/>
            <a:ext cx="2624040" cy="267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kartik.ru/wp-content/uploads/2017/08/kartinki-karandashom-skazochnye-geroi-132516.jpg"/>
          <p:cNvPicPr/>
          <p:nvPr/>
        </p:nvPicPr>
        <p:blipFill>
          <a:blip r:embed="rId5"/>
          <a:stretch/>
        </p:blipFill>
        <p:spPr>
          <a:xfrm>
            <a:off x="6084720" y="2205000"/>
            <a:ext cx="2880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Упражнение «Сло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s://banner2.kisspng.com/20171127/558/little-elephant-png-clipart-image-5a1bdde7332f08.7238015815117757192097.jpg"/>
          <p:cNvPicPr/>
          <p:nvPr/>
        </p:nvPicPr>
        <p:blipFill>
          <a:blip r:embed="rId2"/>
          <a:stretch/>
        </p:blipFill>
        <p:spPr>
          <a:xfrm>
            <a:off x="1908000" y="1413000"/>
            <a:ext cx="53946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108000" y="4764240"/>
            <a:ext cx="554364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атмосфера торжества наполнена счастливыми и светлыми переживаниями, надеждами, счасть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476280"/>
            <a:ext cx="882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Атмосф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окружающие условия, обстановка, которая периодически изменяется или имеет относительно постоянный характ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http://www.beruska8.cz/balonky/balonky2/56.gif"/>
          <p:cNvPicPr/>
          <p:nvPr/>
        </p:nvPicPr>
        <p:blipFill>
          <a:blip r:embed="rId2"/>
          <a:stretch/>
        </p:blipFill>
        <p:spPr>
          <a:xfrm>
            <a:off x="7380360" y="3624120"/>
            <a:ext cx="1763640" cy="323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http://lotds8.edumsko.ru/uploads/2000/1103/section/48956/v_2Po82xPggUnRYQF.gif"/>
          <p:cNvPicPr/>
          <p:nvPr/>
        </p:nvPicPr>
        <p:blipFill>
          <a:blip r:embed="rId3"/>
          <a:stretch/>
        </p:blipFill>
        <p:spPr>
          <a:xfrm rot="4167000">
            <a:off x="4322160" y="606600"/>
            <a:ext cx="4968720" cy="521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http://s44.radikal.ru/i105/0808/33/89d7326afc51.gif"/>
          <p:cNvPicPr/>
          <p:nvPr/>
        </p:nvPicPr>
        <p:blipFill>
          <a:blip r:embed="rId4"/>
          <a:stretch/>
        </p:blipFill>
        <p:spPr>
          <a:xfrm>
            <a:off x="-254160" y="1700280"/>
            <a:ext cx="34578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Рефлекс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im0-tub-ru.yandex.net/i?id=05495445bb7af977e32ec77f9c8e4bff-l&amp;n=13"/>
          <p:cNvPicPr/>
          <p:nvPr/>
        </p:nvPicPr>
        <p:blipFill>
          <a:blip r:embed="rId2"/>
          <a:srcRect l="23704" t="0" r="23941" b="0"/>
          <a:stretch/>
        </p:blipFill>
        <p:spPr>
          <a:xfrm>
            <a:off x="395280" y="2227320"/>
            <a:ext cx="2232000" cy="357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s://www.officekanc.ru/images/product/81579.jpg"/>
          <p:cNvPicPr/>
          <p:nvPr/>
        </p:nvPicPr>
        <p:blipFill>
          <a:blip r:embed="rId3"/>
          <a:srcRect l="9508" t="0" r="11897" b="0"/>
          <a:stretch/>
        </p:blipFill>
        <p:spPr>
          <a:xfrm>
            <a:off x="5940360" y="2781360"/>
            <a:ext cx="2443320" cy="295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laukar.com/data/160417/1129065973517048.jpg"/>
          <p:cNvPicPr/>
          <p:nvPr/>
        </p:nvPicPr>
        <p:blipFill>
          <a:blip r:embed="rId4"/>
          <a:srcRect l="13854" t="0" r="11538" b="0"/>
          <a:stretch/>
        </p:blipFill>
        <p:spPr>
          <a:xfrm>
            <a:off x="3059280" y="2417760"/>
            <a:ext cx="24494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Рефлекс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s://ds02.infourok.ru/uploads/ex/0d08/00087177-436d360c/img16.jpg"/>
          <p:cNvPicPr/>
          <p:nvPr/>
        </p:nvPicPr>
        <p:blipFill>
          <a:blip r:embed="rId2"/>
          <a:stretch/>
        </p:blipFill>
        <p:spPr>
          <a:xfrm>
            <a:off x="1403280" y="1628640"/>
            <a:ext cx="6913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«Хвалил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1557000"/>
            <a:ext cx="568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ngsanaUPC"/>
              </a:rPr>
              <a:t>Положите правую руку себе на голову, погладьте и скажите: "Ах, какой я молодец!" А теперь положите руку соседу на голову, погладьте и скажите: "Ах, какой ты молодец!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Миша\Desktop\2016-06-24-1466781988.jpg"/>
          <p:cNvPicPr/>
          <p:nvPr/>
        </p:nvPicPr>
        <p:blipFill>
          <a:blip r:embed="rId1"/>
          <a:stretch/>
        </p:blipFill>
        <p:spPr>
          <a:xfrm>
            <a:off x="0" y="-22320"/>
            <a:ext cx="9036000" cy="676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Социально-психологическая атмосфера в школе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дполагает гуманные взаимоотношения между всеми ее членам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учный уровень мышления, ориентированный на вскрытие сути как поис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Истин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культурную, эстетически оформленную организацию труда в соответствии с принцип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Красот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защищенное положение взрослых и детей как привнесен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Добр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едагогическое учрежд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Типология поведенческих стратег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1328760" y="901800"/>
            <a:ext cx="63039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Тип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83920"/>
            <a:ext cx="63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Черепашка»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Медвежонок»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Лиса»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Сова»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Акула»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ипы предрасположенности к конфликтному поведению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196640"/>
            <a:ext cx="630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 (конкуренция) – «Акул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добиться удовлетворения своих интересов в ущерб другому. Это силовая стратегия, цели очень важны, взаимоотношения 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способление – «Медвежонок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ение в жертву собственных интересов ради другого. Взаимоотношения важны, цели нет.  Хотят, чтобы их принимали и любили, ради чего жертвуют це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мпромисс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са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ренно и цели и взаимоотношения. Готовы отказаться от некоторых целей, чтобы сохранить взаимоотно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бег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епаха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 стратегия ухода под панцирь, т.е. отказ от достижения личной цели и от участия во взаимоотношениях с окружающ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трудничество – «Сова»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конфликтной ситуации приходят к альтернативе, полностью удовлетворяющей интересы обеих сторон. Это стратегия. Когда ценят и цели и взаимоотно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alibri"/>
              </a:rPr>
              <a:t>Психологический анализ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280" y="1483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возрастных и психологических особенностей уча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ознавательной деятельности уча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проведения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дачинова Инна Серге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: литературное чт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: 2 «Г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Соколов-Микитов «Первый снег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данчикова Юлия Атаган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: литературалык кычыры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: 4 «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Б. Укачин «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м, сен кайда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12:50:09Z</dcterms:created>
  <dc:creator>1</dc:creator>
  <dc:description/>
  <dc:language>en-US</dc:language>
  <cp:lastModifiedBy>Домашний</cp:lastModifiedBy>
  <dcterms:modified xsi:type="dcterms:W3CDTF">2022-02-11T04:48:40Z</dcterms:modified>
  <cp:revision>13</cp:revision>
  <dc:subject/>
  <dc:title>СОЗДАНИЕ ПСИХОЛОГИЧЕСКОГО КЛИМАТА</dc:title>
</cp:coreProperties>
</file>