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2A79-6717-4743-A73A-D243C1EA7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F8E-4AA6-4352-8283-2389E8653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1E0589-8E28-4FBA-AA64-8000E3A4F68B}" type="datetime10">
              <a:rPr b="0" lang="en-US" sz="1200" spc="-1" strike="noStrike">
                <a:solidFill>
                  <a:srgbClr val="000000"/>
                </a:solidFill>
                <a:latin typeface="Calibri"/>
              </a:rPr>
              <a:t>22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0" y="868536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B95-A146-4C5D-B293-4A3C996D7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3995640" y="1928880"/>
            <a:ext cx="4932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ри   матреш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ющая игру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ет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, 2021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55640" y="7650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5 «Коло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514440" y="1700280"/>
            <a:ext cx="3481200" cy="46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/>
          <p:cNvSpPr/>
          <p:nvPr/>
        </p:nvSpPr>
        <p:spPr>
          <a:xfrm>
            <a:off x="468360" y="1860480"/>
            <a:ext cx="835344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, упражнять в умении пользоваться разными видами застёжек, шнуро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зличать и называть цвета, сопоставлять формы предметов с геометрическими образ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зрительно-моторную координацию на основе действ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ышление, внимание, память и слуховое восприят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детях добрые чувства, взаимопомощь, умение доводить начатое дело до конц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целевой аудитори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озрастная, логопедическая 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-6 л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сенсорные представления детей о внешних свойствах предметов: их форме, цвете, величине, количе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ординированы движения пальцев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68360" y="83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обогащения сенсорного опыта и познавательного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4716360" y="1052640"/>
            <a:ext cx="415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дидактическое пособие изготовлено из бязи, ситца, фетра. Весь наглядный материал имеет привлекательный внешний ви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24000" y="436572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ая фактура ткани, четкая форма и яркий насыщенный цвет дидактического пособия доставляет детям радость, вызывает желание играть им, способствует накоплению сенсор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2" descr=""/>
          <p:cNvPicPr/>
          <p:nvPr/>
        </p:nvPicPr>
        <p:blipFill>
          <a:blip r:embed="rId1"/>
          <a:stretch/>
        </p:blipFill>
        <p:spPr>
          <a:xfrm>
            <a:off x="414360" y="105264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5192640" y="3284640"/>
            <a:ext cx="3762360" cy="282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4500720" y="822240"/>
            <a:ext cx="4535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матрёш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Цветочная полян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формирования навыков шнуровки (шнурование, завязывание шнурка на бант, закреплению навыков счета, сравнению множеств, различению цвета и ориентировке на плос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ки солнышка - на липучках, цветы - на кноп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4859280" y="3770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3"/>
          <p:cNvSpPr/>
          <p:nvPr/>
        </p:nvSpPr>
        <p:spPr>
          <a:xfrm>
            <a:off x="468360" y="765000"/>
            <a:ext cx="806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ая матрешка   - игра  «Наряди матреш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предлагают нарядить матрешку с помощью застегивание и растягивание пуговиц. В этой игре ребенок  закрепляет  названия цветов и   прямой и обратный счет в пределах 1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827160" cy="2862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" descr=""/>
          <p:cNvPicPr/>
          <p:nvPr/>
        </p:nvPicPr>
        <p:blipFill>
          <a:blip r:embed="rId2"/>
          <a:stretch/>
        </p:blipFill>
        <p:spPr>
          <a:xfrm>
            <a:off x="4859280" y="2981160"/>
            <a:ext cx="4021200" cy="302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50920" y="765000"/>
            <a:ext cx="903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ья  Матрёшка Игра -  «Модниц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й маленькой матрешки можно заплетать косы, нанизывать для неё бусы. Игры с бусинками помогают координации движений обеих рук и способствуют совершенствованию координации системы «глаз-ру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«Найди свой кармашек» ребенок раскладывает геометрические фигуры по цвету и форм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281160" y="306216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5724360" y="2727360"/>
            <a:ext cx="2667240" cy="354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468360" y="1052640"/>
            <a:ext cx="8250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гры и упражнения  с игрушкой, которые проводятся с детьми в интересной, непринуждённой игровой форме помогают развивать не только мелкую моторику рук детей, их речь, внимание, мышление, а так же формирует дружеские взаимоотношения, доставляют им радость и удовольст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4:18:18Z</dcterms:created>
  <dc:creator>Zorro</dc:creator>
  <dc:description/>
  <cp:keywords/>
  <dc:language>en-US</dc:language>
  <cp:lastModifiedBy>Лена</cp:lastModifiedBy>
  <dcterms:modified xsi:type="dcterms:W3CDTF">2022-02-11T08:10:06Z</dcterms:modified>
  <cp:revision>69</cp:revision>
  <dc:subject/>
  <dc:title>Презентация образовательной практики  «Детский выбо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869990</vt:lpwstr>
  </property>
</Properties>
</file>