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4.jpeg" ContentType="image/jpeg"/>
  <Override PartName="/ppt/media/image2.png" ContentType="image/png"/>
  <Override PartName="/ppt/media/image1.jpeg" ContentType="image/jpeg"/>
  <Override PartName="/ppt/media/image3.png" ContentType="image/png"/>
  <Override PartName="/ppt/media/image4.png" ContentType="image/png"/>
  <Override PartName="/ppt/media/image10.jpeg" ContentType="image/jpeg"/>
  <Override PartName="/ppt/media/image5.png" ContentType="image/png"/>
  <Override PartName="/ppt/media/image8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3.png" ContentType="image/png"/>
  <Override PartName="/ppt/media/image12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1FBA5-215F-4D86-829A-8E64427AF4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FDACA-F2E4-437A-95B9-28B043BAF90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CC2346D7-8855-4F59-9332-E7F58F471F16}" type="datetime10">
              <a:rPr b="0" lang="en-US" sz="1200" spc="-1" strike="noStrike">
                <a:solidFill>
                  <a:srgbClr val="000000"/>
                </a:solidFill>
                <a:latin typeface="Calibri"/>
              </a:rPr>
              <a:t>17:24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Footer Placeholder 5"/>
          <p:cNvSpPr/>
          <p:nvPr/>
        </p:nvSpPr>
        <p:spPr>
          <a:xfrm>
            <a:off x="0" y="868536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alibri"/>
              </a:rPr>
              <a:t>© Корпорация Майкрософт (Microsoft Corporation), 2007. Все права защищены. Microsoft, Windows, Windows Vista и другие названия продуктов являются или могут являться зарегистрированными товарными знаками и/или товарными знаками в США и/или других странах.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alibri"/>
              </a:rPr>
              <a:t>Информация приведена в этом документе только в демонстрационных целях и не отражает точку зрения представителей корпорации Майкрософт на момент составления данной презентации.  Поскольку корпорация Майкрософт вынуждена учитывать меняющиеся рыночные условия, она не гарантирует точность информации, указанной после составления этой презентации, а также не берет на себя подобной обязанности.  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Calibri"/>
              </a:rPr>
              <a:t>КОРПОРАЦИЯ МАЙКРОСОФТ НЕ ДАЕТ НИКАКИХ ЯВНЫХ, ПОДРАЗУМЕВАЕМЫХ ИЛИ ЗАКРЕПЛЕННЫХ ЗАКОНОДАТЕЛЬСТВОМ ГАРАНТИЙ В ОТНОШЕНИИ СВЕДЕНИЙ ИЗ ЭТОЙ ПРЕЗЕНТАЦИИ.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Slide Number Placeholder 6"/>
          <p:cNvSpPr/>
          <p:nvPr/>
        </p:nvSpPr>
        <p:spPr>
          <a:xfrm>
            <a:off x="6172200" y="8685360"/>
            <a:ext cx="684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DA9D6-67B2-48F9-970C-E7BD8D86B0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838224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80880" y="3334320"/>
            <a:ext cx="838224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6040" y="141264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880" y="333432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6040" y="333432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26989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15160" y="1412640"/>
            <a:ext cx="26989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49440" y="1412640"/>
            <a:ext cx="26989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380880" y="3334320"/>
            <a:ext cx="26989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15160" y="3334320"/>
            <a:ext cx="26989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49440" y="3334320"/>
            <a:ext cx="26989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80880" y="1412640"/>
            <a:ext cx="838224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838224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409032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6040" y="1412640"/>
            <a:ext cx="409032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380880" y="230040"/>
            <a:ext cx="8382240" cy="308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040" y="1412640"/>
            <a:ext cx="409032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380880" y="333432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380880" y="1412640"/>
            <a:ext cx="838224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409032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6040" y="141264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6040" y="333432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6040" y="141264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80880" y="3334320"/>
            <a:ext cx="838224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838224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80880" y="3334320"/>
            <a:ext cx="838224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6040" y="141264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80880" y="333432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6040" y="333432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26989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15160" y="1412640"/>
            <a:ext cx="26989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49440" y="1412640"/>
            <a:ext cx="26989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380880" y="3334320"/>
            <a:ext cx="26989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15160" y="3334320"/>
            <a:ext cx="26989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49440" y="3334320"/>
            <a:ext cx="26989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380880" y="1412640"/>
            <a:ext cx="838224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838224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409032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6040" y="1412640"/>
            <a:ext cx="409032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838224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380880" y="230040"/>
            <a:ext cx="8382240" cy="308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6040" y="1412640"/>
            <a:ext cx="409032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80880" y="333432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409032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6040" y="141264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6040" y="333432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6040" y="141264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380880" y="3334320"/>
            <a:ext cx="838224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838224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80880" y="3334320"/>
            <a:ext cx="838224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6040" y="141264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380880" y="333432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6040" y="333432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26989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15160" y="1412640"/>
            <a:ext cx="26989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49440" y="1412640"/>
            <a:ext cx="26989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380880" y="3334320"/>
            <a:ext cx="26989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15160" y="3334320"/>
            <a:ext cx="26989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49440" y="3334320"/>
            <a:ext cx="26989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380880" y="1412640"/>
            <a:ext cx="838224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838224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409032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6040" y="1412640"/>
            <a:ext cx="409032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409032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6040" y="1412640"/>
            <a:ext cx="409032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380880" y="230040"/>
            <a:ext cx="8382240" cy="308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6040" y="1412640"/>
            <a:ext cx="409032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380880" y="333432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409032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6040" y="141264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676040" y="333432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6040" y="141264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380880" y="3334320"/>
            <a:ext cx="838224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838224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80880" y="3334320"/>
            <a:ext cx="838224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6040" y="141264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380880" y="333432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676040" y="333432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26989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15160" y="1412640"/>
            <a:ext cx="26989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49440" y="1412640"/>
            <a:ext cx="26989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0880" y="3334320"/>
            <a:ext cx="26989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15160" y="3334320"/>
            <a:ext cx="26989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049440" y="3334320"/>
            <a:ext cx="26989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380880" y="230040"/>
            <a:ext cx="8382240" cy="308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040" y="1412640"/>
            <a:ext cx="409032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380880" y="333432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409032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6040" y="141264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6040" y="333432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6040" y="141264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80880" y="3334320"/>
            <a:ext cx="838224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37.xml"/><Relationship Id="rId10" Type="http://schemas.openxmlformats.org/officeDocument/2006/relationships/slideLayout" Target="../slideLayouts/slideLayout38.xml"/><Relationship Id="rId11" Type="http://schemas.openxmlformats.org/officeDocument/2006/relationships/slideLayout" Target="../slideLayouts/slideLayout39.xml"/><Relationship Id="rId12" Type="http://schemas.openxmlformats.org/officeDocument/2006/relationships/slideLayout" Target="../slideLayouts/slideLayout40.xml"/><Relationship Id="rId13" Type="http://schemas.openxmlformats.org/officeDocument/2006/relationships/slideLayout" Target="../slideLayouts/slideLayout41.xml"/><Relationship Id="rId14" Type="http://schemas.openxmlformats.org/officeDocument/2006/relationships/slideLayout" Target="../slideLayouts/slideLayout42.xml"/><Relationship Id="rId15" Type="http://schemas.openxmlformats.org/officeDocument/2006/relationships/slideLayout" Target="../slideLayouts/slideLayout43.xml"/><Relationship Id="rId16" Type="http://schemas.openxmlformats.org/officeDocument/2006/relationships/slideLayout" Target="../slideLayouts/slideLayout44.xml"/><Relationship Id="rId17" Type="http://schemas.openxmlformats.org/officeDocument/2006/relationships/slideLayout" Target="../slideLayouts/slideLayout45.xml"/><Relationship Id="rId18" Type="http://schemas.openxmlformats.org/officeDocument/2006/relationships/slideLayout" Target="../slideLayouts/slideLayout46.xml"/><Relationship Id="rId19" Type="http://schemas.openxmlformats.org/officeDocument/2006/relationships/slideLayout" Target="../slideLayouts/slideLayout47.xml"/><Relationship Id="rId20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412640"/>
            <a:ext cx="838224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92400" indent="-39240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05040" indent="-3924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246320" indent="-34092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Рисунок 3" descr="white rectangle.png"/>
          <p:cNvPicPr/>
          <p:nvPr/>
        </p:nvPicPr>
        <p:blipFill>
          <a:blip r:embed="rId3"/>
          <a:srcRect l="0" t="0" r="0" b="10454"/>
          <a:stretch/>
        </p:blipFill>
        <p:spPr>
          <a:xfrm>
            <a:off x="0" y="1300320"/>
            <a:ext cx="9144000" cy="5557680"/>
          </a:xfrm>
          <a:prstGeom prst="rect">
            <a:avLst/>
          </a:prstGeom>
          <a:ln w="0">
            <a:noFill/>
          </a:ln>
        </p:spPr>
      </p:pic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722160" y="1905120"/>
            <a:ext cx="8040960" cy="38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Courier New"/>
            </a:endParaRPr>
          </a:p>
          <a:p>
            <a:pPr lvl="1" marL="384120" indent="-61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Courier New"/>
            </a:endParaRPr>
          </a:p>
          <a:p>
            <a:pPr lvl="2" marL="760320" indent="-61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Courier New"/>
            </a:endParaRPr>
          </a:p>
          <a:p>
            <a:pPr lvl="3" marL="1093680" indent="6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Courier New"/>
            </a:endParaRPr>
          </a:p>
          <a:p>
            <a:pPr lvl="4" marL="1425600" indent="4032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Courier New"/>
            </a:endParaRPr>
          </a:p>
          <a:p>
            <a:pPr lvl="5" marL="1425600" indent="4032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Courier New"/>
            </a:endParaRPr>
          </a:p>
          <a:p>
            <a:pPr lvl="6" marL="1425600" indent="4032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380880" y="1412640"/>
            <a:ext cx="838224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92400" indent="-39240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05040" indent="-3924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246320" indent="-34092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380880" y="1412640"/>
            <a:ext cx="838224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92400" indent="-39240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05040" indent="-3924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246320" indent="-34092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9"/>
    <p:sldLayoutId id="2147483689" r:id="rId10"/>
    <p:sldLayoutId id="2147483690" r:id="rId11"/>
    <p:sldLayoutId id="2147483691" r:id="rId12"/>
    <p:sldLayoutId id="2147483692" r:id="rId13"/>
    <p:sldLayoutId id="2147483693" r:id="rId14"/>
    <p:sldLayoutId id="2147483694" r:id="rId15"/>
    <p:sldLayoutId id="2147483695" r:id="rId16"/>
    <p:sldLayoutId id="2147483696" r:id="rId17"/>
    <p:sldLayoutId id="2147483697" r:id="rId18"/>
    <p:sldLayoutId id="2147483698" r:id="rId19"/>
    <p:sldLayoutId id="2147483699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Прямоугольник 3"/>
          <p:cNvSpPr/>
          <p:nvPr/>
        </p:nvSpPr>
        <p:spPr>
          <a:xfrm>
            <a:off x="3995640" y="1928880"/>
            <a:ext cx="493236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Три   матрешки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Развивающая игрушк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етин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лена Михайловн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тел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. Канск, 2021г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TextBox 5"/>
          <p:cNvSpPr/>
          <p:nvPr/>
        </p:nvSpPr>
        <p:spPr>
          <a:xfrm>
            <a:off x="755640" y="765000"/>
            <a:ext cx="7848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ниципальное бюджетное дошкольное образовательное учреждение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Детский сад комбинированного вида №5 «Колосок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2" name="Рисунок 1" descr=""/>
          <p:cNvPicPr/>
          <p:nvPr/>
        </p:nvPicPr>
        <p:blipFill>
          <a:blip r:embed="rId1"/>
          <a:stretch/>
        </p:blipFill>
        <p:spPr>
          <a:xfrm>
            <a:off x="514440" y="1700280"/>
            <a:ext cx="3481200" cy="46418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Box 5"/>
          <p:cNvSpPr/>
          <p:nvPr/>
        </p:nvSpPr>
        <p:spPr>
          <a:xfrm>
            <a:off x="468360" y="1860480"/>
            <a:ext cx="8353440" cy="57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вать мелкую моторику рук, упражнять в умении пользоваться разными видами застёжек, шнуровок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ь различать и называть цвета, сопоставлять формы предметов с геометрическими образцами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ть зрительно-моторную координацию на основе действий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вать мышление, внимание, память и слуховое восприятие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ывать в детях добрые чувства, взаимопомощь, умение доводить начатое дело до конца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раст целевой аудитории: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новозрастная, логопедическая групп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4 -6 лет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жидаемый результат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формированы сенсорные представления детей о внешних свойствах предметов: их форме, цвете, величине, количестве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ординированы движения пальцев рук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TextBox 6"/>
          <p:cNvSpPr/>
          <p:nvPr/>
        </p:nvSpPr>
        <p:spPr>
          <a:xfrm>
            <a:off x="468360" y="836640"/>
            <a:ext cx="8280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ть условия для обогащения сенсорного опыта и познавательного развития детей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Box 3"/>
          <p:cNvSpPr/>
          <p:nvPr/>
        </p:nvSpPr>
        <p:spPr>
          <a:xfrm>
            <a:off x="4716360" y="1052640"/>
            <a:ext cx="41515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нное дидактическое пособие изготовлено из бязи, ситца, фетра. Весь наглядный материал имеет привлекательный внешний вид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TextBox 4"/>
          <p:cNvSpPr/>
          <p:nvPr/>
        </p:nvSpPr>
        <p:spPr>
          <a:xfrm>
            <a:off x="324000" y="4365720"/>
            <a:ext cx="4176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ятная фактура ткани, четкая форма и яркий насыщенный цвет дидактического пособия доставляет детям радость, вызывает желание играть им, способствует накоплению сенсорного опыт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7" name="Рисунок 2" descr=""/>
          <p:cNvPicPr/>
          <p:nvPr/>
        </p:nvPicPr>
        <p:blipFill>
          <a:blip r:embed="rId1"/>
          <a:stretch/>
        </p:blipFill>
        <p:spPr>
          <a:xfrm>
            <a:off x="414360" y="1052640"/>
            <a:ext cx="3995640" cy="2997000"/>
          </a:xfrm>
          <a:prstGeom prst="rect">
            <a:avLst/>
          </a:prstGeom>
          <a:ln w="0">
            <a:noFill/>
          </a:ln>
        </p:spPr>
      </p:pic>
      <p:pic>
        <p:nvPicPr>
          <p:cNvPr id="168" name="Рисунок 3" descr=""/>
          <p:cNvPicPr/>
          <p:nvPr/>
        </p:nvPicPr>
        <p:blipFill>
          <a:blip r:embed="rId2"/>
          <a:stretch/>
        </p:blipFill>
        <p:spPr>
          <a:xfrm>
            <a:off x="5192640" y="3284640"/>
            <a:ext cx="3762360" cy="2822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Box 4"/>
          <p:cNvSpPr/>
          <p:nvPr/>
        </p:nvSpPr>
        <p:spPr>
          <a:xfrm>
            <a:off x="4500720" y="822240"/>
            <a:ext cx="453528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ервая матрёшк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гра «Цветочная поляна»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ужит для формирования навыков шнуровки (шнурование, завязывание шнурка на бант, закреплению навыков счета, сравнению множеств, различению цвета и ориентировке на плоскост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учики солнышка - на липучках, цветы - на кнопках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0" name="Рисунок 1" descr=""/>
          <p:cNvPicPr/>
          <p:nvPr/>
        </p:nvPicPr>
        <p:blipFill>
          <a:blip r:embed="rId1"/>
          <a:stretch/>
        </p:blipFill>
        <p:spPr>
          <a:xfrm>
            <a:off x="539640" y="1125360"/>
            <a:ext cx="3648240" cy="2735280"/>
          </a:xfrm>
          <a:prstGeom prst="rect">
            <a:avLst/>
          </a:prstGeom>
          <a:ln w="0">
            <a:noFill/>
          </a:ln>
        </p:spPr>
      </p:pic>
      <p:pic>
        <p:nvPicPr>
          <p:cNvPr id="171" name="Рисунок 2" descr=""/>
          <p:cNvPicPr/>
          <p:nvPr/>
        </p:nvPicPr>
        <p:blipFill>
          <a:blip r:embed="rId2"/>
          <a:stretch/>
        </p:blipFill>
        <p:spPr>
          <a:xfrm>
            <a:off x="4859280" y="3770280"/>
            <a:ext cx="3745080" cy="2808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Прямоугольник 3"/>
          <p:cNvSpPr/>
          <p:nvPr/>
        </p:nvSpPr>
        <p:spPr>
          <a:xfrm>
            <a:off x="468360" y="765000"/>
            <a:ext cx="8064360" cy="21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торая матрешка   - игра  «Наряди матрешку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ям предлагают нарядить матрешку с помощью застегивание и растягивание пуговиц. В этой игре ребенок  закрепляет  названия цветов и   прямой и обратный счет в пределах 10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3" name="Рисунок 1" descr=""/>
          <p:cNvPicPr/>
          <p:nvPr/>
        </p:nvPicPr>
        <p:blipFill>
          <a:blip r:embed="rId1"/>
          <a:stretch/>
        </p:blipFill>
        <p:spPr>
          <a:xfrm>
            <a:off x="684360" y="3141720"/>
            <a:ext cx="3827160" cy="2862360"/>
          </a:xfrm>
          <a:prstGeom prst="rect">
            <a:avLst/>
          </a:prstGeom>
          <a:ln w="0">
            <a:noFill/>
          </a:ln>
        </p:spPr>
      </p:pic>
      <p:pic>
        <p:nvPicPr>
          <p:cNvPr id="174" name="Рисунок 2" descr=""/>
          <p:cNvPicPr/>
          <p:nvPr/>
        </p:nvPicPr>
        <p:blipFill>
          <a:blip r:embed="rId2"/>
          <a:stretch/>
        </p:blipFill>
        <p:spPr>
          <a:xfrm>
            <a:off x="4859280" y="2981160"/>
            <a:ext cx="4021200" cy="3022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Box 1"/>
          <p:cNvSpPr/>
          <p:nvPr/>
        </p:nvSpPr>
        <p:spPr>
          <a:xfrm>
            <a:off x="250920" y="765000"/>
            <a:ext cx="90374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ретья  Матрёшка Игра -  «Модница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самой маленькой матрешки можно заплетать косы, нанизывать для неё бусы. Игры с бусинками помогают координации движений обеих рук и способствуют совершенствованию координации системы «глаз-рука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игре «Найди свой кармашек» ребенок раскладывает геометрические фигуры по цвету и форме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6" name="Рисунок 1" descr=""/>
          <p:cNvPicPr/>
          <p:nvPr/>
        </p:nvPicPr>
        <p:blipFill>
          <a:blip r:embed="rId1"/>
          <a:stretch/>
        </p:blipFill>
        <p:spPr>
          <a:xfrm>
            <a:off x="281160" y="3062160"/>
            <a:ext cx="4267080" cy="3200400"/>
          </a:xfrm>
          <a:prstGeom prst="rect">
            <a:avLst/>
          </a:prstGeom>
          <a:ln w="0">
            <a:noFill/>
          </a:ln>
        </p:spPr>
      </p:pic>
      <p:pic>
        <p:nvPicPr>
          <p:cNvPr id="177" name="Рисунок 2" descr=""/>
          <p:cNvPicPr/>
          <p:nvPr/>
        </p:nvPicPr>
        <p:blipFill>
          <a:blip r:embed="rId2"/>
          <a:stretch/>
        </p:blipFill>
        <p:spPr>
          <a:xfrm>
            <a:off x="5724360" y="2727360"/>
            <a:ext cx="2667240" cy="35481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Box 3"/>
          <p:cNvSpPr/>
          <p:nvPr/>
        </p:nvSpPr>
        <p:spPr>
          <a:xfrm>
            <a:off x="468360" y="1052640"/>
            <a:ext cx="8250120" cy="42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игры и упражнения  с игрушкой, которые проводятся с детьми в интересной, непринуждённой игровой форме помогают развивать не только мелкую моторику рук детей, их речь, внимание, мышление, а так же формирует дружеские взаимоотношения, доставляют им радость и удовольстви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30T14:18:18Z</dcterms:created>
  <dc:creator>Zorro</dc:creator>
  <dc:description/>
  <cp:keywords/>
  <dc:language>en-US</dc:language>
  <cp:lastModifiedBy>Лена</cp:lastModifiedBy>
  <dcterms:modified xsi:type="dcterms:W3CDTF">2022-02-11T08:10:06Z</dcterms:modified>
  <cp:revision>69</cp:revision>
  <dc:subject/>
  <dc:title>Презентация образовательной практики  «Детский выбор»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2867869990</vt:lpwstr>
  </property>
</Properties>
</file>