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3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925-26BB-49E0-BE7F-0672CAEF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5BF-3A6E-4784-B0EE-F7AAB33F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1A1-9D50-498B-BF69-23B0D4D9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F3C-14D0-40ED-B108-C300E91C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328-7392-457A-A457-D84ABF3F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761-8B33-4A6B-8877-297C179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55A-E33D-4E8A-B6B3-0EFAF786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0C0-7377-491E-A34F-EDA1DB40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FF9-3250-480D-A07F-880E241A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203-16FE-4EE3-8B47-741C2511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EE6-569C-49FC-82E4-068B27FC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184-F19F-4465-A827-D6AF031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F443-B857-41E1-931A-ACF9A8DAB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1951200"/>
            <a:ext cx="8272440" cy="1322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4206960" y="4743360"/>
            <a:ext cx="408924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46320" y="189000"/>
            <a:ext cx="810252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словосочетани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прилаг. + сущ.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.п.. Выдел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ончания имён прилага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08080" y="1484280"/>
            <a:ext cx="8905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башнях древнего Кремля всё яр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ёзды горят. На солнечном бере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ёрного моря раскину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здоровительный лагерь. При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нно нежится в лучах весенне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ышка. У маленьких детей щё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аснелись от сильного моро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72680" y="260280"/>
            <a:ext cx="4690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тавьте пропущенные оконч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91240" y="1052640"/>
            <a:ext cx="916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оло местн…. театра, воз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чаровательн… ребёнка,  д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…  дела, у маслян… пятн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алмазн… браслета, бе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лавн… архитект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2" descr=""/>
          <p:cNvPicPr/>
          <p:nvPr/>
        </p:nvPicPr>
        <p:blipFill>
          <a:blip r:embed="rId1"/>
          <a:stretch/>
        </p:blipFill>
        <p:spPr>
          <a:xfrm>
            <a:off x="517680" y="4376880"/>
            <a:ext cx="741348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Минус 3"/>
          <p:cNvSpPr/>
          <p:nvPr/>
        </p:nvSpPr>
        <p:spPr>
          <a:xfrm rot="17922600">
            <a:off x="4969080" y="4487400"/>
            <a:ext cx="863280" cy="432000"/>
          </a:xfrm>
          <a:custGeom>
            <a:avLst/>
            <a:gdLst>
              <a:gd name="textAreaLeft" fmla="*/ 114120 w 863280"/>
              <a:gd name="textAreaRight" fmla="*/ 749160 w 863280"/>
              <a:gd name="textAreaTop" fmla="*/ 165240 h 432000"/>
              <a:gd name="textAreaBottom" fmla="*/ 266760 h 432000"/>
            </a:gdLst>
            <a:ahLst/>
            <a:rect l="textAreaLeft" t="textAreaTop" r="textAreaRight" b="textAreaBottom"/>
            <a:pathLst>
              <a:path w="863600" h="431800">
                <a:moveTo>
                  <a:pt x="114470" y="165120"/>
                </a:moveTo>
                <a:lnTo>
                  <a:pt x="749130" y="165120"/>
                </a:lnTo>
                <a:lnTo>
                  <a:pt x="749130" y="266680"/>
                </a:lnTo>
                <a:lnTo>
                  <a:pt x="114470" y="26668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395280" y="40464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а за сто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 для еды накрыто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ятного желаем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netvesu100.ru/wp-content/uploads/2012/03/zavtrak.jpg"/>
          <p:cNvPicPr/>
          <p:nvPr/>
        </p:nvPicPr>
        <p:blipFill>
          <a:blip r:embed="rId2"/>
          <a:stretch/>
        </p:blipFill>
        <p:spPr>
          <a:xfrm>
            <a:off x="5796000" y="189000"/>
            <a:ext cx="3060720" cy="418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nefertiti.in.ua/assets/images/pic13/apetitjnknjkn.jpg"/>
          <p:cNvPicPr/>
          <p:nvPr/>
        </p:nvPicPr>
        <p:blipFill>
          <a:blip r:embed="rId1"/>
          <a:stretch/>
        </p:blipFill>
        <p:spPr>
          <a:xfrm>
            <a:off x="1403280" y="189000"/>
            <a:ext cx="6091200" cy="4894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987480" y="4803840"/>
            <a:ext cx="676584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Минус 5"/>
          <p:cNvSpPr/>
          <p:nvPr/>
        </p:nvSpPr>
        <p:spPr>
          <a:xfrm rot="17922600">
            <a:off x="5473440" y="5063400"/>
            <a:ext cx="863640" cy="432000"/>
          </a:xfrm>
          <a:custGeom>
            <a:avLst/>
            <a:gdLst>
              <a:gd name="textAreaLeft" fmla="*/ 114480 w 863640"/>
              <a:gd name="textAreaRight" fmla="*/ 749160 w 863640"/>
              <a:gd name="textAreaTop" fmla="*/ 165240 h 432000"/>
              <a:gd name="textAreaBottom" fmla="*/ 266760 h 432000"/>
            </a:gdLst>
            <a:ahLst/>
            <a:rect l="textAreaLeft" t="textAreaTop" r="textAreaRight" b="textAreaBottom"/>
            <a:pathLst>
              <a:path w="863600" h="431800">
                <a:moveTo>
                  <a:pt x="114470" y="165120"/>
                </a:moveTo>
                <a:lnTo>
                  <a:pt x="749130" y="165120"/>
                </a:lnTo>
                <a:lnTo>
                  <a:pt x="749130" y="266680"/>
                </a:lnTo>
                <a:lnTo>
                  <a:pt x="114470" y="26668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4 класс\русский язык уроки\таблицы\скриншон\аппетит.png"/>
          <p:cNvPicPr/>
          <p:nvPr/>
        </p:nvPicPr>
        <p:blipFill>
          <a:blip r:embed="rId1"/>
          <a:stretch/>
        </p:blipFill>
        <p:spPr>
          <a:xfrm>
            <a:off x="250920" y="1052640"/>
            <a:ext cx="8146800" cy="532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taraskina-mama.ru/wp-content/uploads/2009/08/appetit1.jpg"/>
          <p:cNvPicPr/>
          <p:nvPr/>
        </p:nvPicPr>
        <p:blipFill>
          <a:blip r:embed="rId2"/>
          <a:stretch/>
        </p:blipFill>
        <p:spPr>
          <a:xfrm>
            <a:off x="6516720" y="189000"/>
            <a:ext cx="2232000" cy="33544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2124720" y="189000"/>
            <a:ext cx="4206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рассказ по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lib.rus.ec/i/42/206042/i_041.jpg"/>
          <p:cNvPicPr/>
          <p:nvPr/>
        </p:nvPicPr>
        <p:blipFill>
          <a:blip r:embed="rId1"/>
          <a:srcRect l="8433" t="1892" r="4810" b="6389"/>
          <a:stretch/>
        </p:blipFill>
        <p:spPr>
          <a:xfrm>
            <a:off x="611280" y="765000"/>
            <a:ext cx="7715160" cy="597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клипарты\цифры буквы\цифры запятые точки\0_4bc3a_c392e0c9_L.png"/>
          <p:cNvPicPr/>
          <p:nvPr/>
        </p:nvPicPr>
        <p:blipFill>
          <a:blip r:embed="rId2"/>
          <a:stretch/>
        </p:blipFill>
        <p:spPr>
          <a:xfrm>
            <a:off x="7164360" y="260280"/>
            <a:ext cx="1590840" cy="1590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95280" y="1413000"/>
            <a:ext cx="62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узнали сего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повтор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что Вы можете себя по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39640" y="3933720"/>
            <a:ext cx="590400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цените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Зелёный цвет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ё понял, могу идти да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ёлтый цвет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щё ошибаю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асный цвет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п! Мне нужна помощ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80240" y="2133720"/>
            <a:ext cx="4206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разбор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02920" y="3068640"/>
            <a:ext cx="61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дяное   дых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етра предвеща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силение мороз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13560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870880" y="450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40360" y="260280"/>
            <a:ext cx="59598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слова, где звуков больше, чем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3800" y="1125360"/>
            <a:ext cx="84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бъявление, коньк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сса, подъём, Анн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олосья, ёлка, лос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клипарты\Дети\6e4e87678608.png"/>
          <p:cNvPicPr/>
          <p:nvPr/>
        </p:nvPicPr>
        <p:blipFill>
          <a:blip r:embed="rId1"/>
          <a:srcRect l="49861" t="0" r="0" b="0"/>
          <a:stretch/>
        </p:blipFill>
        <p:spPr>
          <a:xfrm>
            <a:off x="7164360" y="3878280"/>
            <a:ext cx="1295280" cy="297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11480" y="260280"/>
            <a:ext cx="69411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йте от данных имён существительных и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агательные среднего или мужского 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12560" y="1413000"/>
            <a:ext cx="8629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ссия, правительств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, завод, инжене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ктричество, пассаж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зяйство, животное, огород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т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6080" y="189000"/>
            <a:ext cx="75963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ому признаку словосочетания разбиты на групп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вьте словосочетания в Родительном пад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15440" y="1268280"/>
            <a:ext cx="411264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уктовый 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ячий ч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убокое озе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226680" y="3933720"/>
            <a:ext cx="5446080" cy="25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круглого ст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синего мо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масляного пят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скорого по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:\4 класс\русский язык уроки\таблицы\скриншон\10.png"/>
          <p:cNvPicPr/>
          <p:nvPr/>
        </p:nvPicPr>
        <p:blipFill>
          <a:blip r:embed="rId1"/>
          <a:stretch/>
        </p:blipFill>
        <p:spPr>
          <a:xfrm>
            <a:off x="250920" y="549360"/>
            <a:ext cx="869004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1676520" y="5535720"/>
            <a:ext cx="2547720" cy="11509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3"/>
          <a:stretch/>
        </p:blipFill>
        <p:spPr>
          <a:xfrm>
            <a:off x="6145200" y="5608800"/>
            <a:ext cx="310824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06:29:13Z</dcterms:created>
  <dc:creator>Еленга Берюхова</dc:creator>
  <dc:description/>
  <dc:language>en-US</dc:language>
  <cp:lastModifiedBy>Еленга Берюхова</cp:lastModifiedBy>
  <dcterms:modified xsi:type="dcterms:W3CDTF">2015-04-13T20:50:24Z</dcterms:modified>
  <cp:revision>12</cp:revision>
  <dc:subject/>
  <dc:title>Слайд 1</dc:title>
</cp:coreProperties>
</file>