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drumroll.wav" ContentType="audio/x-wav"/>
  <Override PartName="/ppt/media/image7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8.gif" ContentType="image/gif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33A-E80C-4827-B8B8-DEB74BD0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9379-72F2-44B1-97CA-A5E15D86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2AB-66CF-4F6F-B129-F7CAD928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12A-9791-4E73-8E15-DD812227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45E2-3F2D-4160-B66F-36042F23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82B1-1B9F-4978-88B8-A719FDA3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B966-BA64-4ED0-A65D-80BD24BC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9661-B55A-497E-A796-DBED8752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52F7-FCB4-4515-8179-78A2F532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2289-9BF9-4B49-B5A6-32B9FAEE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42BE-EDA1-4A5C-B4BC-41F0366F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0F1-ED92-4C0C-B490-9BFDB953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3300-F236-497C-BFFE-8C9C5775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1CAC-BDE5-48DE-8C2F-F737D1C1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33AB-826E-4782-93D8-4711C3FE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D5EF-E280-4692-933D-8AA2094A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EE23-E020-4D4E-A805-5E147FD1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CF32-ADAF-4D33-9E30-FA37257D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00C4-4A85-4031-B6CD-7B1AE39F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AE72-0DFB-4526-A89E-7C734626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0778-EE79-4407-834E-E4F14059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C03-54F7-4510-84EA-7FFF992C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A4D-B9B1-44C3-8B55-2FF3131A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F38D-EDC2-42C4-B40E-0BB99244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1119-F12E-42C3-AFF4-48DCDA2DA9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A281-272C-4AF5-8028-AF988815C78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10.xml"/><Relationship Id="rId5" Type="http://schemas.openxmlformats.org/officeDocument/2006/relationships/slide" Target="slide2.xml"/><Relationship Id="rId6" Type="http://schemas.openxmlformats.org/officeDocument/2006/relationships/slide" Target="slide10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10.xm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11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11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12.xml"/><Relationship Id="rId7" Type="http://schemas.openxmlformats.org/officeDocument/2006/relationships/slide" Target="slide2.xml"/><Relationship Id="rId8" Type="http://schemas.openxmlformats.org/officeDocument/2006/relationships/slide" Target="slide12.xml"/><Relationship Id="rId9" Type="http://schemas.openxmlformats.org/officeDocument/2006/relationships/slide" Target="slide2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13.xml"/><Relationship Id="rId5" Type="http://schemas.openxmlformats.org/officeDocument/2006/relationships/slide" Target="slide2.xml"/><Relationship Id="rId6" Type="http://schemas.openxmlformats.org/officeDocument/2006/relationships/slide" Target="slide13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14.xml"/><Relationship Id="rId5" Type="http://schemas.openxmlformats.org/officeDocument/2006/relationships/slide" Target="slide2.xml"/><Relationship Id="rId6" Type="http://schemas.openxmlformats.org/officeDocument/2006/relationships/slide" Target="slide14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14.xml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6.xml"/><Relationship Id="rId3" Type="http://schemas.openxmlformats.org/officeDocument/2006/relationships/slide" Target="slide4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" Target="slide35.xml"/><Relationship Id="rId7" Type="http://schemas.openxmlformats.org/officeDocument/2006/relationships/slide" Target="slide34.xml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30.xml"/><Relationship Id="rId7" Type="http://schemas.openxmlformats.org/officeDocument/2006/relationships/slide" Target="slide31.xml"/><Relationship Id="rId8" Type="http://schemas.openxmlformats.org/officeDocument/2006/relationships/slide" Target="slide32.xml"/><Relationship Id="rId9" Type="http://schemas.openxmlformats.org/officeDocument/2006/relationships/slide" Target="slide24.xml"/><Relationship Id="rId10" Type="http://schemas.openxmlformats.org/officeDocument/2006/relationships/slide" Target="slide25.xml"/><Relationship Id="rId11" Type="http://schemas.openxmlformats.org/officeDocument/2006/relationships/slide" Target="slide26.xml"/><Relationship Id="rId12" Type="http://schemas.openxmlformats.org/officeDocument/2006/relationships/slide" Target="slide27.xml"/><Relationship Id="rId13" Type="http://schemas.openxmlformats.org/officeDocument/2006/relationships/slide" Target="slide28.xml"/><Relationship Id="rId14" Type="http://schemas.openxmlformats.org/officeDocument/2006/relationships/slide" Target="slide10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3.xml"/><Relationship Id="rId18" Type="http://schemas.openxmlformats.org/officeDocument/2006/relationships/slide" Target="slide14.xml"/><Relationship Id="rId19" Type="http://schemas.openxmlformats.org/officeDocument/2006/relationships/image" Target="../media/image3.png"/><Relationship Id="rId20" Type="http://schemas.openxmlformats.org/officeDocument/2006/relationships/slide" Target="slide15.xml"/><Relationship Id="rId21" Type="http://schemas.openxmlformats.org/officeDocument/2006/relationships/slide" Target="slide29.xml"/><Relationship Id="rId22" Type="http://schemas.openxmlformats.org/officeDocument/2006/relationships/slide" Target="slide33.xml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7.xml"/><Relationship Id="rId7" Type="http://schemas.openxmlformats.org/officeDocument/2006/relationships/slide" Target="slide2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8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8.xml"/><Relationship Id="rId9" Type="http://schemas.openxmlformats.org/officeDocument/2006/relationships/slide" Target="slide2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9.xml"/><Relationship Id="rId5" Type="http://schemas.openxmlformats.org/officeDocument/2006/relationships/slide" Target="slide2.xml"/><Relationship Id="rId6" Type="http://schemas.openxmlformats.org/officeDocument/2006/relationships/slide" Target="slide9.xml"/><Relationship Id="rId7" Type="http://schemas.openxmlformats.org/officeDocument/2006/relationships/slide" Target="slide2.xml"/><Relationship Id="rId8" Type="http://schemas.openxmlformats.org/officeDocument/2006/relationships/slide" Target="slide9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492000" y="836640"/>
            <a:ext cx="54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Я слушаю и забыва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вижу и запомина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делаю и понимаю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и Ван Мейт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395280" y="11253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глийский ученый, открывший основные законы механи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3">
            <a:hlinkClick r:id="rId3" action="ppaction://hlinksldjump"/>
          </p:cNvPr>
          <p:cNvSpPr/>
          <p:nvPr/>
        </p:nvSpPr>
        <p:spPr>
          <a:xfrm>
            <a:off x="3276720" y="2924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али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4">
            <a:hlinkClick r:id="rId5" action="ppaction://hlinksldjump"/>
          </p:cNvPr>
          <p:cNvSpPr/>
          <p:nvPr/>
        </p:nvSpPr>
        <p:spPr>
          <a:xfrm>
            <a:off x="3276720" y="36450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Дек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5">
            <a:hlinkClick r:id="rId7" action="ppaction://hlinksldjump"/>
          </p:cNvPr>
          <p:cNvSpPr/>
          <p:nvPr/>
        </p:nvSpPr>
        <p:spPr>
          <a:xfrm>
            <a:off x="3276720" y="43657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Нью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6">
            <a:hlinkClick r:id="rId9" action="ppaction://hlinksldjump"/>
          </p:cNvPr>
          <p:cNvSpPr/>
          <p:nvPr/>
        </p:nvSpPr>
        <p:spPr>
          <a:xfrm>
            <a:off x="3276720" y="501336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Гюйге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539640" y="836640"/>
            <a:ext cx="842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кторная физическая величина, численно равная изменению скорости за единицу времен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3">
            <a:hlinkClick r:id="rId3" action="ppaction://hlinksldjump"/>
          </p:cNvPr>
          <p:cNvSpPr/>
          <p:nvPr/>
        </p:nvSpPr>
        <p:spPr>
          <a:xfrm>
            <a:off x="3276720" y="2924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ко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4">
            <a:hlinkClick r:id="rId5" action="ppaction://hlinksldjump"/>
          </p:cNvPr>
          <p:cNvSpPr/>
          <p:nvPr/>
        </p:nvSpPr>
        <p:spPr>
          <a:xfrm>
            <a:off x="3276720" y="45086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уск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">
            <a:hlinkClick r:id="rId7" action="ppaction://hlinksldjump"/>
          </p:cNvPr>
          <p:cNvSpPr/>
          <p:nvPr/>
        </p:nvSpPr>
        <p:spPr>
          <a:xfrm>
            <a:off x="3276720" y="371628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мгновенная ско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324000" y="112536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ла, с которой Земля притягивает к себе все те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">
            <a:hlinkClick r:id="rId3" action="ppaction://hlinksldjump"/>
          </p:cNvPr>
          <p:cNvSpPr/>
          <p:nvPr/>
        </p:nvSpPr>
        <p:spPr>
          <a:xfrm>
            <a:off x="3348000" y="2781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5">
            <a:hlinkClick r:id="rId5" action="ppaction://hlinksldjump"/>
          </p:cNvPr>
          <p:cNvSpPr/>
          <p:nvPr/>
        </p:nvSpPr>
        <p:spPr>
          <a:xfrm>
            <a:off x="3276720" y="357336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ес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">
            <a:hlinkClick r:id="rId7" action="ppaction://hlinksldjump"/>
          </p:cNvPr>
          <p:cNvSpPr/>
          <p:nvPr/>
        </p:nvSpPr>
        <p:spPr>
          <a:xfrm>
            <a:off x="3276720" y="4437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всемирного тяго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>
            <a:hlinkClick r:id="rId9" action="ppaction://hlinksldjump"/>
          </p:cNvPr>
          <p:cNvSpPr/>
          <p:nvPr/>
        </p:nvSpPr>
        <p:spPr>
          <a:xfrm>
            <a:off x="3276720" y="530064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реакции оп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250920" y="54936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ла, возникающая благодаря существованию сил взаимодействия между молекулами и атомами соприкасающихся т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">
            <a:hlinkClick r:id="rId3" action="ppaction://hlinksldjump"/>
          </p:cNvPr>
          <p:cNvSpPr/>
          <p:nvPr/>
        </p:nvSpPr>
        <p:spPr>
          <a:xfrm>
            <a:off x="3276720" y="30686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4">
            <a:hlinkClick r:id="rId5" action="ppaction://hlinksldjump"/>
          </p:cNvPr>
          <p:cNvSpPr/>
          <p:nvPr/>
        </p:nvSpPr>
        <p:spPr>
          <a:xfrm>
            <a:off x="3276720" y="3716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упруг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5">
            <a:hlinkClick r:id="rId7" action="ppaction://hlinksldjump"/>
          </p:cNvPr>
          <p:cNvSpPr/>
          <p:nvPr/>
        </p:nvSpPr>
        <p:spPr>
          <a:xfrm>
            <a:off x="3276720" y="43657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т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6">
            <a:hlinkClick r:id="rId9" action="ppaction://hlinksldjump"/>
          </p:cNvPr>
          <p:cNvSpPr/>
          <p:nvPr/>
        </p:nvSpPr>
        <p:spPr>
          <a:xfrm>
            <a:off x="3276720" y="5013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сопроти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179280" y="40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44892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ра взаимодействия т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">
            <a:hlinkClick r:id="rId3" action="ppaction://hlinksldjump"/>
          </p:cNvPr>
          <p:cNvSpPr/>
          <p:nvPr/>
        </p:nvSpPr>
        <p:spPr>
          <a:xfrm>
            <a:off x="3059280" y="2349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инер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4">
            <a:hlinkClick r:id="rId5" action="ppaction://hlinksldjump"/>
          </p:cNvPr>
          <p:cNvSpPr/>
          <p:nvPr/>
        </p:nvSpPr>
        <p:spPr>
          <a:xfrm>
            <a:off x="3059280" y="2997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м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5">
            <a:hlinkClick r:id="rId7" action="ppaction://hlinksldjump"/>
          </p:cNvPr>
          <p:cNvSpPr/>
          <p:nvPr/>
        </p:nvSpPr>
        <p:spPr>
          <a:xfrm>
            <a:off x="3059280" y="37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с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6">
            <a:hlinkClick r:id="rId9" action="ppaction://hlinksldjump"/>
          </p:cNvPr>
          <p:cNvSpPr/>
          <p:nvPr/>
        </p:nvSpPr>
        <p:spPr>
          <a:xfrm>
            <a:off x="3059280" y="429264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де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324000" y="83664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дел механики, в котором изучают закономерности механического движения материальных тел под действием приложенных к ним си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3">
            <a:hlinkClick r:id="rId3" action="ppaction://hlinksldjump"/>
          </p:cNvPr>
          <p:cNvSpPr/>
          <p:nvPr/>
        </p:nvSpPr>
        <p:spPr>
          <a:xfrm>
            <a:off x="2916360" y="3500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ине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4"/>
          <p:cNvSpPr/>
          <p:nvPr/>
        </p:nvSpPr>
        <p:spPr>
          <a:xfrm>
            <a:off x="2916360" y="4149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5"/>
          <p:cNvSpPr/>
          <p:nvPr/>
        </p:nvSpPr>
        <p:spPr>
          <a:xfrm>
            <a:off x="2916360" y="4797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:\Users\User\Desktop\Balls.gif"/>
          <p:cNvPicPr/>
          <p:nvPr/>
        </p:nvPicPr>
        <p:blipFill>
          <a:blip r:embed="rId1"/>
          <a:stretch/>
        </p:blipFill>
        <p:spPr>
          <a:xfrm>
            <a:off x="3419640" y="3068640"/>
            <a:ext cx="2006280" cy="15048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8785440" cy="27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ТЕМА: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Импульс тела. Закон сохранения импульс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Управляющая кнопка: назад 8"/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651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ачи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052280"/>
            <a:ext cx="8569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ть понятия “импульс тела”, “импульс силы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вести формулу закона сохранения импуль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строить алгоритм решения задач на закон сохранения импуль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крепить полученные знания при решении зада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Заголовок 1"/>
          <p:cNvSpPr/>
          <p:nvPr/>
        </p:nvSpPr>
        <p:spPr>
          <a:xfrm>
            <a:off x="179280" y="4941720"/>
            <a:ext cx="87854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ие величины необходимо знать для характеристики движения?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boss\Рабочий стол\презентация к конкурсу\шар\шар.gif"/>
          <p:cNvPicPr/>
          <p:nvPr/>
        </p:nvPicPr>
        <p:blipFill>
          <a:blip r:embed="rId1"/>
          <a:stretch/>
        </p:blipFill>
        <p:spPr>
          <a:xfrm>
            <a:off x="933480" y="2305080"/>
            <a:ext cx="7277040" cy="224784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2"/>
          <p:cNvSpPr/>
          <p:nvPr/>
        </p:nvSpPr>
        <p:spPr>
          <a:xfrm>
            <a:off x="179280" y="189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жно ли найти силу взаимодействия шара и тел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" descr="C:\Documents and Settings\boss\Рабочий стол\презентация к конкурсу\тележка1\тележка1.gif"/>
          <p:cNvPicPr/>
          <p:nvPr/>
        </p:nvPicPr>
        <p:blipFill>
          <a:blip r:embed="rId1"/>
          <a:stretch/>
        </p:blipFill>
        <p:spPr>
          <a:xfrm>
            <a:off x="933480" y="2133720"/>
            <a:ext cx="7277040" cy="259056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3"/>
          <p:cNvSpPr/>
          <p:nvPr/>
        </p:nvSpPr>
        <p:spPr>
          <a:xfrm>
            <a:off x="250920" y="260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жно ли в данном случае найти силу взаимодействия тележки и те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042920" y="115920"/>
          <a:ext cx="7345440" cy="6442200"/>
        </p:xfrm>
        <a:graphic>
          <a:graphicData uri="http://schemas.openxmlformats.org/drawingml/2006/table">
            <a:tbl>
              <a:tblPr/>
              <a:tblGrid>
                <a:gridCol w="668520"/>
                <a:gridCol w="666720"/>
                <a:gridCol w="668160"/>
                <a:gridCol w="668520"/>
                <a:gridCol w="666720"/>
                <a:gridCol w="668160"/>
                <a:gridCol w="666720"/>
                <a:gridCol w="668520"/>
                <a:gridCol w="668160"/>
                <a:gridCol w="666720"/>
                <a:gridCol w="668520"/>
              </a:tblGrid>
              <a:tr h="366120">
                <a:tc gridSpan="7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6120">
                <a:tc rowSpan="6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1042920" y="549360"/>
          <a:ext cx="668520" cy="3456000"/>
        </p:xfrm>
        <a:graphic>
          <a:graphicData uri="http://schemas.openxmlformats.org/drawingml/2006/table">
            <a:tbl>
              <a:tblPr/>
              <a:tblGrid>
                <a:gridCol w="66852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692360" y="549360"/>
          <a:ext cx="720720" cy="475272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43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703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3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4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3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4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411280" y="2492280"/>
          <a:ext cx="648000" cy="4103640"/>
        </p:xfrm>
        <a:graphic>
          <a:graphicData uri="http://schemas.openxmlformats.org/drawingml/2006/table">
            <a:tbl>
              <a:tblPr/>
              <a:tblGrid>
                <a:gridCol w="648000"/>
              </a:tblGrid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60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12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82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059280" y="2492280"/>
          <a:ext cx="647640" cy="150840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503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4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708360" y="1989000"/>
          <a:ext cx="668520" cy="4118040"/>
        </p:xfrm>
        <a:graphic>
          <a:graphicData uri="http://schemas.openxmlformats.org/drawingml/2006/table">
            <a:tbl>
              <a:tblPr/>
              <a:tblGrid>
                <a:gridCol w="668520"/>
              </a:tblGrid>
              <a:tr h="516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07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39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39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80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356000" y="2492280"/>
          <a:ext cx="668520" cy="2820960"/>
        </p:xfrm>
        <a:graphic>
          <a:graphicData uri="http://schemas.openxmlformats.org/drawingml/2006/table">
            <a:tbl>
              <a:tblPr/>
              <a:tblGrid>
                <a:gridCol w="668520"/>
              </a:tblGrid>
              <a:tr h="515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52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4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19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4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003640" y="2492280"/>
          <a:ext cx="720720" cy="410544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495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94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94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724360" y="3429000"/>
          <a:ext cx="668520" cy="3164040"/>
        </p:xfrm>
        <a:graphic>
          <a:graphicData uri="http://schemas.openxmlformats.org/drawingml/2006/table">
            <a:tbl>
              <a:tblPr/>
              <a:tblGrid>
                <a:gridCol w="66852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93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372360" y="2565360"/>
          <a:ext cx="720720" cy="277164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4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63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4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4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7093080" y="2565360"/>
          <a:ext cx="647640" cy="189072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7740720" y="1989000"/>
          <a:ext cx="647640" cy="371808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567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41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67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24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sp>
        <p:nvSpPr>
          <p:cNvPr id="95" name="Управляющая кнопка: назад 22">
            <a:hlinkClick r:id="rId1" action="ppaction://hlinksldjump"/>
          </p:cNvPr>
          <p:cNvSpPr/>
          <p:nvPr/>
        </p:nvSpPr>
        <p:spPr>
          <a:xfrm>
            <a:off x="7164360" y="616572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3" h="21600">
                <a:moveTo>
                  <a:pt x="12795" y="10800"/>
                </a:moveTo>
                <a:lnTo>
                  <a:pt x="26808" y="3794"/>
                </a:lnTo>
                <a:lnTo>
                  <a:pt x="2680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далее 23">
            <a:hlinkClick r:id="rId2" action="ppaction://hlinksldjump"/>
          </p:cNvPr>
          <p:cNvSpPr/>
          <p:nvPr/>
        </p:nvSpPr>
        <p:spPr>
          <a:xfrm>
            <a:off x="8101080" y="616572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3794"/>
                </a:moveTo>
                <a:lnTo>
                  <a:pt x="26799" y="10800"/>
                </a:lnTo>
                <a:lnTo>
                  <a:pt x="1278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:\Documents and Settings\boss\Рабочий стол\презентация к конкурсу\масса и скорость\масса и скорость.gif"/>
          <p:cNvPicPr/>
          <p:nvPr/>
        </p:nvPicPr>
        <p:blipFill>
          <a:blip r:embed="rId1"/>
          <a:stretch/>
        </p:blipFill>
        <p:spPr>
          <a:xfrm>
            <a:off x="755640" y="2708280"/>
            <a:ext cx="7277040" cy="281952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2"/>
          <p:cNvSpPr/>
          <p:nvPr/>
        </p:nvSpPr>
        <p:spPr>
          <a:xfrm>
            <a:off x="324000" y="6922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елайте вывод: с помощью каких физических величин можно охарактеризовать движение те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179280" y="1989000"/>
            <a:ext cx="878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ы Ньютона позволяют решать задачи связанные с нахождением ускорения движущегося тела, если известны все действующие на тело силы, т.е. равнодействующая всех сил. Но часто бывает очень сложно определить равнодействующую силу, как это было в наших случа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"/>
          <p:cNvSpPr/>
          <p:nvPr/>
        </p:nvSpPr>
        <p:spPr>
          <a:xfrm>
            <a:off x="250920" y="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на вас катится игрушечная тележка, вы можете остановить ее носком ноги, а если на вас катится грузов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"/>
          <p:cNvSpPr/>
          <p:nvPr/>
        </p:nvSpPr>
        <p:spPr>
          <a:xfrm>
            <a:off x="250920" y="436572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характеристики движения надо знать массу тела и его скор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ому для решения задач используют еще одну важнейшую физическую величину 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мпульс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сторические сведения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не Декар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708000" y="1915920"/>
            <a:ext cx="497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импульса было введено в физику французским учены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не Декар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1596 -1650г.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назвал эту величину  «количеством движения, которое никогда не увеличивается, не уменьшается, и, таким образом, если одно тело приводит в движение другое, то теряет столь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 своего движения, сколько его сообщает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2" descr="Декарт"/>
          <p:cNvPicPr/>
          <p:nvPr/>
        </p:nvPicPr>
        <p:blipFill>
          <a:blip r:embed="rId1"/>
          <a:stretch/>
        </p:blipFill>
        <p:spPr>
          <a:xfrm>
            <a:off x="250920" y="2060640"/>
            <a:ext cx="316872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Закон сохранения импуль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Управляющая кнопка: назад 5"/>
          <p:cNvSpPr/>
          <p:nvPr/>
        </p:nvSpPr>
        <p:spPr>
          <a:xfrm rot="5400000">
            <a:off x="7955640" y="6238080"/>
            <a:ext cx="649080" cy="3585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9084" h="21600">
                <a:moveTo>
                  <a:pt x="0" y="0"/>
                </a:moveTo>
                <a:lnTo>
                  <a:pt x="39084" y="0"/>
                </a:lnTo>
                <a:lnTo>
                  <a:pt x="39084" y="21600"/>
                </a:lnTo>
                <a:lnTo>
                  <a:pt x="0" y="21600"/>
                </a:lnTo>
                <a:close/>
              </a:path>
              <a:path fill="lightenLess" w="39084" h="21600">
                <a:moveTo>
                  <a:pt x="0" y="0"/>
                </a:moveTo>
                <a:lnTo>
                  <a:pt x="39084" y="0"/>
                </a:lnTo>
                <a:lnTo>
                  <a:pt x="37684" y="1400"/>
                </a:lnTo>
                <a:lnTo>
                  <a:pt x="1400" y="1400"/>
                </a:lnTo>
                <a:close/>
              </a:path>
              <a:path fill="darken" w="39084" h="21600">
                <a:moveTo>
                  <a:pt x="39084" y="0"/>
                </a:moveTo>
                <a:lnTo>
                  <a:pt x="39084" y="21600"/>
                </a:lnTo>
                <a:lnTo>
                  <a:pt x="37684" y="20200"/>
                </a:lnTo>
                <a:lnTo>
                  <a:pt x="37684" y="1400"/>
                </a:lnTo>
                <a:close/>
              </a:path>
              <a:path fill="darkenLess" w="39084" h="21600">
                <a:moveTo>
                  <a:pt x="39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84" y="20200"/>
                </a:lnTo>
                <a:close/>
              </a:path>
              <a:path fill="lighten" w="39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84" h="21600">
                <a:moveTo>
                  <a:pt x="12535" y="10800"/>
                </a:moveTo>
                <a:lnTo>
                  <a:pt x="26548" y="3794"/>
                </a:lnTo>
                <a:lnTo>
                  <a:pt x="2654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611280" y="170028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то называется импульсом тела 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468360" y="76500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зовите единицы измерения импульса тела в С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250920" y="220500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чем заключается закон сохранения импульс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395280" y="2349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и каких условиях выполняется этот закон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611280" y="2205000"/>
            <a:ext cx="799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акую систему называют замкнутой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чему происходит отдача при выстреле из ружь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8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611280" y="189000"/>
            <a:ext cx="698508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вторение изучен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зучение нов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Arial"/>
              </a:rPr>
              <a:t>Закрепление изучен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Подведение итог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Задание на 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>
            <a:hlinkClick r:id="rId1" action="ppaction://hlinksldjump"/>
          </p:cNvPr>
          <p:cNvSpPr/>
          <p:nvPr/>
        </p:nvSpPr>
        <p:spPr>
          <a:xfrm>
            <a:off x="7164360" y="1341360"/>
            <a:ext cx="1079640" cy="57492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40551" h="21600">
                <a:moveTo>
                  <a:pt x="0" y="0"/>
                </a:moveTo>
                <a:lnTo>
                  <a:pt x="40551" y="0"/>
                </a:lnTo>
                <a:lnTo>
                  <a:pt x="40551" y="21600"/>
                </a:lnTo>
                <a:lnTo>
                  <a:pt x="0" y="21600"/>
                </a:lnTo>
                <a:close/>
              </a:path>
              <a:path fill="lightenLess" w="40551" h="21600">
                <a:moveTo>
                  <a:pt x="0" y="0"/>
                </a:moveTo>
                <a:lnTo>
                  <a:pt x="40551" y="0"/>
                </a:lnTo>
                <a:lnTo>
                  <a:pt x="39151" y="1400"/>
                </a:lnTo>
                <a:lnTo>
                  <a:pt x="1400" y="1400"/>
                </a:lnTo>
                <a:close/>
              </a:path>
              <a:path fill="darken" w="40551" h="21600">
                <a:moveTo>
                  <a:pt x="40551" y="0"/>
                </a:moveTo>
                <a:lnTo>
                  <a:pt x="40551" y="21600"/>
                </a:lnTo>
                <a:lnTo>
                  <a:pt x="39151" y="20200"/>
                </a:lnTo>
                <a:lnTo>
                  <a:pt x="39151" y="1400"/>
                </a:lnTo>
                <a:close/>
              </a:path>
              <a:path fill="darkenLess" w="40551" h="21600">
                <a:moveTo>
                  <a:pt x="40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51" y="20200"/>
                </a:lnTo>
                <a:close/>
              </a:path>
              <a:path fill="lighten" w="40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51" h="21600">
                <a:moveTo>
                  <a:pt x="13269" y="3794"/>
                </a:moveTo>
                <a:lnTo>
                  <a:pt x="27282" y="10800"/>
                </a:lnTo>
                <a:lnTo>
                  <a:pt x="13269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>
            <a:hlinkClick r:id="rId2" action="ppaction://hlinksldjump"/>
          </p:cNvPr>
          <p:cNvSpPr/>
          <p:nvPr/>
        </p:nvSpPr>
        <p:spPr>
          <a:xfrm>
            <a:off x="7236000" y="2637000"/>
            <a:ext cx="1079280" cy="5745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40563" h="21600">
                <a:moveTo>
                  <a:pt x="0" y="0"/>
                </a:moveTo>
                <a:lnTo>
                  <a:pt x="40563" y="0"/>
                </a:lnTo>
                <a:lnTo>
                  <a:pt x="40563" y="21600"/>
                </a:lnTo>
                <a:lnTo>
                  <a:pt x="0" y="21600"/>
                </a:lnTo>
                <a:close/>
              </a:path>
              <a:path fill="lightenLess" w="40563" h="21600">
                <a:moveTo>
                  <a:pt x="0" y="0"/>
                </a:moveTo>
                <a:lnTo>
                  <a:pt x="40563" y="0"/>
                </a:lnTo>
                <a:lnTo>
                  <a:pt x="39163" y="1400"/>
                </a:lnTo>
                <a:lnTo>
                  <a:pt x="1400" y="1400"/>
                </a:lnTo>
                <a:close/>
              </a:path>
              <a:path fill="darken" w="40563" h="21600">
                <a:moveTo>
                  <a:pt x="40563" y="0"/>
                </a:moveTo>
                <a:lnTo>
                  <a:pt x="40563" y="21600"/>
                </a:lnTo>
                <a:lnTo>
                  <a:pt x="39163" y="20200"/>
                </a:lnTo>
                <a:lnTo>
                  <a:pt x="39163" y="1400"/>
                </a:lnTo>
                <a:close/>
              </a:path>
              <a:path fill="darkenLess" w="40563" h="21600">
                <a:moveTo>
                  <a:pt x="40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63" y="20200"/>
                </a:lnTo>
                <a:close/>
              </a:path>
              <a:path fill="lighten" w="40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63" h="21600">
                <a:moveTo>
                  <a:pt x="13275" y="3794"/>
                </a:moveTo>
                <a:lnTo>
                  <a:pt x="27288" y="10800"/>
                </a:lnTo>
                <a:lnTo>
                  <a:pt x="13275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>
            <a:hlinkClick r:id="rId3" action="ppaction://hlinksldjump"/>
          </p:cNvPr>
          <p:cNvSpPr/>
          <p:nvPr/>
        </p:nvSpPr>
        <p:spPr>
          <a:xfrm>
            <a:off x="7236000" y="3500280"/>
            <a:ext cx="1079280" cy="57492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40537" h="21600">
                <a:moveTo>
                  <a:pt x="0" y="0"/>
                </a:moveTo>
                <a:lnTo>
                  <a:pt x="40537" y="0"/>
                </a:lnTo>
                <a:lnTo>
                  <a:pt x="40537" y="21600"/>
                </a:lnTo>
                <a:lnTo>
                  <a:pt x="0" y="21600"/>
                </a:lnTo>
                <a:close/>
              </a:path>
              <a:path fill="lightenLess" w="40537" h="21600">
                <a:moveTo>
                  <a:pt x="0" y="0"/>
                </a:moveTo>
                <a:lnTo>
                  <a:pt x="40537" y="0"/>
                </a:lnTo>
                <a:lnTo>
                  <a:pt x="39137" y="1400"/>
                </a:lnTo>
                <a:lnTo>
                  <a:pt x="1400" y="1400"/>
                </a:lnTo>
                <a:close/>
              </a:path>
              <a:path fill="darken" w="40537" h="21600">
                <a:moveTo>
                  <a:pt x="40537" y="0"/>
                </a:moveTo>
                <a:lnTo>
                  <a:pt x="40537" y="21600"/>
                </a:lnTo>
                <a:lnTo>
                  <a:pt x="39137" y="20200"/>
                </a:lnTo>
                <a:lnTo>
                  <a:pt x="39137" y="1400"/>
                </a:lnTo>
                <a:close/>
              </a:path>
              <a:path fill="darkenLess" w="40537" h="21600">
                <a:moveTo>
                  <a:pt x="40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37" y="20200"/>
                </a:lnTo>
                <a:close/>
              </a:path>
              <a:path fill="lighten" w="40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37" h="21600">
                <a:moveTo>
                  <a:pt x="13262" y="3794"/>
                </a:moveTo>
                <a:lnTo>
                  <a:pt x="27275" y="10800"/>
                </a:lnTo>
                <a:lnTo>
                  <a:pt x="13262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>
            <a:hlinkClick r:id="" action="ppaction://hlinkshowjump?jump=next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>
            <a:hlinkClick r:id="" action="ppaction://hlinkshowjump?jump=previousslide"/>
          </p:cNvPr>
          <p:cNvSpPr/>
          <p:nvPr/>
        </p:nvSpPr>
        <p:spPr>
          <a:xfrm rot="10800000">
            <a:off x="759600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1">
            <a:hlinkClick r:id="rId6" action="ppaction://hlinksldjump"/>
          </p:cNvPr>
          <p:cNvSpPr/>
          <p:nvPr/>
        </p:nvSpPr>
        <p:spPr>
          <a:xfrm>
            <a:off x="7164360" y="5589720"/>
            <a:ext cx="1224000" cy="504720"/>
          </a:xfrm>
          <a:custGeom>
            <a:avLst/>
            <a:gdLst>
              <a:gd name="textAreaLeft" fmla="*/ 32400 w 1224000"/>
              <a:gd name="textAreaRight" fmla="*/ 1191600 w 1224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2360" h="21600">
                <a:moveTo>
                  <a:pt x="0" y="0"/>
                </a:moveTo>
                <a:lnTo>
                  <a:pt x="52360" y="0"/>
                </a:lnTo>
                <a:lnTo>
                  <a:pt x="52360" y="21600"/>
                </a:lnTo>
                <a:lnTo>
                  <a:pt x="0" y="21600"/>
                </a:lnTo>
                <a:close/>
              </a:path>
              <a:path fill="lightenLess" w="52360" h="21600">
                <a:moveTo>
                  <a:pt x="0" y="0"/>
                </a:moveTo>
                <a:lnTo>
                  <a:pt x="52360" y="0"/>
                </a:lnTo>
                <a:lnTo>
                  <a:pt x="50960" y="1400"/>
                </a:lnTo>
                <a:lnTo>
                  <a:pt x="1400" y="1400"/>
                </a:lnTo>
                <a:close/>
              </a:path>
              <a:path fill="darken" w="52360" h="21600">
                <a:moveTo>
                  <a:pt x="52360" y="0"/>
                </a:moveTo>
                <a:lnTo>
                  <a:pt x="52360" y="21600"/>
                </a:lnTo>
                <a:lnTo>
                  <a:pt x="50960" y="20200"/>
                </a:lnTo>
                <a:lnTo>
                  <a:pt x="50960" y="1400"/>
                </a:lnTo>
                <a:close/>
              </a:path>
              <a:path fill="darkenLess" w="52360" h="21600">
                <a:moveTo>
                  <a:pt x="5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60" y="20200"/>
                </a:lnTo>
                <a:close/>
              </a:path>
              <a:path fill="lighten" w="5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60" h="21600">
                <a:moveTo>
                  <a:pt x="19174" y="3794"/>
                </a:moveTo>
                <a:lnTo>
                  <a:pt x="33187" y="10800"/>
                </a:lnTo>
                <a:lnTo>
                  <a:pt x="19174" y="17806"/>
                </a:lnTo>
                <a:close/>
              </a:path>
            </a:pathLst>
          </a:cu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>
            <a:hlinkClick r:id="rId7" action="ppaction://hlinksldjump"/>
          </p:cNvPr>
          <p:cNvSpPr/>
          <p:nvPr/>
        </p:nvSpPr>
        <p:spPr>
          <a:xfrm>
            <a:off x="7164360" y="4724280"/>
            <a:ext cx="1224000" cy="503280"/>
          </a:xfrm>
          <a:custGeom>
            <a:avLst/>
            <a:gdLst>
              <a:gd name="textAreaLeft" fmla="*/ 32400 w 1224000"/>
              <a:gd name="textAreaRight" fmla="*/ 1191600 w 1224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2510" h="21600">
                <a:moveTo>
                  <a:pt x="0" y="0"/>
                </a:moveTo>
                <a:lnTo>
                  <a:pt x="52510" y="0"/>
                </a:lnTo>
                <a:lnTo>
                  <a:pt x="52510" y="21600"/>
                </a:lnTo>
                <a:lnTo>
                  <a:pt x="0" y="21600"/>
                </a:lnTo>
                <a:close/>
              </a:path>
              <a:path fill="lightenLess" w="52510" h="21600">
                <a:moveTo>
                  <a:pt x="0" y="0"/>
                </a:moveTo>
                <a:lnTo>
                  <a:pt x="52510" y="0"/>
                </a:lnTo>
                <a:lnTo>
                  <a:pt x="51110" y="1400"/>
                </a:lnTo>
                <a:lnTo>
                  <a:pt x="1400" y="1400"/>
                </a:lnTo>
                <a:close/>
              </a:path>
              <a:path fill="darken" w="52510" h="21600">
                <a:moveTo>
                  <a:pt x="52510" y="0"/>
                </a:moveTo>
                <a:lnTo>
                  <a:pt x="52510" y="21600"/>
                </a:lnTo>
                <a:lnTo>
                  <a:pt x="51110" y="20200"/>
                </a:lnTo>
                <a:lnTo>
                  <a:pt x="51110" y="1400"/>
                </a:lnTo>
                <a:close/>
              </a:path>
              <a:path fill="darkenLess" w="52510" h="21600">
                <a:moveTo>
                  <a:pt x="525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10" y="20200"/>
                </a:lnTo>
                <a:close/>
              </a:path>
              <a:path fill="lighten" w="525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10" h="21600">
                <a:moveTo>
                  <a:pt x="19249" y="3794"/>
                </a:moveTo>
                <a:lnTo>
                  <a:pt x="33262" y="10800"/>
                </a:lnTo>
                <a:lnTo>
                  <a:pt x="19249" y="17806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6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539640" y="33336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неупругих тела, массы которых 2 и 6 кг, движутся навстречу друг другу со скоростями 2 м/с каждое. С какой скоростью и в каком направлении будут двигаться эти тела после уд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5" descr="http://festival.1september.ru/articles/517450/img2.gif"/>
          <p:cNvPicPr/>
          <p:nvPr/>
        </p:nvPicPr>
        <p:blipFill>
          <a:blip r:embed="rId2"/>
          <a:stretch/>
        </p:blipFill>
        <p:spPr>
          <a:xfrm>
            <a:off x="755640" y="2060640"/>
            <a:ext cx="74167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9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95280" y="33336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упругих тела, массы которых 2 и 6 кг, движутся навстречу друг другу со скоростями 2 м/с каждое. С какой скоростью и в каком направлении будут двигаться эти тела после уд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Группа 1"/>
          <p:cNvGrpSpPr/>
          <p:nvPr/>
        </p:nvGrpSpPr>
        <p:grpSpPr>
          <a:xfrm>
            <a:off x="1619280" y="2708280"/>
            <a:ext cx="5761080" cy="1498680"/>
            <a:chOff x="1619280" y="2708280"/>
            <a:chExt cx="5761080" cy="1498680"/>
          </a:xfrm>
        </p:grpSpPr>
        <p:pic>
          <p:nvPicPr>
            <p:cNvPr id="229" name="Рисунок 8" descr="http://festival.1september.ru/articles/517450/img2.gif"/>
            <p:cNvPicPr/>
            <p:nvPr/>
          </p:nvPicPr>
          <p:blipFill>
            <a:blip r:embed="rId2"/>
            <a:srcRect l="24531" t="0" r="0" b="68880"/>
            <a:stretch/>
          </p:blipFill>
          <p:spPr>
            <a:xfrm>
              <a:off x="1619280" y="2708280"/>
              <a:ext cx="576108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Управляющая кнопка: справка 9"/>
            <p:cNvSpPr/>
            <p:nvPr/>
          </p:nvSpPr>
          <p:spPr>
            <a:xfrm>
              <a:off x="5508720" y="2708280"/>
              <a:ext cx="502920" cy="576360"/>
            </a:xfrm>
            <a:custGeom>
              <a:avLst/>
              <a:gdLst>
                <a:gd name="textAreaLeft" fmla="*/ 32400 w 502920"/>
                <a:gd name="textAreaRight" fmla="*/ 470520 w 502920"/>
                <a:gd name="textAreaTop" fmla="*/ 32400 h 576360"/>
                <a:gd name="textAreaBottom" fmla="*/ 543960 h 576360"/>
              </a:gdLst>
              <a:ahLst/>
              <a:rect l="textAreaLeft" t="textAreaTop" r="textAreaRight" b="textAreaBottom"/>
              <a:pathLst>
                <a:path w="21600" h="24752">
                  <a:moveTo>
                    <a:pt x="0" y="0"/>
                  </a:moveTo>
                  <a:lnTo>
                    <a:pt x="21600" y="0"/>
                  </a:lnTo>
                  <a:lnTo>
                    <a:pt x="21600" y="24752"/>
                  </a:lnTo>
                  <a:lnTo>
                    <a:pt x="0" y="24752"/>
                  </a:lnTo>
                  <a:close/>
                </a:path>
                <a:path fill="lightenLess" w="21600" h="2475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4752">
                  <a:moveTo>
                    <a:pt x="21600" y="0"/>
                  </a:moveTo>
                  <a:lnTo>
                    <a:pt x="21600" y="24752"/>
                  </a:lnTo>
                  <a:lnTo>
                    <a:pt x="20200" y="23352"/>
                  </a:lnTo>
                  <a:lnTo>
                    <a:pt x="20200" y="1400"/>
                  </a:lnTo>
                  <a:close/>
                </a:path>
                <a:path fill="darkenLess" w="21600" h="24752">
                  <a:moveTo>
                    <a:pt x="21600" y="24752"/>
                  </a:moveTo>
                  <a:lnTo>
                    <a:pt x="0" y="24752"/>
                  </a:lnTo>
                  <a:lnTo>
                    <a:pt x="1400" y="23352"/>
                  </a:lnTo>
                  <a:lnTo>
                    <a:pt x="20200" y="23352"/>
                  </a:lnTo>
                  <a:close/>
                </a:path>
                <a:path fill="lighten" w="21600" h="24752">
                  <a:moveTo>
                    <a:pt x="0" y="2475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3352"/>
                  </a:lnTo>
                  <a:close/>
                </a:path>
                <a:path fill="darken" w="21600" h="24752">
                  <a:moveTo>
                    <a:pt x="10800" y="16380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4752">
                  <a:moveTo>
                    <a:pt x="11905" y="15857"/>
                  </a:moveTo>
                  <a:lnTo>
                    <a:pt x="11905" y="13899"/>
                  </a:lnTo>
                  <a:cubicBezTo>
                    <a:pt x="11905" y="13072"/>
                    <a:pt x="12236" y="12376"/>
                    <a:pt x="12837" y="12376"/>
                  </a:cubicBezTo>
                  <a:cubicBezTo>
                    <a:pt x="13968" y="12376"/>
                    <a:pt x="14865" y="11009"/>
                    <a:pt x="14865" y="9425"/>
                  </a:cubicBezTo>
                  <a:cubicBezTo>
                    <a:pt x="14865" y="7110"/>
                    <a:pt x="13011" y="5369"/>
                    <a:pt x="10800" y="5369"/>
                  </a:cubicBezTo>
                  <a:cubicBezTo>
                    <a:pt x="8589" y="5369"/>
                    <a:pt x="6918" y="7110"/>
                    <a:pt x="6918" y="9425"/>
                  </a:cubicBezTo>
                  <a:lnTo>
                    <a:pt x="8772" y="9425"/>
                  </a:lnTo>
                  <a:cubicBezTo>
                    <a:pt x="8772" y="8285"/>
                    <a:pt x="9695" y="7397"/>
                    <a:pt x="10800" y="7397"/>
                  </a:cubicBezTo>
                  <a:cubicBezTo>
                    <a:pt x="11905" y="7397"/>
                    <a:pt x="12837" y="8285"/>
                    <a:pt x="12837" y="9425"/>
                  </a:cubicBezTo>
                  <a:cubicBezTo>
                    <a:pt x="12837" y="10165"/>
                    <a:pt x="12367" y="10896"/>
                    <a:pt x="11905" y="10896"/>
                  </a:cubicBezTo>
                  <a:cubicBezTo>
                    <a:pt x="10800" y="10896"/>
                    <a:pt x="9695" y="12376"/>
                    <a:pt x="9695" y="13899"/>
                  </a:cubicBezTo>
                  <a:lnTo>
                    <a:pt x="9695" y="15857"/>
                  </a:lnTo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9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250920" y="9079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тавить текст озвучивания этого видеорол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пушка.avi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1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324000" y="1341360"/>
            <a:ext cx="8497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ового вы узнали сегодня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акова была  цель вашей деятель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ы достигли своей ц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ак вы открывали ново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ак вы поясните девиз ур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чем нам нужно знать закон сохранения импуль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ак вы оцениваете свою работу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250920" y="9079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79280" y="2060640"/>
            <a:ext cx="878544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 16, задача.10.24 (задачник Генденштейн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сообщение на тему: «Применение закона сохран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250920" y="692280"/>
            <a:ext cx="8569080" cy="2454480"/>
          </a:xfrm>
          <a:prstGeom prst="rect">
            <a:avLst/>
          </a:prstGeom>
          <a:solidFill>
            <a:srgbClr val="9ed3d7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24000" y="4869000"/>
            <a:ext cx="8569080" cy="14770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6000">
                <a:solidFill>
                  <a:srgbClr val="0033cc"/>
                </a:solidFill>
                <a:latin typeface="Arial"/>
                <a:ea typeface="Arial"/>
              </a:rPr>
              <a:t>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50920" y="3357720"/>
            <a:ext cx="8569080" cy="1191240"/>
          </a:xfrm>
          <a:prstGeom prst="rect">
            <a:avLst/>
          </a:prstGeom>
          <a:solidFill>
            <a:srgbClr val="d1d1f0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3564000" y="1197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4427640" y="1197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5292720" y="1197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6156360" y="1197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7020000" y="1197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2771640" y="501336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3708360" y="501336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4572000" y="501336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2771640" y="364500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3635280" y="364500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4500720" y="364500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5364000" y="364500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6227640" y="364500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7885080" y="1197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3564000" y="1989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4427640" y="1989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5292720" y="1989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6156360" y="1989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2">
            <a:hlinkClick r:id="" action="ppaction://hlinkshowjump?jump=previousslide"/>
          </p:cNvPr>
          <p:cNvSpPr/>
          <p:nvPr/>
        </p:nvSpPr>
        <p:spPr>
          <a:xfrm rot="10800000">
            <a:off x="8388000" y="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6"/>
          <p:cNvSpPr/>
          <p:nvPr/>
        </p:nvSpPr>
        <p:spPr>
          <a:xfrm>
            <a:off x="7020000" y="198900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1"/>
          <p:cNvSpPr/>
          <p:nvPr/>
        </p:nvSpPr>
        <p:spPr>
          <a:xfrm>
            <a:off x="7093080" y="3645000"/>
            <a:ext cx="720720" cy="57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5435640" y="5013360"/>
            <a:ext cx="720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5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468360" y="765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ение сохранения скорости постоянной при отсутствии внешних воздействий или при их компенса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4">
            <a:hlinkClick r:id="rId3" action="ppaction://hlinksldjump"/>
          </p:cNvPr>
          <p:cNvSpPr/>
          <p:nvPr/>
        </p:nvSpPr>
        <p:spPr>
          <a:xfrm>
            <a:off x="3276720" y="2924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инер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3276720" y="35002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уск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3276720" y="414972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равномерное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250920" y="33336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ение изменения объема или формы те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>
            <a:hlinkClick r:id="rId3" action="ppaction://hlinksldjump"/>
          </p:cNvPr>
          <p:cNvSpPr/>
          <p:nvPr/>
        </p:nvSpPr>
        <p:spPr>
          <a:xfrm>
            <a:off x="3348000" y="2637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упруг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3276720" y="35002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ласт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3276720" y="4292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де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250920" y="98100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ла, возникающая при деформации, стремящая вернуть тело в первоначальное полож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>
            <a:hlinkClick r:id="rId3" action="ppaction://hlinksldjump"/>
          </p:cNvPr>
          <p:cNvSpPr/>
          <p:nvPr/>
        </p:nvSpPr>
        <p:spPr>
          <a:xfrm>
            <a:off x="3276720" y="2924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упруг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">
            <a:hlinkClick r:id="rId5" action="ppaction://hlinksldjump"/>
          </p:cNvPr>
          <p:cNvSpPr/>
          <p:nvPr/>
        </p:nvSpPr>
        <p:spPr>
          <a:xfrm>
            <a:off x="3348000" y="3860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сопроти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">
            <a:hlinkClick r:id="rId7" action="ppaction://hlinksldjump"/>
          </p:cNvPr>
          <p:cNvSpPr/>
          <p:nvPr/>
        </p:nvSpPr>
        <p:spPr>
          <a:xfrm>
            <a:off x="3348000" y="4724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т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250920" y="76500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глийский ученый, современник Ньютона, установил зависимость силы упругости от деформа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">
            <a:hlinkClick r:id="rId3" action="ppaction://hlinksldjump"/>
          </p:cNvPr>
          <p:cNvSpPr/>
          <p:nvPr/>
        </p:nvSpPr>
        <p:spPr>
          <a:xfrm>
            <a:off x="3276720" y="2924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али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">
            <a:hlinkClick r:id="rId5" action="ppaction://hlinksldjump"/>
          </p:cNvPr>
          <p:cNvSpPr/>
          <p:nvPr/>
        </p:nvSpPr>
        <p:spPr>
          <a:xfrm>
            <a:off x="3348000" y="37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Г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">
            <a:hlinkClick r:id="rId7" action="ppaction://hlinksldjump"/>
          </p:cNvPr>
          <p:cNvSpPr/>
          <p:nvPr/>
        </p:nvSpPr>
        <p:spPr>
          <a:xfrm>
            <a:off x="3348000" y="4437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Дек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6">
            <a:hlinkClick r:id="rId9" action="ppaction://hlinksldjump"/>
          </p:cNvPr>
          <p:cNvSpPr/>
          <p:nvPr/>
        </p:nvSpPr>
        <p:spPr>
          <a:xfrm>
            <a:off x="3276720" y="522936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Гюйге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50920" y="404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ая единица масс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rId1" action="ppaction://hlinksldjump"/>
          </p:cNvPr>
          <p:cNvSpPr/>
          <p:nvPr/>
        </p:nvSpPr>
        <p:spPr>
          <a:xfrm rot="16200000">
            <a:off x="8420040" y="6133680"/>
            <a:ext cx="692280" cy="755640"/>
          </a:xfrm>
          <a:custGeom>
            <a:avLst/>
            <a:gdLst>
              <a:gd name="textAreaLeft" fmla="*/ 44640 w 692280"/>
              <a:gd name="textAreaRight" fmla="*/ 647640 w 692280"/>
              <a:gd name="textAreaTop" fmla="*/ 44640 h 755640"/>
              <a:gd name="textAreaBottom" fmla="*/ 711000 h 75564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1"/>
                </a:moveTo>
                <a:lnTo>
                  <a:pt x="17806" y="11788"/>
                </a:lnTo>
                <a:lnTo>
                  <a:pt x="3794" y="187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">
            <a:hlinkClick r:id="rId3" action="ppaction://hlinksldjump"/>
          </p:cNvPr>
          <p:cNvSpPr/>
          <p:nvPr/>
        </p:nvSpPr>
        <p:spPr>
          <a:xfrm>
            <a:off x="2916360" y="1773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4">
            <a:hlinkClick r:id="rId5" action="ppaction://hlinksldjump"/>
          </p:cNvPr>
          <p:cNvSpPr/>
          <p:nvPr/>
        </p:nvSpPr>
        <p:spPr>
          <a:xfrm>
            <a:off x="2916360" y="2492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тон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5">
            <a:hlinkClick r:id="rId7" action="ppaction://hlinksldjump"/>
          </p:cNvPr>
          <p:cNvSpPr/>
          <p:nvPr/>
        </p:nvSpPr>
        <p:spPr>
          <a:xfrm>
            <a:off x="2987640" y="3213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цент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6">
            <a:hlinkClick r:id="rId9" action="ppaction://hlinksldjump"/>
          </p:cNvPr>
          <p:cNvSpPr/>
          <p:nvPr/>
        </p:nvSpPr>
        <p:spPr>
          <a:xfrm>
            <a:off x="2987640" y="386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кило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04:54:15Z</dcterms:created>
  <dc:creator>Коновалова</dc:creator>
  <dc:description/>
  <dc:language>en-US</dc:language>
  <cp:lastModifiedBy>Пользователь</cp:lastModifiedBy>
  <dcterms:modified xsi:type="dcterms:W3CDTF">2022-02-12T13:41:52Z</dcterms:modified>
  <cp:revision>96</cp:revision>
  <dc:subject/>
  <dc:title>Слайд 1</dc:title>
</cp:coreProperties>
</file>