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drumroll.wav" ContentType="audio/x-wav"/>
  <Override PartName="/ppt/media/image7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8.gif" ContentType="image/gi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4D4-698D-4F93-982A-2B4016A1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C04-2299-4B7C-A778-0DB5443E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DF3-BAD3-4559-90AF-63931C93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6E0-74A4-40F0-95B0-3C9CB320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BB21-0081-4B15-962E-AB8D7663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C4F-6E0A-4299-8E2A-CFA36A2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7BDE-2C20-4096-B9C1-04837FA9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202E-B1F5-4A03-9C58-7C0365C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3E8A-65DA-4464-8868-2264E498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D34-46AF-4A7B-A41D-FD0BABD9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5B98-9C8B-4E82-BD38-D548869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1C8-EF20-46DF-B4BA-8692190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94DF-802E-4C47-8132-238EDEE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1DD9-B4A6-4839-B2A8-6F692D2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E52B-2508-4E82-ACA9-CD5D4474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44A-1C68-47F9-B6CB-515F240F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6EE-D8B0-42DB-B0BA-CA9D25B6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A67-E825-421A-B904-A1DF58FE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950-8857-487A-979A-5C912782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041-1B96-4CEC-BF66-812ABD7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DA9-973A-4FDA-BBD8-2D782C1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DCC-3C2C-4A8B-A05B-2AF01F9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A61-4608-4D23-A855-8C671B3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922-75E4-4049-8F14-EA6BEF8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B2EB-30B1-49F1-8573-3B403C995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A35-6F31-4E10-8CD1-1E079BA88E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" Target="slide2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" Target="slide12.xml"/><Relationship Id="rId9" Type="http://schemas.openxmlformats.org/officeDocument/2006/relationships/slide" Target="slide2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4.xml"/><Relationship Id="rId5" Type="http://schemas.openxmlformats.org/officeDocument/2006/relationships/slide" Target="slide2.xml"/><Relationship Id="rId6" Type="http://schemas.openxmlformats.org/officeDocument/2006/relationships/slide" Target="slide14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" Target="slide35.xml"/><Relationship Id="rId7" Type="http://schemas.openxmlformats.org/officeDocument/2006/relationships/slide" Target="slide34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image" Target="../media/image3.png"/><Relationship Id="rId20" Type="http://schemas.openxmlformats.org/officeDocument/2006/relationships/slide" Target="slide15.xml"/><Relationship Id="rId21" Type="http://schemas.openxmlformats.org/officeDocument/2006/relationships/slide" Target="slide29.xml"/><Relationship Id="rId22" Type="http://schemas.openxmlformats.org/officeDocument/2006/relationships/slide" Target="slide33.xml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7.xml"/><Relationship Id="rId7" Type="http://schemas.openxmlformats.org/officeDocument/2006/relationships/slide" Target="slide2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9.xml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" Target="slide2.xml"/><Relationship Id="rId8" Type="http://schemas.openxmlformats.org/officeDocument/2006/relationships/slide" Target="slide9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492000" y="83664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Я слушаю и забыв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вижу и запомин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делаю и понимаю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и Ван Мейт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95280" y="1125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глийский ученый, открывший основные законы меха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ал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>
            <a:hlinkClick r:id="rId5" action="ppaction://hlinksldjump"/>
          </p:cNvPr>
          <p:cNvSpPr/>
          <p:nvPr/>
        </p:nvSpPr>
        <p:spPr>
          <a:xfrm>
            <a:off x="3276720" y="3645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>
            <a:hlinkClick r:id="rId7" action="ppaction://hlinksldjump"/>
          </p:cNvPr>
          <p:cNvSpPr/>
          <p:nvPr/>
        </p:nvSpPr>
        <p:spPr>
          <a:xfrm>
            <a:off x="3276720" y="4365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>
            <a:hlinkClick r:id="rId9" action="ppaction://hlinksldjump"/>
          </p:cNvPr>
          <p:cNvSpPr/>
          <p:nvPr/>
        </p:nvSpPr>
        <p:spPr>
          <a:xfrm>
            <a:off x="3276720" y="5013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Гюйг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39640" y="83664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торная физическая величина, численно равная изменению скорости за единицу време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4">
            <a:hlinkClick r:id="rId5" action="ppaction://hlinksldjump"/>
          </p:cNvPr>
          <p:cNvSpPr/>
          <p:nvPr/>
        </p:nvSpPr>
        <p:spPr>
          <a:xfrm>
            <a:off x="3276720" y="4508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ск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>
            <a:hlinkClick r:id="rId7" action="ppaction://hlinksldjump"/>
          </p:cNvPr>
          <p:cNvSpPr/>
          <p:nvPr/>
        </p:nvSpPr>
        <p:spPr>
          <a:xfrm>
            <a:off x="3276720" y="3716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мгновенная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24000" y="1125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, с которой Земля притягивает к себе все те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>
            <a:hlinkClick r:id="rId3" action="ppaction://hlinksldjump"/>
          </p:cNvPr>
          <p:cNvSpPr/>
          <p:nvPr/>
        </p:nvSpPr>
        <p:spPr>
          <a:xfrm>
            <a:off x="3348000" y="2781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">
            <a:hlinkClick r:id="rId5" action="ppaction://hlinksldjump"/>
          </p:cNvPr>
          <p:cNvSpPr/>
          <p:nvPr/>
        </p:nvSpPr>
        <p:spPr>
          <a:xfrm>
            <a:off x="3276720" y="3573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с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>
            <a:hlinkClick r:id="rId7" action="ppaction://hlinksldjump"/>
          </p:cNvPr>
          <p:cNvSpPr/>
          <p:nvPr/>
        </p:nvSpPr>
        <p:spPr>
          <a:xfrm>
            <a:off x="3276720" y="443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>
            <a:hlinkClick r:id="rId9" action="ppaction://hlinksldjump"/>
          </p:cNvPr>
          <p:cNvSpPr/>
          <p:nvPr/>
        </p:nvSpPr>
        <p:spPr>
          <a:xfrm>
            <a:off x="3276720" y="5300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реакции оп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, возникающая благодаря существованию сил взаимодействия между молекулами и атомами соприкасающихся т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>
            <a:hlinkClick r:id="rId3" action="ppaction://hlinksldjump"/>
          </p:cNvPr>
          <p:cNvSpPr/>
          <p:nvPr/>
        </p:nvSpPr>
        <p:spPr>
          <a:xfrm>
            <a:off x="3276720" y="3068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>
            <a:hlinkClick r:id="rId5" action="ppaction://hlinksldjump"/>
          </p:cNvPr>
          <p:cNvSpPr/>
          <p:nvPr/>
        </p:nvSpPr>
        <p:spPr>
          <a:xfrm>
            <a:off x="3276720" y="3716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пру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5">
            <a:hlinkClick r:id="rId7" action="ppaction://hlinksldjump"/>
          </p:cNvPr>
          <p:cNvSpPr/>
          <p:nvPr/>
        </p:nvSpPr>
        <p:spPr>
          <a:xfrm>
            <a:off x="3276720" y="4365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>
            <a:hlinkClick r:id="rId9" action="ppaction://hlinksldjump"/>
          </p:cNvPr>
          <p:cNvSpPr/>
          <p:nvPr/>
        </p:nvSpPr>
        <p:spPr>
          <a:xfrm>
            <a:off x="327672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сопроти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7928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44892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а взаимодействия т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>
            <a:hlinkClick r:id="rId3" action="ppaction://hlinksldjump"/>
          </p:cNvPr>
          <p:cNvSpPr/>
          <p:nvPr/>
        </p:nvSpPr>
        <p:spPr>
          <a:xfrm>
            <a:off x="3059280" y="23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>
            <a:hlinkClick r:id="rId5" action="ppaction://hlinksldjump"/>
          </p:cNvPr>
          <p:cNvSpPr/>
          <p:nvPr/>
        </p:nvSpPr>
        <p:spPr>
          <a:xfrm>
            <a:off x="3059280" y="2997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м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>
            <a:hlinkClick r:id="rId7" action="ppaction://hlinksldjump"/>
          </p:cNvPr>
          <p:cNvSpPr/>
          <p:nvPr/>
        </p:nvSpPr>
        <p:spPr>
          <a:xfrm>
            <a:off x="305928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>
            <a:hlinkClick r:id="rId9" action="ppaction://hlinksldjump"/>
          </p:cNvPr>
          <p:cNvSpPr/>
          <p:nvPr/>
        </p:nvSpPr>
        <p:spPr>
          <a:xfrm>
            <a:off x="3059280" y="4292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де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836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дел механики, в котором изучают закономерности механического движения материальных тел под действием приложенных к ним с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>
            <a:hlinkClick r:id="rId3" action="ppaction://hlinksldjump"/>
          </p:cNvPr>
          <p:cNvSpPr/>
          <p:nvPr/>
        </p:nvSpPr>
        <p:spPr>
          <a:xfrm>
            <a:off x="2916360" y="35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ин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2916360" y="414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2916360" y="4797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Users\User\Desktop\Balls.gif"/>
          <p:cNvPicPr/>
          <p:nvPr/>
        </p:nvPicPr>
        <p:blipFill>
          <a:blip r:embed="rId1"/>
          <a:stretch/>
        </p:blipFill>
        <p:spPr>
          <a:xfrm>
            <a:off x="3419640" y="3068640"/>
            <a:ext cx="2006280" cy="1504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785440" cy="27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мпульс тела. Закон сохранения импульс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правляющая кнопка: назад 8"/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05228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понятия “импульс тела”, “импульс сил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ести формулу закона сохранения импуль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алгоритм решения задач на закон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репить полученные знания при решении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оловок 1"/>
          <p:cNvSpPr/>
          <p:nvPr/>
        </p:nvSpPr>
        <p:spPr>
          <a:xfrm>
            <a:off x="179280" y="4941720"/>
            <a:ext cx="878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величины необходимо знать для характеристики движения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boss\Рабочий стол\презентация к конкурсу\шар\шар.gif"/>
          <p:cNvPicPr/>
          <p:nvPr/>
        </p:nvPicPr>
        <p:blipFill>
          <a:blip r:embed="rId1"/>
          <a:stretch/>
        </p:blipFill>
        <p:spPr>
          <a:xfrm>
            <a:off x="933480" y="2305080"/>
            <a:ext cx="7277040" cy="22478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79280" y="1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но ли найти силу взаимодействия шара и тел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C:\Documents and Settings\boss\Рабочий стол\презентация к конкурсу\тележка1\тележка1.gif"/>
          <p:cNvPicPr/>
          <p:nvPr/>
        </p:nvPicPr>
        <p:blipFill>
          <a:blip r:embed="rId1"/>
          <a:stretch/>
        </p:blipFill>
        <p:spPr>
          <a:xfrm>
            <a:off x="933480" y="2133720"/>
            <a:ext cx="7277040" cy="25905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250920" y="26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но ли в данном случае найти силу взаимодействия тележки и те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42920" y="115920"/>
          <a:ext cx="7345440" cy="6442200"/>
        </p:xfrm>
        <a:graphic>
          <a:graphicData uri="http://schemas.openxmlformats.org/drawingml/2006/table">
            <a:tbl>
              <a:tblPr/>
              <a:tblGrid>
                <a:gridCol w="668520"/>
                <a:gridCol w="666720"/>
                <a:gridCol w="668160"/>
                <a:gridCol w="668520"/>
                <a:gridCol w="666720"/>
                <a:gridCol w="668160"/>
                <a:gridCol w="666720"/>
                <a:gridCol w="668520"/>
                <a:gridCol w="668160"/>
                <a:gridCol w="666720"/>
                <a:gridCol w="668520"/>
              </a:tblGrid>
              <a:tr h="366120">
                <a:tc gridSpan="7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row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042920" y="549360"/>
          <a:ext cx="668520" cy="345600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692360" y="549360"/>
          <a:ext cx="720720" cy="4752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4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411280" y="2492280"/>
          <a:ext cx="648000" cy="4103640"/>
        </p:xfrm>
        <a:graphic>
          <a:graphicData uri="http://schemas.openxmlformats.org/drawingml/2006/table">
            <a:tbl>
              <a:tblPr/>
              <a:tblGrid>
                <a:gridCol w="64800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60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059280" y="2492280"/>
          <a:ext cx="647640" cy="150840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708360" y="1989000"/>
          <a:ext cx="668520" cy="411804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51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56000" y="2492280"/>
          <a:ext cx="668520" cy="282096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9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2492280"/>
          <a:ext cx="720720" cy="41054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495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9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724360" y="3429000"/>
          <a:ext cx="668520" cy="316404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372360" y="2565360"/>
          <a:ext cx="720720" cy="27716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093080" y="2565360"/>
          <a:ext cx="647640" cy="189072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740720" y="1989000"/>
          <a:ext cx="647640" cy="371808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567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67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95" name="Управляющая кнопка: назад 22">
            <a:hlinkClick r:id="rId1" action="ppaction://hlinksldjump"/>
          </p:cNvPr>
          <p:cNvSpPr/>
          <p:nvPr/>
        </p:nvSpPr>
        <p:spPr>
          <a:xfrm>
            <a:off x="7164360" y="6165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23">
            <a:hlinkClick r:id="rId2" action="ppaction://hlinksldjump"/>
          </p:cNvPr>
          <p:cNvSpPr/>
          <p:nvPr/>
        </p:nvSpPr>
        <p:spPr>
          <a:xfrm>
            <a:off x="810108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3794"/>
                </a:moveTo>
                <a:lnTo>
                  <a:pt x="26799" y="10800"/>
                </a:lnTo>
                <a:lnTo>
                  <a:pt x="1278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boss\Рабочий стол\презентация к конкурсу\масса и скорость\масса и скорость.gif"/>
          <p:cNvPicPr/>
          <p:nvPr/>
        </p:nvPicPr>
        <p:blipFill>
          <a:blip r:embed="rId1"/>
          <a:stretch/>
        </p:blipFill>
        <p:spPr>
          <a:xfrm>
            <a:off x="755640" y="2708280"/>
            <a:ext cx="727704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324000" y="692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йте вывод: с помощью каких физических величин можно охарактеризовать движение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179280" y="1989000"/>
            <a:ext cx="878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Ньютона позволяют решать задачи связанные с нахождением ускорения движущегося тела, если известны все действующие на тело силы, т.е. равнодействующая всех сил. Но часто бывает очень сложно определить равнодействующую силу, как это было в наших случа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50920" y="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 вас катится игрушечная тележка, вы можете остановить ее носком ноги, а если на вас катится грузов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250920" y="436572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характеристики движения надо знать массу тела и его скор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для решения задач используют еще одну важнейшую физическую величину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пульс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торические сведения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не Декар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08000" y="1915920"/>
            <a:ext cx="497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мпульса было введено в физику французским учены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не Декар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596 -1650г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назвал эту величину  «количеством движения, которое никогда не увеличивается, не уменьшается, и, таким образом, если одно тело приводит в движение другое, то теряет столь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 своего движения, сколько его сообщает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Декарт"/>
          <p:cNvPicPr/>
          <p:nvPr/>
        </p:nvPicPr>
        <p:blipFill>
          <a:blip r:embed="rId1"/>
          <a:stretch/>
        </p:blipFill>
        <p:spPr>
          <a:xfrm>
            <a:off x="250920" y="206064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кон сохранения импуль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Управляющая кнопка: назад 5"/>
          <p:cNvSpPr/>
          <p:nvPr/>
        </p:nvSpPr>
        <p:spPr>
          <a:xfrm rot="5400000">
            <a:off x="7955640" y="6238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611280" y="1700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называется импульсом тела 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468360" y="7650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зовите единицы измерения импульса тела в С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250920" y="2205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чем заключается закон сохранения импуль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95280" y="2349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 каких условиях выполняется этот зако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11280" y="220500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ую систему называют замкнут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чему происходит отдача при выстреле из ружь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611280" y="189000"/>
            <a:ext cx="6985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втор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7164360" y="1341360"/>
            <a:ext cx="1079640" cy="57492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40551" h="21600">
                <a:moveTo>
                  <a:pt x="0" y="0"/>
                </a:moveTo>
                <a:lnTo>
                  <a:pt x="40551" y="0"/>
                </a:lnTo>
                <a:lnTo>
                  <a:pt x="40551" y="21600"/>
                </a:lnTo>
                <a:lnTo>
                  <a:pt x="0" y="21600"/>
                </a:lnTo>
                <a:close/>
              </a:path>
              <a:path fill="lightenLess" w="40551" h="21600">
                <a:moveTo>
                  <a:pt x="0" y="0"/>
                </a:moveTo>
                <a:lnTo>
                  <a:pt x="40551" y="0"/>
                </a:lnTo>
                <a:lnTo>
                  <a:pt x="39151" y="1400"/>
                </a:lnTo>
                <a:lnTo>
                  <a:pt x="1400" y="1400"/>
                </a:lnTo>
                <a:close/>
              </a:path>
              <a:path fill="darken" w="40551" h="21600">
                <a:moveTo>
                  <a:pt x="40551" y="0"/>
                </a:moveTo>
                <a:lnTo>
                  <a:pt x="40551" y="21600"/>
                </a:lnTo>
                <a:lnTo>
                  <a:pt x="39151" y="20200"/>
                </a:lnTo>
                <a:lnTo>
                  <a:pt x="39151" y="1400"/>
                </a:lnTo>
                <a:close/>
              </a:path>
              <a:path fill="darkenLess" w="40551" h="21600">
                <a:moveTo>
                  <a:pt x="4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51" y="20200"/>
                </a:lnTo>
                <a:close/>
              </a:path>
              <a:path fill="lighten" w="4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51" h="21600">
                <a:moveTo>
                  <a:pt x="13269" y="3794"/>
                </a:moveTo>
                <a:lnTo>
                  <a:pt x="27282" y="10800"/>
                </a:lnTo>
                <a:lnTo>
                  <a:pt x="1326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2" action="ppaction://hlinksldjump"/>
          </p:cNvPr>
          <p:cNvSpPr/>
          <p:nvPr/>
        </p:nvSpPr>
        <p:spPr>
          <a:xfrm>
            <a:off x="7236000" y="2637000"/>
            <a:ext cx="1079280" cy="5745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0563" h="21600">
                <a:moveTo>
                  <a:pt x="0" y="0"/>
                </a:moveTo>
                <a:lnTo>
                  <a:pt x="40563" y="0"/>
                </a:lnTo>
                <a:lnTo>
                  <a:pt x="40563" y="21600"/>
                </a:lnTo>
                <a:lnTo>
                  <a:pt x="0" y="21600"/>
                </a:lnTo>
                <a:close/>
              </a:path>
              <a:path fill="lightenLess" w="40563" h="21600">
                <a:moveTo>
                  <a:pt x="0" y="0"/>
                </a:moveTo>
                <a:lnTo>
                  <a:pt x="40563" y="0"/>
                </a:lnTo>
                <a:lnTo>
                  <a:pt x="39163" y="1400"/>
                </a:lnTo>
                <a:lnTo>
                  <a:pt x="1400" y="1400"/>
                </a:lnTo>
                <a:close/>
              </a:path>
              <a:path fill="darken" w="40563" h="21600">
                <a:moveTo>
                  <a:pt x="40563" y="0"/>
                </a:moveTo>
                <a:lnTo>
                  <a:pt x="40563" y="21600"/>
                </a:lnTo>
                <a:lnTo>
                  <a:pt x="39163" y="20200"/>
                </a:lnTo>
                <a:lnTo>
                  <a:pt x="39163" y="1400"/>
                </a:lnTo>
                <a:close/>
              </a:path>
              <a:path fill="darkenLess" w="40563" h="21600">
                <a:moveTo>
                  <a:pt x="40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3" y="20200"/>
                </a:lnTo>
                <a:close/>
              </a:path>
              <a:path fill="lighten" w="40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3" h="21600">
                <a:moveTo>
                  <a:pt x="13275" y="3794"/>
                </a:moveTo>
                <a:lnTo>
                  <a:pt x="27288" y="10800"/>
                </a:lnTo>
                <a:lnTo>
                  <a:pt x="1327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>
            <a:hlinkClick r:id="rId3" action="ppaction://hlinksldjump"/>
          </p:cNvPr>
          <p:cNvSpPr/>
          <p:nvPr/>
        </p:nvSpPr>
        <p:spPr>
          <a:xfrm>
            <a:off x="7236000" y="3500280"/>
            <a:ext cx="1079280" cy="57492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40537" h="21600">
                <a:moveTo>
                  <a:pt x="0" y="0"/>
                </a:moveTo>
                <a:lnTo>
                  <a:pt x="40537" y="0"/>
                </a:lnTo>
                <a:lnTo>
                  <a:pt x="40537" y="21600"/>
                </a:lnTo>
                <a:lnTo>
                  <a:pt x="0" y="21600"/>
                </a:lnTo>
                <a:close/>
              </a:path>
              <a:path fill="lightenLess" w="40537" h="21600">
                <a:moveTo>
                  <a:pt x="0" y="0"/>
                </a:moveTo>
                <a:lnTo>
                  <a:pt x="40537" y="0"/>
                </a:lnTo>
                <a:lnTo>
                  <a:pt x="39137" y="1400"/>
                </a:lnTo>
                <a:lnTo>
                  <a:pt x="1400" y="1400"/>
                </a:lnTo>
                <a:close/>
              </a:path>
              <a:path fill="darken" w="40537" h="21600">
                <a:moveTo>
                  <a:pt x="40537" y="0"/>
                </a:moveTo>
                <a:lnTo>
                  <a:pt x="40537" y="21600"/>
                </a:lnTo>
                <a:lnTo>
                  <a:pt x="39137" y="20200"/>
                </a:lnTo>
                <a:lnTo>
                  <a:pt x="39137" y="1400"/>
                </a:lnTo>
                <a:close/>
              </a:path>
              <a:path fill="darkenLess" w="40537" h="21600">
                <a:moveTo>
                  <a:pt x="40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37" y="20200"/>
                </a:lnTo>
                <a:close/>
              </a:path>
              <a:path fill="lighten" w="40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37" h="21600">
                <a:moveTo>
                  <a:pt x="13262" y="3794"/>
                </a:moveTo>
                <a:lnTo>
                  <a:pt x="27275" y="10800"/>
                </a:lnTo>
                <a:lnTo>
                  <a:pt x="13262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>
            <a:hlinkClick r:id="" action="ppaction://hlinkshowjump?jump=previousslide"/>
          </p:cNvPr>
          <p:cNvSpPr/>
          <p:nvPr/>
        </p:nvSpPr>
        <p:spPr>
          <a:xfrm rot="10800000">
            <a:off x="759600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6" action="ppaction://hlinksldjump"/>
          </p:cNvPr>
          <p:cNvSpPr/>
          <p:nvPr/>
        </p:nvSpPr>
        <p:spPr>
          <a:xfrm>
            <a:off x="7164360" y="5589720"/>
            <a:ext cx="1224000" cy="50472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2360" h="21600">
                <a:moveTo>
                  <a:pt x="0" y="0"/>
                </a:moveTo>
                <a:lnTo>
                  <a:pt x="52360" y="0"/>
                </a:lnTo>
                <a:lnTo>
                  <a:pt x="52360" y="21600"/>
                </a:lnTo>
                <a:lnTo>
                  <a:pt x="0" y="21600"/>
                </a:lnTo>
                <a:close/>
              </a:path>
              <a:path fill="lightenLess" w="52360" h="21600">
                <a:moveTo>
                  <a:pt x="0" y="0"/>
                </a:moveTo>
                <a:lnTo>
                  <a:pt x="52360" y="0"/>
                </a:lnTo>
                <a:lnTo>
                  <a:pt x="50960" y="1400"/>
                </a:lnTo>
                <a:lnTo>
                  <a:pt x="1400" y="1400"/>
                </a:lnTo>
                <a:close/>
              </a:path>
              <a:path fill="darken" w="52360" h="21600">
                <a:moveTo>
                  <a:pt x="52360" y="0"/>
                </a:moveTo>
                <a:lnTo>
                  <a:pt x="52360" y="21600"/>
                </a:lnTo>
                <a:lnTo>
                  <a:pt x="50960" y="20200"/>
                </a:lnTo>
                <a:lnTo>
                  <a:pt x="50960" y="1400"/>
                </a:lnTo>
                <a:close/>
              </a:path>
              <a:path fill="darkenLess" w="52360" h="21600">
                <a:moveTo>
                  <a:pt x="5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60" y="20200"/>
                </a:lnTo>
                <a:close/>
              </a:path>
              <a:path fill="lighten" w="5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60" h="21600">
                <a:moveTo>
                  <a:pt x="19174" y="3794"/>
                </a:moveTo>
                <a:lnTo>
                  <a:pt x="33187" y="10800"/>
                </a:lnTo>
                <a:lnTo>
                  <a:pt x="19174" y="17806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>
            <a:hlinkClick r:id="rId7" action="ppaction://hlinksldjump"/>
          </p:cNvPr>
          <p:cNvSpPr/>
          <p:nvPr/>
        </p:nvSpPr>
        <p:spPr>
          <a:xfrm>
            <a:off x="7164360" y="4724280"/>
            <a:ext cx="1224000" cy="5032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10" h="21600">
                <a:moveTo>
                  <a:pt x="0" y="0"/>
                </a:moveTo>
                <a:lnTo>
                  <a:pt x="52510" y="0"/>
                </a:lnTo>
                <a:lnTo>
                  <a:pt x="52510" y="21600"/>
                </a:lnTo>
                <a:lnTo>
                  <a:pt x="0" y="21600"/>
                </a:lnTo>
                <a:close/>
              </a:path>
              <a:path fill="lightenLess" w="52510" h="21600">
                <a:moveTo>
                  <a:pt x="0" y="0"/>
                </a:moveTo>
                <a:lnTo>
                  <a:pt x="52510" y="0"/>
                </a:lnTo>
                <a:lnTo>
                  <a:pt x="51110" y="1400"/>
                </a:lnTo>
                <a:lnTo>
                  <a:pt x="1400" y="1400"/>
                </a:lnTo>
                <a:close/>
              </a:path>
              <a:path fill="darken" w="52510" h="21600">
                <a:moveTo>
                  <a:pt x="52510" y="0"/>
                </a:moveTo>
                <a:lnTo>
                  <a:pt x="52510" y="21600"/>
                </a:lnTo>
                <a:lnTo>
                  <a:pt x="51110" y="20200"/>
                </a:lnTo>
                <a:lnTo>
                  <a:pt x="51110" y="1400"/>
                </a:lnTo>
                <a:close/>
              </a:path>
              <a:path fill="darkenLess" w="52510" h="21600">
                <a:moveTo>
                  <a:pt x="52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0" y="20200"/>
                </a:lnTo>
                <a:close/>
              </a:path>
              <a:path fill="lighten" w="52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10" h="21600">
                <a:moveTo>
                  <a:pt x="19249" y="3794"/>
                </a:moveTo>
                <a:lnTo>
                  <a:pt x="33262" y="10800"/>
                </a:lnTo>
                <a:lnTo>
                  <a:pt x="19249" y="1780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6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39640" y="333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неупругих тела, массы которых 2 и 6 кг, движутся навстречу друг другу со скоростями 2 м/с каждое. С какой скоростью и в каком направлении будут двигаться эти тела после уд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5" descr="http://festival.1september.ru/articles/517450/img2.gif"/>
          <p:cNvPicPr/>
          <p:nvPr/>
        </p:nvPicPr>
        <p:blipFill>
          <a:blip r:embed="rId2"/>
          <a:stretch/>
        </p:blipFill>
        <p:spPr>
          <a:xfrm>
            <a:off x="755640" y="2060640"/>
            <a:ext cx="74167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9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95280" y="33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упругих тела, массы которых 2 и 6 кг, движутся навстречу друг другу со скоростями 2 м/с каждое. С какой скоростью и в каком направлении будут двигаться эти тела после уд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1"/>
          <p:cNvGrpSpPr/>
          <p:nvPr/>
        </p:nvGrpSpPr>
        <p:grpSpPr>
          <a:xfrm>
            <a:off x="1619280" y="2708280"/>
            <a:ext cx="5761080" cy="1498680"/>
            <a:chOff x="1619280" y="2708280"/>
            <a:chExt cx="5761080" cy="1498680"/>
          </a:xfrm>
        </p:grpSpPr>
        <p:pic>
          <p:nvPicPr>
            <p:cNvPr id="229" name="Рисунок 8" descr="http://festival.1september.ru/articles/517450/img2.gif"/>
            <p:cNvPicPr/>
            <p:nvPr/>
          </p:nvPicPr>
          <p:blipFill>
            <a:blip r:embed="rId2"/>
            <a:srcRect l="24531" t="0" r="0" b="68880"/>
            <a:stretch/>
          </p:blipFill>
          <p:spPr>
            <a:xfrm>
              <a:off x="1619280" y="2708280"/>
              <a:ext cx="5761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Управляющая кнопка: справка 9"/>
            <p:cNvSpPr/>
            <p:nvPr/>
          </p:nvSpPr>
          <p:spPr>
            <a:xfrm>
              <a:off x="5508720" y="2708280"/>
              <a:ext cx="502920" cy="576360"/>
            </a:xfrm>
            <a:custGeom>
              <a:avLst/>
              <a:gdLst>
                <a:gd name="textAreaLeft" fmla="*/ 32400 w 502920"/>
                <a:gd name="textAreaRight" fmla="*/ 470520 w 502920"/>
                <a:gd name="textAreaTop" fmla="*/ 32400 h 576360"/>
                <a:gd name="textAreaBottom" fmla="*/ 543960 h 576360"/>
              </a:gdLst>
              <a:ahLst/>
              <a:rect l="textAreaLeft" t="textAreaTop" r="textAreaRight" b="textAreaBottom"/>
              <a:pathLst>
                <a:path w="21600" h="24752">
                  <a:moveTo>
                    <a:pt x="0" y="0"/>
                  </a:moveTo>
                  <a:lnTo>
                    <a:pt x="21600" y="0"/>
                  </a:lnTo>
                  <a:lnTo>
                    <a:pt x="21600" y="24752"/>
                  </a:lnTo>
                  <a:lnTo>
                    <a:pt x="0" y="24752"/>
                  </a:lnTo>
                  <a:close/>
                </a:path>
                <a:path fill="lightenLess" w="21600" h="24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752">
                  <a:moveTo>
                    <a:pt x="21600" y="0"/>
                  </a:moveTo>
                  <a:lnTo>
                    <a:pt x="21600" y="24752"/>
                  </a:lnTo>
                  <a:lnTo>
                    <a:pt x="20200" y="23352"/>
                  </a:lnTo>
                  <a:lnTo>
                    <a:pt x="20200" y="1400"/>
                  </a:lnTo>
                  <a:close/>
                </a:path>
                <a:path fill="darkenLess" w="21600" h="24752">
                  <a:moveTo>
                    <a:pt x="21600" y="24752"/>
                  </a:moveTo>
                  <a:lnTo>
                    <a:pt x="0" y="24752"/>
                  </a:lnTo>
                  <a:lnTo>
                    <a:pt x="1400" y="23352"/>
                  </a:lnTo>
                  <a:lnTo>
                    <a:pt x="20200" y="23352"/>
                  </a:lnTo>
                  <a:close/>
                </a:path>
                <a:path fill="lighten" w="21600" h="24752">
                  <a:moveTo>
                    <a:pt x="0" y="24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352"/>
                  </a:lnTo>
                  <a:close/>
                </a:path>
                <a:path fill="darken" w="21600" h="24752">
                  <a:moveTo>
                    <a:pt x="10800" y="16380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4752">
                  <a:moveTo>
                    <a:pt x="11905" y="15857"/>
                  </a:moveTo>
                  <a:lnTo>
                    <a:pt x="11905" y="13899"/>
                  </a:lnTo>
                  <a:cubicBezTo>
                    <a:pt x="11905" y="13072"/>
                    <a:pt x="12236" y="12376"/>
                    <a:pt x="12837" y="12376"/>
                  </a:cubicBezTo>
                  <a:cubicBezTo>
                    <a:pt x="13968" y="12376"/>
                    <a:pt x="14865" y="11009"/>
                    <a:pt x="14865" y="9425"/>
                  </a:cubicBezTo>
                  <a:cubicBezTo>
                    <a:pt x="14865" y="7110"/>
                    <a:pt x="13011" y="5369"/>
                    <a:pt x="10800" y="5369"/>
                  </a:cubicBezTo>
                  <a:cubicBezTo>
                    <a:pt x="8589" y="5369"/>
                    <a:pt x="6918" y="7110"/>
                    <a:pt x="6918" y="9425"/>
                  </a:cubicBezTo>
                  <a:lnTo>
                    <a:pt x="8772" y="9425"/>
                  </a:lnTo>
                  <a:cubicBezTo>
                    <a:pt x="8772" y="8285"/>
                    <a:pt x="9695" y="7397"/>
                    <a:pt x="10800" y="7397"/>
                  </a:cubicBezTo>
                  <a:cubicBezTo>
                    <a:pt x="11905" y="7397"/>
                    <a:pt x="12837" y="8285"/>
                    <a:pt x="12837" y="9425"/>
                  </a:cubicBezTo>
                  <a:cubicBezTo>
                    <a:pt x="12837" y="10165"/>
                    <a:pt x="12367" y="10896"/>
                    <a:pt x="11905" y="10896"/>
                  </a:cubicBezTo>
                  <a:cubicBezTo>
                    <a:pt x="10800" y="10896"/>
                    <a:pt x="9695" y="12376"/>
                    <a:pt x="9695" y="13899"/>
                  </a:cubicBezTo>
                  <a:lnTo>
                    <a:pt x="9695" y="15857"/>
                  </a:lnTo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9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50920" y="907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ить текст озвучивания этого видеорол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пушка.avi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24000" y="1341360"/>
            <a:ext cx="849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ова была  цель вашей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 достигли своей ц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открывали ново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поясните девиз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чем нам нужно знать закон сохранения импуль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оцениваете свою работу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907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9280" y="2060640"/>
            <a:ext cx="87854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16, задача.10.24 (задачник Генденштейн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сообщение на тему: «Применение закона сохра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50920" y="692280"/>
            <a:ext cx="8569080" cy="2454480"/>
          </a:xfrm>
          <a:prstGeom prst="rect">
            <a:avLst/>
          </a:prstGeom>
          <a:solidFill>
            <a:srgbClr val="9ed3d7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24000" y="4869000"/>
            <a:ext cx="8569080" cy="14770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6000">
                <a:solidFill>
                  <a:srgbClr val="0033cc"/>
                </a:solidFill>
                <a:latin typeface="Arial"/>
                <a:ea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50920" y="3357720"/>
            <a:ext cx="8569080" cy="1191240"/>
          </a:xfrm>
          <a:prstGeom prst="rect">
            <a:avLst/>
          </a:prstGeom>
          <a:solidFill>
            <a:srgbClr val="d1d1f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56400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442764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29272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615636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02000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77164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370836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457200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77164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363528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450072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536400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622764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88508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356400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42764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29272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615636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2">
            <a:hlinkClick r:id="" action="ppaction://hlinkshowjump?jump=previousslide"/>
          </p:cNvPr>
          <p:cNvSpPr/>
          <p:nvPr/>
        </p:nvSpPr>
        <p:spPr>
          <a:xfrm rot="10800000">
            <a:off x="838800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702000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709308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43564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68360" y="765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ение сохранения скорости постоянной при отсутствии внешних воздействий или при их компенс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>
            <a:hlinkClick r:id="rId3" action="ppaction://hlinksldjump"/>
          </p:cNvPr>
          <p:cNvSpPr/>
          <p:nvPr/>
        </p:nvSpPr>
        <p:spPr>
          <a:xfrm>
            <a:off x="32767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76720" y="350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уск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276720" y="4149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равномер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ение изменения объема или формы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>
            <a:hlinkClick r:id="rId3" action="ppaction://hlinksldjump"/>
          </p:cNvPr>
          <p:cNvSpPr/>
          <p:nvPr/>
        </p:nvSpPr>
        <p:spPr>
          <a:xfrm>
            <a:off x="3348000" y="2637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пруг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76720" y="3500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3276720" y="4292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е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50920" y="98100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, возникающая при деформации, стремящая вернуть тело в первоначальное поло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пру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>
            <a:hlinkClick r:id="rId5" action="ppaction://hlinksldjump"/>
          </p:cNvPr>
          <p:cNvSpPr/>
          <p:nvPr/>
        </p:nvSpPr>
        <p:spPr>
          <a:xfrm>
            <a:off x="3348000" y="3860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проти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>
            <a:hlinkClick r:id="rId7" action="ppaction://hlinksldjump"/>
          </p:cNvPr>
          <p:cNvSpPr/>
          <p:nvPr/>
        </p:nvSpPr>
        <p:spPr>
          <a:xfrm>
            <a:off x="3348000" y="4724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50920" y="765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глийский ученый, современник Ньютона, установил зависимость силы упругости от деформ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ал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>
            <a:hlinkClick r:id="rId5" action="ppaction://hlinksldjump"/>
          </p:cNvPr>
          <p:cNvSpPr/>
          <p:nvPr/>
        </p:nvSpPr>
        <p:spPr>
          <a:xfrm>
            <a:off x="334800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Г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>
            <a:hlinkClick r:id="rId7" action="ppaction://hlinksldjump"/>
          </p:cNvPr>
          <p:cNvSpPr/>
          <p:nvPr/>
        </p:nvSpPr>
        <p:spPr>
          <a:xfrm>
            <a:off x="3348000" y="443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6">
            <a:hlinkClick r:id="rId9" action="ppaction://hlinksldjump"/>
          </p:cNvPr>
          <p:cNvSpPr/>
          <p:nvPr/>
        </p:nvSpPr>
        <p:spPr>
          <a:xfrm>
            <a:off x="3276720" y="5229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Гюйг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404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ая единица ма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>
            <a:hlinkClick r:id="rId3" action="ppaction://hlinksldjump"/>
          </p:cNvPr>
          <p:cNvSpPr/>
          <p:nvPr/>
        </p:nvSpPr>
        <p:spPr>
          <a:xfrm>
            <a:off x="2916360" y="177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>
            <a:hlinkClick r:id="rId5" action="ppaction://hlinksldjump"/>
          </p:cNvPr>
          <p:cNvSpPr/>
          <p:nvPr/>
        </p:nvSpPr>
        <p:spPr>
          <a:xfrm>
            <a:off x="2916360" y="24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>
            <a:hlinkClick r:id="rId7" action="ppaction://hlinksldjump"/>
          </p:cNvPr>
          <p:cNvSpPr/>
          <p:nvPr/>
        </p:nvSpPr>
        <p:spPr>
          <a:xfrm>
            <a:off x="2987640" y="321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цент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>
            <a:hlinkClick r:id="rId9" action="ppaction://hlinksldjump"/>
          </p:cNvPr>
          <p:cNvSpPr/>
          <p:nvPr/>
        </p:nvSpPr>
        <p:spPr>
          <a:xfrm>
            <a:off x="2987640" y="38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кил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4:54:15Z</dcterms:created>
  <dc:creator>Коновалова</dc:creator>
  <dc:description/>
  <dc:language>en-US</dc:language>
  <cp:lastModifiedBy>Пользователь</cp:lastModifiedBy>
  <dcterms:modified xsi:type="dcterms:W3CDTF">2022-02-12T13:41:52Z</dcterms:modified>
  <cp:revision>96</cp:revision>
  <dc:subject/>
  <dc:title>Слайд 1</dc:title>
</cp:coreProperties>
</file>