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7AE1-3B5B-48C7-B95A-13319090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90C7-343F-42A7-AD5A-9F256472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3A19-8CCA-45F8-BF82-71A4A1EA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43BC-16A2-4D2D-95D9-71438A6D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CB17-DEE4-4951-A29C-1284CE35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4B54-3E60-46E3-9F1D-E5378327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61CF-C709-49B6-B024-D18F50D1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B195-027C-43A4-A54C-7629B4E9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C1BC-4736-4319-8917-892E2268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D682-8707-48EC-A5B9-CFD0844F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B462-28F2-4271-8B52-CD0CF3D2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19A5-C316-47C9-BB49-33594332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73FB-6484-41A8-8975-8FFD58C9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6FB2-E938-4118-94BD-99003F22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42EE-013E-4E6C-B6F3-9CF5DE72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3DD9-41E3-4EF6-8730-6CCAFD363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D46E-10F8-4543-8A91-1BA49926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51357-53EA-46F8-AB87-B58CC0ED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6036C-0FF1-492B-A4A6-C8052F4B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26A53-5266-4309-854B-00F4E652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3CC7A-C65C-48AA-B8D3-F4DFF43C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DEC22-8590-405C-A9B3-FE37FA1B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4593-41E8-4423-B5A0-91D47F2A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7F8B5-A43F-4F14-9CFC-84293305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EA7F4-2FFE-4A57-8713-A8D3A68C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B51F2-0720-4D3C-9CED-4EB28BCB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7227C-037F-4484-ACA6-12C658A9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CD074-BAA9-422A-84AB-F8BBBE80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B6E87-5482-4524-B5F2-E7CF7D34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5D80C-55A9-473C-B193-70BB7223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94F38-336B-4926-B85C-F95497BF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0BCBD-8E0C-4E3F-AAE5-48EAF684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75471-D200-480F-9D2C-104EA595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9D4E-F5C7-4EAC-B400-CDBE27BC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3DAB0-82A7-406E-B7B3-D85DF59B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2F99D-8038-464B-BD0B-A640EB6E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FCABE-CB9F-466D-A851-FF6FBE9F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B7906-879C-429A-89EA-21C0221C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492F4-53AD-4455-994A-D4A8C29A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48419-F6A7-4473-A23D-ED80FA40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320A1-F09D-459B-9D79-2FAB0040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BE9BA-319F-43E6-A7F1-D5856AE0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7FD0A-AB53-4CB5-868C-7498C00F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AE30-6415-4D07-8B37-35B8446A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94DF-6A88-4024-A83A-940E91BE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DE91-83F6-4A04-9BE1-B40EDF46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AF4F-A4CB-47AA-8171-18B5615E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D098-BFA9-4CB8-B324-7853933A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90C8-3A25-445B-8326-856CA320E576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A1C5-0D7D-4049-A8A4-CCBDA282EFA6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95E1-CD48-4F9C-B79F-20C033E7B55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1546-A7E6-41CC-A61C-0ED5CB30A35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943280" y="3422160"/>
            <a:ext cx="711648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12745"/>
                </a:solidFill>
                <a:latin typeface="바탕"/>
                <a:ea typeface="바탕"/>
              </a:rPr>
              <a:t>Активный метод  знакомства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212745"/>
                </a:solidFill>
                <a:latin typeface="Georgia"/>
                <a:ea typeface="Times New Roman"/>
              </a:rPr>
              <a:t> </a:t>
            </a:r>
            <a:endParaRPr b="0" lang="en-US" sz="5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-438120" y="858960"/>
            <a:ext cx="8723160" cy="2670120"/>
          </a:xfrm>
          <a:prstGeom prst="rect">
            <a:avLst/>
          </a:prstGeom>
          <a:ln w="0">
            <a:noFill/>
          </a:ln>
        </p:spPr>
      </p:pic>
      <p:sp>
        <p:nvSpPr>
          <p:cNvPr id="216" name="Подзаголовок 2"/>
          <p:cNvSpPr/>
          <p:nvPr/>
        </p:nvSpPr>
        <p:spPr>
          <a:xfrm>
            <a:off x="3348000" y="115920"/>
            <a:ext cx="57117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7" name="Рисунок 3" descr=""/>
          <p:cNvPicPr/>
          <p:nvPr/>
        </p:nvPicPr>
        <p:blipFill>
          <a:blip r:embed="rId3"/>
          <a:stretch/>
        </p:blipFill>
        <p:spPr>
          <a:xfrm rot="21110400">
            <a:off x="460080" y="339696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4" descr=""/>
          <p:cNvPicPr/>
          <p:nvPr/>
        </p:nvPicPr>
        <p:blipFill>
          <a:blip r:embed="rId4"/>
          <a:stretch/>
        </p:blipFill>
        <p:spPr>
          <a:xfrm>
            <a:off x="2124000" y="4724280"/>
            <a:ext cx="1797120" cy="17989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6" descr=""/>
          <p:cNvPicPr/>
          <p:nvPr/>
        </p:nvPicPr>
        <p:blipFill>
          <a:blip r:embed="rId5"/>
          <a:stretch/>
        </p:blipFill>
        <p:spPr>
          <a:xfrm rot="600000">
            <a:off x="3777840" y="3935160"/>
            <a:ext cx="1793880" cy="179388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7" descr=""/>
          <p:cNvPicPr/>
          <p:nvPr/>
        </p:nvPicPr>
        <p:blipFill>
          <a:blip r:embed="rId6"/>
          <a:stretch/>
        </p:blipFill>
        <p:spPr>
          <a:xfrm rot="20851800">
            <a:off x="5579640" y="4678200"/>
            <a:ext cx="1844640" cy="18450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8" descr=""/>
          <p:cNvPicPr/>
          <p:nvPr/>
        </p:nvPicPr>
        <p:blipFill>
          <a:blip r:embed="rId7"/>
          <a:stretch/>
        </p:blipFill>
        <p:spPr>
          <a:xfrm rot="823200">
            <a:off x="6948360" y="3213000"/>
            <a:ext cx="192744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463680" y="-646200"/>
            <a:ext cx="8893080" cy="30178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971280" y="1341360"/>
            <a:ext cx="712476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700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Численность: до 20 человек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700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Время: 20-25 мин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4" name="Рисунок 3" descr=""/>
          <p:cNvPicPr/>
          <p:nvPr/>
        </p:nvPicPr>
        <p:blipFill>
          <a:blip r:embed="rId3"/>
          <a:stretch/>
        </p:blipFill>
        <p:spPr>
          <a:xfrm>
            <a:off x="4140360" y="3429000"/>
            <a:ext cx="4535280" cy="30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2"/>
          <a:stretch/>
        </p:blipFill>
        <p:spPr>
          <a:xfrm>
            <a:off x="963720" y="-122400"/>
            <a:ext cx="7137360" cy="15670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395280" y="1197000"/>
            <a:ext cx="856944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1767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바탕"/>
                <a:ea typeface="바탕"/>
              </a:rPr>
              <a:t>Сначала все учащиеся по очереди называют свои имена. Очень важно, чтобы все хорошо расслышали имена других и постарались запомнить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바탕"/>
                <a:ea typeface="바탕"/>
              </a:rPr>
              <a:t>На втором этапе всем учащимся необходимо выстроиться в шеренгу по алфавиту, то есть по первым буквам имён. Выстраиваются все молча – нельзя напоминать имена, спрашивать, писать, показывать жестами и пр. Можно только двигаться самому и передвигать других участников по шеренге. Нужно, чтобы выстраивание происходило как можно быстре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Picture 2" descr="Группа детей Фото со стока - 10223196"/>
          <p:cNvPicPr/>
          <p:nvPr/>
        </p:nvPicPr>
        <p:blipFill>
          <a:blip r:embed="rId3"/>
          <a:stretch/>
        </p:blipFill>
        <p:spPr>
          <a:xfrm>
            <a:off x="2771640" y="5445000"/>
            <a:ext cx="4896000" cy="11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детям буквы алфавита &quot;т&quot; Фото со стока - 9934449"/>
          <p:cNvPicPr/>
          <p:nvPr/>
        </p:nvPicPr>
        <p:blipFill>
          <a:blip r:embed="rId2"/>
          <a:stretch/>
        </p:blipFill>
        <p:spPr>
          <a:xfrm>
            <a:off x="6202440" y="407664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229" name="Заголовок 1" descr=""/>
          <p:cNvPicPr/>
          <p:nvPr/>
        </p:nvPicPr>
        <p:blipFill>
          <a:blip r:embed="rId3"/>
          <a:stretch/>
        </p:blipFill>
        <p:spPr>
          <a:xfrm>
            <a:off x="963720" y="60480"/>
            <a:ext cx="7137360" cy="15732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250560" y="1197000"/>
            <a:ext cx="71262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바탕"/>
                <a:ea typeface="바탕"/>
              </a:rPr>
              <a:t>После того, как шеренга выстроится, каждый снова называет своё имя и таким образом все проверяют правильность построен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바탕"/>
                <a:ea typeface="바탕"/>
              </a:rPr>
              <a:t>Если получилась ошибка, все снова перемешиваются и снова выстраиваются по алфавит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바탕"/>
                <a:ea typeface="바탕"/>
              </a:rPr>
              <a:t>Примечания: </a:t>
            </a:r>
            <a:r>
              <a:rPr b="0" lang="en-US" sz="2400" spc="-1" strike="noStrike">
                <a:solidFill>
                  <a:srgbClr val="404040"/>
                </a:solidFill>
                <a:latin typeface="바탕"/>
                <a:ea typeface="바탕"/>
              </a:rPr>
              <a:t>Учителю важно внимательно отнестись к выполнению учениками первого этапа знакомства для того, что все чётко произнесли свои имена и услышали чужи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2"/>
          <a:stretch/>
        </p:blipFill>
        <p:spPr>
          <a:xfrm>
            <a:off x="1182600" y="55440"/>
            <a:ext cx="6523200" cy="1528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1186920" y="141264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6c7aa"/>
                </a:solidFill>
                <a:uFillTx/>
                <a:latin typeface="Trebuchet MS"/>
                <a:hlinkClick r:id="rId3"/>
              </a:rPr>
              <a:t>http://www.moi-universitet.ru</a:t>
            </a:r>
            <a:r>
              <a:rPr b="0" lang="en-US" sz="1600" spc="-1" strike="noStrike" u="sng">
                <a:solidFill>
                  <a:srgbClr val="56c7aa"/>
                </a:solidFill>
                <a:uFillTx/>
                <a:latin typeface="Trebuchet MS"/>
                <a:hlinkClick r:id="rId4"/>
              </a:rPr>
              <a:t>/</a:t>
            </a: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404040"/>
                </a:solidFill>
                <a:uFillTx/>
                <a:latin typeface="Trebuchet MS"/>
              </a:rPr>
              <a:t>электронная книга «Копилочка активных методов обучения»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http://profclipart.ru/?p=12814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http://ru.123rf.com/search.php?word=%D0%B4%D0%B5%D1%82%D0%B8&amp;imgtype=0&amp;t_word=children&amp;t_lang=ru&amp;srch_lang=ru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21:28:12Z</dcterms:created>
  <dc:creator>Седова</dc:creator>
  <dc:description/>
  <dc:language>en-US</dc:language>
  <cp:lastModifiedBy>User</cp:lastModifiedBy>
  <dcterms:modified xsi:type="dcterms:W3CDTF">2022-02-12T05:54:27Z</dcterms:modified>
  <cp:revision>21</cp:revision>
  <dc:subject/>
  <dc:title>Метод «Автобусная остановка»</dc:title>
</cp:coreProperties>
</file>