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F3F-B216-4B4E-AF42-14FFCC2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839-1E35-42A0-ABE9-B495DE81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858-B6EE-49D5-8372-76B7A9A6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64C-9C36-4794-9AE1-83B94256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F68-5673-4194-8171-384DF1C1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126-BACB-4681-8DA4-3245F5D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FEBC-C551-4C46-AB87-B9ABA5F6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50DB-C307-4255-B929-5AE7EEA6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DA6-E307-4471-AECA-E7D8EC94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7CD-C444-405F-AAC6-75E12480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A1F-5E02-4159-B95A-573011F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78F-DD45-46D1-86F6-54A34E0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6BD-0AF3-426B-BD33-622CF70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0BF5-9D44-458A-9EEF-17D660D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423-C210-4770-8640-21779F84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5833-EC5C-4368-9163-182B89F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AAD-DA85-4B40-9B6E-4AC1E305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262A-3BE8-4A85-87CB-99B2C2E1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D59B-A750-4067-90C6-F6359299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DA07-4CAE-41A4-A0BE-84021FF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AF32-C606-42D4-BB09-F826C8E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243A-455E-4BC7-BF40-6F77066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7C2-F800-4830-8B39-2BB3217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18D3-062B-4E67-9017-FF738474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4FAF-A456-4090-BFB5-4E0B872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025F-0890-4BD7-B6C8-B0AE2B0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DBDC-60FC-4E55-8CBB-EC4E070D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56F9-3519-4FF7-ADB5-CD78D99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CC59-F7BC-477D-BDA7-B06C9F93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EF1CB-13F6-48CF-BB58-DA5350C9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17C7-0404-4ABB-97EC-C1D63C28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FA71-DBB9-468A-8CB2-C1EF033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1DBE-0C53-4C71-8D6D-5CB08FCF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8F2-48A3-40D8-BAE5-873391B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2191-8AFB-4568-A351-2A188814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2748-1DA9-472B-8597-E08F3595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1ABB-DD4F-4D00-A701-E0141B7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50A5-4842-4ED6-9EA4-FFBA403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C230-AE64-450A-92EA-ECAF3FF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85E5-1CA3-4201-9F36-4ED5D71A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A7BC-1C65-4E05-A546-B4E90C1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93E9-4912-41C3-B03E-3B31E66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1D7E-4810-453F-BE67-A74833EB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73A-292F-461F-BA56-DA4758A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6C2-27C5-458B-9480-9A404A8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0AD-513D-4085-BE9D-0BE2A7C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D9B-406A-4949-9791-F99E512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2D8-B57F-406F-AE23-C8D3952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A8ED-01D4-4A40-9C20-844B46BE279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433E-7EC4-452E-8941-BDEB87C7169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28D-09D0-4802-8B0E-CC77E76BD43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097-DDCD-49C8-9B96-7348A116D90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943280" y="3422160"/>
            <a:ext cx="711648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12745"/>
                </a:solidFill>
                <a:latin typeface="바탕"/>
                <a:ea typeface="바탕"/>
              </a:rPr>
              <a:t>Активный метод  знакомств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12745"/>
                </a:solidFill>
                <a:latin typeface="Georgia"/>
                <a:ea typeface="Times New Roman"/>
              </a:rPr>
              <a:t> 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-438120" y="858960"/>
            <a:ext cx="8723160" cy="2670120"/>
          </a:xfrm>
          <a:prstGeom prst="rect">
            <a:avLst/>
          </a:prstGeom>
          <a:ln w="0">
            <a:noFill/>
          </a:ln>
        </p:spPr>
      </p:pic>
      <p:sp>
        <p:nvSpPr>
          <p:cNvPr id="216" name="Подзаголовок 2"/>
          <p:cNvSpPr/>
          <p:nvPr/>
        </p:nvSpPr>
        <p:spPr>
          <a:xfrm>
            <a:off x="3348000" y="115920"/>
            <a:ext cx="5711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3"/>
          <a:stretch/>
        </p:blipFill>
        <p:spPr>
          <a:xfrm rot="21110400">
            <a:off x="460080" y="33969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"/>
          <p:cNvPicPr/>
          <p:nvPr/>
        </p:nvPicPr>
        <p:blipFill>
          <a:blip r:embed="rId4"/>
          <a:stretch/>
        </p:blipFill>
        <p:spPr>
          <a:xfrm>
            <a:off x="2124000" y="4724280"/>
            <a:ext cx="1797120" cy="17989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"/>
          <p:cNvPicPr/>
          <p:nvPr/>
        </p:nvPicPr>
        <p:blipFill>
          <a:blip r:embed="rId5"/>
          <a:stretch/>
        </p:blipFill>
        <p:spPr>
          <a:xfrm rot="600000">
            <a:off x="3777840" y="3935160"/>
            <a:ext cx="1793880" cy="17938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"/>
          <p:cNvPicPr/>
          <p:nvPr/>
        </p:nvPicPr>
        <p:blipFill>
          <a:blip r:embed="rId6"/>
          <a:stretch/>
        </p:blipFill>
        <p:spPr>
          <a:xfrm rot="20851800">
            <a:off x="5579640" y="4678200"/>
            <a:ext cx="1844640" cy="1845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7"/>
          <a:stretch/>
        </p:blipFill>
        <p:spPr>
          <a:xfrm rot="823200">
            <a:off x="6948360" y="3213000"/>
            <a:ext cx="192744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463680" y="-646200"/>
            <a:ext cx="88930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971280" y="134136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Численность: до 20 челове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Время: 20-25 ми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453528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963720" y="-122400"/>
            <a:ext cx="7137360" cy="1567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95280" y="1197000"/>
            <a:ext cx="85694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Сначала все учащиеся по очереди называют свои имена. Очень важно, чтобы все хорошо расслышали имена других и постарались запомни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На втором этапе всем учащимся необходимо выстроиться в шеренгу по алфавиту, то есть по первым буквам имён. Выстраиваются все молча – нельзя напоминать имена, спрашивать, писать, показывать жестами и пр. Можно только двигаться самому и передвигать других участников по шеренге. Нужно, чтобы выстраивание происходило как можно быстре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Группа детей Фото со стока - 10223196"/>
          <p:cNvPicPr/>
          <p:nvPr/>
        </p:nvPicPr>
        <p:blipFill>
          <a:blip r:embed="rId3"/>
          <a:stretch/>
        </p:blipFill>
        <p:spPr>
          <a:xfrm>
            <a:off x="2771640" y="5445000"/>
            <a:ext cx="4896000" cy="11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детям буквы алфавита &quot;т&quot; Фото со стока - 9934449"/>
          <p:cNvPicPr/>
          <p:nvPr/>
        </p:nvPicPr>
        <p:blipFill>
          <a:blip r:embed="rId2"/>
          <a:stretch/>
        </p:blipFill>
        <p:spPr>
          <a:xfrm>
            <a:off x="620244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3"/>
          <a:stretch/>
        </p:blipFill>
        <p:spPr>
          <a:xfrm>
            <a:off x="963720" y="60480"/>
            <a:ext cx="7137360" cy="1573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50560" y="119700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После того, как шеренга выстроится, каждый снова называет своё имя и таким образом все проверяют правильность постро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Если получилась ошибка, все снова перемешиваются и снова выстраиваются по алфавит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바탕"/>
                <a:ea typeface="바탕"/>
              </a:rPr>
              <a:t>Примечания: </a:t>
            </a:r>
            <a:r>
              <a:rPr b="0" lang="en-US" sz="2400" spc="-1" strike="noStrike">
                <a:solidFill>
                  <a:srgbClr val="404040"/>
                </a:solidFill>
                <a:latin typeface="바탕"/>
                <a:ea typeface="바탕"/>
              </a:rPr>
              <a:t>Учителю важно внимательно отнестись к выполнению учениками первого этапа знакомства для того, что все чётко произнесли свои имена и услышали чуж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82600" y="55440"/>
            <a:ext cx="6523200" cy="1528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8692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://www.moi-universitet.ru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/</a:t>
            </a: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4040"/>
                </a:solidFill>
                <a:uFillTx/>
                <a:latin typeface="Trebuchet MS"/>
              </a:rPr>
              <a:t>электронная книга «Копилочка активных методов обучения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ttp://profclipart.ru/?p=12814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ttp://ru.123rf.com/search.php?word=%D0%B4%D0%B5%D1%82%D0%B8&amp;imgtype=0&amp;t_word=children&amp;t_lang=ru&amp;srch_lang=ru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4:27Z</dcterms:modified>
  <cp:revision>21</cp:revision>
  <dc:subject/>
  <dc:title>Метод «Автобусная остановка»</dc:title>
</cp:coreProperties>
</file>