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8FB-CEAA-4D13-B5C1-04CE1EBF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36C-134D-4E21-9771-B12B37CE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F00-49EE-4F17-BE24-C4C7F40E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8A0-C5F8-4D4D-88C0-16B759ED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6294-7168-450F-A191-B4708F34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4426-350D-45E3-A6DA-8B8F0D38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F96E-3521-49EA-8FF9-D22FCF6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6258-ECBB-4FBF-9019-F15C25D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E4A-8CE7-472B-AF79-60300BB9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9FE0-AA69-441A-904F-D563D700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3A2A-6DB9-474A-ABBC-BB554AB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5B1-9079-4238-B6CA-52774018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D41F-BA3E-4EBC-AD30-46EA82D9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4DB-90D3-4BB1-868F-45D17A9B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4D51-DB7B-4622-AA4A-2C60D72E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252F-9803-4B27-AAA8-78AAC598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F370-EA4E-4B88-A2BC-CE5F4AD8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9B8-BD55-4857-8841-AC30F7B2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9AF-55A8-4B56-BED1-6D410D84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26E-6156-4BA4-AB27-4F316B35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1E3-127A-41F2-9C6B-CDCD69F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49F-40AA-46EC-AF42-A21FFDCD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60D-7902-4D16-A676-B60C892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50A-EEB7-4722-9D25-C741A40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FDD7-6F42-4335-A5FF-9D8C7CDA9A71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560" y="1603440"/>
                <a:ext cx="7513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2240" y="1542600"/>
                <a:ext cx="5742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920" y="197964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15880"/>
              <a:chOff x="5409720" y="1788480"/>
              <a:chExt cx="518400" cy="5158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2240" y="188244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9000" y="211428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400" y="105336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720" y="192204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1120"/>
              <a:chOff x="6118920" y="1058760"/>
              <a:chExt cx="232200" cy="2311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960" y="111024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899-BDD8-4455-9EFD-4C3DBE69AD28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clker.com/clipart-26098.html" TargetMode="External"/><Relationship Id="rId4" Type="http://schemas.openxmlformats.org/officeDocument/2006/relationships/hyperlink" Target="http://www.clker.com/clipart-26098.html" TargetMode="External"/><Relationship Id="rId5" Type="http://schemas.openxmlformats.org/officeDocument/2006/relationships/hyperlink" Target="http://www.clker.com/clipart-26098.html" TargetMode="External"/><Relationship Id="rId6" Type="http://schemas.openxmlformats.org/officeDocument/2006/relationships/hyperlink" Target="http://www.uniqueteachingresources.com/school-bus-book-report.html" TargetMode="External"/><Relationship Id="rId7" Type="http://schemas.openxmlformats.org/officeDocument/2006/relationships/hyperlink" Target="http://www.uniqueteachingresources.com/school-bus-book-report.html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536400" y="1023840"/>
            <a:ext cx="12850920" cy="2932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2123640" y="3500280"/>
            <a:ext cx="7116840" cy="17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3300"/>
                </a:solidFill>
                <a:latin typeface="Book Antiqua"/>
                <a:ea typeface="Times New Roman"/>
              </a:rPr>
              <a:t>Активный метод работы над темой.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404040"/>
                </a:solidFill>
                <a:latin typeface="Georgia"/>
                <a:ea typeface="Times New Roman"/>
              </a:rPr>
              <a:t> </a:t>
            </a:r>
            <a:endParaRPr b="0" lang="en-US" sz="4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9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3" name="Рисунок 7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205000" cy="351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http://www.uniqueteachingresources.com/images/SchoolBusClipArt5.jpg"/>
          <p:cNvPicPr/>
          <p:nvPr/>
        </p:nvPicPr>
        <p:blipFill>
          <a:blip r:embed="rId3"/>
          <a:stretch/>
        </p:blipFill>
        <p:spPr>
          <a:xfrm>
            <a:off x="6156360" y="4724280"/>
            <a:ext cx="1905120" cy="1695600"/>
          </a:xfrm>
          <a:prstGeom prst="rect">
            <a:avLst/>
          </a:prstGeom>
          <a:ln w="0">
            <a:noFill/>
          </a:ln>
        </p:spPr>
      </p:pic>
      <p:sp>
        <p:nvSpPr>
          <p:cNvPr id="165" name="Подзаголовок 2"/>
          <p:cNvSpPr/>
          <p:nvPr/>
        </p:nvSpPr>
        <p:spPr>
          <a:xfrm>
            <a:off x="1838160" y="4896000"/>
            <a:ext cx="5713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1052640"/>
            <a:ext cx="66247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4116"/>
                </a:solidFill>
                <a:latin typeface="Book Antiqua"/>
                <a:ea typeface="Times New Roman"/>
              </a:rPr>
              <a:t>Цель: научиться обсуждать и анализировать заданную тему в малых группах.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58560" y="2071440"/>
            <a:ext cx="712620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: 5-7 человек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: весь класс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: 20-25 мин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: листы большого формата (ватман, плакат, блокнот для флипчата), фломастеры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Учитель определяет количество обсуждаемых вопросов новой темы (оптимально 4-5). Участники разбиваются на группы по числу вопросов (5-7 человек в каждой)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1"/>
          <a:srcRect l="0" t="5101" r="4349" b="4571"/>
          <a:stretch/>
        </p:blipFill>
        <p:spPr>
          <a:xfrm>
            <a:off x="7093080" y="5445000"/>
            <a:ext cx="192708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6560" y="333000"/>
            <a:ext cx="741708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руппы распределяются по автобусным остановкам. На каждой остановке (на стене или на столе) расположен лист большого формата с записанным на нем вопросом по теме. Учитель ставит задачу группам – записать на листе основные моменты новой темы, относящиеся к вопросу. В течение 5 минут в группах обсуждаются поставленные вопросы и записываются ключевые моменты. Затем по команде учителя группы переходят по часовой стрелке к следующей автобусной остановке. Знакомятся с имеющимися записями и, при необходимости, дополняют их в течение 3 минут. Исправлять существующие записи, сделанные предыдущей группой нельзя. Затем следующий переход к новой автобусной остановке и еще 3 минуты на знакомство, обсуждение и добавление своих записей. Когда группа возвращается к своей первой остановке, она в течение 3 минут знакомится со всеми записями и определяет участника группы, который будет представлять материал. После этого каждая группа презентует результаты работы по своему вопросу. В завершении учитель резюмирует сказанное всеми группами, при необходимости вносит коррективы и подводит итоги работы.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7524720" y="4927680"/>
            <a:ext cx="1635120" cy="193032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317520" y="109440"/>
            <a:ext cx="87231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58560" y="333360"/>
            <a:ext cx="71262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  <a:ea typeface="Times New Roman"/>
              </a:rPr>
              <a:t>Примечание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Желательно организовать автобусные остановки (прикрепить листы с вопросами) в разных углах учебной комнаты, чтобы в процессе обсуждения группы не мешали друг другу. Вопросы изучаемой темы можно стилизовать под названия автобусных остановок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Рисунок 3" descr=""/>
          <p:cNvPicPr/>
          <p:nvPr/>
        </p:nvPicPr>
        <p:blipFill>
          <a:blip r:embed="rId1"/>
          <a:srcRect l="0" t="6403" r="0" b="0"/>
          <a:stretch/>
        </p:blipFill>
        <p:spPr>
          <a:xfrm>
            <a:off x="2416320" y="3573360"/>
            <a:ext cx="46735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4116"/>
                </a:solidFill>
                <a:latin typeface="Book Antiqua"/>
              </a:rPr>
              <a:t>Ресурсы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86920" y="141264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://www.moi-universitet.ru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/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Verdana"/>
              </a:rPr>
              <a:t>электронная книга «Копилочка активных методов обучения»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5"/>
              </a:rPr>
              <a:t>www.clker.com/clipart-26098.html</a:t>
            </a:r>
            <a:r>
              <a:rPr b="0" lang="ru-RU" sz="1800" spc="-1" strike="noStrike">
                <a:solidFill>
                  <a:srgbClr val="40404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6"/>
              </a:rPr>
              <a:t>http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Book Antiqua"/>
                <a:hlinkClick r:id="rId7"/>
              </a:rPr>
              <a:t>://</a:t>
            </a:r>
            <a:r>
              <a:rPr b="0" lang="en-US" sz="1800" spc="-1" strike="noStrike">
                <a:solidFill>
                  <a:srgbClr val="404040"/>
                </a:solidFill>
                <a:latin typeface="Book Antiqua"/>
              </a:rPr>
              <a:t>www.uniqueteachingresources.com/school-bus-book-report.html</a:t>
            </a:r>
            <a:r>
              <a:rPr b="0" lang="ru-RU" sz="1800" spc="-1" strike="noStrike">
                <a:solidFill>
                  <a:srgbClr val="40404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http://www.aadusd.k12.ca.us/?page_id=19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Book Antiqua"/>
              </a:rPr>
              <a:t>http://www.dreamstime.com/izakowski_more-popular-photos_pg1</a:t>
            </a:r>
            <a:r>
              <a:rPr b="0" lang="ru-RU" sz="1800" spc="-1" strike="noStrike">
                <a:solidFill>
                  <a:srgbClr val="40404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8:12Z</dcterms:created>
  <dc:creator>Седова</dc:creator>
  <dc:description/>
  <dc:language>en-US</dc:language>
  <cp:lastModifiedBy>User</cp:lastModifiedBy>
  <dcterms:modified xsi:type="dcterms:W3CDTF">2022-02-12T05:54:16Z</dcterms:modified>
  <cp:revision>15</cp:revision>
  <dc:subject/>
  <dc:title>Метод «Автобусная остановка»</dc:title>
</cp:coreProperties>
</file>