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4CA-D07E-49DF-85C8-187ECEF5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D2E-6189-4656-9D79-E0B30D3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4B9-3860-4F71-B14A-A4ECCB61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E0B-355B-44BF-9BD0-038889E9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99E-4C47-404D-9B07-36718034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0B57-65A1-47F1-8A30-001093C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B493-5392-46EB-BC9C-083B678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3B51-747A-4A4F-9808-4B70A35F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AEFC-1101-47E8-8B35-8700788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6687-77C0-478D-8516-F4CAA43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2AE6-3D55-4044-BE6F-7758AB3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0DE-63CF-499B-841B-66902358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A62-F659-427F-8A66-93F4606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294-3DD8-45B7-B77A-F529AEA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97E6-82BB-4EF8-82E6-EF66A654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186-A61B-4681-93AD-2E18DA7A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8DEF-7174-4EB4-A168-D26BC750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094-5A63-4242-8A83-B19E0ABD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1FA-764F-49DA-B5A4-B6F0D6E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F82-224D-4F63-834C-1EAE802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EBA-CC2F-4262-B116-C13027E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AC4-3284-4BAE-B366-E874002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446-FA18-4543-9917-8A92ADA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3B9-D5B0-4C0A-818E-3BFDD18D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D90-9BEB-4FB0-AB3D-A576248A0B3F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560" y="1603440"/>
                <a:ext cx="7513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2240" y="1542600"/>
                <a:ext cx="57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920" y="197964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15880"/>
              <a:chOff x="5409720" y="1788480"/>
              <a:chExt cx="518400" cy="5158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2240" y="188244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9000" y="211428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400" y="105336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720" y="19220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1120"/>
              <a:chOff x="6118920" y="1058760"/>
              <a:chExt cx="232200" cy="2311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960" y="11102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FFD0-445E-4CF1-8BD7-9727699D64D4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clker.com/clipart-26098.html" TargetMode="External"/><Relationship Id="rId4" Type="http://schemas.openxmlformats.org/officeDocument/2006/relationships/hyperlink" Target="http://www.clker.com/clipart-26098.html" TargetMode="External"/><Relationship Id="rId5" Type="http://schemas.openxmlformats.org/officeDocument/2006/relationships/hyperlink" Target="http://www.clker.com/clipart-26098.html" TargetMode="External"/><Relationship Id="rId6" Type="http://schemas.openxmlformats.org/officeDocument/2006/relationships/hyperlink" Target="http://www.uniqueteachingresources.com/school-bus-book-report.html" TargetMode="External"/><Relationship Id="rId7" Type="http://schemas.openxmlformats.org/officeDocument/2006/relationships/hyperlink" Target="http://www.uniqueteachingresources.com/school-bus-book-report.html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536400" y="1023840"/>
            <a:ext cx="12850920" cy="2932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123640" y="3500280"/>
            <a:ext cx="7116840" cy="17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3300"/>
                </a:solidFill>
                <a:latin typeface="Book Antiqua"/>
                <a:ea typeface="Times New Roman"/>
              </a:rPr>
              <a:t>Активный метод работы над темой.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404040"/>
                </a:solidFill>
                <a:latin typeface="Georgia"/>
                <a:ea typeface="Times New Roman"/>
              </a:rPr>
              <a:t> </a:t>
            </a:r>
            <a:endParaRPr b="0" lang="en-US" sz="4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Рисунок 7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205000" cy="35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http://www.uniqueteachingresources.com/images/SchoolBusClipArt5.jpg"/>
          <p:cNvPicPr/>
          <p:nvPr/>
        </p:nvPicPr>
        <p:blipFill>
          <a:blip r:embed="rId3"/>
          <a:stretch/>
        </p:blipFill>
        <p:spPr>
          <a:xfrm>
            <a:off x="6156360" y="4724280"/>
            <a:ext cx="1905120" cy="1695600"/>
          </a:xfrm>
          <a:prstGeom prst="rect">
            <a:avLst/>
          </a:prstGeom>
          <a:ln w="0">
            <a:noFill/>
          </a:ln>
        </p:spPr>
      </p:pic>
      <p:sp>
        <p:nvSpPr>
          <p:cNvPr id="165" name="Подзаголовок 2"/>
          <p:cNvSpPr/>
          <p:nvPr/>
        </p:nvSpPr>
        <p:spPr>
          <a:xfrm>
            <a:off x="1838160" y="4896000"/>
            <a:ext cx="5713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6247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4116"/>
                </a:solidFill>
                <a:latin typeface="Book Antiqua"/>
                <a:ea typeface="Times New Roman"/>
              </a:rPr>
              <a:t>Цель: научиться обсуждать и анализировать заданную тему в малых группах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8560" y="2071440"/>
            <a:ext cx="712620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: 5-7 человек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: весь класс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: 20-25 мин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листы большого формата (ватман, плакат, блокнот для флипчата), фломастер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читель определяет количество обсуждаемых вопросов новой темы (оптимально 4-5). Участники разбиваются на группы по числу вопросов (5-7 человек в каждой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1"/>
          <a:srcRect l="0" t="5101" r="4349" b="4571"/>
          <a:stretch/>
        </p:blipFill>
        <p:spPr>
          <a:xfrm>
            <a:off x="7093080" y="5445000"/>
            <a:ext cx="19270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6560" y="333000"/>
            <a:ext cx="7417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руппы распределяются по автобусным остановкам. На каждой остановке (на стене или на столе) расположен лист большого формата с записанным на нем вопросом по теме. Учитель ставит задачу группам – записать на листе основные моменты новой темы, относящиеся к вопросу. В течение 5 минут в группах обсуждаются поставленные вопросы и записываются ключевые моменты. Затем по команде учителя группы переходят по часовой стрелке к следующей автобусной остановке. Знакомятся с имеющимися записями и, при необходимости, дополняют их в течение 3 минут. Исправлять существующие записи, сделанные предыдущей группой нельзя. Затем следующий переход к новой автобусной остановке и еще 3 минуты на знакомство, обсуждение и добавление своих записей. Когда группа возвращается к своей первой остановке, она в течение 3 минут знакомится со всеми записями и определяет участника группы, который будет представлять материал. После этого каждая группа презентует результаты работы по своему вопросу. В завершении учитель резюмирует сказанное всеми группами, при необходимости вносит коррективы и подводит итоги работы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7524720" y="4927680"/>
            <a:ext cx="1635120" cy="193032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317520" y="109440"/>
            <a:ext cx="87231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58560" y="33336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Times New Roman"/>
              </a:rPr>
              <a:t>Примечание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Желательно организовать автобусные остановки (прикрепить листы с вопросами) в разных углах учебной комнаты, чтобы в процессе обсуждения группы не мешали друг другу. Вопросы изучаемой темы можно стилизовать под названия автобусных остановок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rcRect l="0" t="6403" r="0" b="0"/>
          <a:stretch/>
        </p:blipFill>
        <p:spPr>
          <a:xfrm>
            <a:off x="2416320" y="3573360"/>
            <a:ext cx="4673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4116"/>
                </a:solidFill>
                <a:latin typeface="Book Antiqua"/>
              </a:rPr>
              <a:t>Ресурсы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8692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www.moi-universitet.ru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/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Verdana"/>
              </a:rPr>
              <a:t>электронная книга «Копилочка активных методов обучения»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5"/>
              </a:rPr>
              <a:t>www.clker.com/clipart-26098.html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6"/>
              </a:rPr>
              <a:t>http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7"/>
              </a:rPr>
              <a:t>://</a:t>
            </a:r>
            <a:r>
              <a:rPr b="0" lang="en-US" sz="1800" spc="-1" strike="noStrike">
                <a:solidFill>
                  <a:srgbClr val="404040"/>
                </a:solidFill>
                <a:latin typeface="Book Antiqua"/>
              </a:rPr>
              <a:t>www.uniqueteachingresources.com/school-bus-book-report.html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http://www.aadusd.k12.ca.us/?page_id=19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Book Antiqua"/>
              </a:rPr>
              <a:t>http://www.dreamstime.com/izakowski_more-popular-photos_pg1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4:16Z</dcterms:modified>
  <cp:revision>15</cp:revision>
  <dc:subject/>
  <dc:title>Метод «Автобусная остановка»</dc:title>
</cp:coreProperties>
</file>