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B1B5-8449-43E4-8B28-7A62BFD9A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3E24-E110-48D6-8BD7-0C3A3DCA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CB1B-D642-4AA5-A38C-A7D2F5423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2FEA-1695-4A84-AD2F-A28F70F52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1A88-7CDA-4F0C-BB08-A7506F56B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9455-239E-4AF4-9E90-C4AB723C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E92E-C2BC-43CC-88E7-8CB94C59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C25A1-E0F5-4155-8AB3-BF1DE68C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FCAF1-EB0F-459B-BAE5-21F593D0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47B4-E707-4731-A79D-BF41D12A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E6FED-E253-4061-BDD3-BA02BA53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CA28-EA1C-40F6-84D6-84E64037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BD0D-B779-4C02-90D9-31E8491E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F48F-5A12-47A1-A203-4E1F9BDF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B400-55F6-425E-AEB9-A14E3219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518A-8072-413A-B9B9-20EA10CC9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92F2-6506-4DA0-9F0E-21618D6B6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98BF0-D07F-4851-8D9F-AABCDEC75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86265-2D84-4433-9A55-7748FEE7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6EE65-45D6-4981-8928-EA7AB225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A2085-F295-406E-BCF7-F47C3D50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76307-671F-458B-B3CE-6F1FB300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9213-DBEB-4EE8-B43D-6CB8F32B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279BF-0BBA-4741-BD3B-60BAD174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00FF8-8317-4711-9EDC-64D64419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21B52-BB2D-427F-82B3-499124D6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9A3B9-B6D0-45BD-B8F1-55F2CA36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CE5CE-97F3-45D8-83F7-DDEEFBE2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6232F-D96F-461B-9A7B-F99150371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19CB2-0B8C-43E5-AE4B-D4A433AE7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DC62A-2814-4D5B-983C-A2424C210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F4C8B-84A6-4299-983D-87D22CDA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BA256-A344-4DB3-9AB0-9A0A8804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68B1-5A7C-4757-B557-FC0F20D9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0FC4B-D318-4133-BC6E-1385044A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C979F-4135-4614-89C8-FCA96410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B893F-A98B-4107-ADE0-B301D8A3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99E58-52F9-4C4B-8675-753BB1BE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AB166-11AE-43B2-8E25-8DF48FA5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2AC77-834F-4A0D-A119-F0F73DB0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76379-A290-4EA6-A8BA-369E76B9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E67FF-904D-460D-A151-32F4AEBEA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7FC57-EADE-47F2-BFD0-FF259F7BF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2CF9C-6B30-4E0D-BB38-391449D7F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2D86-C8F5-4A9B-ABA7-2D191B30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84492-306F-4575-B193-22522591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84ADF-DC91-4068-B147-4AFF368A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8FD75-FC6D-4CC7-A716-CA897E92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25DEB-8289-4C57-A87B-468A71CA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402E2-4105-4D9D-917A-30CB003E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522F5-07BD-4223-87D9-90ED3A96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29419-12EF-4352-BA44-E6EF7415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E0754-88B8-4CEA-A3E2-9F1116D9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C9909-18BD-40A7-9197-F76F0E7B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89D97-9E39-4064-B7F1-E9AADE7A7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F974-33A4-48AE-85DB-1CA670C4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A6998-9B1E-4BC9-9613-03D9D0CE2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F2F8-E0B1-4ED2-BD11-CB0DA0A3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552B-EF73-43B4-B046-9FD9870A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290B-4FBB-43C6-B5A2-48BA3C37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3725-45DA-4C90-827D-1D622D907AA2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9BDF-3229-45CD-8604-DAC26045FAD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4932-78DF-464A-AE60-719BCAA193EA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CDA4-3EB3-49EF-8D7F-202D650D7C8A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B361-2E51-4387-AD77-1BDB81C484A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oi-universitet.ru/" TargetMode="External"/><Relationship Id="rId2" Type="http://schemas.openxmlformats.org/officeDocument/2006/relationships/hyperlink" Target="http://www.moi-universitet.ru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11040" y="189000"/>
            <a:ext cx="8723520" cy="26636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872640" y="1844280"/>
            <a:ext cx="8209080" cy="863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74d26"/>
                </a:solidFill>
                <a:latin typeface="Century Schoolbook"/>
                <a:ea typeface="Times New Roman"/>
              </a:rPr>
              <a:t>Активный метод  выяснения ожиданий и опасений</a:t>
            </a:r>
            <a:r>
              <a:rPr b="0" lang="en-US" sz="5800" spc="-1" strike="noStrike">
                <a:solidFill>
                  <a:srgbClr val="79766f"/>
                </a:solidFill>
                <a:latin typeface="Georgia"/>
                <a:ea typeface="Times New Roman"/>
              </a:rPr>
              <a:t> </a:t>
            </a:r>
            <a:endParaRPr b="0" lang="en-US" sz="5800" spc="-1" strike="noStrike">
              <a:solidFill>
                <a:srgbClr val="000000"/>
              </a:solidFill>
              <a:latin typeface="Verdana"/>
            </a:endParaRPr>
          </a:p>
          <a:p>
            <a:pPr marL="36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Подзаголовок 2"/>
          <p:cNvSpPr/>
          <p:nvPr/>
        </p:nvSpPr>
        <p:spPr>
          <a:xfrm>
            <a:off x="3059280" y="4994280"/>
            <a:ext cx="5713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Рисунок 3" descr=""/>
          <p:cNvPicPr/>
          <p:nvPr/>
        </p:nvPicPr>
        <p:blipFill>
          <a:blip r:embed="rId2"/>
          <a:stretch/>
        </p:blipFill>
        <p:spPr>
          <a:xfrm>
            <a:off x="2556000" y="2708280"/>
            <a:ext cx="37335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42800" y="1125000"/>
            <a:ext cx="849816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800"/>
            </a:br>
            <a:r>
              <a:rPr b="1" lang="en-US" sz="2400" spc="-1" strike="noStrike">
                <a:solidFill>
                  <a:srgbClr val="274221"/>
                </a:solidFill>
                <a:latin typeface="Century Schoolbook"/>
                <a:ea typeface="Times New Roman"/>
              </a:rPr>
              <a:t>Цель – ученики самостоятельно формулируют свои ожидания от урока, узнают об ожиданиях других учеников. На протяжении всего урока видят своё продвижение вперёд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924000" y="1898640"/>
            <a:ext cx="4895640" cy="4051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Материалы: заготовленные заранее из цветной бумаги шаблоны яблок, фломастеры, плакат, скотч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Численность: весь клас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Время: 30 мин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Рисунок 4" descr=""/>
          <p:cNvPicPr/>
          <p:nvPr/>
        </p:nvPicPr>
        <p:blipFill>
          <a:blip r:embed="rId1"/>
          <a:stretch/>
        </p:blipFill>
        <p:spPr>
          <a:xfrm>
            <a:off x="442800" y="2565360"/>
            <a:ext cx="381024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71280" y="108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4221"/>
                </a:solidFill>
                <a:latin typeface="Century Schoolbook"/>
              </a:rPr>
              <a:t>Проведение: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3640" y="907920"/>
            <a:ext cx="6624360" cy="4052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87000"/>
          </a:bodyPr>
          <a:p>
            <a:pPr marL="230400" indent="-2304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Учитель заранее готовит большой плакат с условным «деревом». В начале урока ученикам раздаются заранее заготовленные яблоки. На них ученики пишут свои ожидания от урока и по очереди помещают их на дерево. Ожиданий может быть нескольк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0400" indent="-2304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о мере того, как пожелания будут исполняться, т.е. яблоки начнут «созревать», можно их снимать и «собирать» в корзин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0400" indent="-2304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Этот метод наглядно показывает самим ученикам собственное продвижение вперёд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Рисунок 3" descr=""/>
          <p:cNvPicPr/>
          <p:nvPr/>
        </p:nvPicPr>
        <p:blipFill>
          <a:blip r:embed="rId1"/>
          <a:stretch/>
        </p:blipFill>
        <p:spPr>
          <a:xfrm>
            <a:off x="5294160" y="2492280"/>
            <a:ext cx="3714840" cy="41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07640" y="549360"/>
            <a:ext cx="55436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4221"/>
                </a:solidFill>
                <a:latin typeface="Century Schoolbook"/>
              </a:rPr>
              <a:t>Ресурсы: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042560" y="1341360"/>
            <a:ext cx="7126200" cy="4051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http://www.moi-universitet.ru</a:t>
            </a:r>
            <a:r>
              <a:rPr b="0" lang="en-US" sz="1400" spc="-1" strike="noStrike" u="sng">
                <a:solidFill>
                  <a:srgbClr val="6b9f25"/>
                </a:solidFill>
                <a:uFillTx/>
                <a:latin typeface="Verdana"/>
                <a:hlinkClick r:id="rId2"/>
              </a:rPr>
              <a:t>/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электронная книга «Копилочка активных методов обучения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ru.123rf.com/search.php?word=%D0%B4%D0%B5%D1%80%D0%B5%D0%B2%D1%8C%D1%8F&amp;start=120&amp;t_word=TREES&amp;t_lang=ru&amp;imgtype=0&amp;searchopts=&amp;itemsperpage=6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7T21:28:12Z</dcterms:created>
  <dc:creator>Седова</dc:creator>
  <dc:description/>
  <dc:language>en-US</dc:language>
  <cp:lastModifiedBy>User</cp:lastModifiedBy>
  <dcterms:modified xsi:type="dcterms:W3CDTF">2022-02-12T05:55:08Z</dcterms:modified>
  <cp:revision>20</cp:revision>
  <dc:subject/>
  <dc:title>Метод «Автобусная остановка»</dc:title>
</cp:coreProperties>
</file>