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6918-C809-4A1A-958C-1A6BCCFB9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1D58-8984-4FD9-A34B-47A0DD9C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A198-B9A6-4D9D-8766-B51B78B7D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CC9A-DD95-41FE-BB81-2BFF0A2F5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B6E0F-AF67-4DF6-8CE8-0AE262D54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85C64-14E6-4529-BB89-232AFA3B0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DD842-21DF-454E-84AE-322CF94BF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E7C6A-EE1B-417D-9232-1E3388406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18DE6-7CBF-4AAF-B16A-578C2A092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753EA-488C-4F56-B7A8-450AD7318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95632-35BE-4F54-B78C-649F7D24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1670-E2CC-4D59-A34D-646F09915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8F627-6841-42BE-B061-8C78CBE0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59B1F-7358-418C-9D57-830650E7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DAF2F-A0C1-492C-BD83-3C9E870CF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D0F12-7B16-4D27-B71B-2CE686FE3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AC94A-386F-4321-BB00-83C163036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E81FA-4BAB-4CBD-8AF3-8A363B4A1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CE256-58D5-4814-8327-D6D214AAD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90749-63BA-457D-9FEB-A7083B6D9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646E9-932C-4B62-B420-87259536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8A4B0-FB51-41BD-823C-5B9327815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F72E-7AEA-473F-B1F4-09B0B46F9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76D0F-0960-4CF9-800F-89057379A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1FE3F-328C-40AD-A1B9-C47AE3BA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468F7-8964-4AD7-8717-F47DCCC8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C019C-3EFA-4F5E-8C92-5790ADE6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CE6D1-4792-41A9-A851-18991EEF9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EE031-D2E2-45B4-B06C-C479957A3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509C8-4661-42E4-BF5B-9EC1BF394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9E92D-B3FC-46FB-BA78-F2145B4E9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8D2FA-F755-4DF3-A469-B7128E9DB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AB0E6-BEF0-4088-AFE8-3332D7F9B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C317-3D20-4354-9B26-7BCFBB263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74EB9-A4E5-4FFF-9241-A47DAF2F1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BC5A7-3EE3-41B2-836F-A58E18624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C50FD-4062-4D3C-8C96-FCE015B93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80EDB-077D-48A9-AC2C-5A347042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56D75-81FE-49FB-96DE-6F54499A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176A1-2049-4A8B-90B2-58AAFF95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7D0F5-80B4-4EAA-8E15-F6F7F85DE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3156D-C5A9-4E4B-9A37-152F97F09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45B75-337B-41EB-ABFB-023E3B2EA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1AF01-9AAC-4445-B3A6-7902F4B48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64DB-98DA-4340-8938-F72C8FCF1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32093-1E73-42C6-8CB3-CA2A67A09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04A79-6B3C-4683-BDF7-B79E72F01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2A44C-D9B6-456C-80BB-C97D7010C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10F03-22BB-4368-9698-04D056731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DC521-791A-41D6-BF88-96E3B2CD4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02EE5-9E77-4C3B-B7FC-ED0489BF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5AEC1-0C4B-4CCF-9366-40357539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CA2FD-C622-4139-9739-E662A186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C9953-EF32-4914-B6CC-E3FCCA265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D9032-49E8-48C0-81EA-6A16AD5BB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A284-1A0D-45DB-979F-F8CDB480A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DBE6E-0CF0-4050-AB4C-2DA301B9C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EC5F-BE99-400A-8A77-FE8DD351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5F9D-B3A3-49DC-90BE-03D94559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8683-3DD9-49EE-AE39-CCE65981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B526A-DCF0-4FF1-9DB7-136B27BA329D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1B80D-DEF9-4347-A48B-9A87638D6A87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6EF48-5938-4138-ADAC-0FDE204F515B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FEF86-87D9-48ED-B109-38D9AEDB7C06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lnTo>
                  <a:pt x="2260725" y="0"/>
                </a:lnTo>
                <a:arcTo wR="63880" hR="63880" stAng="-5400000" swAng="5400000"/>
                <a:lnTo>
                  <a:pt x="2324605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81D8-5F00-41A2-96FA-CE7A022D6F3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moi-universitet.ru/" TargetMode="External"/><Relationship Id="rId2" Type="http://schemas.openxmlformats.org/officeDocument/2006/relationships/hyperlink" Target="http://www.moi-universitet.ru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311040" y="189000"/>
            <a:ext cx="8723520" cy="26636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872640" y="1844280"/>
            <a:ext cx="8209080" cy="863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74d26"/>
                </a:solidFill>
                <a:latin typeface="Century Schoolbook"/>
                <a:ea typeface="Times New Roman"/>
              </a:rPr>
              <a:t>Активный метод  выяснения ожиданий и опасений</a:t>
            </a:r>
            <a:r>
              <a:rPr b="0" lang="en-US" sz="5800" spc="-1" strike="noStrike">
                <a:solidFill>
                  <a:srgbClr val="79766f"/>
                </a:solidFill>
                <a:latin typeface="Georgia"/>
                <a:ea typeface="Times New Roman"/>
              </a:rPr>
              <a:t> </a:t>
            </a:r>
            <a:endParaRPr b="0" lang="en-US" sz="5800" spc="-1" strike="noStrike">
              <a:solidFill>
                <a:srgbClr val="000000"/>
              </a:solidFill>
              <a:latin typeface="Verdana"/>
            </a:endParaRPr>
          </a:p>
          <a:p>
            <a:pPr marL="363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Подзаголовок 2"/>
          <p:cNvSpPr/>
          <p:nvPr/>
        </p:nvSpPr>
        <p:spPr>
          <a:xfrm>
            <a:off x="3059280" y="4994280"/>
            <a:ext cx="5713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Рисунок 3" descr=""/>
          <p:cNvPicPr/>
          <p:nvPr/>
        </p:nvPicPr>
        <p:blipFill>
          <a:blip r:embed="rId2"/>
          <a:stretch/>
        </p:blipFill>
        <p:spPr>
          <a:xfrm>
            <a:off x="2556000" y="2708280"/>
            <a:ext cx="37335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42800" y="1125000"/>
            <a:ext cx="849816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800"/>
            </a:br>
            <a:r>
              <a:rPr b="1" lang="en-US" sz="2400" spc="-1" strike="noStrike">
                <a:solidFill>
                  <a:srgbClr val="274221"/>
                </a:solidFill>
                <a:latin typeface="Century Schoolbook"/>
                <a:ea typeface="Times New Roman"/>
              </a:rPr>
              <a:t>Цель – ученики самостоятельно формулируют свои ожидания от урока, узнают об ожиданиях других учеников. На протяжении всего урока видят своё продвижение вперёд.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924000" y="1898640"/>
            <a:ext cx="4895640" cy="4051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Материалы: заготовленные заранее из цветной бумаги шаблоны яблок, фломастеры, плакат, скотч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Численность: весь класс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Время: 30 мин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Рисунок 4" descr=""/>
          <p:cNvPicPr/>
          <p:nvPr/>
        </p:nvPicPr>
        <p:blipFill>
          <a:blip r:embed="rId1"/>
          <a:stretch/>
        </p:blipFill>
        <p:spPr>
          <a:xfrm>
            <a:off x="442800" y="2565360"/>
            <a:ext cx="381024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71280" y="108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4221"/>
                </a:solidFill>
                <a:latin typeface="Century Schoolbook"/>
              </a:rPr>
              <a:t>Проведение: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3640" y="907920"/>
            <a:ext cx="6624360" cy="4052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 fontScale="87000"/>
          </a:bodyPr>
          <a:p>
            <a:pPr marL="230400" indent="-2304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Учитель заранее готовит большой плакат с условным «деревом». В начале урока ученикам раздаются заранее заготовленные яблоки. На них ученики пишут свои ожидания от урока и по очереди помещают их на дерево. Ожиданий может быть нескольк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0400" indent="-2304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По мере того, как пожелания будут исполняться, т.е. яблоки начнут «созревать», можно их снимать и «собирать» в корзин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0400" indent="-2304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Этот метод наглядно показывает самим ученикам собственное продвижение вперёд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Рисунок 3" descr=""/>
          <p:cNvPicPr/>
          <p:nvPr/>
        </p:nvPicPr>
        <p:blipFill>
          <a:blip r:embed="rId1"/>
          <a:stretch/>
        </p:blipFill>
        <p:spPr>
          <a:xfrm>
            <a:off x="5294160" y="2492280"/>
            <a:ext cx="3714840" cy="41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907640" y="549360"/>
            <a:ext cx="55436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4221"/>
                </a:solidFill>
                <a:latin typeface="Century Schoolbook"/>
              </a:rPr>
              <a:t>Ресурсы: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042560" y="1341360"/>
            <a:ext cx="7126200" cy="4051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6b9f25"/>
                </a:solidFill>
                <a:uFillTx/>
                <a:latin typeface="Verdana"/>
                <a:hlinkClick r:id="rId1"/>
              </a:rPr>
              <a:t>http://www.moi-universitet.ru</a:t>
            </a:r>
            <a:r>
              <a:rPr b="0" lang="en-US" sz="1400" spc="-1" strike="noStrike" u="sng">
                <a:solidFill>
                  <a:srgbClr val="6b9f25"/>
                </a:solidFill>
                <a:uFillTx/>
                <a:latin typeface="Verdana"/>
                <a:hlinkClick r:id="rId2"/>
              </a:rPr>
              <a:t>/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электронная книга «Копилочка активных методов обучения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ru.123rf.com/search.php?word=%D0%B4%D0%B5%D1%80%D0%B5%D0%B2%D1%8C%D1%8F&amp;start=120&amp;t_word=TREES&amp;t_lang=ru&amp;imgtype=0&amp;searchopts=&amp;itemsperpage=6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7T21:28:12Z</dcterms:created>
  <dc:creator>Седова</dc:creator>
  <dc:description/>
  <dc:language>en-US</dc:language>
  <cp:lastModifiedBy>User</cp:lastModifiedBy>
  <dcterms:modified xsi:type="dcterms:W3CDTF">2022-02-12T05:55:08Z</dcterms:modified>
  <cp:revision>20</cp:revision>
  <dc:subject/>
  <dc:title>Метод «Автобусная остановка»</dc:title>
</cp:coreProperties>
</file>