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52B-DC17-4541-A21D-35675BF1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231-B0F3-4405-B4D0-33ADF61F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E62A-B861-43D5-A51A-5C6C285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060E0-3FBB-40B7-AB11-22BDCD3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936BE-E238-4D48-945A-7C31D679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4696-E276-4071-9FE8-50697A14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13DEB-7B23-46E0-B69B-22B03CF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67BBF-072C-4EC1-8CF3-6BEAEB2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9D3F-936A-4784-A365-32055494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583B1-28A9-4886-8692-C1967634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A2D1C-87D7-473A-80C6-D9FBC60D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8DE-5948-4406-A8A2-B34D1DCF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5F3-23CC-4690-AF8E-22C71E1D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0CFA-6630-4BDD-92E8-8E136451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0B09-0E14-42D0-A5DF-35CB0AE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446-D79E-4FB4-8E20-774D65F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E08-E1CC-4342-A31B-260B839C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1F99-3BA8-4941-8FC3-C462AA3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019-AB52-4FDB-8045-DD908292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3FBD-5329-4DD3-88FD-C466039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F64-EF29-4DE8-B9AB-3657E3C7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BE34-CD8D-4473-8332-D7EB539B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8F7-315B-4370-A09E-B32627C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BEA-2D55-4558-94A8-D1E0F322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3DCD-E730-4C48-B6E9-F0C9168D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E6B-CA66-44F4-9145-F04CB1D8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62ED-090E-4F39-B401-E7DF9373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BEE9-C9D2-4CA7-A019-AA4D127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5230-6FD0-440D-8FF1-B606E0A6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B5F4-997A-4DB0-8C6B-51477345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8D92-9522-45FE-8178-13A3B25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6BE-6FE9-4C3D-8011-40FB145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F173-1282-429E-8164-8D1258B1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4445-8EFA-4DCD-9143-1353089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8B4B-0935-436C-B162-749B7D8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109F-A262-49D3-8427-D486CA8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51EB-A5F6-4ACD-8F80-E6CADDF0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193A-2FF4-45A9-9542-74ED85FC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CEF2-B0B7-4202-A775-3D1DEBB9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05D1-AAE2-4362-B0AE-98D7F0B2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4581-B82F-4D65-99EA-72C2247E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F2B6-230A-4EB5-A3CE-D347FCC4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634-5545-4F93-9329-8ADB07B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9E50-31EE-45ED-982E-CE94AF4A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D51C-D4EA-463B-96A8-E79113D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0B35-6205-43E3-A5A7-7C5DB57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922F-90F0-42D6-BC5B-C3B04C7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90E3-47E6-465F-8CF2-E5F1BE3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241B-0BDC-44F2-A398-A1378C3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D578-EAD6-4042-BCEA-15108709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81E1D-E8B0-43CD-B8BE-BA385923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93E6-0944-4B9F-8B2A-D60DA43C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AE93-BBFA-490A-85CB-5321BB54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5F9-9F4E-4498-B0E4-A6D4437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D1C8-9086-4160-883C-B71E29F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48E16-726C-43AD-8F51-21B7651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15EE0-14CB-4EC0-AE83-5810CBD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F9C55-D177-4D99-8785-9FF3491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800B-CB42-41E6-995E-F041229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489C-306B-4F6E-8FFA-1ADB9D8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2F0C-41F3-4E0E-83D9-C6B4C0E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A54F-1D75-4700-BEF9-2F75593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F0A4-7C7B-4991-814B-C9D9B20C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0D82-2745-4853-8EC5-1BFBA933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E34-E60D-4047-8E5B-FD0B983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ED461-0AE5-4D95-86DA-548BFA24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8C08F-0ED4-4A12-9517-18294124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B87D-91C6-43BC-95E3-730A587B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51C8-BCCA-4C47-8D15-2FEEBC7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FECD-E427-4658-A938-2EF573A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66FB-7B12-4D57-9EB0-625D0B2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2EBA1-5DD8-4CCC-81EB-AE6C6FAF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AB0F-168F-453E-9B53-D699A14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B2881-1EC1-4889-808F-6E1E00B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3A7CF-C1B4-4E0A-ABCC-82D4B01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36E-5FFC-4E7C-B0F2-E1402F37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61E7-C563-4CA1-BBBB-3163208A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8E5B-9023-4A5A-BDE1-8576F9A6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73C4-176D-464F-9E7E-495EEEB6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E48F-223E-49EB-98BF-CBBB5769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5D03-04B1-48B9-BC82-6646812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FA80D-0C11-4915-B6CE-8F4FB050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8239-CF7B-4A8D-83B4-1EBB9879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1AAA0-4A29-4F38-BE79-CB5CC21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0EDDF-7014-4EF6-BA59-3F13BA8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1253-CA74-4EEE-889C-EC024C3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97A-A114-41CE-AD05-B020471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47C1-3240-4AA6-A0D6-B4F4382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A4CD-6F5A-43C3-9E47-30A28E84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1B3D-D6AE-4AD9-B966-FF4E3D81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D280A-9114-4539-85BA-0DD60F65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00B5-EBEA-4756-A4BB-9B4C30DB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160B8-C74B-4517-B07C-78D69584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3C1B1-1B92-4DAF-850B-1B94FA0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264B-48CF-456C-B44B-F515B27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520CC-58FE-4BBD-BA51-B9FE4B9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06B1-DF8F-41A5-9CBB-A4689DE7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EAE-2A29-4DB7-8054-5046E0A6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E4CC8-9317-409E-85C2-9FB9B3C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2DD4-6A10-4B05-ABD6-E0DF7E6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11E1F-B6C9-4A77-BAEA-7C96B21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34E6-BBAF-4274-BFC0-8E89578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5980-FEC3-4A0B-8413-1085743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4BF4-794D-4611-BEB6-876A52B4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E716-5742-4E10-9ACC-D58918E9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38EA-3D26-4363-B488-E161CD9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847BB-03D5-4D77-AA39-7474D5C8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0933-4EA8-42FB-8430-49FEDBA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C258-EA9F-475E-833C-6C546A17388A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07F-C17B-4AB4-8896-D51638CA9BA0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1E7A-E8F2-4B35-AA37-F55D56EB5F1D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0A3-26F6-45A1-A73B-65926AD08F45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7C4-2171-43AC-94C6-6724311C9A24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E15E-7EEC-4903-82EE-92FA92F5AAC2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851-8EF2-40D7-961E-E8E7D5C57FA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1E68-CC0E-44B1-9993-70F3B6A120C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7D0-6AC3-4BC3-A1F0-5E06A923F32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ru.123rf.com/search.php?word=&#1079;&#1085;&#1074;&#1082;+&#1074;&#1086;&#1087;&#1088;&#1086;&#1089;&#1072;&amp;imgtype=0&amp;t_word=znvk+question&amp;t_lang=ru&amp;srch_lang=ru" TargetMode="External"/><Relationship Id="rId6" Type="http://schemas.openxmlformats.org/officeDocument/2006/relationships/hyperlink" Target="http://ru.123rf.com/search.php?word=&#1079;&#1085;&#1074;&#1082;+&#1074;&#1086;&#1087;&#1088;&#1086;&#1089;&#1072;&amp;imgtype=0&amp;t_word=znvk+question&amp;t_lang=ru&amp;srch_lang=ru" TargetMode="Externa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390600" y="590400"/>
            <a:ext cx="8467560" cy="1871640"/>
          </a:xfrm>
          <a:prstGeom prst="rect">
            <a:avLst/>
          </a:prstGeom>
          <a:ln w="0">
            <a:noFill/>
          </a:ln>
        </p:spPr>
      </p:pic>
      <p:sp>
        <p:nvSpPr>
          <p:cNvPr id="400" name="Подзаголовок 2"/>
          <p:cNvSpPr/>
          <p:nvPr/>
        </p:nvSpPr>
        <p:spPr>
          <a:xfrm>
            <a:off x="385920" y="2421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3687"/>
                </a:solidFill>
                <a:latin typeface="Times New Roman"/>
                <a:ea typeface="Times New Roman"/>
              </a:rPr>
              <a:t>Активный метод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3348000" y="5157720"/>
            <a:ext cx="5711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2" name="Рисунок 7" descr=""/>
          <p:cNvPicPr/>
          <p:nvPr/>
        </p:nvPicPr>
        <p:blipFill>
          <a:blip r:embed="rId3"/>
          <a:stretch/>
        </p:blipFill>
        <p:spPr>
          <a:xfrm>
            <a:off x="1547640" y="2878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8960" y="1052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Цели метода: представление нового материала, структурирование материала, оживление внимания обучающихся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Группы: весь класс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Время: зависит от объема нового материала и структуры урока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Материал: подготовленный лист ватмана, цветные маркеры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2"/>
          <a:stretch/>
        </p:blipFill>
        <p:spPr>
          <a:xfrm>
            <a:off x="5076720" y="4322880"/>
            <a:ext cx="3167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24000" y="907560"/>
            <a:ext cx="868680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Учитель называет тему своего сообщения. На стене прикреплен лист ватмана или блокнот флипчата, в его центре указано название темы. Остальное пространство листа разделено на секторы, пронумерованные, но пока не заполненные. Начиная с сектора 1, учитель вписывает в сектор название раздела темы, о котором он сейчас начнет говорить в ходе сообщения. Обучающимся предлагается обдумать, о каких аспектах темы, возможно, далее пойдет речь в докладе. Затем учитель раскрывает тему, а в сектор вписываются наиболее существенные моменты первого раздела (можно записывать темы и ключевые моменты маркерами разных цветов). Они вносятся на плакат по ходу сообщения. Закончив изложение материала по первому разделу темы, учитель вписывает во второй сектор название второго раздела темы, и так далее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7" name="Picture 8" descr="Мультфильм учитель Фото со стока - 7390570"/>
          <p:cNvPicPr/>
          <p:nvPr/>
        </p:nvPicPr>
        <p:blipFill>
          <a:blip r:embed="rId3"/>
          <a:stretch/>
        </p:blipFill>
        <p:spPr>
          <a:xfrm>
            <a:off x="5508720" y="5329080"/>
            <a:ext cx="1800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Вопрос символ кнопки иллюстрация  Фото со стока - 7479925"/>
          <p:cNvPicPr/>
          <p:nvPr/>
        </p:nvPicPr>
        <p:blipFill>
          <a:blip r:embed="rId2"/>
          <a:stretch/>
        </p:blipFill>
        <p:spPr>
          <a:xfrm rot="709800">
            <a:off x="6916320" y="-106200"/>
            <a:ext cx="2200320" cy="1557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1760" y="1052640"/>
            <a:ext cx="8921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Таким образом, наглядно и в четко структурированном виде представляется весь новый материал, выделяются его ключевые моменты. Существующие на момент начала презентации "белые пятна" по данной теме постепенно заполняются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В конце презентации учитель задает вопрос, действительно ли им были затронуты все ожидавшиеся разделы, и не осталось ли каких-то не упомянутых аспектов темы. После презентации возможно проведение краткого обсуждения по теме и, при наличии вопросов у обучающихся, учитель дает ответы на них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Этот метод изложения материала помогает обучающимся следить за аргументацией учителя и видеть актуальный в данный момент рассказа аспект темы. Отчетливое разделение общего потока информации способствует лучшему восприятию. "Белые пятна" стимулируют - многие участники начнут обдумывать, какими будут следующие, пока не обозначенные разделы темы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3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86979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3"/>
              </a:rPr>
              <a:t>http://www.moi-universitet.ru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4"/>
              </a:rPr>
              <a:t>/</a:t>
            </a:r>
            <a:r>
              <a:rPr b="0" lang="ru-RU" sz="16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b13f9a"/>
                </a:solidFill>
                <a:uFillTx/>
                <a:latin typeface="Franklin Gothic Book"/>
              </a:rPr>
              <a:t>электронная книга «Копилочка активных методов обучения»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5"/>
              </a:rPr>
              <a:t>http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6"/>
              </a:rPr>
              <a:t>://ru.123rf.com/search.php?word=%D0%B7%D0%BD%D0%B2%D0%BA+%</a:t>
            </a:r>
            <a:r>
              <a:rPr b="0" lang="en-US" sz="1600" spc="-1" strike="noStrike">
                <a:solidFill>
                  <a:srgbClr val="7030a0"/>
                </a:solidFill>
                <a:latin typeface="Franklin Gothic Book"/>
              </a:rPr>
              <a:t>D0%B2%D0%BE%D0%BF%D1%80%D0%BE%D1%81%D0%B0&amp;imgtype=0&amp;t_word=znvk+question&amp;t_lang=ru&amp;srch_lang=ru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ru.123rf.com/search.php?word=%D1%83%D1%87%D0%B8%D1%82%D0%B5%D0%BB%D1%8C+%D1%83+%D0%B4%D0%BE%D1%81%D0%BA%D0%B8&amp;start=100&amp;t_word=teacher%20at%20the%20blackboard&amp;t_lang=ru&amp;imgtype=0&amp;searchopts=&amp;itemsperpage=100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6:17Z</dcterms:created>
  <dc:creator>Седова</dc:creator>
  <dc:description/>
  <dc:language>en-US</dc:language>
  <cp:lastModifiedBy>User</cp:lastModifiedBy>
  <dcterms:modified xsi:type="dcterms:W3CDTF">2022-02-12T05:55:41Z</dcterms:modified>
  <cp:revision>8</cp:revision>
  <dc:subject/>
  <dc:title>Метод «Инфо-угадайка»</dc:title>
</cp:coreProperties>
</file>