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99DC-9F13-4A02-949D-A0B1904A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687C-A0EC-4EDE-BFAB-98A11EBB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6F533-9D48-4FB0-B93D-2DACE8F4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4FA83-8D0A-49FB-AB58-3C8954B8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6003D-3CEB-4672-B0DB-F8724288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DE48B-7B39-499D-B746-E8A6586D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BA144-4E07-4BF0-8E9A-50E7CC8A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3404A-6CBA-4705-8F70-E8200DD4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47FD4-CA8D-464C-ACD5-50C92927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F0737-FA39-4205-AB29-AABAFCE5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82B03-5E8E-4458-8789-64889140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6EC4-9EB0-4132-A26D-19ADAF79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0E10-B8BD-4F92-AEE0-4748AAA2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A5DD-5609-4D65-89AF-FBDC54F7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037E-9090-4E13-9C5C-E7D381DE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F304-90D1-4BC1-B72C-06066B80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2C80-4729-49EF-9872-2B84E34F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512B-F43A-4208-BAFC-F729F5AF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CFDC-9910-46BA-9FA0-958ADECC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29AD-B9BF-4B94-9D52-06098843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4D4-22FD-423C-BD23-2606446F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B206-B6AC-40B3-9A10-EAAEDF7D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F9DD-C556-451D-8C30-5D2D543B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5924-909D-46A8-8411-FF4E7ADB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E667-220C-45E9-A813-B54E4A98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6036-B7DA-48D4-A39A-6B20CE9B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46BB1-CC1E-4690-A93B-5413490F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2B543-4E93-4681-81B6-D0A37AAF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D1970-AE55-4593-8E2A-DA594E6F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737AC-F6FE-4D70-9B63-5C51F0AC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B9012-BA6A-4BB3-A5F5-FD8E5895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FE29-087B-4626-8916-F0C718BD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2F59D-3590-48B6-9214-D565FE53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E034E-C105-442D-824C-5EDE8710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CDB94-8FF9-49D7-9A8A-5618AF2A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4CFCE-62A6-4519-B6F4-8B3B8A04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7734E-4A88-4D74-8E6A-4FEC2051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572ED-1E73-4AB9-B054-4917CB62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1A6DA-9CDA-48A0-A09C-99FE69B2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CF42C-3C01-4576-B088-70E42A9A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26136-28C1-4FF8-AAC2-EC46676D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634E9-A30B-4061-9BD7-9000CACB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3DEC-9FD1-4B2E-B1DB-51C0A60B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A1E95-1EF2-4785-BB2C-A15EFE1F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C70D2-81E1-43B1-AF57-9869D6B8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F570A-F1BD-4BB8-85E7-22D58F70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F6E38-3283-4B2F-A717-4A0D3D60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42B1F-622E-418B-BBF2-71F8A2E0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7E686-9FB3-4DB3-B200-A76A735E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078BA-8EB4-464E-A40C-51BEEFE1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C7771-E962-435C-8BF4-26818856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6821D-03E4-45DF-B0E6-990AC85F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5E92A-7056-49B5-AD31-2A4756AE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044D-03BD-4BC5-ABF2-1DE57F6D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142EA-02DE-4E11-A3C8-D4975F14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4DEC6-3538-4805-8A05-B882DD8B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94582-A45E-427F-B033-45856370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1FF7A-945F-4432-9B32-941CC2E7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32B6B-B89E-4EAA-B54B-005D8CF6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77EA3-F70D-4FB1-91F3-CF584477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2A444-82B0-45A7-9B69-A85BBB60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D9AE7-1311-406B-BBBD-AD144B71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83BB9-3FC2-47FB-B02E-7C5E42F5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90E43-6F20-4B8A-8347-B9800C3A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A4A6-198F-4A30-881B-27C49E97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B6930-BA07-436F-9256-EC3659D9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C7392-3152-413B-857A-4D41B06A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56DE6-96BA-45C6-9060-F6420E0C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87CB6-FA48-41B7-9A64-D9AFAAB2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E47C8-36AB-41CE-B0F9-2E4026E3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7F539-101F-4E4D-B2C1-FBAEA470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14652-B4A9-44EE-BE64-C34330A2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77D01-3374-4FC0-8D1D-27D018A3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53117-3714-4696-B657-51118CA5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B8565-81F7-47DB-8F8C-BA66D426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D1E-6793-4392-85A9-C629BD17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2BCE8-29BB-4635-B6C3-F1CA171F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5B5E2-D19F-4415-BBF9-34692FDC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1EFC3-FF45-4322-B1AA-99EE85DF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A1144-9E02-4F0A-A166-DD267724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9FBAA-5CCC-4F2F-B5D2-5A9F420C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2554E-820D-4E74-A0A3-CBE72803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F8F95-4E9C-4FDF-ADE3-5863E8B9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35C2F-8DF4-4564-B1C2-80D66FA8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1B288-9A16-4E76-A4CE-60DBBB15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6A0E5-95F0-4EFD-9096-A99A1CBE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751-B0DE-44B8-8C16-758A39EF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C6FAB-8E2E-4F81-B271-A9738CAC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2AD43-C5F1-4688-BFD0-74974DB5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8F3B3-3EC1-4C70-B1B3-0CB1313C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8E95A-DD51-4DE9-ADAF-75047FAA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5FA0A-16B5-4999-A798-76DCA434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F9C34-7E87-48CE-8604-D7196951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141DB-FF06-4B91-ABBD-DE02FD19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D0EB1-4CB8-45A9-991B-754806D8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DF317-0AA3-41AD-AB5A-31E1CF88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4049A-69E1-440D-BAA9-6CD4054F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560-E314-4EAF-B132-4F887BCB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C8829-AF18-4C82-B91F-FB9BA2B5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42245-707E-46CC-AE32-D4E752AC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3CEB9-4B74-460C-A5E8-A8316647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6C3D2-5ED6-4ABD-B687-65A6A58F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D857B-D0D3-45E2-BA0E-EE0685F4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A5119-2FA1-4FA3-980F-CCB2E06A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45D1A-8C95-4467-B9F1-4C731BC3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59CC6-860C-46A6-9042-A0794EB7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F05D2-67B3-4D81-A81A-1A119A7C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DE548-8F44-459A-B3E8-E59B8F86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C6F5-3B8C-449E-9A13-9E66A44E6DCA}" type="slidenum"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8D76-4467-4F6B-8D08-890E188BA601}" type="slidenum"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1217-9455-4449-9039-D3DD5F7A1790}" type="slidenum"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6BE8-2BA0-4B1F-9B2A-B950280B4D38}" type="slidenum"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2259-15CB-4EE5-B0CC-556752BEBA1B}" type="slidenum"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50E3-B2B8-4F2D-91D0-269E72A79E98}" type="slidenum"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9F47-3191-45F6-AE54-94D9A44D7BE1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2CBA-5C32-488B-A31B-645511613847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FCFA-86B6-4D60-ACBF-0AF670330E2B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ru.123rf.com/search.php?word=&#1079;&#1085;&#1074;&#1082;+&#1074;&#1086;&#1087;&#1088;&#1086;&#1089;&#1072;&amp;imgtype=0&amp;t_word=znvk+question&amp;t_lang=ru&amp;srch_lang=ru" TargetMode="External"/><Relationship Id="rId6" Type="http://schemas.openxmlformats.org/officeDocument/2006/relationships/hyperlink" Target="http://ru.123rf.com/search.php?word=&#1079;&#1085;&#1074;&#1082;+&#1074;&#1086;&#1087;&#1088;&#1086;&#1089;&#1072;&amp;imgtype=0&amp;t_word=znvk+question&amp;t_lang=ru&amp;srch_lang=ru" TargetMode="External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390600" y="590400"/>
            <a:ext cx="8467560" cy="1871640"/>
          </a:xfrm>
          <a:prstGeom prst="rect">
            <a:avLst/>
          </a:prstGeom>
          <a:ln w="0">
            <a:noFill/>
          </a:ln>
        </p:spPr>
      </p:pic>
      <p:sp>
        <p:nvSpPr>
          <p:cNvPr id="400" name="Подзаголовок 2"/>
          <p:cNvSpPr/>
          <p:nvPr/>
        </p:nvSpPr>
        <p:spPr>
          <a:xfrm>
            <a:off x="385920" y="24210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3687"/>
                </a:solidFill>
                <a:latin typeface="Times New Roman"/>
                <a:ea typeface="Times New Roman"/>
              </a:rPr>
              <a:t>Активный метод представления информации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Подзаголовок 2"/>
          <p:cNvSpPr/>
          <p:nvPr/>
        </p:nvSpPr>
        <p:spPr>
          <a:xfrm>
            <a:off x="3348000" y="5157720"/>
            <a:ext cx="57117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2" name="Рисунок 7" descr=""/>
          <p:cNvPicPr/>
          <p:nvPr/>
        </p:nvPicPr>
        <p:blipFill>
          <a:blip r:embed="rId3"/>
          <a:stretch/>
        </p:blipFill>
        <p:spPr>
          <a:xfrm>
            <a:off x="1547640" y="28782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18960" y="1052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Цели метода: представление нового материала, структурирование материала, оживление внимания обучающихся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Группы: весь класс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Время: зависит от объема нового материала и структуры урока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Материал: подготовленный лист ватмана, цветные маркеры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04" name="Рисунок 3" descr=""/>
          <p:cNvPicPr/>
          <p:nvPr/>
        </p:nvPicPr>
        <p:blipFill>
          <a:blip r:embed="rId2"/>
          <a:stretch/>
        </p:blipFill>
        <p:spPr>
          <a:xfrm>
            <a:off x="5076720" y="4322880"/>
            <a:ext cx="31672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298440" y="255600"/>
            <a:ext cx="8699400" cy="10494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24000" y="907560"/>
            <a:ext cx="8686800" cy="51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Учитель называет тему своего сообщения. На стене прикреплен лист ватмана или блокнот флипчата, в его центре указано название темы. Остальное пространство листа разделено на секторы, пронумерованные, но пока не заполненные. Начиная с сектора 1, учитель вписывает в сектор название раздела темы, о котором он сейчас начнет говорить в ходе сообщения. Обучающимся предлагается обдумать, о каких аспектах темы, возможно, далее пойдет речь в докладе. Затем учитель раскрывает тему, а в сектор вписываются наиболее существенные моменты первого раздела (можно записывать темы и ключевые моменты маркерами разных цветов). Они вносятся на плакат по ходу сообщения. Закончив изложение материала по первому разделу темы, учитель вписывает во второй сектор название второго раздела темы, и так далее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07" name="Picture 8" descr="Мультфильм учитель Фото со стока - 7390570"/>
          <p:cNvPicPr/>
          <p:nvPr/>
        </p:nvPicPr>
        <p:blipFill>
          <a:blip r:embed="rId3"/>
          <a:stretch/>
        </p:blipFill>
        <p:spPr>
          <a:xfrm>
            <a:off x="5508720" y="5329080"/>
            <a:ext cx="180000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Вопрос символ кнопки иллюстрация  Фото со стока - 7479925"/>
          <p:cNvPicPr/>
          <p:nvPr/>
        </p:nvPicPr>
        <p:blipFill>
          <a:blip r:embed="rId2"/>
          <a:stretch/>
        </p:blipFill>
        <p:spPr>
          <a:xfrm rot="709800">
            <a:off x="6916320" y="-106200"/>
            <a:ext cx="2200320" cy="1557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221760" y="1052640"/>
            <a:ext cx="89218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Таким образом, наглядно и в четко структурированном виде представляется весь новый материал, выделяются его ключевые моменты. Существующие на момент начала презентации "белые пятна" по данной теме постепенно заполняются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В конце презентации учитель задает вопрос, действительно ли им были затронуты все ожидавшиеся разделы, и не осталось ли каких-то не упомянутых аспектов темы. После презентации возможно проведение краткого обсуждения по теме и, при наличии вопросов у обучающихся, учитель дает ответы на них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4396"/>
                </a:solidFill>
                <a:latin typeface="Times New Roman"/>
                <a:ea typeface="Times New Roman"/>
              </a:rPr>
              <a:t>Этот метод изложения материала помогает обучающимся следить за аргументацией учителя и видеть актуальный в данный момент рассказа аспект темы. Отчетливое разделение общего потока информации способствует лучшему восприятию. "Белые пятна" стимулируют - многие участники начнут обдумывать, какими будут следующие, пока не обозначенные разделы темы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10" name="Заголовок 1" descr=""/>
          <p:cNvPicPr/>
          <p:nvPr/>
        </p:nvPicPr>
        <p:blipFill>
          <a:blip r:embed="rId3"/>
          <a:stretch/>
        </p:blipFill>
        <p:spPr>
          <a:xfrm>
            <a:off x="298440" y="255600"/>
            <a:ext cx="86994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317520" y="255600"/>
            <a:ext cx="8697960" cy="11523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de66"/>
                </a:solidFill>
                <a:uFillTx/>
                <a:latin typeface="Franklin Gothic Book"/>
                <a:hlinkClick r:id="rId3"/>
              </a:rPr>
              <a:t>http://www.moi-universitet.ru</a:t>
            </a:r>
            <a:r>
              <a:rPr b="0" lang="en-US" sz="1600" spc="-1" strike="noStrike" u="sng">
                <a:solidFill>
                  <a:srgbClr val="ffde66"/>
                </a:solidFill>
                <a:uFillTx/>
                <a:latin typeface="Franklin Gothic Book"/>
                <a:hlinkClick r:id="rId4"/>
              </a:rPr>
              <a:t>/</a:t>
            </a:r>
            <a:r>
              <a:rPr b="0" lang="ru-RU" sz="1600" spc="-1" strike="noStrike">
                <a:solidFill>
                  <a:srgbClr val="b13f9a"/>
                </a:solidFill>
                <a:latin typeface="Franklin Gothic Book"/>
              </a:rPr>
              <a:t> </a:t>
            </a:r>
            <a:endParaRPr b="0" lang="en-US" sz="1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b13f9a"/>
                </a:solidFill>
                <a:uFillTx/>
                <a:latin typeface="Franklin Gothic Book"/>
              </a:rPr>
              <a:t>электронная книга «Копилочка активных методов обучения»</a:t>
            </a:r>
            <a:endParaRPr b="0" lang="en-US" sz="1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de66"/>
                </a:solidFill>
                <a:uFillTx/>
                <a:latin typeface="Franklin Gothic Book"/>
                <a:hlinkClick r:id="rId5"/>
              </a:rPr>
              <a:t>http</a:t>
            </a:r>
            <a:r>
              <a:rPr b="0" lang="en-US" sz="1600" spc="-1" strike="noStrike" u="sng">
                <a:solidFill>
                  <a:srgbClr val="ffde66"/>
                </a:solidFill>
                <a:uFillTx/>
                <a:latin typeface="Franklin Gothic Book"/>
                <a:hlinkClick r:id="rId6"/>
              </a:rPr>
              <a:t>://ru.123rf.com/search.php?word=%D0%B7%D0%BD%D0%B2%D0%BA+%</a:t>
            </a:r>
            <a:r>
              <a:rPr b="0" lang="en-US" sz="1600" spc="-1" strike="noStrike">
                <a:solidFill>
                  <a:srgbClr val="7030a0"/>
                </a:solidFill>
                <a:latin typeface="Franklin Gothic Book"/>
              </a:rPr>
              <a:t>D0%B2%D0%BE%D0%BF%D1%80%D0%BE%D1%81%D0%B0&amp;imgtype=0&amp;t_word=znvk+question&amp;t_lang=ru&amp;srch_lang=ru</a:t>
            </a:r>
            <a:endParaRPr b="0" lang="en-US" sz="1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http://ru.123rf.com/search.php?word=%D1%83%D1%87%D0%B8%D1%82%D0%B5%D0%BB%D1%8C+%D1%83+%D0%B4%D0%BE%D1%81%D0%BA%D0%B8&amp;start=100&amp;t_word=teacher%20at%20the%20blackboard&amp;t_lang=ru&amp;imgtype=0&amp;searchopts=&amp;itemsperpage=100</a:t>
            </a:r>
            <a:endParaRPr b="0" lang="en-US" sz="16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21:26:17Z</dcterms:created>
  <dc:creator>Седова</dc:creator>
  <dc:description/>
  <dc:language>en-US</dc:language>
  <cp:lastModifiedBy>User</cp:lastModifiedBy>
  <dcterms:modified xsi:type="dcterms:W3CDTF">2022-02-12T05:55:41Z</dcterms:modified>
  <cp:revision>8</cp:revision>
  <dc:subject/>
  <dc:title>Метод «Инфо-угадайка»</dc:title>
</cp:coreProperties>
</file>