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4DA2-89E5-4B4F-85CC-8E4FA3980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FD14-7BD2-4680-8223-D31F6C455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7D80-EC7A-4111-B3EF-63E5A7507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E403-5526-431D-B5E5-CBDF07A65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E80E0-222B-4A42-81C3-AC3B5C647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0EF0B-CA6C-4938-BEE7-50240622C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82847-59AA-405C-A72B-BBE110EC1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F3D49-BB33-4B53-B6F9-5CD41C5BE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4EAFD-4CB7-4E22-BC9F-DDF6C1D03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71CDB-961A-4824-BB4A-42DBE7210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8EFD3-F83B-4FD3-8C6D-FC2844B4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60D8-B1BF-46CB-9A91-04DBBCE5A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751F4-DD95-4084-828F-DFF8140A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E8929-0A1C-4372-8E4F-80650150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248F8-A91C-410B-A464-C258E7EBF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41A6E-4E5F-49ED-A375-AEADE2775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15279-EDF8-4FC9-8BFA-A9A94441C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449D1-DD58-4C0C-B476-16BB3BDB1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3470B-1C68-4D5D-88BC-D21AB9810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71797-279A-45F3-ADEE-84A47D17A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BCA1B-3CD3-4852-9C31-4FB28EEF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1AB0F-C982-4EDF-80F9-555912002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D0A9-7186-4D26-BF3B-34813DCA2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65FE1-7491-4A1D-913A-3C5553330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8F1EC-4697-4B5D-B109-F5023F5C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7C31F-FE91-4396-8D8E-7C1509D0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1966B-8363-4D88-90C6-921E19A7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6BB01-626A-41A1-9BA1-3FBCF91BD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6E8C3-E69A-4A6A-ADCC-044E197D7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AC60C-3FA3-495E-A2C7-EF7B71FA9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BBCD1-2293-4405-B715-38252DA68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2DC08-23AE-4474-A92A-1E9803611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9152E-7429-41C0-B3F2-8D194C843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F0A5-E571-4BFB-A678-1B7CA3024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0BC51-4351-400E-943E-359FB28AC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A6F6E-FA59-489C-856E-31FD4ED5F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B646E-9F72-48DB-AE96-1E729CB61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D81B6-9436-4691-8F0E-49F3920B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2DB7B-CA5B-49EC-85BA-9816ED26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04886-9351-40EC-AAE6-1910BA92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0340E-F3CC-4C7E-90B7-FBAF7F426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DF7DD-4563-4201-A541-1EBD306F0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68D79-2F68-4073-80E7-426FCA076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759EF-3972-4F08-9E94-0F7C89074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8A3C-49C9-47FC-A0AF-E26EA26B5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158C0-4A0A-4FB7-B2AA-A3D87B26D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90A5B-F46E-42AA-8B7D-D2A9F8AC2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1A211-D3E7-41F8-8C02-6D1803509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6150E-CF14-417F-B319-77E8D86EE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37A1D-CA88-4C8C-A35D-42F11E29D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39567-A7F8-4FC2-9134-843EAF27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118DF-49A1-4936-9A39-00697D77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815D4-47DB-4EFA-802F-0DD17198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2969A-15E2-4955-90CA-8FDE89CBB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6BE86-9DDF-4056-A934-ADC076B2E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0D96-7183-458B-82ED-938CAF36E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F2C23-A755-4340-9B7E-4B4A25CDC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346D7-90C4-473C-A4EE-430572964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BD725-8DB7-4B28-B5B2-E6B899D79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1D282E-FC58-4F01-9448-77BD2D429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27039-9020-4E20-9986-2D2AEA3C2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31B68-4027-4982-A8F9-73BB393FA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67A3D-9E9F-4B4C-9759-DB58A3C9D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297BF-B0CF-4512-99A9-8F676EC6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A8AE8-0D50-41BA-9F96-B65FAD2D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980F05-587D-4A95-86E9-F996715B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5EF2-DF10-4D28-A40A-AEEC8262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A1AA9-60B1-4B4F-868E-07A2FC162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A1125-882B-4E7B-8C80-078FB87B3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B687E-0080-4DA3-B73C-1A1083B8F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681DB-C6DE-41CB-AB83-87DE33C42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8E9F5B-8FF9-43BA-AC56-20654DDBE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64CD73-DE2F-4EED-995D-9CADAFB6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22B9BF-AC3B-49C8-97E5-332018F36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0E630D-079B-4773-8702-BB6CB3849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9F955-6A0A-4DAF-89AD-30D3E2136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D7085-56F4-4D40-A9C0-FB9BBC9F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4063-0AE1-444D-9FF9-E4B51703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B6FD50-0870-4F2F-A901-08EE8BE4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1A1A4-F395-42C3-8050-099C70E1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4B4A74-5D0C-4CA7-A847-B55991DCF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45441-8B45-41C7-9780-77FDB3C9C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9248D6-9B3A-42F3-91A1-8351ECF68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3D5B-98D0-49D1-81DF-714EB4CC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>
                <a:gd name="textAreaLeft" fmla="*/ 0 w 5544720"/>
                <a:gd name="textAreaRight" fmla="*/ 5545080 w 55447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>
                <a:gd name="textAreaLeft" fmla="*/ 0 w 5468040"/>
                <a:gd name="textAreaRight" fmla="*/ 5468400 w 546804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>
                <a:gd name="textAreaLeft" fmla="*/ 0 w 3308040"/>
                <a:gd name="textAreaRight" fmla="*/ 3308400 w 3308040"/>
                <a:gd name="textAreaTop" fmla="*/ 0 h 651960"/>
                <a:gd name="textAreaBottom" fmla="*/ 652320 h 65196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16BAB-1CA8-4EC7-BAB4-41DBE3D2913F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0320"/>
                <a:gd name="textAreaBottom" fmla="*/ 850680 h 85032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4360"/>
                <a:gd name="textAreaBottom" fmla="*/ 774720 h 7743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1600"/>
                <a:gd name="textAreaBottom" fmla="*/ 651600 h 65160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821E8-3503-4321-9FAC-F0B4B946F5EE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>
              <a:gd name="textAreaLeft" fmla="*/ 0 w 2876400"/>
              <a:gd name="textAreaRight" fmla="*/ 2876760 w 287640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>
              <a:gd name="textAreaLeft" fmla="*/ 0 w 5545080"/>
              <a:gd name="textAreaRight" fmla="*/ 5545440 w 554508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>
              <a:gd name="textAreaLeft" fmla="*/ 0 w 5467320"/>
              <a:gd name="textAreaRight" fmla="*/ 5467680 w 546732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>
              <a:gd name="textAreaLeft" fmla="*/ 0 w 3306600"/>
              <a:gd name="textAreaRight" fmla="*/ 3306960 w 3306600"/>
              <a:gd name="textAreaTop" fmla="*/ 0 h 652680"/>
              <a:gd name="textAreaBottom" fmla="*/ 653040 h 652680"/>
            </a:gdLst>
            <a:ahLst/>
            <a:rect l="textAreaLeft" t="textAreaTop" r="textAreaRight" b="textAreaBottom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>
              <a:gd name="textAreaLeft" fmla="*/ 0 w 8723520"/>
              <a:gd name="textAreaRight" fmla="*/ 8723880 w 8723520"/>
              <a:gd name="textAreaTop" fmla="*/ 0 h 1328760"/>
              <a:gd name="textAreaBottom" fmla="*/ 1329120 h 1328760"/>
            </a:gdLst>
            <a:ahLst/>
            <a:rect l="textAreaLeft" t="textAreaTop" r="textAreaRight" b="textAreaBottom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B9681-B732-4787-BA80-086E23AA837B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>
                <a:gd name="textAreaLeft" fmla="*/ 0 w 5544720"/>
                <a:gd name="textAreaRight" fmla="*/ 5545080 w 55447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>
                <a:gd name="textAreaLeft" fmla="*/ 0 w 5468040"/>
                <a:gd name="textAreaRight" fmla="*/ 5468400 w 546804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>
                <a:gd name="textAreaLeft" fmla="*/ 0 w 3308040"/>
                <a:gd name="textAreaRight" fmla="*/ 3308400 w 3308040"/>
                <a:gd name="textAreaTop" fmla="*/ 0 h 651960"/>
                <a:gd name="textAreaBottom" fmla="*/ 652320 h 65196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693DB-FCDC-441B-8263-D992A212A906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5320"/>
                <a:gd name="textAreaBottom" fmla="*/ 715680 h 7153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1400"/>
                <a:gd name="textAreaBottom" fmla="*/ 851760 h 8514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5440"/>
                <a:gd name="textAreaBottom" fmla="*/ 775800 h 77544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C0171-5F12-41AD-BE28-72789A47118D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0320"/>
                <a:gd name="textAreaBottom" fmla="*/ 850680 h 85032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4360"/>
                <a:gd name="textAreaBottom" fmla="*/ 774720 h 7743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1600"/>
                <a:gd name="textAreaBottom" fmla="*/ 651600 h 65160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6365F-1E16-4454-B8BF-BB8CA92D65C6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5320"/>
                <a:gd name="textAreaBottom" fmla="*/ 715680 h 7153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1400"/>
                <a:gd name="textAreaBottom" fmla="*/ 851760 h 8514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5440"/>
                <a:gd name="textAreaBottom" fmla="*/ 775800 h 77544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E67F7-F99E-4041-A148-EB82D0A3E5A8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moi-universitet.ru/" TargetMode="External"/><Relationship Id="rId2" Type="http://schemas.openxmlformats.org/officeDocument/2006/relationships/hyperlink" Target="http://www.moi-universitet.ru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Заголовок 1" descr=""/>
          <p:cNvPicPr/>
          <p:nvPr/>
        </p:nvPicPr>
        <p:blipFill>
          <a:blip r:embed="rId1"/>
          <a:stretch/>
        </p:blipFill>
        <p:spPr>
          <a:xfrm>
            <a:off x="396720" y="1438200"/>
            <a:ext cx="8545680" cy="276876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1150920" y="3573360"/>
            <a:ext cx="6400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ndara"/>
                <a:ea typeface="Times New Roman"/>
              </a:rPr>
              <a:t>Активный метод активизации учащихся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37" name="Рисунок 4" descr=""/>
          <p:cNvPicPr/>
          <p:nvPr/>
        </p:nvPicPr>
        <p:blipFill>
          <a:blip r:embed="rId2"/>
          <a:stretch/>
        </p:blipFill>
        <p:spPr>
          <a:xfrm>
            <a:off x="6529320" y="3852720"/>
            <a:ext cx="233352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Численность – весь класс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ремя – 8-10 мину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ь – повысить уровень энергии в классе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0" name="Рисунок 3" descr=""/>
          <p:cNvPicPr/>
          <p:nvPr/>
        </p:nvPicPr>
        <p:blipFill>
          <a:blip r:embed="rId1"/>
          <a:stretch/>
        </p:blipFill>
        <p:spPr>
          <a:xfrm rot="907800">
            <a:off x="4498560" y="263016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406440" y="2060640"/>
            <a:ext cx="842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Учитель просит обучающихся по его команде изобразить одно из состояний – воздух, землю, огонь и воду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ведение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3" name="Рисунок 4" descr=""/>
          <p:cNvPicPr/>
          <p:nvPr/>
        </p:nvPicPr>
        <p:blipFill>
          <a:blip r:embed="rId1"/>
          <a:stretch/>
        </p:blipFill>
        <p:spPr>
          <a:xfrm rot="735000">
            <a:off x="4537080" y="3610080"/>
            <a:ext cx="2676600" cy="26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468360" y="2205000"/>
            <a:ext cx="842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73e87"/>
                </a:solidFill>
                <a:uFillTx/>
                <a:latin typeface="Times New Roman"/>
                <a:ea typeface="Times New Roman"/>
              </a:rPr>
              <a:t>Воздух. </a:t>
            </a:r>
            <a:r>
              <a:rPr b="0" lang="en-US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Ученики начинает дышать глубже, чем обычно. Они встают и делают глубокий вдох, а затем выдох. Каждый представляет, что его тело, словно большая губка, жадно впитывает кислород из воздуха. Все стараются услышать, как воздух входит в нос, почувствовать, как он наполняет грудь и плечи, руки до самых кончиков пальцев; как воздух струится в области головы, в лицо; воздух заполняет живот, область таза, бедра, колени и стремится дальше – к лодыжкам, ступням и кончикам пальцев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Ученики делают несколько глубоких вдохов и выдохов. Можно предложить всем пару раз зевнуть. Сначала это получается скорее искусственно, но иногда после этого возникает настоящий зевок. Зевота – естественный способ компенсировать недостаток кислорода. (Зевание может использоваться и по-другому: вы можете на первой встрече предложить зевать сознательно, чтобы группа быстрее «взбодрилась»)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ведение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6" name="Рисунок 3" descr=""/>
          <p:cNvPicPr/>
          <p:nvPr/>
        </p:nvPicPr>
        <p:blipFill>
          <a:blip r:embed="rId1"/>
          <a:srcRect l="47605" t="0" r="0" b="50005"/>
          <a:stretch/>
        </p:blipFill>
        <p:spPr>
          <a:xfrm>
            <a:off x="6443640" y="33480"/>
            <a:ext cx="1996920" cy="1904760"/>
          </a:xfrm>
          <a:prstGeom prst="rect">
            <a:avLst/>
          </a:prstGeom>
          <a:ln w="0">
            <a:noFill/>
          </a:ln>
        </p:spPr>
      </p:pic>
      <p:pic>
        <p:nvPicPr>
          <p:cNvPr id="347" name="Рисунок 5" descr=""/>
          <p:cNvPicPr/>
          <p:nvPr/>
        </p:nvPicPr>
        <p:blipFill>
          <a:blip r:embed="rId2"/>
          <a:stretch/>
        </p:blipFill>
        <p:spPr>
          <a:xfrm>
            <a:off x="5940360" y="765000"/>
            <a:ext cx="204804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826560" y="2565360"/>
            <a:ext cx="7409160" cy="34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73e87"/>
                </a:solidFill>
                <a:uFillTx/>
                <a:latin typeface="Times New Roman"/>
                <a:ea typeface="Times New Roman"/>
              </a:rPr>
              <a:t>Земля. </a:t>
            </a:r>
            <a:r>
              <a:rPr b="0" lang="en-US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Теперь ученики должны установить контакт с землей, «заземлиться» и почувствовать уверенность. Учитель вместе с обучающимися начинает сильно давить на пол, стоя на одном месте, можно топать ногами и даже пару раз подпрыгнуть верх. Можно потереть ногами пол, покрутиться на месте. Цель – по-новому ощутить свои ноги, которые находятся дальше всего от центра сознания, и благодаря этому телесному ощущению почувствовать большую стабильность и уверенность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ведение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0" name="Рисунок 5" descr=""/>
          <p:cNvPicPr/>
          <p:nvPr/>
        </p:nvPicPr>
        <p:blipFill>
          <a:blip r:embed="rId1"/>
          <a:stretch/>
        </p:blipFill>
        <p:spPr>
          <a:xfrm>
            <a:off x="7164360" y="4870440"/>
            <a:ext cx="190836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73e87"/>
                </a:solidFill>
                <a:uFillTx/>
                <a:latin typeface="Times New Roman"/>
                <a:ea typeface="Times New Roman"/>
              </a:rPr>
              <a:t>Огонь. </a:t>
            </a:r>
            <a:r>
              <a:rPr b="0" lang="en-US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Ученики активно двигают руками, ногами, телом, изображая языки пламени. Учитель предлагает всем ощутить энергию и тепло в своем теле, когда они двигаются подобным образом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ведение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3" name="Рисунок 4" descr=""/>
          <p:cNvPicPr/>
          <p:nvPr/>
        </p:nvPicPr>
        <p:blipFill>
          <a:blip r:embed="rId1"/>
          <a:stretch/>
        </p:blipFill>
        <p:spPr>
          <a:xfrm>
            <a:off x="6875640" y="3860640"/>
            <a:ext cx="190332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826560" y="2276640"/>
            <a:ext cx="740916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ода. Эта часть упражнения составляет контраст с предыдущей. Ученики просто представляют себе, что комната превращается в бассейн, и делают мягкие, свободные движения в «воде», следя за тем, чтобы двигались суставы – кисти рук, локти, плечи, бедра, колен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ведение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6" name="Рисунок 3" descr=""/>
          <p:cNvPicPr/>
          <p:nvPr/>
        </p:nvPicPr>
        <p:blipFill>
          <a:blip r:embed="rId1"/>
          <a:srcRect l="0" t="0" r="50005" b="50005"/>
          <a:stretch/>
        </p:blipFill>
        <p:spPr>
          <a:xfrm>
            <a:off x="6332400" y="4470480"/>
            <a:ext cx="234324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900000" y="2491920"/>
            <a:ext cx="74073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Можно дать дополнительные 3 минуты времени, чтобы каждый мог создать свою индивидуальную комбинацию элементов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73e87"/>
                </a:solidFill>
                <a:uFillTx/>
                <a:latin typeface="Times New Roman"/>
                <a:ea typeface="Times New Roman"/>
              </a:rPr>
              <a:t>Примечание: </a:t>
            </a:r>
            <a:r>
              <a:rPr b="0" lang="en-US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Если учитель сам принимает участие в этом упражнении, помимо пользы для себя, он поможет также и неуверенным и стеснительным ученикам активнее участвовать в упражнени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ведение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ff"/>
                </a:solidFill>
                <a:uFillTx/>
                <a:latin typeface="Candara"/>
                <a:hlinkClick r:id="rId1"/>
              </a:rPr>
              <a:t>http://www.moi-universitet.ru</a:t>
            </a:r>
            <a:r>
              <a:rPr b="0" lang="en-US" sz="1200" spc="-1" strike="noStrike" u="sng">
                <a:solidFill>
                  <a:srgbClr val="0080ff"/>
                </a:solidFill>
                <a:uFillTx/>
                <a:latin typeface="Candara"/>
                <a:hlinkClick r:id="rId2"/>
              </a:rPr>
              <a:t>/</a:t>
            </a:r>
            <a:r>
              <a:rPr b="0" lang="ru-RU" sz="12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73e87"/>
                </a:solidFill>
                <a:uFillTx/>
                <a:latin typeface="Candara"/>
              </a:rPr>
              <a:t>электронная книга «Копилочка активных методов обучения»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73e87"/>
                </a:solidFill>
                <a:latin typeface="Candara"/>
              </a:rPr>
              <a:t>http://ru.123rf.com/search.php?word=%D0%B7%D0%B5%D0%BC%D0%BB%D1%8F+%D0%B2%D0%BE%D0%B7%D0%B4%D1%83%D1%85+%D0%BE%D0%B3%D0%BE%D0%BD%D1%8C+%D0%B2%D0%BE%D0%B4%D0%B0&amp;start=240&amp;t_word=earth%20air%20fire%20water&amp;t_lang=ru&amp;imgtype=0&amp;searchopts=&amp;itemsperpage=60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сурсы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7T21:29:50Z</dcterms:created>
  <dc:creator>Седова</dc:creator>
  <dc:description/>
  <dc:language>en-US</dc:language>
  <cp:lastModifiedBy>User</cp:lastModifiedBy>
  <dcterms:modified xsi:type="dcterms:W3CDTF">2022-02-12T05:55:21Z</dcterms:modified>
  <cp:revision>9</cp:revision>
  <dc:subject/>
  <dc:title>Метод «Земля, воздух, огонь и вода»</dc:title>
</cp:coreProperties>
</file>