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394-0A40-45F7-96FF-B6707315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65C-DB3B-4941-8BCB-A14685BD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BBF0-A047-474D-9B65-6D368A03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886-9A66-4CCA-B3CF-86BDB0FF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028-D3E3-430F-8543-41C9575E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978-451B-487B-BD95-98DE60CF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F96-390D-459E-AE7D-70CA87B4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EA9-560E-45C7-9BD2-D000DF26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F4E-0AC8-4563-A56B-BAC9348E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F7A-EA27-4F8F-B735-B9150DC5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955-8360-4EB5-96D1-A1346E04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817-4116-4B86-89EE-3FB3892A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6879-637F-4361-868A-E5A185F5CC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58840" y="5157720"/>
            <a:ext cx="8885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0" descr=""/>
          <p:cNvPicPr/>
          <p:nvPr/>
        </p:nvPicPr>
        <p:blipFill>
          <a:blip r:embed="rId2"/>
          <a:stretch/>
        </p:blipFill>
        <p:spPr>
          <a:xfrm>
            <a:off x="109440" y="249120"/>
            <a:ext cx="8912160" cy="6407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Рисунок1"/>
          <p:cNvPicPr/>
          <p:nvPr/>
        </p:nvPicPr>
        <p:blipFill>
          <a:blip r:embed="rId1"/>
          <a:stretch/>
        </p:blipFill>
        <p:spPr>
          <a:xfrm>
            <a:off x="-181080" y="-171360"/>
            <a:ext cx="9537840" cy="7156440"/>
          </a:xfrm>
          <a:prstGeom prst="rect">
            <a:avLst/>
          </a:prstGeom>
          <a:ln w="0">
            <a:noFill/>
          </a:ln>
        </p:spPr>
      </p:pic>
      <p:sp>
        <p:nvSpPr>
          <p:cNvPr id="106" name="Горизонтальный свиток 11"/>
          <p:cNvSpPr/>
          <p:nvPr/>
        </p:nvSpPr>
        <p:spPr>
          <a:xfrm>
            <a:off x="1674720" y="0"/>
            <a:ext cx="6286680" cy="1428840"/>
          </a:xfrm>
          <a:prstGeom prst="horizontalScroll">
            <a:avLst>
              <a:gd name="adj" fmla="val 12500"/>
            </a:avLst>
          </a:prstGeom>
          <a:solidFill>
            <a:srgbClr val="bef3fe"/>
          </a:solidFill>
          <a:ln w="5724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бобщающ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908000" y="1773360"/>
            <a:ext cx="590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Сбор сем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Оформление фотоальбома садовых ц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резентация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2"/>
          <a:stretch/>
        </p:blipFill>
        <p:spPr>
          <a:xfrm>
            <a:off x="0" y="2897280"/>
            <a:ext cx="3213000" cy="23511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09" name="Рисунок 2" descr=""/>
          <p:cNvPicPr/>
          <p:nvPr/>
        </p:nvPicPr>
        <p:blipFill>
          <a:blip r:embed="rId3"/>
          <a:stretch/>
        </p:blipFill>
        <p:spPr>
          <a:xfrm>
            <a:off x="6056280" y="2897280"/>
            <a:ext cx="3140280" cy="23511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0" name="Рисунок 4" descr=""/>
          <p:cNvPicPr/>
          <p:nvPr/>
        </p:nvPicPr>
        <p:blipFill>
          <a:blip r:embed="rId4"/>
          <a:srcRect l="4218" t="4892" r="6328" b="0"/>
          <a:stretch/>
        </p:blipFill>
        <p:spPr>
          <a:xfrm>
            <a:off x="3511440" y="3786120"/>
            <a:ext cx="2152800" cy="3051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 spd="slow" advTm="9000">
    <p:checker dir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Рисунок1"/>
          <p:cNvPicPr/>
          <p:nvPr/>
        </p:nvPicPr>
        <p:blipFill>
          <a:blip r:embed="rId1"/>
          <a:stretch/>
        </p:blipFill>
        <p:spPr>
          <a:xfrm>
            <a:off x="-181080" y="-171360"/>
            <a:ext cx="9537840" cy="71564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1332000" y="44280"/>
            <a:ext cx="727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"/>
          <p:cNvSpPr/>
          <p:nvPr/>
        </p:nvSpPr>
        <p:spPr>
          <a:xfrm>
            <a:off x="250920" y="981000"/>
            <a:ext cx="8893080" cy="62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В ход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ы обогатили и систематизировали опыт детей в сфере экологического воспитания путем применения научных методов и прием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 детей появились: интерес к природе, особенностям жизни и развитию растений; желание самостоятельно выполнять поручения по уходу за растениями; навыки наблю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В период работы над проектом дети обогатили и пополнили свой словарный запас. В ходе экспериментальной деятельности у детей развивались воображение, мыш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ни познакомились с растениями и научились передавать свои чувства в творческих рабо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ти ответственно подошли к вопросу расположения цветов на клумбах участка, и были очень заинтересованы в украшении участка цветами. Этот проект открыл возможности формирования собственного жизненного опыта ребенка по взаимодействию с окружающим ми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Если я сорву цве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Если ты сорвешь цветок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Если ВСЕ: и Я, и ТЫ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Если Мы сорвем цве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То окажутся пу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 деревья, и куст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 не будет крас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2000">
    <p:checker dir="horz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Рисунок1"/>
          <p:cNvPicPr/>
          <p:nvPr/>
        </p:nvPicPr>
        <p:blipFill>
          <a:blip r:embed="rId1"/>
          <a:stretch/>
        </p:blipFill>
        <p:spPr>
          <a:xfrm>
            <a:off x="-192240" y="-184320"/>
            <a:ext cx="9537840" cy="7156800"/>
          </a:xfrm>
          <a:prstGeom prst="rect">
            <a:avLst/>
          </a:prstGeom>
          <a:ln w="0">
            <a:noFill/>
          </a:ln>
        </p:spPr>
      </p:pic>
      <p:sp>
        <p:nvSpPr>
          <p:cNvPr id="119" name="Горизонтальный свиток 9"/>
          <p:cNvSpPr/>
          <p:nvPr/>
        </p:nvSpPr>
        <p:spPr>
          <a:xfrm>
            <a:off x="971640" y="907920"/>
            <a:ext cx="7632720" cy="30258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за внима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95280" y="1700280"/>
            <a:ext cx="835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758880" y="2666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46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684360" y="260280"/>
            <a:ext cx="770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хотим, чтоб земля расцвет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 росли, как цветы малы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Чтоб для них экология с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 наукой, а частью души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облема экологического воспитания весьма актуальна. Именно в детском возрасте формируются навыки экологической куль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    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оект «Наша новая клумба» даст возможность глубже познакомить ребёнка с природой, вызвать к ней живой интерес и воспитать бережное отношение к ней. Дети в младшей группе недостаточно имеют представления о цветах, их выращивании и ухаживании за ним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анный проект поможет решить эту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7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Рисунок1"/>
          <p:cNvPicPr/>
          <p:nvPr/>
        </p:nvPicPr>
        <p:blipFill>
          <a:blip r:embed="rId1"/>
          <a:stretch/>
        </p:blipFill>
        <p:spPr>
          <a:xfrm>
            <a:off x="1440" y="0"/>
            <a:ext cx="9190080" cy="6896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"/>
          <p:cNvSpPr/>
          <p:nvPr/>
        </p:nvSpPr>
        <p:spPr>
          <a:xfrm>
            <a:off x="108000" y="1197000"/>
            <a:ext cx="8712000" cy="48243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Цель проекта: Приобщение детей к экологической куль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ать детям знания о цветах, как о полезных растениях (издают хороший зап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чищают воздух от бактер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Расширить представления о декоративных раст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Формировать активную позицию – не равнодушного созерцания, а деятельного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культурного участника в процессе решения экологически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чить детей замечать красоту цветов в клумбе, воспитывать чувство восхи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ызвать желание общаться с природой, оказывать посильную помощь в ее охр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Воспитывать бережное отношение к труду людей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08000" y="4508640"/>
            <a:ext cx="8567640" cy="13507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8000" y="6021360"/>
            <a:ext cx="8496360" cy="9637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6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Рисунок1"/>
          <p:cNvPicPr/>
          <p:nvPr/>
        </p:nvPicPr>
        <p:blipFill>
          <a:blip r:embed="rId1"/>
          <a:stretch/>
        </p:blipFill>
        <p:spPr>
          <a:xfrm>
            <a:off x="-196920" y="-149400"/>
            <a:ext cx="9537840" cy="7156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Рисунок1"/>
          <p:cNvPicPr/>
          <p:nvPr/>
        </p:nvPicPr>
        <p:blipFill>
          <a:blip r:embed="rId2"/>
          <a:stretch/>
        </p:blipFill>
        <p:spPr>
          <a:xfrm>
            <a:off x="-181080" y="-171360"/>
            <a:ext cx="9537840" cy="7156440"/>
          </a:xfrm>
          <a:prstGeom prst="rect">
            <a:avLst/>
          </a:prstGeom>
          <a:ln w="0">
            <a:noFill/>
          </a:ln>
        </p:spPr>
      </p:pic>
      <p:sp>
        <p:nvSpPr>
          <p:cNvPr id="57" name="Горизонтальный свиток 8"/>
          <p:cNvSpPr/>
          <p:nvPr/>
        </p:nvSpPr>
        <p:spPr>
          <a:xfrm>
            <a:off x="817560" y="11160"/>
            <a:ext cx="8066160" cy="1054080"/>
          </a:xfrm>
          <a:prstGeom prst="horizontalScroll">
            <a:avLst>
              <a:gd name="adj" fmla="val 12500"/>
            </a:avLst>
          </a:prstGeom>
          <a:solidFill>
            <a:srgbClr val="bef3fe"/>
          </a:solidFill>
          <a:ln w="57240">
            <a:solidFill>
              <a:srgbClr val="7f18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одготовитель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042920" y="1197000"/>
            <a:ext cx="734544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дбор и чтение художественной литературы ( сказки, стихи, загадывание загадо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ОД «Цветы на клумб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Использование в работе с детьми дидактических, пальчиковых и подвижных и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Разучивание песен о цве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Беседы «Цветы бывают разные», «Что нужно, чтобы цветы выросл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Рассматривание семян ц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f18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f18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f18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3"/>
          <a:srcRect l="10361" t="3435" r="6647" b="0"/>
          <a:stretch/>
        </p:blipFill>
        <p:spPr>
          <a:xfrm>
            <a:off x="6012000" y="4046400"/>
            <a:ext cx="2727360" cy="23814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"/>
          <p:cNvPicPr/>
          <p:nvPr/>
        </p:nvPicPr>
        <p:blipFill>
          <a:blip r:embed="rId4"/>
          <a:srcRect l="0" t="19935" r="0" b="0"/>
          <a:stretch/>
        </p:blipFill>
        <p:spPr>
          <a:xfrm>
            <a:off x="593640" y="4046400"/>
            <a:ext cx="3965760" cy="238140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checke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Рисунок1"/>
          <p:cNvPicPr/>
          <p:nvPr/>
        </p:nvPicPr>
        <p:blipFill>
          <a:blip r:embed="rId1"/>
          <a:stretch/>
        </p:blipFill>
        <p:spPr>
          <a:xfrm>
            <a:off x="-393840" y="-171360"/>
            <a:ext cx="9537840" cy="71564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Рассматривание иллюстраций, картинок с изображением цветов и клум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"/>
          <p:cNvPicPr/>
          <p:nvPr/>
        </p:nvPicPr>
        <p:blipFill>
          <a:blip r:embed="rId2"/>
          <a:stretch/>
        </p:blipFill>
        <p:spPr>
          <a:xfrm>
            <a:off x="900000" y="800280"/>
            <a:ext cx="2949840" cy="3931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3"/>
          <a:stretch/>
        </p:blipFill>
        <p:spPr>
          <a:xfrm>
            <a:off x="5219640" y="2700360"/>
            <a:ext cx="3033720" cy="4043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Рисунок1"/>
          <p:cNvPicPr/>
          <p:nvPr/>
        </p:nvPicPr>
        <p:blipFill>
          <a:blip r:embed="rId1"/>
          <a:stretch/>
        </p:blipFill>
        <p:spPr>
          <a:xfrm>
            <a:off x="-349200" y="-87480"/>
            <a:ext cx="9537480" cy="71564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971640" y="0"/>
            <a:ext cx="6894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Художественное 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Рисование «Красивые цве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Аппликация коллективная «Наша будущая клум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2"/>
          <a:srcRect l="0" t="35040" r="0" b="0"/>
          <a:stretch/>
        </p:blipFill>
        <p:spPr>
          <a:xfrm>
            <a:off x="2603520" y="1262160"/>
            <a:ext cx="3403440" cy="29480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3"/>
          <a:srcRect l="0" t="4782" r="5910" b="5479"/>
          <a:stretch/>
        </p:blipFill>
        <p:spPr>
          <a:xfrm>
            <a:off x="5364000" y="4210200"/>
            <a:ext cx="3489480" cy="24955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4"/>
          <a:srcRect l="0" t="4179" r="0" b="4205"/>
          <a:stretch/>
        </p:blipFill>
        <p:spPr>
          <a:xfrm>
            <a:off x="-20520" y="4210200"/>
            <a:ext cx="3630600" cy="2495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537840" cy="7156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1281240" y="1557360"/>
            <a:ext cx="73944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рганизация трудовых поручений в уголке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Наблюдение за трудом взрослого и элементарная помощь при посад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ем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Наблюдение за ростом рассады(уход, полив, рыхл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Горизонтальный свиток 11"/>
          <p:cNvSpPr/>
          <p:nvPr/>
        </p:nvSpPr>
        <p:spPr>
          <a:xfrm>
            <a:off x="1281240" y="189000"/>
            <a:ext cx="6675480" cy="1368360"/>
          </a:xfrm>
          <a:prstGeom prst="horizontalScroll">
            <a:avLst>
              <a:gd name="adj" fmla="val 12500"/>
            </a:avLst>
          </a:prstGeom>
          <a:solidFill>
            <a:srgbClr val="bef3fe"/>
          </a:solidFill>
          <a:ln w="5724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оисково-исполнитель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2"/>
          <a:stretch/>
        </p:blipFill>
        <p:spPr>
          <a:xfrm>
            <a:off x="336600" y="3836880"/>
            <a:ext cx="3489120" cy="2619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"/>
          <p:cNvPicPr/>
          <p:nvPr/>
        </p:nvPicPr>
        <p:blipFill>
          <a:blip r:embed="rId3"/>
          <a:stretch/>
        </p:blipFill>
        <p:spPr>
          <a:xfrm>
            <a:off x="4284720" y="4941720"/>
            <a:ext cx="2444760" cy="15814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4"/>
          <a:srcRect l="7604" t="-14351" r="-7588" b="39456"/>
          <a:stretch/>
        </p:blipFill>
        <p:spPr>
          <a:xfrm>
            <a:off x="7020000" y="4240080"/>
            <a:ext cx="2611440" cy="22831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"/>
          <p:cNvPicPr/>
          <p:nvPr/>
        </p:nvPicPr>
        <p:blipFill>
          <a:blip r:embed="rId5"/>
          <a:srcRect l="0" t="25696" r="0" b="0"/>
          <a:stretch/>
        </p:blipFill>
        <p:spPr>
          <a:xfrm>
            <a:off x="4281480" y="3240000"/>
            <a:ext cx="2448000" cy="1365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hecke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Рисунок1"/>
          <p:cNvPicPr/>
          <p:nvPr/>
        </p:nvPicPr>
        <p:blipFill>
          <a:blip r:embed="rId1"/>
          <a:stretch/>
        </p:blipFill>
        <p:spPr>
          <a:xfrm>
            <a:off x="0" y="-19080"/>
            <a:ext cx="9561600" cy="7156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179280" y="2060640"/>
            <a:ext cx="7345440" cy="165564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79280" y="2060640"/>
            <a:ext cx="7345440" cy="165564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2" descr=""/>
          <p:cNvPicPr/>
          <p:nvPr/>
        </p:nvPicPr>
        <p:blipFill>
          <a:blip r:embed="rId2"/>
          <a:stretch/>
        </p:blipFill>
        <p:spPr>
          <a:xfrm>
            <a:off x="6372360" y="836640"/>
            <a:ext cx="300960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"/>
          <p:cNvPicPr/>
          <p:nvPr/>
        </p:nvPicPr>
        <p:blipFill>
          <a:blip r:embed="rId3"/>
          <a:srcRect l="36646" t="54291" r="20950" b="0"/>
          <a:stretch/>
        </p:blipFill>
        <p:spPr>
          <a:xfrm>
            <a:off x="3348000" y="4643280"/>
            <a:ext cx="3273480" cy="23511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1258920" y="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ысаживание расс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2" descr=""/>
          <p:cNvPicPr/>
          <p:nvPr/>
        </p:nvPicPr>
        <p:blipFill>
          <a:blip r:embed="rId4"/>
          <a:srcRect l="0" t="16771" r="0" b="19294"/>
          <a:stretch/>
        </p:blipFill>
        <p:spPr>
          <a:xfrm>
            <a:off x="250920" y="836640"/>
            <a:ext cx="3744720" cy="19159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3635280" y="28875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посадим все ц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бывалой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се цветочки разны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елые и крас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Желтые и сини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се цветы краси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checker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4" descr="Рисунок1"/>
          <p:cNvPicPr/>
          <p:nvPr/>
        </p:nvPicPr>
        <p:blipFill>
          <a:blip r:embed="rId1"/>
          <a:stretch/>
        </p:blipFill>
        <p:spPr>
          <a:xfrm>
            <a:off x="-196920" y="-149400"/>
            <a:ext cx="9537840" cy="7156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Рисунок1"/>
          <p:cNvPicPr/>
          <p:nvPr/>
        </p:nvPicPr>
        <p:blipFill>
          <a:blip r:embed="rId2"/>
          <a:stretch/>
        </p:blipFill>
        <p:spPr>
          <a:xfrm>
            <a:off x="-196920" y="-149400"/>
            <a:ext cx="9537840" cy="7156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Рисунок1"/>
          <p:cNvPicPr/>
          <p:nvPr/>
        </p:nvPicPr>
        <p:blipFill>
          <a:blip r:embed="rId3"/>
          <a:stretch/>
        </p:blipFill>
        <p:spPr>
          <a:xfrm>
            <a:off x="-196920" y="-144360"/>
            <a:ext cx="9537840" cy="71564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358920" y="620640"/>
            <a:ext cx="8424720" cy="43927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1258920" y="-149400"/>
            <a:ext cx="6985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аблюдение за ростом цветов на клумбах ( уход, поли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цветочки все поль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Жарким, ясным летним д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удем мы беречь цве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Чтоб они всегда цвели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5" descr=""/>
          <p:cNvPicPr/>
          <p:nvPr/>
        </p:nvPicPr>
        <p:blipFill>
          <a:blip r:embed="rId4"/>
          <a:stretch/>
        </p:blipFill>
        <p:spPr>
          <a:xfrm>
            <a:off x="539640" y="1085760"/>
            <a:ext cx="2664000" cy="35575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5"/>
          <a:srcRect l="62914" t="11494" r="5505" b="15821"/>
          <a:stretch/>
        </p:blipFill>
        <p:spPr>
          <a:xfrm>
            <a:off x="4067280" y="4076640"/>
            <a:ext cx="1744560" cy="25797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"/>
          <p:cNvPicPr/>
          <p:nvPr/>
        </p:nvPicPr>
        <p:blipFill>
          <a:blip r:embed="rId6"/>
          <a:stretch/>
        </p:blipFill>
        <p:spPr>
          <a:xfrm>
            <a:off x="6443640" y="1085760"/>
            <a:ext cx="2646360" cy="35290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IKo</cp:lastModifiedBy>
  <dcterms:modified xsi:type="dcterms:W3CDTF">2022-02-09T19:57:02Z</dcterms:modified>
  <cp:revision>111</cp:revision>
  <dc:subject/>
  <dc:title>Слайд 1</dc:title>
</cp:coreProperties>
</file>