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5A9C-6904-4C5E-B3D9-16E988CD1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3B07-1846-41EA-810B-7D167FD07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1945-7E88-4071-93D5-8DD8EB38E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B838-1109-4957-AABD-1F26B391C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6EC0A-B872-4051-A14B-CFA0341A2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C782A-0407-4AEF-9DA7-BA325741A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36EFA-0B9A-4DEB-B9AE-FFAE9F60D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BDDFD-8A2A-4DB6-B939-60B322BB0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F3FC1-1EC8-4044-A196-AB20CBD46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C0F41-80F3-4D33-A251-307B19002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1C167-D006-464B-A057-58B735903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1666-27DB-485F-AA67-F32E3A390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4239C-9F02-4A0D-8D1C-C72E2198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8B5D6-0E4C-4DEA-8560-34D353651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6F6AD-241D-40F7-A083-36CAA54D9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D46E6-E479-4C3F-A15F-81A8507E2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2C50E-82BD-4FA6-9517-AC375F268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75E1-2156-4B8B-A67D-2CD80CD9F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5A3A-19E3-4EAF-BEAD-06B8FE314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2388-96A5-41B5-9DC2-9590B59C2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121F-2174-4EB2-B0A6-C0AB64347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536A-420B-4C75-AF39-6335D5940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6D67-CE80-45D9-A909-C2F7A64C2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16E1-083C-4241-8CC6-FE635BFA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2C3BD-3BB4-48FE-88BC-D0CE8B691DE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70B55-A8C5-4273-AA29-ACF9485F916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0256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Правописание безударных падежных окончаний имён существительных единственного числа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599"/>
          <p:cNvPicPr/>
          <p:nvPr/>
        </p:nvPicPr>
        <p:blipFill>
          <a:blip r:embed="rId1"/>
          <a:stretch/>
        </p:blipFill>
        <p:spPr>
          <a:xfrm>
            <a:off x="762120" y="571680"/>
            <a:ext cx="7842240" cy="5881680"/>
          </a:xfrm>
          <a:prstGeom prst="rect">
            <a:avLst/>
          </a:prstGeom>
          <a:ln w="2844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4"/>
          <p:cNvSpPr/>
          <p:nvPr/>
        </p:nvSpPr>
        <p:spPr>
          <a:xfrm>
            <a:off x="971640" y="765000"/>
            <a:ext cx="7076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М*лина, к*ртофель, см*родина, ч*снок, ябл*ко, к*пуста, з*мл*ника, м*рковь, свёкла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591"/>
          <p:cNvPicPr/>
          <p:nvPr/>
        </p:nvPicPr>
        <p:blipFill>
          <a:blip r:embed="rId1"/>
          <a:stretch/>
        </p:blipFill>
        <p:spPr>
          <a:xfrm>
            <a:off x="395280" y="333360"/>
            <a:ext cx="8280360" cy="6210360"/>
          </a:xfrm>
          <a:prstGeom prst="rect">
            <a:avLst/>
          </a:prstGeom>
          <a:ln w="2844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250920" y="1793880"/>
            <a:ext cx="871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Лучи солнца заиграли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на верхушк_ (?) берёзы,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на крыш_  (?) дома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250920" y="907920"/>
          <a:ext cx="8921520" cy="1413000"/>
        </p:xfrm>
        <a:graphic>
          <a:graphicData uri="http://schemas.openxmlformats.org/drawingml/2006/table">
            <a:tbl>
              <a:tblPr/>
              <a:tblGrid>
                <a:gridCol w="890640"/>
                <a:gridCol w="892080"/>
                <a:gridCol w="890640"/>
                <a:gridCol w="890640"/>
                <a:gridCol w="892080"/>
                <a:gridCol w="892080"/>
                <a:gridCol w="893880"/>
                <a:gridCol w="892080"/>
                <a:gridCol w="893880"/>
                <a:gridCol w="8935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ю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ё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Rectangle 176"/>
          <p:cNvSpPr/>
          <p:nvPr/>
        </p:nvSpPr>
        <p:spPr>
          <a:xfrm>
            <a:off x="0" y="38228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ext Box 179"/>
          <p:cNvSpPr/>
          <p:nvPr/>
        </p:nvSpPr>
        <p:spPr>
          <a:xfrm>
            <a:off x="611280" y="300348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2 – 4; 2 – 5; 1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;  2 – 7;  2 – 3;  1 – 8; 2 – 3; 1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180"/>
          <p:cNvSpPr/>
          <p:nvPr/>
        </p:nvSpPr>
        <p:spPr>
          <a:xfrm>
            <a:off x="611280" y="3938760"/>
            <a:ext cx="40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2 – 6; 1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3; 2 – 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181"/>
          <p:cNvSpPr/>
          <p:nvPr/>
        </p:nvSpPr>
        <p:spPr>
          <a:xfrm>
            <a:off x="611280" y="487512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2 – 7; 1 – 2; 1 – 1;  2 – 7; 2 – 1;  1 – 8; 2 – 7; 2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4"/>
          <p:cNvSpPr/>
          <p:nvPr/>
        </p:nvSpPr>
        <p:spPr>
          <a:xfrm>
            <a:off x="1909440" y="981000"/>
            <a:ext cx="5129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Times New Roman"/>
              </a:rPr>
              <a:t>красотою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2197800" y="4581360"/>
            <a:ext cx="4632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Times New Roman"/>
              </a:rPr>
              <a:t>спасётся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3348000" y="2781360"/>
            <a:ext cx="2217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Times New Roman"/>
              </a:rPr>
              <a:t>мир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nature_224"/>
          <p:cNvPicPr/>
          <p:nvPr/>
        </p:nvPicPr>
        <p:blipFill>
          <a:blip r:embed="rId1"/>
          <a:stretch/>
        </p:blipFill>
        <p:spPr>
          <a:xfrm>
            <a:off x="611280" y="333360"/>
            <a:ext cx="7777080" cy="6120000"/>
          </a:xfrm>
          <a:prstGeom prst="rect">
            <a:avLst/>
          </a:prstGeom>
          <a:ln w="2844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3T05:29:19Z</dcterms:created>
  <dc:creator>admin</dc:creator>
  <dc:description/>
  <dc:language>en-US</dc:language>
  <cp:lastModifiedBy>Гимназия №4</cp:lastModifiedBy>
  <dcterms:modified xsi:type="dcterms:W3CDTF">2021-11-07T09:03:38Z</dcterms:modified>
  <cp:revision>10</cp:revision>
  <dc:subject/>
  <dc:title>Правописание безударных падежных окончаний имён существительных единственного числа</dc:title>
</cp:coreProperties>
</file>