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F985-E584-4AAB-8F1E-16F18186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8581-E131-4E0D-AB0C-361D02BA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763D-A51C-4011-8765-B2B90346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813C-92D5-44E6-89FB-C3503B38F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2020-31DE-4063-8B94-68DB4FD5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55A6-A351-46E2-AA20-93C700ED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B830-D3F5-400C-8ADF-31AC353C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3EA0-0202-4B93-9D21-1246D39D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FF12-41FA-4CD0-BAE5-80A9FC34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0E42-78EA-457B-A2ED-64AFCBB3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E4ED-3E4C-4DCC-981C-6DE2A4F2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8163-F3F1-4089-A175-CC2D8FED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5AE1-C02E-4092-B1C3-ECA99559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D4FF-5850-4828-BD63-94B843FE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7CC2-E6C5-4417-AB2F-B08511EE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8658-371F-4A63-B3F8-4377E14F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0021-D892-481E-8D1A-91AF1240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FDEB-B4DA-4F66-8EA5-BCFC963B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369B-AC3A-4136-B190-B88D9763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BD31-31D2-48C4-ABCE-00B745DB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C0F7-FDE1-47E9-A159-9F0917FC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6917-8BE4-4EC2-90EE-2B529A9D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B122-DE71-46E0-B1E4-2C4351FB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64BB-D1AC-46CC-B03D-AC4143EA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1697-7102-4C22-B170-09235CBCE0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3F9D-9737-4A5B-A649-19EA8EE4ED6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0256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Правописание безударных падежных окончаний имён существительных единственного числа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599"/>
          <p:cNvPicPr/>
          <p:nvPr/>
        </p:nvPicPr>
        <p:blipFill>
          <a:blip r:embed="rId1"/>
          <a:stretch/>
        </p:blipFill>
        <p:spPr>
          <a:xfrm>
            <a:off x="762120" y="571680"/>
            <a:ext cx="7842240" cy="588168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971640" y="765000"/>
            <a:ext cx="7076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М*лина, к*ртофель, см*родина, ч*снок, ябл*ко, к*пуста, з*мл*ника, м*рковь, свёкла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591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621036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250920" y="179388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Лучи солнца заиграли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на верхушк_ (?) берёзы,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на крыш_  (?) дома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250920" y="907920"/>
          <a:ext cx="8921520" cy="1413000"/>
        </p:xfrm>
        <a:graphic>
          <a:graphicData uri="http://schemas.openxmlformats.org/drawingml/2006/table">
            <a:tbl>
              <a:tblPr/>
              <a:tblGrid>
                <a:gridCol w="890640"/>
                <a:gridCol w="892080"/>
                <a:gridCol w="890640"/>
                <a:gridCol w="890640"/>
                <a:gridCol w="892080"/>
                <a:gridCol w="892080"/>
                <a:gridCol w="893880"/>
                <a:gridCol w="892080"/>
                <a:gridCol w="893880"/>
                <a:gridCol w="893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176"/>
          <p:cNvSpPr/>
          <p:nvPr/>
        </p:nvSpPr>
        <p:spPr>
          <a:xfrm>
            <a:off x="0" y="3822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179"/>
          <p:cNvSpPr/>
          <p:nvPr/>
        </p:nvSpPr>
        <p:spPr>
          <a:xfrm>
            <a:off x="611280" y="30034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 – 4; 2 – 5; 1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;  2 – 7;  2 – 3;  1 – 8; 2 – 3; 1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80"/>
          <p:cNvSpPr/>
          <p:nvPr/>
        </p:nvSpPr>
        <p:spPr>
          <a:xfrm>
            <a:off x="611280" y="393876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 – 6; 1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; 2 –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81"/>
          <p:cNvSpPr/>
          <p:nvPr/>
        </p:nvSpPr>
        <p:spPr>
          <a:xfrm>
            <a:off x="611280" y="487512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 – 7; 1 – 2; 1 – 1;  2 – 7; 2 – 1;  1 – 8; 2 – 7; 2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1909440" y="981000"/>
            <a:ext cx="512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красотою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197800" y="4581360"/>
            <a:ext cx="463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спасётся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348000" y="2781360"/>
            <a:ext cx="221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мир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nature_224"/>
          <p:cNvPicPr/>
          <p:nvPr/>
        </p:nvPicPr>
        <p:blipFill>
          <a:blip r:embed="rId1"/>
          <a:stretch/>
        </p:blipFill>
        <p:spPr>
          <a:xfrm>
            <a:off x="611280" y="333360"/>
            <a:ext cx="7777080" cy="612000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05:29:19Z</dcterms:created>
  <dc:creator>admin</dc:creator>
  <dc:description/>
  <dc:language>en-US</dc:language>
  <cp:lastModifiedBy>Гимназия №4</cp:lastModifiedBy>
  <dcterms:modified xsi:type="dcterms:W3CDTF">2021-11-07T09:03:38Z</dcterms:modified>
  <cp:revision>10</cp:revision>
  <dc:subject/>
  <dc:title>Правописание безударных падежных окончаний имён существительных единственного числа</dc:title>
</cp:coreProperties>
</file>