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8CC-A2AD-4163-8520-3FB50B6C8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AD6-BFB4-4CB6-BB95-82E9F5E7E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1801-FF78-4812-9C14-BDE736E82A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A0B-7292-4722-82EC-81178985F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1545-CEC5-4C86-84F6-BE693CEC8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AB6-7257-4632-9F3E-C1437BE899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F39-5589-48FC-BF8C-2F1E5AAE7B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B68-77B1-472D-9240-03A36A4CB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951F-3962-4489-8253-9A83B52765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FD4-130B-4F5A-AAE9-08A135C69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171-332C-448F-9E7D-C67A57F4A2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927-AAB3-41F4-910E-AAE3AB95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582-0FB0-4454-8527-CE0A0432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965-7368-4880-81E4-719E4362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3A5-5F19-4720-BDFD-9673EC53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44E-060D-40FD-862C-D6C1F9C3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868-0EC8-4A68-9294-79C03DA6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7D7-0CB0-473E-9688-E70AC6D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9B5-F0A5-4A32-9A11-65C086A3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950-7282-437C-BC56-6E7B5ED1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55D-6742-4C62-A314-D6D8CF7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FE2-94E2-4835-A5E6-8686885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0E8-C46B-4B7C-8694-EA7ECAC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F3D-3603-48E1-B832-60C98606F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49" name="Круглая лента лицом вверх 2"/>
          <p:cNvSpPr/>
          <p:nvPr/>
        </p:nvSpPr>
        <p:spPr>
          <a:xfrm>
            <a:off x="179280" y="-674640"/>
            <a:ext cx="9288720" cy="2448000"/>
          </a:xfrm>
          <a:custGeom>
            <a:avLst/>
            <a:gdLst>
              <a:gd name="textAreaLeft" fmla="*/ 2322000 w 9288720"/>
              <a:gd name="textAreaRight" fmla="*/ 6966720 w 9288720"/>
              <a:gd name="textAreaTop" fmla="*/ 72360 h 2448000"/>
              <a:gd name="textAreaBottom" fmla="*/ 18360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25560">
            <a:solidFill>
              <a:srgbClr val="000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ский сад №94 «Яблоч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116000" y="2230560"/>
            <a:ext cx="7021440" cy="1141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059280" y="465300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8e"/>
                </a:solidFill>
                <a:uFillTx/>
                <a:latin typeface="Arial"/>
                <a:ea typeface="Calibri"/>
              </a:rPr>
              <a:t>Авторы проекта и участни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воспитатель группы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Золотницкая М.Н. дети и родители груп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324000" y="-232560"/>
            <a:ext cx="9072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асширение кругозора детей и обогащение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полнение педагогического процесса за счет создания ма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ополнение педагогического процесса за счет книжек-малышек о снежинке, изготовленных родителями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работать умение у малышей работать в коллект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ктивное участие родителей в пед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пособствовать эмоциональному развитию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68360" y="98100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дагог – это больше, чем професс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образ жизни, это целый мир творчества, доброты и любв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e"/>
                </a:solidFill>
                <a:latin typeface="Arial"/>
              </a:rPr>
              <a:t>ЖЕЛАЕМ ВАМ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2286000" y="-66600"/>
            <a:ext cx="7375680" cy="4352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971640" y="0"/>
            <a:ext cx="3076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0" t="3781" r="0" b="0"/>
          <a:stretch/>
        </p:blipFill>
        <p:spPr>
          <a:xfrm>
            <a:off x="-49320" y="0"/>
            <a:ext cx="9358560" cy="7273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214200" y="404640"/>
            <a:ext cx="864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-4226760"/>
            <a:ext cx="9144000" cy="10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Раздел программы</a:t>
            </a:r>
            <a:r>
              <a:rPr b="0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коммуникация (развитие реч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ое творчество (лепка, рисование), чтение художественной литерату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ние (ознакомление с окружающим), социализация, музыкаль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Тип проекта</a:t>
            </a:r>
            <a:r>
              <a:rPr b="0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информационно-творче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краткосрочный (месяч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e"/>
                </a:solidFill>
                <a:latin typeface="Calibri"/>
                <a:ea typeface="Calibri"/>
              </a:rPr>
              <a:t>Возрастная груп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вторая младш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4287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643120" y="3714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3643200" y="621504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-4576680"/>
            <a:ext cx="9144000" cy="11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e"/>
                </a:solidFill>
                <a:latin typeface="Calibri"/>
                <a:ea typeface="Calibri"/>
              </a:rPr>
              <a:t>Наличие межпредметных связей</a:t>
            </a:r>
            <a:r>
              <a:rPr b="0" lang="ru-RU" sz="3600" spc="-1" strike="noStrike">
                <a:solidFill>
                  <a:srgbClr val="00008e"/>
                </a:solidFill>
                <a:latin typeface="Calibri"/>
                <a:ea typeface="Calibri"/>
              </a:rPr>
              <a:t> – разные виды деятель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зновательно-исследователь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тение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гр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муника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дук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узыкально-художе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Расширение знаний детей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Вовлечение родителей в творческий процесс работы с детьми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-74772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50920" y="-531720"/>
            <a:ext cx="92170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Цель работы над проек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сширение словарного запаса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огащение развивающей среды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творческих способностей детей и их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e"/>
                </a:solidFill>
                <a:latin typeface="Calibri"/>
                <a:ea typeface="Calibri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Расширять и углублять знания детей о зимних явл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Формировать активный слов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Побуждать к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.Развивать умение работать и играть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.Вовлекать родителей в образовательный проце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4680" y="-852480"/>
            <a:ext cx="9683640" cy="80074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1736640" y="-804960"/>
            <a:ext cx="5597640" cy="1627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50920" y="836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иллюстраций снеж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1341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ние снежинок на прогулке, лепка снежных комо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250920" y="1989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Чтение художественной литературы о зимних я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187200" y="26208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движная игра «Снежки» в группе и на прогу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7"/>
          <a:stretch/>
        </p:blipFill>
        <p:spPr>
          <a:xfrm>
            <a:off x="6732720" y="0"/>
            <a:ext cx="257148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8"/>
          <a:stretch/>
        </p:blipFill>
        <p:spPr>
          <a:xfrm>
            <a:off x="3059280" y="3222720"/>
            <a:ext cx="29048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-74772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-111240"/>
            <a:ext cx="58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Чтение сказок, придуманных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IMG_0651.JPG"/>
          <p:cNvPicPr/>
          <p:nvPr/>
        </p:nvPicPr>
        <p:blipFill>
          <a:blip r:embed="rId3"/>
          <a:stretch/>
        </p:blipFill>
        <p:spPr>
          <a:xfrm>
            <a:off x="5940360" y="2060640"/>
            <a:ext cx="2841840" cy="3789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IMG_0704.JPG"/>
          <p:cNvPicPr/>
          <p:nvPr/>
        </p:nvPicPr>
        <p:blipFill>
          <a:blip r:embed="rId4"/>
          <a:stretch/>
        </p:blipFill>
        <p:spPr>
          <a:xfrm>
            <a:off x="826920" y="2708280"/>
            <a:ext cx="4668840" cy="3502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MG_0705.JPG"/>
          <p:cNvPicPr/>
          <p:nvPr/>
        </p:nvPicPr>
        <p:blipFill>
          <a:blip r:embed="rId5"/>
          <a:stretch/>
        </p:blipFill>
        <p:spPr>
          <a:xfrm>
            <a:off x="5292720" y="-316080"/>
            <a:ext cx="3106800" cy="2332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45576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Упражнение на дыхание «подуй на снежинк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движная игра «В снег глубокий я вой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узыкальная подвижная игра «Саноч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16920" y="-230040"/>
            <a:ext cx="48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ОД рисование «Украсим снежин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ОД лепка (коллективная) «Снегов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5"/>
          <a:stretch/>
        </p:blipFill>
        <p:spPr>
          <a:xfrm>
            <a:off x="900000" y="1413000"/>
            <a:ext cx="2714760" cy="4827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"/>
          <p:cNvPicPr/>
          <p:nvPr/>
        </p:nvPicPr>
        <p:blipFill>
          <a:blip r:embed="rId6"/>
          <a:stretch/>
        </p:blipFill>
        <p:spPr>
          <a:xfrm>
            <a:off x="6257880" y="0"/>
            <a:ext cx="2889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833400"/>
            <a:ext cx="9683640" cy="8005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800" y="59760"/>
            <a:ext cx="23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95280" y="-183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Беседы с детьми по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е макета «Зимний ле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5433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овместное музыкальное занятие детей и родителей «В гостях у снегов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7"/>
          <a:stretch/>
        </p:blipFill>
        <p:spPr>
          <a:xfrm>
            <a:off x="826920" y="1806480"/>
            <a:ext cx="2841840" cy="5051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8"/>
          <a:stretch/>
        </p:blipFill>
        <p:spPr>
          <a:xfrm>
            <a:off x="5724360" y="1563840"/>
            <a:ext cx="2799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2:00:57Z</dcterms:created>
  <dc:creator>Admin</dc:creator>
  <dc:description/>
  <dc:language>en-US</dc:language>
  <cp:lastModifiedBy>Sonya</cp:lastModifiedBy>
  <dcterms:modified xsi:type="dcterms:W3CDTF">2022-02-12T11:16:21Z</dcterms:modified>
  <cp:revision>32</cp:revision>
  <dc:subject/>
  <dc:title>Слайд 1</dc:title>
</cp:coreProperties>
</file>