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7CE3-1723-4B7E-B95A-C85A39B745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A66D-3C05-4AE3-92A4-4F678C2571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CD5E-8BB8-4172-8F8F-4DA440FC1A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4150-3937-471A-83C5-43EC96B19F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CF5F-1A8C-41D5-AF6D-9C05E4F84C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5F7B-06DA-467C-80B9-99A4422157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4CB1-0EC0-441C-B5E2-18B400A6EB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12E4-1509-4BFE-A292-4AB47A8CFF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0E8B-3239-4CFF-B028-C094C9C148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7D66-1E48-4A07-82B6-05351A8C41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3478-CCC4-4EC0-82E5-909280CB2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847-8800-4627-B86B-43017E76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B93-FA3C-4DEB-8450-B7463812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828-6AD1-435B-8E25-EF5546F6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BE2-A773-4AC6-93A7-B888948E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B41-337F-4BA4-AED3-9F223548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C4F-D157-4368-9668-C7B215D8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A55-395E-46E6-A3C3-17A5C815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E5A-A199-421E-9135-F6A4A860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28F-DCCE-496F-AD73-A5F29F78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8E1-970B-4CA8-ADC0-B2877A4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1D9-7EFC-4BCC-ABE5-D3504F26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AFF-69E8-42D8-9544-8BFDBFB7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5C78-F47E-40F0-A81A-7151FD232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-83340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49" name="Круглая лента лицом вверх 2"/>
          <p:cNvSpPr/>
          <p:nvPr/>
        </p:nvSpPr>
        <p:spPr>
          <a:xfrm>
            <a:off x="179280" y="-674640"/>
            <a:ext cx="9288720" cy="2448000"/>
          </a:xfrm>
          <a:custGeom>
            <a:avLst/>
            <a:gdLst>
              <a:gd name="textAreaLeft" fmla="*/ 2322000 w 9288720"/>
              <a:gd name="textAreaRight" fmla="*/ 6966720 w 9288720"/>
              <a:gd name="textAreaTop" fmla="*/ 72360 h 2448000"/>
              <a:gd name="textAreaBottom" fmla="*/ 18360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ff"/>
          </a:solidFill>
          <a:ln w="25560">
            <a:solidFill>
              <a:srgbClr val="000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ский сад №94 «Яблоч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3" descr=""/>
          <p:cNvPicPr/>
          <p:nvPr/>
        </p:nvPicPr>
        <p:blipFill>
          <a:blip r:embed="rId2"/>
          <a:stretch/>
        </p:blipFill>
        <p:spPr>
          <a:xfrm>
            <a:off x="1116000" y="2230560"/>
            <a:ext cx="7021440" cy="1141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059280" y="4653000"/>
            <a:ext cx="64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8e"/>
                </a:solidFill>
                <a:uFillTx/>
                <a:latin typeface="Arial"/>
                <a:ea typeface="Calibri"/>
              </a:rPr>
              <a:t>Авторы проекта и участни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воспитатель группы 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Золотницкая М.Н. дети и родители груп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-83340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324000" y="-232560"/>
            <a:ext cx="9072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e"/>
                </a:solidFill>
                <a:latin typeface="Calibri"/>
                <a:ea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асширение кругозора детей и обогащение слов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полнение педагогического процесса за счет создания мак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полнение педагогического процесса за счет книжек-малышек о снежинке, изготовленных родителями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работать умение у малышей работать в коллекти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ктивное участие родителей в пед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пособствовать эмоциональному развитию воспит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468360" y="98100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дагог – это больше, чем професс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образ жизни, это целый мир творчества, доброты и любв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e"/>
                </a:solidFill>
                <a:latin typeface="Arial"/>
              </a:rPr>
              <a:t>ЖЕЛАЕМ ВАМ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-833400"/>
            <a:ext cx="9683640" cy="80056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2286000" y="-66600"/>
            <a:ext cx="7375680" cy="4352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971640" y="0"/>
            <a:ext cx="30765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0" t="3781" r="0" b="0"/>
          <a:stretch/>
        </p:blipFill>
        <p:spPr>
          <a:xfrm>
            <a:off x="-49320" y="0"/>
            <a:ext cx="9358560" cy="72738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214200" y="404640"/>
            <a:ext cx="8643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-4226760"/>
            <a:ext cx="9144000" cy="10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Раздел программы</a:t>
            </a:r>
            <a:r>
              <a:rPr b="0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коммуникация (развитие реч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художественное творчество (лепка, рисование), чтение художественной литерату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знание (ознакомление с окружающим), социализация, музыкальн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Тип проекта</a:t>
            </a:r>
            <a:r>
              <a:rPr b="0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информационно-творче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Продолжи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краткосрочный (месяч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Возрастная груп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вторая младш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0" y="4287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643120" y="37148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3643200" y="621504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-4576680"/>
            <a:ext cx="9144000" cy="11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e"/>
                </a:solidFill>
                <a:latin typeface="Calibri"/>
                <a:ea typeface="Calibri"/>
              </a:rPr>
              <a:t>Наличие межпредметных связей</a:t>
            </a:r>
            <a:r>
              <a:rPr b="0" lang="ru-RU" sz="3600" spc="-1" strike="noStrike">
                <a:solidFill>
                  <a:srgbClr val="00008e"/>
                </a:solidFill>
                <a:latin typeface="Calibri"/>
                <a:ea typeface="Calibri"/>
              </a:rPr>
              <a:t> – разные виды деятель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зновательно-исследователь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Чтение художественн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гр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муника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дук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узыкально-художеств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e"/>
                </a:solidFill>
                <a:latin typeface="Calibri"/>
                <a:ea typeface="Calibri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.Расширение знаний детей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.Вовлечение родителей в творческий процесс работы с детьми в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-74772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50920" y="-531720"/>
            <a:ext cx="92170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e"/>
                </a:solidFill>
                <a:latin typeface="Calibri"/>
                <a:ea typeface="Calibri"/>
              </a:rPr>
              <a:t>Цель работы над проек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сширение словарного запаса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огащение развивающей среды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творческих способностей детей и их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e"/>
                </a:solidFill>
                <a:latin typeface="Calibri"/>
                <a:ea typeface="Calibri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.Расширять и углублять знания детей о зимних явл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.Формировать активный слов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3.Побуждать к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4.Развивать умение работать и играть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.Вовлекать родителей в образовательный процес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4680" y="-852480"/>
            <a:ext cx="9683640" cy="800748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1" descr=""/>
          <p:cNvPicPr/>
          <p:nvPr/>
        </p:nvPicPr>
        <p:blipFill>
          <a:blip r:embed="rId2"/>
          <a:stretch/>
        </p:blipFill>
        <p:spPr>
          <a:xfrm>
            <a:off x="1736640" y="-804960"/>
            <a:ext cx="5597640" cy="1627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250920" y="83664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ние иллюстраций снеж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50920" y="134136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ние снежинок на прогулке, лепка снежных комоч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250920" y="19890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Чтение художественной литературы о зимних явл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187200" y="262080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движная игра «Снежки» в группе и на прогул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7"/>
          <a:stretch/>
        </p:blipFill>
        <p:spPr>
          <a:xfrm>
            <a:off x="6732720" y="0"/>
            <a:ext cx="257148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8"/>
          <a:stretch/>
        </p:blipFill>
        <p:spPr>
          <a:xfrm>
            <a:off x="3059280" y="3222720"/>
            <a:ext cx="29048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-74772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0" y="-111240"/>
            <a:ext cx="58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Чтение сказок, придуманных родител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IMG_0651.JPG"/>
          <p:cNvPicPr/>
          <p:nvPr/>
        </p:nvPicPr>
        <p:blipFill>
          <a:blip r:embed="rId3"/>
          <a:stretch/>
        </p:blipFill>
        <p:spPr>
          <a:xfrm>
            <a:off x="5940360" y="2060640"/>
            <a:ext cx="2841840" cy="3789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IMG_0704.JPG"/>
          <p:cNvPicPr/>
          <p:nvPr/>
        </p:nvPicPr>
        <p:blipFill>
          <a:blip r:embed="rId4"/>
          <a:stretch/>
        </p:blipFill>
        <p:spPr>
          <a:xfrm>
            <a:off x="826920" y="2708280"/>
            <a:ext cx="4668840" cy="3502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IMG_0705.JPG"/>
          <p:cNvPicPr/>
          <p:nvPr/>
        </p:nvPicPr>
        <p:blipFill>
          <a:blip r:embed="rId5"/>
          <a:stretch/>
        </p:blipFill>
        <p:spPr>
          <a:xfrm>
            <a:off x="5292720" y="-316080"/>
            <a:ext cx="3106800" cy="2332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45576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Упражнение на дыхание «подуй на снежинк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движная игра «В снег глубокий я вой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ая подвижная игра «Саноч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-83340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16920" y="-230040"/>
            <a:ext cx="48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ОД рисование «Украсим снежин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ОД лепка (коллективная) «Снегов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5"/>
          <a:stretch/>
        </p:blipFill>
        <p:spPr>
          <a:xfrm>
            <a:off x="900000" y="1413000"/>
            <a:ext cx="2714760" cy="4827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"/>
          <p:cNvPicPr/>
          <p:nvPr/>
        </p:nvPicPr>
        <p:blipFill>
          <a:blip r:embed="rId6"/>
          <a:stretch/>
        </p:blipFill>
        <p:spPr>
          <a:xfrm>
            <a:off x="6257880" y="0"/>
            <a:ext cx="2889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-83340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1800" y="59760"/>
            <a:ext cx="23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95280" y="-183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Беседы с детьми по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зготовление макета «Зимний ле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овместное музыкальное занятие детей и родителей «В гостях у снегов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7"/>
          <a:stretch/>
        </p:blipFill>
        <p:spPr>
          <a:xfrm>
            <a:off x="826920" y="1806480"/>
            <a:ext cx="2841840" cy="5051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"/>
          <p:cNvPicPr/>
          <p:nvPr/>
        </p:nvPicPr>
        <p:blipFill>
          <a:blip r:embed="rId8"/>
          <a:stretch/>
        </p:blipFill>
        <p:spPr>
          <a:xfrm>
            <a:off x="5724360" y="1563840"/>
            <a:ext cx="27990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2:00:57Z</dcterms:created>
  <dc:creator>Admin</dc:creator>
  <dc:description/>
  <dc:language>en-US</dc:language>
  <cp:lastModifiedBy>Sonya</cp:lastModifiedBy>
  <dcterms:modified xsi:type="dcterms:W3CDTF">2022-02-12T11:16:21Z</dcterms:modified>
  <cp:revision>32</cp:revision>
  <dc:subject/>
  <dc:title>Слайд 1</dc:title>
</cp:coreProperties>
</file>