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FCE9-F216-45F3-9B83-32B441B5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8EC-820E-4478-8868-AEF11A8B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044D-B19E-41E6-8768-D650C1B2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56B6-152C-4AC1-A4D3-C68F39D9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24A2-0DA9-4B46-8F58-5F366B29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8338-4E79-4602-838B-D812EE5D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A508-8023-4282-BF85-5D00DB31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DCB1-FA62-4CDB-B1C0-F74C88B0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4442-39BB-4143-AE99-DF94A519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C06A-4146-48D0-B27D-20FCD79C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B4B8-BD13-4D90-ABC6-6459ECFC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0A7D-850B-4737-8FCB-5E1C760F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DE60-A0D5-47A8-A668-1AD3AC4F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293B-B33E-4BD2-BAFA-B21DEAF6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2D40-1301-4C39-BE28-CB0252D7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6B0D-68DE-4B39-8D06-EFE2C2D5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D178-0E70-4E2B-9B01-5128C82E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00C-43B8-4961-B957-F4C90941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320F-3574-4BD5-A178-6FF2222E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95E-A743-44F8-A6B0-6DC7F77F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2CA-4269-4C65-A87E-AEC2CA1E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36DB-CC3A-449F-92EA-8BD416ED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34AD-2EA0-4B13-B140-7864C313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71D-360C-4C28-AF0F-23D27BC1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97D8-469D-445C-93B1-FCAFFDC82F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E55B-6317-4DC5-A1B3-24CD5FB802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4067280" y="692280"/>
            <a:ext cx="4457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ворческий  проек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1547640" y="2997360"/>
            <a:ext cx="5486400" cy="14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арту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214200" y="5429160"/>
            <a:ext cx="478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ыполнила: уч-ца 5а класс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авыдова Кс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читель: Симков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лена Владимиро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Техника безопас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5254560" cy="24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ыть внимательной к работе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девать наперсток на средний палец правой руки, чтобы не уколоть его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калывать иглы и булавки только в игольницу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ласть ножницы с права с сомкнутыми лезвиями, направленными от себя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ередавать ножницы только с сомкнутыми лезвиями и кольцами вперед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771640" y="3719160"/>
            <a:ext cx="56898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ыполнять влажно-тепловую обработку, стоя на резиновом коврике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ключать и выключать утюг сухими руками, взявшись за корпус вилки, а не за шнур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тавить утюг на специальную подставку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ледить за тем, что бы шнур ни касался подошвы утюга, и утюг не перегревался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спользовать для увлажнения ткани пульверизатор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Экономический расч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285920" y="2000160"/>
          <a:ext cx="6238800" cy="3429000"/>
        </p:xfrm>
        <a:graphic>
          <a:graphicData uri="http://schemas.openxmlformats.org/drawingml/2006/table">
            <a:tbl>
              <a:tblPr/>
              <a:tblGrid>
                <a:gridCol w="1077840"/>
                <a:gridCol w="1747800"/>
                <a:gridCol w="1138320"/>
                <a:gridCol w="1136520"/>
                <a:gridCol w="11383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используемых матери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,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материалов на издел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 на материалы, руб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пчато- бумажная ткань – сите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 руб/м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 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атуш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6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583092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Реклама издел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900000" y="1557360"/>
            <a:ext cx="5470560" cy="26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укодельн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1619280" y="443700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дукция компании «РУКОДЕЛЬНИЦА» --- это не только качество, но и аккуратно выполненные издел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0" name="Object 7"/>
          <p:cNvGraphicFramePr/>
          <p:nvPr/>
        </p:nvGraphicFramePr>
        <p:xfrm>
          <a:off x="5643720" y="2786040"/>
          <a:ext cx="2714400" cy="34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43720" y="2786040"/>
                    <a:ext cx="2714400" cy="34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9999"/>
                </a:solidFill>
                <a:latin typeface="Comic Sans MS"/>
              </a:rPr>
              <a:t>Используемая литератур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76360" y="2997000"/>
            <a:ext cx="6912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Технология» Учебник для учащихся 5 класса общеобразовательной школы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Мастерицам» Альбом самоделок Т. Грачева Издательство «Малыш» 1987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68706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9999"/>
                </a:solidFill>
                <a:latin typeface="Comic Sans MS"/>
              </a:rPr>
              <a:t>ПЛАН ПРОЕК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6920" y="2492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СЛЕДОВАТЬ ИСТОРИЮ ЖЕНСКОГО РУССКОГО КОСТЮМА, РОЛЬ ФАРТУКА В АНСАМБЛ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РАБОТАТЬ ПРОЕКТ ФАРТУ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УЩЕСТВИТЬ ПОДБОР МАТЕРИАЛОВ, ОПИРАЯСЬ НА ЗНАНИЯ ИХ СВОЙСТ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ГОТОВИТЬ ФАРТУ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ПОЛНИТЬ ОТДЕЛКУ (ВЫШИВКА, АППЛИКАЦИЯ И ДР.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85840"/>
            <a:ext cx="6870600" cy="14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Обоснование возникшей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2924280"/>
            <a:ext cx="7696080" cy="19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артук и передник – это одежда, защищающая  перед платья от загрязн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Diagram 6"/>
          <p:cNvGrpSpPr/>
          <p:nvPr/>
        </p:nvGrpSpPr>
        <p:grpSpPr>
          <a:xfrm>
            <a:off x="571680" y="142920"/>
            <a:ext cx="8215920" cy="6571440"/>
            <a:chOff x="571680" y="142920"/>
            <a:chExt cx="8215920" cy="6571440"/>
          </a:xfrm>
        </p:grpSpPr>
        <p:sp>
          <p:nvSpPr>
            <p:cNvPr id="159" name="_s8221"/>
            <p:cNvSpPr/>
            <p:nvPr/>
          </p:nvSpPr>
          <p:spPr>
            <a:xfrm flipH="1" flipV="1">
              <a:off x="3285000" y="1357200"/>
              <a:ext cx="1082880" cy="14608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_s8220"/>
            <p:cNvSpPr/>
            <p:nvPr/>
          </p:nvSpPr>
          <p:spPr>
            <a:xfrm>
              <a:off x="2286360" y="214560"/>
              <a:ext cx="1520280" cy="139356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Окончательная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отделка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_s8219"/>
            <p:cNvSpPr/>
            <p:nvPr/>
          </p:nvSpPr>
          <p:spPr>
            <a:xfrm flipH="1" flipV="1">
              <a:off x="2286000" y="2286000"/>
              <a:ext cx="1860120" cy="7894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_s8218"/>
            <p:cNvSpPr/>
            <p:nvPr/>
          </p:nvSpPr>
          <p:spPr>
            <a:xfrm>
              <a:off x="928800" y="1357200"/>
              <a:ext cx="1503000" cy="13557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Обработ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_s8217"/>
            <p:cNvSpPr/>
            <p:nvPr/>
          </p:nvSpPr>
          <p:spPr>
            <a:xfrm flipH="1">
              <a:off x="2142360" y="3411720"/>
              <a:ext cx="1957320" cy="2322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_s8216"/>
            <p:cNvSpPr/>
            <p:nvPr/>
          </p:nvSpPr>
          <p:spPr>
            <a:xfrm>
              <a:off x="571680" y="3071880"/>
              <a:ext cx="1638360" cy="138708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Подготовка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к примерк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_s8215"/>
            <p:cNvSpPr/>
            <p:nvPr/>
          </p:nvSpPr>
          <p:spPr>
            <a:xfrm flipH="1">
              <a:off x="2927880" y="3720240"/>
              <a:ext cx="1312920" cy="1138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_s8214"/>
            <p:cNvSpPr/>
            <p:nvPr/>
          </p:nvSpPr>
          <p:spPr>
            <a:xfrm>
              <a:off x="1785960" y="4529160"/>
              <a:ext cx="1427400" cy="132840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Раскрой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материала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_s8213"/>
            <p:cNvSpPr/>
            <p:nvPr/>
          </p:nvSpPr>
          <p:spPr>
            <a:xfrm flipH="1">
              <a:off x="4091040" y="3901680"/>
              <a:ext cx="435240" cy="14929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_s8212"/>
            <p:cNvSpPr/>
            <p:nvPr/>
          </p:nvSpPr>
          <p:spPr>
            <a:xfrm>
              <a:off x="3143520" y="5369400"/>
              <a:ext cx="1378800" cy="13449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Раскладка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выкройки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на ткани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_s8211"/>
            <p:cNvSpPr/>
            <p:nvPr/>
          </p:nvSpPr>
          <p:spPr>
            <a:xfrm>
              <a:off x="4928040" y="3929400"/>
              <a:ext cx="441000" cy="14907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_s8210"/>
            <p:cNvSpPr/>
            <p:nvPr/>
          </p:nvSpPr>
          <p:spPr>
            <a:xfrm>
              <a:off x="4868640" y="5369400"/>
              <a:ext cx="1488600" cy="13449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Разработка и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Изготовлени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выкройки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_s8209"/>
            <p:cNvSpPr/>
            <p:nvPr/>
          </p:nvSpPr>
          <p:spPr>
            <a:xfrm>
              <a:off x="5149800" y="3718080"/>
              <a:ext cx="1849680" cy="14968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_s8208"/>
            <p:cNvSpPr/>
            <p:nvPr/>
          </p:nvSpPr>
          <p:spPr>
            <a:xfrm>
              <a:off x="6857640" y="4714920"/>
              <a:ext cx="1499040" cy="13575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Выбор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модели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_s8207"/>
            <p:cNvSpPr/>
            <p:nvPr/>
          </p:nvSpPr>
          <p:spPr>
            <a:xfrm>
              <a:off x="5289120" y="3409920"/>
              <a:ext cx="2068920" cy="3060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_s8206"/>
            <p:cNvSpPr/>
            <p:nvPr/>
          </p:nvSpPr>
          <p:spPr>
            <a:xfrm>
              <a:off x="7358040" y="3071880"/>
              <a:ext cx="1429560" cy="12862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Варианты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изготовления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_s8205"/>
            <p:cNvSpPr/>
            <p:nvPr/>
          </p:nvSpPr>
          <p:spPr>
            <a:xfrm flipV="1">
              <a:off x="5240160" y="2358000"/>
              <a:ext cx="1830960" cy="7156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_s8204"/>
            <p:cNvSpPr/>
            <p:nvPr/>
          </p:nvSpPr>
          <p:spPr>
            <a:xfrm>
              <a:off x="6999480" y="1500480"/>
              <a:ext cx="1285560" cy="121428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Произвести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замер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_s8203"/>
            <p:cNvSpPr/>
            <p:nvPr/>
          </p:nvSpPr>
          <p:spPr>
            <a:xfrm flipV="1">
              <a:off x="5018400" y="1357200"/>
              <a:ext cx="982080" cy="14608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_s8202"/>
            <p:cNvSpPr/>
            <p:nvPr/>
          </p:nvSpPr>
          <p:spPr>
            <a:xfrm>
              <a:off x="5785200" y="214560"/>
              <a:ext cx="1292400" cy="13176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Выбрать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материал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_s8201"/>
            <p:cNvSpPr/>
            <p:nvPr/>
          </p:nvSpPr>
          <p:spPr>
            <a:xfrm flipV="1">
              <a:off x="4693320" y="1168920"/>
              <a:ext cx="0" cy="15544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_s8200"/>
            <p:cNvSpPr/>
            <p:nvPr/>
          </p:nvSpPr>
          <p:spPr>
            <a:xfrm>
              <a:off x="4070520" y="142920"/>
              <a:ext cx="1429560" cy="12819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Пояснить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необходимость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проекта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_s8199"/>
            <p:cNvSpPr/>
            <p:nvPr/>
          </p:nvSpPr>
          <p:spPr>
            <a:xfrm>
              <a:off x="3512880" y="2286360"/>
              <a:ext cx="2284560" cy="2143440"/>
            </a:xfrm>
            <a:prstGeom prst="ellipse">
              <a:avLst/>
            </a:prstGeom>
            <a:solidFill>
              <a:srgbClr val="ffef66"/>
            </a:soli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Схема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обдумывания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Comic Sans MS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7" descr="RussianCostume001_250"/>
          <p:cNvPicPr/>
          <p:nvPr/>
        </p:nvPicPr>
        <p:blipFill>
          <a:blip r:embed="rId1"/>
          <a:stretch/>
        </p:blipFill>
        <p:spPr>
          <a:xfrm>
            <a:off x="214200" y="1214280"/>
            <a:ext cx="1714680" cy="265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RussianCostume005_250"/>
          <p:cNvPicPr/>
          <p:nvPr/>
        </p:nvPicPr>
        <p:blipFill>
          <a:blip r:embed="rId2"/>
          <a:stretch/>
        </p:blipFill>
        <p:spPr>
          <a:xfrm>
            <a:off x="7715160" y="142920"/>
            <a:ext cx="1428840" cy="3171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RussianCostume007_250"/>
          <p:cNvPicPr/>
          <p:nvPr/>
        </p:nvPicPr>
        <p:blipFill>
          <a:blip r:embed="rId3"/>
          <a:stretch/>
        </p:blipFill>
        <p:spPr>
          <a:xfrm>
            <a:off x="6643800" y="3500280"/>
            <a:ext cx="1722240" cy="33577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1311120" y="4460760"/>
            <a:ext cx="24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2214720" y="1000440"/>
            <a:ext cx="54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Фартук в домашнем хозяйстве появился очень давно и всегда служил элегантной спецодеждой при работе на кухне и занятии ручным трудо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Женская одежда состояла из длинной рубашки с рукавами. Поверх неё надевали сарафан, обычно шерстяной, а в  южных областях носили клетчатую домотканую юбку-понёву, голову покрывали платко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1785960" y="392904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Народный костюм не только элемент материальной культуры, это синтез различных видов декоративного творчества, донесший до нашего времени характернейшие элементы края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Comic Sans MS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311120" y="4460760"/>
            <a:ext cx="24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10" descr="RussianCostume012_250"/>
          <p:cNvPicPr/>
          <p:nvPr/>
        </p:nvPicPr>
        <p:blipFill>
          <a:blip r:embed="rId1"/>
          <a:stretch/>
        </p:blipFill>
        <p:spPr>
          <a:xfrm>
            <a:off x="7027920" y="3259080"/>
            <a:ext cx="2116080" cy="3598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RussianCostume011_250"/>
          <p:cNvPicPr/>
          <p:nvPr/>
        </p:nvPicPr>
        <p:blipFill>
          <a:blip r:embed="rId2"/>
          <a:stretch/>
        </p:blipFill>
        <p:spPr>
          <a:xfrm>
            <a:off x="214200" y="928800"/>
            <a:ext cx="1676520" cy="280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RussianCostume016_250"/>
          <p:cNvPicPr/>
          <p:nvPr/>
        </p:nvPicPr>
        <p:blipFill>
          <a:blip r:embed="rId3"/>
          <a:stretch/>
        </p:blipFill>
        <p:spPr>
          <a:xfrm>
            <a:off x="5143680" y="1000080"/>
            <a:ext cx="1665000" cy="36003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4"/>
          <p:cNvSpPr/>
          <p:nvPr/>
        </p:nvSpPr>
        <p:spPr>
          <a:xfrm>
            <a:off x="428760" y="3857760"/>
            <a:ext cx="460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Фартук – широко распространенная и почти не изменяющаяся часть одежды с древнейших времен до наших дней. С течением времени фартук становится повсеместно распространенным видом одежды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dff"/>
                </a:solidFill>
                <a:latin typeface="Comic Sans MS"/>
              </a:rPr>
              <a:t>Разработка вариантов и выбор издел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7" descr="f2"/>
          <p:cNvPicPr/>
          <p:nvPr/>
        </p:nvPicPr>
        <p:blipFill>
          <a:blip r:embed="rId1"/>
          <a:stretch/>
        </p:blipFill>
        <p:spPr>
          <a:xfrm>
            <a:off x="6699240" y="3786120"/>
            <a:ext cx="2444760" cy="28018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9" name="Object 14"/>
          <p:cNvGraphicFramePr/>
          <p:nvPr/>
        </p:nvGraphicFramePr>
        <p:xfrm>
          <a:off x="1857240" y="3071880"/>
          <a:ext cx="2489400" cy="314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7240" y="3071880"/>
                    <a:ext cx="248940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Picture 16" descr="f4"/>
          <p:cNvPicPr/>
          <p:nvPr/>
        </p:nvPicPr>
        <p:blipFill>
          <a:blip r:embed="rId4"/>
          <a:stretch/>
        </p:blipFill>
        <p:spPr>
          <a:xfrm>
            <a:off x="4357800" y="1785960"/>
            <a:ext cx="2214360" cy="298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Object 12"/>
          <p:cNvGraphicFramePr/>
          <p:nvPr/>
        </p:nvGraphicFramePr>
        <p:xfrm>
          <a:off x="142920" y="1143000"/>
          <a:ext cx="2316240" cy="285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2920" y="1143000"/>
                    <a:ext cx="231624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611856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9999"/>
                </a:solidFill>
                <a:latin typeface="Comic Sans MS"/>
              </a:rPr>
              <a:t>Объяснение выбора данной модел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0040" y="2000160"/>
            <a:ext cx="757224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артук должен быть выполнен аккуратно, должен быть удобным и практичны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артук не должен, содержать сложных деталей, потому что изготовитель делает его впервы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ая соединительная линия 76"/>
          <p:cNvSpPr/>
          <p:nvPr/>
        </p:nvSpPr>
        <p:spPr>
          <a:xfrm flipV="1">
            <a:off x="6428520" y="1857240"/>
            <a:ext cx="1800" cy="163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Прямая соединительная линия 75"/>
          <p:cNvSpPr/>
          <p:nvPr/>
        </p:nvSpPr>
        <p:spPr>
          <a:xfrm flipV="1">
            <a:off x="5214960" y="1857240"/>
            <a:ext cx="1440" cy="163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Прямая соединительная линия 64"/>
          <p:cNvSpPr/>
          <p:nvPr/>
        </p:nvSpPr>
        <p:spPr>
          <a:xfrm flipV="1">
            <a:off x="2569320" y="1714320"/>
            <a:ext cx="1800" cy="163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Organization Chart 6"/>
          <p:cNvGrpSpPr/>
          <p:nvPr/>
        </p:nvGrpSpPr>
        <p:grpSpPr>
          <a:xfrm>
            <a:off x="714240" y="436320"/>
            <a:ext cx="7705440" cy="5072040"/>
            <a:chOff x="714240" y="436320"/>
            <a:chExt cx="7705440" cy="5072040"/>
          </a:xfrm>
        </p:grpSpPr>
        <p:cxnSp>
          <p:nvCxnSpPr>
            <p:cNvPr id="210" name="_s17427"/>
            <p:cNvCxnSpPr>
              <a:stCxn id="211" idx="0"/>
              <a:endCxn id="212" idx="1"/>
            </p:cNvCxnSpPr>
            <p:nvPr/>
          </p:nvCxnSpPr>
          <p:spPr>
            <a:xfrm flipV="1" rot="16200000">
              <a:off x="6400440" y="1889640"/>
              <a:ext cx="2126520" cy="784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3" name="_s17425"/>
            <p:cNvCxnSpPr/>
            <p:nvPr/>
          </p:nvCxnSpPr>
          <p:spPr>
            <a:xfrm flipV="1" rot="16200000">
              <a:off x="2468880" y="2103120"/>
              <a:ext cx="2134800" cy="930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2" name="_s17415"/>
            <p:cNvSpPr/>
            <p:nvPr/>
          </p:nvSpPr>
          <p:spPr>
            <a:xfrm rot="16200000">
              <a:off x="3713040" y="-1348920"/>
              <a:ext cx="1572840" cy="5143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ef66"/>
                </a:gs>
                <a:gs pos="50000">
                  <a:srgbClr val="ffffff"/>
                </a:gs>
                <a:gs pos="100000">
                  <a:srgbClr val="ffef66"/>
                </a:gs>
              </a:gsLst>
              <a:lin ang="18900000"/>
            </a:gradFill>
            <a:ln w="32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_s17416"/>
            <p:cNvSpPr/>
            <p:nvPr/>
          </p:nvSpPr>
          <p:spPr>
            <a:xfrm>
              <a:off x="714240" y="3345480"/>
              <a:ext cx="1127520" cy="214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89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mic Sans MS"/>
                </a:rPr>
                <a:t>Швейная машинка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_s17417"/>
            <p:cNvSpPr/>
            <p:nvPr/>
          </p:nvSpPr>
          <p:spPr>
            <a:xfrm>
              <a:off x="2029680" y="3345480"/>
              <a:ext cx="1127520" cy="214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89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mic Sans MS"/>
                </a:rPr>
                <a:t>Гладильная доска, утюг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_s17418"/>
            <p:cNvSpPr/>
            <p:nvPr/>
          </p:nvSpPr>
          <p:spPr>
            <a:xfrm>
              <a:off x="3344040" y="3345480"/>
              <a:ext cx="1128600" cy="214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89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omic Sans MS"/>
                </a:rPr>
                <a:t>Нитки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omic Sans MS"/>
                </a:rPr>
                <a:t>хлопчатобумажные № 45 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omic Sans MS"/>
                </a:rPr>
                <a:t>— </a:t>
              </a:r>
              <a:r>
                <a:rPr b="1" lang="ru-RU" sz="1100" spc="-1" strike="noStrike">
                  <a:solidFill>
                    <a:srgbClr val="000000"/>
                  </a:solidFill>
                  <a:latin typeface="Comic Sans MS"/>
                </a:rPr>
                <a:t>для машинных и ручных работ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_s17422"/>
            <p:cNvSpPr/>
            <p:nvPr/>
          </p:nvSpPr>
          <p:spPr>
            <a:xfrm>
              <a:off x="4660920" y="3345480"/>
              <a:ext cx="1128960" cy="214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89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mic Sans MS"/>
                </a:rPr>
                <a:t>Ручная игла, булавки,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Comic Sans MS"/>
                </a:rPr>
                <a:t>ножницы,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mic Sans MS"/>
                </a:rPr>
                <a:t>напёрсток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_s17424"/>
            <p:cNvSpPr/>
            <p:nvPr/>
          </p:nvSpPr>
          <p:spPr>
            <a:xfrm>
              <a:off x="6000120" y="3360600"/>
              <a:ext cx="1127520" cy="214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89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mic Sans MS"/>
                </a:rPr>
                <a:t>Сантиметровая лента,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mic Sans MS"/>
                </a:rPr>
                <a:t>линейка,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mic Sans MS"/>
                </a:rPr>
                <a:t>мелок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_s17426"/>
            <p:cNvSpPr/>
            <p:nvPr/>
          </p:nvSpPr>
          <p:spPr>
            <a:xfrm>
              <a:off x="7292160" y="3345480"/>
              <a:ext cx="1127520" cy="214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89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mic Sans MS"/>
                </a:rPr>
                <a:t>Учебник,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mic Sans MS"/>
                </a:rPr>
                <a:t>рабочая тетрадь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9" name="TextBox 51"/>
          <p:cNvSpPr/>
          <p:nvPr/>
        </p:nvSpPr>
        <p:spPr>
          <a:xfrm>
            <a:off x="2286000" y="8571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струменты, приспособления и материал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0" name="Shape 71"/>
          <p:cNvCxnSpPr>
            <a:stCxn id="214" idx="0"/>
            <a:endCxn id="212" idx="0"/>
          </p:cNvCxnSpPr>
          <p:nvPr/>
        </p:nvCxnSpPr>
        <p:spPr>
          <a:xfrm flipH="1" flipV="1" rot="5400000">
            <a:off x="539640" y="1956960"/>
            <a:ext cx="2127960" cy="65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3:01:24Z</dcterms:created>
  <dc:creator>user</dc:creator>
  <dc:description/>
  <dc:language>en-US</dc:language>
  <cp:lastModifiedBy>HP</cp:lastModifiedBy>
  <dcterms:modified xsi:type="dcterms:W3CDTF">2022-02-11T22:36:31Z</dcterms:modified>
  <cp:revision>18</cp:revision>
  <dc:subject/>
  <dc:title>Слайд 1</dc:title>
</cp:coreProperties>
</file>