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75B-8981-44E6-8525-DE253E0A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A74-429E-4A06-A90C-75881B1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A7C-3BD5-49A5-B0F8-FCFFF16A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8C6-D253-43C9-A6B1-737E95ED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C0B0-0AFF-472A-A6B2-16E884B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A1F-9A3C-43F7-92FD-5043490B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B46C-D36B-40F8-86FB-D2F1EEC5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4BC2-0C34-465E-B7CE-5AF52837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981-6927-4454-A65D-97B4794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2580-AA45-47D2-BBD3-E3B627F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2334-C29D-4D26-B27E-613E889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D3C-4286-4758-835C-B6891DE7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E6C3-F694-440A-8AB1-3C33763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7754-4552-4415-AA87-521E12B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5F23-3ECA-453C-8A94-3E1E99F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6E51-FB44-443B-8C8A-20FAB62C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692-FD44-4956-96CD-561BE0BF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545-3794-47AD-8ACE-8EDBCDC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56C-C472-4FB7-B857-64ADA400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2D3-DA8E-41F1-88D7-9B518B87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4E8-DFF3-45ED-AD1A-CF3F7E6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EE9-9EAF-4DF0-86AE-77A0372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42F-1D5D-4522-84C5-163193D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0F0-7C2B-4F8A-B9A3-DE5C013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EFDF-0D31-4BC2-91BA-9AACAF2DAC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D1F-03B4-48B1-ABD3-A602BE677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4067280" y="692280"/>
            <a:ext cx="4457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ий  прое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547640" y="2997360"/>
            <a:ext cx="548640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рту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214200" y="5429160"/>
            <a:ext cx="47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ила: уч-ца 5а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авыдова Кс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: Симков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ен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2545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ыть внимательной к работ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девать наперсток на средний палец правой руки, чтобы не уколоть его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калывать иглы и булавки только в игольниц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ласть ножницы с права с сомкнутыми лезвиями, направленными от себ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редавать ножницы только с сомкнутыми лезвиями и кольцами впере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771640" y="3719160"/>
            <a:ext cx="5689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полнять влажно-тепловую обработку, стоя на резиновом коврик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ключать и выключать утюг сухими руками, взявшись за корпус вилки, а не за шнур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авить утюг на специальную подставк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ить за тем, что бы шнур ни касался подошвы утюга, и утюг не перегревалс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спользовать для увлажнения ткани пульверизато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Экономический расч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85920" y="2000160"/>
          <a:ext cx="6238800" cy="3429000"/>
        </p:xfrm>
        <a:graphic>
          <a:graphicData uri="http://schemas.openxmlformats.org/drawingml/2006/table">
            <a:tbl>
              <a:tblPr/>
              <a:tblGrid>
                <a:gridCol w="1077840"/>
                <a:gridCol w="1747800"/>
                <a:gridCol w="1138320"/>
                <a:gridCol w="1136520"/>
                <a:gridCol w="11383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материалов на издел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материалы,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чато- бумажная ткань – сит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руб/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583092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Реклама изде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900000" y="1557360"/>
            <a:ext cx="547056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кодель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619280" y="4437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дукция компании «РУКОДЕЛЬНИЦА» --- это не только качество, но и аккуратно выполненные издел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5643720" y="2786040"/>
          <a:ext cx="271440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2786040"/>
                    <a:ext cx="27144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Comic Sans MS"/>
              </a:rPr>
              <a:t>Использ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6360" y="2997000"/>
            <a:ext cx="6912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Технология» Учебник для учащихся 5 класса общеобразовательной школ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астерицам» Альбом самоделок Т. Грачева Издательство «Малыш» 198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70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Comic Sans MS"/>
              </a:rPr>
              <a:t>ПЛАН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СЛЕДОВАТЬ ИСТОРИЮ ЖЕНСКОГО РУССКОГО КОСТЮМА, РОЛЬ ФАРТУКА В АНСАМБЛ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РАБОТАТЬ ПРОЕКТ ФАРТУ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ИТЬ ПОДБОР МАТЕРИАЛОВ, ОПИРАЯСЬ НА ЗНАНИЯ ИХ СВОЙСТ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ГОТОВИТЬ ФАРТ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ИТЬ ОТДЕЛКУ (ВЫШИВКА, АППЛИКАЦИЯ И ДР.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85840"/>
            <a:ext cx="68706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Обоснование возникшей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924280"/>
            <a:ext cx="7696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и передник – это одежда, защищающая  перед платья от загряз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Diagram 6"/>
          <p:cNvGrpSpPr/>
          <p:nvPr/>
        </p:nvGrpSpPr>
        <p:grpSpPr>
          <a:xfrm>
            <a:off x="571680" y="142920"/>
            <a:ext cx="8215920" cy="6571440"/>
            <a:chOff x="571680" y="142920"/>
            <a:chExt cx="8215920" cy="6571440"/>
          </a:xfrm>
        </p:grpSpPr>
        <p:sp>
          <p:nvSpPr>
            <p:cNvPr id="159" name="_s8221"/>
            <p:cNvSpPr/>
            <p:nvPr/>
          </p:nvSpPr>
          <p:spPr>
            <a:xfrm flipH="1" flipV="1">
              <a:off x="3285000" y="1357200"/>
              <a:ext cx="1082880" cy="1460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8220"/>
            <p:cNvSpPr/>
            <p:nvPr/>
          </p:nvSpPr>
          <p:spPr>
            <a:xfrm>
              <a:off x="2286360" y="214560"/>
              <a:ext cx="1520280" cy="13935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Окончательна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отделк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8219"/>
            <p:cNvSpPr/>
            <p:nvPr/>
          </p:nvSpPr>
          <p:spPr>
            <a:xfrm flipH="1" flipV="1">
              <a:off x="2286000" y="2286000"/>
              <a:ext cx="1860120" cy="789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8218"/>
            <p:cNvSpPr/>
            <p:nvPr/>
          </p:nvSpPr>
          <p:spPr>
            <a:xfrm>
              <a:off x="928800" y="1357200"/>
              <a:ext cx="1503000" cy="1355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бработ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8217"/>
            <p:cNvSpPr/>
            <p:nvPr/>
          </p:nvSpPr>
          <p:spPr>
            <a:xfrm flipH="1">
              <a:off x="2142360" y="3411720"/>
              <a:ext cx="1957320" cy="232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8216"/>
            <p:cNvSpPr/>
            <p:nvPr/>
          </p:nvSpPr>
          <p:spPr>
            <a:xfrm>
              <a:off x="571680" y="3071880"/>
              <a:ext cx="1638360" cy="13870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Подготовк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 примерк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8215"/>
            <p:cNvSpPr/>
            <p:nvPr/>
          </p:nvSpPr>
          <p:spPr>
            <a:xfrm flipH="1">
              <a:off x="2927880" y="3720240"/>
              <a:ext cx="1312920" cy="1138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8214"/>
            <p:cNvSpPr/>
            <p:nvPr/>
          </p:nvSpPr>
          <p:spPr>
            <a:xfrm>
              <a:off x="1785960" y="4529160"/>
              <a:ext cx="1427400" cy="13284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скрой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материал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8213"/>
            <p:cNvSpPr/>
            <p:nvPr/>
          </p:nvSpPr>
          <p:spPr>
            <a:xfrm flipH="1">
              <a:off x="4091040" y="3901680"/>
              <a:ext cx="435240" cy="14929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8212"/>
            <p:cNvSpPr/>
            <p:nvPr/>
          </p:nvSpPr>
          <p:spPr>
            <a:xfrm>
              <a:off x="3143520" y="5369400"/>
              <a:ext cx="1378800" cy="1344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складк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кройк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на ткан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8211"/>
            <p:cNvSpPr/>
            <p:nvPr/>
          </p:nvSpPr>
          <p:spPr>
            <a:xfrm>
              <a:off x="4928040" y="3929400"/>
              <a:ext cx="441000" cy="1490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8210"/>
            <p:cNvSpPr/>
            <p:nvPr/>
          </p:nvSpPr>
          <p:spPr>
            <a:xfrm>
              <a:off x="4868640" y="5369400"/>
              <a:ext cx="1488600" cy="1344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зработка 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Изготовлени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кройк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8209"/>
            <p:cNvSpPr/>
            <p:nvPr/>
          </p:nvSpPr>
          <p:spPr>
            <a:xfrm>
              <a:off x="5149800" y="3718080"/>
              <a:ext cx="1849680" cy="149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8208"/>
            <p:cNvSpPr/>
            <p:nvPr/>
          </p:nvSpPr>
          <p:spPr>
            <a:xfrm>
              <a:off x="6857640" y="4714920"/>
              <a:ext cx="1499040" cy="13575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ыбор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8207"/>
            <p:cNvSpPr/>
            <p:nvPr/>
          </p:nvSpPr>
          <p:spPr>
            <a:xfrm>
              <a:off x="5289120" y="3409920"/>
              <a:ext cx="2068920" cy="306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8206"/>
            <p:cNvSpPr/>
            <p:nvPr/>
          </p:nvSpPr>
          <p:spPr>
            <a:xfrm>
              <a:off x="7358040" y="3071880"/>
              <a:ext cx="1429560" cy="1286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ариант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изготовления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8205"/>
            <p:cNvSpPr/>
            <p:nvPr/>
          </p:nvSpPr>
          <p:spPr>
            <a:xfrm flipV="1">
              <a:off x="5240160" y="2358000"/>
              <a:ext cx="1830960" cy="715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8204"/>
            <p:cNvSpPr/>
            <p:nvPr/>
          </p:nvSpPr>
          <p:spPr>
            <a:xfrm>
              <a:off x="6999480" y="1500480"/>
              <a:ext cx="1285560" cy="12142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роизвест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замер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8203"/>
            <p:cNvSpPr/>
            <p:nvPr/>
          </p:nvSpPr>
          <p:spPr>
            <a:xfrm flipV="1">
              <a:off x="5018400" y="1357200"/>
              <a:ext cx="982080" cy="1460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8202"/>
            <p:cNvSpPr/>
            <p:nvPr/>
          </p:nvSpPr>
          <p:spPr>
            <a:xfrm>
              <a:off x="5785200" y="214560"/>
              <a:ext cx="1292400" cy="1317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бра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8201"/>
            <p:cNvSpPr/>
            <p:nvPr/>
          </p:nvSpPr>
          <p:spPr>
            <a:xfrm flipV="1">
              <a:off x="4693320" y="1168920"/>
              <a:ext cx="0" cy="1554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_s8200"/>
            <p:cNvSpPr/>
            <p:nvPr/>
          </p:nvSpPr>
          <p:spPr>
            <a:xfrm>
              <a:off x="4070520" y="142920"/>
              <a:ext cx="1429560" cy="128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яснить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необходимос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роект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8199"/>
            <p:cNvSpPr/>
            <p:nvPr/>
          </p:nvSpPr>
          <p:spPr>
            <a:xfrm>
              <a:off x="3512880" y="2286360"/>
              <a:ext cx="2284560" cy="214344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Схема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обдумы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7" descr="RussianCostume001_250"/>
          <p:cNvPicPr/>
          <p:nvPr/>
        </p:nvPicPr>
        <p:blipFill>
          <a:blip r:embed="rId1"/>
          <a:stretch/>
        </p:blipFill>
        <p:spPr>
          <a:xfrm>
            <a:off x="214200" y="1214280"/>
            <a:ext cx="1714680" cy="265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RussianCostume005_250"/>
          <p:cNvPicPr/>
          <p:nvPr/>
        </p:nvPicPr>
        <p:blipFill>
          <a:blip r:embed="rId2"/>
          <a:stretch/>
        </p:blipFill>
        <p:spPr>
          <a:xfrm>
            <a:off x="7715160" y="142920"/>
            <a:ext cx="1428840" cy="3171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RussianCostume007_250"/>
          <p:cNvPicPr/>
          <p:nvPr/>
        </p:nvPicPr>
        <p:blipFill>
          <a:blip r:embed="rId3"/>
          <a:stretch/>
        </p:blipFill>
        <p:spPr>
          <a:xfrm>
            <a:off x="6643800" y="3500280"/>
            <a:ext cx="1722240" cy="3357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1311120" y="446076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214720" y="100044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Фартук в домашнем хозяйстве появился очень давно и всегда служил элегантной спецодеждой при работе на кухне и занятии ручным труд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Женская одежда состояла из длинной рубашки с рукавами. Поверх неё надевали сарафан, обычно шерстяной, а в  южных областях носили клетчатую домотканую юбку-понёву, голову покрывали платк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785960" y="39290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Народный костюм не только элемент материальной культуры, это синтез различных видов декоративного творчества, донесший до нашего времени характернейшие элементы кра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311120" y="446076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0" descr="RussianCostume012_250"/>
          <p:cNvPicPr/>
          <p:nvPr/>
        </p:nvPicPr>
        <p:blipFill>
          <a:blip r:embed="rId1"/>
          <a:stretch/>
        </p:blipFill>
        <p:spPr>
          <a:xfrm>
            <a:off x="7027920" y="3259080"/>
            <a:ext cx="2116080" cy="3598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RussianCostume011_250"/>
          <p:cNvPicPr/>
          <p:nvPr/>
        </p:nvPicPr>
        <p:blipFill>
          <a:blip r:embed="rId2"/>
          <a:stretch/>
        </p:blipFill>
        <p:spPr>
          <a:xfrm>
            <a:off x="214200" y="928800"/>
            <a:ext cx="1676520" cy="280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RussianCostume016_250"/>
          <p:cNvPicPr/>
          <p:nvPr/>
        </p:nvPicPr>
        <p:blipFill>
          <a:blip r:embed="rId3"/>
          <a:stretch/>
        </p:blipFill>
        <p:spPr>
          <a:xfrm>
            <a:off x="5143680" y="1000080"/>
            <a:ext cx="1665000" cy="3600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428760" y="3857760"/>
            <a:ext cx="46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Фартук – широко распространенная и почти не изменяющаяся часть одежды с древнейших времен до наших дней. С течением времени фартук становится повсеместно распространенным видом одежд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Разработка вариантов и выбор издел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f2"/>
          <p:cNvPicPr/>
          <p:nvPr/>
        </p:nvPicPr>
        <p:blipFill>
          <a:blip r:embed="rId1"/>
          <a:stretch/>
        </p:blipFill>
        <p:spPr>
          <a:xfrm>
            <a:off x="6699240" y="3786120"/>
            <a:ext cx="2444760" cy="2801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9" name="Object 14"/>
          <p:cNvGraphicFramePr/>
          <p:nvPr/>
        </p:nvGraphicFramePr>
        <p:xfrm>
          <a:off x="1857240" y="3071880"/>
          <a:ext cx="2489400" cy="31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3071880"/>
                    <a:ext cx="248940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4"/>
          <p:cNvPicPr/>
          <p:nvPr/>
        </p:nvPicPr>
        <p:blipFill>
          <a:blip r:embed="rId4"/>
          <a:stretch/>
        </p:blipFill>
        <p:spPr>
          <a:xfrm>
            <a:off x="4357800" y="1785960"/>
            <a:ext cx="2214360" cy="29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12"/>
          <p:cNvGraphicFramePr/>
          <p:nvPr/>
        </p:nvGraphicFramePr>
        <p:xfrm>
          <a:off x="142920" y="1143000"/>
          <a:ext cx="2316240" cy="285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920" y="1143000"/>
                    <a:ext cx="2316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611856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Comic Sans MS"/>
              </a:rPr>
              <a:t>Объяснение выбора данной моде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757224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должен быть выполнен аккуратно, должен быть удобным и практичны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не должен, содержать сложных деталей, потому что изготовитель делает его вперв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76"/>
          <p:cNvSpPr/>
          <p:nvPr/>
        </p:nvSpPr>
        <p:spPr>
          <a:xfrm flipV="1">
            <a:off x="6428520" y="1857240"/>
            <a:ext cx="1800" cy="163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ая соединительная линия 75"/>
          <p:cNvSpPr/>
          <p:nvPr/>
        </p:nvSpPr>
        <p:spPr>
          <a:xfrm flipV="1">
            <a:off x="5214960" y="1857240"/>
            <a:ext cx="1440" cy="163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64"/>
          <p:cNvSpPr/>
          <p:nvPr/>
        </p:nvSpPr>
        <p:spPr>
          <a:xfrm flipV="1">
            <a:off x="2569320" y="1714320"/>
            <a:ext cx="180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Organization Chart 6"/>
          <p:cNvGrpSpPr/>
          <p:nvPr/>
        </p:nvGrpSpPr>
        <p:grpSpPr>
          <a:xfrm>
            <a:off x="714240" y="436320"/>
            <a:ext cx="7705440" cy="5072040"/>
            <a:chOff x="714240" y="436320"/>
            <a:chExt cx="7705440" cy="5072040"/>
          </a:xfrm>
        </p:grpSpPr>
        <p:cxnSp>
          <p:nvCxnSpPr>
            <p:cNvPr id="210" name="_s17427"/>
            <p:cNvCxnSpPr>
              <a:stCxn id="211" idx="0"/>
              <a:endCxn id="212" idx="1"/>
            </p:cNvCxnSpPr>
            <p:nvPr/>
          </p:nvCxnSpPr>
          <p:spPr>
            <a:xfrm flipV="1" rot="16200000">
              <a:off x="6400440" y="1889640"/>
              <a:ext cx="2126520" cy="78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_s17425"/>
            <p:cNvCxnSpPr/>
            <p:nvPr/>
          </p:nvCxnSpPr>
          <p:spPr>
            <a:xfrm flipV="1" rot="16200000">
              <a:off x="2468880" y="2103120"/>
              <a:ext cx="2134800" cy="93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2" name="_s17415"/>
            <p:cNvSpPr/>
            <p:nvPr/>
          </p:nvSpPr>
          <p:spPr>
            <a:xfrm rot="16200000">
              <a:off x="3713040" y="-1348920"/>
              <a:ext cx="1572840" cy="5143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ef66"/>
                </a:gs>
                <a:gs pos="50000">
                  <a:srgbClr val="ffffff"/>
                </a:gs>
                <a:gs pos="100000">
                  <a:srgbClr val="ffef66"/>
                </a:gs>
              </a:gsLst>
              <a:lin ang="18900000"/>
            </a:gradFill>
            <a:ln w="3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_s17416"/>
            <p:cNvSpPr/>
            <p:nvPr/>
          </p:nvSpPr>
          <p:spPr>
            <a:xfrm>
              <a:off x="71424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Швейная машинк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_s17417"/>
            <p:cNvSpPr/>
            <p:nvPr/>
          </p:nvSpPr>
          <p:spPr>
            <a:xfrm>
              <a:off x="202968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Гладильная доска, утюг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_s17418"/>
            <p:cNvSpPr/>
            <p:nvPr/>
          </p:nvSpPr>
          <p:spPr>
            <a:xfrm>
              <a:off x="3344040" y="3345480"/>
              <a:ext cx="112860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Нитки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хлопчатобумажные № 45 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— </a:t>
              </a: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для машинных и ручных работ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_s17422"/>
            <p:cNvSpPr/>
            <p:nvPr/>
          </p:nvSpPr>
          <p:spPr>
            <a:xfrm>
              <a:off x="4660920" y="3345480"/>
              <a:ext cx="112896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Ручная игла, булавки,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ножницы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напёрсто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_s17424"/>
            <p:cNvSpPr/>
            <p:nvPr/>
          </p:nvSpPr>
          <p:spPr>
            <a:xfrm>
              <a:off x="6000120" y="336060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Сантиметровая лента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линейка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мело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_s17426"/>
            <p:cNvSpPr/>
            <p:nvPr/>
          </p:nvSpPr>
          <p:spPr>
            <a:xfrm>
              <a:off x="729216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Учебник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рабочая тетрадь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TextBox 51"/>
          <p:cNvSpPr/>
          <p:nvPr/>
        </p:nvSpPr>
        <p:spPr>
          <a:xfrm>
            <a:off x="2286000" y="857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менты, приспособления и материа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Shape 71"/>
          <p:cNvCxnSpPr>
            <a:stCxn id="214" idx="0"/>
            <a:endCxn id="212" idx="0"/>
          </p:cNvCxnSpPr>
          <p:nvPr/>
        </p:nvCxnSpPr>
        <p:spPr>
          <a:xfrm flipH="1" flipV="1" rot="5400000">
            <a:off x="539640" y="1956960"/>
            <a:ext cx="2127960" cy="65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3:01:24Z</dcterms:created>
  <dc:creator>user</dc:creator>
  <dc:description/>
  <dc:language>en-US</dc:language>
  <cp:lastModifiedBy>HP</cp:lastModifiedBy>
  <dcterms:modified xsi:type="dcterms:W3CDTF">2022-02-11T22:36:31Z</dcterms:modified>
  <cp:revision>18</cp:revision>
  <dc:subject/>
  <dc:title>Слайд 1</dc:title>
</cp:coreProperties>
</file>