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4F85-D114-4320-8769-81B7D3E90C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4E1F-8E41-4176-978C-6E32CDB300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705D-F3AA-41B9-A955-F1630FE9E8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FAA-EE92-4ED1-9B16-2FD23D04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901-C386-41A6-9059-CE976896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F4BBE-BAA4-4399-8DEF-2D1748A4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E4F9E-CC98-46D3-86CE-D6268362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28DFD-74C8-49BF-AC8D-6FE7C6DF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DB744-F6C5-42EE-A1B8-3B612351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67EE5-FC95-4A22-8BEC-57BCDA0E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29D4F-AD58-4BFE-B65C-B91D609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103EC-1E81-445C-B1BD-7FC3C0C2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20E5F-C2A5-47F5-9C1D-24B61ECC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2AF3F-43EE-422A-AF22-8D78B0F8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18BB2-38E9-4EA5-95FC-1C3F1955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990-91D7-4510-B3FC-5F1F7299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9509D-DBBA-4AA0-9E20-39C3C23A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0B746-D867-4E09-B0A1-D87A73F2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99D6B-C420-404F-AFE3-992F196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FD90A-E931-4151-BCF9-EA88C504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1029E-EFAB-49D9-A9E3-5CA68592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EA321-67FF-4FEB-AF66-195E4B27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48236-BF77-4C3D-AE7C-7AAF1B3F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CE0BC-A60C-4CCF-9FA5-C2FAFF6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3392C-6CA2-40AE-8A58-EC2C31A0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B4C76-BA03-43AC-A87C-DFE3C1ED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411-514F-4C76-AA29-535E0AE8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8D934-FB80-4B96-826F-ED63314A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FAEE2-108E-4F11-AB02-28225159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BFB00-3E8F-4353-91F3-DEAF0F7B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36E75-7473-4AA0-A0F1-C8D1F630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91DDC-2EE1-4445-B600-774A8CA4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D1C9E-4FE6-44E8-A3C7-9A343D13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E63FE-5F1C-41B7-89E8-7F5FC3A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DE986-EF2B-47D5-9700-FC77376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837C0-F3CA-42A8-933F-14AB7F0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13C8F-4540-4B9C-B54E-8ED7F4D0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4BA7-958B-4ED7-94EF-2A9E1375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616F8-B125-4087-A776-CD5433DA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DBF29-F1FB-4B41-810C-4319A5BB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D023A-1543-4157-8F99-856F7C71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E704A-0787-48FB-890D-8DA9A7AA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1B547-4146-4198-BD8E-051CB47F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192BA-C50E-4F6B-8DD8-7CB2758F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05CC1-4335-475C-B21C-151041C9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CB1CB-157D-4B44-93C7-5A093FC1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D4CAB-FF45-46AE-ABB6-7AAE7E9D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480D1-6805-47F3-84D4-4118B39F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E24C-2411-408D-BEF7-D61EBA70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7DD74-8EB7-4EAB-9735-1326B0B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1B71F-3904-4FFF-A654-D3677734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ED940-563C-4BA9-8A52-868A1DDC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8C4FC-28D3-40DA-A440-975CFC36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5D67F-3F77-464F-A746-E23568B8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8687A-1D37-4543-BE90-D5EE422E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DF3E0-800A-4308-95AE-86D4CE7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A4D5D-0AD3-4C2B-A3CA-18CC6B12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7D702-6A34-4088-8AE0-2F3E2743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68E10-BAD1-4C86-B634-A37A2076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51D0-7138-41C7-8B82-E552248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71A8B-A398-48A2-ADAC-438E4C69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70ED6-EFF6-4CCE-AC01-63E34DC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9931F-E1A1-4238-872D-74AB5BB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67158-AC77-479B-9D34-D942337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E43EA-39E8-4EE3-8803-AE8320F2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D7161-1119-4D01-8336-AD54A1FF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19D65-8758-4F2A-90CC-3165DEA7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7B3A9-2785-4BDC-AAAF-C0CE22D3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93FD2-3A5C-443D-8B91-682FDBF3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8367B-302C-4F32-8D63-17803958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37DC-E6AF-4DA2-8F94-3E31B0CE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4D1EB-8FBC-4805-B8FA-A663C8D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FCDEC-350B-4D2F-B03D-2112B7AD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4BCAF-3A41-47BE-97B9-81689511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84573-B0E3-405F-8560-53DA23E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A9D45-56F7-49FD-890E-E1532AB8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3ED6F-76F1-4C49-9655-B1154FA8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E96F3-6CDE-46D8-9EEB-D56A7D88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66800-3A0B-4575-834A-82F945E2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7E95F-F770-4BA1-A2CD-77EE0494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6042F-F18C-45B0-BCCB-C98F09BC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7726-52CF-457A-BC45-4F728E04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DC24A-B73E-4E21-A8A3-DD4E226F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51AAF-7415-4F6B-8136-44C71ED5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0C2A6-7433-4BFD-9007-5F14C231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ACE48-1D0F-418D-9873-A3CFA0EA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B47F6-FDDD-49B8-AE33-3509153D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E1CB9-42F0-45D1-B7EC-C1D24CB7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7D000-F6F4-4002-8C57-D6CAFED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CE47B-E9CB-450C-AFF5-7C1F859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3EBE0-273D-464A-AF42-8E53F44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47AC7-ECD8-49D9-8E74-EF7CB265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09AB-2EFB-4FEC-98F8-05BDB21D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E31A5-9482-4C3D-AE7E-2E7F64FF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18407-1C9A-40AD-874F-5200BCD4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48052-8408-49C3-B40C-AAC1930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3C82F-A6E6-47ED-9403-8A3F258F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B850B-F67A-4810-B8BA-ADE7DD53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B1EED-A77C-47FF-90BA-9741C0AE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49B3D-D3C2-4844-8276-CDBE3589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F71A3-547F-4E56-A984-3EEB05FB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A1FC5-BD1B-49B3-A2AE-7EC98152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38519-3BD2-4E21-8A92-D12635CA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E133-6237-4B52-AD63-F7B7119B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A792B-69A5-4544-AA71-799675D4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2C60B-4F43-412E-BDDD-67C3818E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A693B-B937-4F5C-A51F-B11A8AD1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2A8B5-C03C-44DA-98D6-88E2CBF4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82A28-1C62-438F-8AC7-C0A60B3C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E3744-826E-4D56-B6DD-54642BFF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3CC46-6485-4607-AE20-19980FA4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5DBE9-B2CF-4F90-A075-ACDDC46D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6D508-00B0-4E51-8150-EBCD449D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131DF6-F154-42C8-BCCF-C0167305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593-0706-454D-B2DA-DDE225CA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EB32-FFCA-497B-97D3-829B3DB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A47C4-8014-44A0-8754-141411C5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13922-AA71-462F-BB9A-29EA86D7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52521-45E3-487B-9E7D-F7C5AE59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D23F3-BEEC-40D4-BCE3-D9F6A899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86AC0-95A0-4769-93B9-2A821FD4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1946-38CF-4EC0-91BE-EAD953CA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91E-E63E-45F8-877A-D0EE39EF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92DE-0469-4BF9-AA34-0DD406C5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71E3-4A97-4A80-BC33-418CE694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68E3-5761-43B1-B968-787C3C5A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455C-7D20-4F82-860F-9155A99A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F1C7-6A7E-4885-8252-4C9BE20E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4E62-0B3C-4D90-A3D7-55111862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B9BB-C8B9-4732-B43A-CC4D5C84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3D2-C502-4A5D-994B-DEFC6C4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03D5-32C9-4DD4-9A9B-2DB5C3B7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A712-5236-45FE-A423-2A302A25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FC80-8D08-4824-BDC6-EFC1E9E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155B-FA06-42CB-9EEA-61746A0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D561-A596-4E59-A477-50E47DD9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B1A7-621C-47B3-BCA2-2F415E89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4E28-5619-4BA2-B1F3-2A72197A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FF07B-E53D-4146-9A5E-F65C7D04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4E6D0-4C30-4035-804E-9E52CD60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B10CC-B980-4A03-9A22-EFA7070B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05B-549C-4D4B-8569-4A5BE216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7A9D-CCE3-40CD-A170-B6D6E22F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76AD-BB1A-468B-91A3-FC711700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BF57-E8A1-44FA-84AB-068C4DC9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78BD-6B50-4198-8A02-E7367829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1AB4-2F44-41A3-B9DB-E19E958C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A54D-CB78-49DA-A0FC-2D0C99B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CA3D-AA00-48B8-B4E6-D8730289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5073-086E-45F7-A6CE-686E822E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FAF49-E1A5-4B20-A47C-50E2AD37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FC73-8E69-4D8F-AB48-281AC42C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FB2-AF50-46BF-8439-7063EC5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437C3-FB58-4067-B162-6172DA1C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5656D-5743-46B3-B157-18F025FC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E7C48-5C8A-4737-A4DE-8796E000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947CD-BC15-4ECB-A907-8CC2D6C1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024F-63ED-4293-B7AB-27642D7A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2DE2-054B-4E77-8B4E-B603212C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D74FE-9CC2-4840-AD27-B7C1EA1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10C58-71D4-4A7F-B166-95174AD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F03C-2288-49B5-AFA4-7BBFD9E6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B7631-411F-4C71-87B8-850DEF0E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0D8-4443-413B-AE4E-0F81CB04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3E63F-0234-4693-976A-D7AA2446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5F4D-0663-4055-B4AE-120A5B3A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55CC0-E53B-4D54-9976-9DA26E35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1CE37-C20A-4A55-AFAE-AFB2BD61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576F9-2035-4D0B-8ABB-0D561663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8A1A3-943D-47BC-8144-45372271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C627F-A91C-4927-A53E-8A36ABBB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030AB-FBB4-4BF3-9067-90629CAC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35CB8-18F2-40E9-9EEE-0280DD4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8983-4FED-44BF-9CE6-BA5DDB74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31D-2EC0-459C-BC84-95DF2890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3E999-14ED-4B8B-A02C-6BD08AA0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A5E8E-88F5-4DA2-959D-7EF0A58D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DFCE-E9CF-4FED-97DC-BFC5770F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FEF78-03F0-4CA4-8823-C306ABE9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7C62C-F055-4FF4-B6C9-9C9372F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A3987-79AC-4A68-AAAC-006DF047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5F18-062C-4DC9-B0F6-DB07EE90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C0FD8-5283-4E6D-BC3B-F2F1B1E2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3293-1FA6-4C14-9A66-44485F0A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53F82-B953-4DC0-BB66-462A2D32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989-8BB0-4E92-B3D7-371D87B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50E4A-2530-44F4-A8B7-9AC18A5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E2CD8-B808-4A6D-A0DE-62E2035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F789B-2F0A-44C8-919D-27A258B1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BD50C-D26A-4201-94F5-38240F12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03039-9EFA-405B-97A3-3D26B957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661EE-CA1D-4A0B-BE16-2F93CC15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3E285-0218-4EAD-96F3-0452DC9C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B7AB7-EB54-4646-9BFA-30CF2CB9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2076-BE26-4C9D-9314-37DC2D6C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4AB56-2B12-4146-834A-B0E862EA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AF0-8424-4389-AD5A-535A6B14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3414-5AB1-4B19-B8E8-7AA50BA3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26B0B-B222-4D97-9566-C3BED31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21A92-5DE5-4A55-A45D-E6ECACB9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3CE1C-A9A4-4E42-86B2-CC25789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EFD93-D6EA-462C-9B5B-1F8F27A5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86CB6-7E55-49CD-8854-B66AE92F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51F62-EA7B-475F-AE69-DD0CB38A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D8ACF-DA25-4DBE-9C35-FD7152F5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5A417-F25E-4CE3-8204-F113FAE7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BC42A-E691-4B1A-B02B-F9BE6CB9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BDA9-209D-404F-8CE3-8E1C7F43A0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0EDC-6C0E-409A-A82F-ED8EF8C07B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9019-BFF3-4C0C-8A4F-4CCE2A7B9F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E49C-5F44-42BD-924E-279BCD7CDB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33CC-1985-4F2E-89BB-BBE2F7D884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0181-BAD9-4847-A452-F8BF5B06F79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328C-D1A0-42E1-88A6-F29B67E46F4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34A1-5042-40A5-B61E-E930A3FACD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D7F0-A529-48FB-88F6-AFC2F27BB51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6FB2-5857-4622-BFD2-6696D8147A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E552-3A50-4905-B508-1103CB6D92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8247-88E8-4E26-90D4-52598D5DC0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89C5-C57F-401F-94FD-F66099A770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0DDE-173E-4E04-AB1E-773BBE9CBD9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FEE1-7138-4EA8-88C6-1263B21DEE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1C7-E502-4209-905B-926539108E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973F-10DE-4896-8CCA-1279EDA7E9F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088720" y="1174680"/>
            <a:ext cx="9651960" cy="32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de7e18"/>
                </a:solidFill>
                <a:latin typeface="Monotype Corsiva"/>
              </a:rPr>
              <a:t>БОУ «Розовская СОШ»</a:t>
            </a:r>
            <a:br>
              <a:rPr sz="5900"/>
            </a:br>
            <a:br>
              <a:rPr sz="5900"/>
            </a:b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Урок немецкого языка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в 7 классе</a:t>
            </a:r>
            <a:br>
              <a:rPr sz="6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 применением подхода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Lesson Study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2642760" y="513252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e7e18"/>
                </a:solidFill>
                <a:latin typeface="Monotype Corsiva"/>
              </a:rPr>
              <a:t>Бологое 2021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355840" y="446040"/>
            <a:ext cx="891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a53010"/>
                </a:solidFill>
                <a:latin typeface="Monotype Corsiva"/>
              </a:rPr>
              <a:t>Правила работы в группе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2355840" y="1436400"/>
            <a:ext cx="93852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Будь добросовестным по отношению к товарищам, работай в полную меру своих сил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Слушайте каждого члена группы внимательно, не перебива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Говорите коротко, ясно, чтобы все могли высказаться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Поддерживайте друг друга, несмотря на интеллектуальные разногласи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твергая предложенную идею, делайте это вежливо и не забывайте предлагать альтернативу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рганизатором (лидером) выбирайте того, кто сможет распределить нагрузку, уладить разногласия, выбрать лучшее решение вместе со всем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Выступать от имени группы почетно. Это делает не камикадзе, а подготовленный всей группой ее полномочный представитель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a53010"/>
                </a:solidFill>
                <a:latin typeface="Monotype Corsiva"/>
              </a:rPr>
              <a:t>Wir lesen und schreiben richtig!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2" name="Объект 3" descr=""/>
          <p:cNvPicPr/>
          <p:nvPr/>
        </p:nvPicPr>
        <p:blipFill>
          <a:blip r:embed="rId1"/>
          <a:stretch/>
        </p:blipFill>
        <p:spPr>
          <a:xfrm>
            <a:off x="2589120" y="2008080"/>
            <a:ext cx="89154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592360" y="378000"/>
            <a:ext cx="8912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a53010"/>
                </a:solidFill>
                <a:latin typeface="Monotype Corsiva"/>
              </a:rPr>
              <a:t>Wir lesen und schreiben richtig!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2265120" y="1504800"/>
            <a:ext cx="956772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Es gi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b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t viele Sportarten: Lei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tathletik, Schwer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letik, R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d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sport, W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ss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ersport, Sch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i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laufen, Schli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tt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schuhlaufen und andere. Jeder Sportfr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eu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nd hat seine Lie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b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lingssportart. Ich zum B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ei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spiel bin Fu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ß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ballfan. Ich sehe mir alle Fußballwettk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ä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mpfe im Fernsehen an. Ich besuche das Stadion, wenn meine Lieblingsm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nn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schaft spielt. Wenn sie den ersten Pl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tz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 belegt, freue ich mich. Wenn sie verliert oder das Spiel unentschieden ist, bin ich trauri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g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a53010"/>
                </a:solidFill>
                <a:latin typeface="Monotype Corsiva"/>
              </a:rPr>
              <a:t>Взаимопроверка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0 – 6 правильных ответов – «2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7 – 9 правильных ответов – «3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0 – 12 правильных ответов – «4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3 – 15 правильных ответов – «5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2211120" y="162540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9600" spc="-1" strike="noStrike">
                <a:solidFill>
                  <a:srgbClr val="a53010"/>
                </a:solidFill>
                <a:latin typeface="Monotype Corsiva"/>
              </a:rPr>
              <a:t>Vielen Dank </a:t>
            </a:r>
            <a:endParaRPr b="0" lang="en-US" sz="9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9600" spc="-1" strike="noStrike">
                <a:solidFill>
                  <a:srgbClr val="a53010"/>
                </a:solidFill>
                <a:latin typeface="Monotype Corsiva"/>
              </a:rPr>
              <a:t>für die Arbeit!</a:t>
            </a:r>
            <a:endParaRPr b="0" lang="en-US" sz="9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647720" y="272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800" spc="-1" strike="noStrike">
                <a:solidFill>
                  <a:srgbClr val="de7e18"/>
                </a:solidFill>
                <a:latin typeface="Monotype Corsiva"/>
              </a:rPr>
              <a:t>Das Thema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863360" y="15537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de-DE" sz="9600" spc="-1" strike="noStrike">
                <a:solidFill>
                  <a:srgbClr val="000000"/>
                </a:solidFill>
                <a:latin typeface="Monotype Corsiva"/>
              </a:rPr>
              <a:t>SPORT</a:t>
            </a: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9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Рисунок 3" descr=""/>
          <p:cNvPicPr/>
          <p:nvPr/>
        </p:nvPicPr>
        <p:blipFill>
          <a:blip r:embed="rId1"/>
          <a:stretch/>
        </p:blipFill>
        <p:spPr>
          <a:xfrm>
            <a:off x="4290840" y="3316320"/>
            <a:ext cx="40611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408400" y="619200"/>
            <a:ext cx="891216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800" spc="-1" strike="noStrike">
                <a:solidFill>
                  <a:srgbClr val="de7e18"/>
                </a:solidFill>
                <a:latin typeface="Monotype Corsiva"/>
              </a:rPr>
              <a:t>Das Motto</a:t>
            </a:r>
            <a:r>
              <a:rPr b="1" lang="ru-RU" sz="4800" spc="-1" strike="noStrike">
                <a:solidFill>
                  <a:srgbClr val="de7e18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784600" y="1898280"/>
            <a:ext cx="8161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8000" spc="-1" strike="noStrike">
                <a:solidFill>
                  <a:srgbClr val="000000"/>
                </a:solidFill>
                <a:latin typeface="Monotype Corsiva"/>
              </a:rPr>
              <a:t>In einem gesunden Körper wohnt ein gesunder Geist!</a:t>
            </a:r>
            <a:endParaRPr b="0" lang="en-US" sz="8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355840" y="446040"/>
            <a:ext cx="891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a53010"/>
                </a:solidFill>
                <a:latin typeface="Monotype Corsiva"/>
              </a:rPr>
              <a:t>Правила работы в группе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2355840" y="1436400"/>
            <a:ext cx="93852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Будь добросовестным по отношению к товарищам, работай в полную меру своих сил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Слушайте каждого члена группы внимательно, не перебива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Говорите коротко, ясно, чтобы все могли высказаться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Поддерживайте друг друга, несмотря на интеллектуальные разногласи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твергая предложенную идею, делайте это вежливо и не забывайте предлагать альтернативу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рганизатором (лидером) выбирайте того, кто сможет распределить нагрузку, уладить разногласия, выбрать лучшее решение вместе со всем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Выступать от имени группы почетно. Это делает не камикадзе, а подготовленный всей группой ее полномочный представитель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 rot="18757200">
            <a:off x="975960" y="2390760"/>
            <a:ext cx="54723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7200" spc="-1" strike="noStrike">
                <a:solidFill>
                  <a:srgbClr val="a53010"/>
                </a:solidFill>
                <a:latin typeface="Monotype Corsiva"/>
              </a:rPr>
              <a:t>Die Körperteile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3" name="Объект 3" descr=""/>
          <p:cNvPicPr/>
          <p:nvPr/>
        </p:nvPicPr>
        <p:blipFill>
          <a:blip r:embed="rId1"/>
          <a:stretch/>
        </p:blipFill>
        <p:spPr>
          <a:xfrm>
            <a:off x="6334200" y="351000"/>
            <a:ext cx="501480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96960" y="631800"/>
            <a:ext cx="1015056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5400" spc="-1" strike="noStrike">
                <a:solidFill>
                  <a:srgbClr val="a53010"/>
                </a:solidFill>
                <a:latin typeface="Monotype Corsiva"/>
              </a:rPr>
              <a:t>Welche Schmerzen kann der Mensch haben?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325240" y="2381040"/>
            <a:ext cx="8915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Monotype Corsiva"/>
              </a:rPr>
              <a:t>Zah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Овал 3"/>
          <p:cNvSpPr/>
          <p:nvPr/>
        </p:nvSpPr>
        <p:spPr>
          <a:xfrm>
            <a:off x="4527720" y="3154320"/>
            <a:ext cx="4511520" cy="2232000"/>
          </a:xfrm>
          <a:prstGeom prst="ellipse">
            <a:avLst/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т</a:t>
            </a: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SCHMERZE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197" name="Прямая со стрелкой 7"/>
          <p:cNvCxnSpPr/>
          <p:nvPr/>
        </p:nvCxnSpPr>
        <p:spPr>
          <a:xfrm flipH="1">
            <a:off x="3269520" y="4215960"/>
            <a:ext cx="125820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198" name="Прямая со стрелкой 9"/>
          <p:cNvCxnSpPr/>
          <p:nvPr/>
        </p:nvCxnSpPr>
        <p:spPr>
          <a:xfrm flipV="1">
            <a:off x="9038880" y="4215600"/>
            <a:ext cx="134532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199" name="Прямая со стрелкой 11"/>
          <p:cNvCxnSpPr/>
          <p:nvPr/>
        </p:nvCxnSpPr>
        <p:spPr>
          <a:xfrm flipV="1">
            <a:off x="6819480" y="2380680"/>
            <a:ext cx="10440" cy="7736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0" name="Прямая со стрелкой 13"/>
          <p:cNvCxnSpPr/>
          <p:nvPr/>
        </p:nvCxnSpPr>
        <p:spPr>
          <a:xfrm>
            <a:off x="6819480" y="5386320"/>
            <a:ext cx="10440" cy="658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1" name="Прямая со стрелкой 24"/>
          <p:cNvCxnSpPr/>
          <p:nvPr/>
        </p:nvCxnSpPr>
        <p:spPr>
          <a:xfrm flipH="1" flipV="1">
            <a:off x="4527000" y="2768040"/>
            <a:ext cx="773640" cy="6577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2" name="Прямая со стрелкой 26"/>
          <p:cNvCxnSpPr/>
          <p:nvPr/>
        </p:nvCxnSpPr>
        <p:spPr>
          <a:xfrm flipV="1">
            <a:off x="8264160" y="2928240"/>
            <a:ext cx="1065960" cy="4532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3" name="Прямая со стрелкой 28"/>
          <p:cNvCxnSpPr/>
          <p:nvPr/>
        </p:nvCxnSpPr>
        <p:spPr>
          <a:xfrm flipH="1">
            <a:off x="4137840" y="5008320"/>
            <a:ext cx="994680" cy="6260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4" name="Прямая со стрелкой 30"/>
          <p:cNvCxnSpPr/>
          <p:nvPr/>
        </p:nvCxnSpPr>
        <p:spPr>
          <a:xfrm>
            <a:off x="8264520" y="5124240"/>
            <a:ext cx="1164240" cy="5547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255760" y="595080"/>
            <a:ext cx="891216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800" spc="-1" strike="noStrike">
                <a:solidFill>
                  <a:srgbClr val="a53010"/>
                </a:solidFill>
                <a:latin typeface="Monotype Corsiva"/>
              </a:rPr>
              <a:t>- Wie geht es dir, Tobias?</a:t>
            </a:r>
            <a:br>
              <a:rPr sz="4800"/>
            </a:br>
            <a:r>
              <a:rPr b="1" lang="de-DE" sz="4800" spc="-1" strike="noStrike">
                <a:solidFill>
                  <a:srgbClr val="a53010"/>
                </a:solidFill>
                <a:latin typeface="Monotype Corsiva"/>
              </a:rPr>
              <a:t>- Schlecht! Mir tut der Kopf weh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6" name="Объект 3" descr=""/>
          <p:cNvPicPr/>
          <p:nvPr/>
        </p:nvPicPr>
        <p:blipFill>
          <a:blip r:embed="rId1"/>
          <a:stretch/>
        </p:blipFill>
        <p:spPr>
          <a:xfrm>
            <a:off x="4140360" y="2649600"/>
            <a:ext cx="51433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090520" y="431280"/>
            <a:ext cx="891036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800" spc="-1" strike="noStrike">
                <a:solidFill>
                  <a:srgbClr val="a53010"/>
                </a:solidFill>
                <a:latin typeface="Monotype Corsiva"/>
              </a:rPr>
              <a:t>Was passt zusammen?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Объект 2" descr=""/>
          <p:cNvPicPr/>
          <p:nvPr/>
        </p:nvPicPr>
        <p:blipFill>
          <a:blip r:embed="rId1"/>
          <a:stretch/>
        </p:blipFill>
        <p:spPr>
          <a:xfrm>
            <a:off x="2444760" y="1395360"/>
            <a:ext cx="9570960" cy="5237280"/>
          </a:xfrm>
          <a:prstGeom prst="rect">
            <a:avLst/>
          </a:prstGeom>
          <a:ln w="0">
            <a:noFill/>
          </a:ln>
        </p:spPr>
      </p:pic>
      <p:sp>
        <p:nvSpPr>
          <p:cNvPr id="1209" name="Прямая соединительная линия 4"/>
          <p:cNvSpPr/>
          <p:nvPr/>
        </p:nvSpPr>
        <p:spPr>
          <a:xfrm>
            <a:off x="6067440" y="1654200"/>
            <a:ext cx="1436760" cy="13064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0" name="Прямая соединительная линия 6"/>
          <p:cNvSpPr/>
          <p:nvPr/>
        </p:nvSpPr>
        <p:spPr>
          <a:xfrm>
            <a:off x="6357960" y="2308320"/>
            <a:ext cx="920880" cy="216216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1" name="Прямая соединительная линия 8"/>
          <p:cNvSpPr/>
          <p:nvPr/>
        </p:nvSpPr>
        <p:spPr>
          <a:xfrm>
            <a:off x="5545080" y="2700360"/>
            <a:ext cx="1733760" cy="227808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2" name="Прямая соединительная линия 12"/>
          <p:cNvSpPr/>
          <p:nvPr/>
        </p:nvSpPr>
        <p:spPr>
          <a:xfrm>
            <a:off x="6545160" y="3279600"/>
            <a:ext cx="733680" cy="26132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Прямая соединительная линия 14"/>
          <p:cNvSpPr/>
          <p:nvPr/>
        </p:nvSpPr>
        <p:spPr>
          <a:xfrm flipV="1">
            <a:off x="6067440" y="1653840"/>
            <a:ext cx="1211400" cy="1989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Прямая соединительная линия 16"/>
          <p:cNvSpPr/>
          <p:nvPr/>
        </p:nvSpPr>
        <p:spPr>
          <a:xfrm flipV="1">
            <a:off x="6357960" y="3990960"/>
            <a:ext cx="920880" cy="14616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Прямая соединительная линия 18"/>
          <p:cNvSpPr/>
          <p:nvPr/>
        </p:nvSpPr>
        <p:spPr>
          <a:xfrm flipV="1">
            <a:off x="5545080" y="2307960"/>
            <a:ext cx="1959120" cy="267012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Прямая соединительная линия 20"/>
          <p:cNvSpPr/>
          <p:nvPr/>
        </p:nvSpPr>
        <p:spPr>
          <a:xfrm flipV="1">
            <a:off x="6357960" y="3642840"/>
            <a:ext cx="920880" cy="17478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257480" y="50760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600" spc="-1" strike="noStrike">
                <a:solidFill>
                  <a:srgbClr val="a53010"/>
                </a:solidFill>
                <a:latin typeface="Monotype Corsiva"/>
              </a:rPr>
              <a:t>Sport machen</a:t>
            </a:r>
            <a:endParaRPr b="0" lang="en-US" sz="6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531960" y="1836360"/>
            <a:ext cx="70196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o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ann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ie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elche Sportart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as braucht man dazu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ozu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1T15:10:03Z</dcterms:created>
  <dc:creator>Зарина Садвокасова</dc:creator>
  <dc:description/>
  <dc:language>en-US</dc:language>
  <cp:lastModifiedBy>Учетная запись Майкрософт</cp:lastModifiedBy>
  <dcterms:modified xsi:type="dcterms:W3CDTF">2022-02-13T15:52:03Z</dcterms:modified>
  <cp:revision>20</cp:revision>
  <dc:subject/>
  <dc:title>БОУ «Розовская СОШ»  Урок немецкого языка  в 7 классе</dc:title>
</cp:coreProperties>
</file>