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png" ContentType="image/png"/>
  <Override PartName="/ppt/media/image3.wmf" ContentType="image/x-wmf"/>
  <Override PartName="/ppt/media/image6.png" ContentType="image/pn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 type="dt" idx="52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move the slide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 type="ftr" idx="53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PlaceHolder 6"/>
          <p:cNvSpPr>
            <a:spLocks noGrp="1"/>
          </p:cNvSpPr>
          <p:nvPr>
            <p:ph type="sldNum" idx="54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4F3EB-7BE0-4A2F-B84A-F3D6B1197DF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22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0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62A96-7A72-49FD-8D4B-AE70DA55505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23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3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9437A-2620-4F67-B71F-404BB24D203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9AE9-CBEA-4C79-93F9-5F74BA4F1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58DD-2587-48E1-9AC0-2D210DFAB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597E53-D9F1-4E8D-8E8E-55E66C504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E9FD10-EC97-4B85-AA18-23BB51E99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340621-851D-4E50-8545-EAD202A58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854AB0-32C4-4545-AA3F-FB968C5C2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51B8C5-F31B-4C52-BCE1-725DEC0B5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CAF62B-F1EF-4CA9-BC46-65A19BE07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518390-1566-40CB-A450-E6210D096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18CEC7-BC4D-405A-8EFA-35C3866AC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3619FA-FF70-429A-9FB3-D8C30CF46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34EC99-8CAF-49CC-807F-65CB5F160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ECED-A3B9-4B0A-844F-2B0248CAE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D63DF4-7329-4F66-9221-1ECB67ED3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067152-7FEF-4059-AC06-CE8E7FFEC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BF5DAC-145C-4F77-AFED-7BCF449D7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C24980-1358-44B0-973A-47F139A17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ACBAD3-8F8D-4E4C-A9BF-17ADB2E5B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D1CA30-46F2-4AF4-8CB7-29B3D2D51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8B7DF9-E5A3-4EA8-99AC-99608A3D1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F87903-BB14-4CE8-A043-3A61947F4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C7F2D5-CFD0-4134-8580-A6F60EE3F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0DA084-3DA7-4BFF-B78E-6B0591952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6C3A-DEA7-4B25-BC82-8D8EA0342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8A8EBA-E195-430C-BDDF-9F7B1276B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102599-C72B-4BE7-8FF9-AFC3D359C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88E8A7-BF76-45BB-A188-340EE3B3B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755987-A1A6-41E8-82E8-BA7C67226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1369F8-7D75-469F-A26B-B632D66FC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ED6948-B86F-4373-BFD0-820D09670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152197-70B5-4720-B6C5-246A1712D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5C92EB-CF09-47EA-9426-87F9D1DD7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926B36-5344-4E11-AE98-D892D4210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377660-269D-4F5A-9873-246FA55CE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19496-F64F-4BBE-A804-24A28D405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5D70F3-3985-4EB9-8C07-4685E7F82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535CB4-AADD-49EE-B07D-EF36CA840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9B4AC6-C88B-4088-B8AB-45ABC033C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CB299C-BEF2-4538-A632-922EE0308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A54AD1-1649-48E9-90FF-C329568F1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17482A-4AE3-4C75-9819-5227A0A4E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5E37A6-2789-4865-AE16-C2F90727C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0DB28C-2522-41DE-B48A-6A6F5FA6E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BF6C1F-F156-4091-A521-716E0CD0B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9B9332-A9E5-43C3-B51F-FEB058FFA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437D2-6DD4-4A38-BE70-51B71209B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32E936-56EB-44EC-9810-2ECBEA4BC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F582F1-CC2B-471F-B67B-2F54033C3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27F393-01FD-4582-8F6A-938EF0404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661D93-01CD-41B1-9747-0D8F018BB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DB6A0A-738F-4F31-9F1B-8672FCD37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55AC0F-CBED-4885-AFF4-2FD1FD98A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0AE6B6-094D-4125-955E-C3F1BF058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9C75F7-EC65-4727-82E7-352281E45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C7453B-3E16-4779-8095-FB9C6B4C8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68AA2E-953F-4EFF-8690-C99C4AD30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5138E-D9BA-4EC3-8457-66999263A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77AB3A-6C20-4852-A05E-50D990DEC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DE3527-0358-4A9F-8FAB-261E66E1D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C397EC-65FA-450A-B7B5-C736259AD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EE2106-12B5-4B6F-9B0F-7119E6AE3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061E1B-6663-4353-B976-395C024E5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F07DE8-66E1-4A43-AC6A-D3E59E299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50E0EE-531E-4D0C-9664-3904685B5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987720-8AAA-44F3-86DC-20E71DDAF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11E1D7F-215F-4747-A37A-D79EB0216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293671-B3F5-42BB-A2A4-B2C2806CD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AAD27-77E2-4E0E-ADFA-86CB07C8B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4D7644-2BFA-493F-8493-107D4AC7C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08EB064-AFA7-483C-8570-876DED48C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01BD3A-F192-48D1-814B-B6ABC81D9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4AAC22-4F96-4E94-9006-56350225B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14D7C4-3B48-4D89-899C-2CFE6D349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94857F-16EA-4DA9-8417-114FDB17A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CC42F9-203C-4C64-AEB7-4F3828E1F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EF7565-0D5C-478F-9CAE-8ABBE145C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034AE8-C8D0-408E-A9A2-7F7B62D7B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321BD43-7B28-43C7-8F61-D5AFBE036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0D6BE-2E11-4B10-BA12-3E7EC66EB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6D21F09-999B-47F8-9C44-E347AF543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83A077B-EB1B-44E0-B107-C71BCD232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2C8EC89-F82A-4A76-88CE-64511B0B3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66DE0B4-916A-4969-8A53-AFD865263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D8E5FE4-6578-4B8F-B05B-98DEA2330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8BD0E80-D9A7-4E25-ACDB-4F41DB11F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494B282-CA66-47FD-9350-41ADE7763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7BAD2EB-0FB7-4F26-A1DE-C1B2931D4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4D20064-A30D-43FB-930E-F1CBF7791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BEB7F1A-EF23-4D1F-BFE2-DB8007C27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AEF61-8C98-4ACD-90B6-9EFE9A570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8DBB743-6CA9-4589-B4BC-174C20D24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E15D27B-9B42-477C-9CBE-CCE14DAC9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B2E6632-63A3-41A1-A77C-9C392DF76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917FFB0-EF99-4D08-8FF7-13C86FA63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C2FFC01-6A15-4906-9CFB-2A7EDEF38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2CA52AC-DB93-40E9-BBDE-8910E15F6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F1E6E44-1564-4D7F-A102-FDC2002D8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6C4CAE6-CB79-4040-8595-C58197420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8B9F4DD-959D-4E50-9598-F42BC85AD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20ACE96-DF3A-49EF-AFAA-FAEDC0654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8D58D-3B21-4B34-AFA8-D8ABAE2AE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BC29F3E-9914-4EF4-B531-423FB327F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6AEC483-0610-436B-8614-62163DA42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6D59C77-AFD6-42C1-83D4-5C5379867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C9E0FC0-6C5C-4161-91C3-9EE5275A2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B9E08CD-498E-401C-A461-1317324FF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A222E6C-C5E7-4898-A22C-2910EFBAF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3A9A846-B537-4D65-ADEE-706412C75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C94E930-DAE1-483E-A8E1-D1BCC6063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6538742-B1DA-4922-BD18-5AE569B24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23E5BD3-B85C-4B9A-BF99-930DBDA23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9A72-3912-49C8-AF6C-8C2030816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B1D27-45AD-448A-B1E9-EEE3EDC03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593B55B-02B8-490D-B273-DD6883DED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DBC564E-0067-4F73-A850-3A8710EFD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3290239-376D-43FA-8791-867C38F11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F8FF61A-1335-4101-8AFB-216A5C31B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3F92F1E-F69B-4320-9C26-55E04A8DE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FED80-FA57-466B-BA85-A9F6FD8CB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0FCB1-9B5C-43F9-A468-A13188A88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8BB34-0F3C-42D7-B641-581A265E1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D991F-D033-4E90-AC17-2B7D5FB06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065203-DA5F-479E-905C-3016D7023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E4655F-1FEA-4290-9305-FB16C9C91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0B446E-2054-4504-B0E3-A50D93848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325658-E36C-4F3C-9566-F6D6AF68C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8618C4-8E54-4D11-8C4A-7DCCA57A5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E9C1-A39F-42CB-A099-FF2F1035C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E8E6CA-3116-4802-9297-8447D09B9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BDA239-2881-4CF7-BA7A-F54FA292F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840386-A963-410F-B612-C0001D9E3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A3349A-BCA0-4F88-A518-72E53B190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B7B357-B34F-4FE8-8CF5-DCEC96022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C53E3D-9D00-4B48-9D11-B9CFA698B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9074CF-A9F0-452F-96E8-DD1D9AB55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4BE6FC-F9FF-494D-A467-B92725052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ACAC13-7681-4576-9F67-BF7716C28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288B13-B8A6-4961-A3EA-58B461BB2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6AAC-F74A-43FA-825B-8E9258EFB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340BED-F204-4EE3-8C20-9174AC81C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49BCD3-485C-46B1-9AB7-B9C824F50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BA2F24-B1F6-4433-93D7-AB380492D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2417B0-72CA-40D7-93BF-761BD29D5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FB6646-5EDF-43EC-9FB3-E24804909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A36FD3-9C0B-4E37-B1CC-72A1CF921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3AF91F-BC4B-488F-9AE6-4B910D7D4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28CC38-E7DC-4DCB-8F28-2BEDD9022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9466AE-5B14-4798-B32C-4BB84C846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BDFD7D-2D08-4F59-A2CC-1FA3ADAFB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944B-9E72-4B7E-BB12-BAC175B02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68B37F-1C05-4853-AA70-D79866E5F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1DF470-8DC6-4D92-9C1C-C2C7CCAD7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B5B3C6-D131-402A-9E92-6909C68E9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AB1728-237A-4181-A842-D4919B9EA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E9F56F-68EF-4BD8-B22E-BC2FBD73C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2FCB9F-B423-4590-AFB3-3FB82E487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CAF71C-B057-41F7-841A-54BE81320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1DF128-60DA-472F-8D82-B2878B4C7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F90EDA-B4B7-4D26-B186-D481A41FE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6BF17E-3A15-4805-8062-A802F4ACA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406E-3B4F-40B1-A56E-F04C29B87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745F18-0FF3-4197-BD02-0B43F69EB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39E497-3AA5-464E-8D1D-43817D8FC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27AFB2-E621-45CD-8196-0C7847FAD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365E19-3551-4769-9A77-361BA75AC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3A227B-E222-40EA-A8AE-8231EB1DD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0B1E2A-9E6F-4CFB-B787-87737B3B0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1C2D38-7E19-4311-9B9D-E4F295DD5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56BA5A-F0E6-481D-83A2-FDC7EEC77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A7FED8-F48E-4F7A-BAFD-7CA139D76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732DAB-47F0-4542-8640-E5298E45C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F138-EEC8-4CC5-9AF4-3CCE76661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6D7E02-B446-48B0-8541-CED50D4E9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2A5534-2AA3-4336-9E11-4A02839FE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6FA33A-7677-4DEA-AA81-F1615E689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3C2A99-3E84-4D36-A4A9-65029985E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53104B-BCD2-4314-8005-45579AAD7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6E8C8A-04F8-4C36-9B9F-6450FE74A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B40C85-3EC1-4096-AE24-2F7385667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74F052-7022-4DF0-AAAA-0B0E67C5A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E488B8-F476-4121-A4BB-C282C02AB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573597-2791-4A6C-8520-ED79DB5DB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1390-9FE3-4B28-876E-26C0DD5C4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DC3DA4-8A5B-40BE-9719-6B50CD34A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B274F6-05D3-42FF-9D35-79992F9B3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CB728A-2754-44FC-85BC-39FAF763B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FF4646-D2A9-4EA6-A6E9-DBA93A6E2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64BF84-8A43-4579-814F-E820615D9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1D63F5-F0D8-47D1-887D-B0B82E8FE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DA4552-5B51-4AE4-855C-0FA7ED98D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3BDC28-A194-4587-81A2-606093F00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E93EAF-E84E-4C64-A959-522468090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4BFF1A-80F7-48BF-B392-091618C47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A9F0-F57D-4C88-8BD1-A2151D167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9C577D-D68E-44A0-BB5C-FF0AC92EE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E48BE7-7F7B-40B3-84BE-B40B8521C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7566D3-6CE4-44B7-B757-BDD331905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4CB8C8-85DD-47A9-B158-7D12F380D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B8F5A9-5A6A-4A7A-9B70-38F751D65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683A65-8FEE-44B4-9486-FB6F8C562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83C41A-AABA-48A0-B793-FF795AC90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560FF1-0941-425F-9A63-090D1D2DD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2D48A4-C92A-45ED-B5D5-8CA4601F7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AC5735-7B49-40D9-BA94-4E66DD03A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3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4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6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0A19C-C177-419B-8574-E147AB81947C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621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2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3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4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5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6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7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8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9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0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1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2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633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634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5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6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7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8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9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0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1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2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3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4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5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646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7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28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29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30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A1AF9-0C85-4325-90EE-BA52D6FD38CB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690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1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2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3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4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5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6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7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8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9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0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1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702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703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4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5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6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7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8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9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0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1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2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3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4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715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6" name="Freeform 11"/>
          <p:cNvSpPr/>
          <p:nvPr/>
        </p:nvSpPr>
        <p:spPr>
          <a:xfrm flipV="1">
            <a:off x="-4320" y="31773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dt" idx="31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ftr" idx="32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sldNum" idx="33"/>
          </p:nvPr>
        </p:nvSpPr>
        <p:spPr>
          <a:xfrm>
            <a:off x="531360" y="3244320"/>
            <a:ext cx="779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BC813-EC0A-4C01-B6D6-294553E1A3AA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759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0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1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2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3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4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5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6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7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8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9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0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771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772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3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4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5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6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7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8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9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0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1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2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3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78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5" name="Freeform 11"/>
          <p:cNvSpPr/>
          <p:nvPr/>
        </p:nvSpPr>
        <p:spPr>
          <a:xfrm flipV="1">
            <a:off x="-4320" y="31773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6" name="TextBox 36"/>
          <p:cNvSpPr/>
          <p:nvPr/>
        </p:nvSpPr>
        <p:spPr>
          <a:xfrm>
            <a:off x="2467080" y="647640"/>
            <a:ext cx="6094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7" name="TextBox 37"/>
          <p:cNvSpPr/>
          <p:nvPr/>
        </p:nvSpPr>
        <p:spPr>
          <a:xfrm>
            <a:off x="11113920" y="2905200"/>
            <a:ext cx="60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dt" idx="34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 type="ftr" idx="35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 type="sldNum" idx="36"/>
          </p:nvPr>
        </p:nvSpPr>
        <p:spPr>
          <a:xfrm>
            <a:off x="531360" y="3244320"/>
            <a:ext cx="779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351DA-276F-4B8D-9D1A-82049109F5E7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830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1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2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3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4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5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6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7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8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9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0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1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842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843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4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5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6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7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8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9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0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1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2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3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4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855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6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dt" idx="37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ftr" idx="38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sldNum" idx="39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35F72-D0CD-4470-9CAC-A49E6699B837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899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0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1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2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3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4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5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6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7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8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9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0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911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912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3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4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5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6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7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8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9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0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1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2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3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2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5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6" name="TextBox 36"/>
          <p:cNvSpPr/>
          <p:nvPr/>
        </p:nvSpPr>
        <p:spPr>
          <a:xfrm>
            <a:off x="2467080" y="647640"/>
            <a:ext cx="6094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7" name="TextBox 37"/>
          <p:cNvSpPr/>
          <p:nvPr/>
        </p:nvSpPr>
        <p:spPr>
          <a:xfrm>
            <a:off x="11113920" y="2905200"/>
            <a:ext cx="60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 type="dt" idx="40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 type="ftr" idx="41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 type="sldNum" idx="42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C0E3C-AB8F-4CEF-87B1-2377CD143C5C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970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1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2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3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4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5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6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7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8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9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0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1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982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983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4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5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6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7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8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9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0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1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2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3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4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95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6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dt" idx="43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 type="ftr" idx="44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 type="sldNum" idx="45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D88C8-7BA3-47A2-B20C-11EE789FE62E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039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0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1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2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3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4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5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6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7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8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9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0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051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052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3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4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5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6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7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8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9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0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1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2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3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06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5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46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47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48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30B05-07BB-4D4F-8497-964B0E3B4647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7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108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9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0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1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2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3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4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5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6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7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8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9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120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121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2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3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4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5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6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7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8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9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0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1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2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133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4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 type="dt" idx="49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 type="ftr" idx="50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 type="sldNum" idx="51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B6207-4AFD-4915-8B86-5D3A770113DD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69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81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82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7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8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9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3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Freeform 6"/>
          <p:cNvSpPr/>
          <p:nvPr/>
        </p:nvSpPr>
        <p:spPr>
          <a:xfrm>
            <a:off x="0" y="4324320"/>
            <a:ext cx="1744560" cy="777960"/>
          </a:xfrm>
          <a:custGeom>
            <a:avLst/>
            <a:gdLst/>
            <a:ahLst/>
            <a:rect l="l" t="t" r="r" b="b"/>
            <a:pathLst>
              <a:path w="372" h="166">
                <a:moveTo>
                  <a:pt x="287" y="166"/>
                </a:moveTo>
                <a:cubicBezTo>
                  <a:pt x="290" y="166"/>
                  <a:pt x="292" y="165"/>
                  <a:pt x="293" y="164"/>
                </a:cubicBezTo>
                <a:cubicBezTo>
                  <a:pt x="293" y="163"/>
                  <a:pt x="294" y="163"/>
                  <a:pt x="294" y="163"/>
                </a:cubicBezTo>
                <a:cubicBezTo>
                  <a:pt x="370" y="87"/>
                  <a:pt x="370" y="87"/>
                  <a:pt x="370" y="87"/>
                </a:cubicBezTo>
                <a:cubicBezTo>
                  <a:pt x="372" y="85"/>
                  <a:pt x="372" y="81"/>
                  <a:pt x="370" y="78"/>
                </a:cubicBezTo>
                <a:cubicBezTo>
                  <a:pt x="294" y="3"/>
                  <a:pt x="294" y="3"/>
                  <a:pt x="294" y="3"/>
                </a:cubicBezTo>
                <a:cubicBezTo>
                  <a:pt x="294" y="2"/>
                  <a:pt x="293" y="2"/>
                  <a:pt x="293" y="2"/>
                </a:cubicBezTo>
                <a:cubicBezTo>
                  <a:pt x="292" y="1"/>
                  <a:pt x="290" y="0"/>
                  <a:pt x="28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66"/>
                  <a:pt x="0" y="166"/>
                  <a:pt x="0" y="166"/>
                </a:cubicBezTo>
                <a:lnTo>
                  <a:pt x="287" y="166"/>
                </a:ln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531360" y="452916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9BC77-EE0C-4A7F-A0BF-A91C06205F9D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38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1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2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4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5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6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7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8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9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50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51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2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3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4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5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6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7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8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9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0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1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2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63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8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9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A5442-CD32-4FE7-8846-49814F8BE54F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207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8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9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0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1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2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3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4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5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6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7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8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219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220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1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2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3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4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5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6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7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8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9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0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1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32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3" name="Freeform 11"/>
          <p:cNvSpPr/>
          <p:nvPr/>
        </p:nvSpPr>
        <p:spPr>
          <a:xfrm flipV="1">
            <a:off x="-4320" y="31773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0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1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2"/>
          </p:nvPr>
        </p:nvSpPr>
        <p:spPr>
          <a:xfrm>
            <a:off x="531360" y="3244320"/>
            <a:ext cx="779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71914-7453-47A6-9935-DE63090F64A5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276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288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289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0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1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2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3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4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5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6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7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8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9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0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01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2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3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4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5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93FF1-851C-420D-8E7C-74F5B982971D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345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6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7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8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9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0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1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2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4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5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357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358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9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0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1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2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3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4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5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6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7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8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9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70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1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6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17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18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3E6CA-F374-4995-A631-1C4C01655DEC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414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5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6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7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8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9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0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1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2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3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4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5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426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427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8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9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0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1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2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3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4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5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6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7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8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439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0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19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0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1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D547B-7FEA-4DEF-A863-CE9B5C5891FE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483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5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6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7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8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9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0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1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2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3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4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495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496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7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8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9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0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1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2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3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4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5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6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7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08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9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22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23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24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BB2A5-7B00-4E24-A284-C62BB8BE8C20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552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3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4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5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6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7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8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9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0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1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2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3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564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565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6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7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8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9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0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1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2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3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4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5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6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77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8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25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26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27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69EC9-3355-4485-A822-0B563270044D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2088720" y="1174680"/>
            <a:ext cx="9651960" cy="329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300" spc="-1" strike="noStrike">
                <a:solidFill>
                  <a:srgbClr val="de7e18"/>
                </a:solidFill>
                <a:latin typeface="Monotype Corsiva"/>
              </a:rPr>
              <a:t>БОУ «Розовская СОШ»</a:t>
            </a:r>
            <a:br>
              <a:rPr sz="5900"/>
            </a:br>
            <a:br>
              <a:rPr sz="5900"/>
            </a:br>
            <a:r>
              <a:rPr b="1" lang="ru-RU" sz="6000" spc="-1" strike="noStrike">
                <a:solidFill>
                  <a:srgbClr val="000000"/>
                </a:solidFill>
                <a:latin typeface="Monotype Corsiva"/>
              </a:rPr>
              <a:t>Урок немецкого языка </a:t>
            </a:r>
            <a:br>
              <a:rPr sz="6000"/>
            </a:br>
            <a:r>
              <a:rPr b="1" lang="ru-RU" sz="6000" spc="-1" strike="noStrike">
                <a:solidFill>
                  <a:srgbClr val="000000"/>
                </a:solidFill>
                <a:latin typeface="Monotype Corsiva"/>
              </a:rPr>
              <a:t>в 7 классе</a:t>
            </a:r>
            <a:br>
              <a:rPr sz="6000"/>
            </a:b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с применением подхода </a:t>
            </a: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Lesson Study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 type="subTitle"/>
          </p:nvPr>
        </p:nvSpPr>
        <p:spPr>
          <a:xfrm>
            <a:off x="2642760" y="5132520"/>
            <a:ext cx="8915400" cy="112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de7e18"/>
                </a:solidFill>
                <a:latin typeface="Monotype Corsiva"/>
              </a:rPr>
              <a:t>Бологое 2021</a:t>
            </a:r>
            <a:endParaRPr b="0" lang="en-US" sz="36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2355840" y="446040"/>
            <a:ext cx="891216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800" spc="-1" strike="noStrike">
                <a:solidFill>
                  <a:srgbClr val="a53010"/>
                </a:solidFill>
                <a:latin typeface="Monotype Corsiva"/>
              </a:rPr>
              <a:t>Правила работы в группе:</a:t>
            </a: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0" name=""/>
          <p:cNvSpPr txBox="1"/>
          <p:nvPr/>
        </p:nvSpPr>
        <p:spPr>
          <a:xfrm>
            <a:off x="2355840" y="1436400"/>
            <a:ext cx="9385200" cy="50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entury Gothic"/>
              </a:rPr>
              <a:t>Будь добросовестным по отношению к товарищам, работай в полную меру своих сил.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entury Gothic"/>
              </a:rPr>
              <a:t>Слушайте каждого члена группы внимательно, не перебивая.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entury Gothic"/>
              </a:rPr>
              <a:t>Говорите коротко, ясно, чтобы все могли высказаться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entury Gothic"/>
              </a:rPr>
              <a:t>Поддерживайте друг друга, несмотря на интеллектуальные разногласия.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entury Gothic"/>
              </a:rPr>
              <a:t>Отвергая предложенную идею, делайте это вежливо и не забывайте предлагать альтернативу.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entury Gothic"/>
              </a:rPr>
              <a:t>Организатором (лидером) выбирайте того, кто сможет распределить нагрузку, уладить разногласия, выбрать лучшее решение вместе со всеми.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entury Gothic"/>
              </a:rPr>
              <a:t>Выступать от имени группы почетно. Это делает не камикадзе, а подготовленный всей группой ее полномочный представитель.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6000" spc="-1" strike="noStrike">
                <a:solidFill>
                  <a:srgbClr val="a53010"/>
                </a:solidFill>
                <a:latin typeface="Monotype Corsiva"/>
              </a:rPr>
              <a:t>Wir lesen und schreiben richtig!</a:t>
            </a:r>
            <a:endParaRPr b="0" lang="en-US" sz="60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222" name="Объект 3" descr=""/>
          <p:cNvPicPr/>
          <p:nvPr/>
        </p:nvPicPr>
        <p:blipFill>
          <a:blip r:embed="rId1"/>
          <a:stretch/>
        </p:blipFill>
        <p:spPr>
          <a:xfrm>
            <a:off x="2589120" y="2008080"/>
            <a:ext cx="8915400" cy="32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2592360" y="378000"/>
            <a:ext cx="8912160" cy="12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6000" spc="-1" strike="noStrike">
                <a:solidFill>
                  <a:srgbClr val="a53010"/>
                </a:solidFill>
                <a:latin typeface="Monotype Corsiva"/>
              </a:rPr>
              <a:t>Wir lesen und schreiben richtig!</a:t>
            </a:r>
            <a:endParaRPr b="0" lang="en-US" sz="6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4" name=""/>
          <p:cNvSpPr txBox="1"/>
          <p:nvPr/>
        </p:nvSpPr>
        <p:spPr>
          <a:xfrm>
            <a:off x="2265120" y="1504800"/>
            <a:ext cx="9567720" cy="37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algn="just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600" spc="-1" strike="noStrike">
                <a:solidFill>
                  <a:srgbClr val="000000"/>
                </a:solidFill>
                <a:latin typeface="Century Gothic"/>
              </a:rPr>
              <a:t>Es gi</a:t>
            </a:r>
            <a:r>
              <a:rPr b="1" lang="de-DE" sz="2600" spc="-1" strike="noStrike">
                <a:solidFill>
                  <a:srgbClr val="ff0000"/>
                </a:solidFill>
                <a:latin typeface="Century Gothic"/>
              </a:rPr>
              <a:t>b</a:t>
            </a:r>
            <a:r>
              <a:rPr b="1" lang="de-DE" sz="2600" spc="-1" strike="noStrike">
                <a:solidFill>
                  <a:srgbClr val="000000"/>
                </a:solidFill>
                <a:latin typeface="Century Gothic"/>
              </a:rPr>
              <a:t>t viele Sportarten: Lei</a:t>
            </a:r>
            <a:r>
              <a:rPr b="1" lang="de-DE" sz="2600" spc="-1" strike="noStrike">
                <a:solidFill>
                  <a:srgbClr val="ff0000"/>
                </a:solidFill>
                <a:latin typeface="Century Gothic"/>
              </a:rPr>
              <a:t>ch</a:t>
            </a:r>
            <a:r>
              <a:rPr b="1" lang="de-DE" sz="2600" spc="-1" strike="noStrike">
                <a:solidFill>
                  <a:srgbClr val="000000"/>
                </a:solidFill>
                <a:latin typeface="Century Gothic"/>
              </a:rPr>
              <a:t>tathletik, Schwera</a:t>
            </a:r>
            <a:r>
              <a:rPr b="1" lang="de-DE" sz="2600" spc="-1" strike="noStrike">
                <a:solidFill>
                  <a:srgbClr val="ff0000"/>
                </a:solidFill>
                <a:latin typeface="Century Gothic"/>
              </a:rPr>
              <a:t>th</a:t>
            </a:r>
            <a:r>
              <a:rPr b="1" lang="de-DE" sz="2600" spc="-1" strike="noStrike">
                <a:solidFill>
                  <a:srgbClr val="000000"/>
                </a:solidFill>
                <a:latin typeface="Century Gothic"/>
              </a:rPr>
              <a:t>letik, Ra</a:t>
            </a:r>
            <a:r>
              <a:rPr b="1" lang="de-DE" sz="2600" spc="-1" strike="noStrike">
                <a:solidFill>
                  <a:srgbClr val="ff0000"/>
                </a:solidFill>
                <a:latin typeface="Century Gothic"/>
              </a:rPr>
              <a:t>d</a:t>
            </a:r>
            <a:r>
              <a:rPr b="1" lang="de-DE" sz="2600" spc="-1" strike="noStrike">
                <a:solidFill>
                  <a:srgbClr val="000000"/>
                </a:solidFill>
                <a:latin typeface="Century Gothic"/>
              </a:rPr>
              <a:t>sport, Wa</a:t>
            </a:r>
            <a:r>
              <a:rPr b="1" lang="de-DE" sz="2600" spc="-1" strike="noStrike">
                <a:solidFill>
                  <a:srgbClr val="ff0000"/>
                </a:solidFill>
                <a:latin typeface="Century Gothic"/>
              </a:rPr>
              <a:t>ss</a:t>
            </a:r>
            <a:r>
              <a:rPr b="1" lang="de-DE" sz="2600" spc="-1" strike="noStrike">
                <a:solidFill>
                  <a:srgbClr val="000000"/>
                </a:solidFill>
                <a:latin typeface="Century Gothic"/>
              </a:rPr>
              <a:t>ersport, Sch</a:t>
            </a:r>
            <a:r>
              <a:rPr b="1" lang="de-DE" sz="2600" spc="-1" strike="noStrike">
                <a:solidFill>
                  <a:srgbClr val="ff0000"/>
                </a:solidFill>
                <a:latin typeface="Century Gothic"/>
              </a:rPr>
              <a:t>i</a:t>
            </a:r>
            <a:r>
              <a:rPr b="1" lang="de-DE" sz="2600" spc="-1" strike="noStrike">
                <a:solidFill>
                  <a:srgbClr val="000000"/>
                </a:solidFill>
                <a:latin typeface="Century Gothic"/>
              </a:rPr>
              <a:t>laufen, Schli</a:t>
            </a:r>
            <a:r>
              <a:rPr b="1" lang="de-DE" sz="2600" spc="-1" strike="noStrike">
                <a:solidFill>
                  <a:srgbClr val="ff0000"/>
                </a:solidFill>
                <a:latin typeface="Century Gothic"/>
              </a:rPr>
              <a:t>tt</a:t>
            </a:r>
            <a:r>
              <a:rPr b="1" lang="de-DE" sz="2600" spc="-1" strike="noStrike">
                <a:solidFill>
                  <a:srgbClr val="000000"/>
                </a:solidFill>
                <a:latin typeface="Century Gothic"/>
              </a:rPr>
              <a:t>schuhlaufen und andere. Jeder Sportfr</a:t>
            </a:r>
            <a:r>
              <a:rPr b="1" lang="de-DE" sz="2600" spc="-1" strike="noStrike">
                <a:solidFill>
                  <a:srgbClr val="ff0000"/>
                </a:solidFill>
                <a:latin typeface="Century Gothic"/>
              </a:rPr>
              <a:t>eu</a:t>
            </a:r>
            <a:r>
              <a:rPr b="1" lang="de-DE" sz="2600" spc="-1" strike="noStrike">
                <a:solidFill>
                  <a:srgbClr val="000000"/>
                </a:solidFill>
                <a:latin typeface="Century Gothic"/>
              </a:rPr>
              <a:t>nd hat seine Lie</a:t>
            </a:r>
            <a:r>
              <a:rPr b="1" lang="de-DE" sz="2600" spc="-1" strike="noStrike">
                <a:solidFill>
                  <a:srgbClr val="ff0000"/>
                </a:solidFill>
                <a:latin typeface="Century Gothic"/>
              </a:rPr>
              <a:t>b</a:t>
            </a:r>
            <a:r>
              <a:rPr b="1" lang="de-DE" sz="2600" spc="-1" strike="noStrike">
                <a:solidFill>
                  <a:srgbClr val="000000"/>
                </a:solidFill>
                <a:latin typeface="Century Gothic"/>
              </a:rPr>
              <a:t>lingssportart. Ich zum B</a:t>
            </a:r>
            <a:r>
              <a:rPr b="1" lang="de-DE" sz="2600" spc="-1" strike="noStrike">
                <a:solidFill>
                  <a:srgbClr val="ff0000"/>
                </a:solidFill>
                <a:latin typeface="Century Gothic"/>
              </a:rPr>
              <a:t>ei</a:t>
            </a:r>
            <a:r>
              <a:rPr b="1" lang="de-DE" sz="2600" spc="-1" strike="noStrike">
                <a:solidFill>
                  <a:srgbClr val="000000"/>
                </a:solidFill>
                <a:latin typeface="Century Gothic"/>
              </a:rPr>
              <a:t>spiel bin Fu</a:t>
            </a:r>
            <a:r>
              <a:rPr b="1" lang="de-DE" sz="2600" spc="-1" strike="noStrike">
                <a:solidFill>
                  <a:srgbClr val="ff0000"/>
                </a:solidFill>
                <a:latin typeface="Century Gothic"/>
              </a:rPr>
              <a:t>ß</a:t>
            </a:r>
            <a:r>
              <a:rPr b="1" lang="de-DE" sz="2600" spc="-1" strike="noStrike">
                <a:solidFill>
                  <a:srgbClr val="000000"/>
                </a:solidFill>
                <a:latin typeface="Century Gothic"/>
              </a:rPr>
              <a:t>ballfan. Ich sehe mir alle Fußballwettk</a:t>
            </a:r>
            <a:r>
              <a:rPr b="1" lang="de-DE" sz="2600" spc="-1" strike="noStrike">
                <a:solidFill>
                  <a:srgbClr val="ff0000"/>
                </a:solidFill>
                <a:latin typeface="Century Gothic"/>
              </a:rPr>
              <a:t>ä</a:t>
            </a:r>
            <a:r>
              <a:rPr b="1" lang="de-DE" sz="2600" spc="-1" strike="noStrike">
                <a:solidFill>
                  <a:srgbClr val="000000"/>
                </a:solidFill>
                <a:latin typeface="Century Gothic"/>
              </a:rPr>
              <a:t>mpfe im Fernsehen an. Ich besuche das Stadion, wenn meine Lieblingsma</a:t>
            </a:r>
            <a:r>
              <a:rPr b="1" lang="de-DE" sz="2600" spc="-1" strike="noStrike">
                <a:solidFill>
                  <a:srgbClr val="ff0000"/>
                </a:solidFill>
                <a:latin typeface="Century Gothic"/>
              </a:rPr>
              <a:t>nn</a:t>
            </a:r>
            <a:r>
              <a:rPr b="1" lang="de-DE" sz="2600" spc="-1" strike="noStrike">
                <a:solidFill>
                  <a:srgbClr val="000000"/>
                </a:solidFill>
                <a:latin typeface="Century Gothic"/>
              </a:rPr>
              <a:t>schaft spielt. Wenn sie den ersten Pla</a:t>
            </a:r>
            <a:r>
              <a:rPr b="1" lang="de-DE" sz="2600" spc="-1" strike="noStrike">
                <a:solidFill>
                  <a:srgbClr val="ff0000"/>
                </a:solidFill>
                <a:latin typeface="Century Gothic"/>
              </a:rPr>
              <a:t>tz</a:t>
            </a:r>
            <a:r>
              <a:rPr b="1" lang="de-DE" sz="2600" spc="-1" strike="noStrike">
                <a:solidFill>
                  <a:srgbClr val="000000"/>
                </a:solidFill>
                <a:latin typeface="Century Gothic"/>
              </a:rPr>
              <a:t> belegt, freue ich mich. Wenn sie verliert oder das Spiel unentschieden ist, bin ich trauri</a:t>
            </a:r>
            <a:r>
              <a:rPr b="1" lang="de-DE" sz="2600" spc="-1" strike="noStrike">
                <a:solidFill>
                  <a:srgbClr val="ff0000"/>
                </a:solidFill>
                <a:latin typeface="Century Gothic"/>
              </a:rPr>
              <a:t>g</a:t>
            </a:r>
            <a:r>
              <a:rPr b="1" lang="de-DE" sz="26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26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6000" spc="-1" strike="noStrike">
                <a:solidFill>
                  <a:srgbClr val="a53010"/>
                </a:solidFill>
                <a:latin typeface="Monotype Corsiva"/>
              </a:rPr>
              <a:t>Взаимопроверка</a:t>
            </a:r>
            <a:endParaRPr b="0" lang="en-US" sz="6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6" name=""/>
          <p:cNvSpPr txBox="1"/>
          <p:nvPr/>
        </p:nvSpPr>
        <p:spPr>
          <a:xfrm>
            <a:off x="2588760" y="2133360"/>
            <a:ext cx="89154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0 – 6 правильных ответов – «2»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7 – 9 правильных ответов – «3»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10 – 12 правильных ответов – «4»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13 – 15 правильных ответов – «5»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"/>
          <p:cNvSpPr txBox="1"/>
          <p:nvPr/>
        </p:nvSpPr>
        <p:spPr>
          <a:xfrm>
            <a:off x="2211120" y="1625400"/>
            <a:ext cx="89154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9600" spc="-1" strike="noStrike">
                <a:solidFill>
                  <a:srgbClr val="a53010"/>
                </a:solidFill>
                <a:latin typeface="Monotype Corsiva"/>
              </a:rPr>
              <a:t>Vielen Dank </a:t>
            </a:r>
            <a:endParaRPr b="0" lang="en-US" sz="9600" spc="-1" strike="noStrike">
              <a:solidFill>
                <a:srgbClr val="40404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9600" spc="-1" strike="noStrike">
                <a:solidFill>
                  <a:srgbClr val="a53010"/>
                </a:solidFill>
                <a:latin typeface="Monotype Corsiva"/>
              </a:rPr>
              <a:t>für die Arbeit!</a:t>
            </a:r>
            <a:endParaRPr b="0" lang="en-US" sz="96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1647720" y="272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4800" spc="-1" strike="noStrike">
                <a:solidFill>
                  <a:srgbClr val="de7e18"/>
                </a:solidFill>
                <a:latin typeface="Monotype Corsiva"/>
              </a:rPr>
              <a:t>Das Thema:</a:t>
            </a: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6" name=""/>
          <p:cNvSpPr txBox="1"/>
          <p:nvPr/>
        </p:nvSpPr>
        <p:spPr>
          <a:xfrm>
            <a:off x="1863360" y="1553760"/>
            <a:ext cx="89154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Monotype Corsiva"/>
              </a:rPr>
              <a:t>«</a:t>
            </a:r>
            <a:r>
              <a:rPr b="1" lang="de-DE" sz="9600" spc="-1" strike="noStrike">
                <a:solidFill>
                  <a:srgbClr val="000000"/>
                </a:solidFill>
                <a:latin typeface="Monotype Corsiva"/>
              </a:rPr>
              <a:t>SPORT</a:t>
            </a:r>
            <a:r>
              <a:rPr b="1" lang="ru-RU" sz="9600" spc="-1" strike="noStrike">
                <a:solidFill>
                  <a:srgbClr val="000000"/>
                </a:solidFill>
                <a:latin typeface="Monotype Corsiva"/>
              </a:rPr>
              <a:t>»</a:t>
            </a:r>
            <a:endParaRPr b="0" lang="en-US" sz="96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187" name="Рисунок 3" descr=""/>
          <p:cNvPicPr/>
          <p:nvPr/>
        </p:nvPicPr>
        <p:blipFill>
          <a:blip r:embed="rId1"/>
          <a:stretch/>
        </p:blipFill>
        <p:spPr>
          <a:xfrm>
            <a:off x="4290840" y="3316320"/>
            <a:ext cx="4061160" cy="30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2408400" y="619200"/>
            <a:ext cx="8912160" cy="127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4800" spc="-1" strike="noStrike">
                <a:solidFill>
                  <a:srgbClr val="de7e18"/>
                </a:solidFill>
                <a:latin typeface="Monotype Corsiva"/>
              </a:rPr>
              <a:t>Das Motto</a:t>
            </a:r>
            <a:r>
              <a:rPr b="1" lang="ru-RU" sz="4800" spc="-1" strike="noStrike">
                <a:solidFill>
                  <a:srgbClr val="de7e18"/>
                </a:solidFill>
                <a:latin typeface="Monotype Corsiva"/>
              </a:rPr>
              <a:t>:</a:t>
            </a: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9" name=""/>
          <p:cNvSpPr txBox="1"/>
          <p:nvPr/>
        </p:nvSpPr>
        <p:spPr>
          <a:xfrm>
            <a:off x="2784600" y="1898280"/>
            <a:ext cx="81612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8000" spc="-1" strike="noStrike">
                <a:solidFill>
                  <a:srgbClr val="000000"/>
                </a:solidFill>
                <a:latin typeface="Monotype Corsiva"/>
              </a:rPr>
              <a:t>In einem gesunden Körper wohnt ein gesunder Geist!</a:t>
            </a:r>
            <a:endParaRPr b="0" lang="en-US" sz="80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2355840" y="446040"/>
            <a:ext cx="891216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800" spc="-1" strike="noStrike">
                <a:solidFill>
                  <a:srgbClr val="a53010"/>
                </a:solidFill>
                <a:latin typeface="Monotype Corsiva"/>
              </a:rPr>
              <a:t>Правила работы в группе:</a:t>
            </a: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1" name=""/>
          <p:cNvSpPr txBox="1"/>
          <p:nvPr/>
        </p:nvSpPr>
        <p:spPr>
          <a:xfrm>
            <a:off x="2355840" y="1436400"/>
            <a:ext cx="9385200" cy="50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entury Gothic"/>
              </a:rPr>
              <a:t>Будь добросовестным по отношению к товарищам, работай в полную меру своих сил.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entury Gothic"/>
              </a:rPr>
              <a:t>Слушайте каждого члена группы внимательно, не перебивая.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entury Gothic"/>
              </a:rPr>
              <a:t>Говорите коротко, ясно, чтобы все могли высказаться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entury Gothic"/>
              </a:rPr>
              <a:t>Поддерживайте друг друга, несмотря на интеллектуальные разногласия.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entury Gothic"/>
              </a:rPr>
              <a:t>Отвергая предложенную идею, делайте это вежливо и не забывайте предлагать альтернативу.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entury Gothic"/>
              </a:rPr>
              <a:t>Организатором (лидером) выбирайте того, кто сможет распределить нагрузку, уладить разногласия, выбрать лучшее решение вместе со всеми.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entury Gothic"/>
              </a:rPr>
              <a:t>Выступать от имени группы почетно. Это делает не камикадзе, а подготовленный всей группой ее полномочный представитель.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 rot="18757200">
            <a:off x="975960" y="2390760"/>
            <a:ext cx="5472360" cy="12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7200" spc="-1" strike="noStrike">
                <a:solidFill>
                  <a:srgbClr val="a53010"/>
                </a:solidFill>
                <a:latin typeface="Monotype Corsiva"/>
              </a:rPr>
              <a:t>Die Körperteile</a:t>
            </a:r>
            <a:endParaRPr b="0" lang="en-US" sz="72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193" name="Объект 3" descr=""/>
          <p:cNvPicPr/>
          <p:nvPr/>
        </p:nvPicPr>
        <p:blipFill>
          <a:blip r:embed="rId1"/>
          <a:stretch/>
        </p:blipFill>
        <p:spPr>
          <a:xfrm>
            <a:off x="6334200" y="351000"/>
            <a:ext cx="5014800" cy="62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1596960" y="631800"/>
            <a:ext cx="10150560" cy="150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5400" spc="-1" strike="noStrike">
                <a:solidFill>
                  <a:srgbClr val="a53010"/>
                </a:solidFill>
                <a:latin typeface="Monotype Corsiva"/>
              </a:rPr>
              <a:t>Welche Schmerzen kann der Mensch haben?</a:t>
            </a:r>
            <a:endParaRPr b="0" lang="en-US" sz="54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5" name=""/>
          <p:cNvSpPr txBox="1"/>
          <p:nvPr/>
        </p:nvSpPr>
        <p:spPr>
          <a:xfrm>
            <a:off x="2325240" y="2381040"/>
            <a:ext cx="8915400" cy="40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Monotype Corsiva"/>
              </a:rPr>
              <a:t>Zahn</a:t>
            </a:r>
            <a:endParaRPr b="0" lang="en-US" sz="44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96" name="Овал 3"/>
          <p:cNvSpPr/>
          <p:nvPr/>
        </p:nvSpPr>
        <p:spPr>
          <a:xfrm>
            <a:off x="4527720" y="3154320"/>
            <a:ext cx="4511520" cy="2232000"/>
          </a:xfrm>
          <a:prstGeom prst="ellipse">
            <a:avLst/>
          </a:prstGeom>
          <a:solidFill>
            <a:srgbClr val="ffffff"/>
          </a:solidFill>
          <a:ln cap="rnd" w="15840">
            <a:solidFill>
              <a:srgbClr val="7820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entury Gothic"/>
              </a:rPr>
              <a:t>т</a:t>
            </a:r>
            <a:r>
              <a:rPr b="1" lang="de-DE" sz="3600" spc="-1" strike="noStrike">
                <a:solidFill>
                  <a:srgbClr val="000000"/>
                </a:solidFill>
                <a:latin typeface="Century Gothic"/>
              </a:rPr>
              <a:t>SCHMERZEN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cxnSp>
        <p:nvCxnSpPr>
          <p:cNvPr id="1197" name="Прямая со стрелкой 7"/>
          <p:cNvCxnSpPr/>
          <p:nvPr/>
        </p:nvCxnSpPr>
        <p:spPr>
          <a:xfrm flipH="1">
            <a:off x="3269520" y="4215960"/>
            <a:ext cx="1258200" cy="1080"/>
          </a:xfrm>
          <a:prstGeom prst="straightConnector1">
            <a:avLst/>
          </a:prstGeom>
          <a:ln cap="rnd" w="9360">
            <a:solidFill>
              <a:srgbClr val="9d2d0f"/>
            </a:solidFill>
            <a:miter/>
            <a:tailEnd len="med" type="triangle" w="med"/>
          </a:ln>
        </p:spPr>
      </p:cxnSp>
      <p:cxnSp>
        <p:nvCxnSpPr>
          <p:cNvPr id="1198" name="Прямая со стрелкой 9"/>
          <p:cNvCxnSpPr/>
          <p:nvPr/>
        </p:nvCxnSpPr>
        <p:spPr>
          <a:xfrm flipV="1">
            <a:off x="9038880" y="4215600"/>
            <a:ext cx="1345320" cy="1080"/>
          </a:xfrm>
          <a:prstGeom prst="straightConnector1">
            <a:avLst/>
          </a:prstGeom>
          <a:ln cap="rnd" w="9360">
            <a:solidFill>
              <a:srgbClr val="9d2d0f"/>
            </a:solidFill>
            <a:miter/>
            <a:tailEnd len="med" type="triangle" w="med"/>
          </a:ln>
        </p:spPr>
      </p:cxnSp>
      <p:cxnSp>
        <p:nvCxnSpPr>
          <p:cNvPr id="1199" name="Прямая со стрелкой 11"/>
          <p:cNvCxnSpPr/>
          <p:nvPr/>
        </p:nvCxnSpPr>
        <p:spPr>
          <a:xfrm flipV="1">
            <a:off x="6819480" y="2380680"/>
            <a:ext cx="10440" cy="773640"/>
          </a:xfrm>
          <a:prstGeom prst="straightConnector1">
            <a:avLst/>
          </a:prstGeom>
          <a:ln cap="rnd" w="9360">
            <a:solidFill>
              <a:srgbClr val="9d2d0f"/>
            </a:solidFill>
            <a:miter/>
            <a:tailEnd len="med" type="triangle" w="med"/>
          </a:ln>
        </p:spPr>
      </p:cxnSp>
      <p:cxnSp>
        <p:nvCxnSpPr>
          <p:cNvPr id="1200" name="Прямая со стрелкой 13"/>
          <p:cNvCxnSpPr/>
          <p:nvPr/>
        </p:nvCxnSpPr>
        <p:spPr>
          <a:xfrm>
            <a:off x="6819480" y="5386320"/>
            <a:ext cx="10440" cy="658080"/>
          </a:xfrm>
          <a:prstGeom prst="straightConnector1">
            <a:avLst/>
          </a:prstGeom>
          <a:ln cap="rnd" w="9360">
            <a:solidFill>
              <a:srgbClr val="9d2d0f"/>
            </a:solidFill>
            <a:miter/>
            <a:tailEnd len="med" type="triangle" w="med"/>
          </a:ln>
        </p:spPr>
      </p:cxnSp>
      <p:cxnSp>
        <p:nvCxnSpPr>
          <p:cNvPr id="1201" name="Прямая со стрелкой 24"/>
          <p:cNvCxnSpPr/>
          <p:nvPr/>
        </p:nvCxnSpPr>
        <p:spPr>
          <a:xfrm flipH="1" flipV="1">
            <a:off x="4527000" y="2768040"/>
            <a:ext cx="773640" cy="657720"/>
          </a:xfrm>
          <a:prstGeom prst="straightConnector1">
            <a:avLst/>
          </a:prstGeom>
          <a:ln cap="rnd" w="9360">
            <a:solidFill>
              <a:srgbClr val="9d2d0f"/>
            </a:solidFill>
            <a:miter/>
            <a:tailEnd len="med" type="triangle" w="med"/>
          </a:ln>
        </p:spPr>
      </p:cxnSp>
      <p:cxnSp>
        <p:nvCxnSpPr>
          <p:cNvPr id="1202" name="Прямая со стрелкой 26"/>
          <p:cNvCxnSpPr/>
          <p:nvPr/>
        </p:nvCxnSpPr>
        <p:spPr>
          <a:xfrm flipV="1">
            <a:off x="8264160" y="2928240"/>
            <a:ext cx="1065960" cy="453240"/>
          </a:xfrm>
          <a:prstGeom prst="straightConnector1">
            <a:avLst/>
          </a:prstGeom>
          <a:ln cap="rnd" w="9360">
            <a:solidFill>
              <a:srgbClr val="9d2d0f"/>
            </a:solidFill>
            <a:miter/>
            <a:tailEnd len="med" type="triangle" w="med"/>
          </a:ln>
        </p:spPr>
      </p:cxnSp>
      <p:cxnSp>
        <p:nvCxnSpPr>
          <p:cNvPr id="1203" name="Прямая со стрелкой 28"/>
          <p:cNvCxnSpPr/>
          <p:nvPr/>
        </p:nvCxnSpPr>
        <p:spPr>
          <a:xfrm flipH="1">
            <a:off x="4137840" y="5008320"/>
            <a:ext cx="994680" cy="626040"/>
          </a:xfrm>
          <a:prstGeom prst="straightConnector1">
            <a:avLst/>
          </a:prstGeom>
          <a:ln cap="rnd" w="9360">
            <a:solidFill>
              <a:srgbClr val="9d2d0f"/>
            </a:solidFill>
            <a:miter/>
            <a:tailEnd len="med" type="triangle" w="med"/>
          </a:ln>
        </p:spPr>
      </p:cxnSp>
      <p:cxnSp>
        <p:nvCxnSpPr>
          <p:cNvPr id="1204" name="Прямая со стрелкой 30"/>
          <p:cNvCxnSpPr/>
          <p:nvPr/>
        </p:nvCxnSpPr>
        <p:spPr>
          <a:xfrm>
            <a:off x="8264520" y="5124240"/>
            <a:ext cx="1164240" cy="554760"/>
          </a:xfrm>
          <a:prstGeom prst="straightConnector1">
            <a:avLst/>
          </a:prstGeom>
          <a:ln cap="rnd" w="9360">
            <a:solidFill>
              <a:srgbClr val="9d2d0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2255760" y="595080"/>
            <a:ext cx="8912160" cy="17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4800" spc="-1" strike="noStrike">
                <a:solidFill>
                  <a:srgbClr val="a53010"/>
                </a:solidFill>
                <a:latin typeface="Monotype Corsiva"/>
              </a:rPr>
              <a:t>- Wie geht es dir, Tobias?</a:t>
            </a:r>
            <a:br>
              <a:rPr sz="4800"/>
            </a:br>
            <a:r>
              <a:rPr b="1" lang="de-DE" sz="4800" spc="-1" strike="noStrike">
                <a:solidFill>
                  <a:srgbClr val="a53010"/>
                </a:solidFill>
                <a:latin typeface="Monotype Corsiva"/>
              </a:rPr>
              <a:t>- Schlecht! Mir tut der Kopf weh!</a:t>
            </a: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206" name="Объект 3" descr=""/>
          <p:cNvPicPr/>
          <p:nvPr/>
        </p:nvPicPr>
        <p:blipFill>
          <a:blip r:embed="rId1"/>
          <a:stretch/>
        </p:blipFill>
        <p:spPr>
          <a:xfrm>
            <a:off x="4140360" y="2649600"/>
            <a:ext cx="5143320" cy="35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2090520" y="431280"/>
            <a:ext cx="8910360" cy="9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4800" spc="-1" strike="noStrike">
                <a:solidFill>
                  <a:srgbClr val="a53010"/>
                </a:solidFill>
                <a:latin typeface="Monotype Corsiva"/>
              </a:rPr>
              <a:t>Was passt zusammen?</a:t>
            </a: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208" name="Объект 2" descr=""/>
          <p:cNvPicPr/>
          <p:nvPr/>
        </p:nvPicPr>
        <p:blipFill>
          <a:blip r:embed="rId1"/>
          <a:stretch/>
        </p:blipFill>
        <p:spPr>
          <a:xfrm>
            <a:off x="2444760" y="1395360"/>
            <a:ext cx="9570960" cy="5237280"/>
          </a:xfrm>
          <a:prstGeom prst="rect">
            <a:avLst/>
          </a:prstGeom>
          <a:ln w="0">
            <a:noFill/>
          </a:ln>
        </p:spPr>
      </p:pic>
      <p:sp>
        <p:nvSpPr>
          <p:cNvPr id="1209" name="Прямая соединительная линия 4"/>
          <p:cNvSpPr/>
          <p:nvPr/>
        </p:nvSpPr>
        <p:spPr>
          <a:xfrm>
            <a:off x="6067440" y="1654200"/>
            <a:ext cx="1436760" cy="1306440"/>
          </a:xfrm>
          <a:prstGeom prst="line">
            <a:avLst/>
          </a:prstGeom>
          <a:ln cap="rnd" w="9360">
            <a:solidFill>
              <a:srgbClr val="9d2d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10" name="Прямая соединительная линия 6"/>
          <p:cNvSpPr/>
          <p:nvPr/>
        </p:nvSpPr>
        <p:spPr>
          <a:xfrm>
            <a:off x="6357960" y="2308320"/>
            <a:ext cx="920880" cy="2162160"/>
          </a:xfrm>
          <a:prstGeom prst="line">
            <a:avLst/>
          </a:prstGeom>
          <a:ln cap="rnd" w="9360">
            <a:solidFill>
              <a:srgbClr val="9d2d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11" name="Прямая соединительная линия 8"/>
          <p:cNvSpPr/>
          <p:nvPr/>
        </p:nvSpPr>
        <p:spPr>
          <a:xfrm>
            <a:off x="5545080" y="2700360"/>
            <a:ext cx="1733760" cy="2278080"/>
          </a:xfrm>
          <a:prstGeom prst="line">
            <a:avLst/>
          </a:prstGeom>
          <a:ln cap="rnd" w="9360">
            <a:solidFill>
              <a:srgbClr val="9d2d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12" name="Прямая соединительная линия 12"/>
          <p:cNvSpPr/>
          <p:nvPr/>
        </p:nvSpPr>
        <p:spPr>
          <a:xfrm>
            <a:off x="6545160" y="3279600"/>
            <a:ext cx="733680" cy="2613240"/>
          </a:xfrm>
          <a:prstGeom prst="line">
            <a:avLst/>
          </a:prstGeom>
          <a:ln cap="rnd" w="9360">
            <a:solidFill>
              <a:srgbClr val="9d2d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13" name="Прямая соединительная линия 14"/>
          <p:cNvSpPr/>
          <p:nvPr/>
        </p:nvSpPr>
        <p:spPr>
          <a:xfrm flipV="1">
            <a:off x="6067440" y="1653840"/>
            <a:ext cx="1211400" cy="1989000"/>
          </a:xfrm>
          <a:prstGeom prst="line">
            <a:avLst/>
          </a:prstGeom>
          <a:ln cap="rnd" w="9360">
            <a:solidFill>
              <a:srgbClr val="9d2d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14" name="Прямая соединительная линия 16"/>
          <p:cNvSpPr/>
          <p:nvPr/>
        </p:nvSpPr>
        <p:spPr>
          <a:xfrm flipV="1">
            <a:off x="6357960" y="3990960"/>
            <a:ext cx="920880" cy="146160"/>
          </a:xfrm>
          <a:prstGeom prst="line">
            <a:avLst/>
          </a:prstGeom>
          <a:ln cap="rnd" w="9360">
            <a:solidFill>
              <a:srgbClr val="9d2d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15" name="Прямая соединительная линия 18"/>
          <p:cNvSpPr/>
          <p:nvPr/>
        </p:nvSpPr>
        <p:spPr>
          <a:xfrm flipV="1">
            <a:off x="5545080" y="2307960"/>
            <a:ext cx="1959120" cy="2670120"/>
          </a:xfrm>
          <a:prstGeom prst="line">
            <a:avLst/>
          </a:prstGeom>
          <a:ln cap="rnd" w="9360">
            <a:solidFill>
              <a:srgbClr val="9d2d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16" name="Прямая соединительная линия 20"/>
          <p:cNvSpPr/>
          <p:nvPr/>
        </p:nvSpPr>
        <p:spPr>
          <a:xfrm flipV="1">
            <a:off x="6357960" y="3642840"/>
            <a:ext cx="920880" cy="1747800"/>
          </a:xfrm>
          <a:prstGeom prst="line">
            <a:avLst/>
          </a:prstGeom>
          <a:ln cap="rnd" w="9360">
            <a:solidFill>
              <a:srgbClr val="9d2d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1257480" y="50760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6600" spc="-1" strike="noStrike">
                <a:solidFill>
                  <a:srgbClr val="a53010"/>
                </a:solidFill>
                <a:latin typeface="Monotype Corsiva"/>
              </a:rPr>
              <a:t>Sport machen</a:t>
            </a:r>
            <a:endParaRPr b="0" lang="en-US" sz="6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8" name=""/>
          <p:cNvSpPr txBox="1"/>
          <p:nvPr/>
        </p:nvSpPr>
        <p:spPr>
          <a:xfrm>
            <a:off x="3531960" y="1836360"/>
            <a:ext cx="7019640" cy="397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a5301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Century Gothic"/>
              </a:rPr>
              <a:t>Wo?</a:t>
            </a:r>
            <a:endParaRPr b="0" lang="en-US" sz="3600" spc="-1" strike="noStrike">
              <a:solidFill>
                <a:srgbClr val="404040"/>
              </a:solidFill>
              <a:latin typeface="Century Gothic"/>
            </a:endParaRPr>
          </a:p>
          <a:p>
            <a:pPr marL="339480" indent="-339480">
              <a:spcBef>
                <a:spcPts val="1001"/>
              </a:spcBef>
              <a:buClr>
                <a:srgbClr val="a5301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Century Gothic"/>
              </a:rPr>
              <a:t>Wann?</a:t>
            </a:r>
            <a:endParaRPr b="0" lang="en-US" sz="3600" spc="-1" strike="noStrike">
              <a:solidFill>
                <a:srgbClr val="404040"/>
              </a:solidFill>
              <a:latin typeface="Century Gothic"/>
            </a:endParaRPr>
          </a:p>
          <a:p>
            <a:pPr marL="339480" indent="-339480">
              <a:spcBef>
                <a:spcPts val="1001"/>
              </a:spcBef>
              <a:buClr>
                <a:srgbClr val="a5301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Century Gothic"/>
              </a:rPr>
              <a:t>Wie?</a:t>
            </a:r>
            <a:endParaRPr b="0" lang="en-US" sz="3600" spc="-1" strike="noStrike">
              <a:solidFill>
                <a:srgbClr val="404040"/>
              </a:solidFill>
              <a:latin typeface="Century Gothic"/>
            </a:endParaRPr>
          </a:p>
          <a:p>
            <a:pPr marL="339480" indent="-339480">
              <a:spcBef>
                <a:spcPts val="1001"/>
              </a:spcBef>
              <a:buClr>
                <a:srgbClr val="a5301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Century Gothic"/>
              </a:rPr>
              <a:t>Welche Sportart?</a:t>
            </a:r>
            <a:endParaRPr b="0" lang="en-US" sz="3600" spc="-1" strike="noStrike">
              <a:solidFill>
                <a:srgbClr val="404040"/>
              </a:solidFill>
              <a:latin typeface="Century Gothic"/>
            </a:endParaRPr>
          </a:p>
          <a:p>
            <a:pPr marL="339480" indent="-339480">
              <a:spcBef>
                <a:spcPts val="1001"/>
              </a:spcBef>
              <a:buClr>
                <a:srgbClr val="a5301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Century Gothic"/>
              </a:rPr>
              <a:t>Was braucht man dazu?</a:t>
            </a:r>
            <a:endParaRPr b="0" lang="en-US" sz="3600" spc="-1" strike="noStrike">
              <a:solidFill>
                <a:srgbClr val="404040"/>
              </a:solidFill>
              <a:latin typeface="Century Gothic"/>
            </a:endParaRPr>
          </a:p>
          <a:p>
            <a:pPr marL="339480" indent="-339480">
              <a:spcBef>
                <a:spcPts val="1001"/>
              </a:spcBef>
              <a:buClr>
                <a:srgbClr val="a5301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Century Gothic"/>
              </a:rPr>
              <a:t>Wozu?</a:t>
            </a:r>
            <a:endParaRPr b="0" lang="en-US" sz="36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5-21T15:10:03Z</dcterms:created>
  <dc:creator>Зарина Садвокасова</dc:creator>
  <dc:description/>
  <dc:language>en-US</dc:language>
  <cp:lastModifiedBy>Учетная запись Майкрософт</cp:lastModifiedBy>
  <dcterms:modified xsi:type="dcterms:W3CDTF">2022-02-13T15:52:03Z</dcterms:modified>
  <cp:revision>20</cp:revision>
  <dc:subject/>
  <dc:title>БОУ «Розовская СОШ»  Урок немецкого языка  в 7 классе</dc:title>
</cp:coreProperties>
</file>