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4E5-0C7B-4F0F-AD5E-2712E5C7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7F6-CA31-4A06-8A01-759C6838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C48-A49F-48B3-BE3A-84CC350F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23F-3509-4E0E-A256-3D63BF3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0FC-6EBC-46C0-ABC4-F2316D82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1D2-A14D-4A56-919B-74EF3A5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87C-A76C-430C-8289-32F3BB2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C5A-F797-4CAA-88B9-EC24435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6BB-81F4-476E-943F-DB8A637B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08C-F8F6-48CA-A3E8-9DC3848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B43-B7A0-496D-872D-A130704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56D-A918-4CF3-9131-4631807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7E8-5C1F-4072-8547-132D34BC1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360" y="356760"/>
            <a:ext cx="8318520" cy="381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23 февраля  -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День защитника Отечества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doni MT Black"/>
              </a:rPr>
              <a:t> История праздн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29000" y="5105520"/>
            <a:ext cx="46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5640" y="1260360"/>
            <a:ext cx="8713800" cy="374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ракетные войска входят части, вооруженные мощными ракетами, которые могут доставить в любую точку земного шара всесокрушающий атомны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фото маш"/>
          <p:cNvPicPr/>
          <p:nvPr/>
        </p:nvPicPr>
        <p:blipFill>
          <a:blip r:embed="rId1"/>
          <a:stretch/>
        </p:blipFill>
        <p:spPr>
          <a:xfrm>
            <a:off x="469800" y="214200"/>
            <a:ext cx="8174160" cy="5396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285840" y="57873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шина боевого управления ракетных вой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8569080" cy="288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военно-морской флот входят соединения различных боевых кораблей, морская авиация, береговые базы, на которых располагаются боевые корабли и самол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фото подв"/>
          <p:cNvPicPr/>
          <p:nvPr/>
        </p:nvPicPr>
        <p:blipFill>
          <a:blip r:embed="rId1"/>
          <a:stretch/>
        </p:blipFill>
        <p:spPr>
          <a:xfrm>
            <a:off x="179280" y="380880"/>
            <a:ext cx="4321440" cy="4632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76720" y="5641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евой кораб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79280" y="5688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водная лод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E:\Мои презентации\Внеклассная работа\Песни\23 февраля\22.jpg"/>
          <p:cNvPicPr/>
          <p:nvPr/>
        </p:nvPicPr>
        <p:blipFill>
          <a:blip r:embed="rId2"/>
          <a:stretch/>
        </p:blipFill>
        <p:spPr>
          <a:xfrm>
            <a:off x="4572000" y="1000080"/>
            <a:ext cx="4572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6760" y="157140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вооружены зенитными ракетами и самолетами-истреби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фото зенитной установки"/>
          <p:cNvPicPr/>
          <p:nvPr/>
        </p:nvPicPr>
        <p:blipFill>
          <a:blip r:embed="rId1"/>
          <a:stretch/>
        </p:blipFill>
        <p:spPr>
          <a:xfrm>
            <a:off x="285840" y="333360"/>
            <a:ext cx="4176720" cy="496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28760" y="5859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нитная  раке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03640" y="54324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молёт -истребите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:\Мои презентации\Внеклассная работа\Песни\23 февраля\23.jpg"/>
          <p:cNvPicPr/>
          <p:nvPr/>
        </p:nvPicPr>
        <p:blipFill>
          <a:blip r:embed="rId2"/>
          <a:stretch/>
        </p:blipFill>
        <p:spPr>
          <a:xfrm>
            <a:off x="4560840" y="1571760"/>
            <a:ext cx="4583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мо слово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рм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произошло от латинского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арма"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"оружие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7120" y="20901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Мы славим тех, кто не плак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От боли сво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о слез не скрыв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а могилах друзей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, кто мужчиной бы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Не на словах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 лучш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Сынов человечества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Monotype Corsiva"/>
              </a:rPr>
              <a:t>Тех, кто на страже Отечества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E:\Мои презентации\Внеклассная работа\Песни\23 февраля\25.jpg"/>
          <p:cNvPicPr/>
          <p:nvPr/>
        </p:nvPicPr>
        <p:blipFill>
          <a:blip r:embed="rId1"/>
          <a:stretch/>
        </p:blipFill>
        <p:spPr>
          <a:xfrm>
            <a:off x="4429080" y="2500200"/>
            <a:ext cx="45957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4224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Сегодня - праздник всех отцов,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х сыновей, всех, кто готов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Свой дом и маму защитить,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Monotype Corsiva"/>
              </a:rPr>
              <a:t>Всех нас от бед отгор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:\Мои презентации\Внеклассная работа\Песни\23 февраля\1.gif"/>
          <p:cNvPicPr/>
          <p:nvPr/>
        </p:nvPicPr>
        <p:blipFill>
          <a:blip r:embed="rId1"/>
          <a:stretch/>
        </p:blipFill>
        <p:spPr>
          <a:xfrm>
            <a:off x="4114800" y="571680"/>
            <a:ext cx="50292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999720"/>
            <a:ext cx="8425080" cy="30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ЗДРАВЛЯЕМ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АС С ПРАЗДНИКОМ!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Днем Защитника Отечеств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E:\Мои презентации\Внеклассная работа\Песни\23 февраля\29.jpg"/>
          <p:cNvPicPr/>
          <p:nvPr/>
        </p:nvPicPr>
        <p:blipFill>
          <a:blip r:embed="rId1"/>
          <a:stretch/>
        </p:blipFill>
        <p:spPr>
          <a:xfrm>
            <a:off x="285768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53564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жской праздник возник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1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оду как день рождени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ой Арми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знаменование победы под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рв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сков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ад немецкими вой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нь первой победы стал днем рождения армии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как бы обозначило на будущее ее судьбу. Начав с победы, она с той поры не раз громила врагов нашей Родины. Не было ни одного захватчика, который бы не почувствовал на себе силу ее оруж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E:\Мои презентации\Внеклассная работа\Песни\23 февраля\2.jpg"/>
          <p:cNvPicPr/>
          <p:nvPr/>
        </p:nvPicPr>
        <p:blipFill>
          <a:blip r:embed="rId1"/>
          <a:stretch/>
        </p:blipFill>
        <p:spPr>
          <a:xfrm>
            <a:off x="5214960" y="642960"/>
            <a:ext cx="3429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2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м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3 февра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о объяв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нем Красной Армии"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днее праздник переименовали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ень Советской Армии"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рмия стала называть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етско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3 февра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и ежегодно отмечать в СССР как всенародный праздник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нь Советской Армии и Военно-Морского Флота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е в наши дни праздник переименовали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"День Защитника Отечества"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армию звать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оссийско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:\Мои презентации\Внеклассная работа\Песни\23 февраля\3.jpg"/>
          <p:cNvPicPr/>
          <p:nvPr/>
        </p:nvPicPr>
        <p:blipFill>
          <a:blip r:embed="rId1"/>
          <a:stretch/>
        </p:blipFill>
        <p:spPr>
          <a:xfrm>
            <a:off x="214200" y="357120"/>
            <a:ext cx="3292560" cy="219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Мои презентации\Внеклассная работа\Песни\23 февраля\8.jpeg"/>
          <p:cNvPicPr/>
          <p:nvPr/>
        </p:nvPicPr>
        <p:blipFill>
          <a:blip r:embed="rId2"/>
          <a:stretch/>
        </p:blipFill>
        <p:spPr>
          <a:xfrm>
            <a:off x="785880" y="30718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ссийская Арм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это вооруженные силы нашей Родины, которые защищают ее независимость и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В вооруженные силы РФ входя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ухопутные войс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воздушные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енно-морской ф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ойска противовоздушной обороны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1643040"/>
            <a:ext cx="8137440" cy="264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ухопутные войска - пехота, артиллерия, ракетные части, та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фото артиллерии"/>
          <p:cNvPicPr/>
          <p:nvPr/>
        </p:nvPicPr>
        <p:blipFill>
          <a:blip r:embed="rId1"/>
          <a:stretch/>
        </p:blipFill>
        <p:spPr>
          <a:xfrm>
            <a:off x="0" y="785880"/>
            <a:ext cx="4500720" cy="4608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611280" y="55760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тиллер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ото пехоты и танков"/>
          <p:cNvPicPr/>
          <p:nvPr/>
        </p:nvPicPr>
        <p:blipFill>
          <a:blip r:embed="rId2"/>
          <a:stretch/>
        </p:blipFill>
        <p:spPr>
          <a:xfrm>
            <a:off x="4500720" y="836640"/>
            <a:ext cx="4643280" cy="4537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030560" y="5637960"/>
            <a:ext cx="48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хо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фото ракетной части"/>
          <p:cNvPicPr/>
          <p:nvPr/>
        </p:nvPicPr>
        <p:blipFill>
          <a:blip r:embed="rId1"/>
          <a:stretch/>
        </p:blipFill>
        <p:spPr>
          <a:xfrm>
            <a:off x="-71280" y="620640"/>
            <a:ext cx="4572000" cy="48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фото боевого танка т 55"/>
          <p:cNvPicPr/>
          <p:nvPr/>
        </p:nvPicPr>
        <p:blipFill>
          <a:blip r:embed="rId2"/>
          <a:stretch/>
        </p:blipFill>
        <p:spPr>
          <a:xfrm>
            <a:off x="4500720" y="622440"/>
            <a:ext cx="4643280" cy="4822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250920" y="5922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кетные част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932360" y="585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ан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920" y="1642680"/>
            <a:ext cx="8858160" cy="302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военно-воздушные силы входят бомбардировочные истребительные, а также вертолетные части и со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324000" y="5490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мбардировочные истреби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356000" y="55029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толетные части и соед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E:\Мои презентации\Внеклассная работа\Песни\23 февраля\11.jpg"/>
          <p:cNvPicPr/>
          <p:nvPr/>
        </p:nvPicPr>
        <p:blipFill>
          <a:blip r:embed="rId1"/>
          <a:stretch/>
        </p:blipFill>
        <p:spPr>
          <a:xfrm>
            <a:off x="4929120" y="1214280"/>
            <a:ext cx="4054680" cy="31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E:\Мои презентации\Внеклассная работа\Песни\23 февраля\18.jpg"/>
          <p:cNvPicPr/>
          <p:nvPr/>
        </p:nvPicPr>
        <p:blipFill>
          <a:blip r:embed="rId2"/>
          <a:stretch/>
        </p:blipFill>
        <p:spPr>
          <a:xfrm>
            <a:off x="142920" y="1214280"/>
            <a:ext cx="471492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32:56Z</dcterms:created>
  <dc:creator>Катя</dc:creator>
  <dc:description/>
  <dc:language>en-US</dc:language>
  <cp:lastModifiedBy>ПРОСЕК</cp:lastModifiedBy>
  <dcterms:modified xsi:type="dcterms:W3CDTF">2015-11-29T11:40:15Z</dcterms:modified>
  <cp:revision>15</cp:revision>
  <dc:subject/>
  <dc:title>23 февраля.  День Защитника Отечества. История праздника.</dc:title>
</cp:coreProperties>
</file>