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B85-776B-4ED0-9BFD-3460B8C9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2CC-71EB-444B-9168-983C559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141-028D-4586-BD3B-35685056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B96-178E-446E-8741-3772F0E7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921-24B3-4F20-AC4D-7F57746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616-F601-4619-B4CE-F4C415E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8C7-F914-4742-844A-B75B084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96C-F459-46C5-A7F7-A521979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A86-AE07-4B98-867E-21C9BBD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480-5AF8-4E9B-95D4-696F9A0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5AC-0640-452E-BD88-F4C68C9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EBE-7A00-4028-AF18-4A9F7B8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48A9-C326-47FC-BDFB-A20922C21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360" y="356760"/>
            <a:ext cx="8318520" cy="381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23 февраля  -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День защитника Отечества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 История празд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29000" y="5105520"/>
            <a:ext cx="46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5640" y="1260360"/>
            <a:ext cx="8713800" cy="374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ракетные войска входят части, вооруженные мощными ракетами, которые могут доставить в любую точку земного шара всесокрушающий атомны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фото маш"/>
          <p:cNvPicPr/>
          <p:nvPr/>
        </p:nvPicPr>
        <p:blipFill>
          <a:blip r:embed="rId1"/>
          <a:stretch/>
        </p:blipFill>
        <p:spPr>
          <a:xfrm>
            <a:off x="469800" y="214200"/>
            <a:ext cx="8174160" cy="5396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285840" y="578736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шина боевого управления ракетных вой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8569080" cy="288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военно-морской флот входят соединения различных боевых кораблей, морская авиация, береговые базы, на которых располагаются боевые корабли и самол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фото подв"/>
          <p:cNvPicPr/>
          <p:nvPr/>
        </p:nvPicPr>
        <p:blipFill>
          <a:blip r:embed="rId1"/>
          <a:stretch/>
        </p:blipFill>
        <p:spPr>
          <a:xfrm>
            <a:off x="179280" y="380880"/>
            <a:ext cx="4321440" cy="4632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076720" y="5641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евой кораб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79280" y="5688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водная лод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E:\Мои презентации\Внеклассная работа\Песни\23 февраля\22.jpg"/>
          <p:cNvPicPr/>
          <p:nvPr/>
        </p:nvPicPr>
        <p:blipFill>
          <a:blip r:embed="rId2"/>
          <a:stretch/>
        </p:blipFill>
        <p:spPr>
          <a:xfrm>
            <a:off x="4572000" y="1000080"/>
            <a:ext cx="4572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6760" y="1571400"/>
            <a:ext cx="8425080" cy="30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ойска противовоздушной обороны вооружены зенитными ракетами и самолетами-истреби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фото зенитной установки"/>
          <p:cNvPicPr/>
          <p:nvPr/>
        </p:nvPicPr>
        <p:blipFill>
          <a:blip r:embed="rId1"/>
          <a:stretch/>
        </p:blipFill>
        <p:spPr>
          <a:xfrm>
            <a:off x="285840" y="333360"/>
            <a:ext cx="4176720" cy="496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28760" y="5859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нитная  рак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03640" y="54324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молёт -истребите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E:\Мои презентации\Внеклассная работа\Песни\23 февраля\23.jpg"/>
          <p:cNvPicPr/>
          <p:nvPr/>
        </p:nvPicPr>
        <p:blipFill>
          <a:blip r:embed="rId2"/>
          <a:stretch/>
        </p:blipFill>
        <p:spPr>
          <a:xfrm>
            <a:off x="4560840" y="1571760"/>
            <a:ext cx="4583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893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о слово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рм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произошло от латинского -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"арма"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"оружие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7120" y="20901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Мы славим тех, кто не плак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От боли свое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Но слез не скрыв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На могилах друзе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Тех, кто мужчиной бы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Не на словах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Тех луч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Сынов человечеств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Тех, кто на страже Отечества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E:\Мои презентации\Внеклассная работа\Песни\23 февраля\25.jpg"/>
          <p:cNvPicPr/>
          <p:nvPr/>
        </p:nvPicPr>
        <p:blipFill>
          <a:blip r:embed="rId1"/>
          <a:stretch/>
        </p:blipFill>
        <p:spPr>
          <a:xfrm>
            <a:off x="4429080" y="2500200"/>
            <a:ext cx="4595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4224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Сегодня - праздник всех отцов,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Всех сыновей, всех, кто готов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Свой дом и маму защитить,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Всех нас от бед отгор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:\Мои презентации\Внеклассная работа\Песни\23 февраля\1.gif"/>
          <p:cNvPicPr/>
          <p:nvPr/>
        </p:nvPicPr>
        <p:blipFill>
          <a:blip r:embed="rId1"/>
          <a:stretch/>
        </p:blipFill>
        <p:spPr>
          <a:xfrm>
            <a:off x="4114800" y="571680"/>
            <a:ext cx="50292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999720"/>
            <a:ext cx="8425080" cy="30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ЗДРАВЛЯЕМ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АС С ПРАЗДНИКОМ!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Днем Защитника Отечеств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E:\Мои презентации\Внеклассная работа\Песни\23 февраля\29.jpg"/>
          <p:cNvPicPr/>
          <p:nvPr/>
        </p:nvPicPr>
        <p:blipFill>
          <a:blip r:embed="rId1"/>
          <a:stretch/>
        </p:blipFill>
        <p:spPr>
          <a:xfrm>
            <a:off x="285768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53564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жской праздник возник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1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оду как день рождени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ой Арм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знаменование победы под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рв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сков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ад немецкими вой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нь первой победы стал днем рождения армии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как бы обозначило на будущее ее судьбу. Начав с победы, она с той поры не раз громила врагов нашей Родины. Не было ни одного захватчика, который бы не почувствовал на себе силу ее оруж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E:\Мои презентации\Внеклассная работа\Песни\23 февраля\2.jpg"/>
          <p:cNvPicPr/>
          <p:nvPr/>
        </p:nvPicPr>
        <p:blipFill>
          <a:blip r:embed="rId1"/>
          <a:stretch/>
        </p:blipFill>
        <p:spPr>
          <a:xfrm>
            <a:off x="5214960" y="642960"/>
            <a:ext cx="3429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2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м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3 февра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о объяв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"Днем Красной Армии"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днее праздник переименовали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"День Советской Армии"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рмия стала называть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етско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3 февра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ли ежегодно отмечать в СССР как всенародный праздник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нь Советской Армии и Военно-Морского Флота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же в наши дни праздник переименовали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"День Защитника Отечества"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армию звать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оссийско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:\Мои презентации\Внеклассная работа\Песни\23 февраля\3.jpg"/>
          <p:cNvPicPr/>
          <p:nvPr/>
        </p:nvPicPr>
        <p:blipFill>
          <a:blip r:embed="rId1"/>
          <a:stretch/>
        </p:blipFill>
        <p:spPr>
          <a:xfrm>
            <a:off x="214200" y="357120"/>
            <a:ext cx="3292560" cy="219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Мои презентации\Внеклассная работа\Песни\23 февраля\8.jpeg"/>
          <p:cNvPicPr/>
          <p:nvPr/>
        </p:nvPicPr>
        <p:blipFill>
          <a:blip r:embed="rId2"/>
          <a:stretch/>
        </p:blipFill>
        <p:spPr>
          <a:xfrm>
            <a:off x="785880" y="307188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ссийская Арм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это вооруженные силы нашей Родины, которые защищают ее независимость и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В вооруженные силы РФ входя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ухопутные войс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енно-воздушные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кетные войска стратегического назнач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енно-морской ф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йска противовоздушной обороны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1643040"/>
            <a:ext cx="8137440" cy="264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ухопутные войска - пехота, артиллерия, ракетные части, та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фото артиллерии"/>
          <p:cNvPicPr/>
          <p:nvPr/>
        </p:nvPicPr>
        <p:blipFill>
          <a:blip r:embed="rId1"/>
          <a:stretch/>
        </p:blipFill>
        <p:spPr>
          <a:xfrm>
            <a:off x="0" y="785880"/>
            <a:ext cx="4500720" cy="4608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611280" y="55760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тиллер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фото пехоты и танков"/>
          <p:cNvPicPr/>
          <p:nvPr/>
        </p:nvPicPr>
        <p:blipFill>
          <a:blip r:embed="rId2"/>
          <a:stretch/>
        </p:blipFill>
        <p:spPr>
          <a:xfrm>
            <a:off x="4500720" y="836640"/>
            <a:ext cx="4643280" cy="4537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030560" y="563796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хот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фото ракетной части"/>
          <p:cNvPicPr/>
          <p:nvPr/>
        </p:nvPicPr>
        <p:blipFill>
          <a:blip r:embed="rId1"/>
          <a:stretch/>
        </p:blipFill>
        <p:spPr>
          <a:xfrm>
            <a:off x="-71280" y="620640"/>
            <a:ext cx="4572000" cy="48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фото боевого танка т 55"/>
          <p:cNvPicPr/>
          <p:nvPr/>
        </p:nvPicPr>
        <p:blipFill>
          <a:blip r:embed="rId2"/>
          <a:stretch/>
        </p:blipFill>
        <p:spPr>
          <a:xfrm>
            <a:off x="4500720" y="622440"/>
            <a:ext cx="4643280" cy="4822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250920" y="5922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етные част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932360" y="5859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н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920" y="1642680"/>
            <a:ext cx="8858160" cy="302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военно-воздушные силы входят бомбардировочные истребительные, а также вертолетные части и со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324000" y="5490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мбардировочные истреби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356000" y="55029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толетные части и соед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E:\Мои презентации\Внеклассная работа\Песни\23 февраля\11.jpg"/>
          <p:cNvPicPr/>
          <p:nvPr/>
        </p:nvPicPr>
        <p:blipFill>
          <a:blip r:embed="rId1"/>
          <a:stretch/>
        </p:blipFill>
        <p:spPr>
          <a:xfrm>
            <a:off x="4929120" y="1214280"/>
            <a:ext cx="4054680" cy="314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E:\Мои презентации\Внеклассная работа\Песни\23 февраля\18.jpg"/>
          <p:cNvPicPr/>
          <p:nvPr/>
        </p:nvPicPr>
        <p:blipFill>
          <a:blip r:embed="rId2"/>
          <a:stretch/>
        </p:blipFill>
        <p:spPr>
          <a:xfrm>
            <a:off x="142920" y="1214280"/>
            <a:ext cx="471492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32:56Z</dcterms:created>
  <dc:creator>Катя</dc:creator>
  <dc:description/>
  <dc:language>en-US</dc:language>
  <cp:lastModifiedBy>ПРОСЕК</cp:lastModifiedBy>
  <dcterms:modified xsi:type="dcterms:W3CDTF">2015-11-29T11:40:15Z</dcterms:modified>
  <cp:revision>15</cp:revision>
  <dc:subject/>
  <dc:title>23 февраля.  День Защитника Отечества. История праздника.</dc:title>
</cp:coreProperties>
</file>