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26.jpeg" ContentType="image/jpeg"/>
  <Override PartName="/ppt/media/image5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27.jpeg" ContentType="image/jpeg"/>
  <Override PartName="/ppt/media/image6.jpeg" ContentType="image/jpeg"/>
  <Override PartName="/ppt/media/image28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12.jpeg" ContentType="image/jpeg"/>
  <Override PartName="/ppt/media/image4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AE71-E556-4FE7-9B3E-9582AFA89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E773-2C35-46A2-88B9-0439CBD6E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8CEC-1725-4D32-B1D6-35A73AC6E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034D-E055-4B9B-9D07-5AA226C57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A5FD-3DDF-4A21-BEC0-FCC9935EA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E554-4E1D-4CD5-BEB4-518A49016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9CB6-67AC-4F63-A1E7-B743BE36B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9A7B-4534-4389-B461-2F7A718D4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3C5B-E34D-44F4-B2B6-39D6B2198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E359-36A5-4730-87AA-08FAFC53D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2AE0-B960-4160-95D3-3A5E751B2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6EB6-5E73-4CA1-9700-6FD315B2B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EF0E8-FF96-46C2-94F7-8033E911FD1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964720" cy="46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«Фигуры на координатной  плоскости» </a:t>
            </a:r>
            <a:br>
              <a:rPr sz="4000"/>
            </a:br>
            <a:br>
              <a:rPr sz="4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Попова Н.А.</a:t>
            </a:r>
            <a:br>
              <a:rPr sz="2000"/>
            </a:b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8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Лисица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323232"/>
                </a:solidFill>
                <a:latin typeface="Arial"/>
              </a:rPr>
              <a:t>1)</a:t>
            </a: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 (- 3; 0), (- 2; 1), (3; 1), (3; 2),(5; 5), (5; 3), (6; 2), (7; 2), (7; 1,5), (5; 0), (4; 0),(4; - 1,5), (3; - 1), (3; - 1,5),(4; - 2,5),(4,5; - 2,5), (- 4,5; - 3), (3,5; - 3), (2; - 1,5),(2; - 1), (- 2; - 2),</a:t>
            </a:r>
            <a:br>
              <a:rPr sz="1800"/>
            </a:b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(- 2; - 2,5), (- 1; - 2,5), (- 1; - 3), (- 3; - 3), (- 3; - 2), (- 2; -1),(- 3; - 1), (- 4; - 2), (- 7; - 2),   (- 8; - 1), (- 7; 0), (- 3; 0).  </a:t>
            </a:r>
            <a:r>
              <a:rPr b="1" lang="ru-RU" sz="1800" spc="-1" strike="noStrike">
                <a:solidFill>
                  <a:srgbClr val="323232"/>
                </a:solidFill>
                <a:latin typeface="Arial"/>
              </a:rPr>
              <a:t>2)</a:t>
            </a: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Глаз: (5; 2)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6913800" cy="5068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олнила Савлинова Ир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C:\Users\BOSS\Desktop\коорд.плос\11 001.jpg"/>
          <p:cNvPicPr/>
          <p:nvPr/>
        </p:nvPicPr>
        <p:blipFill>
          <a:blip r:embed="rId2"/>
          <a:stretch/>
        </p:blipFill>
        <p:spPr>
          <a:xfrm>
            <a:off x="539640" y="1700280"/>
            <a:ext cx="612000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44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-12,-1.),(-9.5,1.5),(-8.5,2),(-7,2),(-6,1.5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-5,2.5),(-4.5,3.5),(-3.5,4.5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-1.5,5),(1,5),(3,4),(5.5,2.5),(6.5,1.5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8,-1),(12.5,-1),(15.5,-2),(15.5,-3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13,-3.5),(6.5,-3.5),(5.5,-4.5),(3.5,-5.5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1,-5.5),(0.5,-5),(0.5,-4.5),(1,-4),(-2.5,-4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-3,-5),(-4,-5.5),(-7,-5.5),(-8,-5),(-8,-4.5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-6.5,-4),(-8,-3),(-10,-2),(-11,-2),(-12,-1.5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-12,-1).Глаз (-9.5,-0.5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Бобр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-</a:t>
            </a: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12,-1.),(-9.5,1.5),(-8.5,2),(-7,2),(-6,1.5),(-5,2.5),(-4.5,3.5),</a:t>
            </a:r>
            <a:br>
              <a:rPr sz="1800"/>
            </a:b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(-3.5,4.5),(-1.5,5),(1,5),(3,4),(5.5,2.5),(6.5,1.5),(8,-1),(12.5,-1),(15.5,-2),(15.5,-3),(13,-3.5),(6.5,-3.5),(5.5,-4.5),(3.5,-5.5),(1,-5.5),(0.5,-5),(0.5,-4.5),(1,-4),(-2.5,-4),(-3,-5),(-4,-5.5),(-7,-5.5),(-8,-5),(-8,-4.5),(-6.5,-4),(-8,-3),(-10,-2),(-11,-2),(-12,-1.5),(-12,-1).</a:t>
            </a:r>
            <a:br>
              <a:rPr sz="1800"/>
            </a:b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Глаз (-9.5,-0.5).</a:t>
            </a:r>
            <a:endParaRPr b="0" lang="en-US" sz="18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856720" cy="5257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олнила Петрова Натал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C:\Users\BOSS\Desktop\Новая папка\9 001.jpg"/>
          <p:cNvPicPr/>
          <p:nvPr/>
        </p:nvPicPr>
        <p:blipFill>
          <a:blip r:embed="rId2"/>
          <a:stretch/>
        </p:blipFill>
        <p:spPr>
          <a:xfrm>
            <a:off x="539640" y="1916280"/>
            <a:ext cx="8209080" cy="41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00000"/>
                </a:solidFill>
                <a:uFillTx/>
                <a:latin typeface="Arial"/>
              </a:rPr>
              <a:t>Цыплёнок </a:t>
            </a:r>
            <a:br>
              <a:rPr sz="1800"/>
            </a:b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(1,-6), (-1,-6), (-3,-5), (-4,-3), (-4,1), (-3,3), (-1,5), (-2,7), (-2,9), (-1,10),</a:t>
            </a:r>
            <a:br>
              <a:rPr sz="1800"/>
            </a:b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(1,10), (2,9), (2,8), (3,8), (2,7), (1,5), (3,3), (4,1), (4,-3), (3,-5),(1,-6), (-4,1), (-3,0), (-2,1), (-1,0), (0,1), (1,0), (2,1), (3,0), (4,1). Глаз (1,8).</a:t>
            </a:r>
            <a:endParaRPr b="0" lang="en-US" sz="18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6337440" cy="506880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олнила Богданова Наст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C:\Users\BOSS\Desktop\Новая папка\8 001.jpg"/>
          <p:cNvPicPr/>
          <p:nvPr/>
        </p:nvPicPr>
        <p:blipFill>
          <a:blip r:embed="rId2"/>
          <a:stretch/>
        </p:blipFill>
        <p:spPr>
          <a:xfrm>
            <a:off x="1258920" y="1844640"/>
            <a:ext cx="33195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856720" cy="17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70c0"/>
                </a:solidFill>
                <a:uFillTx/>
                <a:latin typeface="Arial"/>
              </a:rPr>
              <a:t>Сорока</a:t>
            </a:r>
            <a:br>
              <a:rPr sz="1800"/>
            </a:b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323232"/>
                </a:solidFill>
                <a:latin typeface="Arial"/>
              </a:rPr>
              <a:t>1)</a:t>
            </a: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 (- 1; 2), (5; 6), (7; 13), (10; 11), (7; 5), (1; - 4), (- 2; - 4), (- 5; 0), (- 3; 0), (- 1; 2),</a:t>
            </a:r>
            <a:br>
              <a:rPr sz="1800"/>
            </a:b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(- 2; 4), (- 5; 5), (- 7; 3), (- 11; 1), (- 6; 1), (- 7; 3), (- 5; 0), (- 6; 0), (- 10; - 1), (- 7; 1),</a:t>
            </a:r>
            <a:br>
              <a:rPr sz="1800"/>
            </a:b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(- 6; 0).</a:t>
            </a:r>
            <a:r>
              <a:rPr b="1" lang="ru-RU" sz="1800" spc="-1" strike="noStrike">
                <a:solidFill>
                  <a:srgbClr val="323232"/>
                </a:solidFill>
                <a:latin typeface="Arial"/>
              </a:rPr>
              <a:t>2)</a:t>
            </a: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 Крыло: (0; 0), (7; 3), (6; 1), (1; - 3), (0; 0). </a:t>
            </a:r>
            <a:r>
              <a:rPr b="1" lang="ru-RU" sz="1800" spc="-1" strike="noStrike">
                <a:solidFill>
                  <a:srgbClr val="323232"/>
                </a:solidFill>
                <a:latin typeface="Arial"/>
              </a:rPr>
              <a:t>3)</a:t>
            </a: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 (1; - 4), (1; - 7).</a:t>
            </a:r>
            <a:br>
              <a:rPr sz="1800"/>
            </a:br>
            <a:r>
              <a:rPr b="1" lang="ru-RU" sz="1800" spc="-1" strike="noStrike">
                <a:solidFill>
                  <a:srgbClr val="323232"/>
                </a:solidFill>
                <a:latin typeface="Arial"/>
              </a:rPr>
              <a:t>4)</a:t>
            </a: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 (- 1; - 4), (- 1; - 7). </a:t>
            </a:r>
            <a:r>
              <a:rPr b="1" lang="ru-RU" sz="1800" spc="-1" strike="noStrike">
                <a:solidFill>
                  <a:srgbClr val="323232"/>
                </a:solidFill>
                <a:latin typeface="Arial"/>
              </a:rPr>
              <a:t>5)</a:t>
            </a: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 Глаз: (- 5; 3).</a:t>
            </a:r>
            <a:br>
              <a:rPr sz="1800"/>
            </a:br>
            <a:endParaRPr b="0" lang="en-US" sz="18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6346800" cy="50688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8c3d91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полнил Парносов Ив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C:\Users\BOSS\Desktop\Новая папка\4.jpg"/>
          <p:cNvPicPr/>
          <p:nvPr/>
        </p:nvPicPr>
        <p:blipFill>
          <a:blip r:embed="rId1"/>
          <a:stretch/>
        </p:blipFill>
        <p:spPr>
          <a:xfrm>
            <a:off x="971640" y="1989000"/>
            <a:ext cx="518472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3200" spc="-1" strike="noStrike" u="sng">
                <a:solidFill>
                  <a:srgbClr val="0070c0"/>
                </a:solidFill>
                <a:uFillTx/>
                <a:latin typeface="Arial"/>
              </a:rPr>
              <a:t>Парусник</a:t>
            </a:r>
            <a:r>
              <a:rPr b="0" lang="ru-RU" sz="3200" spc="-1" strike="noStrike" u="sng">
                <a:solidFill>
                  <a:srgbClr val="0070c0"/>
                </a:solidFill>
                <a:uFillTx/>
                <a:latin typeface="Arial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0; 0), (- 10; 1), (0; 16), (- 1; 2), </a:t>
            </a: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(0; 0). </a:t>
            </a:r>
            <a:r>
              <a:rPr b="1" lang="ru-RU" sz="2000" spc="-1" strike="noStrike">
                <a:solidFill>
                  <a:srgbClr val="323232"/>
                </a:solidFill>
                <a:latin typeface="Arial"/>
              </a:rPr>
              <a:t>2)</a:t>
            </a: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 (- 9; 0), (- 8; - 1), (- 6; - 2),</a:t>
            </a:r>
            <a:br>
              <a:rPr sz="2000"/>
            </a:b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 (- 3; - 3), (5; - 3), (10; - 2), (12; - 1), (13; 0), (- 9; 0) .</a:t>
            </a:r>
            <a:r>
              <a:rPr b="1" lang="ru-RU" sz="2000" spc="-1" strike="noStrike">
                <a:solidFill>
                  <a:srgbClr val="323232"/>
                </a:solidFill>
                <a:latin typeface="Arial"/>
              </a:rPr>
              <a:t>3)</a:t>
            </a: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 (0; 0), (0; 16), (12; 2),</a:t>
            </a:r>
            <a:br>
              <a:rPr sz="2000"/>
            </a:b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 (0; 0).</a:t>
            </a:r>
            <a:br>
              <a:rPr sz="2000"/>
            </a:br>
            <a:endParaRPr b="0" lang="en-US" sz="2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78920" y="1412640"/>
            <a:ext cx="6769080" cy="53290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олнил Борисов Владим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C:\Users\BOSS\Desktop\коорд.плос\5 001.jpg"/>
          <p:cNvPicPr/>
          <p:nvPr/>
        </p:nvPicPr>
        <p:blipFill>
          <a:blip r:embed="rId1"/>
          <a:stretch/>
        </p:blipFill>
        <p:spPr>
          <a:xfrm>
            <a:off x="1116000" y="1700280"/>
            <a:ext cx="504036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66ff"/>
                </a:solidFill>
                <a:uFillTx/>
                <a:latin typeface="Arial"/>
              </a:rPr>
              <a:t>Птичка</a:t>
            </a: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 </a:t>
            </a:r>
            <a:br>
              <a:rPr sz="1800"/>
            </a:b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 (- 10;7), (-8;8), (-7;10), (-4;10), (-1;7), (0;6), (8;0), (15;-2), (13;-4), (5;0),(3;-1),</a:t>
            </a:r>
            <a:br>
              <a:rPr sz="1800"/>
            </a:b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 (2;-7 ), (-2;-7), (0;-6), (2;-1), (-1;0), (-3;-7), (-7;-7), (-5;-6), (-1;-1),(-2; 0), (-7;2), (-8;-5), (-8;7), Глаз: (-6;8).</a:t>
            </a:r>
            <a:endParaRPr b="0" lang="en-US" sz="18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23640" y="1773360"/>
            <a:ext cx="7056360" cy="49687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полнил Мусорин Эдуар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C:\Users\BOSS\Desktop\коорд.плос\10 001.jpg"/>
          <p:cNvPicPr/>
          <p:nvPr/>
        </p:nvPicPr>
        <p:blipFill>
          <a:blip r:embed="rId2"/>
          <a:stretch/>
        </p:blipFill>
        <p:spPr>
          <a:xfrm>
            <a:off x="1116000" y="1916280"/>
            <a:ext cx="568944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168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2;- 3),(2;- 2),(4;- 2),(4;- 1),(3; 1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2; 1),(1; 2),(0; 0),(- 3; 2),(- 4; 5),(0; 8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2; 7),(6; 7), (8; 8), (10; 6), (10; 2), (7; 0), (6; 2), (6;- 2), (5;- 3), (2;- 3).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4;- 3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4;- 5),(3;-9),(0;- 8),(1;- 5),(1;- 4),(0;- 4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0;- 9),(- 3;- 9),(- 3;- 3),(- 7;- 3),(- 7;- 7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- 8;- 7),(- 8;- 8),(- 11; - 8),(- 10;- 4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- 11;- 1),(- 14;- 3),(- 12;- 1),(- 11;2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- 8;4),(- 4;5)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Глаза: (2; 4),(6; 4)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25200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00000"/>
                </a:solidFill>
                <a:uFillTx/>
                <a:latin typeface="Arial"/>
              </a:rPr>
              <a:t>Слоник</a:t>
            </a:r>
            <a:br>
              <a:rPr sz="1800"/>
            </a:b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323232"/>
                </a:solidFill>
                <a:latin typeface="Arial"/>
              </a:rPr>
              <a:t>1)</a:t>
            </a: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 (2;- 3),(2;- 2),(4;- 2),(4;- 1),(3; 1),(2; 1),(1; 2),(0; 0),(- 3; 2),(- 4; 5),(0; 8),(2; 7),(6; 7), (8; 8), (10; 6), (10; 2), (7; 0), (6; 2), (6;- 2), (5;- 3), (2;- 3). </a:t>
            </a:r>
            <a:r>
              <a:rPr b="1" lang="ru-RU" sz="1800" spc="-1" strike="noStrike">
                <a:solidFill>
                  <a:srgbClr val="323232"/>
                </a:solidFill>
                <a:latin typeface="Arial"/>
              </a:rPr>
              <a:t>2)</a:t>
            </a: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 (4;- 3),(4;- 5),(3;-9),(0;</a:t>
            </a:r>
            <a:br>
              <a:rPr sz="1800"/>
            </a:b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 - 8),(1;- 5),(1;- 4),(0;- 4),(0;- 9),(- 3;- 9),(- 3;- 3),(- 7;- 3),(- 7;- 7),(- 8;- 7),(- 8;- 8),(- 11; - 8),(- 10;- 4),(- 11;- 1),(- 14;- 3),(- 12;- 1),(- 11;2),(- 8;4),(- 4;5).</a:t>
            </a:r>
            <a:r>
              <a:rPr b="1" lang="ru-RU" sz="1800" spc="-1" strike="noStrike">
                <a:solidFill>
                  <a:srgbClr val="323232"/>
                </a:solidFill>
                <a:latin typeface="Arial"/>
              </a:rPr>
              <a:t>3)</a:t>
            </a: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 Глаза: (2; 4),(6; 4).</a:t>
            </a:r>
            <a:br>
              <a:rPr sz="1800"/>
            </a:br>
            <a:endParaRPr b="0" lang="en-US" sz="18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23640" y="1628280"/>
            <a:ext cx="7056360" cy="504036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олнил Сипатов Дан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C:\Users\BOSS\Desktop\Новая папка\7 001.jpg"/>
          <p:cNvPicPr/>
          <p:nvPr/>
        </p:nvPicPr>
        <p:blipFill>
          <a:blip r:embed="rId2"/>
          <a:stretch/>
        </p:blipFill>
        <p:spPr>
          <a:xfrm>
            <a:off x="900000" y="1773360"/>
            <a:ext cx="597564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70c0"/>
                </a:solidFill>
                <a:uFillTx/>
                <a:latin typeface="Arial"/>
              </a:rPr>
              <a:t>Самолёт</a:t>
            </a:r>
            <a:br>
              <a:rPr sz="2000"/>
            </a:b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323232"/>
                </a:solidFill>
                <a:latin typeface="Arial"/>
              </a:rPr>
              <a:t>1)</a:t>
            </a: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 (- 7; 0), (- 5; 2), (7; 2), (9; 5), (10; 5), (10; 1), (9; 0), (- 7; 0). </a:t>
            </a:r>
            <a:r>
              <a:rPr b="1" lang="ru-RU" sz="2000" spc="-1" strike="noStrike">
                <a:solidFill>
                  <a:srgbClr val="323232"/>
                </a:solidFill>
                <a:latin typeface="Arial"/>
              </a:rPr>
              <a:t>2)</a:t>
            </a: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 (0; 2), (5; 6),  (7; 6), (4; 2). </a:t>
            </a:r>
            <a:r>
              <a:rPr b="1" lang="ru-RU" sz="2000" spc="-1" strike="noStrike">
                <a:solidFill>
                  <a:srgbClr val="323232"/>
                </a:solidFill>
                <a:latin typeface="Arial"/>
              </a:rPr>
              <a:t>3)</a:t>
            </a: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 (0; 1), (6; - 3), (8; - 3), (4; 1), (0; 1).</a:t>
            </a:r>
            <a:br>
              <a:rPr sz="2000"/>
            </a:br>
            <a:endParaRPr b="0" lang="en-US" sz="2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7417080" cy="525636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олнил Панкратов Дан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C:\Users\BOSS\Desktop\коорд.плос\7 001.jpg"/>
          <p:cNvPicPr/>
          <p:nvPr/>
        </p:nvPicPr>
        <p:blipFill>
          <a:blip r:embed="rId2"/>
          <a:stretch/>
        </p:blipFill>
        <p:spPr>
          <a:xfrm>
            <a:off x="755640" y="1628640"/>
            <a:ext cx="6262560" cy="36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4920" y="691920"/>
            <a:ext cx="8497800" cy="31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Цель</a:t>
            </a:r>
            <a:r>
              <a:rPr b="0" lang="ru-RU" sz="2400" spc="-1" strike="noStrike">
                <a:solidFill>
                  <a:srgbClr val="323232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– построить как можно больше разнообразных   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        фигур на координатной плоскости.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дачи: 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- донести до других ребят интересные  факты о  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возможности построения фигур по  координатам точек;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- развивать познавательный интерес к математике. </a:t>
            </a:r>
            <a:br>
              <a:rPr sz="2400"/>
            </a:br>
            <a:endParaRPr b="0" lang="en-US" sz="2400" spc="-1" strike="noStrike">
              <a:solidFill>
                <a:srgbClr val="32323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85672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783f05"/>
                </a:solidFill>
                <a:uFillTx/>
                <a:latin typeface="Arial"/>
              </a:rPr>
              <a:t>Бегун</a:t>
            </a:r>
            <a:br>
              <a:rPr sz="2000"/>
            </a:b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323232"/>
                </a:solidFill>
                <a:latin typeface="Arial"/>
              </a:rPr>
              <a:t>1)</a:t>
            </a: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 (- 8; 1), (- 6; 2), (- 2; 0), (1; 2), (5; 1), (7; - 4), (9; - 3).</a:t>
            </a:r>
            <a:r>
              <a:rPr b="1" lang="ru-RU" sz="2000" spc="-1" strike="noStrike">
                <a:solidFill>
                  <a:srgbClr val="323232"/>
                </a:solidFill>
                <a:latin typeface="Arial"/>
              </a:rPr>
              <a:t>2)</a:t>
            </a: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 (- 2; 6), (0; 8), (3; 7), (5; 5), (7; 7).</a:t>
            </a:r>
            <a:r>
              <a:rPr b="1" lang="ru-RU" sz="2000" spc="-1" strike="noStrike">
                <a:solidFill>
                  <a:srgbClr val="323232"/>
                </a:solidFill>
                <a:latin typeface="Arial"/>
              </a:rPr>
              <a:t>3)</a:t>
            </a: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 (1; 2), (3; 9), (3; 10), (4; 11), (5; 11), (6; 10), (6; 9), (5; 8), (4; 8), (3; 9).</a:t>
            </a:r>
            <a:br>
              <a:rPr sz="2000"/>
            </a:br>
            <a:endParaRPr b="0" lang="en-US" sz="2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483920"/>
            <a:ext cx="6491160" cy="5257800"/>
          </a:xfrm>
          <a:prstGeom prst="rect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олнил Егоров Арт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C:\Users\BOSS\Desktop\коорд.плос\8 001.jpg"/>
          <p:cNvPicPr/>
          <p:nvPr/>
        </p:nvPicPr>
        <p:blipFill>
          <a:blip r:embed="rId1"/>
          <a:stretch/>
        </p:blipFill>
        <p:spPr>
          <a:xfrm>
            <a:off x="1835280" y="1844640"/>
            <a:ext cx="385272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-1,-4), (-1,-7), (0,-8), (0,-3), (4,1), (5,4), (2,2), (0,-2), (0,5), (2,6), (3,8), (2,10), (3,11), (2,13), (1,12), (1,11), (0,12), (0,13), (-1,12), (-2,14), (-2,12), (-3,13), (-4,11), (-3,10)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-4,8), (-3,6), (-1,5), (-1,-3), (-2,0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-5,3), (-4,-1), (-1,-4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78544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Тюльпан</a:t>
            </a:r>
            <a:br>
              <a:rPr sz="1800"/>
            </a:b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 (-1,-4), (-1,-7), (0,-8), (0,-3), (4,1), (5,4), (2,2), (0,-2), (0,5), (2,6), (3,8), (2,10), (3,11), (2,13), (1,12), (1,11), (0,12), (0,13), (-1,12), (-2,14), (-2,12), (-3,13), (-4,11), (-3,10), </a:t>
            </a:r>
            <a:br>
              <a:rPr sz="1800"/>
            </a:b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(-4,8), (-3,6), (-1,5), (-1,-3), (-2,0), (-5,3), (-4,-1), (-1,-4).</a:t>
            </a:r>
            <a:endParaRPr b="0" lang="en-US" sz="18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6418080" cy="525600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полнила Чернышева Та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C:\Users\BOSS\Desktop\коорд.плос\001.jpg"/>
          <p:cNvPicPr/>
          <p:nvPr/>
        </p:nvPicPr>
        <p:blipFill>
          <a:blip r:embed="rId2"/>
          <a:stretch/>
        </p:blipFill>
        <p:spPr>
          <a:xfrm>
            <a:off x="2128680" y="1700280"/>
            <a:ext cx="309564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3; - 4), (3; - 1), (2; 3), (2; 5), (3; 6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3; 8), (2; 9), (1; 9), (- 1; 7), (- 1; 6)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- 4; 4), (- 2; 3), (- 1; 3), (- 1; 1), (- 2; 1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-2; - 1), (- 1; 0), (- 1; - 4), (- 2; - 4)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- 2; - 6), (- 3; - 6), (- 3; - 7), (- 1; - 7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- 1; - 5), (1; - 5), (1; - 6), (3; - 6), (3; - 7)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4; - 7), (4; - 5), (2; - 5), (3; - 4).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Хвост: (3; - 3), (5; - 3), (5; 3).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Глаз: (- 1; 5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785440" cy="17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674d26"/>
                </a:solidFill>
                <a:uFillTx/>
                <a:latin typeface="Arial"/>
              </a:rPr>
              <a:t>Мышонок</a:t>
            </a:r>
            <a:br>
              <a:rPr sz="1800"/>
            </a:b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323232"/>
                </a:solidFill>
                <a:latin typeface="Arial"/>
              </a:rPr>
              <a:t>1)</a:t>
            </a: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 (3; - 4), (3; - 1), (2; 3), (2; 5), (3; 6), (3; 8), (2; 9), (1; 9), (- 1; 7), (- 1; 6),</a:t>
            </a:r>
            <a:br>
              <a:rPr sz="1800"/>
            </a:b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(- 4; 4), (- 2; 3), (- 1; 3), (- 1; 1), (- 2; 1), (-2; - 1), (- 1; 0), (- 1; - 4), (- 2; - 4),</a:t>
            </a:r>
            <a:br>
              <a:rPr sz="1800"/>
            </a:b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(- 2; - 6), (- 3; - 6), (- 3; - 7), (- 1; - 7), (- 1; - 5), (1; - 5), (1; - 6), (3; - 6), (3; - 7),</a:t>
            </a:r>
            <a:br>
              <a:rPr sz="1800"/>
            </a:b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(4; - 7), (4; - 5), (2; - 5), (3; - 4). </a:t>
            </a:r>
            <a:r>
              <a:rPr b="1" lang="ru-RU" sz="1800" spc="-1" strike="noStrike">
                <a:solidFill>
                  <a:srgbClr val="323232"/>
                </a:solidFill>
                <a:latin typeface="Arial"/>
              </a:rPr>
              <a:t>2)</a:t>
            </a: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 Хвост: (3; - 3), (5; - 3), (5; 3). </a:t>
            </a:r>
            <a:r>
              <a:rPr b="1" lang="ru-RU" sz="1800" spc="-1" strike="noStrike">
                <a:solidFill>
                  <a:srgbClr val="323232"/>
                </a:solidFill>
                <a:latin typeface="Arial"/>
              </a:rPr>
              <a:t>3)</a:t>
            </a: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 Глаз: (- 1; 5).</a:t>
            </a:r>
            <a:br>
              <a:rPr sz="1800"/>
            </a:br>
            <a:endParaRPr b="0" lang="en-US" sz="18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6767640" cy="5257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полнила Коновалова Мал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C:\Users\BOSS\Desktop\Новая папка\6 001.jpg"/>
          <p:cNvPicPr/>
          <p:nvPr/>
        </p:nvPicPr>
        <p:blipFill>
          <a:blip r:embed="rId3"/>
          <a:stretch/>
        </p:blipFill>
        <p:spPr>
          <a:xfrm>
            <a:off x="1619280" y="1773360"/>
            <a:ext cx="39607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1; 5), (0; 6), (- 1; 5), (0; 4), (0; - 8), (- 1; - 10), (0; 1), (0; - 8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- 4; - 6), (- 1; 10), (0; 12), (1; 10), (4; - 6), (- 4; - 6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- 3; - 6),(- 6; - 7), (- 2; 1), (- 3; - 6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2; 1), (3; - 6), (6; - 7), (2; 1)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70c0"/>
                </a:solidFill>
                <a:uFillTx/>
                <a:latin typeface="Arial"/>
              </a:rPr>
              <a:t>Ракета</a:t>
            </a:r>
            <a:br>
              <a:rPr sz="2000"/>
            </a:b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323232"/>
                </a:solidFill>
                <a:latin typeface="Arial"/>
              </a:rPr>
              <a:t>1)</a:t>
            </a: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 (1; 5), (0; 6), (- 1; 5), (0; 4), (0; - 8), (- 1; - 10), (0; 1), (0; - 8).</a:t>
            </a:r>
            <a:br>
              <a:rPr sz="2000"/>
            </a:br>
            <a:r>
              <a:rPr b="1" lang="ru-RU" sz="2000" spc="-1" strike="noStrike">
                <a:solidFill>
                  <a:srgbClr val="323232"/>
                </a:solidFill>
                <a:latin typeface="Arial"/>
              </a:rPr>
              <a:t>2)</a:t>
            </a: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 (- 4; - 6), (- 1; 10), (0; 12), (1; 10), (4; - 6), (- 4; - 6). </a:t>
            </a:r>
            <a:r>
              <a:rPr b="1" lang="ru-RU" sz="2000" spc="-1" strike="noStrike">
                <a:solidFill>
                  <a:srgbClr val="323232"/>
                </a:solidFill>
                <a:latin typeface="Arial"/>
              </a:rPr>
              <a:t>3)</a:t>
            </a: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 (- 3; - 6), </a:t>
            </a:r>
            <a:br>
              <a:rPr sz="2000"/>
            </a:b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(- 6; - 7), (- 2; 1), (- 3; - 6). </a:t>
            </a:r>
            <a:r>
              <a:rPr b="1" lang="ru-RU" sz="2000" spc="-1" strike="noStrike">
                <a:solidFill>
                  <a:srgbClr val="323232"/>
                </a:solidFill>
                <a:latin typeface="Arial"/>
              </a:rPr>
              <a:t>4)</a:t>
            </a: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 (2; 1), (3; - 6), (6; - 7), (2; 1).</a:t>
            </a:r>
            <a:br>
              <a:rPr sz="2000"/>
            </a:br>
            <a:endParaRPr b="0" lang="en-US" sz="2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6059520" cy="532908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полнил Панкратов Данил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C:\Users\BOSS\Desktop\коорд.плос\4 001.jpg"/>
          <p:cNvPicPr/>
          <p:nvPr/>
        </p:nvPicPr>
        <p:blipFill>
          <a:blip r:embed="rId1"/>
          <a:stretch/>
        </p:blipFill>
        <p:spPr>
          <a:xfrm>
            <a:off x="1692360" y="1557360"/>
            <a:ext cx="36687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0; 0), (- 1; 1), (- 3; 1), (- 2; 3), (- 3; 3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- 4; 6), (0; 8), (2; 5), (2; 11), (6; 10), (3; 9), (4; 5), (3; 0), (2; 0), (1; - 7), (3; - 8), (0; - 8), (0; 0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Глаз: (3; 10)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 u="sng">
                <a:solidFill>
                  <a:srgbClr val="7030a0"/>
                </a:solidFill>
                <a:uFillTx/>
                <a:latin typeface="Arial"/>
              </a:rPr>
              <a:t>Страус</a:t>
            </a:r>
            <a:br>
              <a:rPr sz="2000"/>
            </a:b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323232"/>
                </a:solidFill>
                <a:latin typeface="Arial"/>
              </a:rPr>
              <a:t>1)</a:t>
            </a: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 (0; 0), (- 1; 1), (- 3; 1), (- 2; 3), (- 3; 3), (- 4; 6), (0; 8), (2; 5), (2; 11), (6; 10), (3; 9), (4; 5), (3; 0), (2; 0), (1; - 7), (3; - 8), (0; - 8), (0; 0). </a:t>
            </a:r>
            <a:r>
              <a:rPr b="1" lang="ru-RU" sz="2000" spc="-1" strike="noStrike">
                <a:solidFill>
                  <a:srgbClr val="323232"/>
                </a:solidFill>
                <a:latin typeface="Arial"/>
              </a:rPr>
              <a:t>2)</a:t>
            </a: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 Глаз: (3; 10).</a:t>
            </a:r>
            <a:br>
              <a:rPr sz="2000"/>
            </a:br>
            <a:endParaRPr b="0" lang="en-US" sz="2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6337080" cy="5256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полнил Соловьев Макс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C:\Users\BOSS\Desktop\коорд.плос\14 001.jpg"/>
          <p:cNvPicPr/>
          <p:nvPr/>
        </p:nvPicPr>
        <p:blipFill>
          <a:blip r:embed="rId2"/>
          <a:stretch/>
        </p:blipFill>
        <p:spPr>
          <a:xfrm>
            <a:off x="1332000" y="1628640"/>
            <a:ext cx="41767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4;12), (3;12), (-2;3), (-4;7), (-9;10), (-8;6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-10;2), (-6;1), (-9;1), (-10;0), 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-8;-3), (-5;-5), (-3;-4), (-2;-6), (-1;-6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0;-4), (2;-5), (5;-3), (7;0), (6;1), 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3;1), (7;2), (5;6), (6;10), (1;7), (-1;3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-6;12), (-7;12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- 5; 3), (- 3; 5), (6; 5), (10; 3),(10; 1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9; 0), (- 2; 0),(- 5; 3).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- 5; 3),(- 10; 7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- 3; 5).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5; 0), (5; - 1), (6; - 2), (8; - 2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9; - 2,5),   (8; - 3), (- 3; - 3), (- 4; - 2,5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- 3; - 2),(- 1; - 2), (- 2; - 1), (- 2; 0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- 12; 5), (- 8; 9).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- 6; 7), (10; 7)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2; 5), (2; 7).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7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- 1; 1), (- 1; 4), (2; 4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2; 1),(- 1; 1).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8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5; 5), (5; 2), (10; 2). </a:t>
            </a:r>
            <a:br>
              <a:rPr sz="4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66"/>
                </a:solidFill>
                <a:uFillTx/>
                <a:latin typeface="Arial"/>
              </a:rPr>
              <a:t>Бабочка</a:t>
            </a:r>
            <a:br>
              <a:rPr sz="1800"/>
            </a:b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(4;12), (3;12), (-2;3), (-4;7), (-9;10), (-8;6), (-10;2), (-6;1), (-9;1), (-10;0), </a:t>
            </a:r>
            <a:br>
              <a:rPr sz="1800"/>
            </a:b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(-8;-3), (-5;-5), (-3;-4), (-2;-6), (-1;-6), (0;-4), (2;-5), (5;-3), (7;0), (6;1), </a:t>
            </a:r>
            <a:br>
              <a:rPr sz="1800"/>
            </a:b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(3;1), (7;2), (5;6), (6;10), (1;7), (-1;3), (-6;12), (-7;12).</a:t>
            </a:r>
            <a:endParaRPr b="0" lang="en-US" sz="18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7067520" cy="532908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олнила Петрова Натал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C:\Users\BOSS\Desktop\коорд.плос\6 001.jpg"/>
          <p:cNvPicPr/>
          <p:nvPr/>
        </p:nvPicPr>
        <p:blipFill>
          <a:blip r:embed="rId2"/>
          <a:stretch/>
        </p:blipFill>
        <p:spPr>
          <a:xfrm>
            <a:off x="1835280" y="1557360"/>
            <a:ext cx="38131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6;0),(6;2),(5;1),(4; 3),(2;1),(0;3),(- 2;2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- 3;5),(- 3;1),(- 4; 2),(- 4;0), (6;0)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3;2),(3;8),(2;10),(6;10),(5;12),(4;13),(1;14),(0;14),(-4;12), (-5;10),(-1;10)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-2;8),(-2;2)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896472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66"/>
                </a:solidFill>
                <a:uFillTx/>
                <a:latin typeface="Arial"/>
              </a:rPr>
              <a:t>Грибок</a:t>
            </a:r>
            <a:br>
              <a:rPr sz="1800"/>
            </a:b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 (6;0),(6;2),(5;1),(4; 3),(2;1),(0;3),(- 2;2),(- 3;5),(- 3;1),(- 4; 2),(- 4;0), (6;0),</a:t>
            </a:r>
            <a:br>
              <a:rPr sz="2000"/>
            </a:b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(3; 2),(3; 8),(2;10),(6;10),(5;12),(4;13),(1;14),(0;14),(-4;12), (-5;10),(-1;10),</a:t>
            </a:r>
            <a:br>
              <a:rPr sz="2000"/>
            </a:b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(-2;8),(-2;2).</a:t>
            </a:r>
            <a:r>
              <a:rPr b="1" lang="ru-RU" sz="2000" spc="-1" strike="noStrike">
                <a:solidFill>
                  <a:srgbClr val="323232"/>
                </a:solidFill>
                <a:latin typeface="Arial"/>
              </a:rPr>
              <a:t> </a:t>
            </a:r>
            <a:br>
              <a:rPr sz="1800"/>
            </a:br>
            <a:endParaRPr b="0" lang="en-US" sz="2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6624720" cy="532908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Выполнила Савлинова Ир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C:\Users\BOSS\Desktop\90 001.jpg"/>
          <p:cNvPicPr/>
          <p:nvPr/>
        </p:nvPicPr>
        <p:blipFill>
          <a:blip r:embed="rId2"/>
          <a:stretch/>
        </p:blipFill>
        <p:spPr>
          <a:xfrm>
            <a:off x="1692360" y="1557360"/>
            <a:ext cx="3736800" cy="45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2; 7), (0; 5), (- 2; 7), (0; 8), (2; 7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- 4; - 3), (4; 0), (11; - 2), (9; - 2), (11; - 3)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9; - 3), (5; - 7), (- 4; - 3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Клюв: (- 4; 8), (- 2; 7), (- 4; 6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Крыло: (1; - 3), (4; - 2), (7; - 3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4; - 5), (1; - 3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Глаз: (0; 7)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896472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99ff"/>
                </a:solidFill>
                <a:uFillTx/>
                <a:latin typeface="Arial"/>
              </a:rPr>
              <a:t>Лебедь</a:t>
            </a:r>
            <a:br>
              <a:rPr sz="1800"/>
            </a:b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323232"/>
                </a:solidFill>
                <a:latin typeface="Arial"/>
              </a:rPr>
              <a:t>1)</a:t>
            </a: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 (2; 7), (0; 5), (- 2; 7), (0; 8), (2; 7), (- 4; - 3), (4; 0), (11; - 2), (9; - 2), (11; - 3),</a:t>
            </a:r>
            <a:br>
              <a:rPr sz="1800"/>
            </a:b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(9; - 3), (5; - 7), (- 4; - 3).</a:t>
            </a:r>
            <a:r>
              <a:rPr b="1" lang="ru-RU" sz="1800" spc="-1" strike="noStrike">
                <a:solidFill>
                  <a:srgbClr val="323232"/>
                </a:solidFill>
                <a:latin typeface="Arial"/>
              </a:rPr>
              <a:t>2)</a:t>
            </a: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 Клюв: (- 4; 8), (- 2; 7), (- 4; 6). </a:t>
            </a:r>
            <a:r>
              <a:rPr b="1" lang="ru-RU" sz="1800" spc="-1" strike="noStrike">
                <a:solidFill>
                  <a:srgbClr val="323232"/>
                </a:solidFill>
                <a:latin typeface="Arial"/>
              </a:rPr>
              <a:t>3)</a:t>
            </a: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 Крыло: (1; - 3), (4; - 2),</a:t>
            </a:r>
            <a:br>
              <a:rPr sz="1800"/>
            </a:b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 (7; - 3), (4; - 5), (1; - 3). </a:t>
            </a:r>
            <a:r>
              <a:rPr b="1" lang="ru-RU" sz="1800" spc="-1" strike="noStrike">
                <a:solidFill>
                  <a:srgbClr val="323232"/>
                </a:solidFill>
                <a:latin typeface="Arial"/>
              </a:rPr>
              <a:t>4)</a:t>
            </a: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 Глаз: (0; 7).</a:t>
            </a:r>
            <a:br>
              <a:rPr sz="1800"/>
            </a:br>
            <a:endParaRPr b="0" lang="en-US" sz="18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7067520" cy="53290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олнила Еремина Н.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C:\Users\BOSS\Desktop\Новая папка\5 001.jpg"/>
          <p:cNvPicPr/>
          <p:nvPr/>
        </p:nvPicPr>
        <p:blipFill>
          <a:blip r:embed="rId2"/>
          <a:stretch/>
        </p:blipFill>
        <p:spPr>
          <a:xfrm>
            <a:off x="971640" y="1844640"/>
            <a:ext cx="532908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- 9; 5), (- 7; 5), (- 6; 6), (- 5; 6), (- 4; 7), (- 4; 6), (- 1; 3), (8; 3), (10; 1), (10; - 4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9; - 5), (9; - 1), (7; - 7), (5; - 7), (6; - 6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6; - 4), (5; - 2), (5; - 1), (3; - 2), (0; - 1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- 3; - 2), (- 3; - 7), (- 5; - 7), (- 4; - 6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- 4; - 1)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- 6; 3), (- 9; 4), (- 9; 5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Глаз: (- 6; 5)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91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00000"/>
                </a:solidFill>
                <a:uFillTx/>
                <a:latin typeface="Arial"/>
              </a:rPr>
              <a:t>Волк</a:t>
            </a:r>
            <a:br>
              <a:rPr sz="2000"/>
            </a:b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323232"/>
                </a:solidFill>
                <a:latin typeface="Arial"/>
              </a:rPr>
              <a:t>1)</a:t>
            </a: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 (- 9; 5), (- 7; 5), (- 6; 6), (- 5; 6), (- 4; 7), (- 4; 6), (- 1; 3), (8; 3), (10; 1), (10; - 4),(9; - 5), (9; - 1), (7; - 7), (5; - 7), (6; - 6), (6; - 4), (5; - 2), (5; - 1), (3; - 2), (0; - 1),(- 3; - 2), (- 3; - 7), (- 5; - 7), (- 4; - 6), (- 4; - 1), </a:t>
            </a:r>
            <a:br>
              <a:rPr sz="2000"/>
            </a:b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(- 6; 3), (- 9; 4), (- 9; 5). </a:t>
            </a:r>
            <a:r>
              <a:rPr b="1" lang="ru-RU" sz="2000" spc="-1" strike="noStrike">
                <a:solidFill>
                  <a:srgbClr val="323232"/>
                </a:solidFill>
                <a:latin typeface="Arial"/>
              </a:rPr>
              <a:t>2)</a:t>
            </a: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 Глаз: (- 6; 5)</a:t>
            </a:r>
            <a:br>
              <a:rPr sz="2000"/>
            </a:br>
            <a:endParaRPr b="0" lang="en-US" sz="2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99920"/>
            <a:ext cx="6202440" cy="50418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bf00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полнил Панкратов Дан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C:\Users\BOSS\Desktop\91 001.jpg"/>
          <p:cNvPicPr/>
          <p:nvPr/>
        </p:nvPicPr>
        <p:blipFill>
          <a:blip r:embed="rId1"/>
          <a:stretch/>
        </p:blipFill>
        <p:spPr>
          <a:xfrm>
            <a:off x="971640" y="1989000"/>
            <a:ext cx="5329080" cy="37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- 10; - 4), (- 10; - 3), (- 7; 6), (1; 6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8; - 2), (11; 2), (11; - 4), (- 10; - 4)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- 6; 1), (- 6; 3), (- 4; 3), (- 4; 1), (- 6; 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- 5; 10), (- 5; 11), (- 1; 11), (- 1;10)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- 3; 6), (- 3; 1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- 10; - 2), (- 5; - 2), (- 5; - 4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- 10; - 3), (- 5; - 3)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2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70c0"/>
                </a:solidFill>
                <a:uFillTx/>
                <a:latin typeface="Arial"/>
              </a:rPr>
              <a:t>Кит</a:t>
            </a:r>
            <a:br>
              <a:rPr sz="1800"/>
            </a:br>
            <a:r>
              <a:rPr b="1" lang="ru-RU" sz="1800" spc="-1" strike="noStrike">
                <a:solidFill>
                  <a:srgbClr val="323232"/>
                </a:solidFill>
                <a:latin typeface="Arial"/>
              </a:rPr>
              <a:t>1)</a:t>
            </a: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 (- 10; - 4), (- 10; - 3), (- 7; 6), (1; 6), (8; - 2), (11; 2), (11; - 4), (- 10; - 4).</a:t>
            </a:r>
            <a:br>
              <a:rPr sz="1800"/>
            </a:b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            </a:t>
            </a:r>
            <a:r>
              <a:rPr b="1" lang="ru-RU" sz="1800" spc="-1" strike="noStrike">
                <a:solidFill>
                  <a:srgbClr val="323232"/>
                </a:solidFill>
                <a:latin typeface="Arial"/>
              </a:rPr>
              <a:t>2)</a:t>
            </a: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 (- 6; 1), (- 6; 3), (- 4; 3), (- 4; 1), (- 6; 1). </a:t>
            </a:r>
            <a:r>
              <a:rPr b="1" lang="ru-RU" sz="1800" spc="-1" strike="noStrike">
                <a:solidFill>
                  <a:srgbClr val="323232"/>
                </a:solidFill>
                <a:latin typeface="Arial"/>
              </a:rPr>
              <a:t>3)</a:t>
            </a: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 (- 5; 10), (- 5; 11), (- 1; 11), (- 1;10).</a:t>
            </a:r>
            <a:br>
              <a:rPr sz="1800"/>
            </a:br>
            <a:r>
              <a:rPr b="1" lang="ru-RU" sz="1800" spc="-1" strike="noStrike">
                <a:solidFill>
                  <a:srgbClr val="323232"/>
                </a:solidFill>
                <a:latin typeface="Arial"/>
              </a:rPr>
              <a:t>4)</a:t>
            </a: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 (- 3; 6), (- 3; 11). </a:t>
            </a:r>
            <a:r>
              <a:rPr b="1" lang="ru-RU" sz="1800" spc="-1" strike="noStrike">
                <a:solidFill>
                  <a:srgbClr val="323232"/>
                </a:solidFill>
                <a:latin typeface="Arial"/>
              </a:rPr>
              <a:t>5)</a:t>
            </a: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 (- 10; - 2), (- 5; - 2), (- 5; - 4). </a:t>
            </a:r>
            <a:r>
              <a:rPr b="1" lang="ru-RU" sz="1800" spc="-1" strike="noStrike">
                <a:solidFill>
                  <a:srgbClr val="323232"/>
                </a:solidFill>
                <a:latin typeface="Arial"/>
              </a:rPr>
              <a:t>6)</a:t>
            </a: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 (- 10; - 3), (- 5; - 3).</a:t>
            </a:r>
            <a:br>
              <a:rPr sz="1800"/>
            </a:br>
            <a:endParaRPr b="0" lang="en-US" sz="18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6840720" cy="525600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полнил Реуцкий Георг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C:\Users\BOSS\Desktop\коорд.плос\13 001.jpg"/>
          <p:cNvPicPr/>
          <p:nvPr/>
        </p:nvPicPr>
        <p:blipFill>
          <a:blip r:embed="rId1"/>
          <a:stretch/>
        </p:blipFill>
        <p:spPr>
          <a:xfrm>
            <a:off x="1116000" y="1844640"/>
            <a:ext cx="489600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1) мы научились строить любые фигуры по их координат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2) мы научились самостоятельно составлять координаты точек для  построения фигур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3)мы поняли, что математика - это увлекательный предм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4) Нам понравилос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3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                                </a:t>
            </a:r>
            <a:r>
              <a:rPr b="1" lang="ru-RU" sz="2800" spc="-1" strike="noStrike" u="sng">
                <a:solidFill>
                  <a:srgbClr val="0070c0"/>
                </a:solidFill>
                <a:uFillTx/>
                <a:latin typeface="Arial"/>
              </a:rPr>
              <a:t>Вертолет  </a:t>
            </a: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23232"/>
                </a:solidFill>
                <a:latin typeface="Arial"/>
              </a:rPr>
              <a:t>1)</a:t>
            </a: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 (- 5; 3), (- 3; 5), (6; 5), (10; 3),(10; 1),(9; 0), (- 2; 0),(- 5; 3). </a:t>
            </a:r>
            <a:r>
              <a:rPr b="1" lang="ru-RU" sz="2000" spc="-1" strike="noStrike">
                <a:solidFill>
                  <a:srgbClr val="323232"/>
                </a:solidFill>
                <a:latin typeface="Arial"/>
              </a:rPr>
              <a:t>2)</a:t>
            </a: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(- 5; 3),(- 10; 7), (- 3; 5). </a:t>
            </a:r>
            <a:r>
              <a:rPr b="1" lang="ru-RU" sz="2000" spc="-1" strike="noStrike">
                <a:solidFill>
                  <a:srgbClr val="323232"/>
                </a:solidFill>
                <a:latin typeface="Arial"/>
              </a:rPr>
              <a:t>3)</a:t>
            </a: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 (5; 0), (5; - 1), (6; - 2), (8; - 2), (9; - 2,5),   (8; - 3), (- 3; - 3), (- 4; - 2,5), (- 3; - 2),(- 1; - 2), (- 2; - 1), (- 2; 0). </a:t>
            </a:r>
            <a:r>
              <a:rPr b="1" lang="ru-RU" sz="2000" spc="-1" strike="noStrike">
                <a:solidFill>
                  <a:srgbClr val="323232"/>
                </a:solidFill>
                <a:latin typeface="Arial"/>
              </a:rPr>
              <a:t>4)</a:t>
            </a: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 (- 12; 5), (- 8; 9). </a:t>
            </a:r>
            <a:r>
              <a:rPr b="1" lang="ru-RU" sz="2000" spc="-1" strike="noStrike">
                <a:solidFill>
                  <a:srgbClr val="323232"/>
                </a:solidFill>
                <a:latin typeface="Arial"/>
              </a:rPr>
              <a:t>5)</a:t>
            </a: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 (- 6; 7), (10; 7).</a:t>
            </a:r>
            <a:br>
              <a:rPr sz="2000"/>
            </a:b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23232"/>
                </a:solidFill>
                <a:latin typeface="Arial"/>
              </a:rPr>
              <a:t>6)</a:t>
            </a: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 (2; 5), (2; 7). </a:t>
            </a:r>
            <a:r>
              <a:rPr b="1" lang="ru-RU" sz="2000" spc="-1" strike="noStrike">
                <a:solidFill>
                  <a:srgbClr val="323232"/>
                </a:solidFill>
                <a:latin typeface="Arial"/>
              </a:rPr>
              <a:t>7)</a:t>
            </a: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 (- 1; 1), (- 1; 4), (2; 4), (2; 1),(- 1; 1). </a:t>
            </a:r>
            <a:r>
              <a:rPr b="1" lang="ru-RU" sz="2000" spc="-1" strike="noStrike">
                <a:solidFill>
                  <a:srgbClr val="323232"/>
                </a:solidFill>
                <a:latin typeface="Arial"/>
              </a:rPr>
              <a:t>8)</a:t>
            </a: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 (5; 5), (5; 2), (10; 2). </a:t>
            </a:r>
            <a:br>
              <a:rPr sz="3600"/>
            </a:br>
            <a:endParaRPr b="0" lang="en-US" sz="2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8920" y="1915920"/>
            <a:ext cx="6696360" cy="48258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0047f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полнил Парносов Ива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C:\Users\BOSS\Desktop\коорд.плос\9 001.jpg"/>
          <p:cNvPicPr/>
          <p:nvPr/>
        </p:nvPicPr>
        <p:blipFill>
          <a:blip r:embed="rId1"/>
          <a:stretch/>
        </p:blipFill>
        <p:spPr>
          <a:xfrm>
            <a:off x="1116000" y="2133720"/>
            <a:ext cx="475128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Ресурсы интернета</a:t>
            </a: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042560" y="1600200"/>
            <a:ext cx="698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http://www.glena.ru/coordinates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http://wiki.iteach.ru/images/6/67/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Тв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ческое_задание.</a:t>
            </a: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pdf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http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://</a:t>
            </a: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www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yandex.ru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/картин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651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24000" y="1412640"/>
            <a:ext cx="8229600" cy="504036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4"/>
          <p:cNvSpPr/>
          <p:nvPr/>
        </p:nvSpPr>
        <p:spPr>
          <a:xfrm>
            <a:off x="657360" y="1844640"/>
            <a:ext cx="7561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23232"/>
                </a:solidFill>
                <a:latin typeface="Arial"/>
              </a:rPr>
              <a:t>(-5,7), (-7,9), (-5,10), (-4,9), (-3,10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23232"/>
                </a:solidFill>
                <a:latin typeface="Arial"/>
              </a:rPr>
              <a:t>(-3,8), (-2,8), (-4,7), (-3,3), (-1,2),(1,5), (4,5), (6,1), (4,2),(2,0), (4,1),(6,-2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23232"/>
                </a:solidFill>
                <a:latin typeface="Arial"/>
              </a:rPr>
              <a:t>(3,-1),(5,-4),(1,-2),(-1,-3),(-1,-6), (0,-7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23232"/>
                </a:solidFill>
                <a:latin typeface="Arial"/>
              </a:rPr>
              <a:t>(-4,-7), (-2,-6), (-3,-3), (-6,-1), (-7,5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23232"/>
                </a:solidFill>
                <a:latin typeface="Arial"/>
              </a:rPr>
              <a:t>(-8,4), (-7,6), (-9,7), (-7,7),(-6,8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23232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323232"/>
                </a:solidFill>
                <a:latin typeface="Arial"/>
              </a:rPr>
              <a:t>Глаз (-6,7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Петушок</a:t>
            </a:r>
            <a:br>
              <a:rPr sz="2800"/>
            </a:b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 (-5,7), (-7,9), (-5,10), (-4,9), (-3,10), (-3,8), (-2,8), (-4,7), (-3,3), (-1,2),(1,5), (4,5), (6,1), (4,2),(2,0), (4,1),(6,-2), (3,-1),(5,-4),(1,-2),(-1,-3),(-1,-6), (0,-7),(-4,-7), (-2,-6), (-3,-3), (-6,-1), (-7,5), (-8,4), (-7,6), (-9,7), (-7,7),(-6,8). Глаз (-6,7).</a:t>
            </a:r>
            <a:endParaRPr b="0" lang="en-US" sz="2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24000" y="1413000"/>
            <a:ext cx="6480000" cy="525600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олнил Сипатов Дан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C:\Users\BOSS\Desktop\коорд.плос\3 001.jpg"/>
          <p:cNvPicPr/>
          <p:nvPr/>
        </p:nvPicPr>
        <p:blipFill>
          <a:blip r:embed="rId1"/>
          <a:stretch/>
        </p:blipFill>
        <p:spPr>
          <a:xfrm>
            <a:off x="1476360" y="1700280"/>
            <a:ext cx="42339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3"/>
          <p:cNvSpPr/>
          <p:nvPr/>
        </p:nvSpPr>
        <p:spPr>
          <a:xfrm>
            <a:off x="22320" y="2313000"/>
            <a:ext cx="7848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274221"/>
                </a:solidFill>
                <a:uFillTx/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12;2),(9;9),(10;9),(8;12),(6;12),(4;10),(4;7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2;5),(-1;6),(-4;12),(-5;11),(-5;9),(-6;13), (-6;9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-7;12),(-8;13),(-9;13),(-8;9),(-9;11),(-9;9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-10;10),(-11;8),(-12;8),(-11;6),(-13;7), (-13;6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-12;5),(-13;4),(-13;3),(-11;3),(-12;1),(-7;1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-11;0),(-9;-1),(-12;-2), (-7;-5),(-8;-8), (-7;-9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-4;-7),(-5;-9),(-1;-7),(1;-8),(3;-8),(3;-9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4;-10),(3;-11),(7;-11),(5;-10),(5;-9), (6;-8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9;-7),(12;-2),(12;2).Глаз (7;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274221"/>
                </a:solidFill>
                <a:uFillTx/>
                <a:latin typeface="Arial"/>
              </a:rPr>
              <a:t>Тетерев </a:t>
            </a:r>
            <a:r>
              <a:rPr b="0" lang="ru-RU" sz="2800" spc="-1" strike="noStrike" u="sng">
                <a:solidFill>
                  <a:srgbClr val="323232"/>
                </a:solidFill>
                <a:uFillTx/>
                <a:latin typeface="Arial"/>
              </a:rPr>
              <a:t> </a:t>
            </a: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    (12;2),(9;9),(10;9),(8;12),(6;12),(4;10),(4;7),(2;5),(-1;6),(-4;12),(-5;11),         (-5;9),(-6;13), (-6;9),(-7;12),(-8;13),(-9;13),(-8;9),(-9;11),(-9;9),(-10;10),(-11;8),(-12;8),      (-11;6),(-13;7), (-13;6),(-12;5),(-13;4),(-13;3),(-11;3),(-12;1),(-7;1),(-11;0),(-9;-1),(-12;-2), (-7;-5),(-8;-8), (-7;-9),(-4;-7),(-5;-9),(-1;-7),(1;-8),(3;-8),(3;-9),(4;-10),(3;-11),(7;-11),       (5;-10),(5;-9), (6;-8),(9;-7),(12;-2),(12;2). Глаз (7;10)</a:t>
            </a:r>
            <a:endParaRPr b="0" lang="en-US" sz="18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8920" y="1483920"/>
            <a:ext cx="6913800" cy="5257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полнила Коновалова Мал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C:\Users\BOSS\Desktop\коорд.плос\002.jpg"/>
          <p:cNvPicPr/>
          <p:nvPr/>
        </p:nvPicPr>
        <p:blipFill>
          <a:blip r:embed="rId3"/>
          <a:stretch/>
        </p:blipFill>
        <p:spPr>
          <a:xfrm>
            <a:off x="755640" y="1628640"/>
            <a:ext cx="5686560" cy="44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-3240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- 3; 0), (- 2; 1), (3; 1), (3; 2),(5; 5), (5; 3), (6; 2), (7; 2), (7; 1,5), (5; 0), (4; 0),(4; - 1,5), (3; - 1), (3; - 1,5),(4; - 2,5),(4,5; - 2,5), (4,5; - 3), (3,5; - 3), (2; - 1,5),(2; - 1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- 2; - 2),(- 2; - 2,5), (- 1; - 2,5), (- 1; - 3), (- 3; - 3), (- 3; - 2), (- 2; -1),(- 3; - 1), (- 4; - 2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- 7; - 2),   (- 8; - 1), (- 7; 0), (- 3; 0)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лаз: (5; 2).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8T02:07:17Z</dcterms:created>
  <dc:creator>Mariajose</dc:creator>
  <dc:description/>
  <dc:language>en-US</dc:language>
  <cp:lastModifiedBy>IV</cp:lastModifiedBy>
  <cp:lastPrinted>2019-02-26T08:59:19Z</cp:lastPrinted>
  <dcterms:modified xsi:type="dcterms:W3CDTF">2019-10-10T13:43:26Z</dcterms:modified>
  <cp:revision>77</cp:revision>
  <dc:subject/>
  <dc:title>TITLE</dc:title>
</cp:coreProperties>
</file>